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file:///Racine%20-%20Terminologie.ppt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" name=""/>
          <p:cNvGraphicFramePr/>
          <p:nvPr/>
        </p:nvGraphicFramePr>
        <p:xfrm>
          <a:off x="3746520" y="4998960"/>
          <a:ext cx="155880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6520" y="4998960"/>
                    <a:ext cx="1558800" cy="817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8" name=""/>
          <p:cNvSpPr/>
          <p:nvPr/>
        </p:nvSpPr>
        <p:spPr>
          <a:xfrm>
            <a:off x="139680" y="6651720"/>
            <a:ext cx="9004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Scénario 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: Jean-Pierre Muz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 flipV="1">
            <a:off x="0" y="6566040"/>
            <a:ext cx="91440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>
            <a:hlinkClick r:id="rId3"/>
          </p:cNvPr>
          <p:cNvSpPr/>
          <p:nvPr/>
        </p:nvSpPr>
        <p:spPr>
          <a:xfrm>
            <a:off x="8659800" y="61228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639200" y="615636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Dé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8640"/>
            <a:ext cx="9144000" cy="1881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fr-FR" sz="8000" spc="-1" strike="noStrike">
                <a:solidFill>
                  <a:srgbClr val="ffcc00"/>
                </a:solidFill>
                <a:latin typeface="Comic Sans MS"/>
              </a:rPr>
              <a:t>Steel</a:t>
            </a:r>
            <a:r>
              <a:rPr b="0" lang="fr-FR" sz="8000" spc="-1" strike="noStrike" baseline="-25000">
                <a:solidFill>
                  <a:srgbClr val="ffcc00"/>
                </a:solidFill>
                <a:latin typeface="Comic Sans MS"/>
              </a:rPr>
              <a:t>CUS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986440" y="4833720"/>
            <a:ext cx="1856880" cy="1121760"/>
            <a:chOff x="5986440" y="4833720"/>
            <a:chExt cx="1856880" cy="1121760"/>
          </a:xfrm>
        </p:grpSpPr>
        <p:grpSp>
          <p:nvGrpSpPr>
            <p:cNvPr id="44" name=""/>
            <p:cNvGrpSpPr/>
            <p:nvPr/>
          </p:nvGrpSpPr>
          <p:grpSpPr>
            <a:xfrm>
              <a:off x="5986440" y="5305320"/>
              <a:ext cx="1856880" cy="650160"/>
              <a:chOff x="5986440" y="5305320"/>
              <a:chExt cx="1856880" cy="65016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7247880" y="5404320"/>
                <a:ext cx="487440" cy="451440"/>
                <a:chOff x="7247880" y="5404320"/>
                <a:chExt cx="487440" cy="45144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7682040" y="5404320"/>
                  <a:ext cx="53280" cy="49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7575120" y="5502600"/>
                  <a:ext cx="53640" cy="500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464960" y="5603760"/>
                  <a:ext cx="53640" cy="496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56600" y="5703480"/>
                  <a:ext cx="54720" cy="496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247880" y="5806080"/>
                  <a:ext cx="53280" cy="496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097320" y="5403960"/>
                <a:ext cx="486000" cy="449280"/>
                <a:chOff x="6097320" y="5403960"/>
                <a:chExt cx="486000" cy="44928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6530040" y="5403960"/>
                  <a:ext cx="53280" cy="49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422400" y="5502960"/>
                  <a:ext cx="53280" cy="500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6314400" y="5603760"/>
                  <a:ext cx="53280" cy="496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204240" y="5703840"/>
                  <a:ext cx="53640" cy="496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097320" y="5803560"/>
                  <a:ext cx="53280" cy="496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6636240" y="5305320"/>
                <a:ext cx="1207080" cy="50400"/>
                <a:chOff x="6636240" y="5305320"/>
                <a:chExt cx="1207080" cy="5040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7790040" y="5305320"/>
                  <a:ext cx="53280" cy="496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6636240" y="5305320"/>
                  <a:ext cx="53640" cy="500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411320" y="5305320"/>
                  <a:ext cx="53640" cy="500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827760" y="5306040"/>
                  <a:ext cx="53280" cy="496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012080" y="5305680"/>
                  <a:ext cx="53280" cy="496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7213320" y="5305320"/>
                  <a:ext cx="53280" cy="496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601400" y="5305680"/>
                  <a:ext cx="53280" cy="496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5986440" y="5905440"/>
                <a:ext cx="1206720" cy="50040"/>
                <a:chOff x="5986440" y="5905440"/>
                <a:chExt cx="1206720" cy="5004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5986440" y="5905440"/>
                  <a:ext cx="53280" cy="496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139880" y="5905440"/>
                  <a:ext cx="53280" cy="496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176880" y="5905440"/>
                  <a:ext cx="53280" cy="496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362280" y="5905440"/>
                  <a:ext cx="53280" cy="496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6761880" y="5905800"/>
                  <a:ext cx="53280" cy="496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6954840" y="5905440"/>
                  <a:ext cx="53280" cy="496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" name=""/>
            <p:cNvGrpSpPr/>
            <p:nvPr/>
          </p:nvGrpSpPr>
          <p:grpSpPr>
            <a:xfrm>
              <a:off x="6672240" y="4916160"/>
              <a:ext cx="1152720" cy="377640"/>
              <a:chOff x="6672240" y="4916160"/>
              <a:chExt cx="1152720" cy="377640"/>
            </a:xfrm>
          </p:grpSpPr>
          <p:sp>
            <p:nvSpPr>
              <p:cNvPr id="73" name=""/>
              <p:cNvSpPr/>
              <p:nvPr/>
            </p:nvSpPr>
            <p:spPr>
              <a:xfrm>
                <a:off x="6672240" y="4916160"/>
                <a:ext cx="115200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672240" y="5018760"/>
                <a:ext cx="115200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6672240" y="5200200"/>
                <a:ext cx="1150560" cy="4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6672600" y="5119560"/>
                <a:ext cx="1148760" cy="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672960" y="5293800"/>
                <a:ext cx="115200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019920" y="5017680"/>
              <a:ext cx="652320" cy="877680"/>
              <a:chOff x="6019920" y="5017680"/>
              <a:chExt cx="652320" cy="877680"/>
            </a:xfrm>
          </p:grpSpPr>
          <p:sp>
            <p:nvSpPr>
              <p:cNvPr id="79" name=""/>
              <p:cNvSpPr/>
              <p:nvPr/>
            </p:nvSpPr>
            <p:spPr>
              <a:xfrm flipV="1">
                <a:off x="6021360" y="5017680"/>
                <a:ext cx="650520" cy="60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6019920" y="5121000"/>
                <a:ext cx="651960" cy="597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6020280" y="5203800"/>
                <a:ext cx="651960" cy="60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6020280" y="5293440"/>
                <a:ext cx="650880" cy="601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019920" y="4834080"/>
              <a:ext cx="1803240" cy="1064880"/>
              <a:chOff x="6019920" y="4834080"/>
              <a:chExt cx="1803240" cy="106488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6671520" y="4834080"/>
                <a:ext cx="1151640" cy="460800"/>
                <a:chOff x="6671520" y="4834080"/>
                <a:chExt cx="1151640" cy="46080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7638840" y="4890960"/>
                  <a:ext cx="0" cy="403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823160" y="4921560"/>
                  <a:ext cx="0" cy="373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446600" y="4861800"/>
                  <a:ext cx="0" cy="43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247880" y="4834080"/>
                  <a:ext cx="0" cy="460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048080" y="4862880"/>
                  <a:ext cx="0" cy="432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671520" y="4919760"/>
                  <a:ext cx="0" cy="375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864120" y="4889520"/>
                  <a:ext cx="0" cy="405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6019920" y="5440320"/>
                <a:ext cx="1152360" cy="458640"/>
                <a:chOff x="6019920" y="5440320"/>
                <a:chExt cx="1152360" cy="458640"/>
              </a:xfrm>
            </p:grpSpPr>
            <p:sp>
              <p:nvSpPr>
                <p:cNvPr id="93" name=""/>
                <p:cNvSpPr/>
                <p:nvPr/>
              </p:nvSpPr>
              <p:spPr>
                <a:xfrm flipH="1">
                  <a:off x="6595920" y="5440320"/>
                  <a:ext cx="360" cy="178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987960" y="5497200"/>
                  <a:ext cx="0" cy="401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172280" y="5522400"/>
                  <a:ext cx="0" cy="372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795720" y="5470200"/>
                  <a:ext cx="0" cy="42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396840" y="5467680"/>
                  <a:ext cx="0" cy="429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019920" y="5523480"/>
                  <a:ext cx="0" cy="373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212880" y="5495760"/>
                  <a:ext cx="0" cy="40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" name=""/>
            <p:cNvGrpSpPr/>
            <p:nvPr/>
          </p:nvGrpSpPr>
          <p:grpSpPr>
            <a:xfrm>
              <a:off x="6019920" y="4833720"/>
              <a:ext cx="1804680" cy="1058400"/>
              <a:chOff x="6019920" y="4833720"/>
              <a:chExt cx="1804680" cy="10584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6020280" y="5439240"/>
                <a:ext cx="1152000" cy="83520"/>
                <a:chOff x="6020280" y="5439240"/>
                <a:chExt cx="1152000" cy="83520"/>
              </a:xfrm>
            </p:grpSpPr>
            <p:sp>
              <p:nvSpPr>
                <p:cNvPr id="102" name=""/>
                <p:cNvSpPr/>
                <p:nvPr/>
              </p:nvSpPr>
              <p:spPr>
                <a:xfrm flipV="1">
                  <a:off x="6020280" y="5439240"/>
                  <a:ext cx="575280" cy="83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 flipV="1">
                  <a:off x="6596640" y="5439600"/>
                  <a:ext cx="575640" cy="83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019920" y="4914360"/>
                <a:ext cx="1802520" cy="977760"/>
                <a:chOff x="6019920" y="4914360"/>
                <a:chExt cx="1802520" cy="977760"/>
              </a:xfrm>
            </p:grpSpPr>
            <p:sp>
              <p:nvSpPr>
                <p:cNvPr id="105" name=""/>
                <p:cNvSpPr/>
                <p:nvPr/>
              </p:nvSpPr>
              <p:spPr>
                <a:xfrm flipV="1">
                  <a:off x="6019920" y="5520960"/>
                  <a:ext cx="0" cy="371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V="1">
                  <a:off x="7171200" y="5520960"/>
                  <a:ext cx="0" cy="371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6671160" y="4914360"/>
                  <a:ext cx="0" cy="371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7822440" y="4914360"/>
                  <a:ext cx="0" cy="371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674040" y="4833720"/>
                <a:ext cx="1150560" cy="82440"/>
                <a:chOff x="6674040" y="4833720"/>
                <a:chExt cx="1150560" cy="82440"/>
              </a:xfrm>
            </p:grpSpPr>
            <p:sp>
              <p:nvSpPr>
                <p:cNvPr id="110" name=""/>
                <p:cNvSpPr/>
                <p:nvPr/>
              </p:nvSpPr>
              <p:spPr>
                <a:xfrm flipV="1">
                  <a:off x="6674040" y="4833720"/>
                  <a:ext cx="575280" cy="82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 flipV="1">
                  <a:off x="7248960" y="4833720"/>
                  <a:ext cx="575640" cy="82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6019920" y="4914720"/>
              <a:ext cx="1805040" cy="980640"/>
              <a:chOff x="6019920" y="4914720"/>
              <a:chExt cx="1805040" cy="98064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019920" y="4914720"/>
                <a:ext cx="1804320" cy="980640"/>
                <a:chOff x="6019920" y="4914720"/>
                <a:chExt cx="1804320" cy="98064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7167960" y="5420160"/>
                  <a:ext cx="113400" cy="473040"/>
                  <a:chOff x="7167960" y="5420160"/>
                  <a:chExt cx="113400" cy="47304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 flipV="1">
                    <a:off x="7172640" y="5616720"/>
                    <a:ext cx="108720" cy="276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H="1" flipV="1">
                    <a:off x="7170480" y="5519520"/>
                    <a:ext cx="110520" cy="97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H="1" flipV="1">
                    <a:off x="7172640" y="5715000"/>
                    <a:ext cx="108720" cy="7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flipV="1">
                    <a:off x="7172640" y="5420160"/>
                    <a:ext cx="108720" cy="293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flipV="1">
                    <a:off x="7167960" y="5423760"/>
                    <a:ext cx="108720" cy="100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7172640" y="5519520"/>
                    <a:ext cx="0" cy="371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7281360" y="5421960"/>
                    <a:ext cx="0" cy="372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" name=""/>
                <p:cNvGrpSpPr/>
                <p:nvPr/>
              </p:nvGrpSpPr>
              <p:grpSpPr>
                <a:xfrm>
                  <a:off x="6019920" y="5422680"/>
                  <a:ext cx="109080" cy="472680"/>
                  <a:chOff x="6019920" y="5422680"/>
                  <a:chExt cx="109080" cy="47268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 flipV="1">
                    <a:off x="6020280" y="5617800"/>
                    <a:ext cx="108720" cy="276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flipH="1" flipV="1">
                    <a:off x="6019920" y="5522760"/>
                    <a:ext cx="107640" cy="93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flipH="1" flipV="1">
                    <a:off x="6019920" y="5718600"/>
                    <a:ext cx="108720" cy="75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flipV="1">
                    <a:off x="6020280" y="5422680"/>
                    <a:ext cx="108000" cy="294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V="1">
                    <a:off x="6021000" y="5422680"/>
                    <a:ext cx="10656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6020280" y="5523480"/>
                    <a:ext cx="0" cy="371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H="1">
                    <a:off x="6128280" y="5425920"/>
                    <a:ext cx="360" cy="367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7715160" y="4914720"/>
                  <a:ext cx="109080" cy="479520"/>
                  <a:chOff x="7715160" y="4914720"/>
                  <a:chExt cx="109080" cy="47952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V="1">
                    <a:off x="7715880" y="5117760"/>
                    <a:ext cx="107640" cy="274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flipV="1">
                    <a:off x="7715160" y="5015880"/>
                    <a:ext cx="108000" cy="103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 flipV="1">
                    <a:off x="7715520" y="5216760"/>
                    <a:ext cx="107640" cy="75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V="1">
                    <a:off x="7715520" y="4915440"/>
                    <a:ext cx="106560" cy="303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V="1">
                    <a:off x="7715160" y="4914720"/>
                    <a:ext cx="109080" cy="102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716600" y="5014440"/>
                    <a:ext cx="0" cy="379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>
                    <a:off x="7823880" y="4916160"/>
                    <a:ext cx="360" cy="376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6563160" y="4914720"/>
                  <a:ext cx="108720" cy="477720"/>
                  <a:chOff x="6563160" y="4914720"/>
                  <a:chExt cx="108720" cy="47772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 flipV="1">
                    <a:off x="6563520" y="5119200"/>
                    <a:ext cx="108000" cy="273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flipH="1" flipV="1">
                    <a:off x="6563520" y="5016960"/>
                    <a:ext cx="106920" cy="101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flipV="1">
                    <a:off x="6563160" y="5218560"/>
                    <a:ext cx="108360" cy="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V="1">
                    <a:off x="6563520" y="4914720"/>
                    <a:ext cx="108360" cy="303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V="1">
                    <a:off x="6563880" y="4915440"/>
                    <a:ext cx="10656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6563520" y="5019120"/>
                    <a:ext cx="0" cy="371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6671160" y="4915080"/>
                    <a:ext cx="360" cy="376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6" name=""/>
              <p:cNvGrpSpPr/>
              <p:nvPr/>
            </p:nvGrpSpPr>
            <p:grpSpPr>
              <a:xfrm>
                <a:off x="6021000" y="5117400"/>
                <a:ext cx="1803960" cy="600840"/>
                <a:chOff x="6021000" y="5117400"/>
                <a:chExt cx="1803960" cy="600840"/>
              </a:xfrm>
            </p:grpSpPr>
            <p:sp>
              <p:nvSpPr>
                <p:cNvPr id="147" name=""/>
                <p:cNvSpPr/>
                <p:nvPr/>
              </p:nvSpPr>
              <p:spPr>
                <a:xfrm flipV="1">
                  <a:off x="7173720" y="5616000"/>
                  <a:ext cx="106560" cy="99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6021000" y="5618160"/>
                  <a:ext cx="108360" cy="100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7718400" y="5117400"/>
                  <a:ext cx="106560" cy="9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6564960" y="5119200"/>
                  <a:ext cx="107640" cy="9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" name=""/>
            <p:cNvGrpSpPr/>
            <p:nvPr/>
          </p:nvGrpSpPr>
          <p:grpSpPr>
            <a:xfrm>
              <a:off x="6018120" y="4833720"/>
              <a:ext cx="1805040" cy="689040"/>
              <a:chOff x="6018120" y="4833720"/>
              <a:chExt cx="1805040" cy="68904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6563880" y="4833720"/>
                <a:ext cx="1259280" cy="183960"/>
                <a:chOff x="6563880" y="4833720"/>
                <a:chExt cx="1259280" cy="183960"/>
              </a:xfrm>
            </p:grpSpPr>
            <p:sp>
              <p:nvSpPr>
                <p:cNvPr id="153" name=""/>
                <p:cNvSpPr/>
                <p:nvPr/>
              </p:nvSpPr>
              <p:spPr>
                <a:xfrm flipV="1">
                  <a:off x="7716600" y="4915080"/>
                  <a:ext cx="106560" cy="9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7140240" y="4833720"/>
                  <a:ext cx="108000" cy="101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7339320" y="4862520"/>
                  <a:ext cx="106560" cy="99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6563880" y="4916520"/>
                  <a:ext cx="108720" cy="100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6755760" y="4889160"/>
                  <a:ext cx="106560" cy="9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6940800" y="4863240"/>
                  <a:ext cx="106560" cy="99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" name=""/>
                <p:cNvGrpSpPr/>
                <p:nvPr/>
              </p:nvGrpSpPr>
              <p:grpSpPr>
                <a:xfrm>
                  <a:off x="6563880" y="4833720"/>
                  <a:ext cx="1258200" cy="183960"/>
                  <a:chOff x="6563880" y="4833720"/>
                  <a:chExt cx="1258200" cy="18396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flipH="1" flipV="1">
                    <a:off x="7247880" y="4833720"/>
                    <a:ext cx="89280" cy="128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>
                    <a:off x="6940440" y="4834080"/>
                    <a:ext cx="306360" cy="12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 flipV="1">
                    <a:off x="7638840" y="4888800"/>
                    <a:ext cx="75600" cy="128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V="1">
                    <a:off x="7528320" y="4915440"/>
                    <a:ext cx="293760" cy="74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flipV="1">
                    <a:off x="7446960" y="4862520"/>
                    <a:ext cx="81360" cy="128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>
                    <a:off x="7338240" y="4888440"/>
                    <a:ext cx="300960" cy="74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>
                    <a:off x="7141320" y="4861080"/>
                    <a:ext cx="305280" cy="72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flipV="1">
                    <a:off x="7047720" y="4862880"/>
                    <a:ext cx="95760" cy="73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flipV="1">
                    <a:off x="6864120" y="4888080"/>
                    <a:ext cx="79200" cy="75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>
                    <a:off x="6754320" y="4863960"/>
                    <a:ext cx="293400" cy="126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flipV="1">
                    <a:off x="6673320" y="4916520"/>
                    <a:ext cx="80280" cy="73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>
                    <a:off x="6563880" y="4888800"/>
                    <a:ext cx="300240" cy="127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V="1">
                    <a:off x="6674040" y="4834440"/>
                    <a:ext cx="573480" cy="80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V="1">
                    <a:off x="6568920" y="4934160"/>
                    <a:ext cx="572400" cy="82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7140600" y="4933800"/>
                    <a:ext cx="574200" cy="83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7249680" y="4834080"/>
                    <a:ext cx="569880" cy="81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 flipV="1">
                  <a:off x="7528680" y="4888800"/>
                  <a:ext cx="109440" cy="101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18120" y="5338440"/>
                <a:ext cx="1260000" cy="184320"/>
                <a:chOff x="6018120" y="5338440"/>
                <a:chExt cx="1260000" cy="184320"/>
              </a:xfrm>
            </p:grpSpPr>
            <p:sp>
              <p:nvSpPr>
                <p:cNvPr id="178" name=""/>
                <p:cNvSpPr/>
                <p:nvPr/>
              </p:nvSpPr>
              <p:spPr>
                <a:xfrm flipV="1">
                  <a:off x="7169760" y="5421240"/>
                  <a:ext cx="108000" cy="100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6794640" y="5366880"/>
                  <a:ext cx="107280" cy="99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6594840" y="5339880"/>
                  <a:ext cx="105840" cy="98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593760" y="5438880"/>
                  <a:ext cx="576000" cy="83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 flipV="1">
                  <a:off x="6702120" y="5339520"/>
                  <a:ext cx="89640" cy="12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 flipV="1">
                  <a:off x="7094160" y="5394600"/>
                  <a:ext cx="76320" cy="127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6985440" y="5421600"/>
                  <a:ext cx="290520" cy="74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 flipV="1">
                  <a:off x="6902280" y="5367960"/>
                  <a:ext cx="83160" cy="12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>
                  <a:off x="6792480" y="5394960"/>
                  <a:ext cx="300960" cy="73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6594120" y="5367600"/>
                  <a:ext cx="308520" cy="71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704280" y="5338800"/>
                  <a:ext cx="573840" cy="82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6986160" y="5394960"/>
                  <a:ext cx="107280" cy="100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V="1">
                  <a:off x="6396480" y="5366160"/>
                  <a:ext cx="107280" cy="100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>
                  <a:off x="6211440" y="5392440"/>
                  <a:ext cx="108360" cy="101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6021360" y="5438520"/>
                  <a:ext cx="572400" cy="83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V="1">
                  <a:off x="6127560" y="5338440"/>
                  <a:ext cx="577800" cy="81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>
                  <a:off x="6395040" y="5338800"/>
                  <a:ext cx="307800" cy="12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flipV="1">
                  <a:off x="6503040" y="5367600"/>
                  <a:ext cx="90000" cy="71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 flipV="1">
                  <a:off x="6318720" y="5392440"/>
                  <a:ext cx="76320" cy="74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6211800" y="5369040"/>
                  <a:ext cx="288360" cy="125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flipV="1">
                  <a:off x="6127920" y="5420520"/>
                  <a:ext cx="82800" cy="73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6018840" y="5393520"/>
                  <a:ext cx="298440" cy="12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6018120" y="5421240"/>
                  <a:ext cx="109440" cy="101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6019920" y="4916160"/>
              <a:ext cx="1803240" cy="606240"/>
              <a:chOff x="6019920" y="4916160"/>
              <a:chExt cx="1803240" cy="606240"/>
            </a:xfrm>
          </p:grpSpPr>
          <p:sp>
            <p:nvSpPr>
              <p:cNvPr id="202" name=""/>
              <p:cNvSpPr/>
              <p:nvPr/>
            </p:nvSpPr>
            <p:spPr>
              <a:xfrm flipV="1">
                <a:off x="7169400" y="4916160"/>
                <a:ext cx="653760" cy="606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019920" y="4916160"/>
                <a:ext cx="651960" cy="606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6103800" y="4847760"/>
              <a:ext cx="1626840" cy="664560"/>
              <a:chOff x="6103800" y="4847760"/>
              <a:chExt cx="1626840" cy="664560"/>
            </a:xfrm>
          </p:grpSpPr>
          <p:sp>
            <p:nvSpPr>
              <p:cNvPr id="205" name=""/>
              <p:cNvSpPr/>
              <p:nvPr/>
            </p:nvSpPr>
            <p:spPr>
              <a:xfrm flipV="1">
                <a:off x="6697440" y="4848120"/>
                <a:ext cx="649440" cy="606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6796080" y="4861440"/>
                <a:ext cx="651240" cy="607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6987600" y="4890600"/>
                <a:ext cx="648360" cy="606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7077600" y="4903920"/>
                <a:ext cx="653040" cy="607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103800" y="4902840"/>
                <a:ext cx="666360" cy="609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6212520" y="4889880"/>
                <a:ext cx="650520" cy="606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6397560" y="4861440"/>
                <a:ext cx="651960" cy="606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6491520" y="4847760"/>
                <a:ext cx="662400" cy="608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6302520" y="4877280"/>
                <a:ext cx="653760" cy="606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6890760" y="4874760"/>
                <a:ext cx="651240" cy="607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flipV="1">
              <a:off x="6594480" y="4833720"/>
              <a:ext cx="654120" cy="604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6019920" y="5522400"/>
              <a:ext cx="1152360" cy="374400"/>
              <a:chOff x="6019920" y="5522400"/>
              <a:chExt cx="1152360" cy="37440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6796080" y="5896440"/>
                <a:ext cx="375480" cy="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6019920" y="5522400"/>
                <a:ext cx="11523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19920" y="5619600"/>
                <a:ext cx="11523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95000" y="5806440"/>
                <a:ext cx="3765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6019920" y="5719320"/>
                <a:ext cx="376920" cy="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796080" y="5717160"/>
                <a:ext cx="37620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020280" y="5807880"/>
                <a:ext cx="375840" cy="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020640" y="5896440"/>
                <a:ext cx="3751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7170840" y="5019120"/>
              <a:ext cx="652320" cy="876240"/>
              <a:chOff x="7170840" y="5019120"/>
              <a:chExt cx="652320" cy="876240"/>
            </a:xfrm>
          </p:grpSpPr>
          <p:sp>
            <p:nvSpPr>
              <p:cNvPr id="226" name=""/>
              <p:cNvSpPr/>
              <p:nvPr/>
            </p:nvSpPr>
            <p:spPr>
              <a:xfrm flipV="1">
                <a:off x="7170840" y="5294160"/>
                <a:ext cx="652320" cy="601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7172280" y="5019120"/>
                <a:ext cx="650520" cy="600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7171560" y="5119200"/>
                <a:ext cx="650880" cy="59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7171200" y="5199840"/>
                <a:ext cx="651600" cy="606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6129360" y="4935240"/>
              <a:ext cx="1585800" cy="857160"/>
              <a:chOff x="6129360" y="4935240"/>
              <a:chExt cx="1585800" cy="85716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6129360" y="5338800"/>
                <a:ext cx="1151640" cy="453600"/>
                <a:chOff x="6129360" y="5338800"/>
                <a:chExt cx="1151640" cy="4536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6129360" y="5421600"/>
                  <a:ext cx="0" cy="37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6129360" y="5338800"/>
                  <a:ext cx="576000" cy="82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7281000" y="5421600"/>
                  <a:ext cx="0" cy="37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flipV="1">
                  <a:off x="6705000" y="5338800"/>
                  <a:ext cx="575640" cy="82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6237720" y="4935240"/>
                <a:ext cx="1477440" cy="759600"/>
                <a:chOff x="6237720" y="4935240"/>
                <a:chExt cx="1477440" cy="759600"/>
              </a:xfrm>
            </p:grpSpPr>
            <p:grpSp>
              <p:nvGrpSpPr>
                <p:cNvPr id="237" name=""/>
                <p:cNvGrpSpPr/>
                <p:nvPr/>
              </p:nvGrpSpPr>
              <p:grpSpPr>
                <a:xfrm>
                  <a:off x="6237720" y="5238360"/>
                  <a:ext cx="1152000" cy="456480"/>
                  <a:chOff x="6237720" y="5238360"/>
                  <a:chExt cx="1152000" cy="4564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 flipV="1">
                    <a:off x="6237720" y="5320800"/>
                    <a:ext cx="0" cy="372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flipV="1">
                    <a:off x="6237720" y="5238360"/>
                    <a:ext cx="576000" cy="82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V="1">
                    <a:off x="7389720" y="5320800"/>
                    <a:ext cx="0" cy="374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flipH="1" flipV="1">
                    <a:off x="6813720" y="5238360"/>
                    <a:ext cx="576000" cy="82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6345720" y="5137200"/>
                  <a:ext cx="1152360" cy="455760"/>
                  <a:chOff x="6345720" y="5137200"/>
                  <a:chExt cx="1152360" cy="45576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V="1">
                    <a:off x="6345720" y="5219640"/>
                    <a:ext cx="0" cy="3733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V="1">
                    <a:off x="6345720" y="5137200"/>
                    <a:ext cx="576000" cy="82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V="1">
                    <a:off x="7498080" y="5219640"/>
                    <a:ext cx="0" cy="3733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flipV="1">
                    <a:off x="6921720" y="5137200"/>
                    <a:ext cx="576000" cy="82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6454800" y="5036040"/>
                  <a:ext cx="1152000" cy="456480"/>
                  <a:chOff x="6454800" y="5036040"/>
                  <a:chExt cx="1152000" cy="4564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V="1">
                    <a:off x="6454800" y="5118840"/>
                    <a:ext cx="0" cy="373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V="1">
                    <a:off x="6454800" y="5036040"/>
                    <a:ext cx="576000" cy="82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V="1">
                    <a:off x="7606800" y="5118840"/>
                    <a:ext cx="0" cy="373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flipV="1">
                    <a:off x="7030800" y="5036040"/>
                    <a:ext cx="576000" cy="82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6563520" y="4935240"/>
                  <a:ext cx="1151640" cy="458640"/>
                  <a:chOff x="6563520" y="4935240"/>
                  <a:chExt cx="1151640" cy="45864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 flipV="1">
                    <a:off x="6563520" y="5018400"/>
                    <a:ext cx="0" cy="375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V="1">
                    <a:off x="6563520" y="4935240"/>
                    <a:ext cx="575640" cy="83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V="1">
                    <a:off x="7715160" y="5018400"/>
                    <a:ext cx="0" cy="375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 flipV="1">
                    <a:off x="7139160" y="4935240"/>
                    <a:ext cx="576000" cy="83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57" name=""/>
          <p:cNvGrpSpPr/>
          <p:nvPr/>
        </p:nvGrpSpPr>
        <p:grpSpPr>
          <a:xfrm>
            <a:off x="1258920" y="4834080"/>
            <a:ext cx="1806480" cy="1139760"/>
            <a:chOff x="1258920" y="4834080"/>
            <a:chExt cx="1806480" cy="1139760"/>
          </a:xfrm>
        </p:grpSpPr>
        <p:grpSp>
          <p:nvGrpSpPr>
            <p:cNvPr id="258" name=""/>
            <p:cNvGrpSpPr/>
            <p:nvPr/>
          </p:nvGrpSpPr>
          <p:grpSpPr>
            <a:xfrm>
              <a:off x="2413080" y="4923000"/>
              <a:ext cx="652320" cy="1050840"/>
              <a:chOff x="2413080" y="4923000"/>
              <a:chExt cx="652320" cy="1050840"/>
            </a:xfrm>
          </p:grpSpPr>
          <p:sp>
            <p:nvSpPr>
              <p:cNvPr id="259" name=""/>
              <p:cNvSpPr/>
              <p:nvPr/>
            </p:nvSpPr>
            <p:spPr>
              <a:xfrm>
                <a:off x="2413080" y="4923000"/>
                <a:ext cx="652320" cy="1050840"/>
              </a:xfrm>
              <a:custGeom>
                <a:avLst/>
                <a:gdLst/>
                <a:ahLst/>
                <a:rect l="l" t="t" r="r" b="b"/>
                <a:pathLst>
                  <a:path w="5055" h="8115">
                    <a:moveTo>
                      <a:pt x="0" y="5025"/>
                    </a:moveTo>
                    <a:lnTo>
                      <a:pt x="0" y="8115"/>
                    </a:lnTo>
                    <a:lnTo>
                      <a:pt x="5051" y="3066"/>
                    </a:lnTo>
                    <a:lnTo>
                      <a:pt x="5055" y="0"/>
                    </a:lnTo>
                    <a:lnTo>
                      <a:pt x="0" y="5025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473200" y="5062320"/>
                <a:ext cx="551880" cy="659160"/>
              </a:xfrm>
              <a:custGeom>
                <a:avLst/>
                <a:gdLst/>
                <a:ahLst/>
                <a:rect l="l" t="t" r="r" b="b"/>
                <a:pathLst>
                  <a:path w="4235" h="5090">
                    <a:moveTo>
                      <a:pt x="0" y="4250"/>
                    </a:moveTo>
                    <a:lnTo>
                      <a:pt x="0" y="5090"/>
                    </a:lnTo>
                    <a:lnTo>
                      <a:pt x="4235" y="840"/>
                    </a:lnTo>
                    <a:lnTo>
                      <a:pt x="4235" y="0"/>
                    </a:lnTo>
                    <a:lnTo>
                      <a:pt x="0" y="425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1263600" y="4834080"/>
              <a:ext cx="1793880" cy="739800"/>
            </a:xfrm>
            <a:custGeom>
              <a:avLst/>
              <a:gdLst/>
              <a:ahLst/>
              <a:rect l="l" t="t" r="r" b="b"/>
              <a:pathLst>
                <a:path w="1130" h="466">
                  <a:moveTo>
                    <a:pt x="722" y="466"/>
                  </a:moveTo>
                  <a:lnTo>
                    <a:pt x="360" y="409"/>
                  </a:lnTo>
                  <a:lnTo>
                    <a:pt x="0" y="464"/>
                  </a:lnTo>
                  <a:lnTo>
                    <a:pt x="404" y="58"/>
                  </a:lnTo>
                  <a:lnTo>
                    <a:pt x="773" y="0"/>
                  </a:lnTo>
                  <a:lnTo>
                    <a:pt x="1130" y="58"/>
                  </a:lnTo>
                  <a:lnTo>
                    <a:pt x="722" y="466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407960" y="4896000"/>
              <a:ext cx="1506600" cy="614520"/>
              <a:chOff x="1407960" y="4896000"/>
              <a:chExt cx="1506600" cy="614520"/>
            </a:xfrm>
          </p:grpSpPr>
          <p:sp>
            <p:nvSpPr>
              <p:cNvPr id="263" name=""/>
              <p:cNvSpPr/>
              <p:nvPr/>
            </p:nvSpPr>
            <p:spPr>
              <a:xfrm>
                <a:off x="2001960" y="4896000"/>
                <a:ext cx="637560" cy="558720"/>
              </a:xfrm>
              <a:custGeom>
                <a:avLst/>
                <a:gdLst/>
                <a:ahLst/>
                <a:rect l="l" t="t" r="r" b="b"/>
                <a:pathLst>
                  <a:path w="4935" h="4310">
                    <a:moveTo>
                      <a:pt x="0" y="4215"/>
                    </a:moveTo>
                    <a:lnTo>
                      <a:pt x="705" y="4310"/>
                    </a:lnTo>
                    <a:lnTo>
                      <a:pt x="4935" y="80"/>
                    </a:lnTo>
                    <a:lnTo>
                      <a:pt x="4210" y="0"/>
                    </a:lnTo>
                    <a:lnTo>
                      <a:pt x="0" y="4215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77000" y="4951800"/>
                <a:ext cx="637560" cy="558720"/>
              </a:xfrm>
              <a:custGeom>
                <a:avLst/>
                <a:gdLst/>
                <a:ahLst/>
                <a:rect l="l" t="t" r="r" b="b"/>
                <a:pathLst>
                  <a:path w="4935" h="4310">
                    <a:moveTo>
                      <a:pt x="0" y="4215"/>
                    </a:moveTo>
                    <a:lnTo>
                      <a:pt x="705" y="4310"/>
                    </a:lnTo>
                    <a:lnTo>
                      <a:pt x="4935" y="80"/>
                    </a:lnTo>
                    <a:lnTo>
                      <a:pt x="4210" y="0"/>
                    </a:lnTo>
                    <a:lnTo>
                      <a:pt x="0" y="4215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690560" y="4905000"/>
                <a:ext cx="647280" cy="557640"/>
              </a:xfrm>
              <a:custGeom>
                <a:avLst/>
                <a:gdLst/>
                <a:ahLst/>
                <a:rect l="l" t="t" r="r" b="b"/>
                <a:pathLst>
                  <a:path w="4966" h="4324">
                    <a:moveTo>
                      <a:pt x="796" y="4185"/>
                    </a:moveTo>
                    <a:lnTo>
                      <a:pt x="0" y="4324"/>
                    </a:lnTo>
                    <a:lnTo>
                      <a:pt x="4151" y="155"/>
                    </a:lnTo>
                    <a:lnTo>
                      <a:pt x="4966" y="0"/>
                    </a:lnTo>
                    <a:lnTo>
                      <a:pt x="796" y="4185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407960" y="4953960"/>
                <a:ext cx="647280" cy="551880"/>
              </a:xfrm>
              <a:custGeom>
                <a:avLst/>
                <a:gdLst/>
                <a:ahLst/>
                <a:rect l="l" t="t" r="r" b="b"/>
                <a:pathLst>
                  <a:path w="4966" h="4324">
                    <a:moveTo>
                      <a:pt x="796" y="4185"/>
                    </a:moveTo>
                    <a:lnTo>
                      <a:pt x="0" y="4324"/>
                    </a:lnTo>
                    <a:lnTo>
                      <a:pt x="4151" y="155"/>
                    </a:lnTo>
                    <a:lnTo>
                      <a:pt x="4966" y="0"/>
                    </a:lnTo>
                    <a:lnTo>
                      <a:pt x="796" y="4185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641600" y="5675400"/>
              <a:ext cx="3920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58920" y="5484960"/>
              <a:ext cx="1150920" cy="487440"/>
            </a:xfrm>
            <a:custGeom>
              <a:avLst/>
              <a:gdLst/>
              <a:ahLst/>
              <a:rect l="l" t="t" r="r" b="b"/>
              <a:pathLst>
                <a:path w="7267" h="3090">
                  <a:moveTo>
                    <a:pt x="7265" y="3090"/>
                  </a:moveTo>
                  <a:lnTo>
                    <a:pt x="7267" y="560"/>
                  </a:lnTo>
                  <a:lnTo>
                    <a:pt x="3618" y="0"/>
                  </a:lnTo>
                  <a:lnTo>
                    <a:pt x="0" y="559"/>
                  </a:lnTo>
                  <a:lnTo>
                    <a:pt x="0" y="3090"/>
                  </a:lnTo>
                  <a:lnTo>
                    <a:pt x="2417" y="3090"/>
                  </a:lnTo>
                  <a:lnTo>
                    <a:pt x="2394" y="1212"/>
                  </a:lnTo>
                  <a:lnTo>
                    <a:pt x="4883" y="1212"/>
                  </a:lnTo>
                  <a:lnTo>
                    <a:pt x="4878" y="3090"/>
                  </a:lnTo>
                  <a:lnTo>
                    <a:pt x="7265" y="309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87400" y="5675400"/>
              <a:ext cx="400320" cy="2984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839960" y="4834080"/>
              <a:ext cx="647640" cy="649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416320" y="4919760"/>
              <a:ext cx="647640" cy="649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81160" y="2670480"/>
            <a:ext cx="8528040" cy="17326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Arial"/>
              </a:rPr>
              <a:t>Description, analyse et modélisation d’une structure de type hall industriel en ac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10:47:34Z</dcterms:created>
  <dc:creator>Jean-Pierre Muzeau, Annelise Chopin et Cédric Brassier </dc:creator>
  <dc:description/>
  <cp:keywords>Terminologie</cp:keywords>
  <dc:language>en-US</dc:language>
  <cp:lastModifiedBy>Muzeau Jean-Pierre</cp:lastModifiedBy>
  <dcterms:modified xsi:type="dcterms:W3CDTF">2003-10-21T20:55:17Z</dcterms:modified>
  <cp:revision>196</cp:revision>
  <dc:subject/>
  <dc:title>Présentation - Racine</dc:title>
</cp:coreProperties>
</file>