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otelet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8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25.xml"/><Relationship Id="rId6" Type="http://schemas.openxmlformats.org/officeDocument/2006/relationships/slide" Target="slide24.xml"/><Relationship Id="rId7" Type="http://schemas.openxmlformats.org/officeDocument/2006/relationships/slide" Target="slide2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25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5.xml"/><Relationship Id="rId9" Type="http://schemas.openxmlformats.org/officeDocument/2006/relationships/slide" Target="slide30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5.xml"/><Relationship Id="rId6" Type="http://schemas.openxmlformats.org/officeDocument/2006/relationships/slide" Target="slide30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slide" Target="slide24.xml"/><Relationship Id="rId6" Type="http://schemas.openxmlformats.org/officeDocument/2006/relationships/slide" Target="slide31.xml"/><Relationship Id="rId7" Type="http://schemas.openxmlformats.org/officeDocument/2006/relationships/slide" Target="slide22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OTE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Annelise Chopin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47237" t="18145" r="11306" b="36492"/>
          <a:stretch/>
        </p:blipFill>
        <p:spPr>
          <a:xfrm>
            <a:off x="2952720" y="666720"/>
            <a:ext cx="3243240" cy="249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>
            <a:hlinkClick r:id="rId1" action="ppaction://hlinksldjump"/>
          </p:cNvPr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>
            <a:hlinkClick r:id="" action="ppaction://hlinkshowjump?jump=nextslide"/>
          </p:cNvPr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694400" y="44118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38200" y="757080"/>
            <a:ext cx="795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types d’actions reprises par les potele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>
            <a:hlinkClick r:id="" action="ppaction://hlinkshowjump?jump=nextslide"/>
          </p:cNvPr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4694400" y="50338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38200" y="757080"/>
            <a:ext cx="795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types d’actions reprises par les potele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"/>
          <p:cNvSpPr/>
          <p:nvPr/>
        </p:nvSpPr>
        <p:spPr>
          <a:xfrm>
            <a:off x="577800" y="757080"/>
            <a:ext cx="7996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 général, les types d’actions reprises par les potelets sont les suiv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4" name=""/>
          <p:cNvGrpSpPr/>
          <p:nvPr/>
        </p:nvGrpSpPr>
        <p:grpSpPr>
          <a:xfrm>
            <a:off x="5411880" y="4856040"/>
            <a:ext cx="3341160" cy="1968480"/>
            <a:chOff x="5411880" y="4856040"/>
            <a:chExt cx="3341160" cy="1968480"/>
          </a:xfrm>
        </p:grpSpPr>
        <p:grpSp>
          <p:nvGrpSpPr>
            <p:cNvPr id="2185" name=""/>
            <p:cNvGrpSpPr/>
            <p:nvPr/>
          </p:nvGrpSpPr>
          <p:grpSpPr>
            <a:xfrm>
              <a:off x="6264000" y="4986360"/>
              <a:ext cx="2466360" cy="1428840"/>
              <a:chOff x="6264000" y="4986360"/>
              <a:chExt cx="2466360" cy="1428840"/>
            </a:xfrm>
          </p:grpSpPr>
          <p:grpSp>
            <p:nvGrpSpPr>
              <p:cNvPr id="2186" name=""/>
              <p:cNvGrpSpPr/>
              <p:nvPr/>
            </p:nvGrpSpPr>
            <p:grpSpPr>
              <a:xfrm>
                <a:off x="7144200" y="4986360"/>
                <a:ext cx="1586160" cy="534960"/>
                <a:chOff x="7144200" y="4986360"/>
                <a:chExt cx="1586160" cy="53496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716004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715608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715032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715644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14420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2" name=""/>
              <p:cNvGrpSpPr/>
              <p:nvPr/>
            </p:nvGrpSpPr>
            <p:grpSpPr>
              <a:xfrm>
                <a:off x="6264000" y="5871960"/>
                <a:ext cx="1578600" cy="543240"/>
                <a:chOff x="6264000" y="5871960"/>
                <a:chExt cx="1578600" cy="54324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732708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272280" y="58719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267960" y="60282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32456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6264000" y="6156720"/>
                  <a:ext cx="516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32456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6267960" y="6285240"/>
                  <a:ext cx="516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626796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1" name=""/>
            <p:cNvGrpSpPr/>
            <p:nvPr/>
          </p:nvGrpSpPr>
          <p:grpSpPr>
            <a:xfrm>
              <a:off x="6221160" y="5532480"/>
              <a:ext cx="2531880" cy="968400"/>
              <a:chOff x="6221160" y="5532480"/>
              <a:chExt cx="2531880" cy="968400"/>
            </a:xfrm>
          </p:grpSpPr>
          <p:grpSp>
            <p:nvGrpSpPr>
              <p:cNvPr id="2202" name=""/>
              <p:cNvGrpSpPr/>
              <p:nvPr/>
            </p:nvGrpSpPr>
            <p:grpSpPr>
              <a:xfrm>
                <a:off x="6373440" y="5700600"/>
                <a:ext cx="664560" cy="655920"/>
                <a:chOff x="6373440" y="5700600"/>
                <a:chExt cx="664560" cy="65592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696528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681408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666936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651996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637344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8" name=""/>
              <p:cNvGrpSpPr/>
              <p:nvPr/>
            </p:nvGrpSpPr>
            <p:grpSpPr>
              <a:xfrm>
                <a:off x="7949880" y="5688720"/>
                <a:ext cx="654120" cy="663120"/>
                <a:chOff x="7949880" y="5688720"/>
                <a:chExt cx="654120" cy="66312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853128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838512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824040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808776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794988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7105320" y="5532480"/>
                <a:ext cx="1647720" cy="74880"/>
                <a:chOff x="7105320" y="5532480"/>
                <a:chExt cx="1647720" cy="7488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868032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710532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816552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737172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761832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788112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842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6221160" y="6427800"/>
                <a:ext cx="1644120" cy="73080"/>
                <a:chOff x="6221160" y="6427800"/>
                <a:chExt cx="1644120" cy="7308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779220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6221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64854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67374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72838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75358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9" name=""/>
            <p:cNvGrpSpPr/>
            <p:nvPr/>
          </p:nvGrpSpPr>
          <p:grpSpPr>
            <a:xfrm>
              <a:off x="6262560" y="4856040"/>
              <a:ext cx="2461680" cy="1555920"/>
              <a:chOff x="6262560" y="4856040"/>
              <a:chExt cx="2461680" cy="1555920"/>
            </a:xfrm>
          </p:grpSpPr>
          <p:sp>
            <p:nvSpPr>
              <p:cNvPr id="2230" name=""/>
              <p:cNvSpPr/>
              <p:nvPr/>
            </p:nvSpPr>
            <p:spPr>
              <a:xfrm>
                <a:off x="705348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1" name=""/>
              <p:cNvGrpSpPr/>
              <p:nvPr/>
            </p:nvGrpSpPr>
            <p:grpSpPr>
              <a:xfrm>
                <a:off x="6262560" y="4856040"/>
                <a:ext cx="2461680" cy="1555920"/>
                <a:chOff x="6262560" y="4856040"/>
                <a:chExt cx="2461680" cy="1555920"/>
              </a:xfrm>
            </p:grpSpPr>
            <p:grpSp>
              <p:nvGrpSpPr>
                <p:cNvPr id="2232" name=""/>
                <p:cNvGrpSpPr/>
                <p:nvPr/>
              </p:nvGrpSpPr>
              <p:grpSpPr>
                <a:xfrm>
                  <a:off x="7153560" y="4856040"/>
                  <a:ext cx="1570680" cy="662400"/>
                  <a:chOff x="7153560" y="4856040"/>
                  <a:chExt cx="1570680" cy="66240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847296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872424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821088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93944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766692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715356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741600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0" name=""/>
                <p:cNvGrpSpPr/>
                <p:nvPr/>
              </p:nvGrpSpPr>
              <p:grpSpPr>
                <a:xfrm>
                  <a:off x="6262560" y="5788440"/>
                  <a:ext cx="1576080" cy="623520"/>
                  <a:chOff x="6262560" y="5788440"/>
                  <a:chExt cx="1576080" cy="623520"/>
                </a:xfrm>
              </p:grpSpPr>
              <p:sp>
                <p:nvSpPr>
                  <p:cNvPr id="2241" name=""/>
                  <p:cNvSpPr/>
                  <p:nvPr/>
                </p:nvSpPr>
                <p:spPr>
                  <a:xfrm>
                    <a:off x="758736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783864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732528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678132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H="1">
                    <a:off x="626256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653040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7" name=""/>
            <p:cNvGrpSpPr/>
            <p:nvPr/>
          </p:nvGrpSpPr>
          <p:grpSpPr>
            <a:xfrm>
              <a:off x="6265800" y="4857480"/>
              <a:ext cx="2461680" cy="1009800"/>
              <a:chOff x="6265800" y="4857480"/>
              <a:chExt cx="2461680" cy="1009800"/>
            </a:xfrm>
          </p:grpSpPr>
          <p:grpSp>
            <p:nvGrpSpPr>
              <p:cNvPr id="2248" name=""/>
              <p:cNvGrpSpPr/>
              <p:nvPr/>
            </p:nvGrpSpPr>
            <p:grpSpPr>
              <a:xfrm>
                <a:off x="6265800" y="5596920"/>
                <a:ext cx="1717560" cy="270360"/>
                <a:chOff x="6265800" y="5596920"/>
                <a:chExt cx="1717560" cy="270360"/>
              </a:xfrm>
            </p:grpSpPr>
            <p:sp>
              <p:nvSpPr>
                <p:cNvPr id="2249" name=""/>
                <p:cNvSpPr/>
                <p:nvPr/>
              </p:nvSpPr>
              <p:spPr>
                <a:xfrm flipH="1" flipV="1">
                  <a:off x="719820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>
                  <a:off x="677340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flipV="1">
                  <a:off x="771444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V="1">
                  <a:off x="758376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 flipV="1">
                  <a:off x="746172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H="1">
                  <a:off x="732204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flipH="1">
                  <a:off x="707184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H="1" flipV="1">
                  <a:off x="692172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flipH="1" flipV="1">
                  <a:off x="667548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H="1">
                  <a:off x="652680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H="1" flipV="1">
                  <a:off x="641376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>
                  <a:off x="626580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783288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706140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V="1">
                  <a:off x="73256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V="1">
                  <a:off x="626832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653256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V="1">
                  <a:off x="678132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V="1">
                  <a:off x="641124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V="1">
                  <a:off x="626832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705852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720396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V="1">
                  <a:off x="757656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2" name=""/>
              <p:cNvGrpSpPr/>
              <p:nvPr/>
            </p:nvGrpSpPr>
            <p:grpSpPr>
              <a:xfrm>
                <a:off x="7009920" y="4857480"/>
                <a:ext cx="1717560" cy="270360"/>
                <a:chOff x="7009920" y="4857480"/>
                <a:chExt cx="1717560" cy="270360"/>
              </a:xfrm>
            </p:grpSpPr>
            <p:sp>
              <p:nvSpPr>
                <p:cNvPr id="2273" name=""/>
                <p:cNvSpPr/>
                <p:nvPr/>
              </p:nvSpPr>
              <p:spPr>
                <a:xfrm flipH="1" flipV="1">
                  <a:off x="794232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751752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flipH="1" flipV="1">
                  <a:off x="845856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832788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H="1" flipV="1">
                  <a:off x="820584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806616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>
                  <a:off x="781596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 flipV="1">
                  <a:off x="766584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flipH="1" flipV="1">
                  <a:off x="741960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flipH="1">
                  <a:off x="727092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H="1" flipV="1">
                  <a:off x="715788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>
                  <a:off x="700992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V="1">
                  <a:off x="857700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V="1">
                  <a:off x="780552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V="1">
                  <a:off x="80697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701244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V="1">
                  <a:off x="727668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V="1">
                  <a:off x="752544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V="1">
                  <a:off x="715536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V="1">
                  <a:off x="701244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780264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794808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V="1">
                  <a:off x="832068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6" name=""/>
            <p:cNvGrpSpPr/>
            <p:nvPr/>
          </p:nvGrpSpPr>
          <p:grpSpPr>
            <a:xfrm>
              <a:off x="6264000" y="4976280"/>
              <a:ext cx="2459880" cy="1440360"/>
              <a:chOff x="6264000" y="4976280"/>
              <a:chExt cx="2459880" cy="1440360"/>
            </a:xfrm>
          </p:grpSpPr>
          <p:grpSp>
            <p:nvGrpSpPr>
              <p:cNvPr id="2297" name=""/>
              <p:cNvGrpSpPr/>
              <p:nvPr/>
            </p:nvGrpSpPr>
            <p:grpSpPr>
              <a:xfrm>
                <a:off x="7833600" y="5716080"/>
                <a:ext cx="150480" cy="695160"/>
                <a:chOff x="7833600" y="5716080"/>
                <a:chExt cx="150480" cy="695160"/>
              </a:xfrm>
            </p:grpSpPr>
            <p:sp>
              <p:nvSpPr>
                <p:cNvPr id="2298" name=""/>
                <p:cNvSpPr/>
                <p:nvPr/>
              </p:nvSpPr>
              <p:spPr>
                <a:xfrm flipV="1">
                  <a:off x="783612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H="1" flipV="1">
                  <a:off x="7833600" y="5863680"/>
                  <a:ext cx="15048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 flipV="1">
                  <a:off x="783576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V="1">
                  <a:off x="783612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V="1">
                  <a:off x="7833600" y="57160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783612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V="1">
                  <a:off x="7836120" y="60040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798408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6264000" y="5721480"/>
                <a:ext cx="150480" cy="695160"/>
                <a:chOff x="6264000" y="5721480"/>
                <a:chExt cx="150480" cy="695160"/>
              </a:xfrm>
            </p:grpSpPr>
            <p:sp>
              <p:nvSpPr>
                <p:cNvPr id="2307" name=""/>
                <p:cNvSpPr/>
                <p:nvPr/>
              </p:nvSpPr>
              <p:spPr>
                <a:xfrm flipV="1">
                  <a:off x="626652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flipH="1" flipV="1">
                  <a:off x="6264000" y="5869080"/>
                  <a:ext cx="15048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flipH="1" flipV="1">
                  <a:off x="626616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V="1">
                  <a:off x="626652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V="1">
                  <a:off x="6264000" y="5721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26652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flipV="1">
                  <a:off x="6266520" y="6009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641448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5" name=""/>
              <p:cNvGrpSpPr/>
              <p:nvPr/>
            </p:nvGrpSpPr>
            <p:grpSpPr>
              <a:xfrm>
                <a:off x="8573400" y="4976280"/>
                <a:ext cx="150480" cy="695160"/>
                <a:chOff x="8573400" y="4976280"/>
                <a:chExt cx="150480" cy="695160"/>
              </a:xfrm>
            </p:grpSpPr>
            <p:sp>
              <p:nvSpPr>
                <p:cNvPr id="2316" name=""/>
                <p:cNvSpPr/>
                <p:nvPr/>
              </p:nvSpPr>
              <p:spPr>
                <a:xfrm flipV="1">
                  <a:off x="857592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H="1" flipV="1">
                  <a:off x="8573400" y="5123880"/>
                  <a:ext cx="15048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H="1" flipV="1">
                  <a:off x="857556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flipV="1">
                  <a:off x="857592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V="1">
                  <a:off x="857340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857592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V="1">
                  <a:off x="8575920" y="5264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872388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4" name=""/>
              <p:cNvGrpSpPr/>
              <p:nvPr/>
            </p:nvGrpSpPr>
            <p:grpSpPr>
              <a:xfrm>
                <a:off x="7003800" y="4983840"/>
                <a:ext cx="150480" cy="695160"/>
                <a:chOff x="7003800" y="4983840"/>
                <a:chExt cx="150480" cy="695160"/>
              </a:xfrm>
            </p:grpSpPr>
            <p:sp>
              <p:nvSpPr>
                <p:cNvPr id="2325" name=""/>
                <p:cNvSpPr/>
                <p:nvPr/>
              </p:nvSpPr>
              <p:spPr>
                <a:xfrm flipV="1">
                  <a:off x="700632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flipH="1" flipV="1">
                  <a:off x="7003800" y="5131440"/>
                  <a:ext cx="15048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 flipV="1">
                  <a:off x="700596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V="1">
                  <a:off x="700632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V="1">
                  <a:off x="7003800" y="49838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00632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V="1">
                  <a:off x="7006320" y="52718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715428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3" name=""/>
            <p:cNvGrpSpPr/>
            <p:nvPr/>
          </p:nvGrpSpPr>
          <p:grpSpPr>
            <a:xfrm>
              <a:off x="6414840" y="5006520"/>
              <a:ext cx="2161800" cy="1255680"/>
              <a:chOff x="6414840" y="5006520"/>
              <a:chExt cx="2161800" cy="1255680"/>
            </a:xfrm>
          </p:grpSpPr>
          <p:grpSp>
            <p:nvGrpSpPr>
              <p:cNvPr id="2334" name=""/>
              <p:cNvGrpSpPr/>
              <p:nvPr/>
            </p:nvGrpSpPr>
            <p:grpSpPr>
              <a:xfrm>
                <a:off x="6414840" y="5598360"/>
                <a:ext cx="1569960" cy="663840"/>
                <a:chOff x="6414840" y="5598360"/>
                <a:chExt cx="1569960" cy="663840"/>
              </a:xfrm>
            </p:grpSpPr>
            <p:sp>
              <p:nvSpPr>
                <p:cNvPr id="2335" name=""/>
                <p:cNvSpPr/>
                <p:nvPr/>
              </p:nvSpPr>
              <p:spPr>
                <a:xfrm flipV="1">
                  <a:off x="641484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flipV="1">
                  <a:off x="641484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V="1">
                  <a:off x="798480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 flipV="1">
                  <a:off x="7200000" y="559836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9" name=""/>
              <p:cNvGrpSpPr/>
              <p:nvPr/>
            </p:nvGrpSpPr>
            <p:grpSpPr>
              <a:xfrm>
                <a:off x="6562800" y="5450400"/>
                <a:ext cx="1569960" cy="663840"/>
                <a:chOff x="6562800" y="5450400"/>
                <a:chExt cx="1569960" cy="663840"/>
              </a:xfrm>
            </p:grpSpPr>
            <p:sp>
              <p:nvSpPr>
                <p:cNvPr id="2340" name=""/>
                <p:cNvSpPr/>
                <p:nvPr/>
              </p:nvSpPr>
              <p:spPr>
                <a:xfrm flipV="1">
                  <a:off x="656280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flipV="1">
                  <a:off x="6562800" y="545040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V="1">
                  <a:off x="813276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 flipV="1">
                  <a:off x="7347600" y="545040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4" name=""/>
              <p:cNvGrpSpPr/>
              <p:nvPr/>
            </p:nvGrpSpPr>
            <p:grpSpPr>
              <a:xfrm>
                <a:off x="6710760" y="5302440"/>
                <a:ext cx="1569960" cy="663840"/>
                <a:chOff x="6710760" y="5302440"/>
                <a:chExt cx="1569960" cy="663840"/>
              </a:xfrm>
            </p:grpSpPr>
            <p:sp>
              <p:nvSpPr>
                <p:cNvPr id="2345" name=""/>
                <p:cNvSpPr/>
                <p:nvPr/>
              </p:nvSpPr>
              <p:spPr>
                <a:xfrm flipV="1">
                  <a:off x="671076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V="1">
                  <a:off x="6710760" y="530244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V="1">
                  <a:off x="828072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flipH="1" flipV="1">
                  <a:off x="7495560" y="530244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6858720" y="5154120"/>
                <a:ext cx="1569960" cy="663840"/>
                <a:chOff x="6858720" y="5154120"/>
                <a:chExt cx="1569960" cy="663840"/>
              </a:xfrm>
            </p:grpSpPr>
            <p:sp>
              <p:nvSpPr>
                <p:cNvPr id="2350" name=""/>
                <p:cNvSpPr/>
                <p:nvPr/>
              </p:nvSpPr>
              <p:spPr>
                <a:xfrm flipV="1">
                  <a:off x="685872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V="1">
                  <a:off x="6858720" y="515412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V="1">
                  <a:off x="842868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flipH="1" flipV="1">
                  <a:off x="764316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7006680" y="5006520"/>
                <a:ext cx="1569960" cy="663840"/>
                <a:chOff x="7006680" y="5006520"/>
                <a:chExt cx="1569960" cy="663840"/>
              </a:xfrm>
            </p:grpSpPr>
            <p:sp>
              <p:nvSpPr>
                <p:cNvPr id="2355" name=""/>
                <p:cNvSpPr/>
                <p:nvPr/>
              </p:nvSpPr>
              <p:spPr>
                <a:xfrm flipV="1">
                  <a:off x="700668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flipV="1">
                  <a:off x="7006680" y="5006520"/>
                  <a:ext cx="78480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flipV="1">
                  <a:off x="857664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flipH="1" flipV="1">
                  <a:off x="779112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9" name=""/>
            <p:cNvGrpSpPr/>
            <p:nvPr/>
          </p:nvGrpSpPr>
          <p:grpSpPr>
            <a:xfrm>
              <a:off x="6265800" y="5130360"/>
              <a:ext cx="2458440" cy="1283040"/>
              <a:chOff x="6265800" y="5130360"/>
              <a:chExt cx="2458440" cy="1283040"/>
            </a:xfrm>
          </p:grpSpPr>
          <p:grpSp>
            <p:nvGrpSpPr>
              <p:cNvPr id="2360" name=""/>
              <p:cNvGrpSpPr/>
              <p:nvPr/>
            </p:nvGrpSpPr>
            <p:grpSpPr>
              <a:xfrm>
                <a:off x="6265800" y="5139000"/>
                <a:ext cx="888120" cy="1274400"/>
                <a:chOff x="6265800" y="5139000"/>
                <a:chExt cx="888120" cy="1274400"/>
              </a:xfrm>
            </p:grpSpPr>
            <p:sp>
              <p:nvSpPr>
                <p:cNvPr id="2361" name=""/>
                <p:cNvSpPr/>
                <p:nvPr/>
              </p:nvSpPr>
              <p:spPr>
                <a:xfrm flipV="1">
                  <a:off x="626580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V="1">
                  <a:off x="626580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V="1">
                  <a:off x="626580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V="1">
                  <a:off x="626580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7836120" y="5130360"/>
                <a:ext cx="888120" cy="1282680"/>
                <a:chOff x="7836120" y="5130360"/>
                <a:chExt cx="888120" cy="1282680"/>
              </a:xfrm>
            </p:grpSpPr>
            <p:sp>
              <p:nvSpPr>
                <p:cNvPr id="2366" name=""/>
                <p:cNvSpPr/>
                <p:nvPr/>
              </p:nvSpPr>
              <p:spPr>
                <a:xfrm flipV="1">
                  <a:off x="783612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V="1">
                  <a:off x="783612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V="1">
                  <a:off x="783612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V="1">
                  <a:off x="783612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0" name=""/>
            <p:cNvSpPr/>
            <p:nvPr/>
          </p:nvSpPr>
          <p:spPr>
            <a:xfrm flipV="1">
              <a:off x="7053120" y="4863600"/>
              <a:ext cx="89028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6265800" y="4979520"/>
              <a:ext cx="2457000" cy="887400"/>
              <a:chOff x="6265800" y="4979520"/>
              <a:chExt cx="2457000" cy="887400"/>
            </a:xfrm>
          </p:grpSpPr>
          <p:sp>
            <p:nvSpPr>
              <p:cNvPr id="2372" name=""/>
              <p:cNvSpPr/>
              <p:nvPr/>
            </p:nvSpPr>
            <p:spPr>
              <a:xfrm flipV="1">
                <a:off x="783216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V="1">
                <a:off x="626580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383160" y="4878360"/>
              <a:ext cx="2215800" cy="973080"/>
              <a:chOff x="6383160" y="4878360"/>
              <a:chExt cx="2215800" cy="973080"/>
            </a:xfrm>
          </p:grpSpPr>
          <p:sp>
            <p:nvSpPr>
              <p:cNvPr id="2375" name=""/>
              <p:cNvSpPr/>
              <p:nvPr/>
            </p:nvSpPr>
            <p:spPr>
              <a:xfrm flipV="1">
                <a:off x="719964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733320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758520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770832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638316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V="1">
                <a:off x="652932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V="1">
                <a:off x="677952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V="1">
                <a:off x="6914160" y="4878360"/>
                <a:ext cx="881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V="1">
                <a:off x="665064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V="1">
                <a:off x="744408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6267240" y="4858920"/>
              <a:ext cx="2457000" cy="1553040"/>
              <a:chOff x="6267240" y="4858920"/>
              <a:chExt cx="2457000" cy="1553040"/>
            </a:xfrm>
          </p:grpSpPr>
          <p:sp>
            <p:nvSpPr>
              <p:cNvPr id="2386" name=""/>
              <p:cNvSpPr/>
              <p:nvPr/>
            </p:nvSpPr>
            <p:spPr>
              <a:xfrm flipV="1">
                <a:off x="626724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051680" y="5747040"/>
                <a:ext cx="78444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715464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9" name=""/>
              <p:cNvGrpSpPr/>
              <p:nvPr/>
            </p:nvGrpSpPr>
            <p:grpSpPr>
              <a:xfrm>
                <a:off x="6267240" y="4979880"/>
                <a:ext cx="2457000" cy="1432080"/>
                <a:chOff x="6267240" y="4979880"/>
                <a:chExt cx="2457000" cy="1432080"/>
              </a:xfrm>
            </p:grpSpPr>
            <p:sp>
              <p:nvSpPr>
                <p:cNvPr id="2390" name=""/>
                <p:cNvSpPr/>
                <p:nvPr/>
              </p:nvSpPr>
              <p:spPr>
                <a:xfrm flipV="1">
                  <a:off x="626724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V="1">
                  <a:off x="783684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V="1">
                  <a:off x="715464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V="1">
                  <a:off x="872424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4" name=""/>
              <p:cNvSpPr/>
              <p:nvPr/>
            </p:nvSpPr>
            <p:spPr>
              <a:xfrm flipH="1" flipV="1">
                <a:off x="7939080" y="4858920"/>
                <a:ext cx="78444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5411880" y="6561000"/>
              <a:ext cx="1347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rot="8034000">
              <a:off x="6669000" y="6285600"/>
              <a:ext cx="564840" cy="334440"/>
            </a:xfrm>
            <a:prstGeom prst="leftArrow">
              <a:avLst>
                <a:gd name="adj1" fmla="val 50000"/>
                <a:gd name="adj2" fmla="val 4222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"/>
          <p:cNvSpPr/>
          <p:nvPr/>
        </p:nvSpPr>
        <p:spPr>
          <a:xfrm>
            <a:off x="1430280" y="608040"/>
            <a:ext cx="6149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a zone d’action d’un potele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060960" y="26478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294680" y="213516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>
            <a:hlinkClick r:id="rId1" action="ppaction://hlinksldjump"/>
          </p:cNvPr>
          <p:cNvSpPr/>
          <p:nvPr/>
        </p:nvSpPr>
        <p:spPr>
          <a:xfrm>
            <a:off x="7310520" y="220032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899320" y="213516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>
            <a:hlinkClick r:id="rId2" action="ppaction://hlinksldjump"/>
          </p:cNvPr>
          <p:cNvSpPr/>
          <p:nvPr/>
        </p:nvSpPr>
        <p:spPr>
          <a:xfrm>
            <a:off x="5915160" y="220032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595920" y="213516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>
            <a:hlinkClick r:id="" action="ppaction://hlinkshowjump?jump=nextslide"/>
          </p:cNvPr>
          <p:cNvSpPr/>
          <p:nvPr/>
        </p:nvSpPr>
        <p:spPr>
          <a:xfrm>
            <a:off x="6611760" y="2200320"/>
            <a:ext cx="389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993080" y="213660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>
            <a:hlinkClick r:id="rId3" action="ppaction://hlinksldjump"/>
          </p:cNvPr>
          <p:cNvSpPr/>
          <p:nvPr/>
        </p:nvSpPr>
        <p:spPr>
          <a:xfrm>
            <a:off x="8008920" y="22017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468360" y="3500280"/>
            <a:ext cx="1201680" cy="1186200"/>
            <a:chOff x="468360" y="3500280"/>
            <a:chExt cx="1201680" cy="1186200"/>
          </a:xfrm>
        </p:grpSpPr>
        <p:sp>
          <p:nvSpPr>
            <p:cNvPr id="2408" name=""/>
            <p:cNvSpPr/>
            <p:nvPr/>
          </p:nvSpPr>
          <p:spPr>
            <a:xfrm>
              <a:off x="1538640" y="3500280"/>
              <a:ext cx="13140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265040" y="3749040"/>
              <a:ext cx="131400" cy="13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003320" y="4007160"/>
              <a:ext cx="13212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33680" y="4275720"/>
              <a:ext cx="13248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68360" y="4554360"/>
              <a:ext cx="1314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3316320" y="3479760"/>
            <a:ext cx="1180800" cy="1198440"/>
            <a:chOff x="3316320" y="3479760"/>
            <a:chExt cx="1180800" cy="1198440"/>
          </a:xfrm>
        </p:grpSpPr>
        <p:sp>
          <p:nvSpPr>
            <p:cNvPr id="2414" name=""/>
            <p:cNvSpPr/>
            <p:nvPr/>
          </p:nvSpPr>
          <p:spPr>
            <a:xfrm>
              <a:off x="4365720" y="3479760"/>
              <a:ext cx="13140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02200" y="3741480"/>
              <a:ext cx="13176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840840" y="399924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565440" y="4267080"/>
              <a:ext cx="1350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316320" y="4546440"/>
              <a:ext cx="1314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193680" y="4815000"/>
            <a:ext cx="2970360" cy="131760"/>
            <a:chOff x="193680" y="4815000"/>
            <a:chExt cx="2970360" cy="131760"/>
          </a:xfrm>
        </p:grpSpPr>
        <p:sp>
          <p:nvSpPr>
            <p:cNvPr id="2420" name=""/>
            <p:cNvSpPr/>
            <p:nvPr/>
          </p:nvSpPr>
          <p:spPr>
            <a:xfrm>
              <a:off x="3031920" y="4815000"/>
              <a:ext cx="13212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93680" y="481500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71040" y="481500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126440" y="481500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13560" y="481500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568600" y="481500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6" name=""/>
          <p:cNvSpPr/>
          <p:nvPr/>
        </p:nvSpPr>
        <p:spPr>
          <a:xfrm>
            <a:off x="279360" y="3675240"/>
            <a:ext cx="939960" cy="1103040"/>
          </a:xfrm>
          <a:custGeom>
            <a:avLst/>
            <a:gdLst/>
            <a:ahLst/>
            <a:rect l="l" t="t" r="r" b="b"/>
            <a:pathLst>
              <a:path w="592" h="695">
                <a:moveTo>
                  <a:pt x="0" y="85"/>
                </a:moveTo>
                <a:lnTo>
                  <a:pt x="585" y="0"/>
                </a:lnTo>
                <a:lnTo>
                  <a:pt x="592" y="695"/>
                </a:lnTo>
                <a:lnTo>
                  <a:pt x="0" y="678"/>
                </a:lnTo>
                <a:lnTo>
                  <a:pt x="0" y="85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416320" y="3695760"/>
            <a:ext cx="498240" cy="1104840"/>
          </a:xfrm>
          <a:custGeom>
            <a:avLst/>
            <a:gdLst/>
            <a:ahLst/>
            <a:rect l="l" t="t" r="r" b="b"/>
            <a:pathLst>
              <a:path w="940" h="2080">
                <a:moveTo>
                  <a:pt x="0" y="0"/>
                </a:moveTo>
                <a:lnTo>
                  <a:pt x="0" y="2080"/>
                </a:lnTo>
                <a:lnTo>
                  <a:pt x="940" y="2080"/>
                </a:lnTo>
                <a:lnTo>
                  <a:pt x="94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1790640" y="3197160"/>
            <a:ext cx="2976480" cy="134640"/>
            <a:chOff x="1790640" y="3197160"/>
            <a:chExt cx="2976480" cy="134640"/>
          </a:xfrm>
        </p:grpSpPr>
        <p:sp>
          <p:nvSpPr>
            <p:cNvPr id="2429" name=""/>
            <p:cNvSpPr/>
            <p:nvPr/>
          </p:nvSpPr>
          <p:spPr>
            <a:xfrm>
              <a:off x="4635360" y="320040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790640" y="3197160"/>
              <a:ext cx="13212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06200" y="3197160"/>
              <a:ext cx="13212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271960" y="319752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717640" y="319752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92120" y="319752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182120" y="3197520"/>
              <a:ext cx="131760" cy="1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271440" y="2208240"/>
            <a:ext cx="4456080" cy="2583000"/>
            <a:chOff x="271440" y="2208240"/>
            <a:chExt cx="4456080" cy="2583000"/>
          </a:xfrm>
        </p:grpSpPr>
        <p:grpSp>
          <p:nvGrpSpPr>
            <p:cNvPr id="2437" name=""/>
            <p:cNvGrpSpPr/>
            <p:nvPr/>
          </p:nvGrpSpPr>
          <p:grpSpPr>
            <a:xfrm>
              <a:off x="1861560" y="2208240"/>
              <a:ext cx="2865960" cy="966960"/>
              <a:chOff x="1861560" y="2208240"/>
              <a:chExt cx="2865960" cy="966960"/>
            </a:xfrm>
          </p:grpSpPr>
          <p:sp>
            <p:nvSpPr>
              <p:cNvPr id="2438" name=""/>
              <p:cNvSpPr/>
              <p:nvPr/>
            </p:nvSpPr>
            <p:spPr>
              <a:xfrm>
                <a:off x="1890720" y="2208240"/>
                <a:ext cx="28368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82800" y="2490840"/>
                <a:ext cx="28368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872360" y="2955240"/>
                <a:ext cx="28504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883880" y="2723040"/>
                <a:ext cx="2838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861560" y="3175200"/>
                <a:ext cx="28368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3" name=""/>
            <p:cNvGrpSpPr/>
            <p:nvPr/>
          </p:nvGrpSpPr>
          <p:grpSpPr>
            <a:xfrm>
              <a:off x="271440" y="3808800"/>
              <a:ext cx="2851920" cy="982440"/>
              <a:chOff x="271440" y="3808800"/>
              <a:chExt cx="2851920" cy="982440"/>
            </a:xfrm>
          </p:grpSpPr>
          <p:sp>
            <p:nvSpPr>
              <p:cNvPr id="2444" name=""/>
              <p:cNvSpPr/>
              <p:nvPr/>
            </p:nvSpPr>
            <p:spPr>
              <a:xfrm>
                <a:off x="2192040" y="4791240"/>
                <a:ext cx="923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86560" y="3808800"/>
                <a:ext cx="28368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79000" y="4091400"/>
                <a:ext cx="28368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187720" y="4556160"/>
                <a:ext cx="931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71440" y="4323960"/>
                <a:ext cx="9342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187720" y="4323960"/>
                <a:ext cx="931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79000" y="4556160"/>
                <a:ext cx="9342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79000" y="4785480"/>
                <a:ext cx="923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2" name=""/>
          <p:cNvGrpSpPr/>
          <p:nvPr/>
        </p:nvGrpSpPr>
        <p:grpSpPr>
          <a:xfrm>
            <a:off x="272520" y="1976040"/>
            <a:ext cx="4450320" cy="1825560"/>
            <a:chOff x="272520" y="1976040"/>
            <a:chExt cx="4450320" cy="1825560"/>
          </a:xfrm>
        </p:grpSpPr>
        <p:grpSp>
          <p:nvGrpSpPr>
            <p:cNvPr id="2453" name=""/>
            <p:cNvGrpSpPr/>
            <p:nvPr/>
          </p:nvGrpSpPr>
          <p:grpSpPr>
            <a:xfrm>
              <a:off x="272520" y="3313080"/>
              <a:ext cx="3105000" cy="488520"/>
              <a:chOff x="272520" y="3313080"/>
              <a:chExt cx="3105000" cy="488520"/>
            </a:xfrm>
          </p:grpSpPr>
          <p:sp>
            <p:nvSpPr>
              <p:cNvPr id="2454" name=""/>
              <p:cNvSpPr/>
              <p:nvPr/>
            </p:nvSpPr>
            <p:spPr>
              <a:xfrm flipH="1" flipV="1">
                <a:off x="1958760" y="3315600"/>
                <a:ext cx="241200" cy="34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H="1">
                <a:off x="1190520" y="3315960"/>
                <a:ext cx="768240" cy="34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H="1" flipV="1">
                <a:off x="2891880" y="3446640"/>
                <a:ext cx="218160" cy="354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2655000" y="3532320"/>
                <a:ext cx="722520" cy="201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 flipV="1">
                <a:off x="2435400" y="3395520"/>
                <a:ext cx="219600" cy="338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2181960" y="3457440"/>
                <a:ext cx="748080" cy="199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H="1">
                <a:off x="1729440" y="3395880"/>
                <a:ext cx="705240" cy="18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1459080" y="3380760"/>
                <a:ext cx="270360" cy="19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 flipV="1">
                <a:off x="1013040" y="3457080"/>
                <a:ext cx="186120" cy="204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>
                <a:off x="744120" y="3395880"/>
                <a:ext cx="714600" cy="338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flipV="1">
                <a:off x="540000" y="3532680"/>
                <a:ext cx="207000" cy="192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272520" y="3457440"/>
                <a:ext cx="740520" cy="344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105720" y="353268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1710720" y="331308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2188440" y="338940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277920" y="352764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55640" y="345600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1204560" y="338940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535680" y="3318120"/>
                <a:ext cx="1428120" cy="21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77920" y="3585240"/>
                <a:ext cx="1428120" cy="214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706040" y="3585600"/>
                <a:ext cx="1389960" cy="214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968840" y="3318120"/>
                <a:ext cx="1389960" cy="21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2642400" y="347040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7" name=""/>
            <p:cNvGrpSpPr/>
            <p:nvPr/>
          </p:nvGrpSpPr>
          <p:grpSpPr>
            <a:xfrm>
              <a:off x="1617840" y="1976040"/>
              <a:ext cx="3105000" cy="488520"/>
              <a:chOff x="1617840" y="1976040"/>
              <a:chExt cx="3105000" cy="488520"/>
            </a:xfrm>
          </p:grpSpPr>
          <p:sp>
            <p:nvSpPr>
              <p:cNvPr id="2478" name=""/>
              <p:cNvSpPr/>
              <p:nvPr/>
            </p:nvSpPr>
            <p:spPr>
              <a:xfrm flipH="1" flipV="1">
                <a:off x="3304080" y="1978560"/>
                <a:ext cx="241200" cy="34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2535840" y="1978920"/>
                <a:ext cx="768240" cy="34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flipV="1">
                <a:off x="4237200" y="2109600"/>
                <a:ext cx="218160" cy="354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4000320" y="2195280"/>
                <a:ext cx="722520" cy="201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flipV="1">
                <a:off x="3780720" y="2058480"/>
                <a:ext cx="219600" cy="338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3527280" y="2120400"/>
                <a:ext cx="748080" cy="199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3074760" y="2058840"/>
                <a:ext cx="705240" cy="18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 flipV="1">
                <a:off x="2804400" y="2043720"/>
                <a:ext cx="270360" cy="19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 flipV="1">
                <a:off x="2358360" y="2120040"/>
                <a:ext cx="186120" cy="204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2089440" y="2058840"/>
                <a:ext cx="714600" cy="338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 flipV="1">
                <a:off x="1885320" y="2195640"/>
                <a:ext cx="207000" cy="192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1617840" y="2120400"/>
                <a:ext cx="740520" cy="344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4451040" y="219564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3056040" y="197604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3533760" y="205236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1623240" y="219060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2100960" y="211896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2549880" y="205236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1881000" y="1981080"/>
                <a:ext cx="1428120" cy="21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1623240" y="2248200"/>
                <a:ext cx="1428120" cy="214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051360" y="2248560"/>
                <a:ext cx="1389960" cy="214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314160" y="1981080"/>
                <a:ext cx="1389960" cy="21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3987720" y="2133360"/>
                <a:ext cx="262440" cy="262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1" name=""/>
          <p:cNvGrpSpPr/>
          <p:nvPr/>
        </p:nvGrpSpPr>
        <p:grpSpPr>
          <a:xfrm>
            <a:off x="270000" y="2190600"/>
            <a:ext cx="4446360" cy="2603160"/>
            <a:chOff x="270000" y="2190600"/>
            <a:chExt cx="4446360" cy="2603160"/>
          </a:xfrm>
        </p:grpSpPr>
        <p:grpSp>
          <p:nvGrpSpPr>
            <p:cNvPr id="2502" name=""/>
            <p:cNvGrpSpPr/>
            <p:nvPr/>
          </p:nvGrpSpPr>
          <p:grpSpPr>
            <a:xfrm>
              <a:off x="3106800" y="3528360"/>
              <a:ext cx="272520" cy="1255680"/>
              <a:chOff x="3106800" y="3528360"/>
              <a:chExt cx="272520" cy="1255680"/>
            </a:xfrm>
          </p:grpSpPr>
          <p:sp>
            <p:nvSpPr>
              <p:cNvPr id="2503" name=""/>
              <p:cNvSpPr/>
              <p:nvPr/>
            </p:nvSpPr>
            <p:spPr>
              <a:xfrm flipV="1">
                <a:off x="3111480" y="4052520"/>
                <a:ext cx="267480" cy="73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 flipV="1">
                <a:off x="3106800" y="3795480"/>
                <a:ext cx="272160" cy="257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 flipV="1">
                <a:off x="3111120" y="4305600"/>
                <a:ext cx="26748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3111480" y="3532320"/>
                <a:ext cx="267480" cy="775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3106800" y="352836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111840" y="379584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3111840" y="404928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379320" y="353772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1" name=""/>
            <p:cNvGrpSpPr/>
            <p:nvPr/>
          </p:nvGrpSpPr>
          <p:grpSpPr>
            <a:xfrm>
              <a:off x="270000" y="3538080"/>
              <a:ext cx="272520" cy="1255680"/>
              <a:chOff x="270000" y="3538080"/>
              <a:chExt cx="272520" cy="1255680"/>
            </a:xfrm>
          </p:grpSpPr>
          <p:sp>
            <p:nvSpPr>
              <p:cNvPr id="2512" name=""/>
              <p:cNvSpPr/>
              <p:nvPr/>
            </p:nvSpPr>
            <p:spPr>
              <a:xfrm flipV="1">
                <a:off x="274680" y="4062240"/>
                <a:ext cx="267480" cy="73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 flipV="1">
                <a:off x="270000" y="3805200"/>
                <a:ext cx="272160" cy="257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 flipV="1">
                <a:off x="274320" y="4315320"/>
                <a:ext cx="26748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274680" y="3542040"/>
                <a:ext cx="267480" cy="775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270000" y="353808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75040" y="380556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275040" y="405900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42520" y="354744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0" name=""/>
            <p:cNvGrpSpPr/>
            <p:nvPr/>
          </p:nvGrpSpPr>
          <p:grpSpPr>
            <a:xfrm>
              <a:off x="4443840" y="2190600"/>
              <a:ext cx="272520" cy="1255680"/>
              <a:chOff x="4443840" y="2190600"/>
              <a:chExt cx="272520" cy="1255680"/>
            </a:xfrm>
          </p:grpSpPr>
          <p:sp>
            <p:nvSpPr>
              <p:cNvPr id="2521" name=""/>
              <p:cNvSpPr/>
              <p:nvPr/>
            </p:nvSpPr>
            <p:spPr>
              <a:xfrm flipV="1">
                <a:off x="4448520" y="2714760"/>
                <a:ext cx="267480" cy="73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H="1" flipV="1">
                <a:off x="4443840" y="2457720"/>
                <a:ext cx="272160" cy="257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flipV="1">
                <a:off x="4448160" y="2967840"/>
                <a:ext cx="26748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4448520" y="2194560"/>
                <a:ext cx="267480" cy="775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4443840" y="219060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448880" y="245808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4448880" y="271152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716360" y="219996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9" name=""/>
            <p:cNvGrpSpPr/>
            <p:nvPr/>
          </p:nvGrpSpPr>
          <p:grpSpPr>
            <a:xfrm>
              <a:off x="1607040" y="2204640"/>
              <a:ext cx="272520" cy="1255680"/>
              <a:chOff x="1607040" y="2204640"/>
              <a:chExt cx="272520" cy="1255680"/>
            </a:xfrm>
          </p:grpSpPr>
          <p:sp>
            <p:nvSpPr>
              <p:cNvPr id="2530" name=""/>
              <p:cNvSpPr/>
              <p:nvPr/>
            </p:nvSpPr>
            <p:spPr>
              <a:xfrm flipV="1">
                <a:off x="1611720" y="2728800"/>
                <a:ext cx="267480" cy="73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1607040" y="2471760"/>
                <a:ext cx="272160" cy="257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H="1" flipV="1">
                <a:off x="1611360" y="2981880"/>
                <a:ext cx="26748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1611720" y="2208600"/>
                <a:ext cx="267480" cy="775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1607040" y="220464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12080" y="247212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1612080" y="2725560"/>
                <a:ext cx="262800" cy="262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879560" y="2214000"/>
                <a:ext cx="0" cy="98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8" name=""/>
          <p:cNvGrpSpPr/>
          <p:nvPr/>
        </p:nvGrpSpPr>
        <p:grpSpPr>
          <a:xfrm>
            <a:off x="541440" y="2246400"/>
            <a:ext cx="3906720" cy="2269800"/>
            <a:chOff x="541440" y="2246400"/>
            <a:chExt cx="3906720" cy="2269800"/>
          </a:xfrm>
        </p:grpSpPr>
        <p:grpSp>
          <p:nvGrpSpPr>
            <p:cNvPr id="2539" name=""/>
            <p:cNvGrpSpPr/>
            <p:nvPr/>
          </p:nvGrpSpPr>
          <p:grpSpPr>
            <a:xfrm>
              <a:off x="541440" y="3315960"/>
              <a:ext cx="2837160" cy="1200240"/>
              <a:chOff x="541440" y="3315960"/>
              <a:chExt cx="2837160" cy="1200240"/>
            </a:xfrm>
          </p:grpSpPr>
          <p:sp>
            <p:nvSpPr>
              <p:cNvPr id="2540" name=""/>
              <p:cNvSpPr/>
              <p:nvPr/>
            </p:nvSpPr>
            <p:spPr>
              <a:xfrm flipV="1">
                <a:off x="541440" y="353412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541440" y="3315960"/>
                <a:ext cx="141876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378600" y="353412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 flipV="1">
                <a:off x="1960200" y="331596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808560" y="3048840"/>
              <a:ext cx="2837160" cy="1200240"/>
              <a:chOff x="808560" y="3048840"/>
              <a:chExt cx="2837160" cy="1200240"/>
            </a:xfrm>
          </p:grpSpPr>
          <p:sp>
            <p:nvSpPr>
              <p:cNvPr id="2545" name=""/>
              <p:cNvSpPr/>
              <p:nvPr/>
            </p:nvSpPr>
            <p:spPr>
              <a:xfrm flipV="1">
                <a:off x="808560" y="326700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808560" y="304884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3645720" y="326700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 flipV="1">
                <a:off x="2226960" y="304884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9" name=""/>
            <p:cNvGrpSpPr/>
            <p:nvPr/>
          </p:nvGrpSpPr>
          <p:grpSpPr>
            <a:xfrm>
              <a:off x="1076040" y="2781360"/>
              <a:ext cx="2837160" cy="1200240"/>
              <a:chOff x="1076040" y="2781360"/>
              <a:chExt cx="2837160" cy="1200240"/>
            </a:xfrm>
          </p:grpSpPr>
          <p:sp>
            <p:nvSpPr>
              <p:cNvPr id="2550" name=""/>
              <p:cNvSpPr/>
              <p:nvPr/>
            </p:nvSpPr>
            <p:spPr>
              <a:xfrm flipV="1">
                <a:off x="1076040" y="299952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1076040" y="278136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V="1">
                <a:off x="3913200" y="299952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 flipV="1">
                <a:off x="2494440" y="278136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1343520" y="2513520"/>
              <a:ext cx="2837160" cy="1200240"/>
              <a:chOff x="1343520" y="2513520"/>
              <a:chExt cx="2837160" cy="1200240"/>
            </a:xfrm>
          </p:grpSpPr>
          <p:sp>
            <p:nvSpPr>
              <p:cNvPr id="2555" name=""/>
              <p:cNvSpPr/>
              <p:nvPr/>
            </p:nvSpPr>
            <p:spPr>
              <a:xfrm flipV="1">
                <a:off x="1343520" y="273168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1343520" y="251352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4180680" y="273168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 flipV="1">
                <a:off x="2761560" y="2513520"/>
                <a:ext cx="141876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1611000" y="2246400"/>
              <a:ext cx="2837160" cy="1200240"/>
              <a:chOff x="1611000" y="2246400"/>
              <a:chExt cx="2837160" cy="1200240"/>
            </a:xfrm>
          </p:grpSpPr>
          <p:sp>
            <p:nvSpPr>
              <p:cNvPr id="2560" name=""/>
              <p:cNvSpPr/>
              <p:nvPr/>
            </p:nvSpPr>
            <p:spPr>
              <a:xfrm flipV="1">
                <a:off x="1611000" y="246456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1611000" y="2246400"/>
                <a:ext cx="141840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4448160" y="246456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 flipV="1">
                <a:off x="3029040" y="2246400"/>
                <a:ext cx="1418760" cy="21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4" name=""/>
          <p:cNvGrpSpPr/>
          <p:nvPr/>
        </p:nvGrpSpPr>
        <p:grpSpPr>
          <a:xfrm>
            <a:off x="274680" y="1979640"/>
            <a:ext cx="4441680" cy="2805120"/>
            <a:chOff x="274680" y="1979640"/>
            <a:chExt cx="4441680" cy="2805120"/>
          </a:xfrm>
        </p:grpSpPr>
        <p:sp>
          <p:nvSpPr>
            <p:cNvPr id="2565" name=""/>
            <p:cNvSpPr/>
            <p:nvPr/>
          </p:nvSpPr>
          <p:spPr>
            <a:xfrm flipV="1">
              <a:off x="274680" y="3584160"/>
              <a:ext cx="1418400" cy="218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H="1" flipV="1">
              <a:off x="1693080" y="3584160"/>
              <a:ext cx="1418400" cy="218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1879200" y="1979640"/>
              <a:ext cx="1418400" cy="218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8" name=""/>
            <p:cNvGrpSpPr/>
            <p:nvPr/>
          </p:nvGrpSpPr>
          <p:grpSpPr>
            <a:xfrm>
              <a:off x="274680" y="2197800"/>
              <a:ext cx="4441680" cy="2586960"/>
              <a:chOff x="274680" y="2197800"/>
              <a:chExt cx="4441680" cy="2586960"/>
            </a:xfrm>
          </p:grpSpPr>
          <p:sp>
            <p:nvSpPr>
              <p:cNvPr id="2569" name=""/>
              <p:cNvSpPr/>
              <p:nvPr/>
            </p:nvSpPr>
            <p:spPr>
              <a:xfrm flipV="1">
                <a:off x="274680" y="380268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111840" y="380268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1879200" y="219780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4716360" y="2197800"/>
                <a:ext cx="0" cy="982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3" name=""/>
            <p:cNvSpPr/>
            <p:nvPr/>
          </p:nvSpPr>
          <p:spPr>
            <a:xfrm flipH="1" flipV="1">
              <a:off x="3297960" y="1979640"/>
              <a:ext cx="1418400" cy="218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274680" y="2469960"/>
            <a:ext cx="4441680" cy="2319120"/>
            <a:chOff x="274680" y="2469960"/>
            <a:chExt cx="4441680" cy="2319120"/>
          </a:xfrm>
        </p:grpSpPr>
        <p:grpSp>
          <p:nvGrpSpPr>
            <p:cNvPr id="2575" name=""/>
            <p:cNvGrpSpPr/>
            <p:nvPr/>
          </p:nvGrpSpPr>
          <p:grpSpPr>
            <a:xfrm>
              <a:off x="274680" y="2485080"/>
              <a:ext cx="1604520" cy="2303640"/>
              <a:chOff x="274680" y="2485080"/>
              <a:chExt cx="1604520" cy="2303640"/>
            </a:xfrm>
          </p:grpSpPr>
          <p:sp>
            <p:nvSpPr>
              <p:cNvPr id="2576" name=""/>
              <p:cNvSpPr/>
              <p:nvPr/>
            </p:nvSpPr>
            <p:spPr>
              <a:xfrm flipV="1">
                <a:off x="274680" y="248508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274680" y="273096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274680" y="294912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274680" y="318420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0" name=""/>
            <p:cNvGrpSpPr/>
            <p:nvPr/>
          </p:nvGrpSpPr>
          <p:grpSpPr>
            <a:xfrm>
              <a:off x="3111840" y="2469960"/>
              <a:ext cx="1604520" cy="2319120"/>
              <a:chOff x="3111840" y="2469960"/>
              <a:chExt cx="1604520" cy="2319120"/>
            </a:xfrm>
          </p:grpSpPr>
          <p:sp>
            <p:nvSpPr>
              <p:cNvPr id="2581" name=""/>
              <p:cNvSpPr/>
              <p:nvPr/>
            </p:nvSpPr>
            <p:spPr>
              <a:xfrm flipV="1">
                <a:off x="3111840" y="318456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3111840" y="246996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3111840" y="271584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3111840" y="2951280"/>
                <a:ext cx="1604520" cy="160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5" name=""/>
          <p:cNvSpPr/>
          <p:nvPr/>
        </p:nvSpPr>
        <p:spPr>
          <a:xfrm flipV="1">
            <a:off x="1697040" y="1987560"/>
            <a:ext cx="1608120" cy="1604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274680" y="2197080"/>
            <a:ext cx="4438080" cy="1604880"/>
            <a:chOff x="274680" y="2197080"/>
            <a:chExt cx="4438080" cy="1604880"/>
          </a:xfrm>
        </p:grpSpPr>
        <p:sp>
          <p:nvSpPr>
            <p:cNvPr id="2587" name=""/>
            <p:cNvSpPr/>
            <p:nvPr/>
          </p:nvSpPr>
          <p:spPr>
            <a:xfrm flipV="1">
              <a:off x="3103920" y="2197080"/>
              <a:ext cx="1608840" cy="16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274680" y="2197080"/>
              <a:ext cx="1604520" cy="16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485640" y="2014200"/>
            <a:ext cx="4003920" cy="1757520"/>
            <a:chOff x="485640" y="2014200"/>
            <a:chExt cx="4003920" cy="1757520"/>
          </a:xfrm>
        </p:grpSpPr>
        <p:sp>
          <p:nvSpPr>
            <p:cNvPr id="2590" name=""/>
            <p:cNvSpPr/>
            <p:nvPr/>
          </p:nvSpPr>
          <p:spPr>
            <a:xfrm flipV="1">
              <a:off x="1961280" y="2021040"/>
              <a:ext cx="16092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2202480" y="2042280"/>
              <a:ext cx="16092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2657520" y="2120760"/>
              <a:ext cx="16092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2880360" y="2167200"/>
              <a:ext cx="16092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485640" y="2166840"/>
              <a:ext cx="15876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749880" y="2130120"/>
              <a:ext cx="15876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1201680" y="2057760"/>
              <a:ext cx="15876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1445400" y="2014200"/>
              <a:ext cx="159336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969120" y="2095200"/>
              <a:ext cx="1587600" cy="1604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403000" y="2086560"/>
              <a:ext cx="1609200" cy="161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0" name=""/>
          <p:cNvSpPr/>
          <p:nvPr/>
        </p:nvSpPr>
        <p:spPr>
          <a:xfrm>
            <a:off x="1697040" y="3598920"/>
            <a:ext cx="0" cy="49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4260960" y="2122560"/>
            <a:ext cx="0" cy="104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787920" y="2060640"/>
            <a:ext cx="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97240" y="1974960"/>
            <a:ext cx="0" cy="1197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805120" y="2050920"/>
            <a:ext cx="0" cy="112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352600" y="2130480"/>
            <a:ext cx="0" cy="104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660760" y="3732120"/>
            <a:ext cx="0" cy="105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187720" y="3665520"/>
            <a:ext cx="0" cy="11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204920" y="3659040"/>
            <a:ext cx="0" cy="112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752400" y="3740040"/>
            <a:ext cx="0" cy="104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70000" y="4978440"/>
            <a:ext cx="401400" cy="425520"/>
          </a:xfrm>
          <a:prstGeom prst="wedgeEllipseCallout">
            <a:avLst>
              <a:gd name="adj1" fmla="val 157037"/>
              <a:gd name="adj2" fmla="val -131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2157480" y="4929120"/>
            <a:ext cx="401400" cy="426960"/>
          </a:xfrm>
          <a:prstGeom prst="wedgeEllipseCallout">
            <a:avLst>
              <a:gd name="adj1" fmla="val 37273"/>
              <a:gd name="adj2" fmla="val -117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4264200" y="4973760"/>
            <a:ext cx="1207800" cy="1193760"/>
            <a:chOff x="4264200" y="4973760"/>
            <a:chExt cx="1207800" cy="1193760"/>
          </a:xfrm>
        </p:grpSpPr>
        <p:sp>
          <p:nvSpPr>
            <p:cNvPr id="2613" name=""/>
            <p:cNvSpPr/>
            <p:nvPr/>
          </p:nvSpPr>
          <p:spPr>
            <a:xfrm>
              <a:off x="5339520" y="4973760"/>
              <a:ext cx="13248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64840" y="5224320"/>
              <a:ext cx="13248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02040" y="5483880"/>
              <a:ext cx="13248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530960" y="5753880"/>
              <a:ext cx="13284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264200" y="6035040"/>
              <a:ext cx="13248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7129440" y="4952880"/>
            <a:ext cx="1189080" cy="1206360"/>
            <a:chOff x="7129440" y="4952880"/>
            <a:chExt cx="1189080" cy="1206360"/>
          </a:xfrm>
        </p:grpSpPr>
        <p:sp>
          <p:nvSpPr>
            <p:cNvPr id="2619" name=""/>
            <p:cNvSpPr/>
            <p:nvPr/>
          </p:nvSpPr>
          <p:spPr>
            <a:xfrm>
              <a:off x="8186040" y="4952880"/>
              <a:ext cx="13248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920720" y="5216400"/>
              <a:ext cx="132840" cy="13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57560" y="5475960"/>
              <a:ext cx="13248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380000" y="5745600"/>
              <a:ext cx="1360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129440" y="6026760"/>
              <a:ext cx="13212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4" name=""/>
          <p:cNvGrpSpPr/>
          <p:nvPr/>
        </p:nvGrpSpPr>
        <p:grpSpPr>
          <a:xfrm>
            <a:off x="5594400" y="4668840"/>
            <a:ext cx="2995560" cy="136080"/>
            <a:chOff x="5594400" y="4668840"/>
            <a:chExt cx="2995560" cy="136080"/>
          </a:xfrm>
        </p:grpSpPr>
        <p:sp>
          <p:nvSpPr>
            <p:cNvPr id="2625" name=""/>
            <p:cNvSpPr/>
            <p:nvPr/>
          </p:nvSpPr>
          <p:spPr>
            <a:xfrm>
              <a:off x="8457480" y="467208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594400" y="4668840"/>
              <a:ext cx="132840" cy="13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22200" y="4668840"/>
              <a:ext cx="132840" cy="13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078600" y="466920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527160" y="466920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004520" y="466920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001000" y="466920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3986280" y="6296040"/>
            <a:ext cx="2989080" cy="133200"/>
            <a:chOff x="3986280" y="6296040"/>
            <a:chExt cx="2989080" cy="133200"/>
          </a:xfrm>
        </p:grpSpPr>
        <p:sp>
          <p:nvSpPr>
            <p:cNvPr id="2633" name=""/>
            <p:cNvSpPr/>
            <p:nvPr/>
          </p:nvSpPr>
          <p:spPr>
            <a:xfrm>
              <a:off x="6842520" y="6296040"/>
              <a:ext cx="132840" cy="13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86280" y="629604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466880" y="629604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924800" y="629604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918040" y="629604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376320" y="6296040"/>
              <a:ext cx="132480" cy="13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4070520" y="5133960"/>
            <a:ext cx="939600" cy="666720"/>
          </a:xfrm>
          <a:custGeom>
            <a:avLst/>
            <a:gdLst/>
            <a:ahLst/>
            <a:rect l="l" t="t" r="r" b="b"/>
            <a:pathLst>
              <a:path w="1552" h="1102">
                <a:moveTo>
                  <a:pt x="2" y="237"/>
                </a:moveTo>
                <a:lnTo>
                  <a:pt x="1552" y="0"/>
                </a:lnTo>
                <a:lnTo>
                  <a:pt x="1537" y="1102"/>
                </a:lnTo>
                <a:lnTo>
                  <a:pt x="0" y="1095"/>
                </a:lnTo>
                <a:lnTo>
                  <a:pt x="2" y="23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237360" y="5180040"/>
            <a:ext cx="484200" cy="620640"/>
          </a:xfrm>
          <a:custGeom>
            <a:avLst/>
            <a:gdLst/>
            <a:ahLst/>
            <a:rect l="l" t="t" r="r" b="b"/>
            <a:pathLst>
              <a:path w="800" h="1025">
                <a:moveTo>
                  <a:pt x="0" y="0"/>
                </a:moveTo>
                <a:lnTo>
                  <a:pt x="3" y="1018"/>
                </a:lnTo>
                <a:lnTo>
                  <a:pt x="798" y="1025"/>
                </a:lnTo>
                <a:lnTo>
                  <a:pt x="800" y="10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1" name=""/>
          <p:cNvGrpSpPr/>
          <p:nvPr/>
        </p:nvGrpSpPr>
        <p:grpSpPr>
          <a:xfrm>
            <a:off x="4063680" y="3440160"/>
            <a:ext cx="4486680" cy="2835000"/>
            <a:chOff x="4063680" y="3440160"/>
            <a:chExt cx="4486680" cy="2835000"/>
          </a:xfrm>
        </p:grpSpPr>
        <p:grpSp>
          <p:nvGrpSpPr>
            <p:cNvPr id="2642" name=""/>
            <p:cNvGrpSpPr/>
            <p:nvPr/>
          </p:nvGrpSpPr>
          <p:grpSpPr>
            <a:xfrm>
              <a:off x="4065120" y="3673440"/>
              <a:ext cx="4485240" cy="2598480"/>
              <a:chOff x="4065120" y="3673440"/>
              <a:chExt cx="4485240" cy="2598480"/>
            </a:xfrm>
          </p:grpSpPr>
          <p:grpSp>
            <p:nvGrpSpPr>
              <p:cNvPr id="2643" name=""/>
              <p:cNvGrpSpPr/>
              <p:nvPr/>
            </p:nvGrpSpPr>
            <p:grpSpPr>
              <a:xfrm>
                <a:off x="5665680" y="3673440"/>
                <a:ext cx="2884680" cy="972720"/>
                <a:chOff x="5665680" y="3673440"/>
                <a:chExt cx="2884680" cy="9727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5694840" y="3673440"/>
                  <a:ext cx="285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687280" y="3957840"/>
                  <a:ext cx="285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5676840" y="4425120"/>
                  <a:ext cx="2868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5688360" y="4191480"/>
                  <a:ext cx="285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5665680" y="4646160"/>
                  <a:ext cx="285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4065120" y="5283720"/>
                <a:ext cx="2870280" cy="988200"/>
                <a:chOff x="4065120" y="5283720"/>
                <a:chExt cx="2870280" cy="98820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998320" y="6271920"/>
                  <a:ext cx="929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4080240" y="5283720"/>
                  <a:ext cx="2855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4072680" y="5568120"/>
                  <a:ext cx="2855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5993640" y="6035400"/>
                  <a:ext cx="937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4065120" y="5801760"/>
                  <a:ext cx="94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993640" y="5801760"/>
                  <a:ext cx="937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072680" y="6035400"/>
                  <a:ext cx="94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4072680" y="6266160"/>
                  <a:ext cx="929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8" name=""/>
            <p:cNvGrpSpPr/>
            <p:nvPr/>
          </p:nvGrpSpPr>
          <p:grpSpPr>
            <a:xfrm>
              <a:off x="4067280" y="3440160"/>
              <a:ext cx="4477680" cy="1837440"/>
              <a:chOff x="4067280" y="3440160"/>
              <a:chExt cx="4477680" cy="1837440"/>
            </a:xfrm>
          </p:grpSpPr>
          <p:grpSp>
            <p:nvGrpSpPr>
              <p:cNvPr id="2659" name=""/>
              <p:cNvGrpSpPr/>
              <p:nvPr/>
            </p:nvGrpSpPr>
            <p:grpSpPr>
              <a:xfrm>
                <a:off x="4067280" y="4786200"/>
                <a:ext cx="3124080" cy="491400"/>
                <a:chOff x="4067280" y="4786200"/>
                <a:chExt cx="3124080" cy="491400"/>
              </a:xfrm>
            </p:grpSpPr>
            <p:sp>
              <p:nvSpPr>
                <p:cNvPr id="2660" name=""/>
                <p:cNvSpPr/>
                <p:nvPr/>
              </p:nvSpPr>
              <p:spPr>
                <a:xfrm flipH="1" flipV="1">
                  <a:off x="5763960" y="4788360"/>
                  <a:ext cx="242640" cy="343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4990320" y="4788720"/>
                  <a:ext cx="772920" cy="343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H="1" flipV="1">
                  <a:off x="6702480" y="4920120"/>
                  <a:ext cx="219240" cy="357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6464520" y="5006520"/>
                  <a:ext cx="726840" cy="20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flipV="1">
                  <a:off x="6243120" y="4869000"/>
                  <a:ext cx="221040" cy="340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>
                  <a:off x="5987880" y="4931280"/>
                  <a:ext cx="752760" cy="200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H="1">
                  <a:off x="5533200" y="4869360"/>
                  <a:ext cx="709560" cy="183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 flipV="1">
                  <a:off x="5261040" y="4853520"/>
                  <a:ext cx="272160" cy="199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flipV="1">
                  <a:off x="4812480" y="4930920"/>
                  <a:ext cx="187200" cy="205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>
                  <a:off x="4541760" y="4869360"/>
                  <a:ext cx="718920" cy="340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flipV="1">
                  <a:off x="4335840" y="5006520"/>
                  <a:ext cx="208440" cy="193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H="1">
                  <a:off x="4067280" y="4931280"/>
                  <a:ext cx="745200" cy="346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flipV="1">
                  <a:off x="6917760" y="500724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V="1">
                  <a:off x="5514120" y="478620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V="1">
                  <a:off x="5995080" y="486288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V="1">
                  <a:off x="4072320" y="500220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V="1">
                  <a:off x="4552920" y="493020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V="1">
                  <a:off x="5004720" y="486288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V="1">
                  <a:off x="4331880" y="4790880"/>
                  <a:ext cx="1437120" cy="216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V="1">
                  <a:off x="4072320" y="5059800"/>
                  <a:ext cx="1437120" cy="21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5509440" y="5060160"/>
                  <a:ext cx="1398600" cy="21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773680" y="4790880"/>
                  <a:ext cx="1398600" cy="216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V="1">
                  <a:off x="6451560" y="494460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3" name=""/>
              <p:cNvGrpSpPr/>
              <p:nvPr/>
            </p:nvGrpSpPr>
            <p:grpSpPr>
              <a:xfrm>
                <a:off x="5420880" y="3440160"/>
                <a:ext cx="3124080" cy="491400"/>
                <a:chOff x="5420880" y="3440160"/>
                <a:chExt cx="3124080" cy="491400"/>
              </a:xfrm>
            </p:grpSpPr>
            <p:sp>
              <p:nvSpPr>
                <p:cNvPr id="2684" name=""/>
                <p:cNvSpPr/>
                <p:nvPr/>
              </p:nvSpPr>
              <p:spPr>
                <a:xfrm flipH="1" flipV="1">
                  <a:off x="7117560" y="3442320"/>
                  <a:ext cx="242640" cy="343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>
                  <a:off x="6343920" y="3442680"/>
                  <a:ext cx="772920" cy="343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 flipV="1">
                  <a:off x="8056080" y="3574080"/>
                  <a:ext cx="219240" cy="357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V="1">
                  <a:off x="7818120" y="3660480"/>
                  <a:ext cx="726840" cy="20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H="1" flipV="1">
                  <a:off x="7596720" y="3522960"/>
                  <a:ext cx="221040" cy="340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7341480" y="3585240"/>
                  <a:ext cx="752760" cy="200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>
                  <a:off x="6886800" y="3523320"/>
                  <a:ext cx="709560" cy="183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 flipH="1" flipV="1">
                  <a:off x="6614640" y="3507480"/>
                  <a:ext cx="272160" cy="199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 flipV="1">
                  <a:off x="6166080" y="3584880"/>
                  <a:ext cx="187200" cy="205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>
                  <a:off x="5895360" y="3523320"/>
                  <a:ext cx="718920" cy="340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5689440" y="3660480"/>
                  <a:ext cx="208440" cy="193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5420880" y="3585240"/>
                  <a:ext cx="745200" cy="346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flipV="1">
                  <a:off x="8271360" y="366120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V="1">
                  <a:off x="6867720" y="344016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V="1">
                  <a:off x="7348680" y="351684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V="1">
                  <a:off x="5425920" y="365616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V="1">
                  <a:off x="5906520" y="358416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V="1">
                  <a:off x="6358320" y="351684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V="1">
                  <a:off x="5685480" y="3444840"/>
                  <a:ext cx="1437120" cy="216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V="1">
                  <a:off x="5425920" y="3713760"/>
                  <a:ext cx="1437120" cy="21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863040" y="3714120"/>
                  <a:ext cx="1398600" cy="21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7127280" y="3444840"/>
                  <a:ext cx="1398600" cy="216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flipV="1">
                  <a:off x="7805160" y="3598560"/>
                  <a:ext cx="26424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7" name=""/>
            <p:cNvGrpSpPr/>
            <p:nvPr/>
          </p:nvGrpSpPr>
          <p:grpSpPr>
            <a:xfrm>
              <a:off x="4063680" y="3656520"/>
              <a:ext cx="4475520" cy="2618640"/>
              <a:chOff x="4063680" y="3656520"/>
              <a:chExt cx="4475520" cy="2618640"/>
            </a:xfrm>
          </p:grpSpPr>
          <p:grpSp>
            <p:nvGrpSpPr>
              <p:cNvPr id="2708" name=""/>
              <p:cNvGrpSpPr/>
              <p:nvPr/>
            </p:nvGrpSpPr>
            <p:grpSpPr>
              <a:xfrm>
                <a:off x="6918840" y="5002200"/>
                <a:ext cx="274680" cy="1263240"/>
                <a:chOff x="6918840" y="5002200"/>
                <a:chExt cx="274680" cy="1263240"/>
              </a:xfrm>
            </p:grpSpPr>
            <p:sp>
              <p:nvSpPr>
                <p:cNvPr id="2709" name=""/>
                <p:cNvSpPr/>
                <p:nvPr/>
              </p:nvSpPr>
              <p:spPr>
                <a:xfrm flipV="1">
                  <a:off x="6923880" y="5529240"/>
                  <a:ext cx="269280" cy="73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flipV="1">
                  <a:off x="6918840" y="5271120"/>
                  <a:ext cx="273960" cy="25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 flipV="1">
                  <a:off x="6923880" y="5784120"/>
                  <a:ext cx="269280" cy="212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V="1">
                  <a:off x="6923880" y="5006520"/>
                  <a:ext cx="269280" cy="780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V="1">
                  <a:off x="6919200" y="500220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924240" y="527148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V="1">
                  <a:off x="6924240" y="552600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7193520" y="501156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4063680" y="5011920"/>
                <a:ext cx="274680" cy="1263240"/>
                <a:chOff x="4063680" y="5011920"/>
                <a:chExt cx="274680" cy="1263240"/>
              </a:xfrm>
            </p:grpSpPr>
            <p:sp>
              <p:nvSpPr>
                <p:cNvPr id="2718" name=""/>
                <p:cNvSpPr/>
                <p:nvPr/>
              </p:nvSpPr>
              <p:spPr>
                <a:xfrm flipV="1">
                  <a:off x="4068720" y="5538960"/>
                  <a:ext cx="269280" cy="73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flipV="1">
                  <a:off x="4063680" y="5280840"/>
                  <a:ext cx="273960" cy="25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flipV="1">
                  <a:off x="4068720" y="5793840"/>
                  <a:ext cx="269280" cy="212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V="1">
                  <a:off x="4068720" y="5016240"/>
                  <a:ext cx="269280" cy="780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V="1">
                  <a:off x="4064040" y="501192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4069080" y="528120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V="1">
                  <a:off x="4069080" y="553572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4338360" y="502128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8264520" y="3656520"/>
                <a:ext cx="274680" cy="1263240"/>
                <a:chOff x="8264520" y="3656520"/>
                <a:chExt cx="274680" cy="1263240"/>
              </a:xfrm>
            </p:grpSpPr>
            <p:sp>
              <p:nvSpPr>
                <p:cNvPr id="2727" name=""/>
                <p:cNvSpPr/>
                <p:nvPr/>
              </p:nvSpPr>
              <p:spPr>
                <a:xfrm flipV="1">
                  <a:off x="8269560" y="4183560"/>
                  <a:ext cx="269280" cy="73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 flipV="1">
                  <a:off x="8264520" y="3925440"/>
                  <a:ext cx="273960" cy="25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H="1" flipV="1">
                  <a:off x="8269560" y="4438440"/>
                  <a:ext cx="269280" cy="212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V="1">
                  <a:off x="8269560" y="3660840"/>
                  <a:ext cx="269280" cy="780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flipV="1">
                  <a:off x="8264880" y="365652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8269920" y="392580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V="1">
                  <a:off x="8269920" y="418032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8539200" y="366588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5409360" y="3670560"/>
                <a:ext cx="274680" cy="1263240"/>
                <a:chOff x="5409360" y="3670560"/>
                <a:chExt cx="274680" cy="1263240"/>
              </a:xfrm>
            </p:grpSpPr>
            <p:sp>
              <p:nvSpPr>
                <p:cNvPr id="2736" name=""/>
                <p:cNvSpPr/>
                <p:nvPr/>
              </p:nvSpPr>
              <p:spPr>
                <a:xfrm flipV="1">
                  <a:off x="5414400" y="4197600"/>
                  <a:ext cx="269280" cy="73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H="1" flipV="1">
                  <a:off x="5409360" y="3939480"/>
                  <a:ext cx="273960" cy="25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 flipV="1">
                  <a:off x="5414400" y="4452480"/>
                  <a:ext cx="269280" cy="212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V="1">
                  <a:off x="5414400" y="3674880"/>
                  <a:ext cx="269280" cy="780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V="1">
                  <a:off x="5409720" y="367056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5414760" y="393984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V="1">
                  <a:off x="5414760" y="4194360"/>
                  <a:ext cx="26460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684040" y="3679920"/>
                  <a:ext cx="0" cy="99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4" name=""/>
            <p:cNvGrpSpPr/>
            <p:nvPr/>
          </p:nvGrpSpPr>
          <p:grpSpPr>
            <a:xfrm>
              <a:off x="4337640" y="3711600"/>
              <a:ext cx="3931560" cy="2284920"/>
              <a:chOff x="4337640" y="3711600"/>
              <a:chExt cx="3931560" cy="2284920"/>
            </a:xfrm>
          </p:grpSpPr>
          <p:grpSp>
            <p:nvGrpSpPr>
              <p:cNvPr id="2745" name=""/>
              <p:cNvGrpSpPr/>
              <p:nvPr/>
            </p:nvGrpSpPr>
            <p:grpSpPr>
              <a:xfrm>
                <a:off x="4337640" y="4788360"/>
                <a:ext cx="2855160" cy="1208160"/>
                <a:chOff x="4337640" y="4788360"/>
                <a:chExt cx="2855160" cy="1208160"/>
              </a:xfrm>
            </p:grpSpPr>
            <p:sp>
              <p:nvSpPr>
                <p:cNvPr id="2746" name=""/>
                <p:cNvSpPr/>
                <p:nvPr/>
              </p:nvSpPr>
              <p:spPr>
                <a:xfrm flipV="1">
                  <a:off x="4337640" y="500796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flipV="1">
                  <a:off x="4337640" y="4788360"/>
                  <a:ext cx="142776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V="1">
                  <a:off x="7192800" y="500796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H="1" flipV="1">
                  <a:off x="5765040" y="478836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4606560" y="4519080"/>
                <a:ext cx="2855160" cy="1208160"/>
                <a:chOff x="4606560" y="4519080"/>
                <a:chExt cx="2855160" cy="1208160"/>
              </a:xfrm>
            </p:grpSpPr>
            <p:sp>
              <p:nvSpPr>
                <p:cNvPr id="2751" name=""/>
                <p:cNvSpPr/>
                <p:nvPr/>
              </p:nvSpPr>
              <p:spPr>
                <a:xfrm flipV="1">
                  <a:off x="4606560" y="473868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4606560" y="451908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V="1">
                  <a:off x="7461720" y="473868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6033600" y="451908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5" name=""/>
              <p:cNvGrpSpPr/>
              <p:nvPr/>
            </p:nvGrpSpPr>
            <p:grpSpPr>
              <a:xfrm>
                <a:off x="4875840" y="4249800"/>
                <a:ext cx="2855160" cy="1208160"/>
                <a:chOff x="4875840" y="4249800"/>
                <a:chExt cx="2855160" cy="1208160"/>
              </a:xfrm>
            </p:grpSpPr>
            <p:sp>
              <p:nvSpPr>
                <p:cNvPr id="2756" name=""/>
                <p:cNvSpPr/>
                <p:nvPr/>
              </p:nvSpPr>
              <p:spPr>
                <a:xfrm flipV="1">
                  <a:off x="4875840" y="446940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V="1">
                  <a:off x="4875840" y="424980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V="1">
                  <a:off x="7731000" y="446940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6302880" y="424980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0" name=""/>
              <p:cNvGrpSpPr/>
              <p:nvPr/>
            </p:nvGrpSpPr>
            <p:grpSpPr>
              <a:xfrm>
                <a:off x="5144760" y="3980520"/>
                <a:ext cx="2855160" cy="1208160"/>
                <a:chOff x="5144760" y="3980520"/>
                <a:chExt cx="2855160" cy="1208160"/>
              </a:xfrm>
            </p:grpSpPr>
            <p:sp>
              <p:nvSpPr>
                <p:cNvPr id="2761" name=""/>
                <p:cNvSpPr/>
                <p:nvPr/>
              </p:nvSpPr>
              <p:spPr>
                <a:xfrm flipV="1">
                  <a:off x="5144760" y="420012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V="1">
                  <a:off x="5144760" y="398052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V="1">
                  <a:off x="7999920" y="420012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 flipV="1">
                  <a:off x="6572160" y="3980520"/>
                  <a:ext cx="142776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5414040" y="3711600"/>
                <a:ext cx="2855160" cy="1208160"/>
                <a:chOff x="5414040" y="3711600"/>
                <a:chExt cx="2855160" cy="1208160"/>
              </a:xfrm>
            </p:grpSpPr>
            <p:sp>
              <p:nvSpPr>
                <p:cNvPr id="2766" name=""/>
                <p:cNvSpPr/>
                <p:nvPr/>
              </p:nvSpPr>
              <p:spPr>
                <a:xfrm flipV="1">
                  <a:off x="5414040" y="393120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V="1">
                  <a:off x="5414040" y="3711600"/>
                  <a:ext cx="142740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V="1">
                  <a:off x="8269200" y="393120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flipV="1">
                  <a:off x="6841440" y="3711600"/>
                  <a:ext cx="1427760" cy="219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0" name=""/>
            <p:cNvGrpSpPr/>
            <p:nvPr/>
          </p:nvGrpSpPr>
          <p:grpSpPr>
            <a:xfrm>
              <a:off x="4068720" y="3442680"/>
              <a:ext cx="4469760" cy="2823120"/>
              <a:chOff x="4068720" y="3442680"/>
              <a:chExt cx="4469760" cy="2823120"/>
            </a:xfrm>
          </p:grpSpPr>
          <p:sp>
            <p:nvSpPr>
              <p:cNvPr id="2771" name=""/>
              <p:cNvSpPr/>
              <p:nvPr/>
            </p:nvSpPr>
            <p:spPr>
              <a:xfrm flipV="1">
                <a:off x="4068720" y="5057640"/>
                <a:ext cx="1427400" cy="219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5495760" y="5057640"/>
                <a:ext cx="1427400" cy="219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V="1">
                <a:off x="5683320" y="3442680"/>
                <a:ext cx="1427400" cy="219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4" name=""/>
              <p:cNvGrpSpPr/>
              <p:nvPr/>
            </p:nvGrpSpPr>
            <p:grpSpPr>
              <a:xfrm>
                <a:off x="4068720" y="3662280"/>
                <a:ext cx="4469760" cy="2603520"/>
                <a:chOff x="4068720" y="3662280"/>
                <a:chExt cx="4469760" cy="2603520"/>
              </a:xfrm>
            </p:grpSpPr>
            <p:sp>
              <p:nvSpPr>
                <p:cNvPr id="2775" name=""/>
                <p:cNvSpPr/>
                <p:nvPr/>
              </p:nvSpPr>
              <p:spPr>
                <a:xfrm flipV="1">
                  <a:off x="4068720" y="527724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V="1">
                  <a:off x="6923880" y="527724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V="1">
                  <a:off x="5683320" y="366228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V="1">
                  <a:off x="8538480" y="3662280"/>
                  <a:ext cx="0" cy="988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9" name=""/>
              <p:cNvSpPr/>
              <p:nvPr/>
            </p:nvSpPr>
            <p:spPr>
              <a:xfrm flipH="1" flipV="1">
                <a:off x="7110720" y="3442680"/>
                <a:ext cx="1427400" cy="219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4068720" y="3936240"/>
              <a:ext cx="4469760" cy="2334240"/>
              <a:chOff x="4068720" y="3936240"/>
              <a:chExt cx="4469760" cy="2334240"/>
            </a:xfrm>
          </p:grpSpPr>
          <p:grpSp>
            <p:nvGrpSpPr>
              <p:cNvPr id="2781" name=""/>
              <p:cNvGrpSpPr/>
              <p:nvPr/>
            </p:nvGrpSpPr>
            <p:grpSpPr>
              <a:xfrm>
                <a:off x="4068720" y="3951360"/>
                <a:ext cx="1614600" cy="2318760"/>
                <a:chOff x="4068720" y="3951360"/>
                <a:chExt cx="1614600" cy="2318760"/>
              </a:xfrm>
            </p:grpSpPr>
            <p:sp>
              <p:nvSpPr>
                <p:cNvPr id="2782" name=""/>
                <p:cNvSpPr/>
                <p:nvPr/>
              </p:nvSpPr>
              <p:spPr>
                <a:xfrm flipV="1">
                  <a:off x="4068720" y="395136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V="1">
                  <a:off x="4068720" y="419868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V="1">
                  <a:off x="4068720" y="441828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V="1">
                  <a:off x="4068720" y="465516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6" name=""/>
              <p:cNvGrpSpPr/>
              <p:nvPr/>
            </p:nvGrpSpPr>
            <p:grpSpPr>
              <a:xfrm>
                <a:off x="6923880" y="3936240"/>
                <a:ext cx="1614600" cy="2334240"/>
                <a:chOff x="6923880" y="3936240"/>
                <a:chExt cx="1614600" cy="2334240"/>
              </a:xfrm>
            </p:grpSpPr>
            <p:sp>
              <p:nvSpPr>
                <p:cNvPr id="2787" name=""/>
                <p:cNvSpPr/>
                <p:nvPr/>
              </p:nvSpPr>
              <p:spPr>
                <a:xfrm flipV="1">
                  <a:off x="6923880" y="465552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V="1">
                  <a:off x="6923880" y="393624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V="1">
                  <a:off x="6923880" y="418356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V="1">
                  <a:off x="6923880" y="4420800"/>
                  <a:ext cx="1614600" cy="1614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1" name=""/>
            <p:cNvSpPr/>
            <p:nvPr/>
          </p:nvSpPr>
          <p:spPr>
            <a:xfrm flipV="1">
              <a:off x="5500080" y="3451680"/>
              <a:ext cx="1618920" cy="161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2" name=""/>
            <p:cNvGrpSpPr/>
            <p:nvPr/>
          </p:nvGrpSpPr>
          <p:grpSpPr>
            <a:xfrm>
              <a:off x="4068720" y="3662640"/>
              <a:ext cx="4466880" cy="1614960"/>
              <a:chOff x="4068720" y="3662640"/>
              <a:chExt cx="4466880" cy="1614960"/>
            </a:xfrm>
          </p:grpSpPr>
          <p:sp>
            <p:nvSpPr>
              <p:cNvPr id="2793" name=""/>
              <p:cNvSpPr/>
              <p:nvPr/>
            </p:nvSpPr>
            <p:spPr>
              <a:xfrm flipV="1">
                <a:off x="6916320" y="3662640"/>
                <a:ext cx="1619280" cy="1614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4068720" y="3662640"/>
                <a:ext cx="1614600" cy="1614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5" name=""/>
            <p:cNvGrpSpPr/>
            <p:nvPr/>
          </p:nvGrpSpPr>
          <p:grpSpPr>
            <a:xfrm>
              <a:off x="4280760" y="3477240"/>
              <a:ext cx="4028760" cy="1769400"/>
              <a:chOff x="4280760" y="3477240"/>
              <a:chExt cx="4028760" cy="1769400"/>
            </a:xfrm>
          </p:grpSpPr>
          <p:sp>
            <p:nvSpPr>
              <p:cNvPr id="2796" name=""/>
              <p:cNvSpPr/>
              <p:nvPr/>
            </p:nvSpPr>
            <p:spPr>
              <a:xfrm flipV="1">
                <a:off x="5765400" y="3484080"/>
                <a:ext cx="161928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6008040" y="3505680"/>
                <a:ext cx="161928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6465960" y="3584520"/>
                <a:ext cx="161928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V="1">
                <a:off x="6690240" y="3631320"/>
                <a:ext cx="161928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4280760" y="3630960"/>
                <a:ext cx="159732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4546440" y="3593880"/>
                <a:ext cx="159732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5001480" y="3521160"/>
                <a:ext cx="159732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5246640" y="3477240"/>
                <a:ext cx="160344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767480" y="3558600"/>
                <a:ext cx="1597320" cy="1615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6210000" y="3549960"/>
                <a:ext cx="1619280" cy="1626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6" name=""/>
          <p:cNvSpPr/>
          <p:nvPr/>
        </p:nvSpPr>
        <p:spPr>
          <a:xfrm>
            <a:off x="5500800" y="5072040"/>
            <a:ext cx="0" cy="49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8080200" y="3587760"/>
            <a:ext cx="0" cy="1055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604280" y="3525840"/>
            <a:ext cx="0" cy="11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7110360" y="3438360"/>
            <a:ext cx="0" cy="12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615000" y="3514680"/>
            <a:ext cx="0" cy="11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159600" y="3595680"/>
            <a:ext cx="0" cy="10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470640" y="5207040"/>
            <a:ext cx="0" cy="1060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994360" y="5140440"/>
            <a:ext cx="0" cy="112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5005440" y="5133960"/>
            <a:ext cx="0" cy="11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4549680" y="5214960"/>
            <a:ext cx="0" cy="104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5478480" y="5770440"/>
            <a:ext cx="404640" cy="428760"/>
          </a:xfrm>
          <a:prstGeom prst="wedgeEllipseCallout">
            <a:avLst>
              <a:gd name="adj1" fmla="val 154041"/>
              <a:gd name="adj2" fmla="val -80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3470400" y="5213520"/>
            <a:ext cx="404640" cy="430200"/>
          </a:xfrm>
          <a:prstGeom prst="wedgeEllipseCallout">
            <a:avLst>
              <a:gd name="adj1" fmla="val 160027"/>
              <a:gd name="adj2" fmla="val 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1" name=""/>
          <p:cNvGrpSpPr/>
          <p:nvPr/>
        </p:nvGrpSpPr>
        <p:grpSpPr>
          <a:xfrm>
            <a:off x="1471680" y="3822840"/>
            <a:ext cx="1684440" cy="1662120"/>
            <a:chOff x="1471680" y="3822840"/>
            <a:chExt cx="1684440" cy="1662120"/>
          </a:xfrm>
        </p:grpSpPr>
        <p:sp>
          <p:nvSpPr>
            <p:cNvPr id="2822" name=""/>
            <p:cNvSpPr/>
            <p:nvPr/>
          </p:nvSpPr>
          <p:spPr>
            <a:xfrm>
              <a:off x="2971800" y="3822840"/>
              <a:ext cx="184320" cy="1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588400" y="4171320"/>
              <a:ext cx="184320" cy="18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221560" y="4533120"/>
              <a:ext cx="185040" cy="1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843560" y="4909320"/>
              <a:ext cx="186120" cy="1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471680" y="5299920"/>
              <a:ext cx="184320" cy="1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5462640" y="3794040"/>
            <a:ext cx="1655280" cy="1679760"/>
            <a:chOff x="5462640" y="3794040"/>
            <a:chExt cx="1655280" cy="1679760"/>
          </a:xfrm>
        </p:grpSpPr>
        <p:sp>
          <p:nvSpPr>
            <p:cNvPr id="2828" name=""/>
            <p:cNvSpPr/>
            <p:nvPr/>
          </p:nvSpPr>
          <p:spPr>
            <a:xfrm>
              <a:off x="6933600" y="3794040"/>
              <a:ext cx="184320" cy="1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564240" y="4160880"/>
              <a:ext cx="185040" cy="18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198120" y="4521960"/>
              <a:ext cx="184680" cy="1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811840" y="4897440"/>
              <a:ext cx="189360" cy="1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462640" y="5289120"/>
              <a:ext cx="183960" cy="18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3" name=""/>
          <p:cNvGrpSpPr/>
          <p:nvPr/>
        </p:nvGrpSpPr>
        <p:grpSpPr>
          <a:xfrm>
            <a:off x="1087560" y="5664240"/>
            <a:ext cx="4162320" cy="183960"/>
            <a:chOff x="1087560" y="5664240"/>
            <a:chExt cx="4162320" cy="183960"/>
          </a:xfrm>
        </p:grpSpPr>
        <p:sp>
          <p:nvSpPr>
            <p:cNvPr id="2834" name=""/>
            <p:cNvSpPr/>
            <p:nvPr/>
          </p:nvSpPr>
          <p:spPr>
            <a:xfrm>
              <a:off x="5064840" y="5664240"/>
              <a:ext cx="185040" cy="18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087560" y="5664600"/>
              <a:ext cx="184680" cy="18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756800" y="5664600"/>
              <a:ext cx="184320" cy="18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394720" y="5664600"/>
              <a:ext cx="184680" cy="18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777840" y="5664600"/>
              <a:ext cx="184320" cy="18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415760" y="5664600"/>
              <a:ext cx="184320" cy="18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4202280" y="4095720"/>
            <a:ext cx="698400" cy="1549440"/>
          </a:xfrm>
          <a:custGeom>
            <a:avLst/>
            <a:gdLst/>
            <a:ahLst/>
            <a:rect l="l" t="t" r="r" b="b"/>
            <a:pathLst>
              <a:path w="940" h="2080">
                <a:moveTo>
                  <a:pt x="0" y="0"/>
                </a:moveTo>
                <a:lnTo>
                  <a:pt x="0" y="2080"/>
                </a:lnTo>
                <a:lnTo>
                  <a:pt x="940" y="2080"/>
                </a:lnTo>
                <a:lnTo>
                  <a:pt x="94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3325680" y="3397320"/>
            <a:ext cx="4170600" cy="188640"/>
            <a:chOff x="3325680" y="3397320"/>
            <a:chExt cx="4170600" cy="188640"/>
          </a:xfrm>
        </p:grpSpPr>
        <p:sp>
          <p:nvSpPr>
            <p:cNvPr id="2842" name=""/>
            <p:cNvSpPr/>
            <p:nvPr/>
          </p:nvSpPr>
          <p:spPr>
            <a:xfrm>
              <a:off x="7311600" y="3402000"/>
              <a:ext cx="184680" cy="18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25680" y="3397320"/>
              <a:ext cx="185040" cy="18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09480" y="3397320"/>
              <a:ext cx="185040" cy="18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999960" y="3397680"/>
              <a:ext cx="184680" cy="18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624560" y="3397680"/>
              <a:ext cx="184680" cy="18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289120" y="3397680"/>
              <a:ext cx="184320" cy="18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676560" y="3397680"/>
              <a:ext cx="184320" cy="18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1197000" y="2011320"/>
            <a:ext cx="6243480" cy="3619440"/>
            <a:chOff x="1197000" y="2011320"/>
            <a:chExt cx="6243480" cy="3619440"/>
          </a:xfrm>
        </p:grpSpPr>
        <p:grpSp>
          <p:nvGrpSpPr>
            <p:cNvPr id="2850" name=""/>
            <p:cNvGrpSpPr/>
            <p:nvPr/>
          </p:nvGrpSpPr>
          <p:grpSpPr>
            <a:xfrm>
              <a:off x="3425040" y="2011320"/>
              <a:ext cx="4015440" cy="1355040"/>
              <a:chOff x="3425040" y="2011320"/>
              <a:chExt cx="4015440" cy="1355040"/>
            </a:xfrm>
          </p:grpSpPr>
          <p:sp>
            <p:nvSpPr>
              <p:cNvPr id="2851" name=""/>
              <p:cNvSpPr/>
              <p:nvPr/>
            </p:nvSpPr>
            <p:spPr>
              <a:xfrm>
                <a:off x="3465720" y="2011320"/>
                <a:ext cx="39747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454920" y="2407680"/>
                <a:ext cx="39747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440520" y="3058200"/>
                <a:ext cx="39934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456720" y="2732760"/>
                <a:ext cx="39772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425040" y="3366360"/>
                <a:ext cx="39747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6" name=""/>
            <p:cNvGrpSpPr/>
            <p:nvPr/>
          </p:nvGrpSpPr>
          <p:grpSpPr>
            <a:xfrm>
              <a:off x="1197000" y="4254120"/>
              <a:ext cx="3995280" cy="1376640"/>
              <a:chOff x="1197000" y="4254120"/>
              <a:chExt cx="3995280" cy="1376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3888000" y="5630760"/>
                <a:ext cx="1293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1218240" y="4254120"/>
                <a:ext cx="39740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1207440" y="4650480"/>
                <a:ext cx="39740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881520" y="5301000"/>
                <a:ext cx="1304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1197000" y="4975920"/>
                <a:ext cx="1308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881520" y="4975920"/>
                <a:ext cx="1304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207440" y="5301000"/>
                <a:ext cx="1308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1207440" y="5622840"/>
                <a:ext cx="1293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5" name=""/>
          <p:cNvGrpSpPr/>
          <p:nvPr/>
        </p:nvGrpSpPr>
        <p:grpSpPr>
          <a:xfrm>
            <a:off x="1198080" y="1685520"/>
            <a:ext cx="6236280" cy="2559240"/>
            <a:chOff x="1198080" y="1685520"/>
            <a:chExt cx="6236280" cy="2559240"/>
          </a:xfrm>
        </p:grpSpPr>
        <p:grpSp>
          <p:nvGrpSpPr>
            <p:cNvPr id="2866" name=""/>
            <p:cNvGrpSpPr/>
            <p:nvPr/>
          </p:nvGrpSpPr>
          <p:grpSpPr>
            <a:xfrm>
              <a:off x="1198080" y="3560040"/>
              <a:ext cx="4350960" cy="684720"/>
              <a:chOff x="1198080" y="3560040"/>
              <a:chExt cx="4350960" cy="684720"/>
            </a:xfrm>
          </p:grpSpPr>
          <p:sp>
            <p:nvSpPr>
              <p:cNvPr id="2867" name=""/>
              <p:cNvSpPr/>
              <p:nvPr/>
            </p:nvSpPr>
            <p:spPr>
              <a:xfrm flipH="1" flipV="1">
                <a:off x="3560760" y="3564000"/>
                <a:ext cx="338040" cy="478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>
                <a:off x="2484360" y="3564000"/>
                <a:ext cx="1076400" cy="478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4868280" y="3746880"/>
                <a:ext cx="305640" cy="49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4536720" y="3867480"/>
                <a:ext cx="1012320" cy="282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 flipV="1">
                <a:off x="4228200" y="3675960"/>
                <a:ext cx="307800" cy="474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>
                <a:off x="3873600" y="3762360"/>
                <a:ext cx="1048320" cy="279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3240000" y="3676320"/>
                <a:ext cx="988200" cy="25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 flipV="1">
                <a:off x="2860560" y="3654720"/>
                <a:ext cx="379080" cy="277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 flipV="1">
                <a:off x="2235960" y="3762360"/>
                <a:ext cx="261000" cy="286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1859040" y="3676320"/>
                <a:ext cx="1001160" cy="474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 flipV="1">
                <a:off x="1572840" y="3867480"/>
                <a:ext cx="290520" cy="269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1198080" y="3762360"/>
                <a:ext cx="1037880" cy="482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5168160" y="386784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3213360" y="356004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3882960" y="366696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205280" y="386136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874880" y="37609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2503800" y="366696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566720" y="3566520"/>
                <a:ext cx="200124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205280" y="3941640"/>
                <a:ext cx="200124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206880" y="3942000"/>
                <a:ext cx="194760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574800" y="3566880"/>
                <a:ext cx="194760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4518720" y="378108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0" name=""/>
            <p:cNvGrpSpPr/>
            <p:nvPr/>
          </p:nvGrpSpPr>
          <p:grpSpPr>
            <a:xfrm>
              <a:off x="3083400" y="1685520"/>
              <a:ext cx="4350960" cy="684720"/>
              <a:chOff x="3083400" y="1685520"/>
              <a:chExt cx="4350960" cy="684720"/>
            </a:xfrm>
          </p:grpSpPr>
          <p:sp>
            <p:nvSpPr>
              <p:cNvPr id="2891" name=""/>
              <p:cNvSpPr/>
              <p:nvPr/>
            </p:nvSpPr>
            <p:spPr>
              <a:xfrm flipH="1" flipV="1">
                <a:off x="5446080" y="1689480"/>
                <a:ext cx="338040" cy="478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>
                <a:off x="4369680" y="1689480"/>
                <a:ext cx="1076400" cy="478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 flipV="1">
                <a:off x="6753600" y="1872360"/>
                <a:ext cx="305640" cy="49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6422040" y="1992960"/>
                <a:ext cx="1012320" cy="282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 flipV="1">
                <a:off x="6113520" y="1801440"/>
                <a:ext cx="307800" cy="474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>
                <a:off x="5758920" y="1887840"/>
                <a:ext cx="1048320" cy="279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>
                <a:off x="5125320" y="1801800"/>
                <a:ext cx="988200" cy="25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 flipV="1">
                <a:off x="4745880" y="1780200"/>
                <a:ext cx="379080" cy="277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 flipV="1">
                <a:off x="4121280" y="1887840"/>
                <a:ext cx="261000" cy="286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>
                <a:off x="3744360" y="1801800"/>
                <a:ext cx="1001160" cy="474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 flipV="1">
                <a:off x="3458160" y="1992960"/>
                <a:ext cx="290520" cy="269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>
                <a:off x="3083400" y="1887840"/>
                <a:ext cx="1037880" cy="482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7053480" y="19933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5098680" y="16855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5768280" y="179244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090600" y="198684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760200" y="188640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4389120" y="179244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452040" y="1692000"/>
                <a:ext cx="200124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090600" y="2067120"/>
                <a:ext cx="200124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092200" y="2067480"/>
                <a:ext cx="194760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460120" y="1692360"/>
                <a:ext cx="1947600" cy="301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6404040" y="190656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4" name=""/>
          <p:cNvGrpSpPr/>
          <p:nvPr/>
        </p:nvGrpSpPr>
        <p:grpSpPr>
          <a:xfrm>
            <a:off x="1193400" y="1987200"/>
            <a:ext cx="6230880" cy="3648600"/>
            <a:chOff x="1193400" y="1987200"/>
            <a:chExt cx="6230880" cy="3648600"/>
          </a:xfrm>
        </p:grpSpPr>
        <p:grpSp>
          <p:nvGrpSpPr>
            <p:cNvPr id="2915" name=""/>
            <p:cNvGrpSpPr/>
            <p:nvPr/>
          </p:nvGrpSpPr>
          <p:grpSpPr>
            <a:xfrm>
              <a:off x="5168520" y="3861720"/>
              <a:ext cx="381960" cy="1760400"/>
              <a:chOff x="5168520" y="3861720"/>
              <a:chExt cx="381960" cy="1760400"/>
            </a:xfrm>
          </p:grpSpPr>
          <p:sp>
            <p:nvSpPr>
              <p:cNvPr id="2916" name=""/>
              <p:cNvSpPr/>
              <p:nvPr/>
            </p:nvSpPr>
            <p:spPr>
              <a:xfrm flipV="1">
                <a:off x="5175360" y="4596840"/>
                <a:ext cx="374400" cy="1025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5168520" y="4236480"/>
                <a:ext cx="381240" cy="36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 flipV="1">
                <a:off x="5175360" y="4951800"/>
                <a:ext cx="374400" cy="29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5175360" y="3867840"/>
                <a:ext cx="374400" cy="1086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5169240" y="38617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175720" y="423684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5175720" y="459144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550480" y="387540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1193400" y="3875400"/>
              <a:ext cx="381960" cy="1760400"/>
              <a:chOff x="1193400" y="3875400"/>
              <a:chExt cx="381960" cy="1760400"/>
            </a:xfrm>
          </p:grpSpPr>
          <p:sp>
            <p:nvSpPr>
              <p:cNvPr id="2925" name=""/>
              <p:cNvSpPr/>
              <p:nvPr/>
            </p:nvSpPr>
            <p:spPr>
              <a:xfrm flipV="1">
                <a:off x="1200240" y="4610520"/>
                <a:ext cx="374400" cy="1025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 flipV="1">
                <a:off x="1193400" y="4250160"/>
                <a:ext cx="381240" cy="36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1200240" y="4965480"/>
                <a:ext cx="374400" cy="29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1200240" y="3881520"/>
                <a:ext cx="374400" cy="1086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1194120" y="387540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200600" y="425052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200600" y="46051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575360" y="388908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3" name=""/>
            <p:cNvGrpSpPr/>
            <p:nvPr/>
          </p:nvGrpSpPr>
          <p:grpSpPr>
            <a:xfrm>
              <a:off x="7042320" y="1987200"/>
              <a:ext cx="381960" cy="1760400"/>
              <a:chOff x="7042320" y="1987200"/>
              <a:chExt cx="381960" cy="1760400"/>
            </a:xfrm>
          </p:grpSpPr>
          <p:sp>
            <p:nvSpPr>
              <p:cNvPr id="2934" name=""/>
              <p:cNvSpPr/>
              <p:nvPr/>
            </p:nvSpPr>
            <p:spPr>
              <a:xfrm flipV="1">
                <a:off x="7049160" y="2722320"/>
                <a:ext cx="374400" cy="1025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 flipV="1">
                <a:off x="7042320" y="2361960"/>
                <a:ext cx="381240" cy="36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H="1" flipV="1">
                <a:off x="7049160" y="3077280"/>
                <a:ext cx="374400" cy="29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7049160" y="1993320"/>
                <a:ext cx="374400" cy="1086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7043040" y="198720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049520" y="236232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7049520" y="27169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24280" y="200088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2" name=""/>
            <p:cNvGrpSpPr/>
            <p:nvPr/>
          </p:nvGrpSpPr>
          <p:grpSpPr>
            <a:xfrm>
              <a:off x="3067200" y="2007000"/>
              <a:ext cx="381960" cy="1760400"/>
              <a:chOff x="3067200" y="2007000"/>
              <a:chExt cx="381960" cy="1760400"/>
            </a:xfrm>
          </p:grpSpPr>
          <p:sp>
            <p:nvSpPr>
              <p:cNvPr id="2943" name=""/>
              <p:cNvSpPr/>
              <p:nvPr/>
            </p:nvSpPr>
            <p:spPr>
              <a:xfrm flipV="1">
                <a:off x="3074040" y="2742120"/>
                <a:ext cx="374400" cy="1025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 flipV="1">
                <a:off x="3067200" y="2381760"/>
                <a:ext cx="381240" cy="36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 flipV="1">
                <a:off x="3074040" y="3097080"/>
                <a:ext cx="374400" cy="29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3074040" y="2013120"/>
                <a:ext cx="374400" cy="1086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3067920" y="200700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074400" y="238212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3074400" y="2736720"/>
                <a:ext cx="367920" cy="36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449160" y="2020680"/>
                <a:ext cx="0" cy="137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1" name=""/>
          <p:cNvGrpSpPr/>
          <p:nvPr/>
        </p:nvGrpSpPr>
        <p:grpSpPr>
          <a:xfrm>
            <a:off x="1574640" y="2064960"/>
            <a:ext cx="5473800" cy="3180960"/>
            <a:chOff x="1574640" y="2064960"/>
            <a:chExt cx="5473800" cy="3180960"/>
          </a:xfrm>
        </p:grpSpPr>
        <p:grpSp>
          <p:nvGrpSpPr>
            <p:cNvPr id="2952" name=""/>
            <p:cNvGrpSpPr/>
            <p:nvPr/>
          </p:nvGrpSpPr>
          <p:grpSpPr>
            <a:xfrm>
              <a:off x="1574640" y="3564000"/>
              <a:ext cx="3975120" cy="1681920"/>
              <a:chOff x="1574640" y="3564000"/>
              <a:chExt cx="3975120" cy="1681920"/>
            </a:xfrm>
          </p:grpSpPr>
          <p:sp>
            <p:nvSpPr>
              <p:cNvPr id="2953" name=""/>
              <p:cNvSpPr/>
              <p:nvPr/>
            </p:nvSpPr>
            <p:spPr>
              <a:xfrm flipV="1">
                <a:off x="1574640" y="386964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1574640" y="356400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5549760" y="386964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 flipV="1">
                <a:off x="3561840" y="356400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7" name=""/>
            <p:cNvGrpSpPr/>
            <p:nvPr/>
          </p:nvGrpSpPr>
          <p:grpSpPr>
            <a:xfrm>
              <a:off x="1949040" y="3189240"/>
              <a:ext cx="3975120" cy="1681920"/>
              <a:chOff x="1949040" y="3189240"/>
              <a:chExt cx="3975120" cy="1681920"/>
            </a:xfrm>
          </p:grpSpPr>
          <p:sp>
            <p:nvSpPr>
              <p:cNvPr id="2958" name=""/>
              <p:cNvSpPr/>
              <p:nvPr/>
            </p:nvSpPr>
            <p:spPr>
              <a:xfrm flipV="1">
                <a:off x="1949040" y="349488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1949040" y="318924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5924160" y="349488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 flipV="1">
                <a:off x="3936240" y="318924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2" name=""/>
            <p:cNvGrpSpPr/>
            <p:nvPr/>
          </p:nvGrpSpPr>
          <p:grpSpPr>
            <a:xfrm>
              <a:off x="2323800" y="2814480"/>
              <a:ext cx="3975120" cy="1682640"/>
              <a:chOff x="2323800" y="2814480"/>
              <a:chExt cx="3975120" cy="1682640"/>
            </a:xfrm>
          </p:grpSpPr>
          <p:sp>
            <p:nvSpPr>
              <p:cNvPr id="2963" name=""/>
              <p:cNvSpPr/>
              <p:nvPr/>
            </p:nvSpPr>
            <p:spPr>
              <a:xfrm flipV="1">
                <a:off x="2323800" y="3120480"/>
                <a:ext cx="0" cy="1376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2323800" y="281448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6298920" y="3120480"/>
                <a:ext cx="0" cy="1376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 flipV="1">
                <a:off x="4311000" y="281448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2698560" y="2439720"/>
              <a:ext cx="3975120" cy="1681920"/>
              <a:chOff x="2698560" y="2439720"/>
              <a:chExt cx="3975120" cy="1681920"/>
            </a:xfrm>
          </p:grpSpPr>
          <p:sp>
            <p:nvSpPr>
              <p:cNvPr id="2968" name=""/>
              <p:cNvSpPr/>
              <p:nvPr/>
            </p:nvSpPr>
            <p:spPr>
              <a:xfrm flipV="1">
                <a:off x="2698560" y="274536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2698560" y="243972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6673680" y="274536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 flipV="1">
                <a:off x="4685760" y="243972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3073320" y="2064960"/>
              <a:ext cx="3975120" cy="1681920"/>
              <a:chOff x="3073320" y="2064960"/>
              <a:chExt cx="3975120" cy="1681920"/>
            </a:xfrm>
          </p:grpSpPr>
          <p:sp>
            <p:nvSpPr>
              <p:cNvPr id="2973" name=""/>
              <p:cNvSpPr/>
              <p:nvPr/>
            </p:nvSpPr>
            <p:spPr>
              <a:xfrm flipV="1">
                <a:off x="3073320" y="237060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073320" y="206496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7048440" y="237060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 flipV="1">
                <a:off x="5060520" y="2064960"/>
                <a:ext cx="1987560" cy="30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7" name=""/>
          <p:cNvGrpSpPr/>
          <p:nvPr/>
        </p:nvGrpSpPr>
        <p:grpSpPr>
          <a:xfrm>
            <a:off x="1200240" y="1690200"/>
            <a:ext cx="6224400" cy="3930480"/>
            <a:chOff x="1200240" y="1690200"/>
            <a:chExt cx="6224400" cy="3930480"/>
          </a:xfrm>
        </p:grpSpPr>
        <p:sp>
          <p:nvSpPr>
            <p:cNvPr id="2978" name=""/>
            <p:cNvSpPr/>
            <p:nvPr/>
          </p:nvSpPr>
          <p:spPr>
            <a:xfrm flipV="1">
              <a:off x="1200240" y="3938760"/>
              <a:ext cx="1987920" cy="305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 flipV="1">
              <a:off x="3188160" y="3938760"/>
              <a:ext cx="1987920" cy="305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3448800" y="1690200"/>
              <a:ext cx="1987920" cy="305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1" name=""/>
            <p:cNvGrpSpPr/>
            <p:nvPr/>
          </p:nvGrpSpPr>
          <p:grpSpPr>
            <a:xfrm>
              <a:off x="1200240" y="1995840"/>
              <a:ext cx="6224400" cy="3624840"/>
              <a:chOff x="1200240" y="1995840"/>
              <a:chExt cx="6224400" cy="3624840"/>
            </a:xfrm>
          </p:grpSpPr>
          <p:sp>
            <p:nvSpPr>
              <p:cNvPr id="2982" name=""/>
              <p:cNvSpPr/>
              <p:nvPr/>
            </p:nvSpPr>
            <p:spPr>
              <a:xfrm flipV="1">
                <a:off x="1200240" y="424440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5176080" y="424440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3448800" y="199584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7424640" y="1995840"/>
                <a:ext cx="0" cy="1376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6" name=""/>
            <p:cNvSpPr/>
            <p:nvPr/>
          </p:nvSpPr>
          <p:spPr>
            <a:xfrm flipH="1" flipV="1">
              <a:off x="5436720" y="1690200"/>
              <a:ext cx="1987920" cy="305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1200240" y="2378160"/>
            <a:ext cx="6224400" cy="3251160"/>
            <a:chOff x="1200240" y="2378160"/>
            <a:chExt cx="6224400" cy="3251160"/>
          </a:xfrm>
        </p:grpSpPr>
        <p:grpSp>
          <p:nvGrpSpPr>
            <p:cNvPr id="2988" name=""/>
            <p:cNvGrpSpPr/>
            <p:nvPr/>
          </p:nvGrpSpPr>
          <p:grpSpPr>
            <a:xfrm>
              <a:off x="1200240" y="2399400"/>
              <a:ext cx="2248560" cy="3229560"/>
              <a:chOff x="1200240" y="2399400"/>
              <a:chExt cx="2248560" cy="3229560"/>
            </a:xfrm>
          </p:grpSpPr>
          <p:sp>
            <p:nvSpPr>
              <p:cNvPr id="2989" name=""/>
              <p:cNvSpPr/>
              <p:nvPr/>
            </p:nvSpPr>
            <p:spPr>
              <a:xfrm flipV="1">
                <a:off x="1200240" y="239940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200240" y="274392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200240" y="304992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200240" y="337968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5176080" y="2378160"/>
              <a:ext cx="2248560" cy="3251160"/>
              <a:chOff x="5176080" y="2378160"/>
              <a:chExt cx="2248560" cy="3251160"/>
            </a:xfrm>
          </p:grpSpPr>
          <p:sp>
            <p:nvSpPr>
              <p:cNvPr id="2994" name=""/>
              <p:cNvSpPr/>
              <p:nvPr/>
            </p:nvSpPr>
            <p:spPr>
              <a:xfrm flipV="1">
                <a:off x="5176080" y="338004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5176080" y="237816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5176080" y="272268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5176080" y="3052800"/>
                <a:ext cx="2248560" cy="224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8" name=""/>
          <p:cNvSpPr/>
          <p:nvPr/>
        </p:nvSpPr>
        <p:spPr>
          <a:xfrm flipV="1">
            <a:off x="3193920" y="1701360"/>
            <a:ext cx="2252880" cy="2249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9" name=""/>
          <p:cNvGrpSpPr/>
          <p:nvPr/>
        </p:nvGrpSpPr>
        <p:grpSpPr>
          <a:xfrm>
            <a:off x="1200240" y="1995120"/>
            <a:ext cx="6219360" cy="2249640"/>
            <a:chOff x="1200240" y="1995120"/>
            <a:chExt cx="6219360" cy="2249640"/>
          </a:xfrm>
        </p:grpSpPr>
        <p:sp>
          <p:nvSpPr>
            <p:cNvPr id="3000" name=""/>
            <p:cNvSpPr/>
            <p:nvPr/>
          </p:nvSpPr>
          <p:spPr>
            <a:xfrm flipV="1">
              <a:off x="5164920" y="1995120"/>
              <a:ext cx="2254680" cy="224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1200240" y="1995120"/>
              <a:ext cx="2248200" cy="224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1496880" y="1739880"/>
            <a:ext cx="5609880" cy="2462400"/>
            <a:chOff x="1496880" y="1739880"/>
            <a:chExt cx="5609880" cy="2462400"/>
          </a:xfrm>
        </p:grpSpPr>
        <p:sp>
          <p:nvSpPr>
            <p:cNvPr id="3003" name=""/>
            <p:cNvSpPr/>
            <p:nvPr/>
          </p:nvSpPr>
          <p:spPr>
            <a:xfrm flipV="1">
              <a:off x="3564360" y="1749240"/>
              <a:ext cx="225468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3902400" y="1779480"/>
              <a:ext cx="225468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4539960" y="1889280"/>
              <a:ext cx="225468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4852080" y="1954440"/>
              <a:ext cx="225468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V="1">
              <a:off x="1496880" y="1954080"/>
              <a:ext cx="222444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V="1">
              <a:off x="1867320" y="1902240"/>
              <a:ext cx="222444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V="1">
              <a:off x="2500200" y="1801080"/>
              <a:ext cx="222444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V="1">
              <a:off x="2841840" y="1739880"/>
              <a:ext cx="223272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V="1">
              <a:off x="2174760" y="1853280"/>
              <a:ext cx="2224440" cy="2247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4183560" y="1841040"/>
              <a:ext cx="2254680" cy="2264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3" name=""/>
          <p:cNvSpPr/>
          <p:nvPr/>
        </p:nvSpPr>
        <p:spPr>
          <a:xfrm>
            <a:off x="3193920" y="3960720"/>
            <a:ext cx="0" cy="68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6786720" y="1890720"/>
            <a:ext cx="0" cy="14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6122880" y="1805040"/>
            <a:ext cx="0" cy="155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435640" y="1684440"/>
            <a:ext cx="0" cy="1677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746600" y="1790640"/>
            <a:ext cx="0" cy="157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113360" y="1901880"/>
            <a:ext cx="0" cy="146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545000" y="4146480"/>
            <a:ext cx="0" cy="1478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881520" y="4054320"/>
            <a:ext cx="0" cy="156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2505240" y="4044960"/>
            <a:ext cx="0" cy="1573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1870200" y="4157640"/>
            <a:ext cx="0" cy="146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3" name="" descr=""/>
          <p:cNvPicPr/>
          <p:nvPr/>
        </p:nvPicPr>
        <p:blipFill>
          <a:blip r:embed="rId1"/>
          <a:stretch/>
        </p:blipFill>
        <p:spPr>
          <a:xfrm>
            <a:off x="6588000" y="631800"/>
            <a:ext cx="847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"/>
          <p:cNvSpPr/>
          <p:nvPr/>
        </p:nvSpPr>
        <p:spPr>
          <a:xfrm>
            <a:off x="173160" y="608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- Action 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Portique de 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flipV="1">
            <a:off x="4094280" y="3825720"/>
            <a:ext cx="365040" cy="333360"/>
          </a:xfrm>
          <a:prstGeom prst="line">
            <a:avLst/>
          </a:prstGeom>
          <a:ln w="5724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9" name=""/>
          <p:cNvGrpSpPr/>
          <p:nvPr/>
        </p:nvGrpSpPr>
        <p:grpSpPr>
          <a:xfrm>
            <a:off x="2219400" y="2406600"/>
            <a:ext cx="4182480" cy="1600200"/>
            <a:chOff x="2219400" y="2406600"/>
            <a:chExt cx="4182480" cy="1600200"/>
          </a:xfrm>
        </p:grpSpPr>
        <p:grpSp>
          <p:nvGrpSpPr>
            <p:cNvPr id="3030" name=""/>
            <p:cNvGrpSpPr/>
            <p:nvPr/>
          </p:nvGrpSpPr>
          <p:grpSpPr>
            <a:xfrm>
              <a:off x="2471040" y="2684160"/>
              <a:ext cx="1097640" cy="1083960"/>
              <a:chOff x="2471040" y="2684160"/>
              <a:chExt cx="1097640" cy="1083960"/>
            </a:xfrm>
          </p:grpSpPr>
          <p:sp>
            <p:nvSpPr>
              <p:cNvPr id="3031" name=""/>
              <p:cNvSpPr/>
              <p:nvPr/>
            </p:nvSpPr>
            <p:spPr>
              <a:xfrm>
                <a:off x="3448440" y="268416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198960" y="2911680"/>
                <a:ext cx="120240" cy="12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2959920" y="314748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2713320" y="3392640"/>
                <a:ext cx="12096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2471040" y="364788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5075280" y="2665080"/>
              <a:ext cx="1080720" cy="1095120"/>
              <a:chOff x="5075280" y="2665080"/>
              <a:chExt cx="1080720" cy="1095120"/>
            </a:xfrm>
          </p:grpSpPr>
          <p:sp>
            <p:nvSpPr>
              <p:cNvPr id="3037" name=""/>
              <p:cNvSpPr/>
              <p:nvPr/>
            </p:nvSpPr>
            <p:spPr>
              <a:xfrm>
                <a:off x="6035760" y="266508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94560" y="2904120"/>
                <a:ext cx="120600" cy="1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555520" y="313992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303160" y="3384720"/>
                <a:ext cx="12348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075280" y="363996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3680280" y="2406600"/>
              <a:ext cx="2721600" cy="123120"/>
              <a:chOff x="3680280" y="2406600"/>
              <a:chExt cx="2721600" cy="123120"/>
            </a:xfrm>
          </p:grpSpPr>
          <p:sp>
            <p:nvSpPr>
              <p:cNvPr id="3043" name=""/>
              <p:cNvSpPr/>
              <p:nvPr/>
            </p:nvSpPr>
            <p:spPr>
              <a:xfrm>
                <a:off x="6281640" y="240948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680280" y="2406600"/>
                <a:ext cx="12060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432040" y="2406600"/>
                <a:ext cx="12060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120200" y="240660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528080" y="240660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961880" y="240660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867280" y="2406600"/>
                <a:ext cx="120240" cy="12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2219400" y="3886200"/>
              <a:ext cx="2716200" cy="120600"/>
              <a:chOff x="2219400" y="3886200"/>
              <a:chExt cx="2716200" cy="120600"/>
            </a:xfrm>
          </p:grpSpPr>
          <p:sp>
            <p:nvSpPr>
              <p:cNvPr id="3051" name=""/>
              <p:cNvSpPr/>
              <p:nvPr/>
            </p:nvSpPr>
            <p:spPr>
              <a:xfrm>
                <a:off x="4815000" y="3886200"/>
                <a:ext cx="12060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219400" y="3886200"/>
                <a:ext cx="12024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56080" y="3886200"/>
                <a:ext cx="12024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072240" y="3886200"/>
                <a:ext cx="12024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974760" y="3886200"/>
                <a:ext cx="12024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391280" y="3886200"/>
                <a:ext cx="120240" cy="12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7" name=""/>
          <p:cNvSpPr/>
          <p:nvPr/>
        </p:nvSpPr>
        <p:spPr>
          <a:xfrm>
            <a:off x="1716120" y="5354640"/>
            <a:ext cx="446040" cy="944640"/>
          </a:xfrm>
          <a:custGeom>
            <a:avLst/>
            <a:gdLst/>
            <a:ahLst/>
            <a:rect l="l" t="t" r="r" b="b"/>
            <a:pathLst>
              <a:path w="940" h="2080">
                <a:moveTo>
                  <a:pt x="0" y="0"/>
                </a:moveTo>
                <a:lnTo>
                  <a:pt x="0" y="2080"/>
                </a:lnTo>
                <a:lnTo>
                  <a:pt x="940" y="2080"/>
                </a:lnTo>
                <a:lnTo>
                  <a:pt x="94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1415880" y="5428800"/>
            <a:ext cx="355680" cy="343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1384200" y="5632200"/>
            <a:ext cx="354240" cy="344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V="1">
            <a:off x="1695600" y="5460480"/>
            <a:ext cx="355320" cy="344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V="1">
            <a:off x="1652760" y="5890680"/>
            <a:ext cx="355320" cy="343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1631880" y="5622480"/>
            <a:ext cx="354240" cy="343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1652760" y="6094080"/>
            <a:ext cx="355320" cy="344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 flipV="1">
            <a:off x="1738440" y="5708160"/>
            <a:ext cx="355320" cy="343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1459080" y="5879880"/>
            <a:ext cx="355320" cy="344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 flipV="1">
            <a:off x="1771560" y="6136920"/>
            <a:ext cx="354240" cy="344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382840" y="4676760"/>
            <a:ext cx="446040" cy="944640"/>
          </a:xfrm>
          <a:custGeom>
            <a:avLst/>
            <a:gdLst/>
            <a:ahLst/>
            <a:rect l="l" t="t" r="r" b="b"/>
            <a:pathLst>
              <a:path w="940" h="2080">
                <a:moveTo>
                  <a:pt x="0" y="0"/>
                </a:moveTo>
                <a:lnTo>
                  <a:pt x="0" y="2080"/>
                </a:lnTo>
                <a:lnTo>
                  <a:pt x="940" y="2080"/>
                </a:lnTo>
                <a:lnTo>
                  <a:pt x="94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595600" y="4722840"/>
            <a:ext cx="0" cy="933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157480" y="5243400"/>
            <a:ext cx="849240" cy="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0" name=""/>
          <p:cNvGrpSpPr/>
          <p:nvPr/>
        </p:nvGrpSpPr>
        <p:grpSpPr>
          <a:xfrm>
            <a:off x="2168640" y="4890600"/>
            <a:ext cx="1004760" cy="354600"/>
            <a:chOff x="2168640" y="4890600"/>
            <a:chExt cx="1004760" cy="354600"/>
          </a:xfrm>
        </p:grpSpPr>
        <p:sp>
          <p:nvSpPr>
            <p:cNvPr id="3071" name=""/>
            <p:cNvSpPr/>
            <p:nvPr/>
          </p:nvSpPr>
          <p:spPr>
            <a:xfrm flipV="1">
              <a:off x="2621160" y="4890600"/>
              <a:ext cx="353880" cy="344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006720" y="5084640"/>
              <a:ext cx="166680" cy="160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2168640" y="5073480"/>
              <a:ext cx="166680" cy="1620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4" name=""/>
          <p:cNvSpPr/>
          <p:nvPr/>
        </p:nvSpPr>
        <p:spPr>
          <a:xfrm>
            <a:off x="3135240" y="4021200"/>
            <a:ext cx="446040" cy="944640"/>
          </a:xfrm>
          <a:custGeom>
            <a:avLst/>
            <a:gdLst/>
            <a:ahLst/>
            <a:rect l="l" t="t" r="r" b="b"/>
            <a:pathLst>
              <a:path w="940" h="2080">
                <a:moveTo>
                  <a:pt x="0" y="0"/>
                </a:moveTo>
                <a:lnTo>
                  <a:pt x="0" y="2080"/>
                </a:lnTo>
                <a:lnTo>
                  <a:pt x="940" y="2080"/>
                </a:lnTo>
                <a:lnTo>
                  <a:pt x="94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2457360" y="3905280"/>
            <a:ext cx="0" cy="444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905200" y="3978360"/>
            <a:ext cx="0" cy="99036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2008080" y="3965400"/>
            <a:ext cx="0" cy="100332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1590840" y="4038480"/>
            <a:ext cx="0" cy="93528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1163520" y="3909960"/>
            <a:ext cx="1293840" cy="19224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 flipH="1" flipV="1">
            <a:off x="2457000" y="3909960"/>
            <a:ext cx="1295640" cy="19224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3740040" y="4114800"/>
            <a:ext cx="0" cy="85392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1160640" y="4106880"/>
            <a:ext cx="0" cy="85392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2903400" y="4967280"/>
            <a:ext cx="8431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1165320" y="4102200"/>
            <a:ext cx="25891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157400" y="4349880"/>
            <a:ext cx="25891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900520" y="4759200"/>
            <a:ext cx="84924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1150920" y="4554360"/>
            <a:ext cx="85248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3336840" y="403380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900520" y="4554360"/>
            <a:ext cx="849240" cy="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1157400" y="4759200"/>
            <a:ext cx="85248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157400" y="4962600"/>
            <a:ext cx="84276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2" name=""/>
          <p:cNvGrpSpPr/>
          <p:nvPr/>
        </p:nvGrpSpPr>
        <p:grpSpPr>
          <a:xfrm>
            <a:off x="2889360" y="4212720"/>
            <a:ext cx="1004760" cy="356040"/>
            <a:chOff x="2889360" y="4212720"/>
            <a:chExt cx="1004760" cy="356040"/>
          </a:xfrm>
        </p:grpSpPr>
        <p:sp>
          <p:nvSpPr>
            <p:cNvPr id="3093" name=""/>
            <p:cNvSpPr/>
            <p:nvPr/>
          </p:nvSpPr>
          <p:spPr>
            <a:xfrm flipV="1">
              <a:off x="3341880" y="4212720"/>
              <a:ext cx="353880" cy="344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3727440" y="4406760"/>
              <a:ext cx="166680" cy="1620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V="1">
              <a:off x="2889360" y="4395600"/>
              <a:ext cx="166680" cy="1616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6" name=""/>
          <p:cNvSpPr/>
          <p:nvPr/>
        </p:nvSpPr>
        <p:spPr>
          <a:xfrm>
            <a:off x="3738600" y="4116240"/>
            <a:ext cx="0" cy="8604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158840" y="4116240"/>
            <a:ext cx="0" cy="8604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4275000" y="2882880"/>
            <a:ext cx="446400" cy="944640"/>
          </a:xfrm>
          <a:custGeom>
            <a:avLst/>
            <a:gdLst/>
            <a:ahLst/>
            <a:rect l="l" t="t" r="r" b="b"/>
            <a:pathLst>
              <a:path w="940" h="2080">
                <a:moveTo>
                  <a:pt x="0" y="0"/>
                </a:moveTo>
                <a:lnTo>
                  <a:pt x="0" y="2080"/>
                </a:lnTo>
                <a:lnTo>
                  <a:pt x="940" y="2080"/>
                </a:lnTo>
                <a:lnTo>
                  <a:pt x="94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3743280" y="1554120"/>
            <a:ext cx="2616120" cy="851040"/>
            <a:chOff x="3743280" y="1554120"/>
            <a:chExt cx="2616120" cy="851040"/>
          </a:xfrm>
        </p:grpSpPr>
        <p:sp>
          <p:nvSpPr>
            <p:cNvPr id="3100" name=""/>
            <p:cNvSpPr/>
            <p:nvPr/>
          </p:nvSpPr>
          <p:spPr>
            <a:xfrm>
              <a:off x="3769920" y="1554120"/>
              <a:ext cx="2589480" cy="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3762720" y="1802880"/>
              <a:ext cx="2589480" cy="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3753360" y="2211840"/>
              <a:ext cx="2602080" cy="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763800" y="2007360"/>
              <a:ext cx="2591280" cy="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743280" y="2405160"/>
              <a:ext cx="2589480" cy="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5" name=""/>
          <p:cNvGrpSpPr/>
          <p:nvPr/>
        </p:nvGrpSpPr>
        <p:grpSpPr>
          <a:xfrm>
            <a:off x="2303280" y="1544760"/>
            <a:ext cx="4060800" cy="2283840"/>
            <a:chOff x="2303280" y="1544760"/>
            <a:chExt cx="4060800" cy="2283840"/>
          </a:xfrm>
        </p:grpSpPr>
        <p:sp>
          <p:nvSpPr>
            <p:cNvPr id="3106" name=""/>
            <p:cNvSpPr/>
            <p:nvPr/>
          </p:nvSpPr>
          <p:spPr>
            <a:xfrm flipV="1">
              <a:off x="4893120" y="3183120"/>
              <a:ext cx="243720" cy="6440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 flipV="1">
              <a:off x="4892760" y="2969280"/>
              <a:ext cx="243720" cy="2134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 flipV="1">
              <a:off x="4892760" y="3414960"/>
              <a:ext cx="243720" cy="17712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4893120" y="2725920"/>
              <a:ext cx="243720" cy="7077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2303640" y="3184560"/>
              <a:ext cx="243720" cy="6440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H="1" flipV="1">
              <a:off x="2303280" y="2970720"/>
              <a:ext cx="243720" cy="2134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H="1" flipV="1">
              <a:off x="2303280" y="3416400"/>
              <a:ext cx="243720" cy="17712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2303640" y="2727360"/>
              <a:ext cx="243720" cy="7077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6120360" y="2001600"/>
              <a:ext cx="243720" cy="6440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 flipV="1">
              <a:off x="6120000" y="1787760"/>
              <a:ext cx="243720" cy="2134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H="1" flipV="1">
              <a:off x="6120000" y="2233440"/>
              <a:ext cx="243720" cy="17712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6120360" y="1544760"/>
              <a:ext cx="243720" cy="7077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3530880" y="2003040"/>
              <a:ext cx="243720" cy="6440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H="1" flipV="1">
              <a:off x="3530520" y="1789200"/>
              <a:ext cx="243720" cy="2134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H="1" flipV="1">
              <a:off x="3530520" y="2234880"/>
              <a:ext cx="243720" cy="17712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3530880" y="1545840"/>
              <a:ext cx="243720" cy="7077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2" name=""/>
          <p:cNvGrpSpPr/>
          <p:nvPr/>
        </p:nvGrpSpPr>
        <p:grpSpPr>
          <a:xfrm>
            <a:off x="2548080" y="1593720"/>
            <a:ext cx="3563640" cy="1998720"/>
            <a:chOff x="2548080" y="1593720"/>
            <a:chExt cx="3563640" cy="1998720"/>
          </a:xfrm>
        </p:grpSpPr>
        <p:grpSp>
          <p:nvGrpSpPr>
            <p:cNvPr id="3123" name=""/>
            <p:cNvGrpSpPr/>
            <p:nvPr/>
          </p:nvGrpSpPr>
          <p:grpSpPr>
            <a:xfrm>
              <a:off x="2548080" y="2535480"/>
              <a:ext cx="2588040" cy="1056960"/>
              <a:chOff x="2548080" y="2535480"/>
              <a:chExt cx="2588040" cy="1056960"/>
            </a:xfrm>
          </p:grpSpPr>
          <p:sp>
            <p:nvSpPr>
              <p:cNvPr id="3124" name=""/>
              <p:cNvSpPr/>
              <p:nvPr/>
            </p:nvSpPr>
            <p:spPr>
              <a:xfrm flipV="1">
                <a:off x="2548080" y="272772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2548080" y="2535480"/>
                <a:ext cx="129420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5136120" y="272772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H="1" flipV="1">
                <a:off x="3842280" y="2535480"/>
                <a:ext cx="129384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2791800" y="2300040"/>
              <a:ext cx="2588040" cy="1056960"/>
              <a:chOff x="2791800" y="2300040"/>
              <a:chExt cx="2588040" cy="1056960"/>
            </a:xfrm>
          </p:grpSpPr>
          <p:sp>
            <p:nvSpPr>
              <p:cNvPr id="3129" name=""/>
              <p:cNvSpPr/>
              <p:nvPr/>
            </p:nvSpPr>
            <p:spPr>
              <a:xfrm flipV="1">
                <a:off x="2791800" y="249228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2791800" y="2300040"/>
                <a:ext cx="129384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5379840" y="249228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 flipV="1">
                <a:off x="4085640" y="2300040"/>
                <a:ext cx="129384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3035880" y="2064240"/>
              <a:ext cx="2588040" cy="1056960"/>
              <a:chOff x="3035880" y="2064240"/>
              <a:chExt cx="2588040" cy="1056960"/>
            </a:xfrm>
          </p:grpSpPr>
          <p:sp>
            <p:nvSpPr>
              <p:cNvPr id="3134" name=""/>
              <p:cNvSpPr/>
              <p:nvPr/>
            </p:nvSpPr>
            <p:spPr>
              <a:xfrm flipV="1">
                <a:off x="3035880" y="225648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V="1">
                <a:off x="3035880" y="2064240"/>
                <a:ext cx="1293840" cy="19188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5623920" y="225648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 flipV="1">
                <a:off x="4329720" y="2064240"/>
                <a:ext cx="1293840" cy="19188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3279960" y="1829160"/>
              <a:ext cx="2588040" cy="1056960"/>
              <a:chOff x="3279960" y="1829160"/>
              <a:chExt cx="2588040" cy="1056960"/>
            </a:xfrm>
          </p:grpSpPr>
          <p:sp>
            <p:nvSpPr>
              <p:cNvPr id="3139" name=""/>
              <p:cNvSpPr/>
              <p:nvPr/>
            </p:nvSpPr>
            <p:spPr>
              <a:xfrm flipV="1">
                <a:off x="3279960" y="202140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3279960" y="1829160"/>
                <a:ext cx="129384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5868000" y="202140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4573440" y="1829160"/>
                <a:ext cx="129420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3523680" y="1593720"/>
              <a:ext cx="2588040" cy="1056960"/>
              <a:chOff x="3523680" y="1593720"/>
              <a:chExt cx="2588040" cy="1056960"/>
            </a:xfrm>
          </p:grpSpPr>
          <p:sp>
            <p:nvSpPr>
              <p:cNvPr id="3144" name=""/>
              <p:cNvSpPr/>
              <p:nvPr/>
            </p:nvSpPr>
            <p:spPr>
              <a:xfrm flipV="1">
                <a:off x="3523680" y="178596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3523680" y="1593720"/>
                <a:ext cx="129384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6111720" y="178596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 flipV="1">
                <a:off x="4817160" y="1593720"/>
                <a:ext cx="1294200" cy="192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8" name=""/>
          <p:cNvGrpSpPr/>
          <p:nvPr/>
        </p:nvGrpSpPr>
        <p:grpSpPr>
          <a:xfrm>
            <a:off x="2303640" y="1357200"/>
            <a:ext cx="4052880" cy="2469960"/>
            <a:chOff x="2303640" y="1357200"/>
            <a:chExt cx="4052880" cy="2469960"/>
          </a:xfrm>
        </p:grpSpPr>
        <p:sp>
          <p:nvSpPr>
            <p:cNvPr id="3149" name=""/>
            <p:cNvSpPr/>
            <p:nvPr/>
          </p:nvSpPr>
          <p:spPr>
            <a:xfrm flipV="1">
              <a:off x="2303640" y="2770200"/>
              <a:ext cx="1294200" cy="192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 flipV="1">
              <a:off x="3597480" y="2770200"/>
              <a:ext cx="1294200" cy="192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3767760" y="1357200"/>
              <a:ext cx="1294200" cy="192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2" name=""/>
            <p:cNvGrpSpPr/>
            <p:nvPr/>
          </p:nvGrpSpPr>
          <p:grpSpPr>
            <a:xfrm>
              <a:off x="2303640" y="1549440"/>
              <a:ext cx="4052880" cy="2277720"/>
              <a:chOff x="2303640" y="1549440"/>
              <a:chExt cx="4052880" cy="2277720"/>
            </a:xfrm>
          </p:grpSpPr>
          <p:sp>
            <p:nvSpPr>
              <p:cNvPr id="3153" name=""/>
              <p:cNvSpPr/>
              <p:nvPr/>
            </p:nvSpPr>
            <p:spPr>
              <a:xfrm flipV="1">
                <a:off x="2303640" y="296244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4892400" y="296244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3767760" y="154944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V="1">
                <a:off x="6356520" y="1549440"/>
                <a:ext cx="0" cy="864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 flipH="1" flipV="1">
              <a:off x="5061960" y="1357200"/>
              <a:ext cx="1294200" cy="1922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2303640" y="1785960"/>
            <a:ext cx="4052880" cy="2041560"/>
            <a:chOff x="2303640" y="1785960"/>
            <a:chExt cx="4052880" cy="2041560"/>
          </a:xfrm>
        </p:grpSpPr>
        <p:grpSp>
          <p:nvGrpSpPr>
            <p:cNvPr id="3159" name=""/>
            <p:cNvGrpSpPr/>
            <p:nvPr/>
          </p:nvGrpSpPr>
          <p:grpSpPr>
            <a:xfrm>
              <a:off x="2303640" y="1799280"/>
              <a:ext cx="1464120" cy="2028240"/>
              <a:chOff x="2303640" y="1799280"/>
              <a:chExt cx="1464120" cy="2028240"/>
            </a:xfrm>
          </p:grpSpPr>
          <p:sp>
            <p:nvSpPr>
              <p:cNvPr id="3160" name=""/>
              <p:cNvSpPr/>
              <p:nvPr/>
            </p:nvSpPr>
            <p:spPr>
              <a:xfrm flipV="1">
                <a:off x="2303640" y="179928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V="1">
                <a:off x="2303640" y="201564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2303640" y="220788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V="1">
                <a:off x="2303640" y="241488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4892400" y="1785960"/>
              <a:ext cx="1464120" cy="2041560"/>
              <a:chOff x="4892400" y="1785960"/>
              <a:chExt cx="1464120" cy="2041560"/>
            </a:xfrm>
          </p:grpSpPr>
          <p:sp>
            <p:nvSpPr>
              <p:cNvPr id="3165" name=""/>
              <p:cNvSpPr/>
              <p:nvPr/>
            </p:nvSpPr>
            <p:spPr>
              <a:xfrm flipV="1">
                <a:off x="4892400" y="241488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4892400" y="178596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4892400" y="200232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4892400" y="2209680"/>
                <a:ext cx="1464120" cy="1412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9" name=""/>
          <p:cNvSpPr/>
          <p:nvPr/>
        </p:nvSpPr>
        <p:spPr>
          <a:xfrm flipV="1">
            <a:off x="6243480" y="1584360"/>
            <a:ext cx="115920" cy="29376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3610080" y="1353600"/>
            <a:ext cx="1466640" cy="14130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1" name=""/>
          <p:cNvGrpSpPr/>
          <p:nvPr/>
        </p:nvGrpSpPr>
        <p:grpSpPr>
          <a:xfrm>
            <a:off x="2303640" y="1550520"/>
            <a:ext cx="4049640" cy="1411560"/>
            <a:chOff x="2303640" y="1550520"/>
            <a:chExt cx="4049640" cy="1411560"/>
          </a:xfrm>
        </p:grpSpPr>
        <p:sp>
          <p:nvSpPr>
            <p:cNvPr id="3172" name=""/>
            <p:cNvSpPr/>
            <p:nvPr/>
          </p:nvSpPr>
          <p:spPr>
            <a:xfrm flipV="1">
              <a:off x="4885200" y="1550520"/>
              <a:ext cx="14680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2303640" y="1550520"/>
              <a:ext cx="146376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2303640" y="1353960"/>
            <a:ext cx="4060800" cy="1608480"/>
            <a:chOff x="2303640" y="1353960"/>
            <a:chExt cx="4060800" cy="1608480"/>
          </a:xfrm>
        </p:grpSpPr>
        <p:grpSp>
          <p:nvGrpSpPr>
            <p:cNvPr id="3175" name=""/>
            <p:cNvGrpSpPr/>
            <p:nvPr/>
          </p:nvGrpSpPr>
          <p:grpSpPr>
            <a:xfrm>
              <a:off x="3530880" y="1353960"/>
              <a:ext cx="2833560" cy="427320"/>
              <a:chOff x="3530880" y="1353960"/>
              <a:chExt cx="2833560" cy="427320"/>
            </a:xfrm>
          </p:grpSpPr>
          <p:sp>
            <p:nvSpPr>
              <p:cNvPr id="3176" name=""/>
              <p:cNvSpPr/>
              <p:nvPr/>
            </p:nvSpPr>
            <p:spPr>
              <a:xfrm flipH="1" flipV="1">
                <a:off x="5920920" y="1468800"/>
                <a:ext cx="199080" cy="31248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5705280" y="1544400"/>
                <a:ext cx="659160" cy="1771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H="1" flipV="1">
                <a:off x="5504400" y="1423800"/>
                <a:ext cx="200520" cy="297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>
                <a:off x="5272920" y="1478160"/>
                <a:ext cx="683280" cy="17568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H="1" flipV="1">
                <a:off x="5069520" y="1353960"/>
                <a:ext cx="219960" cy="300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H="1">
                <a:off x="4860720" y="1424160"/>
                <a:ext cx="643680" cy="1609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H="1" flipV="1">
                <a:off x="4613400" y="1410480"/>
                <a:ext cx="246600" cy="174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H="1">
                <a:off x="4368240" y="1353960"/>
                <a:ext cx="701280" cy="300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 flipV="1">
                <a:off x="4206600" y="1477800"/>
                <a:ext cx="169560" cy="179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H="1">
                <a:off x="3961440" y="1424160"/>
                <a:ext cx="652320" cy="297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H="1" flipV="1">
                <a:off x="3774960" y="1544040"/>
                <a:ext cx="189360" cy="1688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>
                <a:off x="3530880" y="1478160"/>
                <a:ext cx="676080" cy="30276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8" name=""/>
            <p:cNvGrpSpPr/>
            <p:nvPr/>
          </p:nvGrpSpPr>
          <p:grpSpPr>
            <a:xfrm>
              <a:off x="2303640" y="2535120"/>
              <a:ext cx="2833560" cy="427320"/>
              <a:chOff x="2303640" y="2535120"/>
              <a:chExt cx="2833560" cy="427320"/>
            </a:xfrm>
          </p:grpSpPr>
          <p:sp>
            <p:nvSpPr>
              <p:cNvPr id="3189" name=""/>
              <p:cNvSpPr/>
              <p:nvPr/>
            </p:nvSpPr>
            <p:spPr>
              <a:xfrm flipH="1" flipV="1">
                <a:off x="3842280" y="2535120"/>
                <a:ext cx="219960" cy="300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H="1">
                <a:off x="3141000" y="2535120"/>
                <a:ext cx="701280" cy="300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H="1" flipV="1">
                <a:off x="4693680" y="2649960"/>
                <a:ext cx="199080" cy="31248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flipV="1">
                <a:off x="4478040" y="2725560"/>
                <a:ext cx="659160" cy="1771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H="1" flipV="1">
                <a:off x="4277160" y="2604960"/>
                <a:ext cx="200520" cy="297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H="1">
                <a:off x="4045680" y="2659320"/>
                <a:ext cx="683280" cy="17568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H="1">
                <a:off x="3633480" y="2605320"/>
                <a:ext cx="643680" cy="1609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flipH="1" flipV="1">
                <a:off x="3386160" y="2591640"/>
                <a:ext cx="246600" cy="1742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H="1" flipV="1">
                <a:off x="2979360" y="2658960"/>
                <a:ext cx="169560" cy="1796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flipH="1">
                <a:off x="2734200" y="2605320"/>
                <a:ext cx="652320" cy="29772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H="1" flipV="1">
                <a:off x="2547720" y="2725200"/>
                <a:ext cx="189360" cy="16884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H="1">
                <a:off x="2303640" y="2659320"/>
                <a:ext cx="676080" cy="30276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1" name=""/>
          <p:cNvSpPr/>
          <p:nvPr/>
        </p:nvSpPr>
        <p:spPr>
          <a:xfrm flipV="1">
            <a:off x="2674800" y="2527200"/>
            <a:ext cx="115920" cy="2952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3597120" y="2766960"/>
            <a:ext cx="0" cy="444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5942160" y="1486080"/>
            <a:ext cx="0" cy="92376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510160" y="1430280"/>
            <a:ext cx="0" cy="97488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062680" y="1357200"/>
            <a:ext cx="0" cy="105408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4613400" y="1417680"/>
            <a:ext cx="0" cy="98748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4197240" y="1486080"/>
            <a:ext cx="3240" cy="91908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4476600" y="2895480"/>
            <a:ext cx="0" cy="933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044960" y="2840040"/>
            <a:ext cx="0" cy="98892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3149640" y="2825640"/>
            <a:ext cx="0" cy="100332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730600" y="2900520"/>
            <a:ext cx="0" cy="93312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043520" y="3827520"/>
            <a:ext cx="84456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305080" y="2962440"/>
            <a:ext cx="25891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297160" y="3211560"/>
            <a:ext cx="25909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040280" y="3621240"/>
            <a:ext cx="84924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2290680" y="3416400"/>
            <a:ext cx="85248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040280" y="3416400"/>
            <a:ext cx="849240" cy="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2297160" y="3621240"/>
            <a:ext cx="8539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297160" y="3822840"/>
            <a:ext cx="84276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3152880" y="3213000"/>
            <a:ext cx="174600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2495520" y="1388880"/>
            <a:ext cx="3652920" cy="1546200"/>
            <a:chOff x="2495520" y="1388880"/>
            <a:chExt cx="3652920" cy="1546200"/>
          </a:xfrm>
        </p:grpSpPr>
        <p:sp>
          <p:nvSpPr>
            <p:cNvPr id="3222" name=""/>
            <p:cNvSpPr/>
            <p:nvPr/>
          </p:nvSpPr>
          <p:spPr>
            <a:xfrm flipV="1">
              <a:off x="3841560" y="1394640"/>
              <a:ext cx="14680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4061880" y="1413720"/>
              <a:ext cx="14680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V="1">
              <a:off x="4476960" y="1482840"/>
              <a:ext cx="14680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 flipV="1">
              <a:off x="4680360" y="1523520"/>
              <a:ext cx="14680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V="1">
              <a:off x="2495520" y="1523160"/>
              <a:ext cx="14482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V="1">
              <a:off x="2736720" y="1490760"/>
              <a:ext cx="14482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3148920" y="1427400"/>
              <a:ext cx="14482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V="1">
              <a:off x="3371040" y="1388880"/>
              <a:ext cx="14536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2936880" y="1460160"/>
              <a:ext cx="1448280" cy="141156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4244760" y="1452600"/>
              <a:ext cx="1468080" cy="142164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2" name=""/>
          <p:cNvGrpSpPr/>
          <p:nvPr/>
        </p:nvGrpSpPr>
        <p:grpSpPr>
          <a:xfrm>
            <a:off x="2300400" y="1550880"/>
            <a:ext cx="4074840" cy="2278080"/>
            <a:chOff x="2300400" y="1550880"/>
            <a:chExt cx="4074840" cy="2278080"/>
          </a:xfrm>
        </p:grpSpPr>
        <p:sp>
          <p:nvSpPr>
            <p:cNvPr id="3233" name=""/>
            <p:cNvSpPr/>
            <p:nvPr/>
          </p:nvSpPr>
          <p:spPr>
            <a:xfrm>
              <a:off x="5139360" y="275040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880520" y="297576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366960" y="156672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108120" y="179208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550600" y="274212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300400" y="296748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78200" y="155088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519360" y="1792080"/>
              <a:ext cx="0" cy="85320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4897440" y="318492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V="1">
              <a:off x="4888800" y="272592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6133320" y="198540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6116400" y="155088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2308680" y="274212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2325240" y="316872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V="1">
              <a:off x="3544560" y="155880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V="1">
              <a:off x="3535920" y="2017440"/>
              <a:ext cx="241920" cy="233280"/>
            </a:xfrm>
            <a:prstGeom prst="line">
              <a:avLst/>
            </a:prstGeom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4245120" y="2944440"/>
            <a:ext cx="268200" cy="914400"/>
            <a:chOff x="4245120" y="2944440"/>
            <a:chExt cx="268200" cy="914400"/>
          </a:xfrm>
        </p:grpSpPr>
        <p:sp>
          <p:nvSpPr>
            <p:cNvPr id="3250" name=""/>
            <p:cNvSpPr/>
            <p:nvPr/>
          </p:nvSpPr>
          <p:spPr>
            <a:xfrm flipV="1">
              <a:off x="4265640" y="3385800"/>
              <a:ext cx="236520" cy="236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V="1">
              <a:off x="4245120" y="3622320"/>
              <a:ext cx="236520" cy="236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4276800" y="2944440"/>
              <a:ext cx="236520" cy="236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276800" y="3192120"/>
              <a:ext cx="236520" cy="236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4" name=""/>
          <p:cNvSpPr/>
          <p:nvPr/>
        </p:nvSpPr>
        <p:spPr>
          <a:xfrm flipV="1">
            <a:off x="4105440" y="2892600"/>
            <a:ext cx="365040" cy="333360"/>
          </a:xfrm>
          <a:prstGeom prst="line">
            <a:avLst/>
          </a:prstGeom>
          <a:ln w="5724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889520" y="2978280"/>
            <a:ext cx="0" cy="858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309760" y="2978280"/>
            <a:ext cx="0" cy="85860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3782880" y="1569960"/>
            <a:ext cx="0" cy="85896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351480" y="1581120"/>
            <a:ext cx="0" cy="85896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6570720" y="2575080"/>
            <a:ext cx="1738080" cy="3386880"/>
            <a:chOff x="6570720" y="2575080"/>
            <a:chExt cx="1738080" cy="3386880"/>
          </a:xfrm>
        </p:grpSpPr>
        <p:sp>
          <p:nvSpPr>
            <p:cNvPr id="3260" name=""/>
            <p:cNvSpPr/>
            <p:nvPr/>
          </p:nvSpPr>
          <p:spPr>
            <a:xfrm>
              <a:off x="7738920" y="2816280"/>
              <a:ext cx="0" cy="24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1" name=""/>
            <p:cNvGrpSpPr/>
            <p:nvPr/>
          </p:nvGrpSpPr>
          <p:grpSpPr>
            <a:xfrm>
              <a:off x="7040520" y="2827440"/>
              <a:ext cx="720720" cy="2374920"/>
              <a:chOff x="7040520" y="2827440"/>
              <a:chExt cx="720720" cy="2374920"/>
            </a:xfrm>
          </p:grpSpPr>
          <p:sp>
            <p:nvSpPr>
              <p:cNvPr id="3262" name=""/>
              <p:cNvSpPr/>
              <p:nvPr/>
            </p:nvSpPr>
            <p:spPr>
              <a:xfrm>
                <a:off x="7040520" y="5202360"/>
                <a:ext cx="698400" cy="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062840" y="2827440"/>
                <a:ext cx="698400" cy="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7738920" y="2575080"/>
              <a:ext cx="376560" cy="514080"/>
              <a:chOff x="7738920" y="2575080"/>
              <a:chExt cx="376560" cy="514080"/>
            </a:xfrm>
          </p:grpSpPr>
          <p:sp>
            <p:nvSpPr>
              <p:cNvPr id="3265" name=""/>
              <p:cNvSpPr/>
              <p:nvPr/>
            </p:nvSpPr>
            <p:spPr>
              <a:xfrm rot="16200000">
                <a:off x="7673760" y="2761920"/>
                <a:ext cx="261000" cy="13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869960" y="2583000"/>
                <a:ext cx="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869960" y="259956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869960" y="278712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877880" y="2950560"/>
                <a:ext cx="9828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68240" y="2575080"/>
                <a:ext cx="147240" cy="505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1" name=""/>
            <p:cNvGrpSpPr/>
            <p:nvPr/>
          </p:nvGrpSpPr>
          <p:grpSpPr>
            <a:xfrm>
              <a:off x="7738920" y="4967280"/>
              <a:ext cx="268560" cy="504720"/>
              <a:chOff x="7738920" y="4967280"/>
              <a:chExt cx="268560" cy="504720"/>
            </a:xfrm>
          </p:grpSpPr>
          <p:sp>
            <p:nvSpPr>
              <p:cNvPr id="3272" name=""/>
              <p:cNvSpPr/>
              <p:nvPr/>
            </p:nvSpPr>
            <p:spPr>
              <a:xfrm rot="16200000">
                <a:off x="7673760" y="5145480"/>
                <a:ext cx="260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860960" y="4967280"/>
                <a:ext cx="146520" cy="50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4" name=""/>
            <p:cNvSpPr/>
            <p:nvPr/>
          </p:nvSpPr>
          <p:spPr>
            <a:xfrm>
              <a:off x="6570720" y="5624640"/>
              <a:ext cx="1738080" cy="3373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Action du 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5" name=""/>
            <p:cNvGrpSpPr/>
            <p:nvPr/>
          </p:nvGrpSpPr>
          <p:grpSpPr>
            <a:xfrm>
              <a:off x="7340760" y="2995560"/>
              <a:ext cx="399960" cy="1647720"/>
              <a:chOff x="7340760" y="2995560"/>
              <a:chExt cx="399960" cy="1647720"/>
            </a:xfrm>
          </p:grpSpPr>
          <p:sp>
            <p:nvSpPr>
              <p:cNvPr id="3276" name=""/>
              <p:cNvSpPr/>
              <p:nvPr/>
            </p:nvSpPr>
            <p:spPr>
              <a:xfrm>
                <a:off x="7340760" y="349416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340760" y="408456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340760" y="46432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340760" y="299556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0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"/>
          <p:cNvSpPr/>
          <p:nvPr/>
        </p:nvSpPr>
        <p:spPr>
          <a:xfrm>
            <a:off x="6675480" y="4959360"/>
            <a:ext cx="388800" cy="345960"/>
          </a:xfrm>
          <a:custGeom>
            <a:avLst/>
            <a:gdLst>
              <a:gd name="textAreaLeft" fmla="*/ 22320 w 388800"/>
              <a:gd name="textAreaRight" fmla="*/ 366480 w 3888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4272" h="21600">
                <a:moveTo>
                  <a:pt x="0" y="0"/>
                </a:moveTo>
                <a:lnTo>
                  <a:pt x="24272" y="0"/>
                </a:lnTo>
                <a:lnTo>
                  <a:pt x="24272" y="21600"/>
                </a:lnTo>
                <a:lnTo>
                  <a:pt x="0" y="21600"/>
                </a:lnTo>
                <a:close/>
              </a:path>
              <a:path fill="lightenLess" w="24272" h="21600">
                <a:moveTo>
                  <a:pt x="0" y="0"/>
                </a:moveTo>
                <a:lnTo>
                  <a:pt x="24272" y="0"/>
                </a:lnTo>
                <a:lnTo>
                  <a:pt x="22872" y="1400"/>
                </a:lnTo>
                <a:lnTo>
                  <a:pt x="1400" y="1400"/>
                </a:lnTo>
                <a:close/>
              </a:path>
              <a:path fill="darken" w="24272" h="21600">
                <a:moveTo>
                  <a:pt x="24272" y="0"/>
                </a:moveTo>
                <a:lnTo>
                  <a:pt x="24272" y="21600"/>
                </a:lnTo>
                <a:lnTo>
                  <a:pt x="22872" y="20200"/>
                </a:lnTo>
                <a:lnTo>
                  <a:pt x="22872" y="1400"/>
                </a:lnTo>
                <a:close/>
              </a:path>
              <a:path fill="darkenLess" w="24272" h="21600">
                <a:moveTo>
                  <a:pt x="24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2" y="20200"/>
                </a:lnTo>
                <a:close/>
              </a:path>
              <a:path fill="lighten" w="24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3" name=""/>
          <p:cNvGrpSpPr/>
          <p:nvPr/>
        </p:nvGrpSpPr>
        <p:grpSpPr>
          <a:xfrm>
            <a:off x="460440" y="1855800"/>
            <a:ext cx="1738080" cy="3386880"/>
            <a:chOff x="460440" y="1855800"/>
            <a:chExt cx="1738080" cy="3386880"/>
          </a:xfrm>
        </p:grpSpPr>
        <p:sp>
          <p:nvSpPr>
            <p:cNvPr id="3284" name=""/>
            <p:cNvSpPr/>
            <p:nvPr/>
          </p:nvSpPr>
          <p:spPr>
            <a:xfrm>
              <a:off x="1628640" y="2097000"/>
              <a:ext cx="0" cy="24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5" name=""/>
            <p:cNvGrpSpPr/>
            <p:nvPr/>
          </p:nvGrpSpPr>
          <p:grpSpPr>
            <a:xfrm>
              <a:off x="930240" y="2108160"/>
              <a:ext cx="720720" cy="2374920"/>
              <a:chOff x="930240" y="2108160"/>
              <a:chExt cx="720720" cy="2374920"/>
            </a:xfrm>
          </p:grpSpPr>
          <p:sp>
            <p:nvSpPr>
              <p:cNvPr id="3286" name=""/>
              <p:cNvSpPr/>
              <p:nvPr/>
            </p:nvSpPr>
            <p:spPr>
              <a:xfrm>
                <a:off x="930240" y="4483080"/>
                <a:ext cx="698400" cy="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952560" y="2108160"/>
                <a:ext cx="698400" cy="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8" name=""/>
            <p:cNvGrpSpPr/>
            <p:nvPr/>
          </p:nvGrpSpPr>
          <p:grpSpPr>
            <a:xfrm>
              <a:off x="1628640" y="1855800"/>
              <a:ext cx="376560" cy="514080"/>
              <a:chOff x="1628640" y="1855800"/>
              <a:chExt cx="376560" cy="514080"/>
            </a:xfrm>
          </p:grpSpPr>
          <p:sp>
            <p:nvSpPr>
              <p:cNvPr id="3289" name=""/>
              <p:cNvSpPr/>
              <p:nvPr/>
            </p:nvSpPr>
            <p:spPr>
              <a:xfrm rot="16200000">
                <a:off x="1563480" y="2042640"/>
                <a:ext cx="261000" cy="13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759680" y="1863720"/>
                <a:ext cx="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1759680" y="188028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759680" y="206784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767600" y="2231280"/>
                <a:ext cx="9828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857960" y="1855800"/>
                <a:ext cx="147240" cy="505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5" name=""/>
            <p:cNvGrpSpPr/>
            <p:nvPr/>
          </p:nvGrpSpPr>
          <p:grpSpPr>
            <a:xfrm>
              <a:off x="1628640" y="4248000"/>
              <a:ext cx="268560" cy="504720"/>
              <a:chOff x="1628640" y="4248000"/>
              <a:chExt cx="268560" cy="504720"/>
            </a:xfrm>
          </p:grpSpPr>
          <p:sp>
            <p:nvSpPr>
              <p:cNvPr id="3296" name=""/>
              <p:cNvSpPr/>
              <p:nvPr/>
            </p:nvSpPr>
            <p:spPr>
              <a:xfrm rot="16200000">
                <a:off x="1563480" y="4426200"/>
                <a:ext cx="260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1750680" y="4248000"/>
                <a:ext cx="146520" cy="50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8" name=""/>
            <p:cNvSpPr/>
            <p:nvPr/>
          </p:nvSpPr>
          <p:spPr>
            <a:xfrm>
              <a:off x="460440" y="4905360"/>
              <a:ext cx="1738080" cy="3373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Action du 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9" name=""/>
            <p:cNvGrpSpPr/>
            <p:nvPr/>
          </p:nvGrpSpPr>
          <p:grpSpPr>
            <a:xfrm>
              <a:off x="1230480" y="2276280"/>
              <a:ext cx="399960" cy="1647720"/>
              <a:chOff x="1230480" y="2276280"/>
              <a:chExt cx="399960" cy="1647720"/>
            </a:xfrm>
          </p:grpSpPr>
          <p:sp>
            <p:nvSpPr>
              <p:cNvPr id="3300" name=""/>
              <p:cNvSpPr/>
              <p:nvPr/>
            </p:nvSpPr>
            <p:spPr>
              <a:xfrm>
                <a:off x="1230480" y="27748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1230480" y="33652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1230480" y="392400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230480" y="22762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4" name=""/>
          <p:cNvSpPr/>
          <p:nvPr/>
        </p:nvSpPr>
        <p:spPr>
          <a:xfrm>
            <a:off x="4622760" y="1752480"/>
            <a:ext cx="23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Quelle est l’orientation correcte pour ces élément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5" name=""/>
          <p:cNvGrpSpPr/>
          <p:nvPr/>
        </p:nvGrpSpPr>
        <p:grpSpPr>
          <a:xfrm>
            <a:off x="5956200" y="3168720"/>
            <a:ext cx="798120" cy="1261800"/>
            <a:chOff x="5956200" y="3168720"/>
            <a:chExt cx="798120" cy="1261800"/>
          </a:xfrm>
        </p:grpSpPr>
        <p:sp>
          <p:nvSpPr>
            <p:cNvPr id="3306" name=""/>
            <p:cNvSpPr/>
            <p:nvPr/>
          </p:nvSpPr>
          <p:spPr>
            <a:xfrm>
              <a:off x="6037920" y="3494160"/>
              <a:ext cx="453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144120" y="3783960"/>
              <a:ext cx="453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6301080" y="4411440"/>
              <a:ext cx="453240" cy="190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191280" y="4126680"/>
              <a:ext cx="453600" cy="9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956200" y="3168720"/>
              <a:ext cx="453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1" name=""/>
          <p:cNvSpPr/>
          <p:nvPr/>
        </p:nvSpPr>
        <p:spPr>
          <a:xfrm rot="16200000">
            <a:off x="6678720" y="2754360"/>
            <a:ext cx="317520" cy="673200"/>
          </a:xfrm>
          <a:custGeom>
            <a:avLst/>
            <a:gdLst/>
            <a:ahLst/>
            <a:rect l="l" t="t" r="r" b="b"/>
            <a:pathLst>
              <a:path w="1060" h="1960">
                <a:moveTo>
                  <a:pt x="440" y="200"/>
                </a:moveTo>
                <a:lnTo>
                  <a:pt x="3" y="195"/>
                </a:lnTo>
                <a:lnTo>
                  <a:pt x="0" y="0"/>
                </a:lnTo>
                <a:lnTo>
                  <a:pt x="1060" y="0"/>
                </a:lnTo>
                <a:lnTo>
                  <a:pt x="1060" y="200"/>
                </a:lnTo>
                <a:lnTo>
                  <a:pt x="580" y="200"/>
                </a:lnTo>
                <a:lnTo>
                  <a:pt x="580" y="1760"/>
                </a:lnTo>
                <a:lnTo>
                  <a:pt x="1060" y="1760"/>
                </a:lnTo>
                <a:lnTo>
                  <a:pt x="1060" y="1960"/>
                </a:lnTo>
                <a:lnTo>
                  <a:pt x="0" y="1960"/>
                </a:lnTo>
                <a:lnTo>
                  <a:pt x="0" y="1760"/>
                </a:lnTo>
                <a:lnTo>
                  <a:pt x="440" y="1760"/>
                </a:lnTo>
                <a:lnTo>
                  <a:pt x="440" y="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rot="10800000">
            <a:off x="4960800" y="2925720"/>
            <a:ext cx="317520" cy="673200"/>
          </a:xfrm>
          <a:custGeom>
            <a:avLst/>
            <a:gdLst/>
            <a:ahLst/>
            <a:rect l="l" t="t" r="r" b="b"/>
            <a:pathLst>
              <a:path w="1060" h="1960">
                <a:moveTo>
                  <a:pt x="440" y="200"/>
                </a:moveTo>
                <a:lnTo>
                  <a:pt x="3" y="195"/>
                </a:lnTo>
                <a:lnTo>
                  <a:pt x="0" y="0"/>
                </a:lnTo>
                <a:lnTo>
                  <a:pt x="1060" y="0"/>
                </a:lnTo>
                <a:lnTo>
                  <a:pt x="1060" y="200"/>
                </a:lnTo>
                <a:lnTo>
                  <a:pt x="580" y="200"/>
                </a:lnTo>
                <a:lnTo>
                  <a:pt x="580" y="1760"/>
                </a:lnTo>
                <a:lnTo>
                  <a:pt x="1060" y="1760"/>
                </a:lnTo>
                <a:lnTo>
                  <a:pt x="1060" y="1960"/>
                </a:lnTo>
                <a:lnTo>
                  <a:pt x="0" y="1960"/>
                </a:lnTo>
                <a:lnTo>
                  <a:pt x="0" y="1760"/>
                </a:lnTo>
                <a:lnTo>
                  <a:pt x="440" y="1760"/>
                </a:lnTo>
                <a:lnTo>
                  <a:pt x="440" y="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4309920" y="3543480"/>
            <a:ext cx="45252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4365720" y="3833640"/>
            <a:ext cx="45396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flipV="1">
            <a:off x="4432320" y="4460400"/>
            <a:ext cx="453960" cy="190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387680" y="4175280"/>
            <a:ext cx="454320" cy="93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253040" y="3218040"/>
            <a:ext cx="45396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29120" y="4959360"/>
            <a:ext cx="389160" cy="345960"/>
          </a:xfrm>
          <a:custGeom>
            <a:avLst/>
            <a:gdLst>
              <a:gd name="textAreaLeft" fmla="*/ 22320 w 389160"/>
              <a:gd name="textAreaRight" fmla="*/ 366840 w 38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4294" h="21600">
                <a:moveTo>
                  <a:pt x="0" y="0"/>
                </a:moveTo>
                <a:lnTo>
                  <a:pt x="24294" y="0"/>
                </a:lnTo>
                <a:lnTo>
                  <a:pt x="24294" y="21600"/>
                </a:lnTo>
                <a:lnTo>
                  <a:pt x="0" y="21600"/>
                </a:lnTo>
                <a:close/>
              </a:path>
              <a:path fill="lightenLess" w="24294" h="21600">
                <a:moveTo>
                  <a:pt x="0" y="0"/>
                </a:moveTo>
                <a:lnTo>
                  <a:pt x="24294" y="0"/>
                </a:lnTo>
                <a:lnTo>
                  <a:pt x="22894" y="1400"/>
                </a:lnTo>
                <a:lnTo>
                  <a:pt x="1400" y="1400"/>
                </a:lnTo>
                <a:close/>
              </a:path>
              <a:path fill="darken" w="24294" h="21600">
                <a:moveTo>
                  <a:pt x="24294" y="0"/>
                </a:moveTo>
                <a:lnTo>
                  <a:pt x="24294" y="21600"/>
                </a:lnTo>
                <a:lnTo>
                  <a:pt x="22894" y="20200"/>
                </a:lnTo>
                <a:lnTo>
                  <a:pt x="22894" y="1400"/>
                </a:lnTo>
                <a:close/>
              </a:path>
              <a:path fill="darkenLess" w="24294" h="21600">
                <a:moveTo>
                  <a:pt x="24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4" y="20200"/>
                </a:lnTo>
                <a:close/>
              </a:path>
              <a:path fill="lighten" w="24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>
            <a:hlinkClick r:id="rId1" action="ppaction://hlinksldjump"/>
          </p:cNvPr>
          <p:cNvSpPr/>
          <p:nvPr/>
        </p:nvSpPr>
        <p:spPr>
          <a:xfrm>
            <a:off x="4776840" y="502452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>
            <a:hlinkClick r:id="" action="ppaction://hlinkshowjump?jump=nextslide"/>
          </p:cNvPr>
          <p:cNvSpPr/>
          <p:nvPr/>
        </p:nvSpPr>
        <p:spPr>
          <a:xfrm>
            <a:off x="6523200" y="502452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878360" y="54180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173160" y="608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- Action 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5" name=""/>
          <p:cNvGrpSpPr/>
          <p:nvPr/>
        </p:nvGrpSpPr>
        <p:grpSpPr>
          <a:xfrm>
            <a:off x="460440" y="1855800"/>
            <a:ext cx="1738080" cy="3386880"/>
            <a:chOff x="460440" y="1855800"/>
            <a:chExt cx="1738080" cy="3386880"/>
          </a:xfrm>
        </p:grpSpPr>
        <p:sp>
          <p:nvSpPr>
            <p:cNvPr id="3326" name=""/>
            <p:cNvSpPr/>
            <p:nvPr/>
          </p:nvSpPr>
          <p:spPr>
            <a:xfrm>
              <a:off x="1628640" y="2097000"/>
              <a:ext cx="0" cy="24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930240" y="2108160"/>
              <a:ext cx="720720" cy="2374920"/>
              <a:chOff x="930240" y="2108160"/>
              <a:chExt cx="720720" cy="2374920"/>
            </a:xfrm>
          </p:grpSpPr>
          <p:sp>
            <p:nvSpPr>
              <p:cNvPr id="3328" name=""/>
              <p:cNvSpPr/>
              <p:nvPr/>
            </p:nvSpPr>
            <p:spPr>
              <a:xfrm>
                <a:off x="930240" y="4483080"/>
                <a:ext cx="698400" cy="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952560" y="2108160"/>
                <a:ext cx="698400" cy="0"/>
              </a:xfrm>
              <a:prstGeom prst="line">
                <a:avLst/>
              </a:prstGeom>
              <a:ln w="76320">
                <a:solidFill>
                  <a:srgbClr val="cccc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1628640" y="1855800"/>
              <a:ext cx="376560" cy="514080"/>
              <a:chOff x="1628640" y="1855800"/>
              <a:chExt cx="376560" cy="514080"/>
            </a:xfrm>
          </p:grpSpPr>
          <p:sp>
            <p:nvSpPr>
              <p:cNvPr id="3331" name=""/>
              <p:cNvSpPr/>
              <p:nvPr/>
            </p:nvSpPr>
            <p:spPr>
              <a:xfrm rot="16200000">
                <a:off x="1563480" y="2042640"/>
                <a:ext cx="261000" cy="13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1759680" y="1863720"/>
                <a:ext cx="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1759680" y="188028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759680" y="2067840"/>
                <a:ext cx="979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1767600" y="2231280"/>
                <a:ext cx="9828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1857960" y="1855800"/>
                <a:ext cx="147240" cy="505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7" name=""/>
            <p:cNvGrpSpPr/>
            <p:nvPr/>
          </p:nvGrpSpPr>
          <p:grpSpPr>
            <a:xfrm>
              <a:off x="1628640" y="4248000"/>
              <a:ext cx="268560" cy="504720"/>
              <a:chOff x="1628640" y="4248000"/>
              <a:chExt cx="268560" cy="504720"/>
            </a:xfrm>
          </p:grpSpPr>
          <p:sp>
            <p:nvSpPr>
              <p:cNvPr id="3338" name=""/>
              <p:cNvSpPr/>
              <p:nvPr/>
            </p:nvSpPr>
            <p:spPr>
              <a:xfrm rot="16200000">
                <a:off x="1563480" y="4426200"/>
                <a:ext cx="260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1750680" y="4248000"/>
                <a:ext cx="146520" cy="50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0" name=""/>
            <p:cNvSpPr/>
            <p:nvPr/>
          </p:nvSpPr>
          <p:spPr>
            <a:xfrm>
              <a:off x="460440" y="4905360"/>
              <a:ext cx="1738080" cy="3373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Action du 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1" name=""/>
            <p:cNvGrpSpPr/>
            <p:nvPr/>
          </p:nvGrpSpPr>
          <p:grpSpPr>
            <a:xfrm>
              <a:off x="1230480" y="2276280"/>
              <a:ext cx="399960" cy="1647720"/>
              <a:chOff x="1230480" y="2276280"/>
              <a:chExt cx="399960" cy="1647720"/>
            </a:xfrm>
          </p:grpSpPr>
          <p:sp>
            <p:nvSpPr>
              <p:cNvPr id="3342" name=""/>
              <p:cNvSpPr/>
              <p:nvPr/>
            </p:nvSpPr>
            <p:spPr>
              <a:xfrm>
                <a:off x="1230480" y="27748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1230480" y="33652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1230480" y="392400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1230480" y="2276280"/>
                <a:ext cx="3999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6" name=""/>
          <p:cNvSpPr/>
          <p:nvPr/>
        </p:nvSpPr>
        <p:spPr>
          <a:xfrm>
            <a:off x="3935520" y="158904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9" name=""/>
          <p:cNvGrpSpPr/>
          <p:nvPr/>
        </p:nvGrpSpPr>
        <p:grpSpPr>
          <a:xfrm>
            <a:off x="3316320" y="2396880"/>
            <a:ext cx="3724200" cy="1940040"/>
            <a:chOff x="3316320" y="2396880"/>
            <a:chExt cx="3724200" cy="1940040"/>
          </a:xfrm>
        </p:grpSpPr>
        <p:sp>
          <p:nvSpPr>
            <p:cNvPr id="3350" name=""/>
            <p:cNvSpPr/>
            <p:nvPr/>
          </p:nvSpPr>
          <p:spPr>
            <a:xfrm rot="16200000">
              <a:off x="5510160" y="1847520"/>
              <a:ext cx="981000" cy="2079360"/>
            </a:xfrm>
            <a:custGeom>
              <a:avLst/>
              <a:gdLst/>
              <a:ahLst/>
              <a:rect l="l" t="t" r="r" b="b"/>
              <a:pathLst>
                <a:path w="1060" h="1960">
                  <a:moveTo>
                    <a:pt x="440" y="200"/>
                  </a:moveTo>
                  <a:lnTo>
                    <a:pt x="3" y="195"/>
                  </a:lnTo>
                  <a:lnTo>
                    <a:pt x="0" y="0"/>
                  </a:lnTo>
                  <a:lnTo>
                    <a:pt x="1060" y="0"/>
                  </a:lnTo>
                  <a:lnTo>
                    <a:pt x="1060" y="200"/>
                  </a:lnTo>
                  <a:lnTo>
                    <a:pt x="580" y="200"/>
                  </a:lnTo>
                  <a:lnTo>
                    <a:pt x="580" y="1760"/>
                  </a:lnTo>
                  <a:lnTo>
                    <a:pt x="1060" y="1760"/>
                  </a:lnTo>
                  <a:lnTo>
                    <a:pt x="1060" y="1960"/>
                  </a:lnTo>
                  <a:lnTo>
                    <a:pt x="0" y="1960"/>
                  </a:lnTo>
                  <a:lnTo>
                    <a:pt x="0" y="1760"/>
                  </a:lnTo>
                  <a:lnTo>
                    <a:pt x="440" y="1760"/>
                  </a:lnTo>
                  <a:lnTo>
                    <a:pt x="440" y="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316320" y="2905200"/>
              <a:ext cx="10573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876840" y="3651120"/>
              <a:ext cx="10573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154400" y="3987720"/>
              <a:ext cx="10573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457880" y="4336920"/>
              <a:ext cx="10573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3575160" y="3290760"/>
              <a:ext cx="105732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3298680" y="4884840"/>
            <a:ext cx="48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 effet, l’axe fort de l’élément doit être perpendiculaire à l’action du 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0" y="6080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- Actions 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8" name=""/>
          <p:cNvGrpSpPr/>
          <p:nvPr/>
        </p:nvGrpSpPr>
        <p:grpSpPr>
          <a:xfrm>
            <a:off x="431640" y="3179880"/>
            <a:ext cx="5532120" cy="2089080"/>
            <a:chOff x="431640" y="3179880"/>
            <a:chExt cx="5532120" cy="2089080"/>
          </a:xfrm>
        </p:grpSpPr>
        <p:grpSp>
          <p:nvGrpSpPr>
            <p:cNvPr id="3359" name=""/>
            <p:cNvGrpSpPr/>
            <p:nvPr/>
          </p:nvGrpSpPr>
          <p:grpSpPr>
            <a:xfrm>
              <a:off x="4189320" y="3498120"/>
              <a:ext cx="1452240" cy="1449360"/>
              <a:chOff x="4189320" y="3498120"/>
              <a:chExt cx="1452240" cy="1449360"/>
            </a:xfrm>
          </p:grpSpPr>
          <p:sp>
            <p:nvSpPr>
              <p:cNvPr id="3360" name=""/>
              <p:cNvSpPr/>
              <p:nvPr/>
            </p:nvSpPr>
            <p:spPr>
              <a:xfrm>
                <a:off x="5482440" y="34981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163480" y="381384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35880" y="413820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513680" y="445896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4189320" y="478800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761760" y="3497040"/>
              <a:ext cx="1447920" cy="1442160"/>
              <a:chOff x="761760" y="3497040"/>
              <a:chExt cx="1447920" cy="1442160"/>
            </a:xfrm>
          </p:grpSpPr>
          <p:sp>
            <p:nvSpPr>
              <p:cNvPr id="3366" name=""/>
              <p:cNvSpPr/>
              <p:nvPr/>
            </p:nvSpPr>
            <p:spPr>
              <a:xfrm>
                <a:off x="2050560" y="34970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729800" y="381564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1408320" y="41382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080720" y="446004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61760" y="47797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2367720" y="3179880"/>
              <a:ext cx="3596040" cy="162000"/>
              <a:chOff x="2367720" y="3179880"/>
              <a:chExt cx="3596040" cy="162000"/>
            </a:xfrm>
          </p:grpSpPr>
          <p:sp>
            <p:nvSpPr>
              <p:cNvPr id="3372" name=""/>
              <p:cNvSpPr/>
              <p:nvPr/>
            </p:nvSpPr>
            <p:spPr>
              <a:xfrm>
                <a:off x="5804640" y="31802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2367720" y="31802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4676400" y="317988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38680" y="31820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488040" y="31816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4087080" y="31798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242680" y="31816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9" name=""/>
            <p:cNvGrpSpPr/>
            <p:nvPr/>
          </p:nvGrpSpPr>
          <p:grpSpPr>
            <a:xfrm>
              <a:off x="431640" y="5107320"/>
              <a:ext cx="3595320" cy="161640"/>
              <a:chOff x="431640" y="5107320"/>
              <a:chExt cx="3595320" cy="161640"/>
            </a:xfrm>
          </p:grpSpPr>
          <p:sp>
            <p:nvSpPr>
              <p:cNvPr id="3380" name=""/>
              <p:cNvSpPr/>
              <p:nvPr/>
            </p:nvSpPr>
            <p:spPr>
              <a:xfrm>
                <a:off x="43164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867480" y="510732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99936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55160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741040" y="51091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1596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6" name=""/>
          <p:cNvGrpSpPr/>
          <p:nvPr/>
        </p:nvGrpSpPr>
        <p:grpSpPr>
          <a:xfrm>
            <a:off x="2473200" y="1935000"/>
            <a:ext cx="3434040" cy="1209960"/>
            <a:chOff x="2473200" y="1935000"/>
            <a:chExt cx="3434040" cy="1209960"/>
          </a:xfrm>
        </p:grpSpPr>
        <p:sp>
          <p:nvSpPr>
            <p:cNvPr id="3387" name=""/>
            <p:cNvSpPr/>
            <p:nvPr/>
          </p:nvSpPr>
          <p:spPr>
            <a:xfrm>
              <a:off x="2473200" y="193500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473560" y="226332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2473920" y="284400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475000" y="258696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476080" y="31449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531720" y="2260440"/>
            <a:ext cx="1941120" cy="2812680"/>
            <a:chOff x="531720" y="2260440"/>
            <a:chExt cx="1941120" cy="2812680"/>
          </a:xfrm>
        </p:grpSpPr>
        <p:sp>
          <p:nvSpPr>
            <p:cNvPr id="3393" name=""/>
            <p:cNvSpPr/>
            <p:nvPr/>
          </p:nvSpPr>
          <p:spPr>
            <a:xfrm flipV="1">
              <a:off x="535680" y="226044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531720" y="259092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532800" y="285696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V="1">
              <a:off x="532800" y="314352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7" name=""/>
          <p:cNvGrpSpPr/>
          <p:nvPr/>
        </p:nvGrpSpPr>
        <p:grpSpPr>
          <a:xfrm>
            <a:off x="531720" y="1670040"/>
            <a:ext cx="5372280" cy="3412800"/>
            <a:chOff x="531720" y="1670040"/>
            <a:chExt cx="5372280" cy="3412800"/>
          </a:xfrm>
        </p:grpSpPr>
        <p:grpSp>
          <p:nvGrpSpPr>
            <p:cNvPr id="3398" name=""/>
            <p:cNvGrpSpPr/>
            <p:nvPr/>
          </p:nvGrpSpPr>
          <p:grpSpPr>
            <a:xfrm>
              <a:off x="2473200" y="1670040"/>
              <a:ext cx="3430800" cy="1476720"/>
              <a:chOff x="2473200" y="1670040"/>
              <a:chExt cx="3430800" cy="1476720"/>
            </a:xfrm>
          </p:grpSpPr>
          <p:sp>
            <p:nvSpPr>
              <p:cNvPr id="3399" name=""/>
              <p:cNvSpPr/>
              <p:nvPr/>
            </p:nvSpPr>
            <p:spPr>
              <a:xfrm>
                <a:off x="5355000" y="185292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904000" y="195012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782240" y="175932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189680" y="167004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594960" y="176292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473200" y="194472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046680" y="184788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6" name=""/>
            <p:cNvGrpSpPr/>
            <p:nvPr/>
          </p:nvGrpSpPr>
          <p:grpSpPr>
            <a:xfrm>
              <a:off x="531720" y="3613320"/>
              <a:ext cx="3433320" cy="1469520"/>
              <a:chOff x="531720" y="3613320"/>
              <a:chExt cx="3433320" cy="1469520"/>
            </a:xfrm>
          </p:grpSpPr>
          <p:sp>
            <p:nvSpPr>
              <p:cNvPr id="3407" name=""/>
              <p:cNvSpPr/>
              <p:nvPr/>
            </p:nvSpPr>
            <p:spPr>
              <a:xfrm flipH="1">
                <a:off x="2248920" y="361332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15680" y="379584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965040" y="387684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2842920" y="370908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655280" y="370152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31720" y="387972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107000" y="379152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4" name=""/>
          <p:cNvGrpSpPr/>
          <p:nvPr/>
        </p:nvGrpSpPr>
        <p:grpSpPr>
          <a:xfrm>
            <a:off x="530280" y="1669680"/>
            <a:ext cx="5377680" cy="3395520"/>
            <a:chOff x="530280" y="1669680"/>
            <a:chExt cx="5377680" cy="3395520"/>
          </a:xfrm>
        </p:grpSpPr>
        <p:grpSp>
          <p:nvGrpSpPr>
            <p:cNvPr id="3415" name=""/>
            <p:cNvGrpSpPr/>
            <p:nvPr/>
          </p:nvGrpSpPr>
          <p:grpSpPr>
            <a:xfrm>
              <a:off x="532080" y="3612600"/>
              <a:ext cx="3433320" cy="268200"/>
              <a:chOff x="532080" y="3612600"/>
              <a:chExt cx="3433320" cy="268200"/>
            </a:xfrm>
          </p:grpSpPr>
          <p:sp>
            <p:nvSpPr>
              <p:cNvPr id="3416" name=""/>
              <p:cNvSpPr/>
              <p:nvPr/>
            </p:nvSpPr>
            <p:spPr>
              <a:xfrm flipV="1">
                <a:off x="532080" y="361260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H="1" flipV="1">
                <a:off x="2250000" y="361368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530280" y="1929240"/>
              <a:ext cx="5370840" cy="3135960"/>
              <a:chOff x="530280" y="1929240"/>
              <a:chExt cx="5370840" cy="3135960"/>
            </a:xfrm>
          </p:grpSpPr>
          <p:sp>
            <p:nvSpPr>
              <p:cNvPr id="3419" name=""/>
              <p:cNvSpPr/>
              <p:nvPr/>
            </p:nvSpPr>
            <p:spPr>
              <a:xfrm flipV="1">
                <a:off x="530280" y="387468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V="1">
                <a:off x="3960720" y="387468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V="1">
                <a:off x="2470320" y="192924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V="1">
                <a:off x="5901120" y="192924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3" name=""/>
            <p:cNvGrpSpPr/>
            <p:nvPr/>
          </p:nvGrpSpPr>
          <p:grpSpPr>
            <a:xfrm>
              <a:off x="2478960" y="1669680"/>
              <a:ext cx="3429000" cy="264600"/>
              <a:chOff x="2478960" y="1669680"/>
              <a:chExt cx="3429000" cy="264600"/>
            </a:xfrm>
          </p:grpSpPr>
          <p:sp>
            <p:nvSpPr>
              <p:cNvPr id="3424" name=""/>
              <p:cNvSpPr/>
              <p:nvPr/>
            </p:nvSpPr>
            <p:spPr>
              <a:xfrm flipV="1">
                <a:off x="2478960" y="166968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H="1" flipV="1">
                <a:off x="4192560" y="166968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6" name=""/>
          <p:cNvGrpSpPr/>
          <p:nvPr/>
        </p:nvGrpSpPr>
        <p:grpSpPr>
          <a:xfrm>
            <a:off x="533520" y="1929960"/>
            <a:ext cx="5375160" cy="3144960"/>
            <a:chOff x="533520" y="1929960"/>
            <a:chExt cx="5375160" cy="3144960"/>
          </a:xfrm>
        </p:grpSpPr>
        <p:grpSp>
          <p:nvGrpSpPr>
            <p:cNvPr id="3427" name=""/>
            <p:cNvGrpSpPr/>
            <p:nvPr/>
          </p:nvGrpSpPr>
          <p:grpSpPr>
            <a:xfrm>
              <a:off x="533520" y="1929960"/>
              <a:ext cx="5372640" cy="3144960"/>
              <a:chOff x="533520" y="1929960"/>
              <a:chExt cx="5372640" cy="3144960"/>
            </a:xfrm>
          </p:grpSpPr>
          <p:grpSp>
            <p:nvGrpSpPr>
              <p:cNvPr id="3428" name=""/>
              <p:cNvGrpSpPr/>
              <p:nvPr/>
            </p:nvGrpSpPr>
            <p:grpSpPr>
              <a:xfrm>
                <a:off x="3951720" y="3551040"/>
                <a:ext cx="337680" cy="1517760"/>
                <a:chOff x="3951720" y="3551040"/>
                <a:chExt cx="337680" cy="1517760"/>
              </a:xfrm>
            </p:grpSpPr>
            <p:sp>
              <p:nvSpPr>
                <p:cNvPr id="3429" name=""/>
                <p:cNvSpPr/>
                <p:nvPr/>
              </p:nvSpPr>
              <p:spPr>
                <a:xfrm flipV="1">
                  <a:off x="3965760" y="418176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 flipH="1" flipV="1">
                  <a:off x="3959640" y="386964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H="1" flipV="1">
                  <a:off x="3965400" y="449856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V="1">
                  <a:off x="3965760" y="355104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V="1">
                  <a:off x="3951720" y="356364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966120" y="387072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4289400" y="35575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533520" y="3558600"/>
                <a:ext cx="325080" cy="1516320"/>
                <a:chOff x="533520" y="3558600"/>
                <a:chExt cx="325080" cy="1516320"/>
              </a:xfrm>
            </p:grpSpPr>
            <p:sp>
              <p:nvSpPr>
                <p:cNvPr id="3437" name=""/>
                <p:cNvSpPr/>
                <p:nvPr/>
              </p:nvSpPr>
              <p:spPr>
                <a:xfrm flipV="1">
                  <a:off x="534600" y="418464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H="1" flipV="1">
                  <a:off x="534600" y="388188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H="1" flipV="1">
                  <a:off x="533520" y="450900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 flipV="1">
                  <a:off x="534600" y="355860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V="1">
                  <a:off x="536760" y="35589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535320" y="388224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H="1">
                  <a:off x="857160" y="356904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4" name=""/>
              <p:cNvGrpSpPr/>
              <p:nvPr/>
            </p:nvGrpSpPr>
            <p:grpSpPr>
              <a:xfrm>
                <a:off x="5580360" y="1929960"/>
                <a:ext cx="325800" cy="1538640"/>
                <a:chOff x="5580360" y="1929960"/>
                <a:chExt cx="325800" cy="1538640"/>
              </a:xfrm>
            </p:grpSpPr>
            <p:sp>
              <p:nvSpPr>
                <p:cNvPr id="3445" name=""/>
                <p:cNvSpPr/>
                <p:nvPr/>
              </p:nvSpPr>
              <p:spPr>
                <a:xfrm flipV="1">
                  <a:off x="5582880" y="258228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H="1" flipV="1">
                  <a:off x="5580360" y="225540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H="1" flipV="1">
                  <a:off x="5582880" y="289944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5581440" y="193248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5580720" y="192996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5585040" y="225036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H="1">
                  <a:off x="5905080" y="193572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2" name=""/>
              <p:cNvGrpSpPr/>
              <p:nvPr/>
            </p:nvGrpSpPr>
            <p:grpSpPr>
              <a:xfrm>
                <a:off x="2152080" y="1932120"/>
                <a:ext cx="323280" cy="1531440"/>
                <a:chOff x="2152080" y="1932120"/>
                <a:chExt cx="323280" cy="1531440"/>
              </a:xfrm>
            </p:grpSpPr>
            <p:sp>
              <p:nvSpPr>
                <p:cNvPr id="3453" name=""/>
                <p:cNvSpPr/>
                <p:nvPr/>
              </p:nvSpPr>
              <p:spPr>
                <a:xfrm flipV="1">
                  <a:off x="2152080" y="258696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H="1" flipV="1">
                  <a:off x="2153160" y="225972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H="1" flipV="1">
                  <a:off x="2152080" y="290592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 flipV="1">
                  <a:off x="2152080" y="193284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 flipV="1">
                  <a:off x="2153880" y="193320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2152440" y="226620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2473200" y="193212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0" name=""/>
            <p:cNvGrpSpPr/>
            <p:nvPr/>
          </p:nvGrpSpPr>
          <p:grpSpPr>
            <a:xfrm>
              <a:off x="537120" y="2581920"/>
              <a:ext cx="5371560" cy="1926000"/>
              <a:chOff x="537120" y="2581920"/>
              <a:chExt cx="5371560" cy="1926000"/>
            </a:xfrm>
          </p:grpSpPr>
          <p:sp>
            <p:nvSpPr>
              <p:cNvPr id="3461" name=""/>
              <p:cNvSpPr/>
              <p:nvPr/>
            </p:nvSpPr>
            <p:spPr>
              <a:xfrm flipV="1">
                <a:off x="3969360" y="41788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flipV="1">
                <a:off x="537120" y="418680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flipV="1">
                <a:off x="5591160" y="2581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V="1">
                <a:off x="2157120" y="258768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5" name=""/>
          <p:cNvGrpSpPr/>
          <p:nvPr/>
        </p:nvGrpSpPr>
        <p:grpSpPr>
          <a:xfrm>
            <a:off x="525600" y="1671120"/>
            <a:ext cx="5378400" cy="2209680"/>
            <a:chOff x="525600" y="1671120"/>
            <a:chExt cx="5378400" cy="2209680"/>
          </a:xfrm>
        </p:grpSpPr>
        <p:grpSp>
          <p:nvGrpSpPr>
            <p:cNvPr id="3466" name=""/>
            <p:cNvGrpSpPr/>
            <p:nvPr/>
          </p:nvGrpSpPr>
          <p:grpSpPr>
            <a:xfrm>
              <a:off x="2151720" y="1671120"/>
              <a:ext cx="3752280" cy="590040"/>
              <a:chOff x="2151720" y="1671120"/>
              <a:chExt cx="3752280" cy="590040"/>
            </a:xfrm>
          </p:grpSpPr>
          <p:sp>
            <p:nvSpPr>
              <p:cNvPr id="3467" name=""/>
              <p:cNvSpPr/>
              <p:nvPr/>
            </p:nvSpPr>
            <p:spPr>
              <a:xfrm flipV="1">
                <a:off x="5586480" y="193248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V="1">
                <a:off x="3869280" y="167112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flipV="1">
                <a:off x="4461840" y="1762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flipV="1">
                <a:off x="2152080" y="193572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flipV="1">
                <a:off x="2724120" y="184968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flipV="1">
                <a:off x="3274920" y="17650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3" name=""/>
              <p:cNvGrpSpPr/>
              <p:nvPr/>
            </p:nvGrpSpPr>
            <p:grpSpPr>
              <a:xfrm>
                <a:off x="2151720" y="1671480"/>
                <a:ext cx="3748320" cy="589680"/>
                <a:chOff x="2151720" y="1671480"/>
                <a:chExt cx="3748320" cy="589680"/>
              </a:xfrm>
            </p:grpSpPr>
            <p:sp>
              <p:nvSpPr>
                <p:cNvPr id="3474" name=""/>
                <p:cNvSpPr/>
                <p:nvPr/>
              </p:nvSpPr>
              <p:spPr>
                <a:xfrm flipH="1" flipV="1">
                  <a:off x="4188960" y="167148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 flipH="1">
                  <a:off x="3274200" y="167184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H="1" flipV="1">
                  <a:off x="5353920" y="1848600"/>
                  <a:ext cx="22536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 flipV="1">
                  <a:off x="5025240" y="193320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 flipH="1" flipV="1">
                  <a:off x="4782240" y="1762920"/>
                  <a:ext cx="24264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 flipH="1">
                  <a:off x="4458240" y="1846440"/>
                  <a:ext cx="89640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 flipH="1">
                  <a:off x="3871800" y="175860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 flipH="1" flipV="1">
                  <a:off x="3593160" y="176544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 flipH="1" flipV="1">
                  <a:off x="3045960" y="184644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 flipH="1">
                  <a:off x="2720520" y="176724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 flipH="1" flipV="1">
                  <a:off x="2478600" y="1937520"/>
                  <a:ext cx="23940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 flipH="1">
                  <a:off x="2151720" y="184752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 flipV="1">
                  <a:off x="2479680" y="167364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 flipV="1">
                  <a:off x="2167560" y="1992600"/>
                  <a:ext cx="170532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3870360" y="1991520"/>
                  <a:ext cx="17103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4195080" y="1671480"/>
                  <a:ext cx="169776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0" name=""/>
              <p:cNvSpPr/>
              <p:nvPr/>
            </p:nvSpPr>
            <p:spPr>
              <a:xfrm flipV="1">
                <a:off x="5026320" y="184788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1" name=""/>
            <p:cNvGrpSpPr/>
            <p:nvPr/>
          </p:nvGrpSpPr>
          <p:grpSpPr>
            <a:xfrm>
              <a:off x="525600" y="3290760"/>
              <a:ext cx="3754440" cy="590040"/>
              <a:chOff x="525600" y="3290760"/>
              <a:chExt cx="3754440" cy="590040"/>
            </a:xfrm>
          </p:grpSpPr>
          <p:sp>
            <p:nvSpPr>
              <p:cNvPr id="3492" name=""/>
              <p:cNvSpPr/>
              <p:nvPr/>
            </p:nvSpPr>
            <p:spPr>
              <a:xfrm flipV="1">
                <a:off x="3956760" y="355536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2839320" y="338256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V="1">
                <a:off x="2243880" y="329544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2240640" y="361152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 flipV="1">
                <a:off x="2565000" y="329292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 flipV="1">
                <a:off x="3731400" y="347148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V="1">
                <a:off x="3408120" y="355608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 flipV="1">
                <a:off x="3160800" y="338472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2832840" y="347076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2242440" y="338328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569680" y="329148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V="1">
                <a:off x="3409560" y="347076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V="1">
                <a:off x="1652760" y="337968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V="1">
                <a:off x="1101600" y="346356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V="1">
                <a:off x="535320" y="361152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V="1">
                <a:off x="851400" y="329148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1650240" y="329076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 flipV="1">
                <a:off x="1970640" y="338292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 flipV="1">
                <a:off x="1422000" y="346356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>
                <a:off x="1104120" y="338760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 flipV="1">
                <a:off x="852120" y="355320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>
                <a:off x="529200" y="346644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V="1">
                <a:off x="525600" y="355500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5" name=""/>
          <p:cNvGrpSpPr/>
          <p:nvPr/>
        </p:nvGrpSpPr>
        <p:grpSpPr>
          <a:xfrm>
            <a:off x="533520" y="1933560"/>
            <a:ext cx="5368320" cy="1944720"/>
            <a:chOff x="533520" y="1933560"/>
            <a:chExt cx="5368320" cy="1944720"/>
          </a:xfrm>
        </p:grpSpPr>
        <p:sp>
          <p:nvSpPr>
            <p:cNvPr id="3516" name=""/>
            <p:cNvSpPr/>
            <p:nvPr/>
          </p:nvSpPr>
          <p:spPr>
            <a:xfrm flipV="1">
              <a:off x="3955680" y="193356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V="1">
              <a:off x="533520" y="193356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779400" y="1715760"/>
            <a:ext cx="4847760" cy="2130480"/>
            <a:chOff x="779400" y="1715760"/>
            <a:chExt cx="4847760" cy="2130480"/>
          </a:xfrm>
        </p:grpSpPr>
        <p:sp>
          <p:nvSpPr>
            <p:cNvPr id="3519" name=""/>
            <p:cNvSpPr/>
            <p:nvPr/>
          </p:nvSpPr>
          <p:spPr>
            <a:xfrm flipV="1">
              <a:off x="2548440" y="171576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V="1">
              <a:off x="2841480" y="176004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V="1">
              <a:off x="3413160" y="185220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V="1">
              <a:off x="3681000" y="189576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779400" y="189252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1103040" y="184968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1655280" y="175860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1934640" y="171576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V="1">
              <a:off x="1371600" y="180972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V="1">
              <a:off x="3124440" y="180180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9" name=""/>
          <p:cNvSpPr/>
          <p:nvPr/>
        </p:nvSpPr>
        <p:spPr>
          <a:xfrm flipV="1">
            <a:off x="2244600" y="167004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0" name=""/>
          <p:cNvGrpSpPr/>
          <p:nvPr/>
        </p:nvGrpSpPr>
        <p:grpSpPr>
          <a:xfrm>
            <a:off x="531720" y="3879360"/>
            <a:ext cx="3430800" cy="1198440"/>
            <a:chOff x="531720" y="3879360"/>
            <a:chExt cx="3430800" cy="1198440"/>
          </a:xfrm>
        </p:grpSpPr>
        <p:sp>
          <p:nvSpPr>
            <p:cNvPr id="3531" name=""/>
            <p:cNvSpPr/>
            <p:nvPr/>
          </p:nvSpPr>
          <p:spPr>
            <a:xfrm flipV="1">
              <a:off x="2842200" y="507672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532080" y="387936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31720" y="418968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839320" y="478764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532080" y="451044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42200" y="450216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32800" y="479196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34240" y="507564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3960720" y="2265480"/>
            <a:ext cx="1943280" cy="2809800"/>
            <a:chOff x="3960720" y="2265480"/>
            <a:chExt cx="1943280" cy="2809800"/>
          </a:xfrm>
        </p:grpSpPr>
        <p:sp>
          <p:nvSpPr>
            <p:cNvPr id="3540" name=""/>
            <p:cNvSpPr/>
            <p:nvPr/>
          </p:nvSpPr>
          <p:spPr>
            <a:xfrm flipV="1">
              <a:off x="3960720" y="314712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3964680" y="226548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3963240" y="258732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3961800" y="284400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857160" y="1995480"/>
            <a:ext cx="4724640" cy="2750400"/>
            <a:chOff x="857160" y="1995480"/>
            <a:chExt cx="4724640" cy="2750400"/>
          </a:xfrm>
        </p:grpSpPr>
        <p:grpSp>
          <p:nvGrpSpPr>
            <p:cNvPr id="3545" name=""/>
            <p:cNvGrpSpPr/>
            <p:nvPr/>
          </p:nvGrpSpPr>
          <p:grpSpPr>
            <a:xfrm>
              <a:off x="857160" y="3292200"/>
              <a:ext cx="3430800" cy="1453680"/>
              <a:chOff x="857160" y="3292200"/>
              <a:chExt cx="3430800" cy="1453680"/>
            </a:xfrm>
          </p:grpSpPr>
          <p:sp>
            <p:nvSpPr>
              <p:cNvPr id="3546" name=""/>
              <p:cNvSpPr/>
              <p:nvPr/>
            </p:nvSpPr>
            <p:spPr>
              <a:xfrm flipV="1">
                <a:off x="857160" y="355608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V="1">
                <a:off x="857160" y="329220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4287960" y="355608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H="1" flipV="1">
                <a:off x="2572200" y="329220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1180440" y="1995480"/>
              <a:ext cx="4401360" cy="2437920"/>
              <a:chOff x="1180440" y="1995480"/>
              <a:chExt cx="4401360" cy="2437920"/>
            </a:xfrm>
          </p:grpSpPr>
          <p:grpSp>
            <p:nvGrpSpPr>
              <p:cNvPr id="3551" name=""/>
              <p:cNvGrpSpPr/>
              <p:nvPr/>
            </p:nvGrpSpPr>
            <p:grpSpPr>
              <a:xfrm>
                <a:off x="1180440" y="2967480"/>
                <a:ext cx="3431520" cy="1465920"/>
                <a:chOff x="1180440" y="2967480"/>
                <a:chExt cx="3431520" cy="1465920"/>
              </a:xfrm>
            </p:grpSpPr>
            <p:sp>
              <p:nvSpPr>
                <p:cNvPr id="3552" name=""/>
                <p:cNvSpPr/>
                <p:nvPr/>
              </p:nvSpPr>
              <p:spPr>
                <a:xfrm flipV="1">
                  <a:off x="1180440" y="323316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 flipV="1">
                  <a:off x="1180440" y="296748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 flipV="1">
                  <a:off x="4611960" y="323280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 flipH="1" flipV="1">
                  <a:off x="2896200" y="296748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6" name=""/>
              <p:cNvGrpSpPr/>
              <p:nvPr/>
            </p:nvGrpSpPr>
            <p:grpSpPr>
              <a:xfrm>
                <a:off x="1502280" y="2643120"/>
                <a:ext cx="3432960" cy="1463760"/>
                <a:chOff x="1502280" y="2643120"/>
                <a:chExt cx="3432960" cy="1463760"/>
              </a:xfrm>
            </p:grpSpPr>
            <p:sp>
              <p:nvSpPr>
                <p:cNvPr id="3557" name=""/>
                <p:cNvSpPr/>
                <p:nvPr/>
              </p:nvSpPr>
              <p:spPr>
                <a:xfrm flipV="1">
                  <a:off x="1502280" y="290952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 flipV="1">
                  <a:off x="1502280" y="264312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 flipV="1">
                  <a:off x="4935240" y="290952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H="1" flipV="1">
                  <a:off x="3218760" y="264312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1" name=""/>
              <p:cNvGrpSpPr/>
              <p:nvPr/>
            </p:nvGrpSpPr>
            <p:grpSpPr>
              <a:xfrm>
                <a:off x="1827000" y="2319120"/>
                <a:ext cx="3431520" cy="1464480"/>
                <a:chOff x="1827000" y="2319120"/>
                <a:chExt cx="3431520" cy="1464480"/>
              </a:xfrm>
            </p:grpSpPr>
            <p:sp>
              <p:nvSpPr>
                <p:cNvPr id="3562" name=""/>
                <p:cNvSpPr/>
                <p:nvPr/>
              </p:nvSpPr>
              <p:spPr>
                <a:xfrm flipV="1">
                  <a:off x="1827000" y="258552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V="1">
                  <a:off x="1827000" y="231912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V="1">
                  <a:off x="5258520" y="258552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 flipH="1" flipV="1">
                  <a:off x="3542760" y="231912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2151000" y="1995480"/>
                <a:ext cx="3430800" cy="1472400"/>
                <a:chOff x="2151000" y="1995480"/>
                <a:chExt cx="3430800" cy="1472400"/>
              </a:xfrm>
            </p:grpSpPr>
            <p:sp>
              <p:nvSpPr>
                <p:cNvPr id="3567" name=""/>
                <p:cNvSpPr/>
                <p:nvPr/>
              </p:nvSpPr>
              <p:spPr>
                <a:xfrm flipV="1">
                  <a:off x="2151000" y="226296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 flipV="1">
                  <a:off x="2151000" y="199548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V="1">
                  <a:off x="5581800" y="226296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 flipH="1" flipV="1">
                  <a:off x="3866040" y="199548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71" name=""/>
          <p:cNvSpPr/>
          <p:nvPr/>
        </p:nvSpPr>
        <p:spPr>
          <a:xfrm flipH="1">
            <a:off x="2257560" y="3621240"/>
            <a:ext cx="1440" cy="5713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362560" y="1860480"/>
            <a:ext cx="0" cy="1293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4789440" y="1766880"/>
            <a:ext cx="0" cy="1387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4197240" y="1677960"/>
            <a:ext cx="0" cy="1476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3603600" y="1771560"/>
            <a:ext cx="0" cy="138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3054240" y="1855800"/>
            <a:ext cx="0" cy="12985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3424320" y="3803760"/>
            <a:ext cx="0" cy="128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2851200" y="3716280"/>
            <a:ext cx="0" cy="1368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663560" y="3710160"/>
            <a:ext cx="0" cy="137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1116000" y="3798720"/>
            <a:ext cx="0" cy="1285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427560" y="3876840"/>
            <a:ext cx="0" cy="24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427560" y="4195800"/>
            <a:ext cx="0" cy="2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3429000" y="4537080"/>
            <a:ext cx="0" cy="2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3429000" y="4800600"/>
            <a:ext cx="0" cy="2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173160" y="608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- Action verti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6" name=""/>
          <p:cNvGrpSpPr/>
          <p:nvPr/>
        </p:nvGrpSpPr>
        <p:grpSpPr>
          <a:xfrm>
            <a:off x="8156520" y="2311560"/>
            <a:ext cx="471240" cy="3004920"/>
            <a:chOff x="8156520" y="2311560"/>
            <a:chExt cx="471240" cy="3004920"/>
          </a:xfrm>
        </p:grpSpPr>
        <p:sp>
          <p:nvSpPr>
            <p:cNvPr id="3587" name=""/>
            <p:cNvSpPr/>
            <p:nvPr/>
          </p:nvSpPr>
          <p:spPr>
            <a:xfrm>
              <a:off x="8158320" y="2546280"/>
              <a:ext cx="0" cy="2533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8174160" y="260208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8156520" y="463716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156520" y="394812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8156520" y="322416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2" name=""/>
            <p:cNvGrpSpPr/>
            <p:nvPr/>
          </p:nvGrpSpPr>
          <p:grpSpPr>
            <a:xfrm>
              <a:off x="8158320" y="4789440"/>
              <a:ext cx="466560" cy="527040"/>
              <a:chOff x="8158320" y="4789440"/>
              <a:chExt cx="466560" cy="527040"/>
            </a:xfrm>
          </p:grpSpPr>
          <p:sp>
            <p:nvSpPr>
              <p:cNvPr id="3593" name=""/>
              <p:cNvSpPr/>
              <p:nvPr/>
            </p:nvSpPr>
            <p:spPr>
              <a:xfrm rot="16200000">
                <a:off x="8134200" y="4932000"/>
                <a:ext cx="271800" cy="223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8386920" y="4789440"/>
                <a:ext cx="237960" cy="527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8388360" y="479412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8161200" y="2311560"/>
              <a:ext cx="466560" cy="527040"/>
              <a:chOff x="8161200" y="2311560"/>
              <a:chExt cx="466560" cy="527040"/>
            </a:xfrm>
          </p:grpSpPr>
          <p:sp>
            <p:nvSpPr>
              <p:cNvPr id="3597" name=""/>
              <p:cNvSpPr/>
              <p:nvPr/>
            </p:nvSpPr>
            <p:spPr>
              <a:xfrm rot="16200000">
                <a:off x="8137080" y="2454120"/>
                <a:ext cx="271800" cy="223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8389800" y="2311560"/>
                <a:ext cx="237960" cy="527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8391240" y="231624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0" name=""/>
          <p:cNvGrpSpPr/>
          <p:nvPr/>
        </p:nvGrpSpPr>
        <p:grpSpPr>
          <a:xfrm>
            <a:off x="6858000" y="2311560"/>
            <a:ext cx="611280" cy="3004920"/>
            <a:chOff x="6858000" y="2311560"/>
            <a:chExt cx="611280" cy="3004920"/>
          </a:xfrm>
        </p:grpSpPr>
        <p:sp>
          <p:nvSpPr>
            <p:cNvPr id="3601" name=""/>
            <p:cNvSpPr/>
            <p:nvPr/>
          </p:nvSpPr>
          <p:spPr>
            <a:xfrm>
              <a:off x="6859440" y="2550960"/>
              <a:ext cx="0" cy="2533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875640" y="260676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858000" y="464184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858000" y="395280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858000" y="322884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6" name=""/>
            <p:cNvGrpSpPr/>
            <p:nvPr/>
          </p:nvGrpSpPr>
          <p:grpSpPr>
            <a:xfrm>
              <a:off x="6859440" y="4789440"/>
              <a:ext cx="466560" cy="527040"/>
              <a:chOff x="6859440" y="4789440"/>
              <a:chExt cx="466560" cy="527040"/>
            </a:xfrm>
          </p:grpSpPr>
          <p:sp>
            <p:nvSpPr>
              <p:cNvPr id="3607" name=""/>
              <p:cNvSpPr/>
              <p:nvPr/>
            </p:nvSpPr>
            <p:spPr>
              <a:xfrm rot="16200000">
                <a:off x="6835320" y="4932000"/>
                <a:ext cx="271800" cy="223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088040" y="4789440"/>
                <a:ext cx="237960" cy="5270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089480" y="479412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0" name=""/>
            <p:cNvGrpSpPr/>
            <p:nvPr/>
          </p:nvGrpSpPr>
          <p:grpSpPr>
            <a:xfrm>
              <a:off x="6865920" y="2311560"/>
              <a:ext cx="603360" cy="527040"/>
              <a:chOff x="6865920" y="2311560"/>
              <a:chExt cx="603360" cy="527040"/>
            </a:xfrm>
          </p:grpSpPr>
          <p:grpSp>
            <p:nvGrpSpPr>
              <p:cNvPr id="3611" name=""/>
              <p:cNvGrpSpPr/>
              <p:nvPr/>
            </p:nvGrpSpPr>
            <p:grpSpPr>
              <a:xfrm>
                <a:off x="7112160" y="2341800"/>
                <a:ext cx="102960" cy="468360"/>
                <a:chOff x="7112160" y="2341800"/>
                <a:chExt cx="102960" cy="468360"/>
              </a:xfrm>
            </p:grpSpPr>
            <p:sp>
              <p:nvSpPr>
                <p:cNvPr id="3612" name=""/>
                <p:cNvSpPr/>
                <p:nvPr/>
              </p:nvSpPr>
              <p:spPr>
                <a:xfrm>
                  <a:off x="7112160" y="2341800"/>
                  <a:ext cx="101520" cy="101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7112160" y="2536920"/>
                  <a:ext cx="101520" cy="103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7112160" y="2708640"/>
                  <a:ext cx="102960" cy="101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5" name=""/>
              <p:cNvSpPr/>
              <p:nvPr/>
            </p:nvSpPr>
            <p:spPr>
              <a:xfrm rot="16200000">
                <a:off x="6842160" y="2463840"/>
                <a:ext cx="271440" cy="223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230960" y="2311560"/>
                <a:ext cx="238320" cy="5270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095960" y="2316240"/>
                <a:ext cx="0" cy="52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226280" y="2316240"/>
                <a:ext cx="0" cy="52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9" name=""/>
          <p:cNvSpPr/>
          <p:nvPr/>
        </p:nvSpPr>
        <p:spPr>
          <a:xfrm>
            <a:off x="8267760" y="5527800"/>
            <a:ext cx="388800" cy="345960"/>
          </a:xfrm>
          <a:custGeom>
            <a:avLst/>
            <a:gdLst>
              <a:gd name="textAreaLeft" fmla="*/ 22320 w 388800"/>
              <a:gd name="textAreaRight" fmla="*/ 366480 w 3888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4272" h="21600">
                <a:moveTo>
                  <a:pt x="0" y="0"/>
                </a:moveTo>
                <a:lnTo>
                  <a:pt x="24272" y="0"/>
                </a:lnTo>
                <a:lnTo>
                  <a:pt x="24272" y="21600"/>
                </a:lnTo>
                <a:lnTo>
                  <a:pt x="0" y="21600"/>
                </a:lnTo>
                <a:close/>
              </a:path>
              <a:path fill="lightenLess" w="24272" h="21600">
                <a:moveTo>
                  <a:pt x="0" y="0"/>
                </a:moveTo>
                <a:lnTo>
                  <a:pt x="24272" y="0"/>
                </a:lnTo>
                <a:lnTo>
                  <a:pt x="22872" y="1400"/>
                </a:lnTo>
                <a:lnTo>
                  <a:pt x="1400" y="1400"/>
                </a:lnTo>
                <a:close/>
              </a:path>
              <a:path fill="darken" w="24272" h="21600">
                <a:moveTo>
                  <a:pt x="24272" y="0"/>
                </a:moveTo>
                <a:lnTo>
                  <a:pt x="24272" y="21600"/>
                </a:lnTo>
                <a:lnTo>
                  <a:pt x="22872" y="20200"/>
                </a:lnTo>
                <a:lnTo>
                  <a:pt x="22872" y="1400"/>
                </a:lnTo>
                <a:close/>
              </a:path>
              <a:path fill="darkenLess" w="24272" h="21600">
                <a:moveTo>
                  <a:pt x="24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2" y="20200"/>
                </a:lnTo>
                <a:close/>
              </a:path>
              <a:path fill="lighten" w="24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6910560" y="5527800"/>
            <a:ext cx="388800" cy="345960"/>
          </a:xfrm>
          <a:custGeom>
            <a:avLst/>
            <a:gdLst>
              <a:gd name="textAreaLeft" fmla="*/ 22320 w 388800"/>
              <a:gd name="textAreaRight" fmla="*/ 366480 w 3888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4272" h="21600">
                <a:moveTo>
                  <a:pt x="0" y="0"/>
                </a:moveTo>
                <a:lnTo>
                  <a:pt x="24272" y="0"/>
                </a:lnTo>
                <a:lnTo>
                  <a:pt x="24272" y="21600"/>
                </a:lnTo>
                <a:lnTo>
                  <a:pt x="0" y="21600"/>
                </a:lnTo>
                <a:close/>
              </a:path>
              <a:path fill="lightenLess" w="24272" h="21600">
                <a:moveTo>
                  <a:pt x="0" y="0"/>
                </a:moveTo>
                <a:lnTo>
                  <a:pt x="24272" y="0"/>
                </a:lnTo>
                <a:lnTo>
                  <a:pt x="22872" y="1400"/>
                </a:lnTo>
                <a:lnTo>
                  <a:pt x="1400" y="1400"/>
                </a:lnTo>
                <a:close/>
              </a:path>
              <a:path fill="darken" w="24272" h="21600">
                <a:moveTo>
                  <a:pt x="24272" y="0"/>
                </a:moveTo>
                <a:lnTo>
                  <a:pt x="24272" y="21600"/>
                </a:lnTo>
                <a:lnTo>
                  <a:pt x="22872" y="20200"/>
                </a:lnTo>
                <a:lnTo>
                  <a:pt x="22872" y="1400"/>
                </a:lnTo>
                <a:close/>
              </a:path>
              <a:path fill="darkenLess" w="24272" h="21600">
                <a:moveTo>
                  <a:pt x="24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2" y="20200"/>
                </a:lnTo>
                <a:close/>
              </a:path>
              <a:path fill="lighten" w="24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>
            <a:hlinkClick r:id="" action="ppaction://hlinkshowjump?jump=nextslide"/>
          </p:cNvPr>
          <p:cNvSpPr/>
          <p:nvPr/>
        </p:nvSpPr>
        <p:spPr>
          <a:xfrm>
            <a:off x="6757920" y="55926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8115480" y="55926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6703920" y="59864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6595920" y="1463760"/>
            <a:ext cx="23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Quelle est la bonne modélisa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3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"/>
          <p:cNvSpPr/>
          <p:nvPr/>
        </p:nvSpPr>
        <p:spPr>
          <a:xfrm>
            <a:off x="173160" y="608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1685880" y="5586480"/>
            <a:ext cx="534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 général, le potelet n’est pas destiné à supporter des actions verticales transmises par le portique de r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’appui supérieur doit donc être un appui glissa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1" name=""/>
          <p:cNvGrpSpPr/>
          <p:nvPr/>
        </p:nvGrpSpPr>
        <p:grpSpPr>
          <a:xfrm>
            <a:off x="431640" y="3179880"/>
            <a:ext cx="5532120" cy="2089080"/>
            <a:chOff x="431640" y="3179880"/>
            <a:chExt cx="5532120" cy="2089080"/>
          </a:xfrm>
        </p:grpSpPr>
        <p:grpSp>
          <p:nvGrpSpPr>
            <p:cNvPr id="3632" name=""/>
            <p:cNvGrpSpPr/>
            <p:nvPr/>
          </p:nvGrpSpPr>
          <p:grpSpPr>
            <a:xfrm>
              <a:off x="4189320" y="3498120"/>
              <a:ext cx="1452240" cy="1449360"/>
              <a:chOff x="4189320" y="3498120"/>
              <a:chExt cx="1452240" cy="1449360"/>
            </a:xfrm>
          </p:grpSpPr>
          <p:sp>
            <p:nvSpPr>
              <p:cNvPr id="3633" name=""/>
              <p:cNvSpPr/>
              <p:nvPr/>
            </p:nvSpPr>
            <p:spPr>
              <a:xfrm>
                <a:off x="5482440" y="34981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63480" y="381384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4835880" y="413820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4513680" y="445896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4189320" y="478800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8" name=""/>
            <p:cNvGrpSpPr/>
            <p:nvPr/>
          </p:nvGrpSpPr>
          <p:grpSpPr>
            <a:xfrm>
              <a:off x="761760" y="3497040"/>
              <a:ext cx="1447920" cy="1442160"/>
              <a:chOff x="761760" y="3497040"/>
              <a:chExt cx="1447920" cy="1442160"/>
            </a:xfrm>
          </p:grpSpPr>
          <p:sp>
            <p:nvSpPr>
              <p:cNvPr id="3639" name=""/>
              <p:cNvSpPr/>
              <p:nvPr/>
            </p:nvSpPr>
            <p:spPr>
              <a:xfrm>
                <a:off x="2050560" y="34970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1729800" y="381564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1408320" y="41382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1080720" y="446004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61760" y="47797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4" name=""/>
            <p:cNvGrpSpPr/>
            <p:nvPr/>
          </p:nvGrpSpPr>
          <p:grpSpPr>
            <a:xfrm>
              <a:off x="2367720" y="3179880"/>
              <a:ext cx="3596040" cy="162000"/>
              <a:chOff x="2367720" y="3179880"/>
              <a:chExt cx="3596040" cy="162000"/>
            </a:xfrm>
          </p:grpSpPr>
          <p:sp>
            <p:nvSpPr>
              <p:cNvPr id="3645" name=""/>
              <p:cNvSpPr/>
              <p:nvPr/>
            </p:nvSpPr>
            <p:spPr>
              <a:xfrm>
                <a:off x="5804640" y="31802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367720" y="31802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4676400" y="317988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938680" y="31820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488040" y="31816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4087080" y="31798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242680" y="31816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2" name=""/>
            <p:cNvGrpSpPr/>
            <p:nvPr/>
          </p:nvGrpSpPr>
          <p:grpSpPr>
            <a:xfrm>
              <a:off x="431640" y="5107320"/>
              <a:ext cx="3595320" cy="161640"/>
              <a:chOff x="431640" y="5107320"/>
              <a:chExt cx="3595320" cy="161640"/>
            </a:xfrm>
          </p:grpSpPr>
          <p:sp>
            <p:nvSpPr>
              <p:cNvPr id="3653" name=""/>
              <p:cNvSpPr/>
              <p:nvPr/>
            </p:nvSpPr>
            <p:spPr>
              <a:xfrm>
                <a:off x="43164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867480" y="510732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99936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155160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741040" y="51091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315960" y="510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9" name=""/>
          <p:cNvGrpSpPr/>
          <p:nvPr/>
        </p:nvGrpSpPr>
        <p:grpSpPr>
          <a:xfrm>
            <a:off x="2473200" y="1935000"/>
            <a:ext cx="3434040" cy="1209960"/>
            <a:chOff x="2473200" y="1935000"/>
            <a:chExt cx="3434040" cy="1209960"/>
          </a:xfrm>
        </p:grpSpPr>
        <p:sp>
          <p:nvSpPr>
            <p:cNvPr id="3660" name=""/>
            <p:cNvSpPr/>
            <p:nvPr/>
          </p:nvSpPr>
          <p:spPr>
            <a:xfrm>
              <a:off x="2473200" y="193500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473560" y="226332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2473920" y="284400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V="1">
              <a:off x="2475000" y="258696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476080" y="31449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531720" y="2260440"/>
            <a:ext cx="1941120" cy="2812680"/>
            <a:chOff x="531720" y="2260440"/>
            <a:chExt cx="1941120" cy="2812680"/>
          </a:xfrm>
        </p:grpSpPr>
        <p:sp>
          <p:nvSpPr>
            <p:cNvPr id="3666" name=""/>
            <p:cNvSpPr/>
            <p:nvPr/>
          </p:nvSpPr>
          <p:spPr>
            <a:xfrm flipV="1">
              <a:off x="535680" y="226044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531720" y="259092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532800" y="285696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532800" y="314352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531720" y="1670040"/>
            <a:ext cx="5372280" cy="3412800"/>
            <a:chOff x="531720" y="1670040"/>
            <a:chExt cx="5372280" cy="3412800"/>
          </a:xfrm>
        </p:grpSpPr>
        <p:grpSp>
          <p:nvGrpSpPr>
            <p:cNvPr id="3671" name=""/>
            <p:cNvGrpSpPr/>
            <p:nvPr/>
          </p:nvGrpSpPr>
          <p:grpSpPr>
            <a:xfrm>
              <a:off x="2473200" y="1670040"/>
              <a:ext cx="3430800" cy="1476720"/>
              <a:chOff x="2473200" y="1670040"/>
              <a:chExt cx="3430800" cy="1476720"/>
            </a:xfrm>
          </p:grpSpPr>
          <p:sp>
            <p:nvSpPr>
              <p:cNvPr id="3672" name=""/>
              <p:cNvSpPr/>
              <p:nvPr/>
            </p:nvSpPr>
            <p:spPr>
              <a:xfrm>
                <a:off x="5355000" y="185292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904000" y="195012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4782240" y="175932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4189680" y="167004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594960" y="176292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473200" y="194472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046680" y="184788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9" name=""/>
            <p:cNvGrpSpPr/>
            <p:nvPr/>
          </p:nvGrpSpPr>
          <p:grpSpPr>
            <a:xfrm>
              <a:off x="531720" y="3613320"/>
              <a:ext cx="3433320" cy="1469520"/>
              <a:chOff x="531720" y="3613320"/>
              <a:chExt cx="3433320" cy="1469520"/>
            </a:xfrm>
          </p:grpSpPr>
          <p:sp>
            <p:nvSpPr>
              <p:cNvPr id="3680" name=""/>
              <p:cNvSpPr/>
              <p:nvPr/>
            </p:nvSpPr>
            <p:spPr>
              <a:xfrm flipH="1">
                <a:off x="2248920" y="361332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415680" y="379584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965040" y="387684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842920" y="370908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1655280" y="370152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31720" y="387972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107000" y="379152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7" name=""/>
          <p:cNvGrpSpPr/>
          <p:nvPr/>
        </p:nvGrpSpPr>
        <p:grpSpPr>
          <a:xfrm>
            <a:off x="530280" y="1669680"/>
            <a:ext cx="5377680" cy="3395520"/>
            <a:chOff x="530280" y="1669680"/>
            <a:chExt cx="5377680" cy="3395520"/>
          </a:xfrm>
        </p:grpSpPr>
        <p:grpSp>
          <p:nvGrpSpPr>
            <p:cNvPr id="3688" name=""/>
            <p:cNvGrpSpPr/>
            <p:nvPr/>
          </p:nvGrpSpPr>
          <p:grpSpPr>
            <a:xfrm>
              <a:off x="532080" y="3612600"/>
              <a:ext cx="3433320" cy="268200"/>
              <a:chOff x="532080" y="3612600"/>
              <a:chExt cx="3433320" cy="268200"/>
            </a:xfrm>
          </p:grpSpPr>
          <p:sp>
            <p:nvSpPr>
              <p:cNvPr id="3689" name=""/>
              <p:cNvSpPr/>
              <p:nvPr/>
            </p:nvSpPr>
            <p:spPr>
              <a:xfrm flipV="1">
                <a:off x="532080" y="361260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H="1" flipV="1">
                <a:off x="2250000" y="361368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530280" y="1929240"/>
              <a:ext cx="5370840" cy="3135960"/>
              <a:chOff x="530280" y="1929240"/>
              <a:chExt cx="5370840" cy="3135960"/>
            </a:xfrm>
          </p:grpSpPr>
          <p:sp>
            <p:nvSpPr>
              <p:cNvPr id="3692" name=""/>
              <p:cNvSpPr/>
              <p:nvPr/>
            </p:nvSpPr>
            <p:spPr>
              <a:xfrm flipV="1">
                <a:off x="530280" y="387468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V="1">
                <a:off x="3960720" y="387468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V="1">
                <a:off x="2470320" y="192924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5901120" y="192924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2478960" y="1669680"/>
              <a:ext cx="3429000" cy="264600"/>
              <a:chOff x="2478960" y="1669680"/>
              <a:chExt cx="3429000" cy="264600"/>
            </a:xfrm>
          </p:grpSpPr>
          <p:sp>
            <p:nvSpPr>
              <p:cNvPr id="3697" name=""/>
              <p:cNvSpPr/>
              <p:nvPr/>
            </p:nvSpPr>
            <p:spPr>
              <a:xfrm flipV="1">
                <a:off x="2478960" y="166968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 flipV="1">
                <a:off x="4192560" y="166968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9" name=""/>
          <p:cNvGrpSpPr/>
          <p:nvPr/>
        </p:nvGrpSpPr>
        <p:grpSpPr>
          <a:xfrm>
            <a:off x="533520" y="1929960"/>
            <a:ext cx="5375160" cy="3144960"/>
            <a:chOff x="533520" y="1929960"/>
            <a:chExt cx="5375160" cy="3144960"/>
          </a:xfrm>
        </p:grpSpPr>
        <p:grpSp>
          <p:nvGrpSpPr>
            <p:cNvPr id="3700" name=""/>
            <p:cNvGrpSpPr/>
            <p:nvPr/>
          </p:nvGrpSpPr>
          <p:grpSpPr>
            <a:xfrm>
              <a:off x="533520" y="1929960"/>
              <a:ext cx="5372640" cy="3144960"/>
              <a:chOff x="533520" y="1929960"/>
              <a:chExt cx="5372640" cy="3144960"/>
            </a:xfrm>
          </p:grpSpPr>
          <p:grpSp>
            <p:nvGrpSpPr>
              <p:cNvPr id="3701" name=""/>
              <p:cNvGrpSpPr/>
              <p:nvPr/>
            </p:nvGrpSpPr>
            <p:grpSpPr>
              <a:xfrm>
                <a:off x="3951720" y="3551040"/>
                <a:ext cx="337680" cy="1517760"/>
                <a:chOff x="3951720" y="3551040"/>
                <a:chExt cx="337680" cy="1517760"/>
              </a:xfrm>
            </p:grpSpPr>
            <p:sp>
              <p:nvSpPr>
                <p:cNvPr id="3702" name=""/>
                <p:cNvSpPr/>
                <p:nvPr/>
              </p:nvSpPr>
              <p:spPr>
                <a:xfrm flipV="1">
                  <a:off x="3965760" y="418176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 flipH="1" flipV="1">
                  <a:off x="3959640" y="386964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 flipH="1" flipV="1">
                  <a:off x="3965400" y="449856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 flipV="1">
                  <a:off x="3965760" y="355104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V="1">
                  <a:off x="3951720" y="356364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3966120" y="387072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4289400" y="35575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9" name=""/>
              <p:cNvGrpSpPr/>
              <p:nvPr/>
            </p:nvGrpSpPr>
            <p:grpSpPr>
              <a:xfrm>
                <a:off x="533520" y="3558600"/>
                <a:ext cx="325080" cy="1516320"/>
                <a:chOff x="533520" y="3558600"/>
                <a:chExt cx="325080" cy="1516320"/>
              </a:xfrm>
            </p:grpSpPr>
            <p:sp>
              <p:nvSpPr>
                <p:cNvPr id="3710" name=""/>
                <p:cNvSpPr/>
                <p:nvPr/>
              </p:nvSpPr>
              <p:spPr>
                <a:xfrm flipV="1">
                  <a:off x="534600" y="418464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H="1" flipV="1">
                  <a:off x="534600" y="388188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 flipV="1">
                  <a:off x="533520" y="450900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V="1">
                  <a:off x="534600" y="355860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V="1">
                  <a:off x="536760" y="35589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>
                  <a:off x="535320" y="388224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 flipH="1">
                  <a:off x="857160" y="356904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7" name=""/>
              <p:cNvGrpSpPr/>
              <p:nvPr/>
            </p:nvGrpSpPr>
            <p:grpSpPr>
              <a:xfrm>
                <a:off x="5580360" y="1929960"/>
                <a:ext cx="325800" cy="1538640"/>
                <a:chOff x="5580360" y="1929960"/>
                <a:chExt cx="325800" cy="1538640"/>
              </a:xfrm>
            </p:grpSpPr>
            <p:sp>
              <p:nvSpPr>
                <p:cNvPr id="3718" name=""/>
                <p:cNvSpPr/>
                <p:nvPr/>
              </p:nvSpPr>
              <p:spPr>
                <a:xfrm flipV="1">
                  <a:off x="5582880" y="258228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H="1" flipV="1">
                  <a:off x="5580360" y="225540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 flipH="1" flipV="1">
                  <a:off x="5582880" y="289944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 flipV="1">
                  <a:off x="5581440" y="193248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 flipV="1">
                  <a:off x="5580720" y="192996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5585040" y="225036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 flipH="1">
                  <a:off x="5905080" y="193572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5" name=""/>
              <p:cNvGrpSpPr/>
              <p:nvPr/>
            </p:nvGrpSpPr>
            <p:grpSpPr>
              <a:xfrm>
                <a:off x="2152080" y="1932120"/>
                <a:ext cx="323280" cy="1531440"/>
                <a:chOff x="2152080" y="1932120"/>
                <a:chExt cx="323280" cy="1531440"/>
              </a:xfrm>
            </p:grpSpPr>
            <p:sp>
              <p:nvSpPr>
                <p:cNvPr id="3726" name=""/>
                <p:cNvSpPr/>
                <p:nvPr/>
              </p:nvSpPr>
              <p:spPr>
                <a:xfrm flipV="1">
                  <a:off x="2152080" y="258696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 flipH="1" flipV="1">
                  <a:off x="2153160" y="225972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 flipH="1" flipV="1">
                  <a:off x="2152080" y="290592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 flipV="1">
                  <a:off x="2152080" y="193284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 flipV="1">
                  <a:off x="2153880" y="193320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2152440" y="226620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2473200" y="193212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3" name=""/>
            <p:cNvGrpSpPr/>
            <p:nvPr/>
          </p:nvGrpSpPr>
          <p:grpSpPr>
            <a:xfrm>
              <a:off x="537120" y="2581920"/>
              <a:ext cx="5371560" cy="1926000"/>
              <a:chOff x="537120" y="2581920"/>
              <a:chExt cx="5371560" cy="1926000"/>
            </a:xfrm>
          </p:grpSpPr>
          <p:sp>
            <p:nvSpPr>
              <p:cNvPr id="3734" name=""/>
              <p:cNvSpPr/>
              <p:nvPr/>
            </p:nvSpPr>
            <p:spPr>
              <a:xfrm flipV="1">
                <a:off x="3969360" y="41788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V="1">
                <a:off x="537120" y="418680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5591160" y="2581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V="1">
                <a:off x="2157120" y="258768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8" name=""/>
          <p:cNvGrpSpPr/>
          <p:nvPr/>
        </p:nvGrpSpPr>
        <p:grpSpPr>
          <a:xfrm>
            <a:off x="525600" y="1671120"/>
            <a:ext cx="5378400" cy="2209680"/>
            <a:chOff x="525600" y="1671120"/>
            <a:chExt cx="5378400" cy="2209680"/>
          </a:xfrm>
        </p:grpSpPr>
        <p:grpSp>
          <p:nvGrpSpPr>
            <p:cNvPr id="3739" name=""/>
            <p:cNvGrpSpPr/>
            <p:nvPr/>
          </p:nvGrpSpPr>
          <p:grpSpPr>
            <a:xfrm>
              <a:off x="2151720" y="1671120"/>
              <a:ext cx="3752280" cy="590040"/>
              <a:chOff x="2151720" y="1671120"/>
              <a:chExt cx="3752280" cy="590040"/>
            </a:xfrm>
          </p:grpSpPr>
          <p:sp>
            <p:nvSpPr>
              <p:cNvPr id="3740" name=""/>
              <p:cNvSpPr/>
              <p:nvPr/>
            </p:nvSpPr>
            <p:spPr>
              <a:xfrm flipV="1">
                <a:off x="5586480" y="193248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V="1">
                <a:off x="3869280" y="167112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V="1">
                <a:off x="4461840" y="1762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V="1">
                <a:off x="2152080" y="193572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V="1">
                <a:off x="2724120" y="184968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V="1">
                <a:off x="3274920" y="17650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6" name=""/>
              <p:cNvGrpSpPr/>
              <p:nvPr/>
            </p:nvGrpSpPr>
            <p:grpSpPr>
              <a:xfrm>
                <a:off x="2151720" y="1671480"/>
                <a:ext cx="3748320" cy="589680"/>
                <a:chOff x="2151720" y="1671480"/>
                <a:chExt cx="3748320" cy="589680"/>
              </a:xfrm>
            </p:grpSpPr>
            <p:sp>
              <p:nvSpPr>
                <p:cNvPr id="3747" name=""/>
                <p:cNvSpPr/>
                <p:nvPr/>
              </p:nvSpPr>
              <p:spPr>
                <a:xfrm flipH="1" flipV="1">
                  <a:off x="4188960" y="167148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 flipH="1">
                  <a:off x="3274200" y="167184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 flipH="1" flipV="1">
                  <a:off x="5353920" y="1848600"/>
                  <a:ext cx="22536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 flipV="1">
                  <a:off x="5025240" y="193320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 flipH="1" flipV="1">
                  <a:off x="4782240" y="1762920"/>
                  <a:ext cx="24264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 flipH="1">
                  <a:off x="4458240" y="1846440"/>
                  <a:ext cx="89640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 flipH="1">
                  <a:off x="3871800" y="175860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 flipH="1" flipV="1">
                  <a:off x="3593160" y="176544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H="1" flipV="1">
                  <a:off x="3045960" y="184644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H="1">
                  <a:off x="2720520" y="176724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 flipH="1" flipV="1">
                  <a:off x="2478600" y="1937520"/>
                  <a:ext cx="23940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 flipH="1">
                  <a:off x="2151720" y="184752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 flipV="1">
                  <a:off x="2479680" y="167364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V="1">
                  <a:off x="2167560" y="1992600"/>
                  <a:ext cx="170532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3870360" y="1991520"/>
                  <a:ext cx="17103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4195080" y="1671480"/>
                  <a:ext cx="169776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3" name=""/>
              <p:cNvSpPr/>
              <p:nvPr/>
            </p:nvSpPr>
            <p:spPr>
              <a:xfrm flipV="1">
                <a:off x="5026320" y="184788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4" name=""/>
            <p:cNvGrpSpPr/>
            <p:nvPr/>
          </p:nvGrpSpPr>
          <p:grpSpPr>
            <a:xfrm>
              <a:off x="525600" y="3290760"/>
              <a:ext cx="3754440" cy="590040"/>
              <a:chOff x="525600" y="3290760"/>
              <a:chExt cx="3754440" cy="590040"/>
            </a:xfrm>
          </p:grpSpPr>
          <p:sp>
            <p:nvSpPr>
              <p:cNvPr id="3765" name=""/>
              <p:cNvSpPr/>
              <p:nvPr/>
            </p:nvSpPr>
            <p:spPr>
              <a:xfrm flipV="1">
                <a:off x="3956760" y="355536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 flipV="1">
                <a:off x="2839320" y="338256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V="1">
                <a:off x="2243880" y="329544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2240640" y="361152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flipH="1" flipV="1">
                <a:off x="2565000" y="329292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flipH="1" flipV="1">
                <a:off x="3731400" y="347148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V="1">
                <a:off x="3408120" y="355608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H="1" flipV="1">
                <a:off x="3160800" y="338472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H="1">
                <a:off x="2832840" y="347076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flipH="1">
                <a:off x="2242440" y="338328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2569680" y="329148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V="1">
                <a:off x="3409560" y="347076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V="1">
                <a:off x="1652760" y="337968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V="1">
                <a:off x="1101600" y="346356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V="1">
                <a:off x="535320" y="361152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V="1">
                <a:off x="851400" y="329148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1650240" y="329076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H="1" flipV="1">
                <a:off x="1970640" y="338292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H="1" flipV="1">
                <a:off x="1422000" y="346356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1104120" y="338760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H="1" flipV="1">
                <a:off x="852120" y="355320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H="1">
                <a:off x="529200" y="346644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525600" y="355500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8" name=""/>
          <p:cNvGrpSpPr/>
          <p:nvPr/>
        </p:nvGrpSpPr>
        <p:grpSpPr>
          <a:xfrm>
            <a:off x="533520" y="1933560"/>
            <a:ext cx="5368320" cy="1944720"/>
            <a:chOff x="533520" y="1933560"/>
            <a:chExt cx="5368320" cy="1944720"/>
          </a:xfrm>
        </p:grpSpPr>
        <p:sp>
          <p:nvSpPr>
            <p:cNvPr id="3789" name=""/>
            <p:cNvSpPr/>
            <p:nvPr/>
          </p:nvSpPr>
          <p:spPr>
            <a:xfrm flipV="1">
              <a:off x="3955680" y="193356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 flipV="1">
              <a:off x="533520" y="193356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79400" y="1715760"/>
            <a:ext cx="4847760" cy="2130480"/>
            <a:chOff x="779400" y="1715760"/>
            <a:chExt cx="4847760" cy="2130480"/>
          </a:xfrm>
        </p:grpSpPr>
        <p:sp>
          <p:nvSpPr>
            <p:cNvPr id="3792" name=""/>
            <p:cNvSpPr/>
            <p:nvPr/>
          </p:nvSpPr>
          <p:spPr>
            <a:xfrm flipV="1">
              <a:off x="2548440" y="171576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V="1">
              <a:off x="2841480" y="176004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V="1">
              <a:off x="3413160" y="185220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3681000" y="189576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flipV="1">
              <a:off x="779400" y="189252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1103040" y="184968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V="1">
              <a:off x="1655280" y="175860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1934640" y="171576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V="1">
              <a:off x="1371600" y="180972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3124440" y="180180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2" name=""/>
          <p:cNvSpPr/>
          <p:nvPr/>
        </p:nvSpPr>
        <p:spPr>
          <a:xfrm flipV="1">
            <a:off x="2244600" y="167004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3" name=""/>
          <p:cNvGrpSpPr/>
          <p:nvPr/>
        </p:nvGrpSpPr>
        <p:grpSpPr>
          <a:xfrm>
            <a:off x="531720" y="3879360"/>
            <a:ext cx="3430800" cy="1198440"/>
            <a:chOff x="531720" y="3879360"/>
            <a:chExt cx="3430800" cy="1198440"/>
          </a:xfrm>
        </p:grpSpPr>
        <p:sp>
          <p:nvSpPr>
            <p:cNvPr id="3804" name=""/>
            <p:cNvSpPr/>
            <p:nvPr/>
          </p:nvSpPr>
          <p:spPr>
            <a:xfrm flipV="1">
              <a:off x="2842200" y="507672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532080" y="387936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31720" y="418968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839320" y="478764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V="1">
              <a:off x="532080" y="451044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842200" y="450216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32800" y="479196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34240" y="507564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3960720" y="2265480"/>
            <a:ext cx="1943280" cy="2809800"/>
            <a:chOff x="3960720" y="2265480"/>
            <a:chExt cx="1943280" cy="2809800"/>
          </a:xfrm>
        </p:grpSpPr>
        <p:sp>
          <p:nvSpPr>
            <p:cNvPr id="3813" name=""/>
            <p:cNvSpPr/>
            <p:nvPr/>
          </p:nvSpPr>
          <p:spPr>
            <a:xfrm flipV="1">
              <a:off x="3960720" y="314712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V="1">
              <a:off x="3964680" y="226548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3963240" y="258732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V="1">
              <a:off x="3961800" y="284400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7" name=""/>
          <p:cNvGrpSpPr/>
          <p:nvPr/>
        </p:nvGrpSpPr>
        <p:grpSpPr>
          <a:xfrm>
            <a:off x="857160" y="1995480"/>
            <a:ext cx="4724640" cy="2750400"/>
            <a:chOff x="857160" y="1995480"/>
            <a:chExt cx="4724640" cy="2750400"/>
          </a:xfrm>
        </p:grpSpPr>
        <p:grpSp>
          <p:nvGrpSpPr>
            <p:cNvPr id="3818" name=""/>
            <p:cNvGrpSpPr/>
            <p:nvPr/>
          </p:nvGrpSpPr>
          <p:grpSpPr>
            <a:xfrm>
              <a:off x="857160" y="3292200"/>
              <a:ext cx="3430800" cy="1453680"/>
              <a:chOff x="857160" y="3292200"/>
              <a:chExt cx="3430800" cy="1453680"/>
            </a:xfrm>
          </p:grpSpPr>
          <p:sp>
            <p:nvSpPr>
              <p:cNvPr id="3819" name=""/>
              <p:cNvSpPr/>
              <p:nvPr/>
            </p:nvSpPr>
            <p:spPr>
              <a:xfrm flipV="1">
                <a:off x="857160" y="355608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flipV="1">
                <a:off x="857160" y="329220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V="1">
                <a:off x="4287960" y="355608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 flipV="1">
                <a:off x="2572200" y="329220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3" name=""/>
            <p:cNvGrpSpPr/>
            <p:nvPr/>
          </p:nvGrpSpPr>
          <p:grpSpPr>
            <a:xfrm>
              <a:off x="1180440" y="1995480"/>
              <a:ext cx="4401360" cy="2437920"/>
              <a:chOff x="1180440" y="1995480"/>
              <a:chExt cx="4401360" cy="2437920"/>
            </a:xfrm>
          </p:grpSpPr>
          <p:grpSp>
            <p:nvGrpSpPr>
              <p:cNvPr id="3824" name=""/>
              <p:cNvGrpSpPr/>
              <p:nvPr/>
            </p:nvGrpSpPr>
            <p:grpSpPr>
              <a:xfrm>
                <a:off x="1180440" y="2967480"/>
                <a:ext cx="3431520" cy="1465920"/>
                <a:chOff x="1180440" y="2967480"/>
                <a:chExt cx="3431520" cy="1465920"/>
              </a:xfrm>
            </p:grpSpPr>
            <p:sp>
              <p:nvSpPr>
                <p:cNvPr id="3825" name=""/>
                <p:cNvSpPr/>
                <p:nvPr/>
              </p:nvSpPr>
              <p:spPr>
                <a:xfrm flipV="1">
                  <a:off x="1180440" y="323316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 flipV="1">
                  <a:off x="1180440" y="296748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 flipV="1">
                  <a:off x="4611960" y="323280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 flipH="1" flipV="1">
                  <a:off x="2896200" y="296748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9" name=""/>
              <p:cNvGrpSpPr/>
              <p:nvPr/>
            </p:nvGrpSpPr>
            <p:grpSpPr>
              <a:xfrm>
                <a:off x="1502280" y="2643120"/>
                <a:ext cx="3432960" cy="1463760"/>
                <a:chOff x="1502280" y="2643120"/>
                <a:chExt cx="3432960" cy="1463760"/>
              </a:xfrm>
            </p:grpSpPr>
            <p:sp>
              <p:nvSpPr>
                <p:cNvPr id="3830" name=""/>
                <p:cNvSpPr/>
                <p:nvPr/>
              </p:nvSpPr>
              <p:spPr>
                <a:xfrm flipV="1">
                  <a:off x="1502280" y="290952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1502280" y="264312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V="1">
                  <a:off x="4935240" y="290952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 flipH="1" flipV="1">
                  <a:off x="3218760" y="264312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4" name=""/>
              <p:cNvGrpSpPr/>
              <p:nvPr/>
            </p:nvGrpSpPr>
            <p:grpSpPr>
              <a:xfrm>
                <a:off x="1827000" y="2319120"/>
                <a:ext cx="3431520" cy="1464480"/>
                <a:chOff x="1827000" y="2319120"/>
                <a:chExt cx="3431520" cy="1464480"/>
              </a:xfrm>
            </p:grpSpPr>
            <p:sp>
              <p:nvSpPr>
                <p:cNvPr id="3835" name=""/>
                <p:cNvSpPr/>
                <p:nvPr/>
              </p:nvSpPr>
              <p:spPr>
                <a:xfrm flipV="1">
                  <a:off x="1827000" y="258552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flipV="1">
                  <a:off x="1827000" y="231912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 flipV="1">
                  <a:off x="5258520" y="258552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 flipH="1" flipV="1">
                  <a:off x="3542760" y="231912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9" name=""/>
              <p:cNvGrpSpPr/>
              <p:nvPr/>
            </p:nvGrpSpPr>
            <p:grpSpPr>
              <a:xfrm>
                <a:off x="2151000" y="1995480"/>
                <a:ext cx="3430800" cy="1472400"/>
                <a:chOff x="2151000" y="1995480"/>
                <a:chExt cx="3430800" cy="1472400"/>
              </a:xfrm>
            </p:grpSpPr>
            <p:sp>
              <p:nvSpPr>
                <p:cNvPr id="3840" name=""/>
                <p:cNvSpPr/>
                <p:nvPr/>
              </p:nvSpPr>
              <p:spPr>
                <a:xfrm flipV="1">
                  <a:off x="2151000" y="226296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 flipV="1">
                  <a:off x="2151000" y="199548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 flipV="1">
                  <a:off x="5581800" y="226296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H="1" flipV="1">
                  <a:off x="3866040" y="199548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44" name=""/>
          <p:cNvSpPr/>
          <p:nvPr/>
        </p:nvSpPr>
        <p:spPr>
          <a:xfrm flipH="1">
            <a:off x="2257560" y="3621240"/>
            <a:ext cx="1440" cy="5713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5362560" y="1860480"/>
            <a:ext cx="0" cy="1293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9440" y="1766880"/>
            <a:ext cx="0" cy="1387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4197240" y="1677960"/>
            <a:ext cx="0" cy="1476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3603600" y="1771560"/>
            <a:ext cx="0" cy="138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3054240" y="1855800"/>
            <a:ext cx="0" cy="12985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424320" y="3803760"/>
            <a:ext cx="0" cy="128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2851200" y="3716280"/>
            <a:ext cx="0" cy="1368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663560" y="3710160"/>
            <a:ext cx="0" cy="137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1116000" y="3798720"/>
            <a:ext cx="0" cy="1285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3427560" y="3876840"/>
            <a:ext cx="0" cy="24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3427560" y="4195800"/>
            <a:ext cx="0" cy="2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429000" y="4537080"/>
            <a:ext cx="0" cy="2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3429000" y="4800600"/>
            <a:ext cx="0" cy="2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7182000" y="3247920"/>
            <a:ext cx="19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9" name=""/>
          <p:cNvGrpSpPr/>
          <p:nvPr/>
        </p:nvGrpSpPr>
        <p:grpSpPr>
          <a:xfrm>
            <a:off x="6858000" y="2311560"/>
            <a:ext cx="611280" cy="3004920"/>
            <a:chOff x="6858000" y="2311560"/>
            <a:chExt cx="611280" cy="3004920"/>
          </a:xfrm>
        </p:grpSpPr>
        <p:sp>
          <p:nvSpPr>
            <p:cNvPr id="3860" name=""/>
            <p:cNvSpPr/>
            <p:nvPr/>
          </p:nvSpPr>
          <p:spPr>
            <a:xfrm>
              <a:off x="6859440" y="2550960"/>
              <a:ext cx="0" cy="2533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6875640" y="260676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6858000" y="464184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6858000" y="395280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6858000" y="3228840"/>
              <a:ext cx="0" cy="3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5" name=""/>
            <p:cNvGrpSpPr/>
            <p:nvPr/>
          </p:nvGrpSpPr>
          <p:grpSpPr>
            <a:xfrm>
              <a:off x="6859440" y="4789440"/>
              <a:ext cx="466560" cy="527040"/>
              <a:chOff x="6859440" y="4789440"/>
              <a:chExt cx="466560" cy="527040"/>
            </a:xfrm>
          </p:grpSpPr>
          <p:sp>
            <p:nvSpPr>
              <p:cNvPr id="3866" name=""/>
              <p:cNvSpPr/>
              <p:nvPr/>
            </p:nvSpPr>
            <p:spPr>
              <a:xfrm rot="16200000">
                <a:off x="6835320" y="4932000"/>
                <a:ext cx="271800" cy="223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088040" y="4789440"/>
                <a:ext cx="237960" cy="527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089480" y="4794120"/>
                <a:ext cx="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9" name=""/>
            <p:cNvGrpSpPr/>
            <p:nvPr/>
          </p:nvGrpSpPr>
          <p:grpSpPr>
            <a:xfrm>
              <a:off x="6865920" y="2311560"/>
              <a:ext cx="603360" cy="527040"/>
              <a:chOff x="6865920" y="2311560"/>
              <a:chExt cx="603360" cy="527040"/>
            </a:xfrm>
          </p:grpSpPr>
          <p:grpSp>
            <p:nvGrpSpPr>
              <p:cNvPr id="3870" name=""/>
              <p:cNvGrpSpPr/>
              <p:nvPr/>
            </p:nvGrpSpPr>
            <p:grpSpPr>
              <a:xfrm>
                <a:off x="7112160" y="2341800"/>
                <a:ext cx="102960" cy="468360"/>
                <a:chOff x="7112160" y="2341800"/>
                <a:chExt cx="102960" cy="468360"/>
              </a:xfrm>
            </p:grpSpPr>
            <p:sp>
              <p:nvSpPr>
                <p:cNvPr id="3871" name=""/>
                <p:cNvSpPr/>
                <p:nvPr/>
              </p:nvSpPr>
              <p:spPr>
                <a:xfrm>
                  <a:off x="7112160" y="2341800"/>
                  <a:ext cx="101520" cy="101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7112160" y="2536920"/>
                  <a:ext cx="101520" cy="103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7112160" y="2708640"/>
                  <a:ext cx="102960" cy="101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4" name=""/>
              <p:cNvSpPr/>
              <p:nvPr/>
            </p:nvSpPr>
            <p:spPr>
              <a:xfrm rot="16200000">
                <a:off x="6842160" y="2463840"/>
                <a:ext cx="271440" cy="223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230960" y="2311560"/>
                <a:ext cx="238320" cy="527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095960" y="2316240"/>
                <a:ext cx="0" cy="52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226280" y="2316240"/>
                <a:ext cx="0" cy="52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8" name=""/>
          <p:cNvSpPr/>
          <p:nvPr/>
        </p:nvSpPr>
        <p:spPr>
          <a:xfrm>
            <a:off x="8069400" y="4332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7951680" y="46674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528480"/>
            <a:ext cx="87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éléments supportent les potele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9" action="ppaction://hlinksldjump"/>
          </p:cNvPr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0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7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8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8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9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01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02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08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14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22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29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35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40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41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57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3951360" y="4040280"/>
            <a:ext cx="338040" cy="1517400"/>
            <a:chOff x="3951360" y="4040280"/>
            <a:chExt cx="338040" cy="1517400"/>
          </a:xfrm>
        </p:grpSpPr>
        <p:sp>
          <p:nvSpPr>
            <p:cNvPr id="169" name=""/>
            <p:cNvSpPr/>
            <p:nvPr/>
          </p:nvSpPr>
          <p:spPr>
            <a:xfrm flipV="1">
              <a:off x="3965400" y="4670640"/>
              <a:ext cx="323280" cy="887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959640" y="4358520"/>
              <a:ext cx="329040" cy="311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965400" y="4987080"/>
              <a:ext cx="323280" cy="245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965400" y="4040280"/>
              <a:ext cx="323280" cy="940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951360" y="4052520"/>
              <a:ext cx="32364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5760" y="4359240"/>
              <a:ext cx="0" cy="1193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89400" y="4046400"/>
              <a:ext cx="0" cy="1193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33160" y="4047840"/>
            <a:ext cx="325800" cy="1516320"/>
            <a:chOff x="533160" y="4047840"/>
            <a:chExt cx="325800" cy="1516320"/>
          </a:xfrm>
        </p:grpSpPr>
        <p:sp>
          <p:nvSpPr>
            <p:cNvPr id="177" name=""/>
            <p:cNvSpPr/>
            <p:nvPr/>
          </p:nvSpPr>
          <p:spPr>
            <a:xfrm flipV="1">
              <a:off x="534600" y="4673880"/>
              <a:ext cx="323640" cy="886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34240" y="4371120"/>
              <a:ext cx="320760" cy="298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533160" y="4998240"/>
              <a:ext cx="323640" cy="241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34600" y="4047840"/>
              <a:ext cx="322200" cy="944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36760" y="4048200"/>
              <a:ext cx="317880" cy="31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5320" y="4371480"/>
              <a:ext cx="0" cy="1192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57520" y="4058280"/>
              <a:ext cx="1440" cy="1179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583240" y="3071520"/>
            <a:ext cx="320760" cy="880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79640" y="2744640"/>
            <a:ext cx="322200" cy="333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582880" y="3389400"/>
            <a:ext cx="320760" cy="24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81800" y="2420640"/>
            <a:ext cx="317520" cy="973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580000" y="2419200"/>
            <a:ext cx="325440" cy="330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52440" y="2421000"/>
            <a:ext cx="322560" cy="1531440"/>
            <a:chOff x="2152440" y="2421000"/>
            <a:chExt cx="322560" cy="1531440"/>
          </a:xfrm>
        </p:grpSpPr>
        <p:sp>
          <p:nvSpPr>
            <p:cNvPr id="190" name=""/>
            <p:cNvSpPr/>
            <p:nvPr/>
          </p:nvSpPr>
          <p:spPr>
            <a:xfrm flipV="1">
              <a:off x="2152800" y="3075840"/>
              <a:ext cx="320760" cy="876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153520" y="2748600"/>
              <a:ext cx="317880" cy="324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152440" y="3394440"/>
              <a:ext cx="322200" cy="23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152800" y="2421360"/>
              <a:ext cx="322200" cy="972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154600" y="2422080"/>
              <a:ext cx="316800" cy="31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53160" y="2755080"/>
              <a:ext cx="0" cy="1192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72840" y="2421000"/>
              <a:ext cx="1080" cy="1208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198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0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1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5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56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6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77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116000" y="2166840"/>
            <a:ext cx="4246560" cy="3413160"/>
            <a:chOff x="1116000" y="2166840"/>
            <a:chExt cx="4246560" cy="3413160"/>
          </a:xfrm>
        </p:grpSpPr>
        <p:sp>
          <p:nvSpPr>
            <p:cNvPr id="282" name=""/>
            <p:cNvSpPr/>
            <p:nvPr/>
          </p:nvSpPr>
          <p:spPr>
            <a:xfrm flipH="1">
              <a:off x="2257560" y="4110120"/>
              <a:ext cx="1440" cy="57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116000" y="2166840"/>
              <a:ext cx="4246560" cy="3413160"/>
              <a:chOff x="1116000" y="2166840"/>
              <a:chExt cx="4246560" cy="3413160"/>
            </a:xfrm>
          </p:grpSpPr>
          <p:sp>
            <p:nvSpPr>
              <p:cNvPr id="284" name=""/>
              <p:cNvSpPr/>
              <p:nvPr/>
            </p:nvSpPr>
            <p:spPr>
              <a:xfrm>
                <a:off x="5362560" y="2349360"/>
                <a:ext cx="0" cy="1293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89440" y="2255760"/>
                <a:ext cx="0" cy="138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7240" y="2166840"/>
                <a:ext cx="0" cy="147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03600" y="2260440"/>
                <a:ext cx="0" cy="138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54240" y="2344680"/>
                <a:ext cx="0" cy="1298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24320" y="4292640"/>
                <a:ext cx="0" cy="1287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51200" y="4205160"/>
                <a:ext cx="0" cy="136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63560" y="4199040"/>
                <a:ext cx="0" cy="1374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16000" y="4287960"/>
                <a:ext cx="0" cy="128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762200" y="873000"/>
            <a:ext cx="5535360" cy="4548240"/>
          </a:xfrm>
          <a:custGeom>
            <a:avLst/>
            <a:gdLst/>
            <a:ahLst/>
            <a:rect l="l" t="t" r="r" b="b"/>
            <a:pathLst>
              <a:path w="3487" h="2865">
                <a:moveTo>
                  <a:pt x="1407" y="0"/>
                </a:moveTo>
                <a:lnTo>
                  <a:pt x="1040" y="35"/>
                </a:lnTo>
                <a:lnTo>
                  <a:pt x="492" y="353"/>
                </a:lnTo>
                <a:lnTo>
                  <a:pt x="341" y="421"/>
                </a:lnTo>
                <a:lnTo>
                  <a:pt x="242" y="526"/>
                </a:lnTo>
                <a:lnTo>
                  <a:pt x="23" y="1865"/>
                </a:lnTo>
                <a:lnTo>
                  <a:pt x="0" y="2658"/>
                </a:lnTo>
                <a:lnTo>
                  <a:pt x="168" y="2715"/>
                </a:lnTo>
                <a:lnTo>
                  <a:pt x="227" y="2859"/>
                </a:lnTo>
                <a:lnTo>
                  <a:pt x="600" y="2865"/>
                </a:lnTo>
                <a:lnTo>
                  <a:pt x="824" y="2800"/>
                </a:lnTo>
                <a:lnTo>
                  <a:pt x="864" y="2675"/>
                </a:lnTo>
                <a:lnTo>
                  <a:pt x="2936" y="2621"/>
                </a:lnTo>
                <a:lnTo>
                  <a:pt x="2984" y="2780"/>
                </a:lnTo>
                <a:lnTo>
                  <a:pt x="3288" y="2780"/>
                </a:lnTo>
                <a:lnTo>
                  <a:pt x="3433" y="2655"/>
                </a:lnTo>
                <a:lnTo>
                  <a:pt x="3427" y="2589"/>
                </a:lnTo>
                <a:lnTo>
                  <a:pt x="3487" y="2524"/>
                </a:lnTo>
                <a:lnTo>
                  <a:pt x="3274" y="498"/>
                </a:lnTo>
                <a:lnTo>
                  <a:pt x="3109" y="342"/>
                </a:lnTo>
                <a:lnTo>
                  <a:pt x="2845" y="9"/>
                </a:lnTo>
                <a:lnTo>
                  <a:pt x="1407" y="0"/>
                </a:lnTo>
                <a:lnTo>
                  <a:pt x="140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1892160" y="1617840"/>
            <a:ext cx="5238720" cy="3433680"/>
          </a:xfrm>
          <a:custGeom>
            <a:avLst/>
            <a:gdLst/>
            <a:ahLst/>
            <a:rect l="l" t="t" r="r" b="b"/>
            <a:pathLst>
              <a:path w="3300" h="2163">
                <a:moveTo>
                  <a:pt x="248" y="12"/>
                </a:moveTo>
                <a:lnTo>
                  <a:pt x="0" y="2163"/>
                </a:lnTo>
                <a:lnTo>
                  <a:pt x="3300" y="2069"/>
                </a:lnTo>
                <a:lnTo>
                  <a:pt x="3039" y="0"/>
                </a:lnTo>
                <a:lnTo>
                  <a:pt x="248" y="12"/>
                </a:lnTo>
                <a:lnTo>
                  <a:pt x="2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2095560" y="4948200"/>
            <a:ext cx="834840" cy="370080"/>
          </a:xfrm>
          <a:custGeom>
            <a:avLst/>
            <a:gdLst/>
            <a:ahLst/>
            <a:rect l="l" t="t" r="r" b="b"/>
            <a:pathLst>
              <a:path w="526" h="233">
                <a:moveTo>
                  <a:pt x="0" y="0"/>
                </a:moveTo>
                <a:lnTo>
                  <a:pt x="40" y="233"/>
                </a:lnTo>
                <a:lnTo>
                  <a:pt x="455" y="219"/>
                </a:lnTo>
                <a:lnTo>
                  <a:pt x="52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2114640" y="1781280"/>
            <a:ext cx="4695840" cy="2941560"/>
          </a:xfrm>
          <a:custGeom>
            <a:avLst/>
            <a:gdLst/>
            <a:ahLst/>
            <a:rect l="l" t="t" r="r" b="b"/>
            <a:pathLst>
              <a:path w="2958" h="1853">
                <a:moveTo>
                  <a:pt x="165" y="0"/>
                </a:moveTo>
                <a:lnTo>
                  <a:pt x="0" y="1853"/>
                </a:lnTo>
                <a:lnTo>
                  <a:pt x="2958" y="1750"/>
                </a:lnTo>
                <a:lnTo>
                  <a:pt x="2799" y="5"/>
                </a:lnTo>
                <a:lnTo>
                  <a:pt x="165" y="0"/>
                </a:lnTo>
                <a:lnTo>
                  <a:pt x="165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8080" y="7938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potelets. Lequ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9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9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0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1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2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33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33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34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34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35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63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69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354640" y="2341440"/>
            <a:ext cx="0" cy="12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81520" y="2247840"/>
            <a:ext cx="0" cy="138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89320" y="215892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95680" y="2252520"/>
            <a:ext cx="0" cy="1382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6320" y="2336760"/>
            <a:ext cx="0" cy="1298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249640" y="4102200"/>
            <a:ext cx="144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6400" y="4284720"/>
            <a:ext cx="0" cy="128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43280" y="419724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55640" y="4191120"/>
            <a:ext cx="0" cy="137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08080" y="4280040"/>
            <a:ext cx="0" cy="1285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38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38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39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39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40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40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0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411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419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461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464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47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48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49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50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52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7" action="ppaction://hlinksldjump"/>
          </p:cNvPr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8" action="ppaction://hlinksldjump"/>
          </p:cNvPr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9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56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57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618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620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628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636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644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1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652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657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663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682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688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354640" y="2341440"/>
            <a:ext cx="0" cy="12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1520" y="2247840"/>
            <a:ext cx="0" cy="138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89320" y="215892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95680" y="2252520"/>
            <a:ext cx="0" cy="1382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46320" y="2336760"/>
            <a:ext cx="0" cy="1298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249640" y="4102200"/>
            <a:ext cx="144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16400" y="4284720"/>
            <a:ext cx="0" cy="128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3280" y="419724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55640" y="4191120"/>
            <a:ext cx="0" cy="137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08080" y="4280040"/>
            <a:ext cx="0" cy="1285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703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710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715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720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725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730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731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738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756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780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783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795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804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rId5" action="ppaction://hlinksldjump"/>
          </p:cNvPr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rId6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rId7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8080" y="7938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potelets. Lequ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8120" y="927000"/>
            <a:ext cx="7773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Ces éléments supportent les pote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83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83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84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85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86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874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880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99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899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905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5354640" y="2341440"/>
            <a:ext cx="0" cy="129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81520" y="2247840"/>
            <a:ext cx="0" cy="138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89320" y="215892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95680" y="2252520"/>
            <a:ext cx="0" cy="1382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6320" y="2336760"/>
            <a:ext cx="0" cy="1298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2249640" y="4102200"/>
            <a:ext cx="144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416400" y="4284720"/>
            <a:ext cx="0" cy="128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43280" y="419724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55640" y="4191120"/>
            <a:ext cx="0" cy="137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08080" y="4280040"/>
            <a:ext cx="0" cy="1285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920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921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927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932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937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942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94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94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95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997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000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012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021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026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1029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032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034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042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050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058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5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066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0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071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072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079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097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0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816600" y="74520"/>
            <a:ext cx="308160" cy="339840"/>
            <a:chOff x="6816600" y="74520"/>
            <a:chExt cx="308160" cy="339840"/>
          </a:xfrm>
        </p:grpSpPr>
        <p:sp>
          <p:nvSpPr>
            <p:cNvPr id="1145" name=""/>
            <p:cNvSpPr/>
            <p:nvPr/>
          </p:nvSpPr>
          <p:spPr>
            <a:xfrm>
              <a:off x="7000920" y="98280"/>
              <a:ext cx="81000" cy="185760"/>
            </a:xfrm>
            <a:custGeom>
              <a:avLst/>
              <a:gdLst/>
              <a:ahLst/>
              <a:rect l="l" t="t" r="r" b="b"/>
              <a:pathLst>
                <a:path w="257" h="583">
                  <a:moveTo>
                    <a:pt x="0" y="159"/>
                  </a:moveTo>
                  <a:lnTo>
                    <a:pt x="82" y="44"/>
                  </a:lnTo>
                  <a:lnTo>
                    <a:pt x="152" y="2"/>
                  </a:lnTo>
                  <a:lnTo>
                    <a:pt x="197" y="0"/>
                  </a:lnTo>
                  <a:lnTo>
                    <a:pt x="238" y="94"/>
                  </a:lnTo>
                  <a:lnTo>
                    <a:pt x="257" y="242"/>
                  </a:lnTo>
                  <a:lnTo>
                    <a:pt x="254" y="368"/>
                  </a:lnTo>
                  <a:lnTo>
                    <a:pt x="230" y="483"/>
                  </a:lnTo>
                  <a:lnTo>
                    <a:pt x="154" y="583"/>
                  </a:lnTo>
                  <a:lnTo>
                    <a:pt x="136" y="510"/>
                  </a:lnTo>
                  <a:lnTo>
                    <a:pt x="187" y="451"/>
                  </a:lnTo>
                  <a:lnTo>
                    <a:pt x="205" y="336"/>
                  </a:lnTo>
                  <a:lnTo>
                    <a:pt x="212" y="274"/>
                  </a:lnTo>
                  <a:lnTo>
                    <a:pt x="185" y="127"/>
                  </a:lnTo>
                  <a:lnTo>
                    <a:pt x="157" y="56"/>
                  </a:lnTo>
                  <a:lnTo>
                    <a:pt x="94" y="106"/>
                  </a:lnTo>
                  <a:lnTo>
                    <a:pt x="24" y="18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16600" y="214200"/>
              <a:ext cx="174600" cy="109800"/>
            </a:xfrm>
            <a:custGeom>
              <a:avLst/>
              <a:gdLst/>
              <a:ahLst/>
              <a:rect l="l" t="t" r="r" b="b"/>
              <a:pathLst>
                <a:path w="548" h="346">
                  <a:moveTo>
                    <a:pt x="227" y="0"/>
                  </a:moveTo>
                  <a:lnTo>
                    <a:pt x="89" y="19"/>
                  </a:lnTo>
                  <a:lnTo>
                    <a:pt x="21" y="63"/>
                  </a:lnTo>
                  <a:lnTo>
                    <a:pt x="0" y="104"/>
                  </a:lnTo>
                  <a:lnTo>
                    <a:pt x="65" y="179"/>
                  </a:lnTo>
                  <a:lnTo>
                    <a:pt x="192" y="266"/>
                  </a:lnTo>
                  <a:lnTo>
                    <a:pt x="304" y="319"/>
                  </a:lnTo>
                  <a:lnTo>
                    <a:pt x="427" y="346"/>
                  </a:lnTo>
                  <a:lnTo>
                    <a:pt x="548" y="322"/>
                  </a:lnTo>
                  <a:lnTo>
                    <a:pt x="485" y="274"/>
                  </a:lnTo>
                  <a:lnTo>
                    <a:pt x="408" y="292"/>
                  </a:lnTo>
                  <a:lnTo>
                    <a:pt x="300" y="257"/>
                  </a:lnTo>
                  <a:lnTo>
                    <a:pt x="243" y="236"/>
                  </a:lnTo>
                  <a:lnTo>
                    <a:pt x="119" y="147"/>
                  </a:lnTo>
                  <a:lnTo>
                    <a:pt x="65" y="87"/>
                  </a:lnTo>
                  <a:lnTo>
                    <a:pt x="139" y="60"/>
                  </a:lnTo>
                  <a:lnTo>
                    <a:pt x="240" y="33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65920" y="74520"/>
              <a:ext cx="258840" cy="339840"/>
            </a:xfrm>
            <a:custGeom>
              <a:avLst/>
              <a:gdLst/>
              <a:ahLst/>
              <a:rect l="l" t="t" r="r" b="b"/>
              <a:pathLst>
                <a:path w="815" h="1072">
                  <a:moveTo>
                    <a:pt x="121" y="225"/>
                  </a:moveTo>
                  <a:lnTo>
                    <a:pt x="82" y="189"/>
                  </a:lnTo>
                  <a:lnTo>
                    <a:pt x="35" y="143"/>
                  </a:lnTo>
                  <a:lnTo>
                    <a:pt x="6" y="99"/>
                  </a:lnTo>
                  <a:lnTo>
                    <a:pt x="2" y="40"/>
                  </a:lnTo>
                  <a:lnTo>
                    <a:pt x="17" y="14"/>
                  </a:lnTo>
                  <a:lnTo>
                    <a:pt x="42" y="0"/>
                  </a:lnTo>
                  <a:lnTo>
                    <a:pt x="65" y="14"/>
                  </a:lnTo>
                  <a:lnTo>
                    <a:pt x="106" y="40"/>
                  </a:lnTo>
                  <a:lnTo>
                    <a:pt x="138" y="99"/>
                  </a:lnTo>
                  <a:lnTo>
                    <a:pt x="159" y="174"/>
                  </a:lnTo>
                  <a:lnTo>
                    <a:pt x="174" y="201"/>
                  </a:lnTo>
                  <a:lnTo>
                    <a:pt x="250" y="189"/>
                  </a:lnTo>
                  <a:lnTo>
                    <a:pt x="323" y="178"/>
                  </a:lnTo>
                  <a:lnTo>
                    <a:pt x="388" y="163"/>
                  </a:lnTo>
                  <a:lnTo>
                    <a:pt x="435" y="181"/>
                  </a:lnTo>
                  <a:lnTo>
                    <a:pt x="467" y="233"/>
                  </a:lnTo>
                  <a:lnTo>
                    <a:pt x="517" y="324"/>
                  </a:lnTo>
                  <a:lnTo>
                    <a:pt x="553" y="418"/>
                  </a:lnTo>
                  <a:lnTo>
                    <a:pt x="580" y="514"/>
                  </a:lnTo>
                  <a:lnTo>
                    <a:pt x="603" y="563"/>
                  </a:lnTo>
                  <a:lnTo>
                    <a:pt x="620" y="630"/>
                  </a:lnTo>
                  <a:lnTo>
                    <a:pt x="618" y="736"/>
                  </a:lnTo>
                  <a:lnTo>
                    <a:pt x="615" y="832"/>
                  </a:lnTo>
                  <a:lnTo>
                    <a:pt x="812" y="824"/>
                  </a:lnTo>
                  <a:lnTo>
                    <a:pt x="815" y="882"/>
                  </a:lnTo>
                  <a:lnTo>
                    <a:pt x="753" y="943"/>
                  </a:lnTo>
                  <a:lnTo>
                    <a:pt x="647" y="1007"/>
                  </a:lnTo>
                  <a:lnTo>
                    <a:pt x="536" y="1049"/>
                  </a:lnTo>
                  <a:lnTo>
                    <a:pt x="471" y="1072"/>
                  </a:lnTo>
                  <a:lnTo>
                    <a:pt x="438" y="1049"/>
                  </a:lnTo>
                  <a:lnTo>
                    <a:pt x="477" y="961"/>
                  </a:lnTo>
                  <a:lnTo>
                    <a:pt x="530" y="874"/>
                  </a:lnTo>
                  <a:lnTo>
                    <a:pt x="442" y="844"/>
                  </a:lnTo>
                  <a:lnTo>
                    <a:pt x="338" y="786"/>
                  </a:lnTo>
                  <a:lnTo>
                    <a:pt x="250" y="727"/>
                  </a:lnTo>
                  <a:lnTo>
                    <a:pt x="155" y="630"/>
                  </a:lnTo>
                  <a:lnTo>
                    <a:pt x="80" y="557"/>
                  </a:lnTo>
                  <a:lnTo>
                    <a:pt x="0" y="412"/>
                  </a:lnTo>
                  <a:lnTo>
                    <a:pt x="32" y="351"/>
                  </a:lnTo>
                  <a:lnTo>
                    <a:pt x="121" y="2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6919920" y="111240"/>
            <a:ext cx="149040" cy="145800"/>
          </a:xfrm>
          <a:custGeom>
            <a:avLst/>
            <a:gdLst/>
            <a:ahLst/>
            <a:rect l="l" t="t" r="r" b="b"/>
            <a:pathLst>
              <a:path w="469" h="458">
                <a:moveTo>
                  <a:pt x="205" y="38"/>
                </a:moveTo>
                <a:lnTo>
                  <a:pt x="128" y="54"/>
                </a:lnTo>
                <a:lnTo>
                  <a:pt x="60" y="62"/>
                </a:lnTo>
                <a:lnTo>
                  <a:pt x="0" y="68"/>
                </a:lnTo>
                <a:lnTo>
                  <a:pt x="0" y="89"/>
                </a:lnTo>
                <a:lnTo>
                  <a:pt x="33" y="91"/>
                </a:lnTo>
                <a:lnTo>
                  <a:pt x="98" y="79"/>
                </a:lnTo>
                <a:lnTo>
                  <a:pt x="178" y="58"/>
                </a:lnTo>
                <a:lnTo>
                  <a:pt x="243" y="58"/>
                </a:lnTo>
                <a:lnTo>
                  <a:pt x="262" y="83"/>
                </a:lnTo>
                <a:lnTo>
                  <a:pt x="303" y="139"/>
                </a:lnTo>
                <a:lnTo>
                  <a:pt x="345" y="219"/>
                </a:lnTo>
                <a:lnTo>
                  <a:pt x="392" y="340"/>
                </a:lnTo>
                <a:lnTo>
                  <a:pt x="419" y="437"/>
                </a:lnTo>
                <a:lnTo>
                  <a:pt x="428" y="458"/>
                </a:lnTo>
                <a:lnTo>
                  <a:pt x="443" y="437"/>
                </a:lnTo>
                <a:lnTo>
                  <a:pt x="461" y="337"/>
                </a:lnTo>
                <a:lnTo>
                  <a:pt x="469" y="257"/>
                </a:lnTo>
                <a:lnTo>
                  <a:pt x="455" y="154"/>
                </a:lnTo>
                <a:lnTo>
                  <a:pt x="443" y="65"/>
                </a:lnTo>
                <a:lnTo>
                  <a:pt x="419" y="8"/>
                </a:lnTo>
                <a:lnTo>
                  <a:pt x="410" y="0"/>
                </a:lnTo>
                <a:lnTo>
                  <a:pt x="353" y="41"/>
                </a:lnTo>
                <a:lnTo>
                  <a:pt x="318" y="79"/>
                </a:lnTo>
                <a:lnTo>
                  <a:pt x="299" y="118"/>
                </a:lnTo>
                <a:lnTo>
                  <a:pt x="330" y="91"/>
                </a:lnTo>
                <a:lnTo>
                  <a:pt x="384" y="50"/>
                </a:lnTo>
                <a:lnTo>
                  <a:pt x="410" y="35"/>
                </a:lnTo>
                <a:lnTo>
                  <a:pt x="430" y="100"/>
                </a:lnTo>
                <a:lnTo>
                  <a:pt x="446" y="175"/>
                </a:lnTo>
                <a:lnTo>
                  <a:pt x="451" y="242"/>
                </a:lnTo>
                <a:lnTo>
                  <a:pt x="451" y="298"/>
                </a:lnTo>
                <a:lnTo>
                  <a:pt x="440" y="354"/>
                </a:lnTo>
                <a:lnTo>
                  <a:pt x="428" y="417"/>
                </a:lnTo>
                <a:lnTo>
                  <a:pt x="407" y="331"/>
                </a:lnTo>
                <a:lnTo>
                  <a:pt x="374" y="237"/>
                </a:lnTo>
                <a:lnTo>
                  <a:pt x="324" y="142"/>
                </a:lnTo>
                <a:lnTo>
                  <a:pt x="274" y="58"/>
                </a:lnTo>
                <a:lnTo>
                  <a:pt x="262" y="41"/>
                </a:lnTo>
                <a:lnTo>
                  <a:pt x="205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05600" y="92160"/>
            <a:ext cx="127080" cy="317520"/>
          </a:xfrm>
          <a:custGeom>
            <a:avLst/>
            <a:gdLst/>
            <a:ahLst/>
            <a:rect l="l" t="t" r="r" b="b"/>
            <a:pathLst>
              <a:path w="402" h="998">
                <a:moveTo>
                  <a:pt x="15" y="135"/>
                </a:moveTo>
                <a:lnTo>
                  <a:pt x="56" y="80"/>
                </a:lnTo>
                <a:lnTo>
                  <a:pt x="119" y="44"/>
                </a:lnTo>
                <a:lnTo>
                  <a:pt x="164" y="32"/>
                </a:lnTo>
                <a:lnTo>
                  <a:pt x="185" y="67"/>
                </a:lnTo>
                <a:lnTo>
                  <a:pt x="206" y="135"/>
                </a:lnTo>
                <a:lnTo>
                  <a:pt x="224" y="219"/>
                </a:lnTo>
                <a:lnTo>
                  <a:pt x="226" y="296"/>
                </a:lnTo>
                <a:lnTo>
                  <a:pt x="218" y="372"/>
                </a:lnTo>
                <a:lnTo>
                  <a:pt x="212" y="433"/>
                </a:lnTo>
                <a:lnTo>
                  <a:pt x="182" y="523"/>
                </a:lnTo>
                <a:lnTo>
                  <a:pt x="162" y="538"/>
                </a:lnTo>
                <a:lnTo>
                  <a:pt x="152" y="571"/>
                </a:lnTo>
                <a:lnTo>
                  <a:pt x="164" y="588"/>
                </a:lnTo>
                <a:lnTo>
                  <a:pt x="173" y="668"/>
                </a:lnTo>
                <a:lnTo>
                  <a:pt x="162" y="735"/>
                </a:lnTo>
                <a:lnTo>
                  <a:pt x="162" y="761"/>
                </a:lnTo>
                <a:lnTo>
                  <a:pt x="173" y="781"/>
                </a:lnTo>
                <a:lnTo>
                  <a:pt x="328" y="773"/>
                </a:lnTo>
                <a:lnTo>
                  <a:pt x="349" y="775"/>
                </a:lnTo>
                <a:lnTo>
                  <a:pt x="361" y="805"/>
                </a:lnTo>
                <a:lnTo>
                  <a:pt x="319" y="861"/>
                </a:lnTo>
                <a:lnTo>
                  <a:pt x="220" y="930"/>
                </a:lnTo>
                <a:lnTo>
                  <a:pt x="135" y="968"/>
                </a:lnTo>
                <a:lnTo>
                  <a:pt x="75" y="985"/>
                </a:lnTo>
                <a:lnTo>
                  <a:pt x="83" y="998"/>
                </a:lnTo>
                <a:lnTo>
                  <a:pt x="176" y="968"/>
                </a:lnTo>
                <a:lnTo>
                  <a:pt x="253" y="930"/>
                </a:lnTo>
                <a:lnTo>
                  <a:pt x="328" y="884"/>
                </a:lnTo>
                <a:lnTo>
                  <a:pt x="388" y="817"/>
                </a:lnTo>
                <a:lnTo>
                  <a:pt x="402" y="769"/>
                </a:lnTo>
                <a:lnTo>
                  <a:pt x="384" y="752"/>
                </a:lnTo>
                <a:lnTo>
                  <a:pt x="357" y="743"/>
                </a:lnTo>
                <a:lnTo>
                  <a:pt x="193" y="758"/>
                </a:lnTo>
                <a:lnTo>
                  <a:pt x="182" y="750"/>
                </a:lnTo>
                <a:lnTo>
                  <a:pt x="191" y="691"/>
                </a:lnTo>
                <a:lnTo>
                  <a:pt x="188" y="635"/>
                </a:lnTo>
                <a:lnTo>
                  <a:pt x="185" y="576"/>
                </a:lnTo>
                <a:lnTo>
                  <a:pt x="176" y="550"/>
                </a:lnTo>
                <a:lnTo>
                  <a:pt x="218" y="492"/>
                </a:lnTo>
                <a:lnTo>
                  <a:pt x="239" y="407"/>
                </a:lnTo>
                <a:lnTo>
                  <a:pt x="245" y="334"/>
                </a:lnTo>
                <a:lnTo>
                  <a:pt x="241" y="248"/>
                </a:lnTo>
                <a:lnTo>
                  <a:pt x="230" y="173"/>
                </a:lnTo>
                <a:lnTo>
                  <a:pt x="214" y="97"/>
                </a:lnTo>
                <a:lnTo>
                  <a:pt x="188" y="27"/>
                </a:lnTo>
                <a:lnTo>
                  <a:pt x="173" y="0"/>
                </a:lnTo>
                <a:lnTo>
                  <a:pt x="141" y="9"/>
                </a:lnTo>
                <a:lnTo>
                  <a:pt x="77" y="44"/>
                </a:lnTo>
                <a:lnTo>
                  <a:pt x="45" y="67"/>
                </a:lnTo>
                <a:lnTo>
                  <a:pt x="0" y="137"/>
                </a:lnTo>
                <a:lnTo>
                  <a:pt x="15" y="1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815160" y="214200"/>
            <a:ext cx="223920" cy="204840"/>
          </a:xfrm>
          <a:custGeom>
            <a:avLst/>
            <a:gdLst/>
            <a:ahLst/>
            <a:rect l="l" t="t" r="r" b="b"/>
            <a:pathLst>
              <a:path w="705" h="645">
                <a:moveTo>
                  <a:pt x="190" y="15"/>
                </a:moveTo>
                <a:lnTo>
                  <a:pt x="121" y="27"/>
                </a:lnTo>
                <a:lnTo>
                  <a:pt x="58" y="63"/>
                </a:lnTo>
                <a:lnTo>
                  <a:pt x="29" y="97"/>
                </a:lnTo>
                <a:lnTo>
                  <a:pt x="52" y="132"/>
                </a:lnTo>
                <a:lnTo>
                  <a:pt x="106" y="182"/>
                </a:lnTo>
                <a:lnTo>
                  <a:pt x="173" y="233"/>
                </a:lnTo>
                <a:lnTo>
                  <a:pt x="241" y="274"/>
                </a:lnTo>
                <a:lnTo>
                  <a:pt x="314" y="297"/>
                </a:lnTo>
                <a:lnTo>
                  <a:pt x="373" y="318"/>
                </a:lnTo>
                <a:lnTo>
                  <a:pt x="470" y="330"/>
                </a:lnTo>
                <a:lnTo>
                  <a:pt x="488" y="318"/>
                </a:lnTo>
                <a:lnTo>
                  <a:pt x="521" y="327"/>
                </a:lnTo>
                <a:lnTo>
                  <a:pt x="535" y="347"/>
                </a:lnTo>
                <a:lnTo>
                  <a:pt x="603" y="385"/>
                </a:lnTo>
                <a:lnTo>
                  <a:pt x="670" y="406"/>
                </a:lnTo>
                <a:lnTo>
                  <a:pt x="693" y="415"/>
                </a:lnTo>
                <a:lnTo>
                  <a:pt x="705" y="435"/>
                </a:lnTo>
                <a:lnTo>
                  <a:pt x="628" y="571"/>
                </a:lnTo>
                <a:lnTo>
                  <a:pt x="623" y="592"/>
                </a:lnTo>
                <a:lnTo>
                  <a:pt x="647" y="613"/>
                </a:lnTo>
                <a:lnTo>
                  <a:pt x="640" y="645"/>
                </a:lnTo>
                <a:lnTo>
                  <a:pt x="594" y="632"/>
                </a:lnTo>
                <a:lnTo>
                  <a:pt x="584" y="613"/>
                </a:lnTo>
                <a:lnTo>
                  <a:pt x="588" y="586"/>
                </a:lnTo>
                <a:lnTo>
                  <a:pt x="676" y="444"/>
                </a:lnTo>
                <a:lnTo>
                  <a:pt x="670" y="429"/>
                </a:lnTo>
                <a:lnTo>
                  <a:pt x="614" y="412"/>
                </a:lnTo>
                <a:lnTo>
                  <a:pt x="565" y="385"/>
                </a:lnTo>
                <a:lnTo>
                  <a:pt x="514" y="360"/>
                </a:lnTo>
                <a:lnTo>
                  <a:pt x="496" y="339"/>
                </a:lnTo>
                <a:lnTo>
                  <a:pt x="420" y="347"/>
                </a:lnTo>
                <a:lnTo>
                  <a:pt x="335" y="333"/>
                </a:lnTo>
                <a:lnTo>
                  <a:pt x="267" y="306"/>
                </a:lnTo>
                <a:lnTo>
                  <a:pt x="194" y="266"/>
                </a:lnTo>
                <a:lnTo>
                  <a:pt x="129" y="220"/>
                </a:lnTo>
                <a:lnTo>
                  <a:pt x="67" y="174"/>
                </a:lnTo>
                <a:lnTo>
                  <a:pt x="17" y="124"/>
                </a:lnTo>
                <a:lnTo>
                  <a:pt x="0" y="94"/>
                </a:lnTo>
                <a:lnTo>
                  <a:pt x="17" y="67"/>
                </a:lnTo>
                <a:lnTo>
                  <a:pt x="79" y="32"/>
                </a:lnTo>
                <a:lnTo>
                  <a:pt x="111" y="9"/>
                </a:lnTo>
                <a:lnTo>
                  <a:pt x="196" y="0"/>
                </a:lnTo>
                <a:lnTo>
                  <a:pt x="19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831000" y="136440"/>
            <a:ext cx="130320" cy="177840"/>
          </a:xfrm>
          <a:custGeom>
            <a:avLst/>
            <a:gdLst/>
            <a:ahLst/>
            <a:rect l="l" t="t" r="r" b="b"/>
            <a:pathLst>
              <a:path w="410" h="562">
                <a:moveTo>
                  <a:pt x="122" y="172"/>
                </a:moveTo>
                <a:lnTo>
                  <a:pt x="172" y="109"/>
                </a:lnTo>
                <a:lnTo>
                  <a:pt x="211" y="51"/>
                </a:lnTo>
                <a:lnTo>
                  <a:pt x="240" y="0"/>
                </a:lnTo>
                <a:lnTo>
                  <a:pt x="259" y="13"/>
                </a:lnTo>
                <a:lnTo>
                  <a:pt x="247" y="38"/>
                </a:lnTo>
                <a:lnTo>
                  <a:pt x="207" y="95"/>
                </a:lnTo>
                <a:lnTo>
                  <a:pt x="157" y="157"/>
                </a:lnTo>
                <a:lnTo>
                  <a:pt x="124" y="216"/>
                </a:lnTo>
                <a:lnTo>
                  <a:pt x="143" y="246"/>
                </a:lnTo>
                <a:lnTo>
                  <a:pt x="172" y="301"/>
                </a:lnTo>
                <a:lnTo>
                  <a:pt x="226" y="376"/>
                </a:lnTo>
                <a:lnTo>
                  <a:pt x="319" y="470"/>
                </a:lnTo>
                <a:lnTo>
                  <a:pt x="396" y="541"/>
                </a:lnTo>
                <a:lnTo>
                  <a:pt x="410" y="559"/>
                </a:lnTo>
                <a:lnTo>
                  <a:pt x="384" y="562"/>
                </a:lnTo>
                <a:lnTo>
                  <a:pt x="282" y="532"/>
                </a:lnTo>
                <a:lnTo>
                  <a:pt x="205" y="503"/>
                </a:lnTo>
                <a:lnTo>
                  <a:pt x="122" y="447"/>
                </a:lnTo>
                <a:lnTo>
                  <a:pt x="47" y="397"/>
                </a:lnTo>
                <a:lnTo>
                  <a:pt x="2" y="351"/>
                </a:lnTo>
                <a:lnTo>
                  <a:pt x="0" y="340"/>
                </a:lnTo>
                <a:lnTo>
                  <a:pt x="66" y="307"/>
                </a:lnTo>
                <a:lnTo>
                  <a:pt x="113" y="287"/>
                </a:lnTo>
                <a:lnTo>
                  <a:pt x="151" y="293"/>
                </a:lnTo>
                <a:lnTo>
                  <a:pt x="118" y="311"/>
                </a:lnTo>
                <a:lnTo>
                  <a:pt x="59" y="337"/>
                </a:lnTo>
                <a:lnTo>
                  <a:pt x="33" y="351"/>
                </a:lnTo>
                <a:lnTo>
                  <a:pt x="80" y="403"/>
                </a:lnTo>
                <a:lnTo>
                  <a:pt x="145" y="449"/>
                </a:lnTo>
                <a:lnTo>
                  <a:pt x="203" y="482"/>
                </a:lnTo>
                <a:lnTo>
                  <a:pt x="253" y="505"/>
                </a:lnTo>
                <a:lnTo>
                  <a:pt x="313" y="524"/>
                </a:lnTo>
                <a:lnTo>
                  <a:pt x="371" y="538"/>
                </a:lnTo>
                <a:lnTo>
                  <a:pt x="303" y="479"/>
                </a:lnTo>
                <a:lnTo>
                  <a:pt x="228" y="408"/>
                </a:lnTo>
                <a:lnTo>
                  <a:pt x="166" y="322"/>
                </a:lnTo>
                <a:lnTo>
                  <a:pt x="116" y="243"/>
                </a:lnTo>
                <a:lnTo>
                  <a:pt x="103" y="225"/>
                </a:lnTo>
                <a:lnTo>
                  <a:pt x="122" y="1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862680" y="73080"/>
            <a:ext cx="68400" cy="77760"/>
          </a:xfrm>
          <a:custGeom>
            <a:avLst/>
            <a:gdLst/>
            <a:ahLst/>
            <a:rect l="l" t="t" r="r" b="b"/>
            <a:pathLst>
              <a:path w="214" h="245">
                <a:moveTo>
                  <a:pt x="132" y="239"/>
                </a:moveTo>
                <a:lnTo>
                  <a:pt x="95" y="202"/>
                </a:lnTo>
                <a:lnTo>
                  <a:pt x="40" y="148"/>
                </a:lnTo>
                <a:lnTo>
                  <a:pt x="0" y="88"/>
                </a:lnTo>
                <a:lnTo>
                  <a:pt x="6" y="37"/>
                </a:lnTo>
                <a:lnTo>
                  <a:pt x="40" y="0"/>
                </a:lnTo>
                <a:lnTo>
                  <a:pt x="77" y="6"/>
                </a:lnTo>
                <a:lnTo>
                  <a:pt x="120" y="39"/>
                </a:lnTo>
                <a:lnTo>
                  <a:pt x="159" y="103"/>
                </a:lnTo>
                <a:lnTo>
                  <a:pt x="187" y="173"/>
                </a:lnTo>
                <a:lnTo>
                  <a:pt x="193" y="208"/>
                </a:lnTo>
                <a:lnTo>
                  <a:pt x="214" y="245"/>
                </a:lnTo>
                <a:lnTo>
                  <a:pt x="169" y="206"/>
                </a:lnTo>
                <a:lnTo>
                  <a:pt x="159" y="136"/>
                </a:lnTo>
                <a:lnTo>
                  <a:pt x="132" y="78"/>
                </a:lnTo>
                <a:lnTo>
                  <a:pt x="98" y="37"/>
                </a:lnTo>
                <a:lnTo>
                  <a:pt x="55" y="21"/>
                </a:lnTo>
                <a:lnTo>
                  <a:pt x="34" y="33"/>
                </a:lnTo>
                <a:lnTo>
                  <a:pt x="24" y="72"/>
                </a:lnTo>
                <a:lnTo>
                  <a:pt x="34" y="111"/>
                </a:lnTo>
                <a:lnTo>
                  <a:pt x="67" y="154"/>
                </a:lnTo>
                <a:lnTo>
                  <a:pt x="104" y="185"/>
                </a:lnTo>
                <a:lnTo>
                  <a:pt x="153" y="226"/>
                </a:lnTo>
                <a:lnTo>
                  <a:pt x="132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867360" y="136440"/>
            <a:ext cx="128880" cy="92160"/>
          </a:xfrm>
          <a:custGeom>
            <a:avLst/>
            <a:gdLst/>
            <a:ahLst/>
            <a:rect l="l" t="t" r="r" b="b"/>
            <a:pathLst>
              <a:path w="407" h="289">
                <a:moveTo>
                  <a:pt x="0" y="225"/>
                </a:moveTo>
                <a:lnTo>
                  <a:pt x="27" y="289"/>
                </a:lnTo>
                <a:lnTo>
                  <a:pt x="54" y="250"/>
                </a:lnTo>
                <a:lnTo>
                  <a:pt x="83" y="244"/>
                </a:lnTo>
                <a:lnTo>
                  <a:pt x="166" y="211"/>
                </a:lnTo>
                <a:lnTo>
                  <a:pt x="264" y="151"/>
                </a:lnTo>
                <a:lnTo>
                  <a:pt x="351" y="75"/>
                </a:lnTo>
                <a:lnTo>
                  <a:pt x="407" y="7"/>
                </a:lnTo>
                <a:lnTo>
                  <a:pt x="384" y="0"/>
                </a:lnTo>
                <a:lnTo>
                  <a:pt x="347" y="58"/>
                </a:lnTo>
                <a:lnTo>
                  <a:pt x="303" y="103"/>
                </a:lnTo>
                <a:lnTo>
                  <a:pt x="253" y="142"/>
                </a:lnTo>
                <a:lnTo>
                  <a:pt x="181" y="184"/>
                </a:lnTo>
                <a:lnTo>
                  <a:pt x="104" y="214"/>
                </a:lnTo>
                <a:lnTo>
                  <a:pt x="39" y="223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6629400" y="228600"/>
            <a:ext cx="320760" cy="658800"/>
            <a:chOff x="6629400" y="228600"/>
            <a:chExt cx="320760" cy="658800"/>
          </a:xfrm>
        </p:grpSpPr>
        <p:sp>
          <p:nvSpPr>
            <p:cNvPr id="1155" name=""/>
            <p:cNvSpPr/>
            <p:nvPr/>
          </p:nvSpPr>
          <p:spPr>
            <a:xfrm>
              <a:off x="6629400" y="228600"/>
              <a:ext cx="154080" cy="147600"/>
            </a:xfrm>
            <a:custGeom>
              <a:avLst/>
              <a:gdLst/>
              <a:ahLst/>
              <a:rect l="l" t="t" r="r" b="b"/>
              <a:pathLst>
                <a:path w="485" h="467">
                  <a:moveTo>
                    <a:pt x="308" y="106"/>
                  </a:moveTo>
                  <a:lnTo>
                    <a:pt x="260" y="47"/>
                  </a:lnTo>
                  <a:lnTo>
                    <a:pt x="212" y="12"/>
                  </a:lnTo>
                  <a:lnTo>
                    <a:pt x="154" y="0"/>
                  </a:lnTo>
                  <a:lnTo>
                    <a:pt x="100" y="12"/>
                  </a:lnTo>
                  <a:lnTo>
                    <a:pt x="47" y="41"/>
                  </a:lnTo>
                  <a:lnTo>
                    <a:pt x="18" y="100"/>
                  </a:lnTo>
                  <a:lnTo>
                    <a:pt x="0" y="195"/>
                  </a:lnTo>
                  <a:lnTo>
                    <a:pt x="18" y="277"/>
                  </a:lnTo>
                  <a:lnTo>
                    <a:pt x="53" y="342"/>
                  </a:lnTo>
                  <a:lnTo>
                    <a:pt x="100" y="402"/>
                  </a:lnTo>
                  <a:lnTo>
                    <a:pt x="166" y="448"/>
                  </a:lnTo>
                  <a:lnTo>
                    <a:pt x="225" y="467"/>
                  </a:lnTo>
                  <a:lnTo>
                    <a:pt x="278" y="461"/>
                  </a:lnTo>
                  <a:lnTo>
                    <a:pt x="337" y="431"/>
                  </a:lnTo>
                  <a:lnTo>
                    <a:pt x="349" y="390"/>
                  </a:lnTo>
                  <a:lnTo>
                    <a:pt x="349" y="313"/>
                  </a:lnTo>
                  <a:lnTo>
                    <a:pt x="349" y="236"/>
                  </a:lnTo>
                  <a:lnTo>
                    <a:pt x="331" y="154"/>
                  </a:lnTo>
                  <a:lnTo>
                    <a:pt x="396" y="129"/>
                  </a:lnTo>
                  <a:lnTo>
                    <a:pt x="462" y="83"/>
                  </a:lnTo>
                  <a:lnTo>
                    <a:pt x="485" y="58"/>
                  </a:lnTo>
                  <a:lnTo>
                    <a:pt x="479" y="47"/>
                  </a:lnTo>
                  <a:lnTo>
                    <a:pt x="444" y="47"/>
                  </a:lnTo>
                  <a:lnTo>
                    <a:pt x="379" y="89"/>
                  </a:lnTo>
                  <a:lnTo>
                    <a:pt x="308" y="106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91320" y="390600"/>
              <a:ext cx="127080" cy="236520"/>
            </a:xfrm>
            <a:custGeom>
              <a:avLst/>
              <a:gdLst/>
              <a:ahLst/>
              <a:rect l="l" t="t" r="r" b="b"/>
              <a:pathLst>
                <a:path w="398" h="745">
                  <a:moveTo>
                    <a:pt x="77" y="13"/>
                  </a:moveTo>
                  <a:lnTo>
                    <a:pt x="131" y="0"/>
                  </a:lnTo>
                  <a:lnTo>
                    <a:pt x="197" y="7"/>
                  </a:lnTo>
                  <a:lnTo>
                    <a:pt x="255" y="42"/>
                  </a:lnTo>
                  <a:lnTo>
                    <a:pt x="309" y="112"/>
                  </a:lnTo>
                  <a:lnTo>
                    <a:pt x="357" y="217"/>
                  </a:lnTo>
                  <a:lnTo>
                    <a:pt x="380" y="311"/>
                  </a:lnTo>
                  <a:lnTo>
                    <a:pt x="398" y="399"/>
                  </a:lnTo>
                  <a:lnTo>
                    <a:pt x="398" y="499"/>
                  </a:lnTo>
                  <a:lnTo>
                    <a:pt x="369" y="592"/>
                  </a:lnTo>
                  <a:lnTo>
                    <a:pt x="338" y="645"/>
                  </a:lnTo>
                  <a:lnTo>
                    <a:pt x="291" y="699"/>
                  </a:lnTo>
                  <a:lnTo>
                    <a:pt x="238" y="733"/>
                  </a:lnTo>
                  <a:lnTo>
                    <a:pt x="160" y="745"/>
                  </a:lnTo>
                  <a:lnTo>
                    <a:pt x="112" y="716"/>
                  </a:lnTo>
                  <a:lnTo>
                    <a:pt x="77" y="663"/>
                  </a:lnTo>
                  <a:lnTo>
                    <a:pt x="71" y="592"/>
                  </a:lnTo>
                  <a:lnTo>
                    <a:pt x="95" y="534"/>
                  </a:lnTo>
                  <a:lnTo>
                    <a:pt x="118" y="487"/>
                  </a:lnTo>
                  <a:lnTo>
                    <a:pt x="137" y="422"/>
                  </a:lnTo>
                  <a:lnTo>
                    <a:pt x="124" y="370"/>
                  </a:lnTo>
                  <a:lnTo>
                    <a:pt x="101" y="317"/>
                  </a:lnTo>
                  <a:lnTo>
                    <a:pt x="41" y="252"/>
                  </a:lnTo>
                  <a:lnTo>
                    <a:pt x="12" y="188"/>
                  </a:lnTo>
                  <a:lnTo>
                    <a:pt x="0" y="106"/>
                  </a:lnTo>
                  <a:lnTo>
                    <a:pt x="23" y="53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30840" y="411120"/>
              <a:ext cx="95400" cy="222120"/>
            </a:xfrm>
            <a:custGeom>
              <a:avLst/>
              <a:gdLst/>
              <a:ahLst/>
              <a:rect l="l" t="t" r="r" b="b"/>
              <a:pathLst>
                <a:path w="301" h="699">
                  <a:moveTo>
                    <a:pt x="150" y="88"/>
                  </a:moveTo>
                  <a:lnTo>
                    <a:pt x="198" y="17"/>
                  </a:lnTo>
                  <a:lnTo>
                    <a:pt x="259" y="0"/>
                  </a:lnTo>
                  <a:lnTo>
                    <a:pt x="276" y="42"/>
                  </a:lnTo>
                  <a:lnTo>
                    <a:pt x="270" y="141"/>
                  </a:lnTo>
                  <a:lnTo>
                    <a:pt x="222" y="153"/>
                  </a:lnTo>
                  <a:lnTo>
                    <a:pt x="168" y="194"/>
                  </a:lnTo>
                  <a:lnTo>
                    <a:pt x="109" y="276"/>
                  </a:lnTo>
                  <a:lnTo>
                    <a:pt x="78" y="335"/>
                  </a:lnTo>
                  <a:lnTo>
                    <a:pt x="126" y="358"/>
                  </a:lnTo>
                  <a:lnTo>
                    <a:pt x="210" y="400"/>
                  </a:lnTo>
                  <a:lnTo>
                    <a:pt x="253" y="429"/>
                  </a:lnTo>
                  <a:lnTo>
                    <a:pt x="301" y="488"/>
                  </a:lnTo>
                  <a:lnTo>
                    <a:pt x="282" y="529"/>
                  </a:lnTo>
                  <a:lnTo>
                    <a:pt x="247" y="540"/>
                  </a:lnTo>
                  <a:lnTo>
                    <a:pt x="216" y="564"/>
                  </a:lnTo>
                  <a:lnTo>
                    <a:pt x="181" y="605"/>
                  </a:lnTo>
                  <a:lnTo>
                    <a:pt x="175" y="670"/>
                  </a:lnTo>
                  <a:lnTo>
                    <a:pt x="144" y="699"/>
                  </a:lnTo>
                  <a:lnTo>
                    <a:pt x="126" y="676"/>
                  </a:lnTo>
                  <a:lnTo>
                    <a:pt x="132" y="617"/>
                  </a:lnTo>
                  <a:lnTo>
                    <a:pt x="162" y="553"/>
                  </a:lnTo>
                  <a:lnTo>
                    <a:pt x="210" y="523"/>
                  </a:lnTo>
                  <a:lnTo>
                    <a:pt x="247" y="494"/>
                  </a:lnTo>
                  <a:lnTo>
                    <a:pt x="228" y="465"/>
                  </a:lnTo>
                  <a:lnTo>
                    <a:pt x="192" y="435"/>
                  </a:lnTo>
                  <a:lnTo>
                    <a:pt x="138" y="406"/>
                  </a:lnTo>
                  <a:lnTo>
                    <a:pt x="66" y="388"/>
                  </a:lnTo>
                  <a:lnTo>
                    <a:pt x="12" y="377"/>
                  </a:lnTo>
                  <a:lnTo>
                    <a:pt x="0" y="352"/>
                  </a:lnTo>
                  <a:lnTo>
                    <a:pt x="12" y="312"/>
                  </a:lnTo>
                  <a:lnTo>
                    <a:pt x="47" y="276"/>
                  </a:lnTo>
                  <a:lnTo>
                    <a:pt x="84" y="229"/>
                  </a:lnTo>
                  <a:lnTo>
                    <a:pt x="120" y="159"/>
                  </a:lnTo>
                  <a:lnTo>
                    <a:pt x="150" y="8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37400" y="293760"/>
              <a:ext cx="212760" cy="150840"/>
            </a:xfrm>
            <a:custGeom>
              <a:avLst/>
              <a:gdLst/>
              <a:ahLst/>
              <a:rect l="l" t="t" r="r" b="b"/>
              <a:pathLst>
                <a:path w="671" h="473">
                  <a:moveTo>
                    <a:pt x="0" y="348"/>
                  </a:moveTo>
                  <a:lnTo>
                    <a:pt x="6" y="319"/>
                  </a:lnTo>
                  <a:lnTo>
                    <a:pt x="77" y="308"/>
                  </a:lnTo>
                  <a:lnTo>
                    <a:pt x="153" y="325"/>
                  </a:lnTo>
                  <a:lnTo>
                    <a:pt x="230" y="354"/>
                  </a:lnTo>
                  <a:lnTo>
                    <a:pt x="324" y="379"/>
                  </a:lnTo>
                  <a:lnTo>
                    <a:pt x="366" y="384"/>
                  </a:lnTo>
                  <a:lnTo>
                    <a:pt x="406" y="343"/>
                  </a:lnTo>
                  <a:lnTo>
                    <a:pt x="454" y="266"/>
                  </a:lnTo>
                  <a:lnTo>
                    <a:pt x="519" y="160"/>
                  </a:lnTo>
                  <a:lnTo>
                    <a:pt x="548" y="94"/>
                  </a:lnTo>
                  <a:lnTo>
                    <a:pt x="542" y="58"/>
                  </a:lnTo>
                  <a:lnTo>
                    <a:pt x="506" y="6"/>
                  </a:lnTo>
                  <a:lnTo>
                    <a:pt x="542" y="0"/>
                  </a:lnTo>
                  <a:lnTo>
                    <a:pt x="571" y="53"/>
                  </a:lnTo>
                  <a:lnTo>
                    <a:pt x="619" y="71"/>
                  </a:lnTo>
                  <a:lnTo>
                    <a:pt x="671" y="89"/>
                  </a:lnTo>
                  <a:lnTo>
                    <a:pt x="630" y="124"/>
                  </a:lnTo>
                  <a:lnTo>
                    <a:pt x="589" y="141"/>
                  </a:lnTo>
                  <a:lnTo>
                    <a:pt x="542" y="212"/>
                  </a:lnTo>
                  <a:lnTo>
                    <a:pt x="500" y="272"/>
                  </a:lnTo>
                  <a:lnTo>
                    <a:pt x="460" y="360"/>
                  </a:lnTo>
                  <a:lnTo>
                    <a:pt x="418" y="425"/>
                  </a:lnTo>
                  <a:lnTo>
                    <a:pt x="377" y="473"/>
                  </a:lnTo>
                  <a:lnTo>
                    <a:pt x="341" y="473"/>
                  </a:lnTo>
                  <a:lnTo>
                    <a:pt x="301" y="437"/>
                  </a:lnTo>
                  <a:lnTo>
                    <a:pt x="241" y="414"/>
                  </a:lnTo>
                  <a:lnTo>
                    <a:pt x="176" y="402"/>
                  </a:lnTo>
                  <a:lnTo>
                    <a:pt x="82" y="390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51800" y="592200"/>
              <a:ext cx="104760" cy="293760"/>
            </a:xfrm>
            <a:custGeom>
              <a:avLst/>
              <a:gdLst/>
              <a:ahLst/>
              <a:rect l="l" t="t" r="r" b="b"/>
              <a:pathLst>
                <a:path w="331" h="925">
                  <a:moveTo>
                    <a:pt x="31" y="0"/>
                  </a:moveTo>
                  <a:lnTo>
                    <a:pt x="91" y="17"/>
                  </a:lnTo>
                  <a:lnTo>
                    <a:pt x="139" y="76"/>
                  </a:lnTo>
                  <a:lnTo>
                    <a:pt x="174" y="200"/>
                  </a:lnTo>
                  <a:lnTo>
                    <a:pt x="199" y="351"/>
                  </a:lnTo>
                  <a:lnTo>
                    <a:pt x="192" y="492"/>
                  </a:lnTo>
                  <a:lnTo>
                    <a:pt x="168" y="609"/>
                  </a:lnTo>
                  <a:lnTo>
                    <a:pt x="139" y="731"/>
                  </a:lnTo>
                  <a:lnTo>
                    <a:pt x="133" y="773"/>
                  </a:lnTo>
                  <a:lnTo>
                    <a:pt x="157" y="796"/>
                  </a:lnTo>
                  <a:lnTo>
                    <a:pt x="246" y="819"/>
                  </a:lnTo>
                  <a:lnTo>
                    <a:pt x="331" y="855"/>
                  </a:lnTo>
                  <a:lnTo>
                    <a:pt x="331" y="878"/>
                  </a:lnTo>
                  <a:lnTo>
                    <a:pt x="265" y="925"/>
                  </a:lnTo>
                  <a:lnTo>
                    <a:pt x="223" y="907"/>
                  </a:lnTo>
                  <a:lnTo>
                    <a:pt x="192" y="872"/>
                  </a:lnTo>
                  <a:lnTo>
                    <a:pt x="133" y="837"/>
                  </a:lnTo>
                  <a:lnTo>
                    <a:pt x="73" y="830"/>
                  </a:lnTo>
                  <a:lnTo>
                    <a:pt x="48" y="807"/>
                  </a:lnTo>
                  <a:lnTo>
                    <a:pt x="60" y="767"/>
                  </a:lnTo>
                  <a:lnTo>
                    <a:pt x="79" y="738"/>
                  </a:lnTo>
                  <a:lnTo>
                    <a:pt x="108" y="673"/>
                  </a:lnTo>
                  <a:lnTo>
                    <a:pt x="139" y="550"/>
                  </a:lnTo>
                  <a:lnTo>
                    <a:pt x="139" y="422"/>
                  </a:lnTo>
                  <a:lnTo>
                    <a:pt x="126" y="305"/>
                  </a:lnTo>
                  <a:lnTo>
                    <a:pt x="91" y="187"/>
                  </a:lnTo>
                  <a:lnTo>
                    <a:pt x="42" y="112"/>
                  </a:lnTo>
                  <a:lnTo>
                    <a:pt x="0" y="7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75480" y="595440"/>
              <a:ext cx="79200" cy="291960"/>
            </a:xfrm>
            <a:custGeom>
              <a:avLst/>
              <a:gdLst/>
              <a:ahLst/>
              <a:rect l="l" t="t" r="r" b="b"/>
              <a:pathLst>
                <a:path w="253" h="918">
                  <a:moveTo>
                    <a:pt x="103" y="122"/>
                  </a:moveTo>
                  <a:lnTo>
                    <a:pt x="151" y="23"/>
                  </a:lnTo>
                  <a:lnTo>
                    <a:pt x="223" y="0"/>
                  </a:lnTo>
                  <a:lnTo>
                    <a:pt x="253" y="35"/>
                  </a:lnTo>
                  <a:lnTo>
                    <a:pt x="229" y="94"/>
                  </a:lnTo>
                  <a:lnTo>
                    <a:pt x="199" y="140"/>
                  </a:lnTo>
                  <a:lnTo>
                    <a:pt x="175" y="222"/>
                  </a:lnTo>
                  <a:lnTo>
                    <a:pt x="157" y="344"/>
                  </a:lnTo>
                  <a:lnTo>
                    <a:pt x="157" y="473"/>
                  </a:lnTo>
                  <a:lnTo>
                    <a:pt x="175" y="613"/>
                  </a:lnTo>
                  <a:lnTo>
                    <a:pt x="175" y="748"/>
                  </a:lnTo>
                  <a:lnTo>
                    <a:pt x="187" y="800"/>
                  </a:lnTo>
                  <a:lnTo>
                    <a:pt x="163" y="836"/>
                  </a:lnTo>
                  <a:lnTo>
                    <a:pt x="127" y="865"/>
                  </a:lnTo>
                  <a:lnTo>
                    <a:pt x="91" y="905"/>
                  </a:lnTo>
                  <a:lnTo>
                    <a:pt x="43" y="918"/>
                  </a:lnTo>
                  <a:lnTo>
                    <a:pt x="6" y="877"/>
                  </a:lnTo>
                  <a:lnTo>
                    <a:pt x="0" y="842"/>
                  </a:lnTo>
                  <a:lnTo>
                    <a:pt x="43" y="819"/>
                  </a:lnTo>
                  <a:lnTo>
                    <a:pt x="103" y="795"/>
                  </a:lnTo>
                  <a:lnTo>
                    <a:pt x="127" y="760"/>
                  </a:lnTo>
                  <a:lnTo>
                    <a:pt x="132" y="701"/>
                  </a:lnTo>
                  <a:lnTo>
                    <a:pt x="121" y="602"/>
                  </a:lnTo>
                  <a:lnTo>
                    <a:pt x="103" y="502"/>
                  </a:lnTo>
                  <a:lnTo>
                    <a:pt x="103" y="415"/>
                  </a:lnTo>
                  <a:lnTo>
                    <a:pt x="97" y="298"/>
                  </a:lnTo>
                  <a:lnTo>
                    <a:pt x="97" y="210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176040" y="5364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composant est supporté par les potele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>
            <a:hlinkClick r:id="" action="ppaction://hlinkshowjump?jump=nextslide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>
            <a:hlinkClick r:id="rId5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>
            <a:hlinkClick r:id="rId6" action="ppaction://hlinksldjump"/>
          </p:cNvPr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>
            <a:hlinkClick r:id="rId7" action="ppaction://hlinksldjump"/>
          </p:cNvPr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rId8" action="ppaction://hlinksldjump"/>
          </p:cNvPr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>
            <a:hlinkClick r:id="rId9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18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19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21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2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2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2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23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244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245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248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253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25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25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26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27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28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29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4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295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296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2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303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321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4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345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348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360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369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37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37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38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38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39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39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00" name=""/>
          <p:cNvSpPr/>
          <p:nvPr/>
        </p:nvSpPr>
        <p:spPr>
          <a:xfrm flipH="1">
            <a:off x="2257560" y="4110120"/>
            <a:ext cx="144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116000" y="2166840"/>
            <a:ext cx="4246560" cy="3413160"/>
            <a:chOff x="1116000" y="2166840"/>
            <a:chExt cx="4246560" cy="3413160"/>
          </a:xfrm>
        </p:grpSpPr>
        <p:sp>
          <p:nvSpPr>
            <p:cNvPr id="1402" name=""/>
            <p:cNvSpPr/>
            <p:nvPr/>
          </p:nvSpPr>
          <p:spPr>
            <a:xfrm>
              <a:off x="5362560" y="2349360"/>
              <a:ext cx="0" cy="12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89440" y="2255760"/>
              <a:ext cx="0" cy="13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97240" y="2166840"/>
              <a:ext cx="0" cy="14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03600" y="2260440"/>
              <a:ext cx="0" cy="138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054240" y="2344680"/>
              <a:ext cx="0" cy="12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424320" y="4292640"/>
              <a:ext cx="0" cy="128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51200" y="4205160"/>
              <a:ext cx="0" cy="136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63560" y="4199040"/>
              <a:ext cx="0" cy="137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116000" y="4287960"/>
              <a:ext cx="0" cy="128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412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44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44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45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45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46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47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476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477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485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2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493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494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497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502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50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50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51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52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53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54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55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57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3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594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59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609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61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61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62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62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63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63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0" name=""/>
          <p:cNvSpPr/>
          <p:nvPr/>
        </p:nvSpPr>
        <p:spPr>
          <a:xfrm flipH="1">
            <a:off x="2257560" y="4110120"/>
            <a:ext cx="144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1116000" y="2166840"/>
            <a:ext cx="4246560" cy="3413160"/>
            <a:chOff x="1116000" y="2166840"/>
            <a:chExt cx="4246560" cy="3413160"/>
          </a:xfrm>
        </p:grpSpPr>
        <p:sp>
          <p:nvSpPr>
            <p:cNvPr id="1642" name=""/>
            <p:cNvSpPr/>
            <p:nvPr/>
          </p:nvSpPr>
          <p:spPr>
            <a:xfrm>
              <a:off x="5362560" y="2349360"/>
              <a:ext cx="0" cy="12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89440" y="2255760"/>
              <a:ext cx="0" cy="13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97240" y="2166840"/>
              <a:ext cx="0" cy="14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603600" y="2260440"/>
              <a:ext cx="0" cy="138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054240" y="2344680"/>
              <a:ext cx="0" cy="12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24320" y="4292640"/>
              <a:ext cx="0" cy="128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851200" y="4205160"/>
              <a:ext cx="0" cy="136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63560" y="4199040"/>
              <a:ext cx="0" cy="137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116000" y="4287960"/>
              <a:ext cx="0" cy="128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652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6483240" y="217440"/>
            <a:ext cx="1527480" cy="1551600"/>
            <a:chOff x="6483240" y="217440"/>
            <a:chExt cx="1527480" cy="1551600"/>
          </a:xfrm>
        </p:grpSpPr>
        <p:grpSp>
          <p:nvGrpSpPr>
            <p:cNvPr id="1661" name=""/>
            <p:cNvGrpSpPr/>
            <p:nvPr/>
          </p:nvGrpSpPr>
          <p:grpSpPr>
            <a:xfrm>
              <a:off x="7202160" y="366480"/>
              <a:ext cx="808560" cy="1402560"/>
              <a:chOff x="7202160" y="366480"/>
              <a:chExt cx="808560" cy="1402560"/>
            </a:xfrm>
          </p:grpSpPr>
          <p:sp>
            <p:nvSpPr>
              <p:cNvPr id="1662" name=""/>
              <p:cNvSpPr/>
              <p:nvPr/>
            </p:nvSpPr>
            <p:spPr>
              <a:xfrm>
                <a:off x="7502760" y="552960"/>
                <a:ext cx="273960" cy="239760"/>
              </a:xfrm>
              <a:custGeom>
                <a:avLst/>
                <a:gdLst/>
                <a:ahLst/>
                <a:rect l="l" t="t" r="r" b="b"/>
                <a:pathLst>
                  <a:path w="472" h="413">
                    <a:moveTo>
                      <a:pt x="164" y="99"/>
                    </a:moveTo>
                    <a:lnTo>
                      <a:pt x="188" y="44"/>
                    </a:lnTo>
                    <a:lnTo>
                      <a:pt x="255" y="7"/>
                    </a:lnTo>
                    <a:lnTo>
                      <a:pt x="301" y="0"/>
                    </a:lnTo>
                    <a:lnTo>
                      <a:pt x="351" y="0"/>
                    </a:lnTo>
                    <a:lnTo>
                      <a:pt x="435" y="31"/>
                    </a:lnTo>
                    <a:lnTo>
                      <a:pt x="472" y="112"/>
                    </a:lnTo>
                    <a:lnTo>
                      <a:pt x="454" y="220"/>
                    </a:lnTo>
                    <a:lnTo>
                      <a:pt x="395" y="313"/>
                    </a:lnTo>
                    <a:lnTo>
                      <a:pt x="333" y="377"/>
                    </a:lnTo>
                    <a:lnTo>
                      <a:pt x="266" y="405"/>
                    </a:lnTo>
                    <a:lnTo>
                      <a:pt x="216" y="413"/>
                    </a:lnTo>
                    <a:lnTo>
                      <a:pt x="164" y="397"/>
                    </a:lnTo>
                    <a:lnTo>
                      <a:pt x="123" y="353"/>
                    </a:lnTo>
                    <a:lnTo>
                      <a:pt x="104" y="298"/>
                    </a:lnTo>
                    <a:lnTo>
                      <a:pt x="107" y="238"/>
                    </a:lnTo>
                    <a:lnTo>
                      <a:pt x="126" y="166"/>
                    </a:lnTo>
                    <a:lnTo>
                      <a:pt x="135" y="154"/>
                    </a:lnTo>
                    <a:lnTo>
                      <a:pt x="13" y="77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29" y="22"/>
                    </a:lnTo>
                    <a:lnTo>
                      <a:pt x="164" y="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683480" y="874440"/>
                <a:ext cx="327240" cy="461520"/>
              </a:xfrm>
              <a:custGeom>
                <a:avLst/>
                <a:gdLst/>
                <a:ahLst/>
                <a:rect l="l" t="t" r="r" b="b"/>
                <a:pathLst>
                  <a:path w="562" h="792">
                    <a:moveTo>
                      <a:pt x="68" y="13"/>
                    </a:moveTo>
                    <a:lnTo>
                      <a:pt x="199" y="46"/>
                    </a:lnTo>
                    <a:lnTo>
                      <a:pt x="339" y="128"/>
                    </a:lnTo>
                    <a:lnTo>
                      <a:pt x="420" y="200"/>
                    </a:lnTo>
                    <a:lnTo>
                      <a:pt x="503" y="285"/>
                    </a:lnTo>
                    <a:lnTo>
                      <a:pt x="544" y="346"/>
                    </a:lnTo>
                    <a:lnTo>
                      <a:pt x="562" y="428"/>
                    </a:lnTo>
                    <a:lnTo>
                      <a:pt x="550" y="463"/>
                    </a:lnTo>
                    <a:lnTo>
                      <a:pt x="506" y="505"/>
                    </a:lnTo>
                    <a:lnTo>
                      <a:pt x="401" y="532"/>
                    </a:lnTo>
                    <a:lnTo>
                      <a:pt x="290" y="547"/>
                    </a:lnTo>
                    <a:lnTo>
                      <a:pt x="228" y="552"/>
                    </a:lnTo>
                    <a:lnTo>
                      <a:pt x="246" y="591"/>
                    </a:lnTo>
                    <a:lnTo>
                      <a:pt x="311" y="655"/>
                    </a:lnTo>
                    <a:lnTo>
                      <a:pt x="367" y="693"/>
                    </a:lnTo>
                    <a:lnTo>
                      <a:pt x="428" y="732"/>
                    </a:lnTo>
                    <a:lnTo>
                      <a:pt x="438" y="768"/>
                    </a:lnTo>
                    <a:lnTo>
                      <a:pt x="410" y="792"/>
                    </a:lnTo>
                    <a:lnTo>
                      <a:pt x="363" y="776"/>
                    </a:lnTo>
                    <a:lnTo>
                      <a:pt x="264" y="683"/>
                    </a:lnTo>
                    <a:lnTo>
                      <a:pt x="215" y="631"/>
                    </a:lnTo>
                    <a:lnTo>
                      <a:pt x="181" y="552"/>
                    </a:lnTo>
                    <a:lnTo>
                      <a:pt x="190" y="523"/>
                    </a:lnTo>
                    <a:lnTo>
                      <a:pt x="243" y="514"/>
                    </a:lnTo>
                    <a:lnTo>
                      <a:pt x="336" y="509"/>
                    </a:lnTo>
                    <a:lnTo>
                      <a:pt x="423" y="490"/>
                    </a:lnTo>
                    <a:lnTo>
                      <a:pt x="469" y="467"/>
                    </a:lnTo>
                    <a:lnTo>
                      <a:pt x="503" y="432"/>
                    </a:lnTo>
                    <a:lnTo>
                      <a:pt x="503" y="397"/>
                    </a:lnTo>
                    <a:lnTo>
                      <a:pt x="488" y="339"/>
                    </a:lnTo>
                    <a:lnTo>
                      <a:pt x="451" y="300"/>
                    </a:lnTo>
                    <a:lnTo>
                      <a:pt x="420" y="259"/>
                    </a:lnTo>
                    <a:lnTo>
                      <a:pt x="373" y="229"/>
                    </a:lnTo>
                    <a:lnTo>
                      <a:pt x="311" y="177"/>
                    </a:lnTo>
                    <a:lnTo>
                      <a:pt x="236" y="138"/>
                    </a:lnTo>
                    <a:lnTo>
                      <a:pt x="168" y="121"/>
                    </a:lnTo>
                    <a:lnTo>
                      <a:pt x="85" y="108"/>
                    </a:lnTo>
                    <a:lnTo>
                      <a:pt x="32" y="90"/>
                    </a:lnTo>
                    <a:lnTo>
                      <a:pt x="0" y="59"/>
                    </a:lnTo>
                    <a:lnTo>
                      <a:pt x="0" y="15"/>
                    </a:lnTo>
                    <a:lnTo>
                      <a:pt x="32" y="0"/>
                    </a:lnTo>
                    <a:lnTo>
                      <a:pt x="94" y="13"/>
                    </a:lnTo>
                    <a:lnTo>
                      <a:pt x="103" y="15"/>
                    </a:lnTo>
                    <a:lnTo>
                      <a:pt x="68" y="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202160" y="366480"/>
                <a:ext cx="381960" cy="525960"/>
              </a:xfrm>
              <a:custGeom>
                <a:avLst/>
                <a:gdLst/>
                <a:ahLst/>
                <a:rect l="l" t="t" r="r" b="b"/>
                <a:pathLst>
                  <a:path w="651" h="898">
                    <a:moveTo>
                      <a:pt x="596" y="772"/>
                    </a:moveTo>
                    <a:lnTo>
                      <a:pt x="645" y="812"/>
                    </a:lnTo>
                    <a:lnTo>
                      <a:pt x="651" y="852"/>
                    </a:lnTo>
                    <a:lnTo>
                      <a:pt x="633" y="890"/>
                    </a:lnTo>
                    <a:lnTo>
                      <a:pt x="580" y="898"/>
                    </a:lnTo>
                    <a:lnTo>
                      <a:pt x="511" y="821"/>
                    </a:lnTo>
                    <a:lnTo>
                      <a:pt x="484" y="756"/>
                    </a:lnTo>
                    <a:lnTo>
                      <a:pt x="431" y="673"/>
                    </a:lnTo>
                    <a:lnTo>
                      <a:pt x="381" y="580"/>
                    </a:lnTo>
                    <a:lnTo>
                      <a:pt x="335" y="504"/>
                    </a:lnTo>
                    <a:lnTo>
                      <a:pt x="270" y="407"/>
                    </a:lnTo>
                    <a:lnTo>
                      <a:pt x="189" y="318"/>
                    </a:lnTo>
                    <a:lnTo>
                      <a:pt x="124" y="240"/>
                    </a:lnTo>
                    <a:lnTo>
                      <a:pt x="93" y="217"/>
                    </a:lnTo>
                    <a:lnTo>
                      <a:pt x="65" y="217"/>
                    </a:lnTo>
                    <a:lnTo>
                      <a:pt x="21" y="201"/>
                    </a:lnTo>
                    <a:lnTo>
                      <a:pt x="9" y="168"/>
                    </a:lnTo>
                    <a:lnTo>
                      <a:pt x="0" y="108"/>
                    </a:lnTo>
                    <a:lnTo>
                      <a:pt x="9" y="52"/>
                    </a:lnTo>
                    <a:lnTo>
                      <a:pt x="31" y="15"/>
                    </a:lnTo>
                    <a:lnTo>
                      <a:pt x="58" y="0"/>
                    </a:lnTo>
                    <a:lnTo>
                      <a:pt x="96" y="21"/>
                    </a:lnTo>
                    <a:lnTo>
                      <a:pt x="114" y="8"/>
                    </a:lnTo>
                    <a:lnTo>
                      <a:pt x="130" y="37"/>
                    </a:lnTo>
                    <a:lnTo>
                      <a:pt x="143" y="108"/>
                    </a:lnTo>
                    <a:lnTo>
                      <a:pt x="133" y="145"/>
                    </a:lnTo>
                    <a:lnTo>
                      <a:pt x="140" y="201"/>
                    </a:lnTo>
                    <a:lnTo>
                      <a:pt x="171" y="240"/>
                    </a:lnTo>
                    <a:lnTo>
                      <a:pt x="244" y="323"/>
                    </a:lnTo>
                    <a:lnTo>
                      <a:pt x="301" y="380"/>
                    </a:lnTo>
                    <a:lnTo>
                      <a:pt x="356" y="449"/>
                    </a:lnTo>
                    <a:lnTo>
                      <a:pt x="391" y="495"/>
                    </a:lnTo>
                    <a:lnTo>
                      <a:pt x="459" y="570"/>
                    </a:lnTo>
                    <a:lnTo>
                      <a:pt x="511" y="658"/>
                    </a:lnTo>
                    <a:lnTo>
                      <a:pt x="562" y="759"/>
                    </a:lnTo>
                    <a:lnTo>
                      <a:pt x="596" y="77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490880" y="813600"/>
                <a:ext cx="233640" cy="478800"/>
              </a:xfrm>
              <a:custGeom>
                <a:avLst/>
                <a:gdLst/>
                <a:ahLst/>
                <a:rect l="l" t="t" r="r" b="b"/>
                <a:pathLst>
                  <a:path w="401" h="821">
                    <a:moveTo>
                      <a:pt x="13" y="216"/>
                    </a:moveTo>
                    <a:lnTo>
                      <a:pt x="56" y="108"/>
                    </a:lnTo>
                    <a:lnTo>
                      <a:pt x="93" y="57"/>
                    </a:lnTo>
                    <a:lnTo>
                      <a:pt x="158" y="4"/>
                    </a:lnTo>
                    <a:lnTo>
                      <a:pt x="215" y="0"/>
                    </a:lnTo>
                    <a:lnTo>
                      <a:pt x="274" y="16"/>
                    </a:lnTo>
                    <a:lnTo>
                      <a:pt x="326" y="55"/>
                    </a:lnTo>
                    <a:lnTo>
                      <a:pt x="326" y="126"/>
                    </a:lnTo>
                    <a:lnTo>
                      <a:pt x="301" y="188"/>
                    </a:lnTo>
                    <a:lnTo>
                      <a:pt x="301" y="302"/>
                    </a:lnTo>
                    <a:lnTo>
                      <a:pt x="311" y="474"/>
                    </a:lnTo>
                    <a:lnTo>
                      <a:pt x="357" y="579"/>
                    </a:lnTo>
                    <a:lnTo>
                      <a:pt x="401" y="664"/>
                    </a:lnTo>
                    <a:lnTo>
                      <a:pt x="401" y="729"/>
                    </a:lnTo>
                    <a:lnTo>
                      <a:pt x="354" y="790"/>
                    </a:lnTo>
                    <a:lnTo>
                      <a:pt x="316" y="819"/>
                    </a:lnTo>
                    <a:lnTo>
                      <a:pt x="261" y="821"/>
                    </a:lnTo>
                    <a:lnTo>
                      <a:pt x="196" y="821"/>
                    </a:lnTo>
                    <a:lnTo>
                      <a:pt x="124" y="803"/>
                    </a:lnTo>
                    <a:lnTo>
                      <a:pt x="56" y="695"/>
                    </a:lnTo>
                    <a:lnTo>
                      <a:pt x="18" y="567"/>
                    </a:lnTo>
                    <a:lnTo>
                      <a:pt x="0" y="466"/>
                    </a:lnTo>
                    <a:lnTo>
                      <a:pt x="0" y="348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578360" y="1222200"/>
                <a:ext cx="198720" cy="502560"/>
              </a:xfrm>
              <a:custGeom>
                <a:avLst/>
                <a:gdLst/>
                <a:ahLst/>
                <a:rect l="l" t="t" r="r" b="b"/>
                <a:pathLst>
                  <a:path w="338" h="860">
                    <a:moveTo>
                      <a:pt x="186" y="15"/>
                    </a:moveTo>
                    <a:lnTo>
                      <a:pt x="143" y="0"/>
                    </a:lnTo>
                    <a:lnTo>
                      <a:pt x="102" y="20"/>
                    </a:lnTo>
                    <a:lnTo>
                      <a:pt x="78" y="93"/>
                    </a:lnTo>
                    <a:lnTo>
                      <a:pt x="102" y="209"/>
                    </a:lnTo>
                    <a:lnTo>
                      <a:pt x="143" y="271"/>
                    </a:lnTo>
                    <a:lnTo>
                      <a:pt x="186" y="379"/>
                    </a:lnTo>
                    <a:lnTo>
                      <a:pt x="208" y="434"/>
                    </a:lnTo>
                    <a:lnTo>
                      <a:pt x="208" y="503"/>
                    </a:lnTo>
                    <a:lnTo>
                      <a:pt x="152" y="573"/>
                    </a:lnTo>
                    <a:lnTo>
                      <a:pt x="75" y="648"/>
                    </a:lnTo>
                    <a:lnTo>
                      <a:pt x="28" y="687"/>
                    </a:lnTo>
                    <a:lnTo>
                      <a:pt x="0" y="718"/>
                    </a:lnTo>
                    <a:lnTo>
                      <a:pt x="0" y="751"/>
                    </a:lnTo>
                    <a:lnTo>
                      <a:pt x="31" y="757"/>
                    </a:lnTo>
                    <a:lnTo>
                      <a:pt x="106" y="773"/>
                    </a:lnTo>
                    <a:lnTo>
                      <a:pt x="215" y="818"/>
                    </a:lnTo>
                    <a:lnTo>
                      <a:pt x="246" y="852"/>
                    </a:lnTo>
                    <a:lnTo>
                      <a:pt x="288" y="860"/>
                    </a:lnTo>
                    <a:lnTo>
                      <a:pt x="338" y="821"/>
                    </a:lnTo>
                    <a:lnTo>
                      <a:pt x="308" y="804"/>
                    </a:lnTo>
                    <a:lnTo>
                      <a:pt x="189" y="767"/>
                    </a:lnTo>
                    <a:lnTo>
                      <a:pt x="112" y="749"/>
                    </a:lnTo>
                    <a:lnTo>
                      <a:pt x="55" y="728"/>
                    </a:lnTo>
                    <a:lnTo>
                      <a:pt x="55" y="720"/>
                    </a:lnTo>
                    <a:lnTo>
                      <a:pt x="65" y="702"/>
                    </a:lnTo>
                    <a:lnTo>
                      <a:pt x="102" y="666"/>
                    </a:lnTo>
                    <a:lnTo>
                      <a:pt x="208" y="589"/>
                    </a:lnTo>
                    <a:lnTo>
                      <a:pt x="270" y="524"/>
                    </a:lnTo>
                    <a:lnTo>
                      <a:pt x="283" y="478"/>
                    </a:lnTo>
                    <a:lnTo>
                      <a:pt x="273" y="410"/>
                    </a:lnTo>
                    <a:lnTo>
                      <a:pt x="246" y="356"/>
                    </a:lnTo>
                    <a:lnTo>
                      <a:pt x="208" y="279"/>
                    </a:lnTo>
                    <a:lnTo>
                      <a:pt x="195" y="199"/>
                    </a:lnTo>
                    <a:lnTo>
                      <a:pt x="195" y="121"/>
                    </a:lnTo>
                    <a:lnTo>
                      <a:pt x="195" y="51"/>
                    </a:lnTo>
                    <a:lnTo>
                      <a:pt x="186" y="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459200" y="1225800"/>
                <a:ext cx="160200" cy="543240"/>
              </a:xfrm>
              <a:custGeom>
                <a:avLst/>
                <a:gdLst/>
                <a:ahLst/>
                <a:rect l="l" t="t" r="r" b="b"/>
                <a:pathLst>
                  <a:path w="276" h="930">
                    <a:moveTo>
                      <a:pt x="141" y="145"/>
                    </a:moveTo>
                    <a:lnTo>
                      <a:pt x="175" y="47"/>
                    </a:lnTo>
                    <a:lnTo>
                      <a:pt x="214" y="0"/>
                    </a:lnTo>
                    <a:lnTo>
                      <a:pt x="242" y="0"/>
                    </a:lnTo>
                    <a:lnTo>
                      <a:pt x="276" y="24"/>
                    </a:lnTo>
                    <a:lnTo>
                      <a:pt x="267" y="106"/>
                    </a:lnTo>
                    <a:lnTo>
                      <a:pt x="239" y="176"/>
                    </a:lnTo>
                    <a:lnTo>
                      <a:pt x="177" y="248"/>
                    </a:lnTo>
                    <a:lnTo>
                      <a:pt x="123" y="365"/>
                    </a:lnTo>
                    <a:lnTo>
                      <a:pt x="92" y="432"/>
                    </a:lnTo>
                    <a:lnTo>
                      <a:pt x="76" y="496"/>
                    </a:lnTo>
                    <a:lnTo>
                      <a:pt x="85" y="563"/>
                    </a:lnTo>
                    <a:lnTo>
                      <a:pt x="110" y="644"/>
                    </a:lnTo>
                    <a:lnTo>
                      <a:pt x="131" y="687"/>
                    </a:lnTo>
                    <a:lnTo>
                      <a:pt x="150" y="749"/>
                    </a:lnTo>
                    <a:lnTo>
                      <a:pt x="147" y="775"/>
                    </a:lnTo>
                    <a:lnTo>
                      <a:pt x="103" y="873"/>
                    </a:lnTo>
                    <a:lnTo>
                      <a:pt x="92" y="928"/>
                    </a:lnTo>
                    <a:lnTo>
                      <a:pt x="54" y="930"/>
                    </a:lnTo>
                    <a:lnTo>
                      <a:pt x="8" y="904"/>
                    </a:lnTo>
                    <a:lnTo>
                      <a:pt x="2" y="881"/>
                    </a:lnTo>
                    <a:lnTo>
                      <a:pt x="21" y="853"/>
                    </a:lnTo>
                    <a:lnTo>
                      <a:pt x="73" y="799"/>
                    </a:lnTo>
                    <a:lnTo>
                      <a:pt x="103" y="768"/>
                    </a:lnTo>
                    <a:lnTo>
                      <a:pt x="110" y="742"/>
                    </a:lnTo>
                    <a:lnTo>
                      <a:pt x="92" y="695"/>
                    </a:lnTo>
                    <a:lnTo>
                      <a:pt x="57" y="636"/>
                    </a:lnTo>
                    <a:lnTo>
                      <a:pt x="26" y="566"/>
                    </a:lnTo>
                    <a:lnTo>
                      <a:pt x="8" y="516"/>
                    </a:lnTo>
                    <a:lnTo>
                      <a:pt x="0" y="458"/>
                    </a:lnTo>
                    <a:lnTo>
                      <a:pt x="26" y="396"/>
                    </a:lnTo>
                    <a:lnTo>
                      <a:pt x="67" y="310"/>
                    </a:lnTo>
                    <a:lnTo>
                      <a:pt x="123" y="215"/>
                    </a:lnTo>
                    <a:lnTo>
                      <a:pt x="141" y="1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6483240" y="217440"/>
              <a:ext cx="884880" cy="1545480"/>
              <a:chOff x="6483240" y="217440"/>
              <a:chExt cx="884880" cy="1545480"/>
            </a:xfrm>
          </p:grpSpPr>
          <p:sp>
            <p:nvSpPr>
              <p:cNvPr id="1669" name=""/>
              <p:cNvSpPr/>
              <p:nvPr/>
            </p:nvSpPr>
            <p:spPr>
              <a:xfrm>
                <a:off x="6909840" y="577080"/>
                <a:ext cx="174600" cy="250920"/>
              </a:xfrm>
              <a:custGeom>
                <a:avLst/>
                <a:gdLst/>
                <a:ahLst/>
                <a:rect l="l" t="t" r="r" b="b"/>
                <a:pathLst>
                  <a:path w="302" h="432">
                    <a:moveTo>
                      <a:pt x="3" y="221"/>
                    </a:moveTo>
                    <a:lnTo>
                      <a:pt x="12" y="173"/>
                    </a:lnTo>
                    <a:lnTo>
                      <a:pt x="40" y="131"/>
                    </a:lnTo>
                    <a:lnTo>
                      <a:pt x="78" y="108"/>
                    </a:lnTo>
                    <a:lnTo>
                      <a:pt x="115" y="90"/>
                    </a:lnTo>
                    <a:lnTo>
                      <a:pt x="125" y="0"/>
                    </a:lnTo>
                    <a:lnTo>
                      <a:pt x="159" y="10"/>
                    </a:lnTo>
                    <a:lnTo>
                      <a:pt x="152" y="94"/>
                    </a:lnTo>
                    <a:lnTo>
                      <a:pt x="190" y="101"/>
                    </a:lnTo>
                    <a:lnTo>
                      <a:pt x="245" y="126"/>
                    </a:lnTo>
                    <a:lnTo>
                      <a:pt x="289" y="187"/>
                    </a:lnTo>
                    <a:lnTo>
                      <a:pt x="302" y="251"/>
                    </a:lnTo>
                    <a:lnTo>
                      <a:pt x="292" y="323"/>
                    </a:lnTo>
                    <a:lnTo>
                      <a:pt x="271" y="386"/>
                    </a:lnTo>
                    <a:lnTo>
                      <a:pt x="217" y="420"/>
                    </a:lnTo>
                    <a:lnTo>
                      <a:pt x="162" y="432"/>
                    </a:lnTo>
                    <a:lnTo>
                      <a:pt x="87" y="432"/>
                    </a:lnTo>
                    <a:lnTo>
                      <a:pt x="40" y="391"/>
                    </a:lnTo>
                    <a:lnTo>
                      <a:pt x="3" y="329"/>
                    </a:lnTo>
                    <a:lnTo>
                      <a:pt x="0" y="283"/>
                    </a:lnTo>
                    <a:lnTo>
                      <a:pt x="0" y="251"/>
                    </a:lnTo>
                    <a:lnTo>
                      <a:pt x="3" y="221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886080" y="842760"/>
                <a:ext cx="225000" cy="461520"/>
              </a:xfrm>
              <a:custGeom>
                <a:avLst/>
                <a:gdLst/>
                <a:ahLst/>
                <a:rect l="l" t="t" r="r" b="b"/>
                <a:pathLst>
                  <a:path w="382" h="789">
                    <a:moveTo>
                      <a:pt x="142" y="13"/>
                    </a:moveTo>
                    <a:lnTo>
                      <a:pt x="186" y="0"/>
                    </a:lnTo>
                    <a:lnTo>
                      <a:pt x="236" y="8"/>
                    </a:lnTo>
                    <a:lnTo>
                      <a:pt x="298" y="52"/>
                    </a:lnTo>
                    <a:lnTo>
                      <a:pt x="347" y="139"/>
                    </a:lnTo>
                    <a:lnTo>
                      <a:pt x="372" y="225"/>
                    </a:lnTo>
                    <a:lnTo>
                      <a:pt x="382" y="325"/>
                    </a:lnTo>
                    <a:lnTo>
                      <a:pt x="372" y="433"/>
                    </a:lnTo>
                    <a:lnTo>
                      <a:pt x="326" y="572"/>
                    </a:lnTo>
                    <a:lnTo>
                      <a:pt x="310" y="581"/>
                    </a:lnTo>
                    <a:lnTo>
                      <a:pt x="242" y="696"/>
                    </a:lnTo>
                    <a:lnTo>
                      <a:pt x="207" y="763"/>
                    </a:lnTo>
                    <a:lnTo>
                      <a:pt x="152" y="787"/>
                    </a:lnTo>
                    <a:lnTo>
                      <a:pt x="69" y="789"/>
                    </a:lnTo>
                    <a:lnTo>
                      <a:pt x="3" y="763"/>
                    </a:lnTo>
                    <a:lnTo>
                      <a:pt x="0" y="712"/>
                    </a:lnTo>
                    <a:lnTo>
                      <a:pt x="28" y="643"/>
                    </a:lnTo>
                    <a:lnTo>
                      <a:pt x="46" y="601"/>
                    </a:lnTo>
                    <a:lnTo>
                      <a:pt x="75" y="555"/>
                    </a:lnTo>
                    <a:lnTo>
                      <a:pt x="93" y="508"/>
                    </a:lnTo>
                    <a:lnTo>
                      <a:pt x="103" y="433"/>
                    </a:lnTo>
                    <a:lnTo>
                      <a:pt x="84" y="349"/>
                    </a:lnTo>
                    <a:lnTo>
                      <a:pt x="65" y="278"/>
                    </a:lnTo>
                    <a:lnTo>
                      <a:pt x="49" y="225"/>
                    </a:lnTo>
                    <a:lnTo>
                      <a:pt x="49" y="137"/>
                    </a:lnTo>
                    <a:lnTo>
                      <a:pt x="59" y="99"/>
                    </a:lnTo>
                    <a:lnTo>
                      <a:pt x="84" y="46"/>
                    </a:lnTo>
                    <a:lnTo>
                      <a:pt x="140" y="13"/>
                    </a:lnTo>
                    <a:lnTo>
                      <a:pt x="140" y="15"/>
                    </a:lnTo>
                    <a:lnTo>
                      <a:pt x="142" y="13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483240" y="407520"/>
                <a:ext cx="449640" cy="549000"/>
              </a:xfrm>
              <a:custGeom>
                <a:avLst/>
                <a:gdLst/>
                <a:ahLst/>
                <a:rect l="l" t="t" r="r" b="b"/>
                <a:pathLst>
                  <a:path w="770" h="943">
                    <a:moveTo>
                      <a:pt x="686" y="798"/>
                    </a:moveTo>
                    <a:lnTo>
                      <a:pt x="741" y="829"/>
                    </a:lnTo>
                    <a:lnTo>
                      <a:pt x="770" y="868"/>
                    </a:lnTo>
                    <a:lnTo>
                      <a:pt x="764" y="912"/>
                    </a:lnTo>
                    <a:lnTo>
                      <a:pt x="733" y="943"/>
                    </a:lnTo>
                    <a:lnTo>
                      <a:pt x="699" y="938"/>
                    </a:lnTo>
                    <a:lnTo>
                      <a:pt x="624" y="883"/>
                    </a:lnTo>
                    <a:lnTo>
                      <a:pt x="508" y="772"/>
                    </a:lnTo>
                    <a:lnTo>
                      <a:pt x="406" y="659"/>
                    </a:lnTo>
                    <a:lnTo>
                      <a:pt x="326" y="551"/>
                    </a:lnTo>
                    <a:lnTo>
                      <a:pt x="261" y="447"/>
                    </a:lnTo>
                    <a:lnTo>
                      <a:pt x="214" y="342"/>
                    </a:lnTo>
                    <a:lnTo>
                      <a:pt x="183" y="241"/>
                    </a:lnTo>
                    <a:lnTo>
                      <a:pt x="173" y="195"/>
                    </a:lnTo>
                    <a:lnTo>
                      <a:pt x="93" y="161"/>
                    </a:lnTo>
                    <a:lnTo>
                      <a:pt x="0" y="148"/>
                    </a:lnTo>
                    <a:lnTo>
                      <a:pt x="5" y="131"/>
                    </a:lnTo>
                    <a:lnTo>
                      <a:pt x="93" y="133"/>
                    </a:lnTo>
                    <a:lnTo>
                      <a:pt x="130" y="133"/>
                    </a:lnTo>
                    <a:lnTo>
                      <a:pt x="93" y="102"/>
                    </a:lnTo>
                    <a:lnTo>
                      <a:pt x="52" y="71"/>
                    </a:lnTo>
                    <a:lnTo>
                      <a:pt x="28" y="61"/>
                    </a:lnTo>
                    <a:lnTo>
                      <a:pt x="46" y="40"/>
                    </a:lnTo>
                    <a:lnTo>
                      <a:pt x="80" y="71"/>
                    </a:lnTo>
                    <a:lnTo>
                      <a:pt x="155" y="95"/>
                    </a:lnTo>
                    <a:lnTo>
                      <a:pt x="155" y="53"/>
                    </a:lnTo>
                    <a:lnTo>
                      <a:pt x="136" y="15"/>
                    </a:lnTo>
                    <a:lnTo>
                      <a:pt x="136" y="0"/>
                    </a:lnTo>
                    <a:lnTo>
                      <a:pt x="155" y="0"/>
                    </a:lnTo>
                    <a:lnTo>
                      <a:pt x="186" y="53"/>
                    </a:lnTo>
                    <a:lnTo>
                      <a:pt x="214" y="95"/>
                    </a:lnTo>
                    <a:lnTo>
                      <a:pt x="241" y="53"/>
                    </a:lnTo>
                    <a:lnTo>
                      <a:pt x="248" y="2"/>
                    </a:lnTo>
                    <a:lnTo>
                      <a:pt x="276" y="2"/>
                    </a:lnTo>
                    <a:lnTo>
                      <a:pt x="267" y="95"/>
                    </a:lnTo>
                    <a:lnTo>
                      <a:pt x="214" y="170"/>
                    </a:lnTo>
                    <a:lnTo>
                      <a:pt x="223" y="265"/>
                    </a:lnTo>
                    <a:lnTo>
                      <a:pt x="269" y="370"/>
                    </a:lnTo>
                    <a:lnTo>
                      <a:pt x="341" y="473"/>
                    </a:lnTo>
                    <a:lnTo>
                      <a:pt x="435" y="595"/>
                    </a:lnTo>
                    <a:lnTo>
                      <a:pt x="521" y="688"/>
                    </a:lnTo>
                    <a:lnTo>
                      <a:pt x="621" y="765"/>
                    </a:lnTo>
                    <a:lnTo>
                      <a:pt x="686" y="798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035120" y="217440"/>
                <a:ext cx="333000" cy="712800"/>
              </a:xfrm>
              <a:custGeom>
                <a:avLst/>
                <a:gdLst/>
                <a:ahLst/>
                <a:rect l="l" t="t" r="r" b="b"/>
                <a:pathLst>
                  <a:path w="570" h="1221">
                    <a:moveTo>
                      <a:pt x="28" y="1130"/>
                    </a:moveTo>
                    <a:lnTo>
                      <a:pt x="85" y="1058"/>
                    </a:lnTo>
                    <a:lnTo>
                      <a:pt x="174" y="942"/>
                    </a:lnTo>
                    <a:lnTo>
                      <a:pt x="215" y="833"/>
                    </a:lnTo>
                    <a:lnTo>
                      <a:pt x="267" y="655"/>
                    </a:lnTo>
                    <a:lnTo>
                      <a:pt x="314" y="501"/>
                    </a:lnTo>
                    <a:lnTo>
                      <a:pt x="334" y="369"/>
                    </a:lnTo>
                    <a:lnTo>
                      <a:pt x="365" y="217"/>
                    </a:lnTo>
                    <a:lnTo>
                      <a:pt x="355" y="155"/>
                    </a:lnTo>
                    <a:lnTo>
                      <a:pt x="299" y="106"/>
                    </a:lnTo>
                    <a:lnTo>
                      <a:pt x="267" y="53"/>
                    </a:lnTo>
                    <a:lnTo>
                      <a:pt x="290" y="31"/>
                    </a:lnTo>
                    <a:lnTo>
                      <a:pt x="314" y="75"/>
                    </a:lnTo>
                    <a:lnTo>
                      <a:pt x="355" y="98"/>
                    </a:lnTo>
                    <a:lnTo>
                      <a:pt x="355" y="62"/>
                    </a:lnTo>
                    <a:lnTo>
                      <a:pt x="355" y="0"/>
                    </a:lnTo>
                    <a:lnTo>
                      <a:pt x="373" y="0"/>
                    </a:lnTo>
                    <a:lnTo>
                      <a:pt x="389" y="62"/>
                    </a:lnTo>
                    <a:lnTo>
                      <a:pt x="402" y="93"/>
                    </a:lnTo>
                    <a:lnTo>
                      <a:pt x="448" y="46"/>
                    </a:lnTo>
                    <a:lnTo>
                      <a:pt x="467" y="0"/>
                    </a:lnTo>
                    <a:lnTo>
                      <a:pt x="495" y="20"/>
                    </a:lnTo>
                    <a:lnTo>
                      <a:pt x="467" y="70"/>
                    </a:lnTo>
                    <a:lnTo>
                      <a:pt x="439" y="115"/>
                    </a:lnTo>
                    <a:lnTo>
                      <a:pt x="519" y="100"/>
                    </a:lnTo>
                    <a:lnTo>
                      <a:pt x="560" y="77"/>
                    </a:lnTo>
                    <a:lnTo>
                      <a:pt x="570" y="93"/>
                    </a:lnTo>
                    <a:lnTo>
                      <a:pt x="529" y="121"/>
                    </a:lnTo>
                    <a:lnTo>
                      <a:pt x="482" y="137"/>
                    </a:lnTo>
                    <a:lnTo>
                      <a:pt x="436" y="170"/>
                    </a:lnTo>
                    <a:lnTo>
                      <a:pt x="408" y="230"/>
                    </a:lnTo>
                    <a:lnTo>
                      <a:pt x="380" y="332"/>
                    </a:lnTo>
                    <a:lnTo>
                      <a:pt x="352" y="496"/>
                    </a:lnTo>
                    <a:lnTo>
                      <a:pt x="324" y="627"/>
                    </a:lnTo>
                    <a:lnTo>
                      <a:pt x="290" y="751"/>
                    </a:lnTo>
                    <a:lnTo>
                      <a:pt x="249" y="888"/>
                    </a:lnTo>
                    <a:lnTo>
                      <a:pt x="202" y="1012"/>
                    </a:lnTo>
                    <a:lnTo>
                      <a:pt x="137" y="1115"/>
                    </a:lnTo>
                    <a:lnTo>
                      <a:pt x="72" y="1190"/>
                    </a:lnTo>
                    <a:lnTo>
                      <a:pt x="25" y="1221"/>
                    </a:lnTo>
                    <a:lnTo>
                      <a:pt x="7" y="1205"/>
                    </a:lnTo>
                    <a:lnTo>
                      <a:pt x="0" y="1174"/>
                    </a:lnTo>
                    <a:lnTo>
                      <a:pt x="28" y="113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681960" y="1240200"/>
                <a:ext cx="265680" cy="522720"/>
              </a:xfrm>
              <a:custGeom>
                <a:avLst/>
                <a:gdLst/>
                <a:ahLst/>
                <a:rect l="l" t="t" r="r" b="b"/>
                <a:pathLst>
                  <a:path w="454" h="893">
                    <a:moveTo>
                      <a:pt x="285" y="129"/>
                    </a:moveTo>
                    <a:lnTo>
                      <a:pt x="325" y="75"/>
                    </a:lnTo>
                    <a:lnTo>
                      <a:pt x="387" y="0"/>
                    </a:lnTo>
                    <a:lnTo>
                      <a:pt x="447" y="8"/>
                    </a:lnTo>
                    <a:lnTo>
                      <a:pt x="454" y="67"/>
                    </a:lnTo>
                    <a:lnTo>
                      <a:pt x="434" y="101"/>
                    </a:lnTo>
                    <a:lnTo>
                      <a:pt x="397" y="139"/>
                    </a:lnTo>
                    <a:lnTo>
                      <a:pt x="322" y="194"/>
                    </a:lnTo>
                    <a:lnTo>
                      <a:pt x="267" y="247"/>
                    </a:lnTo>
                    <a:lnTo>
                      <a:pt x="239" y="294"/>
                    </a:lnTo>
                    <a:lnTo>
                      <a:pt x="210" y="353"/>
                    </a:lnTo>
                    <a:lnTo>
                      <a:pt x="220" y="431"/>
                    </a:lnTo>
                    <a:lnTo>
                      <a:pt x="270" y="479"/>
                    </a:lnTo>
                    <a:lnTo>
                      <a:pt x="307" y="554"/>
                    </a:lnTo>
                    <a:lnTo>
                      <a:pt x="322" y="634"/>
                    </a:lnTo>
                    <a:lnTo>
                      <a:pt x="332" y="731"/>
                    </a:lnTo>
                    <a:lnTo>
                      <a:pt x="316" y="824"/>
                    </a:lnTo>
                    <a:lnTo>
                      <a:pt x="270" y="847"/>
                    </a:lnTo>
                    <a:lnTo>
                      <a:pt x="220" y="840"/>
                    </a:lnTo>
                    <a:lnTo>
                      <a:pt x="145" y="855"/>
                    </a:lnTo>
                    <a:lnTo>
                      <a:pt x="70" y="893"/>
                    </a:lnTo>
                    <a:lnTo>
                      <a:pt x="34" y="886"/>
                    </a:lnTo>
                    <a:lnTo>
                      <a:pt x="0" y="855"/>
                    </a:lnTo>
                    <a:lnTo>
                      <a:pt x="15" y="840"/>
                    </a:lnTo>
                    <a:lnTo>
                      <a:pt x="55" y="827"/>
                    </a:lnTo>
                    <a:lnTo>
                      <a:pt x="148" y="809"/>
                    </a:lnTo>
                    <a:lnTo>
                      <a:pt x="232" y="809"/>
                    </a:lnTo>
                    <a:lnTo>
                      <a:pt x="260" y="809"/>
                    </a:lnTo>
                    <a:lnTo>
                      <a:pt x="278" y="785"/>
                    </a:lnTo>
                    <a:lnTo>
                      <a:pt x="288" y="739"/>
                    </a:lnTo>
                    <a:lnTo>
                      <a:pt x="276" y="647"/>
                    </a:lnTo>
                    <a:lnTo>
                      <a:pt x="247" y="557"/>
                    </a:lnTo>
                    <a:lnTo>
                      <a:pt x="205" y="508"/>
                    </a:lnTo>
                    <a:lnTo>
                      <a:pt x="164" y="461"/>
                    </a:lnTo>
                    <a:lnTo>
                      <a:pt x="138" y="394"/>
                    </a:lnTo>
                    <a:lnTo>
                      <a:pt x="145" y="325"/>
                    </a:lnTo>
                    <a:lnTo>
                      <a:pt x="176" y="255"/>
                    </a:lnTo>
                    <a:lnTo>
                      <a:pt x="229" y="194"/>
                    </a:lnTo>
                    <a:lnTo>
                      <a:pt x="285" y="12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939000" y="1251720"/>
                <a:ext cx="227880" cy="511200"/>
              </a:xfrm>
              <a:custGeom>
                <a:avLst/>
                <a:gdLst/>
                <a:ahLst/>
                <a:rect l="l" t="t" r="r" b="b"/>
                <a:pathLst>
                  <a:path w="389" h="872">
                    <a:moveTo>
                      <a:pt x="159" y="139"/>
                    </a:moveTo>
                    <a:lnTo>
                      <a:pt x="71" y="106"/>
                    </a:lnTo>
                    <a:lnTo>
                      <a:pt x="19" y="77"/>
                    </a:lnTo>
                    <a:lnTo>
                      <a:pt x="0" y="37"/>
                    </a:lnTo>
                    <a:lnTo>
                      <a:pt x="29" y="8"/>
                    </a:lnTo>
                    <a:lnTo>
                      <a:pt x="91" y="0"/>
                    </a:lnTo>
                    <a:lnTo>
                      <a:pt x="138" y="13"/>
                    </a:lnTo>
                    <a:lnTo>
                      <a:pt x="230" y="90"/>
                    </a:lnTo>
                    <a:lnTo>
                      <a:pt x="315" y="152"/>
                    </a:lnTo>
                    <a:lnTo>
                      <a:pt x="361" y="223"/>
                    </a:lnTo>
                    <a:lnTo>
                      <a:pt x="374" y="276"/>
                    </a:lnTo>
                    <a:lnTo>
                      <a:pt x="389" y="341"/>
                    </a:lnTo>
                    <a:lnTo>
                      <a:pt x="380" y="416"/>
                    </a:lnTo>
                    <a:lnTo>
                      <a:pt x="315" y="504"/>
                    </a:lnTo>
                    <a:lnTo>
                      <a:pt x="258" y="566"/>
                    </a:lnTo>
                    <a:lnTo>
                      <a:pt x="206" y="640"/>
                    </a:lnTo>
                    <a:lnTo>
                      <a:pt x="165" y="679"/>
                    </a:lnTo>
                    <a:lnTo>
                      <a:pt x="131" y="717"/>
                    </a:lnTo>
                    <a:lnTo>
                      <a:pt x="131" y="741"/>
                    </a:lnTo>
                    <a:lnTo>
                      <a:pt x="165" y="748"/>
                    </a:lnTo>
                    <a:lnTo>
                      <a:pt x="234" y="759"/>
                    </a:lnTo>
                    <a:lnTo>
                      <a:pt x="305" y="783"/>
                    </a:lnTo>
                    <a:lnTo>
                      <a:pt x="364" y="826"/>
                    </a:lnTo>
                    <a:lnTo>
                      <a:pt x="352" y="852"/>
                    </a:lnTo>
                    <a:lnTo>
                      <a:pt x="299" y="872"/>
                    </a:lnTo>
                    <a:lnTo>
                      <a:pt x="258" y="852"/>
                    </a:lnTo>
                    <a:lnTo>
                      <a:pt x="214" y="812"/>
                    </a:lnTo>
                    <a:lnTo>
                      <a:pt x="165" y="790"/>
                    </a:lnTo>
                    <a:lnTo>
                      <a:pt x="122" y="779"/>
                    </a:lnTo>
                    <a:lnTo>
                      <a:pt x="84" y="774"/>
                    </a:lnTo>
                    <a:lnTo>
                      <a:pt x="53" y="766"/>
                    </a:lnTo>
                    <a:lnTo>
                      <a:pt x="44" y="756"/>
                    </a:lnTo>
                    <a:lnTo>
                      <a:pt x="47" y="733"/>
                    </a:lnTo>
                    <a:lnTo>
                      <a:pt x="103" y="686"/>
                    </a:lnTo>
                    <a:lnTo>
                      <a:pt x="196" y="602"/>
                    </a:lnTo>
                    <a:lnTo>
                      <a:pt x="277" y="488"/>
                    </a:lnTo>
                    <a:lnTo>
                      <a:pt x="308" y="431"/>
                    </a:lnTo>
                    <a:lnTo>
                      <a:pt x="327" y="369"/>
                    </a:lnTo>
                    <a:lnTo>
                      <a:pt x="323" y="292"/>
                    </a:lnTo>
                    <a:lnTo>
                      <a:pt x="289" y="230"/>
                    </a:lnTo>
                    <a:lnTo>
                      <a:pt x="240" y="179"/>
                    </a:lnTo>
                    <a:lnTo>
                      <a:pt x="159" y="13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7377120" y="655920"/>
              <a:ext cx="520200" cy="674640"/>
            </a:xfrm>
            <a:custGeom>
              <a:avLst/>
              <a:gdLst/>
              <a:ahLst/>
              <a:rect l="l" t="t" r="r" b="b"/>
              <a:pathLst>
                <a:path w="890" h="1153">
                  <a:moveTo>
                    <a:pt x="130" y="0"/>
                  </a:moveTo>
                  <a:lnTo>
                    <a:pt x="77" y="88"/>
                  </a:lnTo>
                  <a:lnTo>
                    <a:pt x="46" y="162"/>
                  </a:lnTo>
                  <a:lnTo>
                    <a:pt x="18" y="243"/>
                  </a:lnTo>
                  <a:lnTo>
                    <a:pt x="0" y="305"/>
                  </a:lnTo>
                  <a:lnTo>
                    <a:pt x="21" y="394"/>
                  </a:lnTo>
                  <a:lnTo>
                    <a:pt x="86" y="449"/>
                  </a:lnTo>
                  <a:lnTo>
                    <a:pt x="140" y="502"/>
                  </a:lnTo>
                  <a:lnTo>
                    <a:pt x="120" y="644"/>
                  </a:lnTo>
                  <a:lnTo>
                    <a:pt x="93" y="838"/>
                  </a:lnTo>
                  <a:lnTo>
                    <a:pt x="114" y="1044"/>
                  </a:lnTo>
                  <a:lnTo>
                    <a:pt x="142" y="1137"/>
                  </a:lnTo>
                  <a:lnTo>
                    <a:pt x="264" y="1106"/>
                  </a:lnTo>
                  <a:lnTo>
                    <a:pt x="348" y="1100"/>
                  </a:lnTo>
                  <a:lnTo>
                    <a:pt x="475" y="1106"/>
                  </a:lnTo>
                  <a:lnTo>
                    <a:pt x="587" y="1140"/>
                  </a:lnTo>
                  <a:lnTo>
                    <a:pt x="652" y="1153"/>
                  </a:lnTo>
                  <a:lnTo>
                    <a:pt x="652" y="1075"/>
                  </a:lnTo>
                  <a:lnTo>
                    <a:pt x="637" y="928"/>
                  </a:lnTo>
                  <a:lnTo>
                    <a:pt x="609" y="784"/>
                  </a:lnTo>
                  <a:lnTo>
                    <a:pt x="587" y="642"/>
                  </a:lnTo>
                  <a:lnTo>
                    <a:pt x="578" y="590"/>
                  </a:lnTo>
                  <a:lnTo>
                    <a:pt x="615" y="567"/>
                  </a:lnTo>
                  <a:lnTo>
                    <a:pt x="718" y="595"/>
                  </a:lnTo>
                  <a:lnTo>
                    <a:pt x="812" y="621"/>
                  </a:lnTo>
                  <a:lnTo>
                    <a:pt x="857" y="660"/>
                  </a:lnTo>
                  <a:lnTo>
                    <a:pt x="861" y="582"/>
                  </a:lnTo>
                  <a:lnTo>
                    <a:pt x="890" y="487"/>
                  </a:lnTo>
                  <a:lnTo>
                    <a:pt x="774" y="420"/>
                  </a:lnTo>
                  <a:lnTo>
                    <a:pt x="680" y="371"/>
                  </a:lnTo>
                  <a:lnTo>
                    <a:pt x="597" y="343"/>
                  </a:lnTo>
                  <a:lnTo>
                    <a:pt x="532" y="325"/>
                  </a:lnTo>
                  <a:lnTo>
                    <a:pt x="469" y="325"/>
                  </a:lnTo>
                  <a:lnTo>
                    <a:pt x="423" y="332"/>
                  </a:lnTo>
                  <a:lnTo>
                    <a:pt x="363" y="325"/>
                  </a:lnTo>
                  <a:lnTo>
                    <a:pt x="311" y="286"/>
                  </a:lnTo>
                  <a:lnTo>
                    <a:pt x="264" y="224"/>
                  </a:lnTo>
                  <a:lnTo>
                    <a:pt x="223" y="170"/>
                  </a:lnTo>
                  <a:lnTo>
                    <a:pt x="179" y="7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99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7406640" y="696600"/>
              <a:ext cx="463680" cy="613440"/>
              <a:chOff x="7406640" y="696600"/>
              <a:chExt cx="463680" cy="613440"/>
            </a:xfrm>
          </p:grpSpPr>
          <p:sp>
            <p:nvSpPr>
              <p:cNvPr id="1677" name=""/>
              <p:cNvSpPr/>
              <p:nvPr/>
            </p:nvSpPr>
            <p:spPr>
              <a:xfrm>
                <a:off x="7406640" y="696600"/>
                <a:ext cx="87120" cy="204480"/>
              </a:xfrm>
              <a:custGeom>
                <a:avLst/>
                <a:gdLst/>
                <a:ahLst/>
                <a:rect l="l" t="t" r="r" b="b"/>
                <a:pathLst>
                  <a:path w="147" h="350">
                    <a:moveTo>
                      <a:pt x="0" y="310"/>
                    </a:moveTo>
                    <a:lnTo>
                      <a:pt x="10" y="233"/>
                    </a:lnTo>
                    <a:lnTo>
                      <a:pt x="43" y="150"/>
                    </a:lnTo>
                    <a:lnTo>
                      <a:pt x="70" y="81"/>
                    </a:lnTo>
                    <a:lnTo>
                      <a:pt x="92" y="26"/>
                    </a:lnTo>
                    <a:lnTo>
                      <a:pt x="120" y="0"/>
                    </a:lnTo>
                    <a:lnTo>
                      <a:pt x="147" y="15"/>
                    </a:lnTo>
                    <a:lnTo>
                      <a:pt x="108" y="95"/>
                    </a:lnTo>
                    <a:lnTo>
                      <a:pt x="62" y="202"/>
                    </a:lnTo>
                    <a:lnTo>
                      <a:pt x="34" y="297"/>
                    </a:lnTo>
                    <a:lnTo>
                      <a:pt x="34" y="350"/>
                    </a:lnTo>
                    <a:lnTo>
                      <a:pt x="0" y="350"/>
                    </a:lnTo>
                    <a:lnTo>
                      <a:pt x="0" y="288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447680" y="766440"/>
                <a:ext cx="78480" cy="172080"/>
              </a:xfrm>
              <a:custGeom>
                <a:avLst/>
                <a:gdLst/>
                <a:ahLst/>
                <a:rect l="l" t="t" r="r" b="b"/>
                <a:pathLst>
                  <a:path w="137" h="295">
                    <a:moveTo>
                      <a:pt x="0" y="262"/>
                    </a:moveTo>
                    <a:lnTo>
                      <a:pt x="9" y="197"/>
                    </a:lnTo>
                    <a:lnTo>
                      <a:pt x="40" y="127"/>
                    </a:lnTo>
                    <a:lnTo>
                      <a:pt x="65" y="68"/>
                    </a:lnTo>
                    <a:lnTo>
                      <a:pt x="86" y="22"/>
                    </a:lnTo>
                    <a:lnTo>
                      <a:pt x="111" y="0"/>
                    </a:lnTo>
                    <a:lnTo>
                      <a:pt x="137" y="13"/>
                    </a:lnTo>
                    <a:lnTo>
                      <a:pt x="100" y="81"/>
                    </a:lnTo>
                    <a:lnTo>
                      <a:pt x="57" y="170"/>
                    </a:lnTo>
                    <a:lnTo>
                      <a:pt x="31" y="251"/>
                    </a:lnTo>
                    <a:lnTo>
                      <a:pt x="31" y="295"/>
                    </a:lnTo>
                    <a:lnTo>
                      <a:pt x="0" y="295"/>
                    </a:lnTo>
                    <a:lnTo>
                      <a:pt x="0" y="243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479360" y="810360"/>
                <a:ext cx="84600" cy="493920"/>
              </a:xfrm>
              <a:custGeom>
                <a:avLst/>
                <a:gdLst/>
                <a:ahLst/>
                <a:rect l="l" t="t" r="r" b="b"/>
                <a:pathLst>
                  <a:path w="143" h="846">
                    <a:moveTo>
                      <a:pt x="28" y="823"/>
                    </a:moveTo>
                    <a:lnTo>
                      <a:pt x="13" y="727"/>
                    </a:lnTo>
                    <a:lnTo>
                      <a:pt x="0" y="598"/>
                    </a:lnTo>
                    <a:lnTo>
                      <a:pt x="3" y="440"/>
                    </a:lnTo>
                    <a:lnTo>
                      <a:pt x="13" y="287"/>
                    </a:lnTo>
                    <a:lnTo>
                      <a:pt x="37" y="169"/>
                    </a:lnTo>
                    <a:lnTo>
                      <a:pt x="68" y="75"/>
                    </a:lnTo>
                    <a:lnTo>
                      <a:pt x="106" y="0"/>
                    </a:lnTo>
                    <a:lnTo>
                      <a:pt x="143" y="47"/>
                    </a:lnTo>
                    <a:lnTo>
                      <a:pt x="106" y="122"/>
                    </a:lnTo>
                    <a:lnTo>
                      <a:pt x="88" y="187"/>
                    </a:lnTo>
                    <a:lnTo>
                      <a:pt x="65" y="303"/>
                    </a:lnTo>
                    <a:lnTo>
                      <a:pt x="50" y="471"/>
                    </a:lnTo>
                    <a:lnTo>
                      <a:pt x="50" y="604"/>
                    </a:lnTo>
                    <a:lnTo>
                      <a:pt x="59" y="706"/>
                    </a:lnTo>
                    <a:lnTo>
                      <a:pt x="75" y="773"/>
                    </a:lnTo>
                    <a:lnTo>
                      <a:pt x="88" y="828"/>
                    </a:lnTo>
                    <a:lnTo>
                      <a:pt x="31" y="846"/>
                    </a:lnTo>
                    <a:lnTo>
                      <a:pt x="28" y="8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555320" y="854640"/>
                <a:ext cx="64080" cy="437400"/>
              </a:xfrm>
              <a:custGeom>
                <a:avLst/>
                <a:gdLst/>
                <a:ahLst/>
                <a:rect l="l" t="t" r="r" b="b"/>
                <a:pathLst>
                  <a:path w="108" h="752">
                    <a:moveTo>
                      <a:pt x="31" y="744"/>
                    </a:moveTo>
                    <a:lnTo>
                      <a:pt x="9" y="620"/>
                    </a:lnTo>
                    <a:lnTo>
                      <a:pt x="0" y="487"/>
                    </a:lnTo>
                    <a:lnTo>
                      <a:pt x="0" y="358"/>
                    </a:lnTo>
                    <a:lnTo>
                      <a:pt x="9" y="246"/>
                    </a:lnTo>
                    <a:lnTo>
                      <a:pt x="18" y="131"/>
                    </a:lnTo>
                    <a:lnTo>
                      <a:pt x="50" y="41"/>
                    </a:lnTo>
                    <a:lnTo>
                      <a:pt x="70" y="0"/>
                    </a:lnTo>
                    <a:lnTo>
                      <a:pt x="108" y="0"/>
                    </a:lnTo>
                    <a:lnTo>
                      <a:pt x="79" y="124"/>
                    </a:lnTo>
                    <a:lnTo>
                      <a:pt x="70" y="226"/>
                    </a:lnTo>
                    <a:lnTo>
                      <a:pt x="66" y="355"/>
                    </a:lnTo>
                    <a:lnTo>
                      <a:pt x="66" y="487"/>
                    </a:lnTo>
                    <a:lnTo>
                      <a:pt x="70" y="636"/>
                    </a:lnTo>
                    <a:lnTo>
                      <a:pt x="79" y="721"/>
                    </a:lnTo>
                    <a:lnTo>
                      <a:pt x="89" y="752"/>
                    </a:lnTo>
                    <a:lnTo>
                      <a:pt x="31" y="7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631640" y="845280"/>
                <a:ext cx="64080" cy="464760"/>
              </a:xfrm>
              <a:custGeom>
                <a:avLst/>
                <a:gdLst/>
                <a:ahLst/>
                <a:rect l="l" t="t" r="r" b="b"/>
                <a:pathLst>
                  <a:path w="107" h="793">
                    <a:moveTo>
                      <a:pt x="37" y="756"/>
                    </a:moveTo>
                    <a:lnTo>
                      <a:pt x="11" y="617"/>
                    </a:lnTo>
                    <a:lnTo>
                      <a:pt x="2" y="484"/>
                    </a:lnTo>
                    <a:lnTo>
                      <a:pt x="0" y="347"/>
                    </a:lnTo>
                    <a:lnTo>
                      <a:pt x="0" y="191"/>
                    </a:lnTo>
                    <a:lnTo>
                      <a:pt x="18" y="82"/>
                    </a:lnTo>
                    <a:lnTo>
                      <a:pt x="27" y="5"/>
                    </a:lnTo>
                    <a:lnTo>
                      <a:pt x="75" y="0"/>
                    </a:lnTo>
                    <a:lnTo>
                      <a:pt x="66" y="75"/>
                    </a:lnTo>
                    <a:lnTo>
                      <a:pt x="47" y="201"/>
                    </a:lnTo>
                    <a:lnTo>
                      <a:pt x="50" y="321"/>
                    </a:lnTo>
                    <a:lnTo>
                      <a:pt x="66" y="484"/>
                    </a:lnTo>
                    <a:lnTo>
                      <a:pt x="79" y="623"/>
                    </a:lnTo>
                    <a:lnTo>
                      <a:pt x="95" y="700"/>
                    </a:lnTo>
                    <a:lnTo>
                      <a:pt x="107" y="793"/>
                    </a:lnTo>
                    <a:lnTo>
                      <a:pt x="37" y="7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695720" y="857160"/>
                <a:ext cx="41040" cy="148680"/>
              </a:xfrm>
              <a:custGeom>
                <a:avLst/>
                <a:gdLst/>
                <a:ahLst/>
                <a:rect l="l" t="t" r="r" b="b"/>
                <a:pathLst>
                  <a:path w="73" h="252">
                    <a:moveTo>
                      <a:pt x="20" y="0"/>
                    </a:moveTo>
                    <a:lnTo>
                      <a:pt x="0" y="73"/>
                    </a:lnTo>
                    <a:lnTo>
                      <a:pt x="0" y="143"/>
                    </a:lnTo>
                    <a:lnTo>
                      <a:pt x="10" y="227"/>
                    </a:lnTo>
                    <a:lnTo>
                      <a:pt x="20" y="252"/>
                    </a:lnTo>
                    <a:lnTo>
                      <a:pt x="68" y="203"/>
                    </a:lnTo>
                    <a:lnTo>
                      <a:pt x="49" y="125"/>
                    </a:lnTo>
                    <a:lnTo>
                      <a:pt x="55" y="47"/>
                    </a:lnTo>
                    <a:lnTo>
                      <a:pt x="73" y="1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765920" y="880560"/>
                <a:ext cx="43560" cy="113760"/>
              </a:xfrm>
              <a:custGeom>
                <a:avLst/>
                <a:gdLst/>
                <a:ahLst/>
                <a:rect l="l" t="t" r="r" b="b"/>
                <a:pathLst>
                  <a:path w="75" h="194">
                    <a:moveTo>
                      <a:pt x="19" y="0"/>
                    </a:moveTo>
                    <a:lnTo>
                      <a:pt x="0" y="65"/>
                    </a:lnTo>
                    <a:lnTo>
                      <a:pt x="0" y="132"/>
                    </a:lnTo>
                    <a:lnTo>
                      <a:pt x="19" y="181"/>
                    </a:lnTo>
                    <a:lnTo>
                      <a:pt x="75" y="194"/>
                    </a:lnTo>
                    <a:lnTo>
                      <a:pt x="53" y="148"/>
                    </a:lnTo>
                    <a:lnTo>
                      <a:pt x="57" y="78"/>
                    </a:lnTo>
                    <a:lnTo>
                      <a:pt x="75" y="2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835400" y="919080"/>
                <a:ext cx="34920" cy="99000"/>
              </a:xfrm>
              <a:custGeom>
                <a:avLst/>
                <a:gdLst/>
                <a:ahLst/>
                <a:rect l="l" t="t" r="r" b="b"/>
                <a:pathLst>
                  <a:path w="58" h="170">
                    <a:moveTo>
                      <a:pt x="13" y="0"/>
                    </a:moveTo>
                    <a:lnTo>
                      <a:pt x="0" y="36"/>
                    </a:lnTo>
                    <a:lnTo>
                      <a:pt x="0" y="101"/>
                    </a:lnTo>
                    <a:lnTo>
                      <a:pt x="8" y="154"/>
                    </a:lnTo>
                    <a:lnTo>
                      <a:pt x="58" y="170"/>
                    </a:lnTo>
                    <a:lnTo>
                      <a:pt x="37" y="117"/>
                    </a:lnTo>
                    <a:lnTo>
                      <a:pt x="37" y="62"/>
                    </a:lnTo>
                    <a:lnTo>
                      <a:pt x="49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538200" y="757080"/>
            <a:ext cx="795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types d’actions reprises par les potele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>
            <a:hlinkClick r:id="" action="ppaction://hlinkshowjump?jump=nextslide"/>
          </p:cNvPr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694400" y="3166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1695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1696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1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1712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8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9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1740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1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1742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0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57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1758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1759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1783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1807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1808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1817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1826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4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1835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3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1845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1850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1855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1860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1865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9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1870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1871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5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1876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0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1882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1896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9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1900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4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>
            <a:hlinkClick r:id="rId1" action="ppaction://hlinksldjump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>
            <a:hlinkClick r:id="" action="ppaction://hlinkshowjump?jump=nextslide"/>
          </p:cNvPr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694400" y="37893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38200" y="757080"/>
            <a:ext cx="795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types d’actions reprises par les potele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1922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1923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9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1930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8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1946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1967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1969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7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4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1986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2010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3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2035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2044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2053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2062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0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2071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2072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2077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1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2082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6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2087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2092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6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2097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2098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2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2103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7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8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2109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2112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2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2123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6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2127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Annelise Chopin</dc:creator>
  <dc:description/>
  <dc:language>en-US</dc:language>
  <cp:lastModifiedBy>Muzeau Jean-Pierre</cp:lastModifiedBy>
  <dcterms:modified xsi:type="dcterms:W3CDTF">2003-10-23T07:11:41Z</dcterms:modified>
  <cp:revision>125</cp:revision>
  <dc:subject/>
  <dc:title>Leçon sur les portiques de rive</dc:title>
</cp:coreProperties>
</file>