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7F2-EB80-4C7F-B0E1-C35E68A7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E12-27D5-4E29-9D3B-F88FE06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CF7-6FB6-4133-9CFD-6D815225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D67-5BD8-475B-B9D0-C9EC8587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2A6-5D83-4E45-8A03-11848C1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A12-D1C8-4DB6-B506-08460A7F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98E-CA29-4257-84C1-FCDE761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FDE-2611-4DFD-8999-B81DB06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E1B-9D85-412D-AC9F-9C8CD38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5D9-D5E0-404E-AF5F-CF10C9F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968-63AC-4F46-8280-C39E8E9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13E-65AE-4068-9F87-C13D1C0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BEF0-ABA9-41F7-9B5C-D15A19149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706" t="10636" r="14706" b="29320"/>
          <a:stretch/>
        </p:blipFill>
        <p:spPr>
          <a:xfrm>
            <a:off x="0" y="54936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1:09:44Z</dcterms:created>
  <dc:creator>pboineau</dc:creator>
  <dc:description/>
  <dc:language>en-US</dc:language>
  <cp:lastModifiedBy>pboineau</cp:lastModifiedBy>
  <dcterms:modified xsi:type="dcterms:W3CDTF">2012-03-23T11:10:25Z</dcterms:modified>
  <cp:revision>1</cp:revision>
  <dc:subject/>
  <dc:title>Diapositive 1</dc:title>
</cp:coreProperties>
</file>