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F11-1516-4A44-BC4E-69022233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395-5DAA-4269-98F0-7B41B47C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20E-542B-49FF-9738-4B1B8AC2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AB7-BAEE-497D-A657-BC9D5896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9DB-F58F-4D4C-A4CF-F2AD7E79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1F0-2FE5-4914-9211-37089030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762-843C-4261-A52F-74E96AD5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545-A025-478E-B7CB-582B45C4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824-3319-45F9-9B59-0DBEF09E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C29-BEA2-482A-90B5-581C6EC2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7A04-F792-41B7-ABC9-62E32B03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C41-4A63-4FE9-A4F0-153B3589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C933-A764-4DB0-BD43-EFF7483BF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33120" y="4762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444"/>
                </a:solidFill>
                <a:latin typeface="Bradley Hand ITC"/>
              </a:rPr>
              <a:t>La PêcheL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echerie,pornic"/>
          <p:cNvPicPr/>
          <p:nvPr/>
        </p:nvPicPr>
        <p:blipFill>
          <a:blip r:embed="rId1"/>
          <a:stretch/>
        </p:blipFill>
        <p:spPr>
          <a:xfrm>
            <a:off x="684360" y="1773360"/>
            <a:ext cx="3166920" cy="2260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3852720" cy="249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4360" y="4149720"/>
            <a:ext cx="3205080" cy="2278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rcRect l="18921" t="29244" r="21605" b="30208"/>
          <a:stretch/>
        </p:blipFill>
        <p:spPr>
          <a:xfrm>
            <a:off x="4716360" y="4365720"/>
            <a:ext cx="3168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1:53:59Z</dcterms:created>
  <dc:creator>pboineau</dc:creator>
  <dc:description/>
  <dc:language>en-US</dc:language>
  <cp:lastModifiedBy>pboineau</cp:lastModifiedBy>
  <dcterms:modified xsi:type="dcterms:W3CDTF">2012-03-11T22:14:29Z</dcterms:modified>
  <cp:revision>3</cp:revision>
  <dc:subject/>
  <dc:title>Diapositive 1</dc:title>
</cp:coreProperties>
</file>