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A38-141A-427F-A31B-69378E57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6F8-A61C-4ABB-8EBC-D87EE450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0F6-12E2-4115-931D-1E3D5F3C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BC9-F43F-43CB-9D0A-81D81C2B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E43-E757-484B-BFD2-071EE21F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BB2-F654-4FDC-9B59-D620315D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016-1586-47B3-94EA-99623B85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766-10F3-476F-8619-E56F1B00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392-12A2-4CF3-AB10-1B90AE8C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CA3-5237-4158-ADA5-801D4AC1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739-2F04-4602-B731-AC9FEA4E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9A7-4B58-464A-9708-CDD53EBD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8706-907F-4171-99CD-5A318AB8FB9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e 26"/>
          <p:cNvGrpSpPr/>
          <p:nvPr/>
        </p:nvGrpSpPr>
        <p:grpSpPr>
          <a:xfrm>
            <a:off x="4181040" y="2570040"/>
            <a:ext cx="3334320" cy="3282840"/>
            <a:chOff x="4181040" y="2570040"/>
            <a:chExt cx="3334320" cy="3282840"/>
          </a:xfrm>
        </p:grpSpPr>
        <p:sp>
          <p:nvSpPr>
            <p:cNvPr id="42" name="Freeform 5"/>
            <p:cNvSpPr/>
            <p:nvPr/>
          </p:nvSpPr>
          <p:spPr>
            <a:xfrm>
              <a:off x="6304320" y="4960800"/>
              <a:ext cx="1058040" cy="252000"/>
            </a:xfrm>
            <a:custGeom>
              <a:avLst/>
              <a:gdLst>
                <a:gd name="textAreaLeft" fmla="*/ 0 w 1058040"/>
                <a:gd name="textAreaRight" fmla="*/ 1058400 w 105804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1803" h="423">
                  <a:moveTo>
                    <a:pt x="3" y="423"/>
                  </a:moveTo>
                  <a:cubicBezTo>
                    <a:pt x="0" y="419"/>
                    <a:pt x="37" y="373"/>
                    <a:pt x="80" y="351"/>
                  </a:cubicBezTo>
                  <a:cubicBezTo>
                    <a:pt x="123" y="329"/>
                    <a:pt x="164" y="313"/>
                    <a:pt x="262" y="288"/>
                  </a:cubicBezTo>
                  <a:cubicBezTo>
                    <a:pt x="360" y="263"/>
                    <a:pt x="532" y="228"/>
                    <a:pt x="666" y="202"/>
                  </a:cubicBezTo>
                  <a:cubicBezTo>
                    <a:pt x="800" y="176"/>
                    <a:pt x="920" y="157"/>
                    <a:pt x="1069" y="130"/>
                  </a:cubicBezTo>
                  <a:lnTo>
                    <a:pt x="1558" y="43"/>
                  </a:lnTo>
                  <a:lnTo>
                    <a:pt x="1803" y="0"/>
                  </a:lnTo>
                  <a:lnTo>
                    <a:pt x="1491" y="106"/>
                  </a:lnTo>
                  <a:lnTo>
                    <a:pt x="1232" y="183"/>
                  </a:lnTo>
                  <a:cubicBezTo>
                    <a:pt x="1165" y="201"/>
                    <a:pt x="1144" y="204"/>
                    <a:pt x="1088" y="216"/>
                  </a:cubicBezTo>
                  <a:cubicBezTo>
                    <a:pt x="1032" y="228"/>
                    <a:pt x="974" y="241"/>
                    <a:pt x="896" y="255"/>
                  </a:cubicBezTo>
                  <a:cubicBezTo>
                    <a:pt x="818" y="269"/>
                    <a:pt x="710" y="285"/>
                    <a:pt x="622" y="298"/>
                  </a:cubicBezTo>
                  <a:cubicBezTo>
                    <a:pt x="534" y="311"/>
                    <a:pt x="435" y="323"/>
                    <a:pt x="368" y="331"/>
                  </a:cubicBezTo>
                  <a:cubicBezTo>
                    <a:pt x="368" y="331"/>
                    <a:pt x="264" y="339"/>
                    <a:pt x="219" y="346"/>
                  </a:cubicBezTo>
                  <a:cubicBezTo>
                    <a:pt x="174" y="353"/>
                    <a:pt x="135" y="362"/>
                    <a:pt x="99" y="375"/>
                  </a:cubicBezTo>
                  <a:cubicBezTo>
                    <a:pt x="63" y="388"/>
                    <a:pt x="23" y="413"/>
                    <a:pt x="3" y="423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6230520" y="4888080"/>
              <a:ext cx="1078920" cy="26892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1732" h="432">
                  <a:moveTo>
                    <a:pt x="0" y="432"/>
                  </a:moveTo>
                  <a:cubicBezTo>
                    <a:pt x="9" y="424"/>
                    <a:pt x="31" y="382"/>
                    <a:pt x="60" y="357"/>
                  </a:cubicBezTo>
                  <a:cubicBezTo>
                    <a:pt x="89" y="332"/>
                    <a:pt x="135" y="300"/>
                    <a:pt x="177" y="279"/>
                  </a:cubicBezTo>
                  <a:cubicBezTo>
                    <a:pt x="219" y="258"/>
                    <a:pt x="266" y="241"/>
                    <a:pt x="312" y="231"/>
                  </a:cubicBezTo>
                  <a:cubicBezTo>
                    <a:pt x="358" y="221"/>
                    <a:pt x="401" y="221"/>
                    <a:pt x="453" y="219"/>
                  </a:cubicBezTo>
                  <a:cubicBezTo>
                    <a:pt x="505" y="217"/>
                    <a:pt x="558" y="220"/>
                    <a:pt x="624" y="219"/>
                  </a:cubicBezTo>
                  <a:cubicBezTo>
                    <a:pt x="690" y="218"/>
                    <a:pt x="783" y="215"/>
                    <a:pt x="852" y="210"/>
                  </a:cubicBezTo>
                  <a:cubicBezTo>
                    <a:pt x="921" y="205"/>
                    <a:pt x="972" y="197"/>
                    <a:pt x="1041" y="186"/>
                  </a:cubicBezTo>
                  <a:cubicBezTo>
                    <a:pt x="1110" y="175"/>
                    <a:pt x="1191" y="160"/>
                    <a:pt x="1269" y="144"/>
                  </a:cubicBezTo>
                  <a:cubicBezTo>
                    <a:pt x="1347" y="128"/>
                    <a:pt x="1441" y="107"/>
                    <a:pt x="1512" y="87"/>
                  </a:cubicBezTo>
                  <a:cubicBezTo>
                    <a:pt x="1583" y="67"/>
                    <a:pt x="1657" y="35"/>
                    <a:pt x="1692" y="21"/>
                  </a:cubicBezTo>
                  <a:cubicBezTo>
                    <a:pt x="1727" y="7"/>
                    <a:pt x="1732" y="0"/>
                    <a:pt x="1722" y="0"/>
                  </a:cubicBezTo>
                  <a:cubicBezTo>
                    <a:pt x="1712" y="0"/>
                    <a:pt x="1682" y="8"/>
                    <a:pt x="1629" y="21"/>
                  </a:cubicBezTo>
                  <a:cubicBezTo>
                    <a:pt x="1576" y="34"/>
                    <a:pt x="1480" y="65"/>
                    <a:pt x="1401" y="81"/>
                  </a:cubicBezTo>
                  <a:cubicBezTo>
                    <a:pt x="1322" y="97"/>
                    <a:pt x="1249" y="107"/>
                    <a:pt x="1152" y="120"/>
                  </a:cubicBezTo>
                  <a:cubicBezTo>
                    <a:pt x="1055" y="133"/>
                    <a:pt x="926" y="147"/>
                    <a:pt x="816" y="156"/>
                  </a:cubicBezTo>
                  <a:cubicBezTo>
                    <a:pt x="706" y="165"/>
                    <a:pt x="577" y="166"/>
                    <a:pt x="492" y="171"/>
                  </a:cubicBezTo>
                  <a:cubicBezTo>
                    <a:pt x="407" y="176"/>
                    <a:pt x="359" y="178"/>
                    <a:pt x="306" y="189"/>
                  </a:cubicBezTo>
                  <a:cubicBezTo>
                    <a:pt x="253" y="200"/>
                    <a:pt x="209" y="223"/>
                    <a:pt x="174" y="240"/>
                  </a:cubicBezTo>
                  <a:cubicBezTo>
                    <a:pt x="139" y="257"/>
                    <a:pt x="115" y="276"/>
                    <a:pt x="93" y="294"/>
                  </a:cubicBezTo>
                  <a:cubicBezTo>
                    <a:pt x="71" y="312"/>
                    <a:pt x="53" y="329"/>
                    <a:pt x="39" y="348"/>
                  </a:cubicBezTo>
                  <a:cubicBezTo>
                    <a:pt x="25" y="367"/>
                    <a:pt x="12" y="391"/>
                    <a:pt x="6" y="405"/>
                  </a:cubicBezTo>
                  <a:cubicBezTo>
                    <a:pt x="0" y="419"/>
                    <a:pt x="1" y="427"/>
                    <a:pt x="0" y="432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6148800" y="5026320"/>
              <a:ext cx="102600" cy="1378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77" h="229">
                  <a:moveTo>
                    <a:pt x="177" y="0"/>
                  </a:moveTo>
                  <a:cubicBezTo>
                    <a:pt x="167" y="3"/>
                    <a:pt x="131" y="23"/>
                    <a:pt x="108" y="42"/>
                  </a:cubicBezTo>
                  <a:cubicBezTo>
                    <a:pt x="85" y="61"/>
                    <a:pt x="56" y="93"/>
                    <a:pt x="39" y="114"/>
                  </a:cubicBezTo>
                  <a:cubicBezTo>
                    <a:pt x="22" y="135"/>
                    <a:pt x="12" y="154"/>
                    <a:pt x="6" y="171"/>
                  </a:cubicBezTo>
                  <a:cubicBezTo>
                    <a:pt x="0" y="188"/>
                    <a:pt x="1" y="207"/>
                    <a:pt x="3" y="216"/>
                  </a:cubicBezTo>
                  <a:cubicBezTo>
                    <a:pt x="5" y="225"/>
                    <a:pt x="12" y="227"/>
                    <a:pt x="21" y="228"/>
                  </a:cubicBezTo>
                  <a:cubicBezTo>
                    <a:pt x="30" y="229"/>
                    <a:pt x="49" y="226"/>
                    <a:pt x="57" y="219"/>
                  </a:cubicBezTo>
                  <a:cubicBezTo>
                    <a:pt x="65" y="212"/>
                    <a:pt x="68" y="199"/>
                    <a:pt x="72" y="186"/>
                  </a:cubicBezTo>
                  <a:cubicBezTo>
                    <a:pt x="76" y="173"/>
                    <a:pt x="78" y="153"/>
                    <a:pt x="84" y="138"/>
                  </a:cubicBezTo>
                  <a:cubicBezTo>
                    <a:pt x="90" y="123"/>
                    <a:pt x="100" y="107"/>
                    <a:pt x="108" y="93"/>
                  </a:cubicBezTo>
                  <a:cubicBezTo>
                    <a:pt x="116" y="79"/>
                    <a:pt x="126" y="63"/>
                    <a:pt x="135" y="51"/>
                  </a:cubicBezTo>
                  <a:cubicBezTo>
                    <a:pt x="144" y="39"/>
                    <a:pt x="158" y="29"/>
                    <a:pt x="165" y="21"/>
                  </a:cubicBezTo>
                  <a:cubicBezTo>
                    <a:pt x="172" y="13"/>
                    <a:pt x="175" y="4"/>
                    <a:pt x="177" y="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6001200" y="4919760"/>
              <a:ext cx="569880" cy="2977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 rot="21432600">
              <a:off x="5919120" y="4771440"/>
              <a:ext cx="1506240" cy="368280"/>
            </a:xfrm>
            <a:custGeom>
              <a:avLst/>
              <a:gdLst>
                <a:gd name="textAreaLeft" fmla="*/ 0 w 1506240"/>
                <a:gd name="textAreaRight" fmla="*/ 1506600 w 15062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308" h="538">
                  <a:moveTo>
                    <a:pt x="0" y="526"/>
                  </a:moveTo>
                  <a:cubicBezTo>
                    <a:pt x="4" y="506"/>
                    <a:pt x="15" y="444"/>
                    <a:pt x="26" y="408"/>
                  </a:cubicBezTo>
                  <a:cubicBezTo>
                    <a:pt x="37" y="372"/>
                    <a:pt x="47" y="344"/>
                    <a:pt x="64" y="312"/>
                  </a:cubicBezTo>
                  <a:cubicBezTo>
                    <a:pt x="81" y="280"/>
                    <a:pt x="104" y="245"/>
                    <a:pt x="128" y="218"/>
                  </a:cubicBezTo>
                  <a:cubicBezTo>
                    <a:pt x="152" y="191"/>
                    <a:pt x="176" y="169"/>
                    <a:pt x="206" y="150"/>
                  </a:cubicBezTo>
                  <a:cubicBezTo>
                    <a:pt x="236" y="131"/>
                    <a:pt x="270" y="117"/>
                    <a:pt x="310" y="106"/>
                  </a:cubicBezTo>
                  <a:cubicBezTo>
                    <a:pt x="350" y="95"/>
                    <a:pt x="400" y="89"/>
                    <a:pt x="448" y="84"/>
                  </a:cubicBezTo>
                  <a:cubicBezTo>
                    <a:pt x="496" y="79"/>
                    <a:pt x="538" y="76"/>
                    <a:pt x="596" y="78"/>
                  </a:cubicBezTo>
                  <a:cubicBezTo>
                    <a:pt x="654" y="80"/>
                    <a:pt x="738" y="89"/>
                    <a:pt x="798" y="94"/>
                  </a:cubicBezTo>
                  <a:lnTo>
                    <a:pt x="956" y="106"/>
                  </a:lnTo>
                  <a:cubicBezTo>
                    <a:pt x="1013" y="109"/>
                    <a:pt x="1077" y="115"/>
                    <a:pt x="1142" y="114"/>
                  </a:cubicBezTo>
                  <a:cubicBezTo>
                    <a:pt x="1207" y="113"/>
                    <a:pt x="1278" y="105"/>
                    <a:pt x="1344" y="98"/>
                  </a:cubicBezTo>
                  <a:lnTo>
                    <a:pt x="1538" y="72"/>
                  </a:lnTo>
                  <a:cubicBezTo>
                    <a:pt x="1601" y="63"/>
                    <a:pt x="1660" y="53"/>
                    <a:pt x="1720" y="42"/>
                  </a:cubicBezTo>
                  <a:cubicBezTo>
                    <a:pt x="1780" y="31"/>
                    <a:pt x="1861" y="15"/>
                    <a:pt x="1896" y="8"/>
                  </a:cubicBezTo>
                  <a:lnTo>
                    <a:pt x="1928" y="0"/>
                  </a:lnTo>
                  <a:lnTo>
                    <a:pt x="2258" y="252"/>
                  </a:lnTo>
                  <a:cubicBezTo>
                    <a:pt x="2308" y="292"/>
                    <a:pt x="2238" y="246"/>
                    <a:pt x="2226" y="240"/>
                  </a:cubicBezTo>
                  <a:cubicBezTo>
                    <a:pt x="2214" y="234"/>
                    <a:pt x="2236" y="247"/>
                    <a:pt x="2186" y="214"/>
                  </a:cubicBezTo>
                  <a:cubicBezTo>
                    <a:pt x="2136" y="181"/>
                    <a:pt x="1972" y="71"/>
                    <a:pt x="1928" y="40"/>
                  </a:cubicBezTo>
                  <a:lnTo>
                    <a:pt x="1920" y="30"/>
                  </a:lnTo>
                  <a:cubicBezTo>
                    <a:pt x="1912" y="31"/>
                    <a:pt x="1905" y="37"/>
                    <a:pt x="1882" y="44"/>
                  </a:cubicBezTo>
                  <a:cubicBezTo>
                    <a:pt x="1859" y="51"/>
                    <a:pt x="1820" y="63"/>
                    <a:pt x="1780" y="72"/>
                  </a:cubicBezTo>
                  <a:lnTo>
                    <a:pt x="1640" y="100"/>
                  </a:lnTo>
                  <a:lnTo>
                    <a:pt x="1522" y="122"/>
                  </a:lnTo>
                  <a:cubicBezTo>
                    <a:pt x="1472" y="131"/>
                    <a:pt x="1398" y="146"/>
                    <a:pt x="1338" y="154"/>
                  </a:cubicBezTo>
                  <a:cubicBezTo>
                    <a:pt x="1278" y="162"/>
                    <a:pt x="1226" y="166"/>
                    <a:pt x="1164" y="168"/>
                  </a:cubicBezTo>
                  <a:cubicBezTo>
                    <a:pt x="1102" y="170"/>
                    <a:pt x="1023" y="167"/>
                    <a:pt x="964" y="164"/>
                  </a:cubicBezTo>
                  <a:cubicBezTo>
                    <a:pt x="904" y="162"/>
                    <a:pt x="862" y="155"/>
                    <a:pt x="808" y="150"/>
                  </a:cubicBezTo>
                  <a:cubicBezTo>
                    <a:pt x="754" y="145"/>
                    <a:pt x="687" y="136"/>
                    <a:pt x="642" y="132"/>
                  </a:cubicBezTo>
                  <a:cubicBezTo>
                    <a:pt x="597" y="128"/>
                    <a:pt x="580" y="127"/>
                    <a:pt x="536" y="128"/>
                  </a:cubicBezTo>
                  <a:cubicBezTo>
                    <a:pt x="493" y="128"/>
                    <a:pt x="425" y="130"/>
                    <a:pt x="380" y="136"/>
                  </a:cubicBezTo>
                  <a:cubicBezTo>
                    <a:pt x="335" y="142"/>
                    <a:pt x="300" y="153"/>
                    <a:pt x="266" y="166"/>
                  </a:cubicBezTo>
                  <a:cubicBezTo>
                    <a:pt x="232" y="179"/>
                    <a:pt x="205" y="195"/>
                    <a:pt x="178" y="216"/>
                  </a:cubicBezTo>
                  <a:cubicBezTo>
                    <a:pt x="151" y="237"/>
                    <a:pt x="125" y="260"/>
                    <a:pt x="104" y="290"/>
                  </a:cubicBezTo>
                  <a:cubicBezTo>
                    <a:pt x="83" y="320"/>
                    <a:pt x="66" y="366"/>
                    <a:pt x="54" y="394"/>
                  </a:cubicBezTo>
                  <a:lnTo>
                    <a:pt x="32" y="456"/>
                  </a:lnTo>
                  <a:lnTo>
                    <a:pt x="14" y="530"/>
                  </a:lnTo>
                  <a:lnTo>
                    <a:pt x="2" y="538"/>
                  </a:lnTo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5724000" y="4272840"/>
              <a:ext cx="862560" cy="280800"/>
            </a:xfrm>
            <a:custGeom>
              <a:avLst/>
              <a:gdLst>
                <a:gd name="textAreaLeft" fmla="*/ 0 w 862560"/>
                <a:gd name="textAreaRight" fmla="*/ 862920 w 8625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470" h="471">
                  <a:moveTo>
                    <a:pt x="2" y="459"/>
                  </a:moveTo>
                  <a:cubicBezTo>
                    <a:pt x="5" y="454"/>
                    <a:pt x="0" y="465"/>
                    <a:pt x="11" y="444"/>
                  </a:cubicBezTo>
                  <a:cubicBezTo>
                    <a:pt x="22" y="423"/>
                    <a:pt x="42" y="368"/>
                    <a:pt x="66" y="331"/>
                  </a:cubicBezTo>
                  <a:cubicBezTo>
                    <a:pt x="90" y="294"/>
                    <a:pt x="123" y="253"/>
                    <a:pt x="153" y="220"/>
                  </a:cubicBezTo>
                  <a:cubicBezTo>
                    <a:pt x="183" y="187"/>
                    <a:pt x="214" y="157"/>
                    <a:pt x="246" y="133"/>
                  </a:cubicBezTo>
                  <a:cubicBezTo>
                    <a:pt x="278" y="109"/>
                    <a:pt x="307" y="92"/>
                    <a:pt x="344" y="76"/>
                  </a:cubicBezTo>
                  <a:cubicBezTo>
                    <a:pt x="381" y="60"/>
                    <a:pt x="424" y="49"/>
                    <a:pt x="467" y="39"/>
                  </a:cubicBezTo>
                  <a:cubicBezTo>
                    <a:pt x="510" y="29"/>
                    <a:pt x="543" y="23"/>
                    <a:pt x="603" y="18"/>
                  </a:cubicBezTo>
                  <a:cubicBezTo>
                    <a:pt x="663" y="13"/>
                    <a:pt x="754" y="11"/>
                    <a:pt x="827" y="9"/>
                  </a:cubicBezTo>
                  <a:cubicBezTo>
                    <a:pt x="900" y="7"/>
                    <a:pt x="969" y="4"/>
                    <a:pt x="1043" y="4"/>
                  </a:cubicBezTo>
                  <a:cubicBezTo>
                    <a:pt x="1117" y="4"/>
                    <a:pt x="1208" y="10"/>
                    <a:pt x="1274" y="10"/>
                  </a:cubicBezTo>
                  <a:cubicBezTo>
                    <a:pt x="1340" y="10"/>
                    <a:pt x="1410" y="2"/>
                    <a:pt x="1440" y="1"/>
                  </a:cubicBezTo>
                  <a:cubicBezTo>
                    <a:pt x="1470" y="0"/>
                    <a:pt x="1457" y="1"/>
                    <a:pt x="1455" y="4"/>
                  </a:cubicBezTo>
                  <a:cubicBezTo>
                    <a:pt x="1453" y="7"/>
                    <a:pt x="1440" y="17"/>
                    <a:pt x="1427" y="21"/>
                  </a:cubicBezTo>
                  <a:cubicBezTo>
                    <a:pt x="1414" y="25"/>
                    <a:pt x="1409" y="25"/>
                    <a:pt x="1376" y="28"/>
                  </a:cubicBezTo>
                  <a:cubicBezTo>
                    <a:pt x="1343" y="31"/>
                    <a:pt x="1274" y="38"/>
                    <a:pt x="1227" y="42"/>
                  </a:cubicBezTo>
                  <a:cubicBezTo>
                    <a:pt x="1180" y="46"/>
                    <a:pt x="1152" y="44"/>
                    <a:pt x="1095" y="46"/>
                  </a:cubicBezTo>
                  <a:cubicBezTo>
                    <a:pt x="1038" y="48"/>
                    <a:pt x="953" y="53"/>
                    <a:pt x="887" y="56"/>
                  </a:cubicBezTo>
                  <a:cubicBezTo>
                    <a:pt x="821" y="59"/>
                    <a:pt x="755" y="62"/>
                    <a:pt x="699" y="66"/>
                  </a:cubicBezTo>
                  <a:cubicBezTo>
                    <a:pt x="643" y="70"/>
                    <a:pt x="592" y="76"/>
                    <a:pt x="549" y="82"/>
                  </a:cubicBezTo>
                  <a:cubicBezTo>
                    <a:pt x="506" y="88"/>
                    <a:pt x="476" y="97"/>
                    <a:pt x="443" y="105"/>
                  </a:cubicBezTo>
                  <a:cubicBezTo>
                    <a:pt x="410" y="113"/>
                    <a:pt x="381" y="121"/>
                    <a:pt x="353" y="132"/>
                  </a:cubicBezTo>
                  <a:cubicBezTo>
                    <a:pt x="325" y="143"/>
                    <a:pt x="301" y="153"/>
                    <a:pt x="275" y="169"/>
                  </a:cubicBezTo>
                  <a:cubicBezTo>
                    <a:pt x="275" y="169"/>
                    <a:pt x="220" y="205"/>
                    <a:pt x="198" y="225"/>
                  </a:cubicBezTo>
                  <a:cubicBezTo>
                    <a:pt x="176" y="245"/>
                    <a:pt x="155" y="270"/>
                    <a:pt x="137" y="289"/>
                  </a:cubicBezTo>
                  <a:cubicBezTo>
                    <a:pt x="119" y="308"/>
                    <a:pt x="109" y="324"/>
                    <a:pt x="98" y="340"/>
                  </a:cubicBezTo>
                  <a:lnTo>
                    <a:pt x="65" y="390"/>
                  </a:lnTo>
                  <a:cubicBezTo>
                    <a:pt x="52" y="410"/>
                    <a:pt x="27" y="449"/>
                    <a:pt x="17" y="462"/>
                  </a:cubicBezTo>
                  <a:lnTo>
                    <a:pt x="6" y="471"/>
                  </a:lnTo>
                  <a:lnTo>
                    <a:pt x="2" y="45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6586920" y="4289760"/>
              <a:ext cx="561960" cy="40464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960" h="680">
                  <a:moveTo>
                    <a:pt x="0" y="0"/>
                  </a:moveTo>
                  <a:lnTo>
                    <a:pt x="144" y="112"/>
                  </a:lnTo>
                  <a:lnTo>
                    <a:pt x="328" y="264"/>
                  </a:lnTo>
                  <a:lnTo>
                    <a:pt x="536" y="412"/>
                  </a:lnTo>
                  <a:lnTo>
                    <a:pt x="700" y="516"/>
                  </a:lnTo>
                  <a:lnTo>
                    <a:pt x="844" y="612"/>
                  </a:lnTo>
                  <a:lnTo>
                    <a:pt x="960" y="680"/>
                  </a:lnTo>
                  <a:lnTo>
                    <a:pt x="712" y="476"/>
                  </a:lnTo>
                  <a:lnTo>
                    <a:pt x="536" y="344"/>
                  </a:lnTo>
                  <a:lnTo>
                    <a:pt x="308" y="192"/>
                  </a:lnTo>
                  <a:lnTo>
                    <a:pt x="104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6061680" y="4890600"/>
              <a:ext cx="1453680" cy="44568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w="2040" h="612">
                  <a:moveTo>
                    <a:pt x="0" y="528"/>
                  </a:moveTo>
                  <a:lnTo>
                    <a:pt x="2000" y="68"/>
                  </a:lnTo>
                  <a:lnTo>
                    <a:pt x="1888" y="0"/>
                  </a:lnTo>
                  <a:lnTo>
                    <a:pt x="2040" y="72"/>
                  </a:lnTo>
                  <a:lnTo>
                    <a:pt x="16" y="61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 flipH="1" rot="20490600">
              <a:off x="5251680" y="5043240"/>
              <a:ext cx="601560" cy="208080"/>
            </a:xfrm>
            <a:custGeom>
              <a:avLst/>
              <a:gdLst>
                <a:gd name="textAreaLeft" fmla="*/ -360 w 601560"/>
                <a:gd name="textAreaRight" fmla="*/ 601560 w 6015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 rot="1374000">
              <a:off x="4736880" y="4851720"/>
              <a:ext cx="1073880" cy="547560"/>
            </a:xfrm>
            <a:custGeom>
              <a:avLst/>
              <a:gdLst>
                <a:gd name="textAreaLeft" fmla="*/ 0 w 1073880"/>
                <a:gd name="textAreaRight" fmla="*/ 1074240 w 107388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516" h="1039">
                  <a:moveTo>
                    <a:pt x="0" y="1039"/>
                  </a:moveTo>
                  <a:cubicBezTo>
                    <a:pt x="31" y="1017"/>
                    <a:pt x="168" y="942"/>
                    <a:pt x="234" y="898"/>
                  </a:cubicBezTo>
                  <a:cubicBezTo>
                    <a:pt x="300" y="854"/>
                    <a:pt x="342" y="823"/>
                    <a:pt x="399" y="772"/>
                  </a:cubicBezTo>
                  <a:cubicBezTo>
                    <a:pt x="456" y="721"/>
                    <a:pt x="520" y="654"/>
                    <a:pt x="576" y="592"/>
                  </a:cubicBezTo>
                  <a:cubicBezTo>
                    <a:pt x="632" y="530"/>
                    <a:pt x="688" y="456"/>
                    <a:pt x="738" y="397"/>
                  </a:cubicBezTo>
                  <a:cubicBezTo>
                    <a:pt x="788" y="338"/>
                    <a:pt x="830" y="285"/>
                    <a:pt x="873" y="238"/>
                  </a:cubicBezTo>
                  <a:cubicBezTo>
                    <a:pt x="916" y="191"/>
                    <a:pt x="958" y="147"/>
                    <a:pt x="999" y="115"/>
                  </a:cubicBezTo>
                  <a:cubicBezTo>
                    <a:pt x="1040" y="83"/>
                    <a:pt x="1077" y="61"/>
                    <a:pt x="1119" y="43"/>
                  </a:cubicBezTo>
                  <a:cubicBezTo>
                    <a:pt x="1161" y="25"/>
                    <a:pt x="1211" y="13"/>
                    <a:pt x="1254" y="7"/>
                  </a:cubicBezTo>
                  <a:cubicBezTo>
                    <a:pt x="1297" y="1"/>
                    <a:pt x="1345" y="0"/>
                    <a:pt x="1380" y="4"/>
                  </a:cubicBezTo>
                  <a:cubicBezTo>
                    <a:pt x="1415" y="8"/>
                    <a:pt x="1447" y="23"/>
                    <a:pt x="1467" y="31"/>
                  </a:cubicBezTo>
                  <a:cubicBezTo>
                    <a:pt x="1487" y="39"/>
                    <a:pt x="1516" y="55"/>
                    <a:pt x="1500" y="55"/>
                  </a:cubicBezTo>
                  <a:lnTo>
                    <a:pt x="1368" y="31"/>
                  </a:lnTo>
                  <a:cubicBezTo>
                    <a:pt x="1325" y="28"/>
                    <a:pt x="1280" y="31"/>
                    <a:pt x="1242" y="37"/>
                  </a:cubicBezTo>
                  <a:cubicBezTo>
                    <a:pt x="1204" y="43"/>
                    <a:pt x="1175" y="53"/>
                    <a:pt x="1140" y="70"/>
                  </a:cubicBezTo>
                  <a:cubicBezTo>
                    <a:pt x="1105" y="87"/>
                    <a:pt x="1064" y="117"/>
                    <a:pt x="1032" y="142"/>
                  </a:cubicBezTo>
                  <a:cubicBezTo>
                    <a:pt x="1000" y="167"/>
                    <a:pt x="973" y="197"/>
                    <a:pt x="948" y="223"/>
                  </a:cubicBezTo>
                  <a:cubicBezTo>
                    <a:pt x="923" y="249"/>
                    <a:pt x="908" y="268"/>
                    <a:pt x="882" y="301"/>
                  </a:cubicBezTo>
                  <a:cubicBezTo>
                    <a:pt x="856" y="334"/>
                    <a:pt x="824" y="380"/>
                    <a:pt x="789" y="424"/>
                  </a:cubicBezTo>
                  <a:cubicBezTo>
                    <a:pt x="754" y="468"/>
                    <a:pt x="709" y="519"/>
                    <a:pt x="672" y="562"/>
                  </a:cubicBezTo>
                  <a:cubicBezTo>
                    <a:pt x="635" y="605"/>
                    <a:pt x="607" y="640"/>
                    <a:pt x="567" y="679"/>
                  </a:cubicBezTo>
                  <a:cubicBezTo>
                    <a:pt x="527" y="718"/>
                    <a:pt x="474" y="763"/>
                    <a:pt x="429" y="799"/>
                  </a:cubicBezTo>
                  <a:cubicBezTo>
                    <a:pt x="384" y="835"/>
                    <a:pt x="339" y="863"/>
                    <a:pt x="294" y="892"/>
                  </a:cubicBezTo>
                  <a:cubicBezTo>
                    <a:pt x="249" y="921"/>
                    <a:pt x="197" y="953"/>
                    <a:pt x="156" y="976"/>
                  </a:cubicBezTo>
                  <a:cubicBezTo>
                    <a:pt x="115" y="999"/>
                    <a:pt x="71" y="1019"/>
                    <a:pt x="45" y="1030"/>
                  </a:cubicBezTo>
                  <a:lnTo>
                    <a:pt x="0" y="103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 rot="1374000">
              <a:off x="5156280" y="5036040"/>
              <a:ext cx="630360" cy="3074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894" h="549">
                  <a:moveTo>
                    <a:pt x="0" y="549"/>
                  </a:moveTo>
                  <a:cubicBezTo>
                    <a:pt x="0" y="549"/>
                    <a:pt x="174" y="405"/>
                    <a:pt x="174" y="405"/>
                  </a:cubicBezTo>
                  <a:cubicBezTo>
                    <a:pt x="174" y="405"/>
                    <a:pt x="294" y="300"/>
                    <a:pt x="294" y="300"/>
                  </a:cubicBezTo>
                  <a:cubicBezTo>
                    <a:pt x="294" y="300"/>
                    <a:pt x="403" y="199"/>
                    <a:pt x="441" y="162"/>
                  </a:cubicBezTo>
                  <a:cubicBezTo>
                    <a:pt x="479" y="125"/>
                    <a:pt x="495" y="100"/>
                    <a:pt x="522" y="78"/>
                  </a:cubicBezTo>
                  <a:cubicBezTo>
                    <a:pt x="549" y="56"/>
                    <a:pt x="580" y="41"/>
                    <a:pt x="603" y="30"/>
                  </a:cubicBezTo>
                  <a:cubicBezTo>
                    <a:pt x="626" y="19"/>
                    <a:pt x="635" y="13"/>
                    <a:pt x="663" y="9"/>
                  </a:cubicBezTo>
                  <a:cubicBezTo>
                    <a:pt x="691" y="5"/>
                    <a:pt x="738" y="0"/>
                    <a:pt x="771" y="3"/>
                  </a:cubicBezTo>
                  <a:cubicBezTo>
                    <a:pt x="804" y="6"/>
                    <a:pt x="840" y="18"/>
                    <a:pt x="861" y="27"/>
                  </a:cubicBezTo>
                  <a:cubicBezTo>
                    <a:pt x="882" y="36"/>
                    <a:pt x="894" y="53"/>
                    <a:pt x="894" y="57"/>
                  </a:cubicBezTo>
                  <a:cubicBezTo>
                    <a:pt x="894" y="61"/>
                    <a:pt x="879" y="55"/>
                    <a:pt x="864" y="51"/>
                  </a:cubicBezTo>
                  <a:cubicBezTo>
                    <a:pt x="849" y="47"/>
                    <a:pt x="822" y="36"/>
                    <a:pt x="801" y="33"/>
                  </a:cubicBezTo>
                  <a:cubicBezTo>
                    <a:pt x="780" y="30"/>
                    <a:pt x="761" y="28"/>
                    <a:pt x="735" y="33"/>
                  </a:cubicBezTo>
                  <a:cubicBezTo>
                    <a:pt x="709" y="38"/>
                    <a:pt x="669" y="53"/>
                    <a:pt x="642" y="66"/>
                  </a:cubicBezTo>
                  <a:cubicBezTo>
                    <a:pt x="615" y="79"/>
                    <a:pt x="594" y="94"/>
                    <a:pt x="573" y="111"/>
                  </a:cubicBezTo>
                  <a:cubicBezTo>
                    <a:pt x="552" y="128"/>
                    <a:pt x="535" y="143"/>
                    <a:pt x="513" y="165"/>
                  </a:cubicBezTo>
                  <a:cubicBezTo>
                    <a:pt x="491" y="187"/>
                    <a:pt x="466" y="213"/>
                    <a:pt x="441" y="234"/>
                  </a:cubicBezTo>
                  <a:cubicBezTo>
                    <a:pt x="415" y="257"/>
                    <a:pt x="387" y="279"/>
                    <a:pt x="357" y="303"/>
                  </a:cubicBezTo>
                  <a:cubicBezTo>
                    <a:pt x="327" y="327"/>
                    <a:pt x="294" y="352"/>
                    <a:pt x="261" y="378"/>
                  </a:cubicBezTo>
                  <a:cubicBezTo>
                    <a:pt x="228" y="404"/>
                    <a:pt x="192" y="436"/>
                    <a:pt x="159" y="459"/>
                  </a:cubicBezTo>
                  <a:cubicBezTo>
                    <a:pt x="126" y="482"/>
                    <a:pt x="92" y="498"/>
                    <a:pt x="66" y="513"/>
                  </a:cubicBezTo>
                  <a:lnTo>
                    <a:pt x="0" y="54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 rot="1374000">
              <a:off x="4518000" y="4332960"/>
              <a:ext cx="1427400" cy="1037160"/>
            </a:xfrm>
            <a:custGeom>
              <a:avLst/>
              <a:gdLst>
                <a:gd name="textAreaLeft" fmla="*/ 0 w 1427400"/>
                <a:gd name="textAreaRight" fmla="*/ 1427760 w 14274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2016" h="1850">
                  <a:moveTo>
                    <a:pt x="2016" y="884"/>
                  </a:moveTo>
                  <a:lnTo>
                    <a:pt x="1394" y="114"/>
                  </a:lnTo>
                  <a:lnTo>
                    <a:pt x="1364" y="80"/>
                  </a:lnTo>
                  <a:cubicBezTo>
                    <a:pt x="1339" y="69"/>
                    <a:pt x="1287" y="54"/>
                    <a:pt x="1242" y="50"/>
                  </a:cubicBezTo>
                  <a:cubicBezTo>
                    <a:pt x="1197" y="46"/>
                    <a:pt x="1129" y="54"/>
                    <a:pt x="1092" y="56"/>
                  </a:cubicBezTo>
                  <a:cubicBezTo>
                    <a:pt x="1055" y="58"/>
                    <a:pt x="1050" y="59"/>
                    <a:pt x="1022" y="64"/>
                  </a:cubicBezTo>
                  <a:lnTo>
                    <a:pt x="926" y="86"/>
                  </a:lnTo>
                  <a:cubicBezTo>
                    <a:pt x="891" y="98"/>
                    <a:pt x="846" y="113"/>
                    <a:pt x="810" y="134"/>
                  </a:cubicBezTo>
                  <a:cubicBezTo>
                    <a:pt x="774" y="155"/>
                    <a:pt x="748" y="180"/>
                    <a:pt x="708" y="212"/>
                  </a:cubicBezTo>
                  <a:cubicBezTo>
                    <a:pt x="668" y="244"/>
                    <a:pt x="616" y="289"/>
                    <a:pt x="570" y="326"/>
                  </a:cubicBezTo>
                  <a:cubicBezTo>
                    <a:pt x="524" y="363"/>
                    <a:pt x="487" y="400"/>
                    <a:pt x="432" y="434"/>
                  </a:cubicBezTo>
                  <a:cubicBezTo>
                    <a:pt x="377" y="468"/>
                    <a:pt x="291" y="507"/>
                    <a:pt x="240" y="534"/>
                  </a:cubicBezTo>
                  <a:cubicBezTo>
                    <a:pt x="189" y="561"/>
                    <a:pt x="156" y="579"/>
                    <a:pt x="126" y="596"/>
                  </a:cubicBezTo>
                  <a:lnTo>
                    <a:pt x="60" y="632"/>
                  </a:lnTo>
                  <a:lnTo>
                    <a:pt x="402" y="1850"/>
                  </a:lnTo>
                  <a:lnTo>
                    <a:pt x="0" y="590"/>
                  </a:lnTo>
                  <a:lnTo>
                    <a:pt x="192" y="500"/>
                  </a:lnTo>
                  <a:cubicBezTo>
                    <a:pt x="259" y="467"/>
                    <a:pt x="337" y="432"/>
                    <a:pt x="402" y="392"/>
                  </a:cubicBezTo>
                  <a:cubicBezTo>
                    <a:pt x="467" y="352"/>
                    <a:pt x="525" y="304"/>
                    <a:pt x="582" y="260"/>
                  </a:cubicBezTo>
                  <a:cubicBezTo>
                    <a:pt x="639" y="216"/>
                    <a:pt x="698" y="161"/>
                    <a:pt x="744" y="128"/>
                  </a:cubicBezTo>
                  <a:cubicBezTo>
                    <a:pt x="790" y="95"/>
                    <a:pt x="818" y="80"/>
                    <a:pt x="858" y="62"/>
                  </a:cubicBezTo>
                  <a:cubicBezTo>
                    <a:pt x="898" y="44"/>
                    <a:pt x="939" y="32"/>
                    <a:pt x="986" y="22"/>
                  </a:cubicBezTo>
                  <a:cubicBezTo>
                    <a:pt x="1033" y="12"/>
                    <a:pt x="1092" y="4"/>
                    <a:pt x="1140" y="2"/>
                  </a:cubicBezTo>
                  <a:cubicBezTo>
                    <a:pt x="1188" y="0"/>
                    <a:pt x="1236" y="4"/>
                    <a:pt x="1272" y="8"/>
                  </a:cubicBezTo>
                  <a:cubicBezTo>
                    <a:pt x="1311" y="15"/>
                    <a:pt x="1332" y="18"/>
                    <a:pt x="1354" y="26"/>
                  </a:cubicBezTo>
                  <a:cubicBezTo>
                    <a:pt x="1376" y="34"/>
                    <a:pt x="1393" y="48"/>
                    <a:pt x="1406" y="58"/>
                  </a:cubicBezTo>
                  <a:lnTo>
                    <a:pt x="1434" y="86"/>
                  </a:lnTo>
                  <a:lnTo>
                    <a:pt x="2016" y="884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 rot="1374000">
              <a:off x="4286160" y="4706280"/>
              <a:ext cx="1609200" cy="867240"/>
            </a:xfrm>
            <a:custGeom>
              <a:avLst/>
              <a:gdLst>
                <a:gd name="textAreaLeft" fmla="*/ 0 w 1609200"/>
                <a:gd name="textAreaRight" fmla="*/ 1609560 w 160920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2140" h="1600">
                  <a:moveTo>
                    <a:pt x="2116" y="568"/>
                  </a:moveTo>
                  <a:lnTo>
                    <a:pt x="2140" y="656"/>
                  </a:lnTo>
                  <a:lnTo>
                    <a:pt x="324" y="1600"/>
                  </a:lnTo>
                  <a:lnTo>
                    <a:pt x="0" y="0"/>
                  </a:lnTo>
                  <a:lnTo>
                    <a:pt x="368" y="1508"/>
                  </a:lnTo>
                  <a:lnTo>
                    <a:pt x="2116" y="56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 rot="1374000">
              <a:off x="4327920" y="4757040"/>
              <a:ext cx="1519560" cy="7534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2088" h="1492">
                  <a:moveTo>
                    <a:pt x="2088" y="444"/>
                  </a:moveTo>
                  <a:cubicBezTo>
                    <a:pt x="2076" y="441"/>
                    <a:pt x="1968" y="446"/>
                    <a:pt x="1912" y="460"/>
                  </a:cubicBezTo>
                  <a:cubicBezTo>
                    <a:pt x="1856" y="474"/>
                    <a:pt x="1797" y="503"/>
                    <a:pt x="1752" y="528"/>
                  </a:cubicBezTo>
                  <a:lnTo>
                    <a:pt x="1640" y="608"/>
                  </a:lnTo>
                  <a:lnTo>
                    <a:pt x="1516" y="704"/>
                  </a:lnTo>
                  <a:lnTo>
                    <a:pt x="1376" y="808"/>
                  </a:lnTo>
                  <a:lnTo>
                    <a:pt x="1180" y="960"/>
                  </a:lnTo>
                  <a:lnTo>
                    <a:pt x="1000" y="1084"/>
                  </a:lnTo>
                  <a:lnTo>
                    <a:pt x="844" y="1184"/>
                  </a:lnTo>
                  <a:lnTo>
                    <a:pt x="676" y="1288"/>
                  </a:lnTo>
                  <a:lnTo>
                    <a:pt x="516" y="1384"/>
                  </a:lnTo>
                  <a:lnTo>
                    <a:pt x="404" y="1448"/>
                  </a:lnTo>
                  <a:lnTo>
                    <a:pt x="376" y="1452"/>
                  </a:lnTo>
                  <a:lnTo>
                    <a:pt x="352" y="1388"/>
                  </a:lnTo>
                  <a:lnTo>
                    <a:pt x="12" y="60"/>
                  </a:lnTo>
                  <a:lnTo>
                    <a:pt x="96" y="0"/>
                  </a:lnTo>
                  <a:lnTo>
                    <a:pt x="0" y="52"/>
                  </a:lnTo>
                  <a:lnTo>
                    <a:pt x="348" y="1492"/>
                  </a:lnTo>
                  <a:lnTo>
                    <a:pt x="396" y="1488"/>
                  </a:lnTo>
                  <a:lnTo>
                    <a:pt x="492" y="1444"/>
                  </a:lnTo>
                  <a:cubicBezTo>
                    <a:pt x="549" y="1415"/>
                    <a:pt x="657" y="1361"/>
                    <a:pt x="736" y="1316"/>
                  </a:cubicBezTo>
                  <a:lnTo>
                    <a:pt x="964" y="1176"/>
                  </a:lnTo>
                  <a:lnTo>
                    <a:pt x="1144" y="1048"/>
                  </a:lnTo>
                  <a:lnTo>
                    <a:pt x="1380" y="880"/>
                  </a:lnTo>
                  <a:lnTo>
                    <a:pt x="1596" y="720"/>
                  </a:lnTo>
                  <a:cubicBezTo>
                    <a:pt x="1659" y="673"/>
                    <a:pt x="1715" y="627"/>
                    <a:pt x="1760" y="596"/>
                  </a:cubicBezTo>
                  <a:cubicBezTo>
                    <a:pt x="1805" y="565"/>
                    <a:pt x="1831" y="551"/>
                    <a:pt x="1868" y="532"/>
                  </a:cubicBezTo>
                  <a:cubicBezTo>
                    <a:pt x="1905" y="513"/>
                    <a:pt x="1947" y="495"/>
                    <a:pt x="1984" y="480"/>
                  </a:cubicBezTo>
                  <a:lnTo>
                    <a:pt x="2088" y="444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 rot="1374000">
              <a:off x="4433400" y="4892760"/>
              <a:ext cx="564480" cy="4507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800" h="808">
                  <a:moveTo>
                    <a:pt x="772" y="428"/>
                  </a:moveTo>
                  <a:cubicBezTo>
                    <a:pt x="746" y="440"/>
                    <a:pt x="691" y="477"/>
                    <a:pt x="644" y="504"/>
                  </a:cubicBezTo>
                  <a:lnTo>
                    <a:pt x="488" y="588"/>
                  </a:lnTo>
                  <a:cubicBezTo>
                    <a:pt x="432" y="619"/>
                    <a:pt x="349" y="668"/>
                    <a:pt x="308" y="692"/>
                  </a:cubicBezTo>
                  <a:lnTo>
                    <a:pt x="244" y="732"/>
                  </a:lnTo>
                  <a:lnTo>
                    <a:pt x="0" y="0"/>
                  </a:lnTo>
                  <a:lnTo>
                    <a:pt x="164" y="676"/>
                  </a:lnTo>
                  <a:lnTo>
                    <a:pt x="192" y="784"/>
                  </a:lnTo>
                  <a:lnTo>
                    <a:pt x="204" y="808"/>
                  </a:lnTo>
                  <a:lnTo>
                    <a:pt x="248" y="792"/>
                  </a:lnTo>
                  <a:cubicBezTo>
                    <a:pt x="265" y="781"/>
                    <a:pt x="269" y="765"/>
                    <a:pt x="304" y="740"/>
                  </a:cubicBezTo>
                  <a:cubicBezTo>
                    <a:pt x="339" y="715"/>
                    <a:pt x="403" y="672"/>
                    <a:pt x="456" y="640"/>
                  </a:cubicBezTo>
                  <a:cubicBezTo>
                    <a:pt x="509" y="608"/>
                    <a:pt x="572" y="577"/>
                    <a:pt x="620" y="548"/>
                  </a:cubicBezTo>
                  <a:lnTo>
                    <a:pt x="744" y="464"/>
                  </a:lnTo>
                  <a:cubicBezTo>
                    <a:pt x="774" y="445"/>
                    <a:pt x="795" y="438"/>
                    <a:pt x="800" y="432"/>
                  </a:cubicBezTo>
                  <a:lnTo>
                    <a:pt x="772" y="42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1"/>
            <p:cNvSpPr/>
            <p:nvPr/>
          </p:nvSpPr>
          <p:spPr>
            <a:xfrm>
              <a:off x="5857920" y="5276160"/>
              <a:ext cx="235440" cy="13176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74" h="125">
                  <a:moveTo>
                    <a:pt x="6" y="70"/>
                  </a:moveTo>
                  <a:cubicBezTo>
                    <a:pt x="11" y="51"/>
                    <a:pt x="77" y="22"/>
                    <a:pt x="77" y="22"/>
                  </a:cubicBezTo>
                  <a:cubicBezTo>
                    <a:pt x="77" y="22"/>
                    <a:pt x="181" y="2"/>
                    <a:pt x="181" y="2"/>
                  </a:cubicBezTo>
                  <a:cubicBezTo>
                    <a:pt x="181" y="2"/>
                    <a:pt x="249" y="0"/>
                    <a:pt x="249" y="0"/>
                  </a:cubicBezTo>
                  <a:cubicBezTo>
                    <a:pt x="267" y="4"/>
                    <a:pt x="274" y="15"/>
                    <a:pt x="266" y="32"/>
                  </a:cubicBezTo>
                  <a:cubicBezTo>
                    <a:pt x="257" y="48"/>
                    <a:pt x="217" y="85"/>
                    <a:pt x="193" y="101"/>
                  </a:cubicBezTo>
                  <a:cubicBezTo>
                    <a:pt x="193" y="101"/>
                    <a:pt x="142" y="124"/>
                    <a:pt x="123" y="125"/>
                  </a:cubicBezTo>
                  <a:cubicBezTo>
                    <a:pt x="105" y="125"/>
                    <a:pt x="48" y="108"/>
                    <a:pt x="48" y="108"/>
                  </a:cubicBezTo>
                  <a:cubicBezTo>
                    <a:pt x="27" y="96"/>
                    <a:pt x="0" y="88"/>
                    <a:pt x="6" y="70"/>
                  </a:cubicBezTo>
                  <a:close/>
                </a:path>
              </a:pathLst>
            </a:custGeom>
            <a:noFill/>
            <a:ln w="57240">
              <a:solidFill>
                <a:srgbClr val="0044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2"/>
            <p:cNvSpPr/>
            <p:nvPr/>
          </p:nvSpPr>
          <p:spPr>
            <a:xfrm rot="21390600">
              <a:off x="5890320" y="2612520"/>
              <a:ext cx="1479960" cy="2282760"/>
            </a:xfrm>
            <a:custGeom>
              <a:avLst/>
              <a:gdLst>
                <a:gd name="textAreaLeft" fmla="*/ 0 w 1479960"/>
                <a:gd name="textAreaRight" fmla="*/ 1480320 w 1479960"/>
                <a:gd name="textAreaTop" fmla="*/ 0 h 2282760"/>
                <a:gd name="textAreaBottom" fmla="*/ 2283120 h 22827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3"/>
            <p:cNvSpPr/>
            <p:nvPr/>
          </p:nvSpPr>
          <p:spPr>
            <a:xfrm flipH="1" rot="21262800">
              <a:off x="4420080" y="2709720"/>
              <a:ext cx="1432440" cy="2440080"/>
            </a:xfrm>
            <a:custGeom>
              <a:avLst/>
              <a:gdLst>
                <a:gd name="textAreaLeft" fmla="*/ -360 w 1432440"/>
                <a:gd name="textAreaRight" fmla="*/ 1432440 w 143244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4"/>
            <p:cNvSpPr/>
            <p:nvPr/>
          </p:nvSpPr>
          <p:spPr>
            <a:xfrm flipH="1" rot="21262800">
              <a:off x="4483440" y="2673000"/>
              <a:ext cx="1287360" cy="1703520"/>
            </a:xfrm>
            <a:custGeom>
              <a:avLst/>
              <a:gdLst>
                <a:gd name="textAreaLeft" fmla="*/ 360 w 1287360"/>
                <a:gd name="textAreaRight" fmla="*/ 1288080 w 1287360"/>
                <a:gd name="textAreaTop" fmla="*/ 0 h 1703520"/>
                <a:gd name="textAreaBottom" fmla="*/ 1703880 h 170352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5"/>
            <p:cNvSpPr/>
            <p:nvPr/>
          </p:nvSpPr>
          <p:spPr>
            <a:xfrm rot="337200">
              <a:off x="5670720" y="2678040"/>
              <a:ext cx="973440" cy="150480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1504800"/>
                <a:gd name="textAreaBottom" fmla="*/ 1505160 h 150480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6"/>
          <p:cNvSpPr/>
          <p:nvPr/>
        </p:nvSpPr>
        <p:spPr>
          <a:xfrm>
            <a:off x="350640" y="1498680"/>
            <a:ext cx="789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e0000"/>
                </a:solidFill>
                <a:latin typeface="Bradley Hand ITC"/>
              </a:rPr>
              <a:t>L</a:t>
            </a:r>
            <a:r>
              <a:rPr b="1" lang="fr-FR" sz="9600" spc="-1" strike="noStrike">
                <a:solidFill>
                  <a:srgbClr val="fe6100"/>
                </a:solidFill>
                <a:latin typeface="Bradley Hand ITC"/>
              </a:rPr>
              <a:t>a</a:t>
            </a:r>
            <a:r>
              <a:rPr b="1" lang="fr-FR" sz="9600" spc="-1" strike="noStrike">
                <a:solidFill>
                  <a:srgbClr val="004a48"/>
                </a:solidFill>
                <a:latin typeface="Bradley Hand ITC"/>
              </a:rPr>
              <a:t> </a:t>
            </a:r>
            <a:r>
              <a:rPr b="1" lang="fr-FR" sz="9600" spc="-1" strike="noStrike">
                <a:solidFill>
                  <a:srgbClr val="c3ff01"/>
                </a:solidFill>
                <a:latin typeface="Bradley Hand ITC"/>
              </a:rPr>
              <a:t>P</a:t>
            </a:r>
            <a:r>
              <a:rPr b="1" lang="fr-FR" sz="9600" spc="-1" strike="noStrike">
                <a:solidFill>
                  <a:srgbClr val="8cff01"/>
                </a:solidFill>
                <a:latin typeface="Bradley Hand ITC"/>
              </a:rPr>
              <a:t>ê</a:t>
            </a:r>
            <a:r>
              <a:rPr b="1" lang="fr-FR" sz="9600" spc="-1" strike="noStrike">
                <a:solidFill>
                  <a:srgbClr val="01ff50"/>
                </a:solidFill>
                <a:latin typeface="Bradley Hand ITC"/>
              </a:rPr>
              <a:t>c</a:t>
            </a:r>
            <a:r>
              <a:rPr b="1" lang="fr-FR" sz="9600" spc="-1" strike="noStrike">
                <a:solidFill>
                  <a:srgbClr val="01ffff"/>
                </a:solidFill>
                <a:latin typeface="Bradley Hand ITC"/>
              </a:rPr>
              <a:t>h</a:t>
            </a:r>
            <a:r>
              <a:rPr b="1" lang="fr-FR" sz="9600" spc="-1" strike="noStrike">
                <a:solidFill>
                  <a:srgbClr val="0168ff"/>
                </a:solidFill>
                <a:latin typeface="Bradley Hand ITC"/>
              </a:rPr>
              <a:t>e</a:t>
            </a:r>
            <a:r>
              <a:rPr b="1" lang="fr-FR" sz="9600" spc="-1" strike="noStrike">
                <a:solidFill>
                  <a:srgbClr val="5601ff"/>
                </a:solidFill>
                <a:latin typeface="Bradley Hand ITC"/>
              </a:rPr>
              <a:t>L</a:t>
            </a:r>
            <a:r>
              <a:rPr b="1" lang="fr-FR" sz="9600" spc="-1" strike="noStrike">
                <a:solidFill>
                  <a:srgbClr val="db01ff"/>
                </a:solidFill>
                <a:latin typeface="Bradley Hand ITC"/>
              </a:rPr>
              <a:t>i</a:t>
            </a:r>
            <a:r>
              <a:rPr b="1" lang="fr-FR" sz="9600" spc="-1" strike="noStrike">
                <a:solidFill>
                  <a:srgbClr val="fe02b6"/>
                </a:solidFill>
                <a:latin typeface="Bradley Hand ITC"/>
              </a:rPr>
              <a:t>r</a:t>
            </a:r>
            <a:r>
              <a:rPr b="1" lang="fr-FR" sz="9600" spc="-1" strike="noStrike">
                <a:solidFill>
                  <a:srgbClr val="ff0101"/>
                </a:solidFill>
                <a:latin typeface="Bradley Hand ITC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1"/>
          <a:srcRect l="38076" t="32923" r="44939" b="42255"/>
          <a:stretch/>
        </p:blipFill>
        <p:spPr>
          <a:xfrm>
            <a:off x="2111400" y="3119400"/>
            <a:ext cx="4635360" cy="386712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7"/>
          <p:cNvGrpSpPr/>
          <p:nvPr/>
        </p:nvGrpSpPr>
        <p:grpSpPr>
          <a:xfrm>
            <a:off x="2432160" y="3565440"/>
            <a:ext cx="3490560" cy="322200"/>
            <a:chOff x="2432160" y="3565440"/>
            <a:chExt cx="3490560" cy="322200"/>
          </a:xfrm>
        </p:grpSpPr>
        <p:sp>
          <p:nvSpPr>
            <p:cNvPr id="65" name="Rectangle 26"/>
            <p:cNvSpPr/>
            <p:nvPr/>
          </p:nvSpPr>
          <p:spPr>
            <a:xfrm>
              <a:off x="2432160" y="3565440"/>
              <a:ext cx="31716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750760" y="3565440"/>
              <a:ext cx="31716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>
              <a:off x="3066840" y="3565440"/>
              <a:ext cx="31716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>
              <a:off x="338544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>
              <a:off x="371160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>
              <a:off x="403056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434628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466524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>
              <a:off x="497052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5"/>
            <p:cNvSpPr/>
            <p:nvPr/>
          </p:nvSpPr>
          <p:spPr>
            <a:xfrm>
              <a:off x="528660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"/>
            <p:cNvSpPr/>
            <p:nvPr/>
          </p:nvSpPr>
          <p:spPr>
            <a:xfrm>
              <a:off x="560520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56"/>
          <p:cNvSpPr/>
          <p:nvPr/>
        </p:nvSpPr>
        <p:spPr>
          <a:xfrm>
            <a:off x="2770200" y="2222640"/>
            <a:ext cx="2104920" cy="2104920"/>
          </a:xfrm>
          <a:prstGeom prst="ellipse">
            <a:avLst/>
          </a:prstGeom>
          <a:solidFill>
            <a:srgbClr val="0b3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7"/>
          <p:cNvSpPr/>
          <p:nvPr/>
        </p:nvSpPr>
        <p:spPr>
          <a:xfrm>
            <a:off x="4532400" y="2068560"/>
            <a:ext cx="2946240" cy="2946240"/>
          </a:xfrm>
          <a:prstGeom prst="ellipse">
            <a:avLst/>
          </a:prstGeom>
          <a:solidFill>
            <a:srgbClr val="008b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7"/>
          <p:cNvGrpSpPr/>
          <p:nvPr/>
        </p:nvGrpSpPr>
        <p:grpSpPr>
          <a:xfrm>
            <a:off x="5314320" y="3462840"/>
            <a:ext cx="1573560" cy="1548360"/>
            <a:chOff x="5314320" y="3462840"/>
            <a:chExt cx="1573560" cy="1548360"/>
          </a:xfrm>
        </p:grpSpPr>
        <p:sp>
          <p:nvSpPr>
            <p:cNvPr id="79" name="Freeform 58"/>
            <p:cNvSpPr/>
            <p:nvPr/>
          </p:nvSpPr>
          <p:spPr>
            <a:xfrm>
              <a:off x="6316560" y="4590720"/>
              <a:ext cx="499320" cy="11844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803" h="423">
                  <a:moveTo>
                    <a:pt x="3" y="423"/>
                  </a:moveTo>
                  <a:cubicBezTo>
                    <a:pt x="0" y="419"/>
                    <a:pt x="37" y="373"/>
                    <a:pt x="80" y="351"/>
                  </a:cubicBezTo>
                  <a:cubicBezTo>
                    <a:pt x="123" y="329"/>
                    <a:pt x="164" y="313"/>
                    <a:pt x="262" y="288"/>
                  </a:cubicBezTo>
                  <a:cubicBezTo>
                    <a:pt x="360" y="263"/>
                    <a:pt x="532" y="228"/>
                    <a:pt x="666" y="202"/>
                  </a:cubicBezTo>
                  <a:cubicBezTo>
                    <a:pt x="800" y="176"/>
                    <a:pt x="920" y="157"/>
                    <a:pt x="1069" y="130"/>
                  </a:cubicBezTo>
                  <a:lnTo>
                    <a:pt x="1558" y="43"/>
                  </a:lnTo>
                  <a:lnTo>
                    <a:pt x="1803" y="0"/>
                  </a:lnTo>
                  <a:lnTo>
                    <a:pt x="1491" y="106"/>
                  </a:lnTo>
                  <a:lnTo>
                    <a:pt x="1232" y="183"/>
                  </a:lnTo>
                  <a:cubicBezTo>
                    <a:pt x="1165" y="201"/>
                    <a:pt x="1144" y="204"/>
                    <a:pt x="1088" y="216"/>
                  </a:cubicBezTo>
                  <a:cubicBezTo>
                    <a:pt x="1032" y="228"/>
                    <a:pt x="974" y="241"/>
                    <a:pt x="896" y="255"/>
                  </a:cubicBezTo>
                  <a:cubicBezTo>
                    <a:pt x="818" y="269"/>
                    <a:pt x="710" y="285"/>
                    <a:pt x="622" y="298"/>
                  </a:cubicBezTo>
                  <a:cubicBezTo>
                    <a:pt x="534" y="311"/>
                    <a:pt x="435" y="323"/>
                    <a:pt x="368" y="331"/>
                  </a:cubicBezTo>
                  <a:cubicBezTo>
                    <a:pt x="368" y="331"/>
                    <a:pt x="264" y="339"/>
                    <a:pt x="219" y="346"/>
                  </a:cubicBezTo>
                  <a:cubicBezTo>
                    <a:pt x="174" y="353"/>
                    <a:pt x="135" y="362"/>
                    <a:pt x="99" y="375"/>
                  </a:cubicBezTo>
                  <a:cubicBezTo>
                    <a:pt x="63" y="388"/>
                    <a:pt x="23" y="413"/>
                    <a:pt x="3" y="423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59"/>
            <p:cNvSpPr/>
            <p:nvPr/>
          </p:nvSpPr>
          <p:spPr>
            <a:xfrm>
              <a:off x="6281640" y="4556160"/>
              <a:ext cx="509040" cy="126720"/>
            </a:xfrm>
            <a:custGeom>
              <a:avLst/>
              <a:gdLst>
                <a:gd name="textAreaLeft" fmla="*/ 0 w 509040"/>
                <a:gd name="textAreaRight" fmla="*/ 509400 w 5090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732" h="432">
                  <a:moveTo>
                    <a:pt x="0" y="432"/>
                  </a:moveTo>
                  <a:cubicBezTo>
                    <a:pt x="9" y="424"/>
                    <a:pt x="31" y="382"/>
                    <a:pt x="60" y="357"/>
                  </a:cubicBezTo>
                  <a:cubicBezTo>
                    <a:pt x="89" y="332"/>
                    <a:pt x="135" y="300"/>
                    <a:pt x="177" y="279"/>
                  </a:cubicBezTo>
                  <a:cubicBezTo>
                    <a:pt x="219" y="258"/>
                    <a:pt x="266" y="241"/>
                    <a:pt x="312" y="231"/>
                  </a:cubicBezTo>
                  <a:cubicBezTo>
                    <a:pt x="358" y="221"/>
                    <a:pt x="401" y="221"/>
                    <a:pt x="453" y="219"/>
                  </a:cubicBezTo>
                  <a:cubicBezTo>
                    <a:pt x="505" y="217"/>
                    <a:pt x="558" y="220"/>
                    <a:pt x="624" y="219"/>
                  </a:cubicBezTo>
                  <a:cubicBezTo>
                    <a:pt x="690" y="218"/>
                    <a:pt x="783" y="215"/>
                    <a:pt x="852" y="210"/>
                  </a:cubicBezTo>
                  <a:cubicBezTo>
                    <a:pt x="921" y="205"/>
                    <a:pt x="972" y="197"/>
                    <a:pt x="1041" y="186"/>
                  </a:cubicBezTo>
                  <a:cubicBezTo>
                    <a:pt x="1110" y="175"/>
                    <a:pt x="1191" y="160"/>
                    <a:pt x="1269" y="144"/>
                  </a:cubicBezTo>
                  <a:cubicBezTo>
                    <a:pt x="1347" y="128"/>
                    <a:pt x="1441" y="107"/>
                    <a:pt x="1512" y="87"/>
                  </a:cubicBezTo>
                  <a:cubicBezTo>
                    <a:pt x="1583" y="67"/>
                    <a:pt x="1657" y="35"/>
                    <a:pt x="1692" y="21"/>
                  </a:cubicBezTo>
                  <a:cubicBezTo>
                    <a:pt x="1727" y="7"/>
                    <a:pt x="1732" y="0"/>
                    <a:pt x="1722" y="0"/>
                  </a:cubicBezTo>
                  <a:cubicBezTo>
                    <a:pt x="1712" y="0"/>
                    <a:pt x="1682" y="8"/>
                    <a:pt x="1629" y="21"/>
                  </a:cubicBezTo>
                  <a:cubicBezTo>
                    <a:pt x="1576" y="34"/>
                    <a:pt x="1480" y="65"/>
                    <a:pt x="1401" y="81"/>
                  </a:cubicBezTo>
                  <a:cubicBezTo>
                    <a:pt x="1322" y="97"/>
                    <a:pt x="1249" y="107"/>
                    <a:pt x="1152" y="120"/>
                  </a:cubicBezTo>
                  <a:cubicBezTo>
                    <a:pt x="1055" y="133"/>
                    <a:pt x="926" y="147"/>
                    <a:pt x="816" y="156"/>
                  </a:cubicBezTo>
                  <a:cubicBezTo>
                    <a:pt x="706" y="165"/>
                    <a:pt x="577" y="166"/>
                    <a:pt x="492" y="171"/>
                  </a:cubicBezTo>
                  <a:cubicBezTo>
                    <a:pt x="407" y="176"/>
                    <a:pt x="359" y="178"/>
                    <a:pt x="306" y="189"/>
                  </a:cubicBezTo>
                  <a:cubicBezTo>
                    <a:pt x="253" y="200"/>
                    <a:pt x="209" y="223"/>
                    <a:pt x="174" y="240"/>
                  </a:cubicBezTo>
                  <a:cubicBezTo>
                    <a:pt x="139" y="257"/>
                    <a:pt x="115" y="276"/>
                    <a:pt x="93" y="294"/>
                  </a:cubicBezTo>
                  <a:cubicBezTo>
                    <a:pt x="71" y="312"/>
                    <a:pt x="53" y="329"/>
                    <a:pt x="39" y="348"/>
                  </a:cubicBezTo>
                  <a:cubicBezTo>
                    <a:pt x="25" y="367"/>
                    <a:pt x="12" y="391"/>
                    <a:pt x="6" y="405"/>
                  </a:cubicBezTo>
                  <a:cubicBezTo>
                    <a:pt x="0" y="419"/>
                    <a:pt x="1" y="427"/>
                    <a:pt x="0" y="432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60"/>
            <p:cNvSpPr/>
            <p:nvPr/>
          </p:nvSpPr>
          <p:spPr>
            <a:xfrm>
              <a:off x="6243120" y="4621320"/>
              <a:ext cx="48240" cy="648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77" h="229">
                  <a:moveTo>
                    <a:pt x="177" y="0"/>
                  </a:moveTo>
                  <a:cubicBezTo>
                    <a:pt x="167" y="3"/>
                    <a:pt x="131" y="23"/>
                    <a:pt x="108" y="42"/>
                  </a:cubicBezTo>
                  <a:cubicBezTo>
                    <a:pt x="85" y="61"/>
                    <a:pt x="56" y="93"/>
                    <a:pt x="39" y="114"/>
                  </a:cubicBezTo>
                  <a:cubicBezTo>
                    <a:pt x="22" y="135"/>
                    <a:pt x="12" y="154"/>
                    <a:pt x="6" y="171"/>
                  </a:cubicBezTo>
                  <a:cubicBezTo>
                    <a:pt x="0" y="188"/>
                    <a:pt x="1" y="207"/>
                    <a:pt x="3" y="216"/>
                  </a:cubicBezTo>
                  <a:cubicBezTo>
                    <a:pt x="5" y="225"/>
                    <a:pt x="12" y="227"/>
                    <a:pt x="21" y="228"/>
                  </a:cubicBezTo>
                  <a:cubicBezTo>
                    <a:pt x="30" y="229"/>
                    <a:pt x="49" y="226"/>
                    <a:pt x="57" y="219"/>
                  </a:cubicBezTo>
                  <a:cubicBezTo>
                    <a:pt x="65" y="212"/>
                    <a:pt x="68" y="199"/>
                    <a:pt x="72" y="186"/>
                  </a:cubicBezTo>
                  <a:cubicBezTo>
                    <a:pt x="76" y="173"/>
                    <a:pt x="78" y="153"/>
                    <a:pt x="84" y="138"/>
                  </a:cubicBezTo>
                  <a:cubicBezTo>
                    <a:pt x="90" y="123"/>
                    <a:pt x="100" y="107"/>
                    <a:pt x="108" y="93"/>
                  </a:cubicBezTo>
                  <a:cubicBezTo>
                    <a:pt x="116" y="79"/>
                    <a:pt x="126" y="63"/>
                    <a:pt x="135" y="51"/>
                  </a:cubicBezTo>
                  <a:cubicBezTo>
                    <a:pt x="144" y="39"/>
                    <a:pt x="158" y="29"/>
                    <a:pt x="165" y="21"/>
                  </a:cubicBezTo>
                  <a:cubicBezTo>
                    <a:pt x="172" y="13"/>
                    <a:pt x="175" y="4"/>
                    <a:pt x="177" y="0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1"/>
            <p:cNvSpPr/>
            <p:nvPr/>
          </p:nvSpPr>
          <p:spPr>
            <a:xfrm>
              <a:off x="6173280" y="4571280"/>
              <a:ext cx="268920" cy="14040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2"/>
            <p:cNvSpPr/>
            <p:nvPr/>
          </p:nvSpPr>
          <p:spPr>
            <a:xfrm rot="21432600">
              <a:off x="6134400" y="4501080"/>
              <a:ext cx="710640" cy="173520"/>
            </a:xfrm>
            <a:custGeom>
              <a:avLst/>
              <a:gdLst>
                <a:gd name="textAreaLeft" fmla="*/ 0 w 710640"/>
                <a:gd name="textAreaRight" fmla="*/ 711000 w 71064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308" h="538">
                  <a:moveTo>
                    <a:pt x="0" y="526"/>
                  </a:moveTo>
                  <a:cubicBezTo>
                    <a:pt x="4" y="506"/>
                    <a:pt x="15" y="444"/>
                    <a:pt x="26" y="408"/>
                  </a:cubicBezTo>
                  <a:cubicBezTo>
                    <a:pt x="37" y="372"/>
                    <a:pt x="47" y="344"/>
                    <a:pt x="64" y="312"/>
                  </a:cubicBezTo>
                  <a:cubicBezTo>
                    <a:pt x="81" y="280"/>
                    <a:pt x="104" y="245"/>
                    <a:pt x="128" y="218"/>
                  </a:cubicBezTo>
                  <a:cubicBezTo>
                    <a:pt x="152" y="191"/>
                    <a:pt x="176" y="169"/>
                    <a:pt x="206" y="150"/>
                  </a:cubicBezTo>
                  <a:cubicBezTo>
                    <a:pt x="236" y="131"/>
                    <a:pt x="270" y="117"/>
                    <a:pt x="310" y="106"/>
                  </a:cubicBezTo>
                  <a:cubicBezTo>
                    <a:pt x="350" y="95"/>
                    <a:pt x="400" y="89"/>
                    <a:pt x="448" y="84"/>
                  </a:cubicBezTo>
                  <a:cubicBezTo>
                    <a:pt x="496" y="79"/>
                    <a:pt x="538" y="76"/>
                    <a:pt x="596" y="78"/>
                  </a:cubicBezTo>
                  <a:cubicBezTo>
                    <a:pt x="654" y="80"/>
                    <a:pt x="738" y="89"/>
                    <a:pt x="798" y="94"/>
                  </a:cubicBezTo>
                  <a:lnTo>
                    <a:pt x="956" y="106"/>
                  </a:lnTo>
                  <a:cubicBezTo>
                    <a:pt x="1013" y="109"/>
                    <a:pt x="1077" y="115"/>
                    <a:pt x="1142" y="114"/>
                  </a:cubicBezTo>
                  <a:cubicBezTo>
                    <a:pt x="1207" y="113"/>
                    <a:pt x="1278" y="105"/>
                    <a:pt x="1344" y="98"/>
                  </a:cubicBezTo>
                  <a:lnTo>
                    <a:pt x="1538" y="72"/>
                  </a:lnTo>
                  <a:cubicBezTo>
                    <a:pt x="1601" y="63"/>
                    <a:pt x="1660" y="53"/>
                    <a:pt x="1720" y="42"/>
                  </a:cubicBezTo>
                  <a:cubicBezTo>
                    <a:pt x="1780" y="31"/>
                    <a:pt x="1861" y="15"/>
                    <a:pt x="1896" y="8"/>
                  </a:cubicBezTo>
                  <a:lnTo>
                    <a:pt x="1928" y="0"/>
                  </a:lnTo>
                  <a:lnTo>
                    <a:pt x="2258" y="252"/>
                  </a:lnTo>
                  <a:cubicBezTo>
                    <a:pt x="2308" y="292"/>
                    <a:pt x="2238" y="246"/>
                    <a:pt x="2226" y="240"/>
                  </a:cubicBezTo>
                  <a:cubicBezTo>
                    <a:pt x="2214" y="234"/>
                    <a:pt x="2236" y="247"/>
                    <a:pt x="2186" y="214"/>
                  </a:cubicBezTo>
                  <a:cubicBezTo>
                    <a:pt x="2136" y="181"/>
                    <a:pt x="1972" y="71"/>
                    <a:pt x="1928" y="40"/>
                  </a:cubicBezTo>
                  <a:lnTo>
                    <a:pt x="1920" y="30"/>
                  </a:lnTo>
                  <a:cubicBezTo>
                    <a:pt x="1912" y="31"/>
                    <a:pt x="1905" y="37"/>
                    <a:pt x="1882" y="44"/>
                  </a:cubicBezTo>
                  <a:cubicBezTo>
                    <a:pt x="1859" y="51"/>
                    <a:pt x="1820" y="63"/>
                    <a:pt x="1780" y="72"/>
                  </a:cubicBezTo>
                  <a:lnTo>
                    <a:pt x="1640" y="100"/>
                  </a:lnTo>
                  <a:lnTo>
                    <a:pt x="1522" y="122"/>
                  </a:lnTo>
                  <a:cubicBezTo>
                    <a:pt x="1472" y="131"/>
                    <a:pt x="1398" y="146"/>
                    <a:pt x="1338" y="154"/>
                  </a:cubicBezTo>
                  <a:cubicBezTo>
                    <a:pt x="1278" y="162"/>
                    <a:pt x="1226" y="166"/>
                    <a:pt x="1164" y="168"/>
                  </a:cubicBezTo>
                  <a:cubicBezTo>
                    <a:pt x="1102" y="170"/>
                    <a:pt x="1023" y="167"/>
                    <a:pt x="964" y="164"/>
                  </a:cubicBezTo>
                  <a:cubicBezTo>
                    <a:pt x="904" y="162"/>
                    <a:pt x="862" y="155"/>
                    <a:pt x="808" y="150"/>
                  </a:cubicBezTo>
                  <a:cubicBezTo>
                    <a:pt x="754" y="145"/>
                    <a:pt x="687" y="136"/>
                    <a:pt x="642" y="132"/>
                  </a:cubicBezTo>
                  <a:cubicBezTo>
                    <a:pt x="597" y="128"/>
                    <a:pt x="580" y="127"/>
                    <a:pt x="536" y="128"/>
                  </a:cubicBezTo>
                  <a:cubicBezTo>
                    <a:pt x="493" y="128"/>
                    <a:pt x="425" y="130"/>
                    <a:pt x="380" y="136"/>
                  </a:cubicBezTo>
                  <a:cubicBezTo>
                    <a:pt x="335" y="142"/>
                    <a:pt x="300" y="153"/>
                    <a:pt x="266" y="166"/>
                  </a:cubicBezTo>
                  <a:cubicBezTo>
                    <a:pt x="232" y="179"/>
                    <a:pt x="205" y="195"/>
                    <a:pt x="178" y="216"/>
                  </a:cubicBezTo>
                  <a:cubicBezTo>
                    <a:pt x="151" y="237"/>
                    <a:pt x="125" y="260"/>
                    <a:pt x="104" y="290"/>
                  </a:cubicBezTo>
                  <a:cubicBezTo>
                    <a:pt x="83" y="320"/>
                    <a:pt x="66" y="366"/>
                    <a:pt x="54" y="394"/>
                  </a:cubicBezTo>
                  <a:lnTo>
                    <a:pt x="32" y="456"/>
                  </a:lnTo>
                  <a:lnTo>
                    <a:pt x="14" y="530"/>
                  </a:lnTo>
                  <a:lnTo>
                    <a:pt x="2" y="53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63"/>
            <p:cNvSpPr/>
            <p:nvPr/>
          </p:nvSpPr>
          <p:spPr>
            <a:xfrm>
              <a:off x="6042600" y="4265640"/>
              <a:ext cx="407160" cy="1324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470" h="471">
                  <a:moveTo>
                    <a:pt x="2" y="459"/>
                  </a:moveTo>
                  <a:cubicBezTo>
                    <a:pt x="5" y="454"/>
                    <a:pt x="0" y="465"/>
                    <a:pt x="11" y="444"/>
                  </a:cubicBezTo>
                  <a:cubicBezTo>
                    <a:pt x="22" y="423"/>
                    <a:pt x="42" y="368"/>
                    <a:pt x="66" y="331"/>
                  </a:cubicBezTo>
                  <a:cubicBezTo>
                    <a:pt x="90" y="294"/>
                    <a:pt x="123" y="253"/>
                    <a:pt x="153" y="220"/>
                  </a:cubicBezTo>
                  <a:cubicBezTo>
                    <a:pt x="183" y="187"/>
                    <a:pt x="214" y="157"/>
                    <a:pt x="246" y="133"/>
                  </a:cubicBezTo>
                  <a:cubicBezTo>
                    <a:pt x="278" y="109"/>
                    <a:pt x="307" y="92"/>
                    <a:pt x="344" y="76"/>
                  </a:cubicBezTo>
                  <a:cubicBezTo>
                    <a:pt x="381" y="60"/>
                    <a:pt x="424" y="49"/>
                    <a:pt x="467" y="39"/>
                  </a:cubicBezTo>
                  <a:cubicBezTo>
                    <a:pt x="510" y="29"/>
                    <a:pt x="543" y="23"/>
                    <a:pt x="603" y="18"/>
                  </a:cubicBezTo>
                  <a:cubicBezTo>
                    <a:pt x="663" y="13"/>
                    <a:pt x="754" y="11"/>
                    <a:pt x="827" y="9"/>
                  </a:cubicBezTo>
                  <a:cubicBezTo>
                    <a:pt x="900" y="7"/>
                    <a:pt x="969" y="4"/>
                    <a:pt x="1043" y="4"/>
                  </a:cubicBezTo>
                  <a:cubicBezTo>
                    <a:pt x="1117" y="4"/>
                    <a:pt x="1208" y="10"/>
                    <a:pt x="1274" y="10"/>
                  </a:cubicBezTo>
                  <a:cubicBezTo>
                    <a:pt x="1340" y="10"/>
                    <a:pt x="1410" y="2"/>
                    <a:pt x="1440" y="1"/>
                  </a:cubicBezTo>
                  <a:cubicBezTo>
                    <a:pt x="1470" y="0"/>
                    <a:pt x="1457" y="1"/>
                    <a:pt x="1455" y="4"/>
                  </a:cubicBezTo>
                  <a:cubicBezTo>
                    <a:pt x="1453" y="7"/>
                    <a:pt x="1440" y="17"/>
                    <a:pt x="1427" y="21"/>
                  </a:cubicBezTo>
                  <a:cubicBezTo>
                    <a:pt x="1414" y="25"/>
                    <a:pt x="1409" y="25"/>
                    <a:pt x="1376" y="28"/>
                  </a:cubicBezTo>
                  <a:cubicBezTo>
                    <a:pt x="1343" y="31"/>
                    <a:pt x="1274" y="38"/>
                    <a:pt x="1227" y="42"/>
                  </a:cubicBezTo>
                  <a:cubicBezTo>
                    <a:pt x="1180" y="46"/>
                    <a:pt x="1152" y="44"/>
                    <a:pt x="1095" y="46"/>
                  </a:cubicBezTo>
                  <a:cubicBezTo>
                    <a:pt x="1038" y="48"/>
                    <a:pt x="953" y="53"/>
                    <a:pt x="887" y="56"/>
                  </a:cubicBezTo>
                  <a:cubicBezTo>
                    <a:pt x="821" y="59"/>
                    <a:pt x="755" y="62"/>
                    <a:pt x="699" y="66"/>
                  </a:cubicBezTo>
                  <a:cubicBezTo>
                    <a:pt x="643" y="70"/>
                    <a:pt x="592" y="76"/>
                    <a:pt x="549" y="82"/>
                  </a:cubicBezTo>
                  <a:cubicBezTo>
                    <a:pt x="506" y="88"/>
                    <a:pt x="476" y="97"/>
                    <a:pt x="443" y="105"/>
                  </a:cubicBezTo>
                  <a:cubicBezTo>
                    <a:pt x="410" y="113"/>
                    <a:pt x="381" y="121"/>
                    <a:pt x="353" y="132"/>
                  </a:cubicBezTo>
                  <a:cubicBezTo>
                    <a:pt x="325" y="143"/>
                    <a:pt x="301" y="153"/>
                    <a:pt x="275" y="169"/>
                  </a:cubicBezTo>
                  <a:cubicBezTo>
                    <a:pt x="275" y="169"/>
                    <a:pt x="220" y="205"/>
                    <a:pt x="198" y="225"/>
                  </a:cubicBezTo>
                  <a:cubicBezTo>
                    <a:pt x="176" y="245"/>
                    <a:pt x="155" y="270"/>
                    <a:pt x="137" y="289"/>
                  </a:cubicBezTo>
                  <a:cubicBezTo>
                    <a:pt x="119" y="308"/>
                    <a:pt x="109" y="324"/>
                    <a:pt x="98" y="340"/>
                  </a:cubicBezTo>
                  <a:lnTo>
                    <a:pt x="65" y="390"/>
                  </a:lnTo>
                  <a:cubicBezTo>
                    <a:pt x="52" y="410"/>
                    <a:pt x="27" y="449"/>
                    <a:pt x="17" y="462"/>
                  </a:cubicBezTo>
                  <a:lnTo>
                    <a:pt x="6" y="471"/>
                  </a:lnTo>
                  <a:lnTo>
                    <a:pt x="2" y="45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4"/>
            <p:cNvSpPr/>
            <p:nvPr/>
          </p:nvSpPr>
          <p:spPr>
            <a:xfrm>
              <a:off x="6449760" y="4273920"/>
              <a:ext cx="264960" cy="1908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960" h="680">
                  <a:moveTo>
                    <a:pt x="0" y="0"/>
                  </a:moveTo>
                  <a:lnTo>
                    <a:pt x="144" y="112"/>
                  </a:lnTo>
                  <a:lnTo>
                    <a:pt x="328" y="264"/>
                  </a:lnTo>
                  <a:lnTo>
                    <a:pt x="536" y="412"/>
                  </a:lnTo>
                  <a:lnTo>
                    <a:pt x="700" y="516"/>
                  </a:lnTo>
                  <a:lnTo>
                    <a:pt x="844" y="612"/>
                  </a:lnTo>
                  <a:lnTo>
                    <a:pt x="960" y="680"/>
                  </a:lnTo>
                  <a:lnTo>
                    <a:pt x="712" y="476"/>
                  </a:lnTo>
                  <a:lnTo>
                    <a:pt x="536" y="344"/>
                  </a:lnTo>
                  <a:lnTo>
                    <a:pt x="308" y="192"/>
                  </a:lnTo>
                  <a:lnTo>
                    <a:pt x="104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5"/>
            <p:cNvSpPr/>
            <p:nvPr/>
          </p:nvSpPr>
          <p:spPr>
            <a:xfrm>
              <a:off x="6202080" y="4557600"/>
              <a:ext cx="685800" cy="210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2040" h="612">
                  <a:moveTo>
                    <a:pt x="0" y="528"/>
                  </a:moveTo>
                  <a:lnTo>
                    <a:pt x="2000" y="68"/>
                  </a:lnTo>
                  <a:lnTo>
                    <a:pt x="1888" y="0"/>
                  </a:lnTo>
                  <a:lnTo>
                    <a:pt x="2040" y="72"/>
                  </a:lnTo>
                  <a:lnTo>
                    <a:pt x="16" y="61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6"/>
            <p:cNvSpPr/>
            <p:nvPr/>
          </p:nvSpPr>
          <p:spPr>
            <a:xfrm flipH="1" rot="20490600">
              <a:off x="5819400" y="4629240"/>
              <a:ext cx="283680" cy="97920"/>
            </a:xfrm>
            <a:custGeom>
              <a:avLst/>
              <a:gdLst>
                <a:gd name="textAreaLeft" fmla="*/ 360 w 283680"/>
                <a:gd name="textAreaRight" fmla="*/ 284400 w 283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7"/>
            <p:cNvSpPr/>
            <p:nvPr/>
          </p:nvSpPr>
          <p:spPr>
            <a:xfrm rot="1374000">
              <a:off x="5576400" y="4538520"/>
              <a:ext cx="506880" cy="25848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516" h="1039">
                  <a:moveTo>
                    <a:pt x="0" y="1039"/>
                  </a:moveTo>
                  <a:cubicBezTo>
                    <a:pt x="31" y="1017"/>
                    <a:pt x="168" y="942"/>
                    <a:pt x="234" y="898"/>
                  </a:cubicBezTo>
                  <a:cubicBezTo>
                    <a:pt x="300" y="854"/>
                    <a:pt x="342" y="823"/>
                    <a:pt x="399" y="772"/>
                  </a:cubicBezTo>
                  <a:cubicBezTo>
                    <a:pt x="456" y="721"/>
                    <a:pt x="520" y="654"/>
                    <a:pt x="576" y="592"/>
                  </a:cubicBezTo>
                  <a:cubicBezTo>
                    <a:pt x="632" y="530"/>
                    <a:pt x="688" y="456"/>
                    <a:pt x="738" y="397"/>
                  </a:cubicBezTo>
                  <a:cubicBezTo>
                    <a:pt x="788" y="338"/>
                    <a:pt x="830" y="285"/>
                    <a:pt x="873" y="238"/>
                  </a:cubicBezTo>
                  <a:cubicBezTo>
                    <a:pt x="916" y="191"/>
                    <a:pt x="958" y="147"/>
                    <a:pt x="999" y="115"/>
                  </a:cubicBezTo>
                  <a:cubicBezTo>
                    <a:pt x="1040" y="83"/>
                    <a:pt x="1077" y="61"/>
                    <a:pt x="1119" y="43"/>
                  </a:cubicBezTo>
                  <a:cubicBezTo>
                    <a:pt x="1161" y="25"/>
                    <a:pt x="1211" y="13"/>
                    <a:pt x="1254" y="7"/>
                  </a:cubicBezTo>
                  <a:cubicBezTo>
                    <a:pt x="1297" y="1"/>
                    <a:pt x="1345" y="0"/>
                    <a:pt x="1380" y="4"/>
                  </a:cubicBezTo>
                  <a:cubicBezTo>
                    <a:pt x="1415" y="8"/>
                    <a:pt x="1447" y="23"/>
                    <a:pt x="1467" y="31"/>
                  </a:cubicBezTo>
                  <a:cubicBezTo>
                    <a:pt x="1487" y="39"/>
                    <a:pt x="1516" y="55"/>
                    <a:pt x="1500" y="55"/>
                  </a:cubicBezTo>
                  <a:lnTo>
                    <a:pt x="1368" y="31"/>
                  </a:lnTo>
                  <a:cubicBezTo>
                    <a:pt x="1325" y="28"/>
                    <a:pt x="1280" y="31"/>
                    <a:pt x="1242" y="37"/>
                  </a:cubicBezTo>
                  <a:cubicBezTo>
                    <a:pt x="1204" y="43"/>
                    <a:pt x="1175" y="53"/>
                    <a:pt x="1140" y="70"/>
                  </a:cubicBezTo>
                  <a:cubicBezTo>
                    <a:pt x="1105" y="87"/>
                    <a:pt x="1064" y="117"/>
                    <a:pt x="1032" y="142"/>
                  </a:cubicBezTo>
                  <a:cubicBezTo>
                    <a:pt x="1000" y="167"/>
                    <a:pt x="973" y="197"/>
                    <a:pt x="948" y="223"/>
                  </a:cubicBezTo>
                  <a:cubicBezTo>
                    <a:pt x="923" y="249"/>
                    <a:pt x="908" y="268"/>
                    <a:pt x="882" y="301"/>
                  </a:cubicBezTo>
                  <a:cubicBezTo>
                    <a:pt x="856" y="334"/>
                    <a:pt x="824" y="380"/>
                    <a:pt x="789" y="424"/>
                  </a:cubicBezTo>
                  <a:cubicBezTo>
                    <a:pt x="754" y="468"/>
                    <a:pt x="709" y="519"/>
                    <a:pt x="672" y="562"/>
                  </a:cubicBezTo>
                  <a:cubicBezTo>
                    <a:pt x="635" y="605"/>
                    <a:pt x="607" y="640"/>
                    <a:pt x="567" y="679"/>
                  </a:cubicBezTo>
                  <a:cubicBezTo>
                    <a:pt x="527" y="718"/>
                    <a:pt x="474" y="763"/>
                    <a:pt x="429" y="799"/>
                  </a:cubicBezTo>
                  <a:cubicBezTo>
                    <a:pt x="384" y="835"/>
                    <a:pt x="339" y="863"/>
                    <a:pt x="294" y="892"/>
                  </a:cubicBezTo>
                  <a:cubicBezTo>
                    <a:pt x="249" y="921"/>
                    <a:pt x="197" y="953"/>
                    <a:pt x="156" y="976"/>
                  </a:cubicBezTo>
                  <a:cubicBezTo>
                    <a:pt x="115" y="999"/>
                    <a:pt x="71" y="1019"/>
                    <a:pt x="45" y="1030"/>
                  </a:cubicBezTo>
                  <a:lnTo>
                    <a:pt x="0" y="10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8"/>
            <p:cNvSpPr/>
            <p:nvPr/>
          </p:nvSpPr>
          <p:spPr>
            <a:xfrm rot="1374000">
              <a:off x="5774760" y="4625640"/>
              <a:ext cx="297360" cy="1450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894" h="549">
                  <a:moveTo>
                    <a:pt x="0" y="549"/>
                  </a:moveTo>
                  <a:cubicBezTo>
                    <a:pt x="0" y="549"/>
                    <a:pt x="174" y="405"/>
                    <a:pt x="174" y="405"/>
                  </a:cubicBezTo>
                  <a:cubicBezTo>
                    <a:pt x="174" y="405"/>
                    <a:pt x="294" y="300"/>
                    <a:pt x="294" y="300"/>
                  </a:cubicBezTo>
                  <a:cubicBezTo>
                    <a:pt x="294" y="300"/>
                    <a:pt x="403" y="199"/>
                    <a:pt x="441" y="162"/>
                  </a:cubicBezTo>
                  <a:cubicBezTo>
                    <a:pt x="479" y="125"/>
                    <a:pt x="495" y="100"/>
                    <a:pt x="522" y="78"/>
                  </a:cubicBezTo>
                  <a:cubicBezTo>
                    <a:pt x="549" y="56"/>
                    <a:pt x="580" y="41"/>
                    <a:pt x="603" y="30"/>
                  </a:cubicBezTo>
                  <a:cubicBezTo>
                    <a:pt x="626" y="19"/>
                    <a:pt x="635" y="13"/>
                    <a:pt x="663" y="9"/>
                  </a:cubicBezTo>
                  <a:cubicBezTo>
                    <a:pt x="691" y="5"/>
                    <a:pt x="738" y="0"/>
                    <a:pt x="771" y="3"/>
                  </a:cubicBezTo>
                  <a:cubicBezTo>
                    <a:pt x="804" y="6"/>
                    <a:pt x="840" y="18"/>
                    <a:pt x="861" y="27"/>
                  </a:cubicBezTo>
                  <a:cubicBezTo>
                    <a:pt x="882" y="36"/>
                    <a:pt x="894" y="53"/>
                    <a:pt x="894" y="57"/>
                  </a:cubicBezTo>
                  <a:cubicBezTo>
                    <a:pt x="894" y="61"/>
                    <a:pt x="879" y="55"/>
                    <a:pt x="864" y="51"/>
                  </a:cubicBezTo>
                  <a:cubicBezTo>
                    <a:pt x="849" y="47"/>
                    <a:pt x="822" y="36"/>
                    <a:pt x="801" y="33"/>
                  </a:cubicBezTo>
                  <a:cubicBezTo>
                    <a:pt x="780" y="30"/>
                    <a:pt x="761" y="28"/>
                    <a:pt x="735" y="33"/>
                  </a:cubicBezTo>
                  <a:cubicBezTo>
                    <a:pt x="709" y="38"/>
                    <a:pt x="669" y="53"/>
                    <a:pt x="642" y="66"/>
                  </a:cubicBezTo>
                  <a:cubicBezTo>
                    <a:pt x="615" y="79"/>
                    <a:pt x="594" y="94"/>
                    <a:pt x="573" y="111"/>
                  </a:cubicBezTo>
                  <a:cubicBezTo>
                    <a:pt x="552" y="128"/>
                    <a:pt x="535" y="143"/>
                    <a:pt x="513" y="165"/>
                  </a:cubicBezTo>
                  <a:cubicBezTo>
                    <a:pt x="491" y="187"/>
                    <a:pt x="466" y="213"/>
                    <a:pt x="441" y="234"/>
                  </a:cubicBezTo>
                  <a:cubicBezTo>
                    <a:pt x="415" y="257"/>
                    <a:pt x="387" y="279"/>
                    <a:pt x="357" y="303"/>
                  </a:cubicBezTo>
                  <a:cubicBezTo>
                    <a:pt x="327" y="327"/>
                    <a:pt x="294" y="352"/>
                    <a:pt x="261" y="378"/>
                  </a:cubicBezTo>
                  <a:cubicBezTo>
                    <a:pt x="228" y="404"/>
                    <a:pt x="192" y="436"/>
                    <a:pt x="159" y="459"/>
                  </a:cubicBezTo>
                  <a:cubicBezTo>
                    <a:pt x="126" y="482"/>
                    <a:pt x="92" y="498"/>
                    <a:pt x="66" y="513"/>
                  </a:cubicBez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9"/>
            <p:cNvSpPr/>
            <p:nvPr/>
          </p:nvSpPr>
          <p:spPr>
            <a:xfrm rot="1374000">
              <a:off x="5473440" y="4294440"/>
              <a:ext cx="673560" cy="488880"/>
            </a:xfrm>
            <a:custGeom>
              <a:avLst/>
              <a:gdLst>
                <a:gd name="textAreaLeft" fmla="*/ 0 w 673560"/>
                <a:gd name="textAreaRight" fmla="*/ 673920 w 6735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016" h="1850">
                  <a:moveTo>
                    <a:pt x="2016" y="884"/>
                  </a:moveTo>
                  <a:lnTo>
                    <a:pt x="1394" y="114"/>
                  </a:lnTo>
                  <a:lnTo>
                    <a:pt x="1364" y="80"/>
                  </a:lnTo>
                  <a:cubicBezTo>
                    <a:pt x="1339" y="69"/>
                    <a:pt x="1287" y="54"/>
                    <a:pt x="1242" y="50"/>
                  </a:cubicBezTo>
                  <a:cubicBezTo>
                    <a:pt x="1197" y="46"/>
                    <a:pt x="1129" y="54"/>
                    <a:pt x="1092" y="56"/>
                  </a:cubicBezTo>
                  <a:cubicBezTo>
                    <a:pt x="1055" y="58"/>
                    <a:pt x="1050" y="59"/>
                    <a:pt x="1022" y="64"/>
                  </a:cubicBezTo>
                  <a:lnTo>
                    <a:pt x="926" y="86"/>
                  </a:lnTo>
                  <a:cubicBezTo>
                    <a:pt x="891" y="98"/>
                    <a:pt x="846" y="113"/>
                    <a:pt x="810" y="134"/>
                  </a:cubicBezTo>
                  <a:cubicBezTo>
                    <a:pt x="774" y="155"/>
                    <a:pt x="748" y="180"/>
                    <a:pt x="708" y="212"/>
                  </a:cubicBezTo>
                  <a:cubicBezTo>
                    <a:pt x="668" y="244"/>
                    <a:pt x="616" y="289"/>
                    <a:pt x="570" y="326"/>
                  </a:cubicBezTo>
                  <a:cubicBezTo>
                    <a:pt x="524" y="363"/>
                    <a:pt x="487" y="400"/>
                    <a:pt x="432" y="434"/>
                  </a:cubicBezTo>
                  <a:cubicBezTo>
                    <a:pt x="377" y="468"/>
                    <a:pt x="291" y="507"/>
                    <a:pt x="240" y="534"/>
                  </a:cubicBezTo>
                  <a:cubicBezTo>
                    <a:pt x="189" y="561"/>
                    <a:pt x="156" y="579"/>
                    <a:pt x="126" y="596"/>
                  </a:cubicBezTo>
                  <a:lnTo>
                    <a:pt x="60" y="632"/>
                  </a:lnTo>
                  <a:lnTo>
                    <a:pt x="402" y="1850"/>
                  </a:lnTo>
                  <a:lnTo>
                    <a:pt x="0" y="590"/>
                  </a:lnTo>
                  <a:lnTo>
                    <a:pt x="192" y="500"/>
                  </a:lnTo>
                  <a:cubicBezTo>
                    <a:pt x="259" y="467"/>
                    <a:pt x="337" y="432"/>
                    <a:pt x="402" y="392"/>
                  </a:cubicBezTo>
                  <a:cubicBezTo>
                    <a:pt x="467" y="352"/>
                    <a:pt x="525" y="304"/>
                    <a:pt x="582" y="260"/>
                  </a:cubicBezTo>
                  <a:cubicBezTo>
                    <a:pt x="639" y="216"/>
                    <a:pt x="698" y="161"/>
                    <a:pt x="744" y="128"/>
                  </a:cubicBezTo>
                  <a:cubicBezTo>
                    <a:pt x="790" y="95"/>
                    <a:pt x="818" y="80"/>
                    <a:pt x="858" y="62"/>
                  </a:cubicBezTo>
                  <a:cubicBezTo>
                    <a:pt x="898" y="44"/>
                    <a:pt x="939" y="32"/>
                    <a:pt x="986" y="22"/>
                  </a:cubicBezTo>
                  <a:cubicBezTo>
                    <a:pt x="1033" y="12"/>
                    <a:pt x="1092" y="4"/>
                    <a:pt x="1140" y="2"/>
                  </a:cubicBezTo>
                  <a:cubicBezTo>
                    <a:pt x="1188" y="0"/>
                    <a:pt x="1236" y="4"/>
                    <a:pt x="1272" y="8"/>
                  </a:cubicBezTo>
                  <a:cubicBezTo>
                    <a:pt x="1311" y="15"/>
                    <a:pt x="1332" y="18"/>
                    <a:pt x="1354" y="26"/>
                  </a:cubicBezTo>
                  <a:cubicBezTo>
                    <a:pt x="1376" y="34"/>
                    <a:pt x="1393" y="48"/>
                    <a:pt x="1406" y="58"/>
                  </a:cubicBezTo>
                  <a:lnTo>
                    <a:pt x="1434" y="86"/>
                  </a:lnTo>
                  <a:lnTo>
                    <a:pt x="2016" y="88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0"/>
            <p:cNvSpPr/>
            <p:nvPr/>
          </p:nvSpPr>
          <p:spPr>
            <a:xfrm rot="1374000">
              <a:off x="5363640" y="4470120"/>
              <a:ext cx="759600" cy="408960"/>
            </a:xfrm>
            <a:custGeom>
              <a:avLst/>
              <a:gdLst>
                <a:gd name="textAreaLeft" fmla="*/ 0 w 759600"/>
                <a:gd name="textAreaRight" fmla="*/ 759960 w 7596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2140" h="1600">
                  <a:moveTo>
                    <a:pt x="2116" y="568"/>
                  </a:moveTo>
                  <a:lnTo>
                    <a:pt x="2140" y="656"/>
                  </a:lnTo>
                  <a:lnTo>
                    <a:pt x="324" y="1600"/>
                  </a:lnTo>
                  <a:lnTo>
                    <a:pt x="0" y="0"/>
                  </a:lnTo>
                  <a:lnTo>
                    <a:pt x="368" y="1508"/>
                  </a:lnTo>
                  <a:lnTo>
                    <a:pt x="2116" y="5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1"/>
            <p:cNvSpPr/>
            <p:nvPr/>
          </p:nvSpPr>
          <p:spPr>
            <a:xfrm rot="1374000">
              <a:off x="5383440" y="4494240"/>
              <a:ext cx="717120" cy="35568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088" h="1492">
                  <a:moveTo>
                    <a:pt x="2088" y="444"/>
                  </a:moveTo>
                  <a:cubicBezTo>
                    <a:pt x="2076" y="441"/>
                    <a:pt x="1968" y="446"/>
                    <a:pt x="1912" y="460"/>
                  </a:cubicBezTo>
                  <a:cubicBezTo>
                    <a:pt x="1856" y="474"/>
                    <a:pt x="1797" y="503"/>
                    <a:pt x="1752" y="528"/>
                  </a:cubicBezTo>
                  <a:lnTo>
                    <a:pt x="1640" y="608"/>
                  </a:lnTo>
                  <a:lnTo>
                    <a:pt x="1516" y="704"/>
                  </a:lnTo>
                  <a:lnTo>
                    <a:pt x="1376" y="808"/>
                  </a:lnTo>
                  <a:lnTo>
                    <a:pt x="1180" y="960"/>
                  </a:lnTo>
                  <a:lnTo>
                    <a:pt x="1000" y="1084"/>
                  </a:lnTo>
                  <a:lnTo>
                    <a:pt x="844" y="1184"/>
                  </a:lnTo>
                  <a:lnTo>
                    <a:pt x="676" y="1288"/>
                  </a:lnTo>
                  <a:lnTo>
                    <a:pt x="516" y="1384"/>
                  </a:lnTo>
                  <a:lnTo>
                    <a:pt x="404" y="1448"/>
                  </a:lnTo>
                  <a:lnTo>
                    <a:pt x="376" y="1452"/>
                  </a:lnTo>
                  <a:lnTo>
                    <a:pt x="352" y="1388"/>
                  </a:lnTo>
                  <a:lnTo>
                    <a:pt x="12" y="60"/>
                  </a:lnTo>
                  <a:lnTo>
                    <a:pt x="96" y="0"/>
                  </a:lnTo>
                  <a:lnTo>
                    <a:pt x="0" y="52"/>
                  </a:lnTo>
                  <a:lnTo>
                    <a:pt x="348" y="1492"/>
                  </a:lnTo>
                  <a:lnTo>
                    <a:pt x="396" y="1488"/>
                  </a:lnTo>
                  <a:lnTo>
                    <a:pt x="492" y="1444"/>
                  </a:lnTo>
                  <a:cubicBezTo>
                    <a:pt x="549" y="1415"/>
                    <a:pt x="657" y="1361"/>
                    <a:pt x="736" y="1316"/>
                  </a:cubicBezTo>
                  <a:lnTo>
                    <a:pt x="964" y="1176"/>
                  </a:lnTo>
                  <a:lnTo>
                    <a:pt x="1144" y="1048"/>
                  </a:lnTo>
                  <a:lnTo>
                    <a:pt x="1380" y="880"/>
                  </a:lnTo>
                  <a:lnTo>
                    <a:pt x="1596" y="720"/>
                  </a:lnTo>
                  <a:cubicBezTo>
                    <a:pt x="1659" y="673"/>
                    <a:pt x="1715" y="627"/>
                    <a:pt x="1760" y="596"/>
                  </a:cubicBezTo>
                  <a:cubicBezTo>
                    <a:pt x="1805" y="565"/>
                    <a:pt x="1831" y="551"/>
                    <a:pt x="1868" y="532"/>
                  </a:cubicBezTo>
                  <a:cubicBezTo>
                    <a:pt x="1905" y="513"/>
                    <a:pt x="1947" y="495"/>
                    <a:pt x="1984" y="480"/>
                  </a:cubicBezTo>
                  <a:lnTo>
                    <a:pt x="2088" y="4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2"/>
            <p:cNvSpPr/>
            <p:nvPr/>
          </p:nvSpPr>
          <p:spPr>
            <a:xfrm rot="1374000">
              <a:off x="5433480" y="4557960"/>
              <a:ext cx="266400" cy="2124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00" h="808">
                  <a:moveTo>
                    <a:pt x="772" y="428"/>
                  </a:moveTo>
                  <a:cubicBezTo>
                    <a:pt x="746" y="440"/>
                    <a:pt x="691" y="477"/>
                    <a:pt x="644" y="504"/>
                  </a:cubicBezTo>
                  <a:lnTo>
                    <a:pt x="488" y="588"/>
                  </a:lnTo>
                  <a:cubicBezTo>
                    <a:pt x="432" y="619"/>
                    <a:pt x="349" y="668"/>
                    <a:pt x="308" y="692"/>
                  </a:cubicBezTo>
                  <a:lnTo>
                    <a:pt x="244" y="732"/>
                  </a:lnTo>
                  <a:lnTo>
                    <a:pt x="0" y="0"/>
                  </a:lnTo>
                  <a:lnTo>
                    <a:pt x="164" y="676"/>
                  </a:lnTo>
                  <a:lnTo>
                    <a:pt x="192" y="784"/>
                  </a:lnTo>
                  <a:lnTo>
                    <a:pt x="204" y="808"/>
                  </a:lnTo>
                  <a:lnTo>
                    <a:pt x="248" y="792"/>
                  </a:lnTo>
                  <a:cubicBezTo>
                    <a:pt x="265" y="781"/>
                    <a:pt x="269" y="765"/>
                    <a:pt x="304" y="740"/>
                  </a:cubicBezTo>
                  <a:cubicBezTo>
                    <a:pt x="339" y="715"/>
                    <a:pt x="403" y="672"/>
                    <a:pt x="456" y="640"/>
                  </a:cubicBezTo>
                  <a:cubicBezTo>
                    <a:pt x="509" y="608"/>
                    <a:pt x="572" y="577"/>
                    <a:pt x="620" y="548"/>
                  </a:cubicBezTo>
                  <a:lnTo>
                    <a:pt x="744" y="464"/>
                  </a:lnTo>
                  <a:cubicBezTo>
                    <a:pt x="774" y="445"/>
                    <a:pt x="795" y="438"/>
                    <a:pt x="800" y="432"/>
                  </a:cubicBezTo>
                  <a:lnTo>
                    <a:pt x="772" y="4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3"/>
            <p:cNvSpPr/>
            <p:nvPr/>
          </p:nvSpPr>
          <p:spPr>
            <a:xfrm>
              <a:off x="6098760" y="4722120"/>
              <a:ext cx="123120" cy="75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02" h="333">
                  <a:moveTo>
                    <a:pt x="17" y="159"/>
                  </a:moveTo>
                  <a:cubicBezTo>
                    <a:pt x="31" y="122"/>
                    <a:pt x="81" y="79"/>
                    <a:pt x="114" y="55"/>
                  </a:cubicBezTo>
                  <a:cubicBezTo>
                    <a:pt x="147" y="31"/>
                    <a:pt x="186" y="22"/>
                    <a:pt x="218" y="13"/>
                  </a:cubicBezTo>
                  <a:cubicBezTo>
                    <a:pt x="250" y="4"/>
                    <a:pt x="278" y="2"/>
                    <a:pt x="308" y="1"/>
                  </a:cubicBezTo>
                  <a:cubicBezTo>
                    <a:pt x="338" y="0"/>
                    <a:pt x="367" y="0"/>
                    <a:pt x="396" y="9"/>
                  </a:cubicBezTo>
                  <a:cubicBezTo>
                    <a:pt x="425" y="18"/>
                    <a:pt x="465" y="40"/>
                    <a:pt x="483" y="57"/>
                  </a:cubicBezTo>
                  <a:cubicBezTo>
                    <a:pt x="500" y="78"/>
                    <a:pt x="502" y="110"/>
                    <a:pt x="496" y="135"/>
                  </a:cubicBezTo>
                  <a:cubicBezTo>
                    <a:pt x="496" y="135"/>
                    <a:pt x="448" y="209"/>
                    <a:pt x="448" y="209"/>
                  </a:cubicBezTo>
                  <a:cubicBezTo>
                    <a:pt x="448" y="209"/>
                    <a:pt x="409" y="248"/>
                    <a:pt x="368" y="275"/>
                  </a:cubicBezTo>
                  <a:cubicBezTo>
                    <a:pt x="327" y="302"/>
                    <a:pt x="302" y="333"/>
                    <a:pt x="215" y="317"/>
                  </a:cubicBezTo>
                  <a:cubicBezTo>
                    <a:pt x="128" y="301"/>
                    <a:pt x="66" y="288"/>
                    <a:pt x="33" y="262"/>
                  </a:cubicBezTo>
                  <a:cubicBezTo>
                    <a:pt x="0" y="236"/>
                    <a:pt x="17" y="159"/>
                    <a:pt x="17" y="159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4"/>
            <p:cNvSpPr/>
            <p:nvPr/>
          </p:nvSpPr>
          <p:spPr>
            <a:xfrm>
              <a:off x="6114960" y="4735800"/>
              <a:ext cx="95760" cy="464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74" h="125">
                  <a:moveTo>
                    <a:pt x="6" y="70"/>
                  </a:moveTo>
                  <a:cubicBezTo>
                    <a:pt x="11" y="51"/>
                    <a:pt x="77" y="22"/>
                    <a:pt x="77" y="22"/>
                  </a:cubicBezTo>
                  <a:cubicBezTo>
                    <a:pt x="77" y="22"/>
                    <a:pt x="181" y="2"/>
                    <a:pt x="181" y="2"/>
                  </a:cubicBezTo>
                  <a:cubicBezTo>
                    <a:pt x="181" y="2"/>
                    <a:pt x="249" y="0"/>
                    <a:pt x="249" y="0"/>
                  </a:cubicBezTo>
                  <a:cubicBezTo>
                    <a:pt x="267" y="4"/>
                    <a:pt x="274" y="15"/>
                    <a:pt x="266" y="32"/>
                  </a:cubicBezTo>
                  <a:cubicBezTo>
                    <a:pt x="257" y="48"/>
                    <a:pt x="217" y="85"/>
                    <a:pt x="193" y="101"/>
                  </a:cubicBezTo>
                  <a:cubicBezTo>
                    <a:pt x="193" y="101"/>
                    <a:pt x="142" y="124"/>
                    <a:pt x="123" y="125"/>
                  </a:cubicBezTo>
                  <a:cubicBezTo>
                    <a:pt x="105" y="125"/>
                    <a:pt x="48" y="108"/>
                    <a:pt x="48" y="108"/>
                  </a:cubicBezTo>
                  <a:cubicBezTo>
                    <a:pt x="27" y="96"/>
                    <a:pt x="0" y="88"/>
                    <a:pt x="6" y="70"/>
                  </a:cubicBezTo>
                  <a:close/>
                </a:path>
              </a:pathLst>
            </a:custGeom>
            <a:solidFill>
              <a:srgbClr val="3366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5"/>
            <p:cNvSpPr/>
            <p:nvPr/>
          </p:nvSpPr>
          <p:spPr>
            <a:xfrm rot="21390600">
              <a:off x="6121080" y="3483000"/>
              <a:ext cx="698400" cy="107676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076760"/>
                <a:gd name="textAreaBottom" fmla="*/ 1077120 h 10767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6"/>
            <p:cNvSpPr/>
            <p:nvPr/>
          </p:nvSpPr>
          <p:spPr>
            <a:xfrm flipH="1" rot="21262800">
              <a:off x="5427000" y="3528360"/>
              <a:ext cx="676080" cy="1151280"/>
            </a:xfrm>
            <a:custGeom>
              <a:avLst/>
              <a:gdLst>
                <a:gd name="textAreaLeft" fmla="*/ 360 w 676080"/>
                <a:gd name="textAreaRight" fmla="*/ 676800 w 67608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7"/>
            <p:cNvSpPr/>
            <p:nvPr/>
          </p:nvSpPr>
          <p:spPr>
            <a:xfrm flipH="1" rot="21262800">
              <a:off x="5456160" y="3511440"/>
              <a:ext cx="607680" cy="803880"/>
            </a:xfrm>
            <a:custGeom>
              <a:avLst/>
              <a:gdLst>
                <a:gd name="textAreaLeft" fmla="*/ 360 w 607680"/>
                <a:gd name="textAreaRight" fmla="*/ 608400 w 60768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78"/>
            <p:cNvSpPr/>
            <p:nvPr/>
          </p:nvSpPr>
          <p:spPr>
            <a:xfrm rot="337200">
              <a:off x="6017760" y="3513240"/>
              <a:ext cx="459360" cy="709560"/>
            </a:xfrm>
            <a:custGeom>
              <a:avLst/>
              <a:gdLst>
                <a:gd name="textAreaLeft" fmla="*/ 0 w 459360"/>
                <a:gd name="textAreaRight" fmla="*/ 459720 w 45936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79"/>
          <p:cNvSpPr/>
          <p:nvPr/>
        </p:nvSpPr>
        <p:spPr>
          <a:xfrm>
            <a:off x="2544480" y="2886120"/>
            <a:ext cx="40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Bradley Hand ITC"/>
              </a:rPr>
              <a:t>La PêcheL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e 76"/>
          <p:cNvGrpSpPr/>
          <p:nvPr/>
        </p:nvGrpSpPr>
        <p:grpSpPr>
          <a:xfrm>
            <a:off x="4304520" y="2570040"/>
            <a:ext cx="3133800" cy="2870280"/>
            <a:chOff x="4304520" y="2570040"/>
            <a:chExt cx="3133800" cy="2870280"/>
          </a:xfrm>
        </p:grpSpPr>
        <p:pic>
          <p:nvPicPr>
            <p:cNvPr id="102" name="Picture 2" descr=""/>
            <p:cNvPicPr/>
            <p:nvPr/>
          </p:nvPicPr>
          <p:blipFill>
            <a:blip r:embed="rId1"/>
            <a:stretch/>
          </p:blipFill>
          <p:spPr>
            <a:xfrm>
              <a:off x="4410000" y="4219560"/>
              <a:ext cx="302436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Freeform 22"/>
            <p:cNvSpPr/>
            <p:nvPr/>
          </p:nvSpPr>
          <p:spPr>
            <a:xfrm rot="21390600">
              <a:off x="5890320" y="2612520"/>
              <a:ext cx="1479960" cy="2282400"/>
            </a:xfrm>
            <a:custGeom>
              <a:avLst/>
              <a:gdLst>
                <a:gd name="textAreaLeft" fmla="*/ 0 w 1479960"/>
                <a:gd name="textAreaRight" fmla="*/ 1480320 w 1479960"/>
                <a:gd name="textAreaTop" fmla="*/ 0 h 2282400"/>
                <a:gd name="textAreaBottom" fmla="*/ 2282760 h 228240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"/>
            <p:cNvSpPr/>
            <p:nvPr/>
          </p:nvSpPr>
          <p:spPr>
            <a:xfrm flipH="1" rot="21262800">
              <a:off x="4420440" y="2709720"/>
              <a:ext cx="1432440" cy="2439720"/>
            </a:xfrm>
            <a:custGeom>
              <a:avLst/>
              <a:gdLst>
                <a:gd name="textAreaLeft" fmla="*/ -360 w 1432440"/>
                <a:gd name="textAreaRight" fmla="*/ 1432440 w 1432440"/>
                <a:gd name="textAreaTop" fmla="*/ 0 h 2439720"/>
                <a:gd name="textAreaBottom" fmla="*/ 2440080 h 243972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4"/>
            <p:cNvSpPr/>
            <p:nvPr/>
          </p:nvSpPr>
          <p:spPr>
            <a:xfrm flipH="1" rot="21262800">
              <a:off x="4483800" y="2673000"/>
              <a:ext cx="1287360" cy="1703160"/>
            </a:xfrm>
            <a:custGeom>
              <a:avLst/>
              <a:gdLst>
                <a:gd name="textAreaLeft" fmla="*/ 360 w 1287360"/>
                <a:gd name="textAreaRight" fmla="*/ 1288080 w 1287360"/>
                <a:gd name="textAreaTop" fmla="*/ 0 h 1703160"/>
                <a:gd name="textAreaBottom" fmla="*/ 1703520 h 17031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5"/>
            <p:cNvSpPr/>
            <p:nvPr/>
          </p:nvSpPr>
          <p:spPr>
            <a:xfrm rot="337200">
              <a:off x="5671080" y="2678040"/>
              <a:ext cx="973440" cy="15044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1504440"/>
                <a:gd name="textAreaBottom" fmla="*/ 1504800 h 150444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350640" y="1498680"/>
            <a:ext cx="789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4a48"/>
                </a:solidFill>
                <a:latin typeface="Bradley Hand ITC"/>
              </a:rPr>
              <a:t>La PêcheLi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e 55"/>
          <p:cNvGrpSpPr/>
          <p:nvPr/>
        </p:nvGrpSpPr>
        <p:grpSpPr>
          <a:xfrm>
            <a:off x="1080720" y="2514600"/>
            <a:ext cx="3333960" cy="3282480"/>
            <a:chOff x="1080720" y="2514600"/>
            <a:chExt cx="3333960" cy="3282480"/>
          </a:xfrm>
        </p:grpSpPr>
        <p:sp>
          <p:nvSpPr>
            <p:cNvPr id="109" name="Freeform 5"/>
            <p:cNvSpPr/>
            <p:nvPr/>
          </p:nvSpPr>
          <p:spPr>
            <a:xfrm>
              <a:off x="3204000" y="4905360"/>
              <a:ext cx="1057680" cy="251640"/>
            </a:xfrm>
            <a:custGeom>
              <a:avLst/>
              <a:gdLst>
                <a:gd name="textAreaLeft" fmla="*/ 0 w 1057680"/>
                <a:gd name="textAreaRight" fmla="*/ 1058040 w 105768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1803" h="423">
                  <a:moveTo>
                    <a:pt x="3" y="423"/>
                  </a:moveTo>
                  <a:cubicBezTo>
                    <a:pt x="0" y="419"/>
                    <a:pt x="37" y="373"/>
                    <a:pt x="80" y="351"/>
                  </a:cubicBezTo>
                  <a:cubicBezTo>
                    <a:pt x="123" y="329"/>
                    <a:pt x="164" y="313"/>
                    <a:pt x="262" y="288"/>
                  </a:cubicBezTo>
                  <a:cubicBezTo>
                    <a:pt x="360" y="263"/>
                    <a:pt x="532" y="228"/>
                    <a:pt x="666" y="202"/>
                  </a:cubicBezTo>
                  <a:cubicBezTo>
                    <a:pt x="800" y="176"/>
                    <a:pt x="920" y="157"/>
                    <a:pt x="1069" y="130"/>
                  </a:cubicBezTo>
                  <a:lnTo>
                    <a:pt x="1558" y="43"/>
                  </a:lnTo>
                  <a:lnTo>
                    <a:pt x="1803" y="0"/>
                  </a:lnTo>
                  <a:lnTo>
                    <a:pt x="1491" y="106"/>
                  </a:lnTo>
                  <a:lnTo>
                    <a:pt x="1232" y="183"/>
                  </a:lnTo>
                  <a:cubicBezTo>
                    <a:pt x="1165" y="201"/>
                    <a:pt x="1144" y="204"/>
                    <a:pt x="1088" y="216"/>
                  </a:cubicBezTo>
                  <a:cubicBezTo>
                    <a:pt x="1032" y="228"/>
                    <a:pt x="974" y="241"/>
                    <a:pt x="896" y="255"/>
                  </a:cubicBezTo>
                  <a:cubicBezTo>
                    <a:pt x="818" y="269"/>
                    <a:pt x="710" y="285"/>
                    <a:pt x="622" y="298"/>
                  </a:cubicBezTo>
                  <a:cubicBezTo>
                    <a:pt x="534" y="311"/>
                    <a:pt x="435" y="323"/>
                    <a:pt x="368" y="331"/>
                  </a:cubicBezTo>
                  <a:cubicBezTo>
                    <a:pt x="368" y="331"/>
                    <a:pt x="264" y="339"/>
                    <a:pt x="219" y="346"/>
                  </a:cubicBezTo>
                  <a:cubicBezTo>
                    <a:pt x="174" y="353"/>
                    <a:pt x="135" y="362"/>
                    <a:pt x="99" y="375"/>
                  </a:cubicBezTo>
                  <a:cubicBezTo>
                    <a:pt x="63" y="388"/>
                    <a:pt x="23" y="413"/>
                    <a:pt x="3" y="423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3130200" y="4832640"/>
              <a:ext cx="1078920" cy="26892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1732" h="432">
                  <a:moveTo>
                    <a:pt x="0" y="432"/>
                  </a:moveTo>
                  <a:cubicBezTo>
                    <a:pt x="9" y="424"/>
                    <a:pt x="31" y="382"/>
                    <a:pt x="60" y="357"/>
                  </a:cubicBezTo>
                  <a:cubicBezTo>
                    <a:pt x="89" y="332"/>
                    <a:pt x="135" y="300"/>
                    <a:pt x="177" y="279"/>
                  </a:cubicBezTo>
                  <a:cubicBezTo>
                    <a:pt x="219" y="258"/>
                    <a:pt x="266" y="241"/>
                    <a:pt x="312" y="231"/>
                  </a:cubicBezTo>
                  <a:cubicBezTo>
                    <a:pt x="358" y="221"/>
                    <a:pt x="401" y="221"/>
                    <a:pt x="453" y="219"/>
                  </a:cubicBezTo>
                  <a:cubicBezTo>
                    <a:pt x="505" y="217"/>
                    <a:pt x="558" y="220"/>
                    <a:pt x="624" y="219"/>
                  </a:cubicBezTo>
                  <a:cubicBezTo>
                    <a:pt x="690" y="218"/>
                    <a:pt x="783" y="215"/>
                    <a:pt x="852" y="210"/>
                  </a:cubicBezTo>
                  <a:cubicBezTo>
                    <a:pt x="921" y="205"/>
                    <a:pt x="972" y="197"/>
                    <a:pt x="1041" y="186"/>
                  </a:cubicBezTo>
                  <a:cubicBezTo>
                    <a:pt x="1110" y="175"/>
                    <a:pt x="1191" y="160"/>
                    <a:pt x="1269" y="144"/>
                  </a:cubicBezTo>
                  <a:cubicBezTo>
                    <a:pt x="1347" y="128"/>
                    <a:pt x="1441" y="107"/>
                    <a:pt x="1512" y="87"/>
                  </a:cubicBezTo>
                  <a:cubicBezTo>
                    <a:pt x="1583" y="67"/>
                    <a:pt x="1657" y="35"/>
                    <a:pt x="1692" y="21"/>
                  </a:cubicBezTo>
                  <a:cubicBezTo>
                    <a:pt x="1727" y="7"/>
                    <a:pt x="1732" y="0"/>
                    <a:pt x="1722" y="0"/>
                  </a:cubicBezTo>
                  <a:cubicBezTo>
                    <a:pt x="1712" y="0"/>
                    <a:pt x="1682" y="8"/>
                    <a:pt x="1629" y="21"/>
                  </a:cubicBezTo>
                  <a:cubicBezTo>
                    <a:pt x="1576" y="34"/>
                    <a:pt x="1480" y="65"/>
                    <a:pt x="1401" y="81"/>
                  </a:cubicBezTo>
                  <a:cubicBezTo>
                    <a:pt x="1322" y="97"/>
                    <a:pt x="1249" y="107"/>
                    <a:pt x="1152" y="120"/>
                  </a:cubicBezTo>
                  <a:cubicBezTo>
                    <a:pt x="1055" y="133"/>
                    <a:pt x="926" y="147"/>
                    <a:pt x="816" y="156"/>
                  </a:cubicBezTo>
                  <a:cubicBezTo>
                    <a:pt x="706" y="165"/>
                    <a:pt x="577" y="166"/>
                    <a:pt x="492" y="171"/>
                  </a:cubicBezTo>
                  <a:cubicBezTo>
                    <a:pt x="407" y="176"/>
                    <a:pt x="359" y="178"/>
                    <a:pt x="306" y="189"/>
                  </a:cubicBezTo>
                  <a:cubicBezTo>
                    <a:pt x="253" y="200"/>
                    <a:pt x="209" y="223"/>
                    <a:pt x="174" y="240"/>
                  </a:cubicBezTo>
                  <a:cubicBezTo>
                    <a:pt x="139" y="257"/>
                    <a:pt x="115" y="276"/>
                    <a:pt x="93" y="294"/>
                  </a:cubicBezTo>
                  <a:cubicBezTo>
                    <a:pt x="71" y="312"/>
                    <a:pt x="53" y="329"/>
                    <a:pt x="39" y="348"/>
                  </a:cubicBezTo>
                  <a:cubicBezTo>
                    <a:pt x="25" y="367"/>
                    <a:pt x="12" y="391"/>
                    <a:pt x="6" y="405"/>
                  </a:cubicBezTo>
                  <a:cubicBezTo>
                    <a:pt x="0" y="419"/>
                    <a:pt x="1" y="427"/>
                    <a:pt x="0" y="432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3048120" y="4970520"/>
              <a:ext cx="102600" cy="1378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77" h="229">
                  <a:moveTo>
                    <a:pt x="177" y="0"/>
                  </a:moveTo>
                  <a:cubicBezTo>
                    <a:pt x="167" y="3"/>
                    <a:pt x="131" y="23"/>
                    <a:pt x="108" y="42"/>
                  </a:cubicBezTo>
                  <a:cubicBezTo>
                    <a:pt x="85" y="61"/>
                    <a:pt x="56" y="93"/>
                    <a:pt x="39" y="114"/>
                  </a:cubicBezTo>
                  <a:cubicBezTo>
                    <a:pt x="22" y="135"/>
                    <a:pt x="12" y="154"/>
                    <a:pt x="6" y="171"/>
                  </a:cubicBezTo>
                  <a:cubicBezTo>
                    <a:pt x="0" y="188"/>
                    <a:pt x="1" y="207"/>
                    <a:pt x="3" y="216"/>
                  </a:cubicBezTo>
                  <a:cubicBezTo>
                    <a:pt x="5" y="225"/>
                    <a:pt x="12" y="227"/>
                    <a:pt x="21" y="228"/>
                  </a:cubicBezTo>
                  <a:cubicBezTo>
                    <a:pt x="30" y="229"/>
                    <a:pt x="49" y="226"/>
                    <a:pt x="57" y="219"/>
                  </a:cubicBezTo>
                  <a:cubicBezTo>
                    <a:pt x="65" y="212"/>
                    <a:pt x="68" y="199"/>
                    <a:pt x="72" y="186"/>
                  </a:cubicBezTo>
                  <a:cubicBezTo>
                    <a:pt x="76" y="173"/>
                    <a:pt x="78" y="153"/>
                    <a:pt x="84" y="138"/>
                  </a:cubicBezTo>
                  <a:cubicBezTo>
                    <a:pt x="90" y="123"/>
                    <a:pt x="100" y="107"/>
                    <a:pt x="108" y="93"/>
                  </a:cubicBezTo>
                  <a:cubicBezTo>
                    <a:pt x="116" y="79"/>
                    <a:pt x="126" y="63"/>
                    <a:pt x="135" y="51"/>
                  </a:cubicBezTo>
                  <a:cubicBezTo>
                    <a:pt x="144" y="39"/>
                    <a:pt x="158" y="29"/>
                    <a:pt x="165" y="21"/>
                  </a:cubicBezTo>
                  <a:cubicBezTo>
                    <a:pt x="172" y="13"/>
                    <a:pt x="175" y="4"/>
                    <a:pt x="177" y="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2900520" y="4863960"/>
              <a:ext cx="569520" cy="2977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 rot="21432600">
              <a:off x="2818800" y="4716000"/>
              <a:ext cx="1506240" cy="368280"/>
            </a:xfrm>
            <a:custGeom>
              <a:avLst/>
              <a:gdLst>
                <a:gd name="textAreaLeft" fmla="*/ 0 w 1506240"/>
                <a:gd name="textAreaRight" fmla="*/ 1506600 w 15062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308" h="538">
                  <a:moveTo>
                    <a:pt x="0" y="526"/>
                  </a:moveTo>
                  <a:cubicBezTo>
                    <a:pt x="4" y="506"/>
                    <a:pt x="15" y="444"/>
                    <a:pt x="26" y="408"/>
                  </a:cubicBezTo>
                  <a:cubicBezTo>
                    <a:pt x="37" y="372"/>
                    <a:pt x="47" y="344"/>
                    <a:pt x="64" y="312"/>
                  </a:cubicBezTo>
                  <a:cubicBezTo>
                    <a:pt x="81" y="280"/>
                    <a:pt x="104" y="245"/>
                    <a:pt x="128" y="218"/>
                  </a:cubicBezTo>
                  <a:cubicBezTo>
                    <a:pt x="152" y="191"/>
                    <a:pt x="176" y="169"/>
                    <a:pt x="206" y="150"/>
                  </a:cubicBezTo>
                  <a:cubicBezTo>
                    <a:pt x="236" y="131"/>
                    <a:pt x="270" y="117"/>
                    <a:pt x="310" y="106"/>
                  </a:cubicBezTo>
                  <a:cubicBezTo>
                    <a:pt x="350" y="95"/>
                    <a:pt x="400" y="89"/>
                    <a:pt x="448" y="84"/>
                  </a:cubicBezTo>
                  <a:cubicBezTo>
                    <a:pt x="496" y="79"/>
                    <a:pt x="538" y="76"/>
                    <a:pt x="596" y="78"/>
                  </a:cubicBezTo>
                  <a:cubicBezTo>
                    <a:pt x="654" y="80"/>
                    <a:pt x="738" y="89"/>
                    <a:pt x="798" y="94"/>
                  </a:cubicBezTo>
                  <a:lnTo>
                    <a:pt x="956" y="106"/>
                  </a:lnTo>
                  <a:cubicBezTo>
                    <a:pt x="1013" y="109"/>
                    <a:pt x="1077" y="115"/>
                    <a:pt x="1142" y="114"/>
                  </a:cubicBezTo>
                  <a:cubicBezTo>
                    <a:pt x="1207" y="113"/>
                    <a:pt x="1278" y="105"/>
                    <a:pt x="1344" y="98"/>
                  </a:cubicBezTo>
                  <a:lnTo>
                    <a:pt x="1538" y="72"/>
                  </a:lnTo>
                  <a:cubicBezTo>
                    <a:pt x="1601" y="63"/>
                    <a:pt x="1660" y="53"/>
                    <a:pt x="1720" y="42"/>
                  </a:cubicBezTo>
                  <a:cubicBezTo>
                    <a:pt x="1780" y="31"/>
                    <a:pt x="1861" y="15"/>
                    <a:pt x="1896" y="8"/>
                  </a:cubicBezTo>
                  <a:lnTo>
                    <a:pt x="1928" y="0"/>
                  </a:lnTo>
                  <a:lnTo>
                    <a:pt x="2258" y="252"/>
                  </a:lnTo>
                  <a:cubicBezTo>
                    <a:pt x="2308" y="292"/>
                    <a:pt x="2238" y="246"/>
                    <a:pt x="2226" y="240"/>
                  </a:cubicBezTo>
                  <a:cubicBezTo>
                    <a:pt x="2214" y="234"/>
                    <a:pt x="2236" y="247"/>
                    <a:pt x="2186" y="214"/>
                  </a:cubicBezTo>
                  <a:cubicBezTo>
                    <a:pt x="2136" y="181"/>
                    <a:pt x="1972" y="71"/>
                    <a:pt x="1928" y="40"/>
                  </a:cubicBezTo>
                  <a:lnTo>
                    <a:pt x="1920" y="30"/>
                  </a:lnTo>
                  <a:cubicBezTo>
                    <a:pt x="1912" y="31"/>
                    <a:pt x="1905" y="37"/>
                    <a:pt x="1882" y="44"/>
                  </a:cubicBezTo>
                  <a:cubicBezTo>
                    <a:pt x="1859" y="51"/>
                    <a:pt x="1820" y="63"/>
                    <a:pt x="1780" y="72"/>
                  </a:cubicBezTo>
                  <a:lnTo>
                    <a:pt x="1640" y="100"/>
                  </a:lnTo>
                  <a:lnTo>
                    <a:pt x="1522" y="122"/>
                  </a:lnTo>
                  <a:cubicBezTo>
                    <a:pt x="1472" y="131"/>
                    <a:pt x="1398" y="146"/>
                    <a:pt x="1338" y="154"/>
                  </a:cubicBezTo>
                  <a:cubicBezTo>
                    <a:pt x="1278" y="162"/>
                    <a:pt x="1226" y="166"/>
                    <a:pt x="1164" y="168"/>
                  </a:cubicBezTo>
                  <a:cubicBezTo>
                    <a:pt x="1102" y="170"/>
                    <a:pt x="1023" y="167"/>
                    <a:pt x="964" y="164"/>
                  </a:cubicBezTo>
                  <a:cubicBezTo>
                    <a:pt x="904" y="162"/>
                    <a:pt x="862" y="155"/>
                    <a:pt x="808" y="150"/>
                  </a:cubicBezTo>
                  <a:cubicBezTo>
                    <a:pt x="754" y="145"/>
                    <a:pt x="687" y="136"/>
                    <a:pt x="642" y="132"/>
                  </a:cubicBezTo>
                  <a:cubicBezTo>
                    <a:pt x="597" y="128"/>
                    <a:pt x="580" y="127"/>
                    <a:pt x="536" y="128"/>
                  </a:cubicBezTo>
                  <a:cubicBezTo>
                    <a:pt x="493" y="128"/>
                    <a:pt x="425" y="130"/>
                    <a:pt x="380" y="136"/>
                  </a:cubicBezTo>
                  <a:cubicBezTo>
                    <a:pt x="335" y="142"/>
                    <a:pt x="300" y="153"/>
                    <a:pt x="266" y="166"/>
                  </a:cubicBezTo>
                  <a:cubicBezTo>
                    <a:pt x="232" y="179"/>
                    <a:pt x="205" y="195"/>
                    <a:pt x="178" y="216"/>
                  </a:cubicBezTo>
                  <a:cubicBezTo>
                    <a:pt x="151" y="237"/>
                    <a:pt x="125" y="260"/>
                    <a:pt x="104" y="290"/>
                  </a:cubicBezTo>
                  <a:cubicBezTo>
                    <a:pt x="83" y="320"/>
                    <a:pt x="66" y="366"/>
                    <a:pt x="54" y="394"/>
                  </a:cubicBezTo>
                  <a:lnTo>
                    <a:pt x="32" y="456"/>
                  </a:lnTo>
                  <a:lnTo>
                    <a:pt x="14" y="530"/>
                  </a:lnTo>
                  <a:lnTo>
                    <a:pt x="2" y="538"/>
                  </a:lnTo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2623320" y="4217040"/>
              <a:ext cx="862560" cy="280800"/>
            </a:xfrm>
            <a:custGeom>
              <a:avLst/>
              <a:gdLst>
                <a:gd name="textAreaLeft" fmla="*/ 0 w 862560"/>
                <a:gd name="textAreaRight" fmla="*/ 862920 w 8625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470" h="471">
                  <a:moveTo>
                    <a:pt x="2" y="459"/>
                  </a:moveTo>
                  <a:cubicBezTo>
                    <a:pt x="5" y="454"/>
                    <a:pt x="0" y="465"/>
                    <a:pt x="11" y="444"/>
                  </a:cubicBezTo>
                  <a:cubicBezTo>
                    <a:pt x="22" y="423"/>
                    <a:pt x="42" y="368"/>
                    <a:pt x="66" y="331"/>
                  </a:cubicBezTo>
                  <a:cubicBezTo>
                    <a:pt x="90" y="294"/>
                    <a:pt x="123" y="253"/>
                    <a:pt x="153" y="220"/>
                  </a:cubicBezTo>
                  <a:cubicBezTo>
                    <a:pt x="183" y="187"/>
                    <a:pt x="214" y="157"/>
                    <a:pt x="246" y="133"/>
                  </a:cubicBezTo>
                  <a:cubicBezTo>
                    <a:pt x="278" y="109"/>
                    <a:pt x="307" y="92"/>
                    <a:pt x="344" y="76"/>
                  </a:cubicBezTo>
                  <a:cubicBezTo>
                    <a:pt x="381" y="60"/>
                    <a:pt x="424" y="49"/>
                    <a:pt x="467" y="39"/>
                  </a:cubicBezTo>
                  <a:cubicBezTo>
                    <a:pt x="510" y="29"/>
                    <a:pt x="543" y="23"/>
                    <a:pt x="603" y="18"/>
                  </a:cubicBezTo>
                  <a:cubicBezTo>
                    <a:pt x="663" y="13"/>
                    <a:pt x="754" y="11"/>
                    <a:pt x="827" y="9"/>
                  </a:cubicBezTo>
                  <a:cubicBezTo>
                    <a:pt x="900" y="7"/>
                    <a:pt x="969" y="4"/>
                    <a:pt x="1043" y="4"/>
                  </a:cubicBezTo>
                  <a:cubicBezTo>
                    <a:pt x="1117" y="4"/>
                    <a:pt x="1208" y="10"/>
                    <a:pt x="1274" y="10"/>
                  </a:cubicBezTo>
                  <a:cubicBezTo>
                    <a:pt x="1340" y="10"/>
                    <a:pt x="1410" y="2"/>
                    <a:pt x="1440" y="1"/>
                  </a:cubicBezTo>
                  <a:cubicBezTo>
                    <a:pt x="1470" y="0"/>
                    <a:pt x="1457" y="1"/>
                    <a:pt x="1455" y="4"/>
                  </a:cubicBezTo>
                  <a:cubicBezTo>
                    <a:pt x="1453" y="7"/>
                    <a:pt x="1440" y="17"/>
                    <a:pt x="1427" y="21"/>
                  </a:cubicBezTo>
                  <a:cubicBezTo>
                    <a:pt x="1414" y="25"/>
                    <a:pt x="1409" y="25"/>
                    <a:pt x="1376" y="28"/>
                  </a:cubicBezTo>
                  <a:cubicBezTo>
                    <a:pt x="1343" y="31"/>
                    <a:pt x="1274" y="38"/>
                    <a:pt x="1227" y="42"/>
                  </a:cubicBezTo>
                  <a:cubicBezTo>
                    <a:pt x="1180" y="46"/>
                    <a:pt x="1152" y="44"/>
                    <a:pt x="1095" y="46"/>
                  </a:cubicBezTo>
                  <a:cubicBezTo>
                    <a:pt x="1038" y="48"/>
                    <a:pt x="953" y="53"/>
                    <a:pt x="887" y="56"/>
                  </a:cubicBezTo>
                  <a:cubicBezTo>
                    <a:pt x="821" y="59"/>
                    <a:pt x="755" y="62"/>
                    <a:pt x="699" y="66"/>
                  </a:cubicBezTo>
                  <a:cubicBezTo>
                    <a:pt x="643" y="70"/>
                    <a:pt x="592" y="76"/>
                    <a:pt x="549" y="82"/>
                  </a:cubicBezTo>
                  <a:cubicBezTo>
                    <a:pt x="506" y="88"/>
                    <a:pt x="476" y="97"/>
                    <a:pt x="443" y="105"/>
                  </a:cubicBezTo>
                  <a:cubicBezTo>
                    <a:pt x="410" y="113"/>
                    <a:pt x="381" y="121"/>
                    <a:pt x="353" y="132"/>
                  </a:cubicBezTo>
                  <a:cubicBezTo>
                    <a:pt x="325" y="143"/>
                    <a:pt x="301" y="153"/>
                    <a:pt x="275" y="169"/>
                  </a:cubicBezTo>
                  <a:cubicBezTo>
                    <a:pt x="275" y="169"/>
                    <a:pt x="220" y="205"/>
                    <a:pt x="198" y="225"/>
                  </a:cubicBezTo>
                  <a:cubicBezTo>
                    <a:pt x="176" y="245"/>
                    <a:pt x="155" y="270"/>
                    <a:pt x="137" y="289"/>
                  </a:cubicBezTo>
                  <a:cubicBezTo>
                    <a:pt x="119" y="308"/>
                    <a:pt x="109" y="324"/>
                    <a:pt x="98" y="340"/>
                  </a:cubicBezTo>
                  <a:lnTo>
                    <a:pt x="65" y="390"/>
                  </a:lnTo>
                  <a:cubicBezTo>
                    <a:pt x="52" y="410"/>
                    <a:pt x="27" y="449"/>
                    <a:pt x="17" y="462"/>
                  </a:cubicBezTo>
                  <a:lnTo>
                    <a:pt x="6" y="471"/>
                  </a:lnTo>
                  <a:lnTo>
                    <a:pt x="2" y="45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3486240" y="4233960"/>
              <a:ext cx="561600" cy="40464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960" h="680">
                  <a:moveTo>
                    <a:pt x="0" y="0"/>
                  </a:moveTo>
                  <a:lnTo>
                    <a:pt x="144" y="112"/>
                  </a:lnTo>
                  <a:lnTo>
                    <a:pt x="328" y="264"/>
                  </a:lnTo>
                  <a:lnTo>
                    <a:pt x="536" y="412"/>
                  </a:lnTo>
                  <a:lnTo>
                    <a:pt x="700" y="516"/>
                  </a:lnTo>
                  <a:lnTo>
                    <a:pt x="844" y="612"/>
                  </a:lnTo>
                  <a:lnTo>
                    <a:pt x="960" y="680"/>
                  </a:lnTo>
                  <a:lnTo>
                    <a:pt x="712" y="476"/>
                  </a:lnTo>
                  <a:lnTo>
                    <a:pt x="536" y="344"/>
                  </a:lnTo>
                  <a:lnTo>
                    <a:pt x="308" y="192"/>
                  </a:lnTo>
                  <a:lnTo>
                    <a:pt x="104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2961360" y="4834800"/>
              <a:ext cx="1453320" cy="445680"/>
            </a:xfrm>
            <a:custGeom>
              <a:avLst/>
              <a:gdLst>
                <a:gd name="textAreaLeft" fmla="*/ 0 w 1453320"/>
                <a:gd name="textAreaRight" fmla="*/ 1453680 w 145332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w="2040" h="612">
                  <a:moveTo>
                    <a:pt x="0" y="528"/>
                  </a:moveTo>
                  <a:lnTo>
                    <a:pt x="2000" y="68"/>
                  </a:lnTo>
                  <a:lnTo>
                    <a:pt x="1888" y="0"/>
                  </a:lnTo>
                  <a:lnTo>
                    <a:pt x="2040" y="72"/>
                  </a:lnTo>
                  <a:lnTo>
                    <a:pt x="16" y="61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 flipH="1" rot="20490600">
              <a:off x="2150640" y="4987440"/>
              <a:ext cx="601200" cy="208080"/>
            </a:xfrm>
            <a:custGeom>
              <a:avLst/>
              <a:gdLst>
                <a:gd name="textAreaLeft" fmla="*/ 360 w 601200"/>
                <a:gd name="textAreaRight" fmla="*/ 601920 w 6012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 rot="1374000">
              <a:off x="1636560" y="4796280"/>
              <a:ext cx="1073520" cy="547560"/>
            </a:xfrm>
            <a:custGeom>
              <a:avLst/>
              <a:gdLst>
                <a:gd name="textAreaLeft" fmla="*/ 0 w 1073520"/>
                <a:gd name="textAreaRight" fmla="*/ 1073880 w 107352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516" h="1039">
                  <a:moveTo>
                    <a:pt x="0" y="1039"/>
                  </a:moveTo>
                  <a:cubicBezTo>
                    <a:pt x="31" y="1017"/>
                    <a:pt x="168" y="942"/>
                    <a:pt x="234" y="898"/>
                  </a:cubicBezTo>
                  <a:cubicBezTo>
                    <a:pt x="300" y="854"/>
                    <a:pt x="342" y="823"/>
                    <a:pt x="399" y="772"/>
                  </a:cubicBezTo>
                  <a:cubicBezTo>
                    <a:pt x="456" y="721"/>
                    <a:pt x="520" y="654"/>
                    <a:pt x="576" y="592"/>
                  </a:cubicBezTo>
                  <a:cubicBezTo>
                    <a:pt x="632" y="530"/>
                    <a:pt x="688" y="456"/>
                    <a:pt x="738" y="397"/>
                  </a:cubicBezTo>
                  <a:cubicBezTo>
                    <a:pt x="788" y="338"/>
                    <a:pt x="830" y="285"/>
                    <a:pt x="873" y="238"/>
                  </a:cubicBezTo>
                  <a:cubicBezTo>
                    <a:pt x="916" y="191"/>
                    <a:pt x="958" y="147"/>
                    <a:pt x="999" y="115"/>
                  </a:cubicBezTo>
                  <a:cubicBezTo>
                    <a:pt x="1040" y="83"/>
                    <a:pt x="1077" y="61"/>
                    <a:pt x="1119" y="43"/>
                  </a:cubicBezTo>
                  <a:cubicBezTo>
                    <a:pt x="1161" y="25"/>
                    <a:pt x="1211" y="13"/>
                    <a:pt x="1254" y="7"/>
                  </a:cubicBezTo>
                  <a:cubicBezTo>
                    <a:pt x="1297" y="1"/>
                    <a:pt x="1345" y="0"/>
                    <a:pt x="1380" y="4"/>
                  </a:cubicBezTo>
                  <a:cubicBezTo>
                    <a:pt x="1415" y="8"/>
                    <a:pt x="1447" y="23"/>
                    <a:pt x="1467" y="31"/>
                  </a:cubicBezTo>
                  <a:cubicBezTo>
                    <a:pt x="1487" y="39"/>
                    <a:pt x="1516" y="55"/>
                    <a:pt x="1500" y="55"/>
                  </a:cubicBezTo>
                  <a:lnTo>
                    <a:pt x="1368" y="31"/>
                  </a:lnTo>
                  <a:cubicBezTo>
                    <a:pt x="1325" y="28"/>
                    <a:pt x="1280" y="31"/>
                    <a:pt x="1242" y="37"/>
                  </a:cubicBezTo>
                  <a:cubicBezTo>
                    <a:pt x="1204" y="43"/>
                    <a:pt x="1175" y="53"/>
                    <a:pt x="1140" y="70"/>
                  </a:cubicBezTo>
                  <a:cubicBezTo>
                    <a:pt x="1105" y="87"/>
                    <a:pt x="1064" y="117"/>
                    <a:pt x="1032" y="142"/>
                  </a:cubicBezTo>
                  <a:cubicBezTo>
                    <a:pt x="1000" y="167"/>
                    <a:pt x="973" y="197"/>
                    <a:pt x="948" y="223"/>
                  </a:cubicBezTo>
                  <a:cubicBezTo>
                    <a:pt x="923" y="249"/>
                    <a:pt x="908" y="268"/>
                    <a:pt x="882" y="301"/>
                  </a:cubicBezTo>
                  <a:cubicBezTo>
                    <a:pt x="856" y="334"/>
                    <a:pt x="824" y="380"/>
                    <a:pt x="789" y="424"/>
                  </a:cubicBezTo>
                  <a:cubicBezTo>
                    <a:pt x="754" y="468"/>
                    <a:pt x="709" y="519"/>
                    <a:pt x="672" y="562"/>
                  </a:cubicBezTo>
                  <a:cubicBezTo>
                    <a:pt x="635" y="605"/>
                    <a:pt x="607" y="640"/>
                    <a:pt x="567" y="679"/>
                  </a:cubicBezTo>
                  <a:cubicBezTo>
                    <a:pt x="527" y="718"/>
                    <a:pt x="474" y="763"/>
                    <a:pt x="429" y="799"/>
                  </a:cubicBezTo>
                  <a:cubicBezTo>
                    <a:pt x="384" y="835"/>
                    <a:pt x="339" y="863"/>
                    <a:pt x="294" y="892"/>
                  </a:cubicBezTo>
                  <a:cubicBezTo>
                    <a:pt x="249" y="921"/>
                    <a:pt x="197" y="953"/>
                    <a:pt x="156" y="976"/>
                  </a:cubicBezTo>
                  <a:cubicBezTo>
                    <a:pt x="115" y="999"/>
                    <a:pt x="71" y="1019"/>
                    <a:pt x="45" y="1030"/>
                  </a:cubicBezTo>
                  <a:lnTo>
                    <a:pt x="0" y="103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 rot="1374000">
              <a:off x="2055960" y="4980240"/>
              <a:ext cx="630360" cy="3074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894" h="549">
                  <a:moveTo>
                    <a:pt x="0" y="549"/>
                  </a:moveTo>
                  <a:cubicBezTo>
                    <a:pt x="0" y="549"/>
                    <a:pt x="174" y="405"/>
                    <a:pt x="174" y="405"/>
                  </a:cubicBezTo>
                  <a:cubicBezTo>
                    <a:pt x="174" y="405"/>
                    <a:pt x="294" y="300"/>
                    <a:pt x="294" y="300"/>
                  </a:cubicBezTo>
                  <a:cubicBezTo>
                    <a:pt x="294" y="300"/>
                    <a:pt x="403" y="199"/>
                    <a:pt x="441" y="162"/>
                  </a:cubicBezTo>
                  <a:cubicBezTo>
                    <a:pt x="479" y="125"/>
                    <a:pt x="495" y="100"/>
                    <a:pt x="522" y="78"/>
                  </a:cubicBezTo>
                  <a:cubicBezTo>
                    <a:pt x="549" y="56"/>
                    <a:pt x="580" y="41"/>
                    <a:pt x="603" y="30"/>
                  </a:cubicBezTo>
                  <a:cubicBezTo>
                    <a:pt x="626" y="19"/>
                    <a:pt x="635" y="13"/>
                    <a:pt x="663" y="9"/>
                  </a:cubicBezTo>
                  <a:cubicBezTo>
                    <a:pt x="691" y="5"/>
                    <a:pt x="738" y="0"/>
                    <a:pt x="771" y="3"/>
                  </a:cubicBezTo>
                  <a:cubicBezTo>
                    <a:pt x="804" y="6"/>
                    <a:pt x="840" y="18"/>
                    <a:pt x="861" y="27"/>
                  </a:cubicBezTo>
                  <a:cubicBezTo>
                    <a:pt x="882" y="36"/>
                    <a:pt x="894" y="53"/>
                    <a:pt x="894" y="57"/>
                  </a:cubicBezTo>
                  <a:cubicBezTo>
                    <a:pt x="894" y="61"/>
                    <a:pt x="879" y="55"/>
                    <a:pt x="864" y="51"/>
                  </a:cubicBezTo>
                  <a:cubicBezTo>
                    <a:pt x="849" y="47"/>
                    <a:pt x="822" y="36"/>
                    <a:pt x="801" y="33"/>
                  </a:cubicBezTo>
                  <a:cubicBezTo>
                    <a:pt x="780" y="30"/>
                    <a:pt x="761" y="28"/>
                    <a:pt x="735" y="33"/>
                  </a:cubicBezTo>
                  <a:cubicBezTo>
                    <a:pt x="709" y="38"/>
                    <a:pt x="669" y="53"/>
                    <a:pt x="642" y="66"/>
                  </a:cubicBezTo>
                  <a:cubicBezTo>
                    <a:pt x="615" y="79"/>
                    <a:pt x="594" y="94"/>
                    <a:pt x="573" y="111"/>
                  </a:cubicBezTo>
                  <a:cubicBezTo>
                    <a:pt x="552" y="128"/>
                    <a:pt x="535" y="143"/>
                    <a:pt x="513" y="165"/>
                  </a:cubicBezTo>
                  <a:cubicBezTo>
                    <a:pt x="491" y="187"/>
                    <a:pt x="466" y="213"/>
                    <a:pt x="441" y="234"/>
                  </a:cubicBezTo>
                  <a:cubicBezTo>
                    <a:pt x="415" y="257"/>
                    <a:pt x="387" y="279"/>
                    <a:pt x="357" y="303"/>
                  </a:cubicBezTo>
                  <a:cubicBezTo>
                    <a:pt x="327" y="327"/>
                    <a:pt x="294" y="352"/>
                    <a:pt x="261" y="378"/>
                  </a:cubicBezTo>
                  <a:cubicBezTo>
                    <a:pt x="228" y="404"/>
                    <a:pt x="192" y="436"/>
                    <a:pt x="159" y="459"/>
                  </a:cubicBezTo>
                  <a:cubicBezTo>
                    <a:pt x="126" y="482"/>
                    <a:pt x="92" y="498"/>
                    <a:pt x="66" y="513"/>
                  </a:cubicBezTo>
                  <a:lnTo>
                    <a:pt x="0" y="54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 rot="1374000">
              <a:off x="1417680" y="4277160"/>
              <a:ext cx="1427040" cy="1036800"/>
            </a:xfrm>
            <a:custGeom>
              <a:avLst/>
              <a:gdLst>
                <a:gd name="textAreaLeft" fmla="*/ 0 w 1427040"/>
                <a:gd name="textAreaRight" fmla="*/ 1427400 w 142704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2016" h="1850">
                  <a:moveTo>
                    <a:pt x="2016" y="884"/>
                  </a:moveTo>
                  <a:lnTo>
                    <a:pt x="1394" y="114"/>
                  </a:lnTo>
                  <a:lnTo>
                    <a:pt x="1364" y="80"/>
                  </a:lnTo>
                  <a:cubicBezTo>
                    <a:pt x="1339" y="69"/>
                    <a:pt x="1287" y="54"/>
                    <a:pt x="1242" y="50"/>
                  </a:cubicBezTo>
                  <a:cubicBezTo>
                    <a:pt x="1197" y="46"/>
                    <a:pt x="1129" y="54"/>
                    <a:pt x="1092" y="56"/>
                  </a:cubicBezTo>
                  <a:cubicBezTo>
                    <a:pt x="1055" y="58"/>
                    <a:pt x="1050" y="59"/>
                    <a:pt x="1022" y="64"/>
                  </a:cubicBezTo>
                  <a:lnTo>
                    <a:pt x="926" y="86"/>
                  </a:lnTo>
                  <a:cubicBezTo>
                    <a:pt x="891" y="98"/>
                    <a:pt x="846" y="113"/>
                    <a:pt x="810" y="134"/>
                  </a:cubicBezTo>
                  <a:cubicBezTo>
                    <a:pt x="774" y="155"/>
                    <a:pt x="748" y="180"/>
                    <a:pt x="708" y="212"/>
                  </a:cubicBezTo>
                  <a:cubicBezTo>
                    <a:pt x="668" y="244"/>
                    <a:pt x="616" y="289"/>
                    <a:pt x="570" y="326"/>
                  </a:cubicBezTo>
                  <a:cubicBezTo>
                    <a:pt x="524" y="363"/>
                    <a:pt x="487" y="400"/>
                    <a:pt x="432" y="434"/>
                  </a:cubicBezTo>
                  <a:cubicBezTo>
                    <a:pt x="377" y="468"/>
                    <a:pt x="291" y="507"/>
                    <a:pt x="240" y="534"/>
                  </a:cubicBezTo>
                  <a:cubicBezTo>
                    <a:pt x="189" y="561"/>
                    <a:pt x="156" y="579"/>
                    <a:pt x="126" y="596"/>
                  </a:cubicBezTo>
                  <a:lnTo>
                    <a:pt x="60" y="632"/>
                  </a:lnTo>
                  <a:lnTo>
                    <a:pt x="402" y="1850"/>
                  </a:lnTo>
                  <a:lnTo>
                    <a:pt x="0" y="590"/>
                  </a:lnTo>
                  <a:lnTo>
                    <a:pt x="192" y="500"/>
                  </a:lnTo>
                  <a:cubicBezTo>
                    <a:pt x="259" y="467"/>
                    <a:pt x="337" y="432"/>
                    <a:pt x="402" y="392"/>
                  </a:cubicBezTo>
                  <a:cubicBezTo>
                    <a:pt x="467" y="352"/>
                    <a:pt x="525" y="304"/>
                    <a:pt x="582" y="260"/>
                  </a:cubicBezTo>
                  <a:cubicBezTo>
                    <a:pt x="639" y="216"/>
                    <a:pt x="698" y="161"/>
                    <a:pt x="744" y="128"/>
                  </a:cubicBezTo>
                  <a:cubicBezTo>
                    <a:pt x="790" y="95"/>
                    <a:pt x="818" y="80"/>
                    <a:pt x="858" y="62"/>
                  </a:cubicBezTo>
                  <a:cubicBezTo>
                    <a:pt x="898" y="44"/>
                    <a:pt x="939" y="32"/>
                    <a:pt x="986" y="22"/>
                  </a:cubicBezTo>
                  <a:cubicBezTo>
                    <a:pt x="1033" y="12"/>
                    <a:pt x="1092" y="4"/>
                    <a:pt x="1140" y="2"/>
                  </a:cubicBezTo>
                  <a:cubicBezTo>
                    <a:pt x="1188" y="0"/>
                    <a:pt x="1236" y="4"/>
                    <a:pt x="1272" y="8"/>
                  </a:cubicBezTo>
                  <a:cubicBezTo>
                    <a:pt x="1311" y="15"/>
                    <a:pt x="1332" y="18"/>
                    <a:pt x="1354" y="26"/>
                  </a:cubicBezTo>
                  <a:cubicBezTo>
                    <a:pt x="1376" y="34"/>
                    <a:pt x="1393" y="48"/>
                    <a:pt x="1406" y="58"/>
                  </a:cubicBezTo>
                  <a:lnTo>
                    <a:pt x="1434" y="86"/>
                  </a:lnTo>
                  <a:lnTo>
                    <a:pt x="2016" y="884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 rot="1374000">
              <a:off x="1185840" y="4650480"/>
              <a:ext cx="1609200" cy="867240"/>
            </a:xfrm>
            <a:custGeom>
              <a:avLst/>
              <a:gdLst>
                <a:gd name="textAreaLeft" fmla="*/ 0 w 1609200"/>
                <a:gd name="textAreaRight" fmla="*/ 1609560 w 160920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2140" h="1600">
                  <a:moveTo>
                    <a:pt x="2116" y="568"/>
                  </a:moveTo>
                  <a:lnTo>
                    <a:pt x="2140" y="656"/>
                  </a:lnTo>
                  <a:lnTo>
                    <a:pt x="324" y="1600"/>
                  </a:lnTo>
                  <a:lnTo>
                    <a:pt x="0" y="0"/>
                  </a:lnTo>
                  <a:lnTo>
                    <a:pt x="368" y="1508"/>
                  </a:lnTo>
                  <a:lnTo>
                    <a:pt x="2116" y="56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 rot="1374000">
              <a:off x="1227600" y="4701240"/>
              <a:ext cx="1519560" cy="7534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2088" h="1492">
                  <a:moveTo>
                    <a:pt x="2088" y="444"/>
                  </a:moveTo>
                  <a:cubicBezTo>
                    <a:pt x="2076" y="441"/>
                    <a:pt x="1968" y="446"/>
                    <a:pt x="1912" y="460"/>
                  </a:cubicBezTo>
                  <a:cubicBezTo>
                    <a:pt x="1856" y="474"/>
                    <a:pt x="1797" y="503"/>
                    <a:pt x="1752" y="528"/>
                  </a:cubicBezTo>
                  <a:lnTo>
                    <a:pt x="1640" y="608"/>
                  </a:lnTo>
                  <a:lnTo>
                    <a:pt x="1516" y="704"/>
                  </a:lnTo>
                  <a:lnTo>
                    <a:pt x="1376" y="808"/>
                  </a:lnTo>
                  <a:lnTo>
                    <a:pt x="1180" y="960"/>
                  </a:lnTo>
                  <a:lnTo>
                    <a:pt x="1000" y="1084"/>
                  </a:lnTo>
                  <a:lnTo>
                    <a:pt x="844" y="1184"/>
                  </a:lnTo>
                  <a:lnTo>
                    <a:pt x="676" y="1288"/>
                  </a:lnTo>
                  <a:lnTo>
                    <a:pt x="516" y="1384"/>
                  </a:lnTo>
                  <a:lnTo>
                    <a:pt x="404" y="1448"/>
                  </a:lnTo>
                  <a:lnTo>
                    <a:pt x="376" y="1452"/>
                  </a:lnTo>
                  <a:lnTo>
                    <a:pt x="352" y="1388"/>
                  </a:lnTo>
                  <a:lnTo>
                    <a:pt x="12" y="60"/>
                  </a:lnTo>
                  <a:lnTo>
                    <a:pt x="96" y="0"/>
                  </a:lnTo>
                  <a:lnTo>
                    <a:pt x="0" y="52"/>
                  </a:lnTo>
                  <a:lnTo>
                    <a:pt x="348" y="1492"/>
                  </a:lnTo>
                  <a:lnTo>
                    <a:pt x="396" y="1488"/>
                  </a:lnTo>
                  <a:lnTo>
                    <a:pt x="492" y="1444"/>
                  </a:lnTo>
                  <a:cubicBezTo>
                    <a:pt x="549" y="1415"/>
                    <a:pt x="657" y="1361"/>
                    <a:pt x="736" y="1316"/>
                  </a:cubicBezTo>
                  <a:lnTo>
                    <a:pt x="964" y="1176"/>
                  </a:lnTo>
                  <a:lnTo>
                    <a:pt x="1144" y="1048"/>
                  </a:lnTo>
                  <a:lnTo>
                    <a:pt x="1380" y="880"/>
                  </a:lnTo>
                  <a:lnTo>
                    <a:pt x="1596" y="720"/>
                  </a:lnTo>
                  <a:cubicBezTo>
                    <a:pt x="1659" y="673"/>
                    <a:pt x="1715" y="627"/>
                    <a:pt x="1760" y="596"/>
                  </a:cubicBezTo>
                  <a:cubicBezTo>
                    <a:pt x="1805" y="565"/>
                    <a:pt x="1831" y="551"/>
                    <a:pt x="1868" y="532"/>
                  </a:cubicBezTo>
                  <a:cubicBezTo>
                    <a:pt x="1905" y="513"/>
                    <a:pt x="1947" y="495"/>
                    <a:pt x="1984" y="480"/>
                  </a:cubicBezTo>
                  <a:lnTo>
                    <a:pt x="2088" y="444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 rot="1374000">
              <a:off x="1333080" y="4836960"/>
              <a:ext cx="564480" cy="45036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800" h="808">
                  <a:moveTo>
                    <a:pt x="772" y="428"/>
                  </a:moveTo>
                  <a:cubicBezTo>
                    <a:pt x="746" y="440"/>
                    <a:pt x="691" y="477"/>
                    <a:pt x="644" y="504"/>
                  </a:cubicBezTo>
                  <a:lnTo>
                    <a:pt x="488" y="588"/>
                  </a:lnTo>
                  <a:cubicBezTo>
                    <a:pt x="432" y="619"/>
                    <a:pt x="349" y="668"/>
                    <a:pt x="308" y="692"/>
                  </a:cubicBezTo>
                  <a:lnTo>
                    <a:pt x="244" y="732"/>
                  </a:lnTo>
                  <a:lnTo>
                    <a:pt x="0" y="0"/>
                  </a:lnTo>
                  <a:lnTo>
                    <a:pt x="164" y="676"/>
                  </a:lnTo>
                  <a:lnTo>
                    <a:pt x="192" y="784"/>
                  </a:lnTo>
                  <a:lnTo>
                    <a:pt x="204" y="808"/>
                  </a:lnTo>
                  <a:lnTo>
                    <a:pt x="248" y="792"/>
                  </a:lnTo>
                  <a:cubicBezTo>
                    <a:pt x="265" y="781"/>
                    <a:pt x="269" y="765"/>
                    <a:pt x="304" y="740"/>
                  </a:cubicBezTo>
                  <a:cubicBezTo>
                    <a:pt x="339" y="715"/>
                    <a:pt x="403" y="672"/>
                    <a:pt x="456" y="640"/>
                  </a:cubicBezTo>
                  <a:cubicBezTo>
                    <a:pt x="509" y="608"/>
                    <a:pt x="572" y="577"/>
                    <a:pt x="620" y="548"/>
                  </a:cubicBezTo>
                  <a:lnTo>
                    <a:pt x="744" y="464"/>
                  </a:lnTo>
                  <a:cubicBezTo>
                    <a:pt x="774" y="445"/>
                    <a:pt x="795" y="438"/>
                    <a:pt x="800" y="432"/>
                  </a:cubicBezTo>
                  <a:lnTo>
                    <a:pt x="772" y="42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2757600" y="5220360"/>
              <a:ext cx="235440" cy="13176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74" h="125">
                  <a:moveTo>
                    <a:pt x="6" y="70"/>
                  </a:moveTo>
                  <a:cubicBezTo>
                    <a:pt x="11" y="51"/>
                    <a:pt x="77" y="22"/>
                    <a:pt x="77" y="22"/>
                  </a:cubicBezTo>
                  <a:cubicBezTo>
                    <a:pt x="77" y="22"/>
                    <a:pt x="181" y="2"/>
                    <a:pt x="181" y="2"/>
                  </a:cubicBezTo>
                  <a:cubicBezTo>
                    <a:pt x="181" y="2"/>
                    <a:pt x="249" y="0"/>
                    <a:pt x="249" y="0"/>
                  </a:cubicBezTo>
                  <a:cubicBezTo>
                    <a:pt x="267" y="4"/>
                    <a:pt x="274" y="15"/>
                    <a:pt x="266" y="32"/>
                  </a:cubicBezTo>
                  <a:cubicBezTo>
                    <a:pt x="257" y="48"/>
                    <a:pt x="217" y="85"/>
                    <a:pt x="193" y="101"/>
                  </a:cubicBezTo>
                  <a:cubicBezTo>
                    <a:pt x="193" y="101"/>
                    <a:pt x="142" y="124"/>
                    <a:pt x="123" y="125"/>
                  </a:cubicBezTo>
                  <a:cubicBezTo>
                    <a:pt x="105" y="125"/>
                    <a:pt x="48" y="108"/>
                    <a:pt x="48" y="108"/>
                  </a:cubicBezTo>
                  <a:cubicBezTo>
                    <a:pt x="27" y="96"/>
                    <a:pt x="0" y="88"/>
                    <a:pt x="6" y="70"/>
                  </a:cubicBezTo>
                  <a:close/>
                </a:path>
              </a:pathLst>
            </a:custGeom>
            <a:noFill/>
            <a:ln w="57240">
              <a:solidFill>
                <a:srgbClr val="0044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 rot="21390600">
              <a:off x="2789640" y="2557080"/>
              <a:ext cx="1479960" cy="2282400"/>
            </a:xfrm>
            <a:custGeom>
              <a:avLst/>
              <a:gdLst>
                <a:gd name="textAreaLeft" fmla="*/ 0 w 1479960"/>
                <a:gd name="textAreaRight" fmla="*/ 1480320 w 1479960"/>
                <a:gd name="textAreaTop" fmla="*/ 0 h 2282400"/>
                <a:gd name="textAreaBottom" fmla="*/ 2282760 h 228240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 flipH="1" rot="21262800">
              <a:off x="1319760" y="2654280"/>
              <a:ext cx="1432440" cy="2439720"/>
            </a:xfrm>
            <a:custGeom>
              <a:avLst/>
              <a:gdLst>
                <a:gd name="textAreaLeft" fmla="*/ -360 w 1432440"/>
                <a:gd name="textAreaRight" fmla="*/ 1432440 w 1432440"/>
                <a:gd name="textAreaTop" fmla="*/ 0 h 2439720"/>
                <a:gd name="textAreaBottom" fmla="*/ 2440080 h 243972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 rot="21262800">
              <a:off x="1383120" y="2617560"/>
              <a:ext cx="1287360" cy="1703160"/>
            </a:xfrm>
            <a:custGeom>
              <a:avLst/>
              <a:gdLst>
                <a:gd name="textAreaLeft" fmla="*/ 360 w 1287360"/>
                <a:gd name="textAreaRight" fmla="*/ 1288080 w 1287360"/>
                <a:gd name="textAreaTop" fmla="*/ 0 h 1703160"/>
                <a:gd name="textAreaBottom" fmla="*/ 1703520 h 17031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 rot="337200">
              <a:off x="2570400" y="2622600"/>
              <a:ext cx="973440" cy="15044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1504440"/>
                <a:gd name="textAreaBottom" fmla="*/ 1504800 h 150444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38"/>
          <p:cNvGrpSpPr/>
          <p:nvPr/>
        </p:nvGrpSpPr>
        <p:grpSpPr>
          <a:xfrm>
            <a:off x="503280" y="655560"/>
            <a:ext cx="8423280" cy="4249800"/>
            <a:chOff x="503280" y="655560"/>
            <a:chExt cx="8423280" cy="4249800"/>
          </a:xfrm>
        </p:grpSpPr>
        <p:sp>
          <p:nvSpPr>
            <p:cNvPr id="130" name="Oval 37"/>
            <p:cNvSpPr/>
            <p:nvPr/>
          </p:nvSpPr>
          <p:spPr>
            <a:xfrm>
              <a:off x="503280" y="655560"/>
              <a:ext cx="8423280" cy="4249800"/>
            </a:xfrm>
            <a:prstGeom prst="ellipse">
              <a:avLst/>
            </a:prstGeom>
            <a:solidFill>
              <a:srgbClr val="003736"/>
            </a:solidFill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e 26"/>
            <p:cNvGrpSpPr/>
            <p:nvPr/>
          </p:nvGrpSpPr>
          <p:grpSpPr>
            <a:xfrm>
              <a:off x="5153040" y="2558160"/>
              <a:ext cx="2311560" cy="2275560"/>
              <a:chOff x="5153040" y="2558160"/>
              <a:chExt cx="2311560" cy="2275560"/>
            </a:xfrm>
          </p:grpSpPr>
          <p:sp>
            <p:nvSpPr>
              <p:cNvPr id="132" name="Freeform 5"/>
              <p:cNvSpPr/>
              <p:nvPr/>
            </p:nvSpPr>
            <p:spPr>
              <a:xfrm>
                <a:off x="6625080" y="4215600"/>
                <a:ext cx="733320" cy="17460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803" h="423">
                    <a:moveTo>
                      <a:pt x="3" y="423"/>
                    </a:moveTo>
                    <a:cubicBezTo>
                      <a:pt x="0" y="419"/>
                      <a:pt x="37" y="373"/>
                      <a:pt x="80" y="351"/>
                    </a:cubicBezTo>
                    <a:cubicBezTo>
                      <a:pt x="123" y="329"/>
                      <a:pt x="164" y="313"/>
                      <a:pt x="262" y="288"/>
                    </a:cubicBezTo>
                    <a:cubicBezTo>
                      <a:pt x="360" y="263"/>
                      <a:pt x="532" y="228"/>
                      <a:pt x="666" y="202"/>
                    </a:cubicBezTo>
                    <a:cubicBezTo>
                      <a:pt x="800" y="176"/>
                      <a:pt x="920" y="157"/>
                      <a:pt x="1069" y="130"/>
                    </a:cubicBezTo>
                    <a:lnTo>
                      <a:pt x="1558" y="43"/>
                    </a:lnTo>
                    <a:lnTo>
                      <a:pt x="1803" y="0"/>
                    </a:lnTo>
                    <a:lnTo>
                      <a:pt x="1491" y="106"/>
                    </a:lnTo>
                    <a:lnTo>
                      <a:pt x="1232" y="183"/>
                    </a:lnTo>
                    <a:cubicBezTo>
                      <a:pt x="1165" y="201"/>
                      <a:pt x="1144" y="204"/>
                      <a:pt x="1088" y="216"/>
                    </a:cubicBezTo>
                    <a:cubicBezTo>
                      <a:pt x="1032" y="228"/>
                      <a:pt x="974" y="241"/>
                      <a:pt x="896" y="255"/>
                    </a:cubicBezTo>
                    <a:cubicBezTo>
                      <a:pt x="818" y="269"/>
                      <a:pt x="710" y="285"/>
                      <a:pt x="622" y="298"/>
                    </a:cubicBezTo>
                    <a:cubicBezTo>
                      <a:pt x="534" y="311"/>
                      <a:pt x="435" y="323"/>
                      <a:pt x="368" y="331"/>
                    </a:cubicBezTo>
                    <a:cubicBezTo>
                      <a:pt x="368" y="331"/>
                      <a:pt x="264" y="339"/>
                      <a:pt x="219" y="346"/>
                    </a:cubicBezTo>
                    <a:cubicBezTo>
                      <a:pt x="174" y="353"/>
                      <a:pt x="135" y="362"/>
                      <a:pt x="99" y="375"/>
                    </a:cubicBezTo>
                    <a:cubicBezTo>
                      <a:pt x="63" y="388"/>
                      <a:pt x="23" y="413"/>
                      <a:pt x="3" y="423"/>
                    </a:cubicBez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>
                <a:off x="6573960" y="4165200"/>
                <a:ext cx="748080" cy="186480"/>
              </a:xfrm>
              <a:custGeom>
                <a:avLst/>
                <a:gdLst>
                  <a:gd name="textAreaLeft" fmla="*/ 0 w 748080"/>
                  <a:gd name="textAreaRight" fmla="*/ 748440 w 748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732" h="432">
                    <a:moveTo>
                      <a:pt x="0" y="432"/>
                    </a:moveTo>
                    <a:cubicBezTo>
                      <a:pt x="9" y="424"/>
                      <a:pt x="31" y="382"/>
                      <a:pt x="60" y="357"/>
                    </a:cubicBezTo>
                    <a:cubicBezTo>
                      <a:pt x="89" y="332"/>
                      <a:pt x="135" y="300"/>
                      <a:pt x="177" y="279"/>
                    </a:cubicBezTo>
                    <a:cubicBezTo>
                      <a:pt x="219" y="258"/>
                      <a:pt x="266" y="241"/>
                      <a:pt x="312" y="231"/>
                    </a:cubicBezTo>
                    <a:cubicBezTo>
                      <a:pt x="358" y="221"/>
                      <a:pt x="401" y="221"/>
                      <a:pt x="453" y="219"/>
                    </a:cubicBezTo>
                    <a:cubicBezTo>
                      <a:pt x="505" y="217"/>
                      <a:pt x="558" y="220"/>
                      <a:pt x="624" y="219"/>
                    </a:cubicBezTo>
                    <a:cubicBezTo>
                      <a:pt x="690" y="218"/>
                      <a:pt x="783" y="215"/>
                      <a:pt x="852" y="210"/>
                    </a:cubicBezTo>
                    <a:cubicBezTo>
                      <a:pt x="921" y="205"/>
                      <a:pt x="972" y="197"/>
                      <a:pt x="1041" y="186"/>
                    </a:cubicBezTo>
                    <a:cubicBezTo>
                      <a:pt x="1110" y="175"/>
                      <a:pt x="1191" y="160"/>
                      <a:pt x="1269" y="144"/>
                    </a:cubicBezTo>
                    <a:cubicBezTo>
                      <a:pt x="1347" y="128"/>
                      <a:pt x="1441" y="107"/>
                      <a:pt x="1512" y="87"/>
                    </a:cubicBezTo>
                    <a:cubicBezTo>
                      <a:pt x="1583" y="67"/>
                      <a:pt x="1657" y="35"/>
                      <a:pt x="1692" y="21"/>
                    </a:cubicBezTo>
                    <a:cubicBezTo>
                      <a:pt x="1727" y="7"/>
                      <a:pt x="1732" y="0"/>
                      <a:pt x="1722" y="0"/>
                    </a:cubicBezTo>
                    <a:cubicBezTo>
                      <a:pt x="1712" y="0"/>
                      <a:pt x="1682" y="8"/>
                      <a:pt x="1629" y="21"/>
                    </a:cubicBezTo>
                    <a:cubicBezTo>
                      <a:pt x="1576" y="34"/>
                      <a:pt x="1480" y="65"/>
                      <a:pt x="1401" y="81"/>
                    </a:cubicBezTo>
                    <a:cubicBezTo>
                      <a:pt x="1322" y="97"/>
                      <a:pt x="1249" y="107"/>
                      <a:pt x="1152" y="120"/>
                    </a:cubicBezTo>
                    <a:cubicBezTo>
                      <a:pt x="1055" y="133"/>
                      <a:pt x="926" y="147"/>
                      <a:pt x="816" y="156"/>
                    </a:cubicBezTo>
                    <a:cubicBezTo>
                      <a:pt x="706" y="165"/>
                      <a:pt x="577" y="166"/>
                      <a:pt x="492" y="171"/>
                    </a:cubicBezTo>
                    <a:cubicBezTo>
                      <a:pt x="407" y="176"/>
                      <a:pt x="359" y="178"/>
                      <a:pt x="306" y="189"/>
                    </a:cubicBezTo>
                    <a:cubicBezTo>
                      <a:pt x="253" y="200"/>
                      <a:pt x="209" y="223"/>
                      <a:pt x="174" y="240"/>
                    </a:cubicBezTo>
                    <a:cubicBezTo>
                      <a:pt x="139" y="257"/>
                      <a:pt x="115" y="276"/>
                      <a:pt x="93" y="294"/>
                    </a:cubicBezTo>
                    <a:cubicBezTo>
                      <a:pt x="71" y="312"/>
                      <a:pt x="53" y="329"/>
                      <a:pt x="39" y="348"/>
                    </a:cubicBezTo>
                    <a:cubicBezTo>
                      <a:pt x="25" y="367"/>
                      <a:pt x="12" y="391"/>
                      <a:pt x="6" y="405"/>
                    </a:cubicBezTo>
                    <a:cubicBezTo>
                      <a:pt x="0" y="419"/>
                      <a:pt x="1" y="427"/>
                      <a:pt x="0" y="432"/>
                    </a:cubicBez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>
                <a:off x="6517440" y="4260960"/>
                <a:ext cx="71280" cy="957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77" h="229">
                    <a:moveTo>
                      <a:pt x="177" y="0"/>
                    </a:moveTo>
                    <a:cubicBezTo>
                      <a:pt x="167" y="3"/>
                      <a:pt x="131" y="23"/>
                      <a:pt x="108" y="42"/>
                    </a:cubicBezTo>
                    <a:cubicBezTo>
                      <a:pt x="85" y="61"/>
                      <a:pt x="56" y="93"/>
                      <a:pt x="39" y="114"/>
                    </a:cubicBezTo>
                    <a:cubicBezTo>
                      <a:pt x="22" y="135"/>
                      <a:pt x="12" y="154"/>
                      <a:pt x="6" y="171"/>
                    </a:cubicBezTo>
                    <a:cubicBezTo>
                      <a:pt x="0" y="188"/>
                      <a:pt x="1" y="207"/>
                      <a:pt x="3" y="216"/>
                    </a:cubicBezTo>
                    <a:cubicBezTo>
                      <a:pt x="5" y="225"/>
                      <a:pt x="12" y="227"/>
                      <a:pt x="21" y="228"/>
                    </a:cubicBezTo>
                    <a:cubicBezTo>
                      <a:pt x="30" y="229"/>
                      <a:pt x="49" y="226"/>
                      <a:pt x="57" y="219"/>
                    </a:cubicBezTo>
                    <a:cubicBezTo>
                      <a:pt x="65" y="212"/>
                      <a:pt x="68" y="199"/>
                      <a:pt x="72" y="186"/>
                    </a:cubicBezTo>
                    <a:cubicBezTo>
                      <a:pt x="76" y="173"/>
                      <a:pt x="78" y="153"/>
                      <a:pt x="84" y="138"/>
                    </a:cubicBezTo>
                    <a:cubicBezTo>
                      <a:pt x="90" y="123"/>
                      <a:pt x="100" y="107"/>
                      <a:pt x="108" y="93"/>
                    </a:cubicBezTo>
                    <a:cubicBezTo>
                      <a:pt x="116" y="79"/>
                      <a:pt x="126" y="63"/>
                      <a:pt x="135" y="51"/>
                    </a:cubicBezTo>
                    <a:cubicBezTo>
                      <a:pt x="144" y="39"/>
                      <a:pt x="158" y="29"/>
                      <a:pt x="165" y="21"/>
                    </a:cubicBezTo>
                    <a:cubicBezTo>
                      <a:pt x="172" y="13"/>
                      <a:pt x="175" y="4"/>
                      <a:pt x="177" y="0"/>
                    </a:cubicBez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>
                <a:off x="6414840" y="4186800"/>
                <a:ext cx="394920" cy="2066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 rot="21432600">
                <a:off x="6357960" y="4084200"/>
                <a:ext cx="1044360" cy="255240"/>
              </a:xfrm>
              <a:custGeom>
                <a:avLst/>
                <a:gdLst>
                  <a:gd name="textAreaLeft" fmla="*/ 0 w 1044360"/>
                  <a:gd name="textAreaRight" fmla="*/ 1044720 w 10443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2308" h="538">
                    <a:moveTo>
                      <a:pt x="0" y="526"/>
                    </a:moveTo>
                    <a:cubicBezTo>
                      <a:pt x="4" y="506"/>
                      <a:pt x="15" y="444"/>
                      <a:pt x="26" y="408"/>
                    </a:cubicBezTo>
                    <a:cubicBezTo>
                      <a:pt x="37" y="372"/>
                      <a:pt x="47" y="344"/>
                      <a:pt x="64" y="312"/>
                    </a:cubicBezTo>
                    <a:cubicBezTo>
                      <a:pt x="81" y="280"/>
                      <a:pt x="104" y="245"/>
                      <a:pt x="128" y="218"/>
                    </a:cubicBezTo>
                    <a:cubicBezTo>
                      <a:pt x="152" y="191"/>
                      <a:pt x="176" y="169"/>
                      <a:pt x="206" y="150"/>
                    </a:cubicBezTo>
                    <a:cubicBezTo>
                      <a:pt x="236" y="131"/>
                      <a:pt x="270" y="117"/>
                      <a:pt x="310" y="106"/>
                    </a:cubicBezTo>
                    <a:cubicBezTo>
                      <a:pt x="350" y="95"/>
                      <a:pt x="400" y="89"/>
                      <a:pt x="448" y="84"/>
                    </a:cubicBezTo>
                    <a:cubicBezTo>
                      <a:pt x="496" y="79"/>
                      <a:pt x="538" y="76"/>
                      <a:pt x="596" y="78"/>
                    </a:cubicBezTo>
                    <a:cubicBezTo>
                      <a:pt x="654" y="80"/>
                      <a:pt x="738" y="89"/>
                      <a:pt x="798" y="94"/>
                    </a:cubicBezTo>
                    <a:lnTo>
                      <a:pt x="956" y="106"/>
                    </a:lnTo>
                    <a:cubicBezTo>
                      <a:pt x="1013" y="109"/>
                      <a:pt x="1077" y="115"/>
                      <a:pt x="1142" y="114"/>
                    </a:cubicBezTo>
                    <a:cubicBezTo>
                      <a:pt x="1207" y="113"/>
                      <a:pt x="1278" y="105"/>
                      <a:pt x="1344" y="98"/>
                    </a:cubicBezTo>
                    <a:lnTo>
                      <a:pt x="1538" y="72"/>
                    </a:lnTo>
                    <a:cubicBezTo>
                      <a:pt x="1601" y="63"/>
                      <a:pt x="1660" y="53"/>
                      <a:pt x="1720" y="42"/>
                    </a:cubicBezTo>
                    <a:cubicBezTo>
                      <a:pt x="1780" y="31"/>
                      <a:pt x="1861" y="15"/>
                      <a:pt x="1896" y="8"/>
                    </a:cubicBezTo>
                    <a:lnTo>
                      <a:pt x="1928" y="0"/>
                    </a:lnTo>
                    <a:lnTo>
                      <a:pt x="2258" y="252"/>
                    </a:lnTo>
                    <a:cubicBezTo>
                      <a:pt x="2308" y="292"/>
                      <a:pt x="2238" y="246"/>
                      <a:pt x="2226" y="240"/>
                    </a:cubicBezTo>
                    <a:cubicBezTo>
                      <a:pt x="2214" y="234"/>
                      <a:pt x="2236" y="247"/>
                      <a:pt x="2186" y="214"/>
                    </a:cubicBezTo>
                    <a:cubicBezTo>
                      <a:pt x="2136" y="181"/>
                      <a:pt x="1972" y="71"/>
                      <a:pt x="1928" y="40"/>
                    </a:cubicBezTo>
                    <a:lnTo>
                      <a:pt x="1920" y="30"/>
                    </a:lnTo>
                    <a:cubicBezTo>
                      <a:pt x="1912" y="31"/>
                      <a:pt x="1905" y="37"/>
                      <a:pt x="1882" y="44"/>
                    </a:cubicBezTo>
                    <a:cubicBezTo>
                      <a:pt x="1859" y="51"/>
                      <a:pt x="1820" y="63"/>
                      <a:pt x="1780" y="72"/>
                    </a:cubicBezTo>
                    <a:lnTo>
                      <a:pt x="1640" y="100"/>
                    </a:lnTo>
                    <a:lnTo>
                      <a:pt x="1522" y="122"/>
                    </a:lnTo>
                    <a:cubicBezTo>
                      <a:pt x="1472" y="131"/>
                      <a:pt x="1398" y="146"/>
                      <a:pt x="1338" y="154"/>
                    </a:cubicBezTo>
                    <a:cubicBezTo>
                      <a:pt x="1278" y="162"/>
                      <a:pt x="1226" y="166"/>
                      <a:pt x="1164" y="168"/>
                    </a:cubicBezTo>
                    <a:cubicBezTo>
                      <a:pt x="1102" y="170"/>
                      <a:pt x="1023" y="167"/>
                      <a:pt x="964" y="164"/>
                    </a:cubicBezTo>
                    <a:cubicBezTo>
                      <a:pt x="904" y="162"/>
                      <a:pt x="862" y="155"/>
                      <a:pt x="808" y="150"/>
                    </a:cubicBezTo>
                    <a:cubicBezTo>
                      <a:pt x="754" y="145"/>
                      <a:pt x="687" y="136"/>
                      <a:pt x="642" y="132"/>
                    </a:cubicBezTo>
                    <a:cubicBezTo>
                      <a:pt x="597" y="128"/>
                      <a:pt x="580" y="127"/>
                      <a:pt x="536" y="128"/>
                    </a:cubicBezTo>
                    <a:cubicBezTo>
                      <a:pt x="493" y="128"/>
                      <a:pt x="425" y="130"/>
                      <a:pt x="380" y="136"/>
                    </a:cubicBezTo>
                    <a:cubicBezTo>
                      <a:pt x="335" y="142"/>
                      <a:pt x="300" y="153"/>
                      <a:pt x="266" y="166"/>
                    </a:cubicBezTo>
                    <a:cubicBezTo>
                      <a:pt x="232" y="179"/>
                      <a:pt x="205" y="195"/>
                      <a:pt x="178" y="216"/>
                    </a:cubicBezTo>
                    <a:cubicBezTo>
                      <a:pt x="151" y="237"/>
                      <a:pt x="125" y="260"/>
                      <a:pt x="104" y="290"/>
                    </a:cubicBezTo>
                    <a:cubicBezTo>
                      <a:pt x="83" y="320"/>
                      <a:pt x="66" y="366"/>
                      <a:pt x="54" y="394"/>
                    </a:cubicBezTo>
                    <a:lnTo>
                      <a:pt x="32" y="456"/>
                    </a:lnTo>
                    <a:lnTo>
                      <a:pt x="14" y="530"/>
                    </a:lnTo>
                    <a:lnTo>
                      <a:pt x="2" y="538"/>
                    </a:lnTo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>
                <a:off x="6222960" y="3738240"/>
                <a:ext cx="597960" cy="194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470" h="471">
                    <a:moveTo>
                      <a:pt x="2" y="459"/>
                    </a:moveTo>
                    <a:cubicBezTo>
                      <a:pt x="5" y="454"/>
                      <a:pt x="0" y="465"/>
                      <a:pt x="11" y="444"/>
                    </a:cubicBezTo>
                    <a:cubicBezTo>
                      <a:pt x="22" y="423"/>
                      <a:pt x="42" y="368"/>
                      <a:pt x="66" y="331"/>
                    </a:cubicBezTo>
                    <a:cubicBezTo>
                      <a:pt x="90" y="294"/>
                      <a:pt x="123" y="253"/>
                      <a:pt x="153" y="220"/>
                    </a:cubicBezTo>
                    <a:cubicBezTo>
                      <a:pt x="183" y="187"/>
                      <a:pt x="214" y="157"/>
                      <a:pt x="246" y="133"/>
                    </a:cubicBezTo>
                    <a:cubicBezTo>
                      <a:pt x="278" y="109"/>
                      <a:pt x="307" y="92"/>
                      <a:pt x="344" y="76"/>
                    </a:cubicBezTo>
                    <a:cubicBezTo>
                      <a:pt x="381" y="60"/>
                      <a:pt x="424" y="49"/>
                      <a:pt x="467" y="39"/>
                    </a:cubicBezTo>
                    <a:cubicBezTo>
                      <a:pt x="510" y="29"/>
                      <a:pt x="543" y="23"/>
                      <a:pt x="603" y="18"/>
                    </a:cubicBezTo>
                    <a:cubicBezTo>
                      <a:pt x="663" y="13"/>
                      <a:pt x="754" y="11"/>
                      <a:pt x="827" y="9"/>
                    </a:cubicBezTo>
                    <a:cubicBezTo>
                      <a:pt x="900" y="7"/>
                      <a:pt x="969" y="4"/>
                      <a:pt x="1043" y="4"/>
                    </a:cubicBezTo>
                    <a:cubicBezTo>
                      <a:pt x="1117" y="4"/>
                      <a:pt x="1208" y="10"/>
                      <a:pt x="1274" y="10"/>
                    </a:cubicBezTo>
                    <a:cubicBezTo>
                      <a:pt x="1340" y="10"/>
                      <a:pt x="1410" y="2"/>
                      <a:pt x="1440" y="1"/>
                    </a:cubicBezTo>
                    <a:cubicBezTo>
                      <a:pt x="1470" y="0"/>
                      <a:pt x="1457" y="1"/>
                      <a:pt x="1455" y="4"/>
                    </a:cubicBezTo>
                    <a:cubicBezTo>
                      <a:pt x="1453" y="7"/>
                      <a:pt x="1440" y="17"/>
                      <a:pt x="1427" y="21"/>
                    </a:cubicBezTo>
                    <a:cubicBezTo>
                      <a:pt x="1414" y="25"/>
                      <a:pt x="1409" y="25"/>
                      <a:pt x="1376" y="28"/>
                    </a:cubicBezTo>
                    <a:cubicBezTo>
                      <a:pt x="1343" y="31"/>
                      <a:pt x="1274" y="38"/>
                      <a:pt x="1227" y="42"/>
                    </a:cubicBezTo>
                    <a:cubicBezTo>
                      <a:pt x="1180" y="46"/>
                      <a:pt x="1152" y="44"/>
                      <a:pt x="1095" y="46"/>
                    </a:cubicBezTo>
                    <a:cubicBezTo>
                      <a:pt x="1038" y="48"/>
                      <a:pt x="953" y="53"/>
                      <a:pt x="887" y="56"/>
                    </a:cubicBezTo>
                    <a:cubicBezTo>
                      <a:pt x="821" y="59"/>
                      <a:pt x="755" y="62"/>
                      <a:pt x="699" y="66"/>
                    </a:cubicBezTo>
                    <a:cubicBezTo>
                      <a:pt x="643" y="70"/>
                      <a:pt x="592" y="76"/>
                      <a:pt x="549" y="82"/>
                    </a:cubicBezTo>
                    <a:cubicBezTo>
                      <a:pt x="506" y="88"/>
                      <a:pt x="476" y="97"/>
                      <a:pt x="443" y="105"/>
                    </a:cubicBezTo>
                    <a:cubicBezTo>
                      <a:pt x="410" y="113"/>
                      <a:pt x="381" y="121"/>
                      <a:pt x="353" y="132"/>
                    </a:cubicBezTo>
                    <a:cubicBezTo>
                      <a:pt x="325" y="143"/>
                      <a:pt x="301" y="153"/>
                      <a:pt x="275" y="169"/>
                    </a:cubicBezTo>
                    <a:cubicBezTo>
                      <a:pt x="275" y="169"/>
                      <a:pt x="220" y="205"/>
                      <a:pt x="198" y="225"/>
                    </a:cubicBezTo>
                    <a:cubicBezTo>
                      <a:pt x="176" y="245"/>
                      <a:pt x="155" y="270"/>
                      <a:pt x="137" y="289"/>
                    </a:cubicBezTo>
                    <a:cubicBezTo>
                      <a:pt x="119" y="308"/>
                      <a:pt x="109" y="324"/>
                      <a:pt x="98" y="340"/>
                    </a:cubicBezTo>
                    <a:lnTo>
                      <a:pt x="65" y="390"/>
                    </a:lnTo>
                    <a:cubicBezTo>
                      <a:pt x="52" y="410"/>
                      <a:pt x="27" y="449"/>
                      <a:pt x="17" y="462"/>
                    </a:cubicBezTo>
                    <a:lnTo>
                      <a:pt x="6" y="471"/>
                    </a:lnTo>
                    <a:lnTo>
                      <a:pt x="2" y="459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>
                <a:off x="6820920" y="3750120"/>
                <a:ext cx="389520" cy="280440"/>
              </a:xfrm>
              <a:custGeom>
                <a:avLst/>
                <a:gdLst>
                  <a:gd name="textAreaLeft" fmla="*/ 0 w 389520"/>
                  <a:gd name="textAreaRight" fmla="*/ 389880 w 38952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960" h="680">
                    <a:moveTo>
                      <a:pt x="0" y="0"/>
                    </a:moveTo>
                    <a:lnTo>
                      <a:pt x="144" y="112"/>
                    </a:lnTo>
                    <a:lnTo>
                      <a:pt x="328" y="264"/>
                    </a:lnTo>
                    <a:lnTo>
                      <a:pt x="536" y="412"/>
                    </a:lnTo>
                    <a:lnTo>
                      <a:pt x="700" y="516"/>
                    </a:lnTo>
                    <a:lnTo>
                      <a:pt x="844" y="612"/>
                    </a:lnTo>
                    <a:lnTo>
                      <a:pt x="960" y="680"/>
                    </a:lnTo>
                    <a:lnTo>
                      <a:pt x="712" y="476"/>
                    </a:lnTo>
                    <a:lnTo>
                      <a:pt x="536" y="344"/>
                    </a:lnTo>
                    <a:lnTo>
                      <a:pt x="308" y="192"/>
                    </a:lnTo>
                    <a:lnTo>
                      <a:pt x="104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>
                <a:off x="6456960" y="4166640"/>
                <a:ext cx="1007640" cy="308880"/>
              </a:xfrm>
              <a:custGeom>
                <a:avLst/>
                <a:gdLst>
                  <a:gd name="textAreaLeft" fmla="*/ 0 w 1007640"/>
                  <a:gd name="textAreaRight" fmla="*/ 1008000 w 1007640"/>
                  <a:gd name="textAreaTop" fmla="*/ 0 h 308880"/>
                  <a:gd name="textAreaBottom" fmla="*/ 308880 h 308880"/>
                </a:gdLst>
                <a:ahLst/>
                <a:rect l="textAreaLeft" t="textAreaTop" r="textAreaRight" b="textAreaBottom"/>
                <a:pathLst>
                  <a:path w="2040" h="612">
                    <a:moveTo>
                      <a:pt x="0" y="528"/>
                    </a:moveTo>
                    <a:lnTo>
                      <a:pt x="2000" y="68"/>
                    </a:lnTo>
                    <a:lnTo>
                      <a:pt x="1888" y="0"/>
                    </a:lnTo>
                    <a:lnTo>
                      <a:pt x="2040" y="72"/>
                    </a:lnTo>
                    <a:lnTo>
                      <a:pt x="16" y="612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3"/>
              <p:cNvSpPr/>
              <p:nvPr/>
            </p:nvSpPr>
            <p:spPr>
              <a:xfrm flipH="1" rot="20490600">
                <a:off x="5895000" y="4272480"/>
                <a:ext cx="416880" cy="144720"/>
              </a:xfrm>
              <a:custGeom>
                <a:avLst/>
                <a:gdLst>
                  <a:gd name="textAreaLeft" fmla="*/ 360 w 416880"/>
                  <a:gd name="textAreaRight" fmla="*/ 417600 w 416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4"/>
              <p:cNvSpPr/>
              <p:nvPr/>
            </p:nvSpPr>
            <p:spPr>
              <a:xfrm rot="1374000">
                <a:off x="5538240" y="4140000"/>
                <a:ext cx="744120" cy="379440"/>
              </a:xfrm>
              <a:custGeom>
                <a:avLst/>
                <a:gdLst>
                  <a:gd name="textAreaLeft" fmla="*/ 0 w 744120"/>
                  <a:gd name="textAreaRight" fmla="*/ 744480 w 74412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1516" h="1039">
                    <a:moveTo>
                      <a:pt x="0" y="1039"/>
                    </a:moveTo>
                    <a:cubicBezTo>
                      <a:pt x="31" y="1017"/>
                      <a:pt x="168" y="942"/>
                      <a:pt x="234" y="898"/>
                    </a:cubicBezTo>
                    <a:cubicBezTo>
                      <a:pt x="300" y="854"/>
                      <a:pt x="342" y="823"/>
                      <a:pt x="399" y="772"/>
                    </a:cubicBezTo>
                    <a:cubicBezTo>
                      <a:pt x="456" y="721"/>
                      <a:pt x="520" y="654"/>
                      <a:pt x="576" y="592"/>
                    </a:cubicBezTo>
                    <a:cubicBezTo>
                      <a:pt x="632" y="530"/>
                      <a:pt x="688" y="456"/>
                      <a:pt x="738" y="397"/>
                    </a:cubicBezTo>
                    <a:cubicBezTo>
                      <a:pt x="788" y="338"/>
                      <a:pt x="830" y="285"/>
                      <a:pt x="873" y="238"/>
                    </a:cubicBezTo>
                    <a:cubicBezTo>
                      <a:pt x="916" y="191"/>
                      <a:pt x="958" y="147"/>
                      <a:pt x="999" y="115"/>
                    </a:cubicBezTo>
                    <a:cubicBezTo>
                      <a:pt x="1040" y="83"/>
                      <a:pt x="1077" y="61"/>
                      <a:pt x="1119" y="43"/>
                    </a:cubicBezTo>
                    <a:cubicBezTo>
                      <a:pt x="1161" y="25"/>
                      <a:pt x="1211" y="13"/>
                      <a:pt x="1254" y="7"/>
                    </a:cubicBezTo>
                    <a:cubicBezTo>
                      <a:pt x="1297" y="1"/>
                      <a:pt x="1345" y="0"/>
                      <a:pt x="1380" y="4"/>
                    </a:cubicBezTo>
                    <a:cubicBezTo>
                      <a:pt x="1415" y="8"/>
                      <a:pt x="1447" y="23"/>
                      <a:pt x="1467" y="31"/>
                    </a:cubicBezTo>
                    <a:cubicBezTo>
                      <a:pt x="1487" y="39"/>
                      <a:pt x="1516" y="55"/>
                      <a:pt x="1500" y="55"/>
                    </a:cubicBezTo>
                    <a:lnTo>
                      <a:pt x="1368" y="31"/>
                    </a:lnTo>
                    <a:cubicBezTo>
                      <a:pt x="1325" y="28"/>
                      <a:pt x="1280" y="31"/>
                      <a:pt x="1242" y="37"/>
                    </a:cubicBezTo>
                    <a:cubicBezTo>
                      <a:pt x="1204" y="43"/>
                      <a:pt x="1175" y="53"/>
                      <a:pt x="1140" y="70"/>
                    </a:cubicBezTo>
                    <a:cubicBezTo>
                      <a:pt x="1105" y="87"/>
                      <a:pt x="1064" y="117"/>
                      <a:pt x="1032" y="142"/>
                    </a:cubicBezTo>
                    <a:cubicBezTo>
                      <a:pt x="1000" y="167"/>
                      <a:pt x="973" y="197"/>
                      <a:pt x="948" y="223"/>
                    </a:cubicBezTo>
                    <a:cubicBezTo>
                      <a:pt x="923" y="249"/>
                      <a:pt x="908" y="268"/>
                      <a:pt x="882" y="301"/>
                    </a:cubicBezTo>
                    <a:cubicBezTo>
                      <a:pt x="856" y="334"/>
                      <a:pt x="824" y="380"/>
                      <a:pt x="789" y="424"/>
                    </a:cubicBezTo>
                    <a:cubicBezTo>
                      <a:pt x="754" y="468"/>
                      <a:pt x="709" y="519"/>
                      <a:pt x="672" y="562"/>
                    </a:cubicBezTo>
                    <a:cubicBezTo>
                      <a:pt x="635" y="605"/>
                      <a:pt x="607" y="640"/>
                      <a:pt x="567" y="679"/>
                    </a:cubicBezTo>
                    <a:cubicBezTo>
                      <a:pt x="527" y="718"/>
                      <a:pt x="474" y="763"/>
                      <a:pt x="429" y="799"/>
                    </a:cubicBezTo>
                    <a:cubicBezTo>
                      <a:pt x="384" y="835"/>
                      <a:pt x="339" y="863"/>
                      <a:pt x="294" y="892"/>
                    </a:cubicBezTo>
                    <a:cubicBezTo>
                      <a:pt x="249" y="921"/>
                      <a:pt x="197" y="953"/>
                      <a:pt x="156" y="976"/>
                    </a:cubicBezTo>
                    <a:cubicBezTo>
                      <a:pt x="115" y="999"/>
                      <a:pt x="71" y="1019"/>
                      <a:pt x="45" y="1030"/>
                    </a:cubicBezTo>
                    <a:lnTo>
                      <a:pt x="0" y="1039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5"/>
              <p:cNvSpPr/>
              <p:nvPr/>
            </p:nvSpPr>
            <p:spPr>
              <a:xfrm rot="1374000">
                <a:off x="5829120" y="4267080"/>
                <a:ext cx="437040" cy="213120"/>
              </a:xfrm>
              <a:custGeom>
                <a:avLst/>
                <a:gdLst>
                  <a:gd name="textAreaLeft" fmla="*/ 0 w 437040"/>
                  <a:gd name="textAreaRight" fmla="*/ 437400 w 43704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894" h="549">
                    <a:moveTo>
                      <a:pt x="0" y="549"/>
                    </a:moveTo>
                    <a:cubicBezTo>
                      <a:pt x="0" y="549"/>
                      <a:pt x="174" y="405"/>
                      <a:pt x="174" y="405"/>
                    </a:cubicBezTo>
                    <a:cubicBezTo>
                      <a:pt x="174" y="405"/>
                      <a:pt x="294" y="300"/>
                      <a:pt x="294" y="300"/>
                    </a:cubicBezTo>
                    <a:cubicBezTo>
                      <a:pt x="294" y="300"/>
                      <a:pt x="403" y="199"/>
                      <a:pt x="441" y="162"/>
                    </a:cubicBezTo>
                    <a:cubicBezTo>
                      <a:pt x="479" y="125"/>
                      <a:pt x="495" y="100"/>
                      <a:pt x="522" y="78"/>
                    </a:cubicBezTo>
                    <a:cubicBezTo>
                      <a:pt x="549" y="56"/>
                      <a:pt x="580" y="41"/>
                      <a:pt x="603" y="30"/>
                    </a:cubicBezTo>
                    <a:cubicBezTo>
                      <a:pt x="626" y="19"/>
                      <a:pt x="635" y="13"/>
                      <a:pt x="663" y="9"/>
                    </a:cubicBezTo>
                    <a:cubicBezTo>
                      <a:pt x="691" y="5"/>
                      <a:pt x="738" y="0"/>
                      <a:pt x="771" y="3"/>
                    </a:cubicBezTo>
                    <a:cubicBezTo>
                      <a:pt x="804" y="6"/>
                      <a:pt x="840" y="18"/>
                      <a:pt x="861" y="27"/>
                    </a:cubicBezTo>
                    <a:cubicBezTo>
                      <a:pt x="882" y="36"/>
                      <a:pt x="894" y="53"/>
                      <a:pt x="894" y="57"/>
                    </a:cubicBezTo>
                    <a:cubicBezTo>
                      <a:pt x="894" y="61"/>
                      <a:pt x="879" y="55"/>
                      <a:pt x="864" y="51"/>
                    </a:cubicBezTo>
                    <a:cubicBezTo>
                      <a:pt x="849" y="47"/>
                      <a:pt x="822" y="36"/>
                      <a:pt x="801" y="33"/>
                    </a:cubicBezTo>
                    <a:cubicBezTo>
                      <a:pt x="780" y="30"/>
                      <a:pt x="761" y="28"/>
                      <a:pt x="735" y="33"/>
                    </a:cubicBezTo>
                    <a:cubicBezTo>
                      <a:pt x="709" y="38"/>
                      <a:pt x="669" y="53"/>
                      <a:pt x="642" y="66"/>
                    </a:cubicBezTo>
                    <a:cubicBezTo>
                      <a:pt x="615" y="79"/>
                      <a:pt x="594" y="94"/>
                      <a:pt x="573" y="111"/>
                    </a:cubicBezTo>
                    <a:cubicBezTo>
                      <a:pt x="552" y="128"/>
                      <a:pt x="535" y="143"/>
                      <a:pt x="513" y="165"/>
                    </a:cubicBezTo>
                    <a:cubicBezTo>
                      <a:pt x="491" y="187"/>
                      <a:pt x="466" y="213"/>
                      <a:pt x="441" y="234"/>
                    </a:cubicBezTo>
                    <a:cubicBezTo>
                      <a:pt x="415" y="257"/>
                      <a:pt x="387" y="279"/>
                      <a:pt x="357" y="303"/>
                    </a:cubicBezTo>
                    <a:cubicBezTo>
                      <a:pt x="327" y="327"/>
                      <a:pt x="294" y="352"/>
                      <a:pt x="261" y="378"/>
                    </a:cubicBezTo>
                    <a:cubicBezTo>
                      <a:pt x="228" y="404"/>
                      <a:pt x="192" y="436"/>
                      <a:pt x="159" y="459"/>
                    </a:cubicBezTo>
                    <a:cubicBezTo>
                      <a:pt x="126" y="482"/>
                      <a:pt x="92" y="498"/>
                      <a:pt x="66" y="513"/>
                    </a:cubicBez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"/>
              <p:cNvSpPr/>
              <p:nvPr/>
            </p:nvSpPr>
            <p:spPr>
              <a:xfrm rot="1374000">
                <a:off x="5387040" y="3780000"/>
                <a:ext cx="989280" cy="718920"/>
              </a:xfrm>
              <a:custGeom>
                <a:avLst/>
                <a:gdLst>
                  <a:gd name="textAreaLeft" fmla="*/ 0 w 989280"/>
                  <a:gd name="textAreaRight" fmla="*/ 989640 w 989280"/>
                  <a:gd name="textAreaTop" fmla="*/ 0 h 718920"/>
                  <a:gd name="textAreaBottom" fmla="*/ 719280 h 718920"/>
                </a:gdLst>
                <a:ahLst/>
                <a:rect l="textAreaLeft" t="textAreaTop" r="textAreaRight" b="textAreaBottom"/>
                <a:pathLst>
                  <a:path w="2016" h="1850">
                    <a:moveTo>
                      <a:pt x="2016" y="884"/>
                    </a:moveTo>
                    <a:lnTo>
                      <a:pt x="1394" y="114"/>
                    </a:lnTo>
                    <a:lnTo>
                      <a:pt x="1364" y="80"/>
                    </a:lnTo>
                    <a:cubicBezTo>
                      <a:pt x="1339" y="69"/>
                      <a:pt x="1287" y="54"/>
                      <a:pt x="1242" y="50"/>
                    </a:cubicBezTo>
                    <a:cubicBezTo>
                      <a:pt x="1197" y="46"/>
                      <a:pt x="1129" y="54"/>
                      <a:pt x="1092" y="56"/>
                    </a:cubicBezTo>
                    <a:cubicBezTo>
                      <a:pt x="1055" y="58"/>
                      <a:pt x="1050" y="59"/>
                      <a:pt x="1022" y="64"/>
                    </a:cubicBezTo>
                    <a:lnTo>
                      <a:pt x="926" y="86"/>
                    </a:lnTo>
                    <a:cubicBezTo>
                      <a:pt x="891" y="98"/>
                      <a:pt x="846" y="113"/>
                      <a:pt x="810" y="134"/>
                    </a:cubicBezTo>
                    <a:cubicBezTo>
                      <a:pt x="774" y="155"/>
                      <a:pt x="748" y="180"/>
                      <a:pt x="708" y="212"/>
                    </a:cubicBezTo>
                    <a:cubicBezTo>
                      <a:pt x="668" y="244"/>
                      <a:pt x="616" y="289"/>
                      <a:pt x="570" y="326"/>
                    </a:cubicBezTo>
                    <a:cubicBezTo>
                      <a:pt x="524" y="363"/>
                      <a:pt x="487" y="400"/>
                      <a:pt x="432" y="434"/>
                    </a:cubicBezTo>
                    <a:cubicBezTo>
                      <a:pt x="377" y="468"/>
                      <a:pt x="291" y="507"/>
                      <a:pt x="240" y="534"/>
                    </a:cubicBezTo>
                    <a:cubicBezTo>
                      <a:pt x="189" y="561"/>
                      <a:pt x="156" y="579"/>
                      <a:pt x="126" y="596"/>
                    </a:cubicBezTo>
                    <a:lnTo>
                      <a:pt x="60" y="632"/>
                    </a:lnTo>
                    <a:lnTo>
                      <a:pt x="402" y="1850"/>
                    </a:lnTo>
                    <a:lnTo>
                      <a:pt x="0" y="590"/>
                    </a:lnTo>
                    <a:lnTo>
                      <a:pt x="192" y="500"/>
                    </a:lnTo>
                    <a:cubicBezTo>
                      <a:pt x="259" y="467"/>
                      <a:pt x="337" y="432"/>
                      <a:pt x="402" y="392"/>
                    </a:cubicBezTo>
                    <a:cubicBezTo>
                      <a:pt x="467" y="352"/>
                      <a:pt x="525" y="304"/>
                      <a:pt x="582" y="260"/>
                    </a:cubicBezTo>
                    <a:cubicBezTo>
                      <a:pt x="639" y="216"/>
                      <a:pt x="698" y="161"/>
                      <a:pt x="744" y="128"/>
                    </a:cubicBezTo>
                    <a:cubicBezTo>
                      <a:pt x="790" y="95"/>
                      <a:pt x="818" y="80"/>
                      <a:pt x="858" y="62"/>
                    </a:cubicBezTo>
                    <a:cubicBezTo>
                      <a:pt x="898" y="44"/>
                      <a:pt x="939" y="32"/>
                      <a:pt x="986" y="22"/>
                    </a:cubicBezTo>
                    <a:cubicBezTo>
                      <a:pt x="1033" y="12"/>
                      <a:pt x="1092" y="4"/>
                      <a:pt x="1140" y="2"/>
                    </a:cubicBezTo>
                    <a:cubicBezTo>
                      <a:pt x="1188" y="0"/>
                      <a:pt x="1236" y="4"/>
                      <a:pt x="1272" y="8"/>
                    </a:cubicBezTo>
                    <a:cubicBezTo>
                      <a:pt x="1311" y="15"/>
                      <a:pt x="1332" y="18"/>
                      <a:pt x="1354" y="26"/>
                    </a:cubicBezTo>
                    <a:cubicBezTo>
                      <a:pt x="1376" y="34"/>
                      <a:pt x="1393" y="48"/>
                      <a:pt x="1406" y="58"/>
                    </a:cubicBezTo>
                    <a:lnTo>
                      <a:pt x="1434" y="86"/>
                    </a:lnTo>
                    <a:lnTo>
                      <a:pt x="2016" y="884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 rot="1374000">
                <a:off x="5225760" y="4039200"/>
                <a:ext cx="1115640" cy="601200"/>
              </a:xfrm>
              <a:custGeom>
                <a:avLst/>
                <a:gdLst>
                  <a:gd name="textAreaLeft" fmla="*/ 0 w 1115640"/>
                  <a:gd name="textAreaRight" fmla="*/ 1116000 w 111564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2140" h="1600">
                    <a:moveTo>
                      <a:pt x="2116" y="568"/>
                    </a:moveTo>
                    <a:lnTo>
                      <a:pt x="2140" y="656"/>
                    </a:lnTo>
                    <a:lnTo>
                      <a:pt x="324" y="1600"/>
                    </a:lnTo>
                    <a:lnTo>
                      <a:pt x="0" y="0"/>
                    </a:lnTo>
                    <a:lnTo>
                      <a:pt x="368" y="1508"/>
                    </a:lnTo>
                    <a:lnTo>
                      <a:pt x="2116" y="568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 rot="1374000">
                <a:off x="5254920" y="4074480"/>
                <a:ext cx="1053360" cy="522360"/>
              </a:xfrm>
              <a:custGeom>
                <a:avLst/>
                <a:gdLst>
                  <a:gd name="textAreaLeft" fmla="*/ 0 w 1053360"/>
                  <a:gd name="textAreaRight" fmla="*/ 1053720 w 105336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088" h="1492">
                    <a:moveTo>
                      <a:pt x="2088" y="444"/>
                    </a:moveTo>
                    <a:cubicBezTo>
                      <a:pt x="2076" y="441"/>
                      <a:pt x="1968" y="446"/>
                      <a:pt x="1912" y="460"/>
                    </a:cubicBezTo>
                    <a:cubicBezTo>
                      <a:pt x="1856" y="474"/>
                      <a:pt x="1797" y="503"/>
                      <a:pt x="1752" y="528"/>
                    </a:cubicBezTo>
                    <a:lnTo>
                      <a:pt x="1640" y="608"/>
                    </a:lnTo>
                    <a:lnTo>
                      <a:pt x="1516" y="704"/>
                    </a:lnTo>
                    <a:lnTo>
                      <a:pt x="1376" y="808"/>
                    </a:lnTo>
                    <a:lnTo>
                      <a:pt x="1180" y="960"/>
                    </a:lnTo>
                    <a:lnTo>
                      <a:pt x="1000" y="1084"/>
                    </a:lnTo>
                    <a:lnTo>
                      <a:pt x="844" y="1184"/>
                    </a:lnTo>
                    <a:lnTo>
                      <a:pt x="676" y="1288"/>
                    </a:lnTo>
                    <a:lnTo>
                      <a:pt x="516" y="1384"/>
                    </a:lnTo>
                    <a:lnTo>
                      <a:pt x="404" y="1448"/>
                    </a:lnTo>
                    <a:lnTo>
                      <a:pt x="376" y="1452"/>
                    </a:lnTo>
                    <a:lnTo>
                      <a:pt x="352" y="1388"/>
                    </a:lnTo>
                    <a:lnTo>
                      <a:pt x="12" y="60"/>
                    </a:lnTo>
                    <a:lnTo>
                      <a:pt x="96" y="0"/>
                    </a:lnTo>
                    <a:lnTo>
                      <a:pt x="0" y="52"/>
                    </a:lnTo>
                    <a:lnTo>
                      <a:pt x="348" y="1492"/>
                    </a:lnTo>
                    <a:lnTo>
                      <a:pt x="396" y="1488"/>
                    </a:lnTo>
                    <a:lnTo>
                      <a:pt x="492" y="1444"/>
                    </a:lnTo>
                    <a:cubicBezTo>
                      <a:pt x="549" y="1415"/>
                      <a:pt x="657" y="1361"/>
                      <a:pt x="736" y="1316"/>
                    </a:cubicBezTo>
                    <a:lnTo>
                      <a:pt x="964" y="1176"/>
                    </a:lnTo>
                    <a:lnTo>
                      <a:pt x="1144" y="1048"/>
                    </a:lnTo>
                    <a:lnTo>
                      <a:pt x="1380" y="880"/>
                    </a:lnTo>
                    <a:lnTo>
                      <a:pt x="1596" y="720"/>
                    </a:lnTo>
                    <a:cubicBezTo>
                      <a:pt x="1659" y="673"/>
                      <a:pt x="1715" y="627"/>
                      <a:pt x="1760" y="596"/>
                    </a:cubicBezTo>
                    <a:cubicBezTo>
                      <a:pt x="1805" y="565"/>
                      <a:pt x="1831" y="551"/>
                      <a:pt x="1868" y="532"/>
                    </a:cubicBezTo>
                    <a:cubicBezTo>
                      <a:pt x="1905" y="513"/>
                      <a:pt x="1947" y="495"/>
                      <a:pt x="1984" y="480"/>
                    </a:cubicBezTo>
                    <a:lnTo>
                      <a:pt x="2088" y="444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 rot="1374000">
                <a:off x="5328360" y="4168440"/>
                <a:ext cx="391320" cy="31248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800" h="808">
                    <a:moveTo>
                      <a:pt x="772" y="428"/>
                    </a:moveTo>
                    <a:cubicBezTo>
                      <a:pt x="746" y="440"/>
                      <a:pt x="691" y="477"/>
                      <a:pt x="644" y="504"/>
                    </a:cubicBezTo>
                    <a:lnTo>
                      <a:pt x="488" y="588"/>
                    </a:lnTo>
                    <a:cubicBezTo>
                      <a:pt x="432" y="619"/>
                      <a:pt x="349" y="668"/>
                      <a:pt x="308" y="692"/>
                    </a:cubicBezTo>
                    <a:lnTo>
                      <a:pt x="244" y="732"/>
                    </a:lnTo>
                    <a:lnTo>
                      <a:pt x="0" y="0"/>
                    </a:lnTo>
                    <a:lnTo>
                      <a:pt x="164" y="676"/>
                    </a:lnTo>
                    <a:lnTo>
                      <a:pt x="192" y="784"/>
                    </a:lnTo>
                    <a:lnTo>
                      <a:pt x="204" y="808"/>
                    </a:lnTo>
                    <a:lnTo>
                      <a:pt x="248" y="792"/>
                    </a:lnTo>
                    <a:cubicBezTo>
                      <a:pt x="265" y="781"/>
                      <a:pt x="269" y="765"/>
                      <a:pt x="304" y="740"/>
                    </a:cubicBezTo>
                    <a:cubicBezTo>
                      <a:pt x="339" y="715"/>
                      <a:pt x="403" y="672"/>
                      <a:pt x="456" y="640"/>
                    </a:cubicBezTo>
                    <a:cubicBezTo>
                      <a:pt x="509" y="608"/>
                      <a:pt x="572" y="577"/>
                      <a:pt x="620" y="548"/>
                    </a:cubicBezTo>
                    <a:lnTo>
                      <a:pt x="744" y="464"/>
                    </a:lnTo>
                    <a:cubicBezTo>
                      <a:pt x="774" y="445"/>
                      <a:pt x="795" y="438"/>
                      <a:pt x="800" y="432"/>
                    </a:cubicBezTo>
                    <a:lnTo>
                      <a:pt x="772" y="428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1"/>
              <p:cNvSpPr/>
              <p:nvPr/>
            </p:nvSpPr>
            <p:spPr>
              <a:xfrm>
                <a:off x="6315840" y="4434120"/>
                <a:ext cx="163080" cy="9108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6" y="70"/>
                    </a:moveTo>
                    <a:cubicBezTo>
                      <a:pt x="11" y="51"/>
                      <a:pt x="77" y="22"/>
                      <a:pt x="77" y="22"/>
                    </a:cubicBezTo>
                    <a:cubicBezTo>
                      <a:pt x="77" y="22"/>
                      <a:pt x="181" y="2"/>
                      <a:pt x="181" y="2"/>
                    </a:cubicBezTo>
                    <a:cubicBezTo>
                      <a:pt x="181" y="2"/>
                      <a:pt x="249" y="0"/>
                      <a:pt x="249" y="0"/>
                    </a:cubicBezTo>
                    <a:cubicBezTo>
                      <a:pt x="267" y="4"/>
                      <a:pt x="274" y="15"/>
                      <a:pt x="266" y="32"/>
                    </a:cubicBezTo>
                    <a:cubicBezTo>
                      <a:pt x="257" y="48"/>
                      <a:pt x="217" y="85"/>
                      <a:pt x="193" y="101"/>
                    </a:cubicBezTo>
                    <a:cubicBezTo>
                      <a:pt x="193" y="101"/>
                      <a:pt x="142" y="124"/>
                      <a:pt x="123" y="125"/>
                    </a:cubicBezTo>
                    <a:cubicBezTo>
                      <a:pt x="105" y="125"/>
                      <a:pt x="48" y="108"/>
                      <a:pt x="48" y="108"/>
                    </a:cubicBezTo>
                    <a:cubicBezTo>
                      <a:pt x="27" y="96"/>
                      <a:pt x="0" y="88"/>
                      <a:pt x="6" y="70"/>
                    </a:cubicBezTo>
                    <a:close/>
                  </a:path>
                </a:pathLst>
              </a:custGeom>
              <a:solidFill>
                <a:srgbClr val="5601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2"/>
              <p:cNvSpPr/>
              <p:nvPr/>
            </p:nvSpPr>
            <p:spPr>
              <a:xfrm rot="21390600">
                <a:off x="6338160" y="2587680"/>
                <a:ext cx="1026000" cy="1582560"/>
              </a:xfrm>
              <a:custGeom>
                <a:avLst/>
                <a:gdLst>
                  <a:gd name="textAreaLeft" fmla="*/ 0 w 1026000"/>
                  <a:gd name="textAreaRight" fmla="*/ 1026360 w 102600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3"/>
              <p:cNvSpPr/>
              <p:nvPr/>
            </p:nvSpPr>
            <p:spPr>
              <a:xfrm flipH="1" rot="21262800">
                <a:off x="5318640" y="2654280"/>
                <a:ext cx="992880" cy="1692000"/>
              </a:xfrm>
              <a:custGeom>
                <a:avLst/>
                <a:gdLst>
                  <a:gd name="textAreaLeft" fmla="*/ 360 w 992880"/>
                  <a:gd name="textAreaRight" fmla="*/ 993600 w 992880"/>
                  <a:gd name="textAreaTop" fmla="*/ 0 h 1692000"/>
                  <a:gd name="textAreaBottom" fmla="*/ 1692360 h 169200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flipH="1" rot="21262800">
                <a:off x="5363280" y="2629440"/>
                <a:ext cx="892440" cy="1180800"/>
              </a:xfrm>
              <a:custGeom>
                <a:avLst/>
                <a:gdLst>
                  <a:gd name="textAreaLeft" fmla="*/ -360 w 892440"/>
                  <a:gd name="textAreaRight" fmla="*/ 892440 w 89244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337200">
                <a:off x="6185880" y="2632680"/>
                <a:ext cx="674640" cy="104328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6"/>
            <p:cNvSpPr/>
            <p:nvPr/>
          </p:nvSpPr>
          <p:spPr>
            <a:xfrm>
              <a:off x="768240" y="1498680"/>
              <a:ext cx="7891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e0000"/>
                  </a:solidFill>
                  <a:latin typeface="Bradley Hand ITC"/>
                </a:rPr>
                <a:t>L</a:t>
              </a:r>
              <a:r>
                <a:rPr b="1" lang="fr-FR" sz="9600" spc="-1" strike="noStrike">
                  <a:solidFill>
                    <a:srgbClr val="fe6100"/>
                  </a:solidFill>
                  <a:latin typeface="Bradley Hand ITC"/>
                </a:rPr>
                <a:t>a</a:t>
              </a:r>
              <a:r>
                <a:rPr b="1" lang="fr-FR" sz="9600" spc="-1" strike="noStrike">
                  <a:solidFill>
                    <a:srgbClr val="004a48"/>
                  </a:solidFill>
                  <a:latin typeface="Bradley Hand ITC"/>
                </a:rPr>
                <a:t> </a:t>
              </a:r>
              <a:r>
                <a:rPr b="1" lang="fr-FR" sz="9600" spc="-1" strike="noStrike">
                  <a:solidFill>
                    <a:srgbClr val="c3ff01"/>
                  </a:solidFill>
                  <a:latin typeface="Bradley Hand ITC"/>
                </a:rPr>
                <a:t>P</a:t>
              </a:r>
              <a:r>
                <a:rPr b="1" lang="fr-FR" sz="9600" spc="-1" strike="noStrike">
                  <a:solidFill>
                    <a:srgbClr val="8cff01"/>
                  </a:solidFill>
                  <a:latin typeface="Bradley Hand ITC"/>
                </a:rPr>
                <a:t>ê</a:t>
              </a:r>
              <a:r>
                <a:rPr b="1" lang="fr-FR" sz="9600" spc="-1" strike="noStrike">
                  <a:solidFill>
                    <a:srgbClr val="01ff50"/>
                  </a:solidFill>
                  <a:latin typeface="Bradley Hand ITC"/>
                </a:rPr>
                <a:t>c</a:t>
              </a:r>
              <a:r>
                <a:rPr b="1" lang="fr-FR" sz="9600" spc="-1" strike="noStrike">
                  <a:solidFill>
                    <a:srgbClr val="01ffff"/>
                  </a:solidFill>
                  <a:latin typeface="Bradley Hand ITC"/>
                </a:rPr>
                <a:t>h</a:t>
              </a:r>
              <a:r>
                <a:rPr b="1" lang="fr-FR" sz="9600" spc="-1" strike="noStrike">
                  <a:solidFill>
                    <a:srgbClr val="0168ff"/>
                  </a:solidFill>
                  <a:latin typeface="Bradley Hand ITC"/>
                </a:rPr>
                <a:t>e</a:t>
              </a:r>
              <a:r>
                <a:rPr b="1" lang="fr-FR" sz="9600" spc="-1" strike="noStrike">
                  <a:solidFill>
                    <a:srgbClr val="5601ff"/>
                  </a:solidFill>
                  <a:latin typeface="Bradley Hand ITC"/>
                </a:rPr>
                <a:t>L</a:t>
              </a:r>
              <a:r>
                <a:rPr b="1" lang="fr-FR" sz="9600" spc="-1" strike="noStrike">
                  <a:solidFill>
                    <a:srgbClr val="db01ff"/>
                  </a:solidFill>
                  <a:latin typeface="Bradley Hand ITC"/>
                </a:rPr>
                <a:t>i</a:t>
              </a:r>
              <a:r>
                <a:rPr b="1" lang="fr-FR" sz="9600" spc="-1" strike="noStrike">
                  <a:solidFill>
                    <a:srgbClr val="fe02b6"/>
                  </a:solidFill>
                  <a:latin typeface="Bradley Hand ITC"/>
                </a:rPr>
                <a:t>r</a:t>
              </a:r>
              <a:r>
                <a:rPr b="1" lang="fr-FR" sz="9600" spc="-1" strike="noStrike">
                  <a:solidFill>
                    <a:srgbClr val="ff0101"/>
                  </a:solidFill>
                  <a:latin typeface="Bradley Hand ITC"/>
                </a:rPr>
                <a:t>e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6"/>
          <p:cNvSpPr/>
          <p:nvPr/>
        </p:nvSpPr>
        <p:spPr>
          <a:xfrm>
            <a:off x="1235160" y="1158840"/>
            <a:ext cx="7095960" cy="3799080"/>
          </a:xfrm>
          <a:prstGeom prst="roundRect">
            <a:avLst>
              <a:gd name="adj" fmla="val 5306"/>
            </a:avLst>
          </a:prstGeom>
          <a:solidFill>
            <a:srgbClr val="003736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e 26"/>
          <p:cNvGrpSpPr/>
          <p:nvPr/>
        </p:nvGrpSpPr>
        <p:grpSpPr>
          <a:xfrm>
            <a:off x="5153040" y="2558160"/>
            <a:ext cx="2311560" cy="2275560"/>
            <a:chOff x="5153040" y="2558160"/>
            <a:chExt cx="2311560" cy="2275560"/>
          </a:xfrm>
        </p:grpSpPr>
        <p:sp>
          <p:nvSpPr>
            <p:cNvPr id="155" name="Freeform 5"/>
            <p:cNvSpPr/>
            <p:nvPr/>
          </p:nvSpPr>
          <p:spPr>
            <a:xfrm>
              <a:off x="6625080" y="4215600"/>
              <a:ext cx="733320" cy="17460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803" h="423">
                  <a:moveTo>
                    <a:pt x="3" y="423"/>
                  </a:moveTo>
                  <a:cubicBezTo>
                    <a:pt x="0" y="419"/>
                    <a:pt x="37" y="373"/>
                    <a:pt x="80" y="351"/>
                  </a:cubicBezTo>
                  <a:cubicBezTo>
                    <a:pt x="123" y="329"/>
                    <a:pt x="164" y="313"/>
                    <a:pt x="262" y="288"/>
                  </a:cubicBezTo>
                  <a:cubicBezTo>
                    <a:pt x="360" y="263"/>
                    <a:pt x="532" y="228"/>
                    <a:pt x="666" y="202"/>
                  </a:cubicBezTo>
                  <a:cubicBezTo>
                    <a:pt x="800" y="176"/>
                    <a:pt x="920" y="157"/>
                    <a:pt x="1069" y="130"/>
                  </a:cubicBezTo>
                  <a:lnTo>
                    <a:pt x="1558" y="43"/>
                  </a:lnTo>
                  <a:lnTo>
                    <a:pt x="1803" y="0"/>
                  </a:lnTo>
                  <a:lnTo>
                    <a:pt x="1491" y="106"/>
                  </a:lnTo>
                  <a:lnTo>
                    <a:pt x="1232" y="183"/>
                  </a:lnTo>
                  <a:cubicBezTo>
                    <a:pt x="1165" y="201"/>
                    <a:pt x="1144" y="204"/>
                    <a:pt x="1088" y="216"/>
                  </a:cubicBezTo>
                  <a:cubicBezTo>
                    <a:pt x="1032" y="228"/>
                    <a:pt x="974" y="241"/>
                    <a:pt x="896" y="255"/>
                  </a:cubicBezTo>
                  <a:cubicBezTo>
                    <a:pt x="818" y="269"/>
                    <a:pt x="710" y="285"/>
                    <a:pt x="622" y="298"/>
                  </a:cubicBezTo>
                  <a:cubicBezTo>
                    <a:pt x="534" y="311"/>
                    <a:pt x="435" y="323"/>
                    <a:pt x="368" y="331"/>
                  </a:cubicBezTo>
                  <a:cubicBezTo>
                    <a:pt x="368" y="331"/>
                    <a:pt x="264" y="339"/>
                    <a:pt x="219" y="346"/>
                  </a:cubicBezTo>
                  <a:cubicBezTo>
                    <a:pt x="174" y="353"/>
                    <a:pt x="135" y="362"/>
                    <a:pt x="99" y="375"/>
                  </a:cubicBezTo>
                  <a:cubicBezTo>
                    <a:pt x="63" y="388"/>
                    <a:pt x="23" y="413"/>
                    <a:pt x="3" y="423"/>
                  </a:cubicBez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6573960" y="4165200"/>
              <a:ext cx="748080" cy="18648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732" h="432">
                  <a:moveTo>
                    <a:pt x="0" y="432"/>
                  </a:moveTo>
                  <a:cubicBezTo>
                    <a:pt x="9" y="424"/>
                    <a:pt x="31" y="382"/>
                    <a:pt x="60" y="357"/>
                  </a:cubicBezTo>
                  <a:cubicBezTo>
                    <a:pt x="89" y="332"/>
                    <a:pt x="135" y="300"/>
                    <a:pt x="177" y="279"/>
                  </a:cubicBezTo>
                  <a:cubicBezTo>
                    <a:pt x="219" y="258"/>
                    <a:pt x="266" y="241"/>
                    <a:pt x="312" y="231"/>
                  </a:cubicBezTo>
                  <a:cubicBezTo>
                    <a:pt x="358" y="221"/>
                    <a:pt x="401" y="221"/>
                    <a:pt x="453" y="219"/>
                  </a:cubicBezTo>
                  <a:cubicBezTo>
                    <a:pt x="505" y="217"/>
                    <a:pt x="558" y="220"/>
                    <a:pt x="624" y="219"/>
                  </a:cubicBezTo>
                  <a:cubicBezTo>
                    <a:pt x="690" y="218"/>
                    <a:pt x="783" y="215"/>
                    <a:pt x="852" y="210"/>
                  </a:cubicBezTo>
                  <a:cubicBezTo>
                    <a:pt x="921" y="205"/>
                    <a:pt x="972" y="197"/>
                    <a:pt x="1041" y="186"/>
                  </a:cubicBezTo>
                  <a:cubicBezTo>
                    <a:pt x="1110" y="175"/>
                    <a:pt x="1191" y="160"/>
                    <a:pt x="1269" y="144"/>
                  </a:cubicBezTo>
                  <a:cubicBezTo>
                    <a:pt x="1347" y="128"/>
                    <a:pt x="1441" y="107"/>
                    <a:pt x="1512" y="87"/>
                  </a:cubicBezTo>
                  <a:cubicBezTo>
                    <a:pt x="1583" y="67"/>
                    <a:pt x="1657" y="35"/>
                    <a:pt x="1692" y="21"/>
                  </a:cubicBezTo>
                  <a:cubicBezTo>
                    <a:pt x="1727" y="7"/>
                    <a:pt x="1732" y="0"/>
                    <a:pt x="1722" y="0"/>
                  </a:cubicBezTo>
                  <a:cubicBezTo>
                    <a:pt x="1712" y="0"/>
                    <a:pt x="1682" y="8"/>
                    <a:pt x="1629" y="21"/>
                  </a:cubicBezTo>
                  <a:cubicBezTo>
                    <a:pt x="1576" y="34"/>
                    <a:pt x="1480" y="65"/>
                    <a:pt x="1401" y="81"/>
                  </a:cubicBezTo>
                  <a:cubicBezTo>
                    <a:pt x="1322" y="97"/>
                    <a:pt x="1249" y="107"/>
                    <a:pt x="1152" y="120"/>
                  </a:cubicBezTo>
                  <a:cubicBezTo>
                    <a:pt x="1055" y="133"/>
                    <a:pt x="926" y="147"/>
                    <a:pt x="816" y="156"/>
                  </a:cubicBezTo>
                  <a:cubicBezTo>
                    <a:pt x="706" y="165"/>
                    <a:pt x="577" y="166"/>
                    <a:pt x="492" y="171"/>
                  </a:cubicBezTo>
                  <a:cubicBezTo>
                    <a:pt x="407" y="176"/>
                    <a:pt x="359" y="178"/>
                    <a:pt x="306" y="189"/>
                  </a:cubicBezTo>
                  <a:cubicBezTo>
                    <a:pt x="253" y="200"/>
                    <a:pt x="209" y="223"/>
                    <a:pt x="174" y="240"/>
                  </a:cubicBezTo>
                  <a:cubicBezTo>
                    <a:pt x="139" y="257"/>
                    <a:pt x="115" y="276"/>
                    <a:pt x="93" y="294"/>
                  </a:cubicBezTo>
                  <a:cubicBezTo>
                    <a:pt x="71" y="312"/>
                    <a:pt x="53" y="329"/>
                    <a:pt x="39" y="348"/>
                  </a:cubicBezTo>
                  <a:cubicBezTo>
                    <a:pt x="25" y="367"/>
                    <a:pt x="12" y="391"/>
                    <a:pt x="6" y="405"/>
                  </a:cubicBezTo>
                  <a:cubicBezTo>
                    <a:pt x="0" y="419"/>
                    <a:pt x="1" y="427"/>
                    <a:pt x="0" y="432"/>
                  </a:cubicBez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6517440" y="4260960"/>
              <a:ext cx="71280" cy="95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77" h="229">
                  <a:moveTo>
                    <a:pt x="177" y="0"/>
                  </a:moveTo>
                  <a:cubicBezTo>
                    <a:pt x="167" y="3"/>
                    <a:pt x="131" y="23"/>
                    <a:pt x="108" y="42"/>
                  </a:cubicBezTo>
                  <a:cubicBezTo>
                    <a:pt x="85" y="61"/>
                    <a:pt x="56" y="93"/>
                    <a:pt x="39" y="114"/>
                  </a:cubicBezTo>
                  <a:cubicBezTo>
                    <a:pt x="22" y="135"/>
                    <a:pt x="12" y="154"/>
                    <a:pt x="6" y="171"/>
                  </a:cubicBezTo>
                  <a:cubicBezTo>
                    <a:pt x="0" y="188"/>
                    <a:pt x="1" y="207"/>
                    <a:pt x="3" y="216"/>
                  </a:cubicBezTo>
                  <a:cubicBezTo>
                    <a:pt x="5" y="225"/>
                    <a:pt x="12" y="227"/>
                    <a:pt x="21" y="228"/>
                  </a:cubicBezTo>
                  <a:cubicBezTo>
                    <a:pt x="30" y="229"/>
                    <a:pt x="49" y="226"/>
                    <a:pt x="57" y="219"/>
                  </a:cubicBezTo>
                  <a:cubicBezTo>
                    <a:pt x="65" y="212"/>
                    <a:pt x="68" y="199"/>
                    <a:pt x="72" y="186"/>
                  </a:cubicBezTo>
                  <a:cubicBezTo>
                    <a:pt x="76" y="173"/>
                    <a:pt x="78" y="153"/>
                    <a:pt x="84" y="138"/>
                  </a:cubicBezTo>
                  <a:cubicBezTo>
                    <a:pt x="90" y="123"/>
                    <a:pt x="100" y="107"/>
                    <a:pt x="108" y="93"/>
                  </a:cubicBezTo>
                  <a:cubicBezTo>
                    <a:pt x="116" y="79"/>
                    <a:pt x="126" y="63"/>
                    <a:pt x="135" y="51"/>
                  </a:cubicBezTo>
                  <a:cubicBezTo>
                    <a:pt x="144" y="39"/>
                    <a:pt x="158" y="29"/>
                    <a:pt x="165" y="21"/>
                  </a:cubicBezTo>
                  <a:cubicBezTo>
                    <a:pt x="172" y="13"/>
                    <a:pt x="175" y="4"/>
                    <a:pt x="177" y="0"/>
                  </a:cubicBez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6414840" y="4186800"/>
              <a:ext cx="394920" cy="2066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 rot="21432600">
              <a:off x="6357960" y="4084200"/>
              <a:ext cx="1044360" cy="2552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2308" h="538">
                  <a:moveTo>
                    <a:pt x="0" y="526"/>
                  </a:moveTo>
                  <a:cubicBezTo>
                    <a:pt x="4" y="506"/>
                    <a:pt x="15" y="444"/>
                    <a:pt x="26" y="408"/>
                  </a:cubicBezTo>
                  <a:cubicBezTo>
                    <a:pt x="37" y="372"/>
                    <a:pt x="47" y="344"/>
                    <a:pt x="64" y="312"/>
                  </a:cubicBezTo>
                  <a:cubicBezTo>
                    <a:pt x="81" y="280"/>
                    <a:pt x="104" y="245"/>
                    <a:pt x="128" y="218"/>
                  </a:cubicBezTo>
                  <a:cubicBezTo>
                    <a:pt x="152" y="191"/>
                    <a:pt x="176" y="169"/>
                    <a:pt x="206" y="150"/>
                  </a:cubicBezTo>
                  <a:cubicBezTo>
                    <a:pt x="236" y="131"/>
                    <a:pt x="270" y="117"/>
                    <a:pt x="310" y="106"/>
                  </a:cubicBezTo>
                  <a:cubicBezTo>
                    <a:pt x="350" y="95"/>
                    <a:pt x="400" y="89"/>
                    <a:pt x="448" y="84"/>
                  </a:cubicBezTo>
                  <a:cubicBezTo>
                    <a:pt x="496" y="79"/>
                    <a:pt x="538" y="76"/>
                    <a:pt x="596" y="78"/>
                  </a:cubicBezTo>
                  <a:cubicBezTo>
                    <a:pt x="654" y="80"/>
                    <a:pt x="738" y="89"/>
                    <a:pt x="798" y="94"/>
                  </a:cubicBezTo>
                  <a:lnTo>
                    <a:pt x="956" y="106"/>
                  </a:lnTo>
                  <a:cubicBezTo>
                    <a:pt x="1013" y="109"/>
                    <a:pt x="1077" y="115"/>
                    <a:pt x="1142" y="114"/>
                  </a:cubicBezTo>
                  <a:cubicBezTo>
                    <a:pt x="1207" y="113"/>
                    <a:pt x="1278" y="105"/>
                    <a:pt x="1344" y="98"/>
                  </a:cubicBezTo>
                  <a:lnTo>
                    <a:pt x="1538" y="72"/>
                  </a:lnTo>
                  <a:cubicBezTo>
                    <a:pt x="1601" y="63"/>
                    <a:pt x="1660" y="53"/>
                    <a:pt x="1720" y="42"/>
                  </a:cubicBezTo>
                  <a:cubicBezTo>
                    <a:pt x="1780" y="31"/>
                    <a:pt x="1861" y="15"/>
                    <a:pt x="1896" y="8"/>
                  </a:cubicBezTo>
                  <a:lnTo>
                    <a:pt x="1928" y="0"/>
                  </a:lnTo>
                  <a:lnTo>
                    <a:pt x="2258" y="252"/>
                  </a:lnTo>
                  <a:cubicBezTo>
                    <a:pt x="2308" y="292"/>
                    <a:pt x="2238" y="246"/>
                    <a:pt x="2226" y="240"/>
                  </a:cubicBezTo>
                  <a:cubicBezTo>
                    <a:pt x="2214" y="234"/>
                    <a:pt x="2236" y="247"/>
                    <a:pt x="2186" y="214"/>
                  </a:cubicBezTo>
                  <a:cubicBezTo>
                    <a:pt x="2136" y="181"/>
                    <a:pt x="1972" y="71"/>
                    <a:pt x="1928" y="40"/>
                  </a:cubicBezTo>
                  <a:lnTo>
                    <a:pt x="1920" y="30"/>
                  </a:lnTo>
                  <a:cubicBezTo>
                    <a:pt x="1912" y="31"/>
                    <a:pt x="1905" y="37"/>
                    <a:pt x="1882" y="44"/>
                  </a:cubicBezTo>
                  <a:cubicBezTo>
                    <a:pt x="1859" y="51"/>
                    <a:pt x="1820" y="63"/>
                    <a:pt x="1780" y="72"/>
                  </a:cubicBezTo>
                  <a:lnTo>
                    <a:pt x="1640" y="100"/>
                  </a:lnTo>
                  <a:lnTo>
                    <a:pt x="1522" y="122"/>
                  </a:lnTo>
                  <a:cubicBezTo>
                    <a:pt x="1472" y="131"/>
                    <a:pt x="1398" y="146"/>
                    <a:pt x="1338" y="154"/>
                  </a:cubicBezTo>
                  <a:cubicBezTo>
                    <a:pt x="1278" y="162"/>
                    <a:pt x="1226" y="166"/>
                    <a:pt x="1164" y="168"/>
                  </a:cubicBezTo>
                  <a:cubicBezTo>
                    <a:pt x="1102" y="170"/>
                    <a:pt x="1023" y="167"/>
                    <a:pt x="964" y="164"/>
                  </a:cubicBezTo>
                  <a:cubicBezTo>
                    <a:pt x="904" y="162"/>
                    <a:pt x="862" y="155"/>
                    <a:pt x="808" y="150"/>
                  </a:cubicBezTo>
                  <a:cubicBezTo>
                    <a:pt x="754" y="145"/>
                    <a:pt x="687" y="136"/>
                    <a:pt x="642" y="132"/>
                  </a:cubicBezTo>
                  <a:cubicBezTo>
                    <a:pt x="597" y="128"/>
                    <a:pt x="580" y="127"/>
                    <a:pt x="536" y="128"/>
                  </a:cubicBezTo>
                  <a:cubicBezTo>
                    <a:pt x="493" y="128"/>
                    <a:pt x="425" y="130"/>
                    <a:pt x="380" y="136"/>
                  </a:cubicBezTo>
                  <a:cubicBezTo>
                    <a:pt x="335" y="142"/>
                    <a:pt x="300" y="153"/>
                    <a:pt x="266" y="166"/>
                  </a:cubicBezTo>
                  <a:cubicBezTo>
                    <a:pt x="232" y="179"/>
                    <a:pt x="205" y="195"/>
                    <a:pt x="178" y="216"/>
                  </a:cubicBezTo>
                  <a:cubicBezTo>
                    <a:pt x="151" y="237"/>
                    <a:pt x="125" y="260"/>
                    <a:pt x="104" y="290"/>
                  </a:cubicBezTo>
                  <a:cubicBezTo>
                    <a:pt x="83" y="320"/>
                    <a:pt x="66" y="366"/>
                    <a:pt x="54" y="394"/>
                  </a:cubicBezTo>
                  <a:lnTo>
                    <a:pt x="32" y="456"/>
                  </a:lnTo>
                  <a:lnTo>
                    <a:pt x="14" y="530"/>
                  </a:lnTo>
                  <a:lnTo>
                    <a:pt x="2" y="538"/>
                  </a:lnTo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222960" y="3738240"/>
              <a:ext cx="597960" cy="19476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470" h="471">
                  <a:moveTo>
                    <a:pt x="2" y="459"/>
                  </a:moveTo>
                  <a:cubicBezTo>
                    <a:pt x="5" y="454"/>
                    <a:pt x="0" y="465"/>
                    <a:pt x="11" y="444"/>
                  </a:cubicBezTo>
                  <a:cubicBezTo>
                    <a:pt x="22" y="423"/>
                    <a:pt x="42" y="368"/>
                    <a:pt x="66" y="331"/>
                  </a:cubicBezTo>
                  <a:cubicBezTo>
                    <a:pt x="90" y="294"/>
                    <a:pt x="123" y="253"/>
                    <a:pt x="153" y="220"/>
                  </a:cubicBezTo>
                  <a:cubicBezTo>
                    <a:pt x="183" y="187"/>
                    <a:pt x="214" y="157"/>
                    <a:pt x="246" y="133"/>
                  </a:cubicBezTo>
                  <a:cubicBezTo>
                    <a:pt x="278" y="109"/>
                    <a:pt x="307" y="92"/>
                    <a:pt x="344" y="76"/>
                  </a:cubicBezTo>
                  <a:cubicBezTo>
                    <a:pt x="381" y="60"/>
                    <a:pt x="424" y="49"/>
                    <a:pt x="467" y="39"/>
                  </a:cubicBezTo>
                  <a:cubicBezTo>
                    <a:pt x="510" y="29"/>
                    <a:pt x="543" y="23"/>
                    <a:pt x="603" y="18"/>
                  </a:cubicBezTo>
                  <a:cubicBezTo>
                    <a:pt x="663" y="13"/>
                    <a:pt x="754" y="11"/>
                    <a:pt x="827" y="9"/>
                  </a:cubicBezTo>
                  <a:cubicBezTo>
                    <a:pt x="900" y="7"/>
                    <a:pt x="969" y="4"/>
                    <a:pt x="1043" y="4"/>
                  </a:cubicBezTo>
                  <a:cubicBezTo>
                    <a:pt x="1117" y="4"/>
                    <a:pt x="1208" y="10"/>
                    <a:pt x="1274" y="10"/>
                  </a:cubicBezTo>
                  <a:cubicBezTo>
                    <a:pt x="1340" y="10"/>
                    <a:pt x="1410" y="2"/>
                    <a:pt x="1440" y="1"/>
                  </a:cubicBezTo>
                  <a:cubicBezTo>
                    <a:pt x="1470" y="0"/>
                    <a:pt x="1457" y="1"/>
                    <a:pt x="1455" y="4"/>
                  </a:cubicBezTo>
                  <a:cubicBezTo>
                    <a:pt x="1453" y="7"/>
                    <a:pt x="1440" y="17"/>
                    <a:pt x="1427" y="21"/>
                  </a:cubicBezTo>
                  <a:cubicBezTo>
                    <a:pt x="1414" y="25"/>
                    <a:pt x="1409" y="25"/>
                    <a:pt x="1376" y="28"/>
                  </a:cubicBezTo>
                  <a:cubicBezTo>
                    <a:pt x="1343" y="31"/>
                    <a:pt x="1274" y="38"/>
                    <a:pt x="1227" y="42"/>
                  </a:cubicBezTo>
                  <a:cubicBezTo>
                    <a:pt x="1180" y="46"/>
                    <a:pt x="1152" y="44"/>
                    <a:pt x="1095" y="46"/>
                  </a:cubicBezTo>
                  <a:cubicBezTo>
                    <a:pt x="1038" y="48"/>
                    <a:pt x="953" y="53"/>
                    <a:pt x="887" y="56"/>
                  </a:cubicBezTo>
                  <a:cubicBezTo>
                    <a:pt x="821" y="59"/>
                    <a:pt x="755" y="62"/>
                    <a:pt x="699" y="66"/>
                  </a:cubicBezTo>
                  <a:cubicBezTo>
                    <a:pt x="643" y="70"/>
                    <a:pt x="592" y="76"/>
                    <a:pt x="549" y="82"/>
                  </a:cubicBezTo>
                  <a:cubicBezTo>
                    <a:pt x="506" y="88"/>
                    <a:pt x="476" y="97"/>
                    <a:pt x="443" y="105"/>
                  </a:cubicBezTo>
                  <a:cubicBezTo>
                    <a:pt x="410" y="113"/>
                    <a:pt x="381" y="121"/>
                    <a:pt x="353" y="132"/>
                  </a:cubicBezTo>
                  <a:cubicBezTo>
                    <a:pt x="325" y="143"/>
                    <a:pt x="301" y="153"/>
                    <a:pt x="275" y="169"/>
                  </a:cubicBezTo>
                  <a:cubicBezTo>
                    <a:pt x="275" y="169"/>
                    <a:pt x="220" y="205"/>
                    <a:pt x="198" y="225"/>
                  </a:cubicBezTo>
                  <a:cubicBezTo>
                    <a:pt x="176" y="245"/>
                    <a:pt x="155" y="270"/>
                    <a:pt x="137" y="289"/>
                  </a:cubicBezTo>
                  <a:cubicBezTo>
                    <a:pt x="119" y="308"/>
                    <a:pt x="109" y="324"/>
                    <a:pt x="98" y="340"/>
                  </a:cubicBezTo>
                  <a:lnTo>
                    <a:pt x="65" y="390"/>
                  </a:lnTo>
                  <a:cubicBezTo>
                    <a:pt x="52" y="410"/>
                    <a:pt x="27" y="449"/>
                    <a:pt x="17" y="462"/>
                  </a:cubicBezTo>
                  <a:lnTo>
                    <a:pt x="6" y="471"/>
                  </a:lnTo>
                  <a:lnTo>
                    <a:pt x="2" y="459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820920" y="3750120"/>
              <a:ext cx="389520" cy="280440"/>
            </a:xfrm>
            <a:custGeom>
              <a:avLst/>
              <a:gdLst>
                <a:gd name="textAreaLeft" fmla="*/ 0 w 389520"/>
                <a:gd name="textAreaRight" fmla="*/ 389880 w 38952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960" h="680">
                  <a:moveTo>
                    <a:pt x="0" y="0"/>
                  </a:moveTo>
                  <a:lnTo>
                    <a:pt x="144" y="112"/>
                  </a:lnTo>
                  <a:lnTo>
                    <a:pt x="328" y="264"/>
                  </a:lnTo>
                  <a:lnTo>
                    <a:pt x="536" y="412"/>
                  </a:lnTo>
                  <a:lnTo>
                    <a:pt x="700" y="516"/>
                  </a:lnTo>
                  <a:lnTo>
                    <a:pt x="844" y="612"/>
                  </a:lnTo>
                  <a:lnTo>
                    <a:pt x="960" y="680"/>
                  </a:lnTo>
                  <a:lnTo>
                    <a:pt x="712" y="476"/>
                  </a:lnTo>
                  <a:lnTo>
                    <a:pt x="536" y="344"/>
                  </a:lnTo>
                  <a:lnTo>
                    <a:pt x="308" y="192"/>
                  </a:lnTo>
                  <a:lnTo>
                    <a:pt x="104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456960" y="4166640"/>
              <a:ext cx="1007640" cy="308880"/>
            </a:xfrm>
            <a:custGeom>
              <a:avLst/>
              <a:gdLst>
                <a:gd name="textAreaLeft" fmla="*/ 0 w 1007640"/>
                <a:gd name="textAreaRight" fmla="*/ 1008000 w 1007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2040" h="612">
                  <a:moveTo>
                    <a:pt x="0" y="528"/>
                  </a:moveTo>
                  <a:lnTo>
                    <a:pt x="2000" y="68"/>
                  </a:lnTo>
                  <a:lnTo>
                    <a:pt x="1888" y="0"/>
                  </a:lnTo>
                  <a:lnTo>
                    <a:pt x="2040" y="72"/>
                  </a:lnTo>
                  <a:lnTo>
                    <a:pt x="16" y="61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 flipH="1" rot="20490600">
              <a:off x="5895000" y="4272480"/>
              <a:ext cx="416880" cy="144720"/>
            </a:xfrm>
            <a:custGeom>
              <a:avLst/>
              <a:gdLst>
                <a:gd name="textAreaLeft" fmla="*/ 360 w 416880"/>
                <a:gd name="textAreaRight" fmla="*/ 417600 w 416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 rot="1374000">
              <a:off x="5538240" y="4140000"/>
              <a:ext cx="744120" cy="379440"/>
            </a:xfrm>
            <a:custGeom>
              <a:avLst/>
              <a:gdLst>
                <a:gd name="textAreaLeft" fmla="*/ 0 w 744120"/>
                <a:gd name="textAreaRight" fmla="*/ 744480 w 7441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516" h="1039">
                  <a:moveTo>
                    <a:pt x="0" y="1039"/>
                  </a:moveTo>
                  <a:cubicBezTo>
                    <a:pt x="31" y="1017"/>
                    <a:pt x="168" y="942"/>
                    <a:pt x="234" y="898"/>
                  </a:cubicBezTo>
                  <a:cubicBezTo>
                    <a:pt x="300" y="854"/>
                    <a:pt x="342" y="823"/>
                    <a:pt x="399" y="772"/>
                  </a:cubicBezTo>
                  <a:cubicBezTo>
                    <a:pt x="456" y="721"/>
                    <a:pt x="520" y="654"/>
                    <a:pt x="576" y="592"/>
                  </a:cubicBezTo>
                  <a:cubicBezTo>
                    <a:pt x="632" y="530"/>
                    <a:pt x="688" y="456"/>
                    <a:pt x="738" y="397"/>
                  </a:cubicBezTo>
                  <a:cubicBezTo>
                    <a:pt x="788" y="338"/>
                    <a:pt x="830" y="285"/>
                    <a:pt x="873" y="238"/>
                  </a:cubicBezTo>
                  <a:cubicBezTo>
                    <a:pt x="916" y="191"/>
                    <a:pt x="958" y="147"/>
                    <a:pt x="999" y="115"/>
                  </a:cubicBezTo>
                  <a:cubicBezTo>
                    <a:pt x="1040" y="83"/>
                    <a:pt x="1077" y="61"/>
                    <a:pt x="1119" y="43"/>
                  </a:cubicBezTo>
                  <a:cubicBezTo>
                    <a:pt x="1161" y="25"/>
                    <a:pt x="1211" y="13"/>
                    <a:pt x="1254" y="7"/>
                  </a:cubicBezTo>
                  <a:cubicBezTo>
                    <a:pt x="1297" y="1"/>
                    <a:pt x="1345" y="0"/>
                    <a:pt x="1380" y="4"/>
                  </a:cubicBezTo>
                  <a:cubicBezTo>
                    <a:pt x="1415" y="8"/>
                    <a:pt x="1447" y="23"/>
                    <a:pt x="1467" y="31"/>
                  </a:cubicBezTo>
                  <a:cubicBezTo>
                    <a:pt x="1487" y="39"/>
                    <a:pt x="1516" y="55"/>
                    <a:pt x="1500" y="55"/>
                  </a:cubicBezTo>
                  <a:lnTo>
                    <a:pt x="1368" y="31"/>
                  </a:lnTo>
                  <a:cubicBezTo>
                    <a:pt x="1325" y="28"/>
                    <a:pt x="1280" y="31"/>
                    <a:pt x="1242" y="37"/>
                  </a:cubicBezTo>
                  <a:cubicBezTo>
                    <a:pt x="1204" y="43"/>
                    <a:pt x="1175" y="53"/>
                    <a:pt x="1140" y="70"/>
                  </a:cubicBezTo>
                  <a:cubicBezTo>
                    <a:pt x="1105" y="87"/>
                    <a:pt x="1064" y="117"/>
                    <a:pt x="1032" y="142"/>
                  </a:cubicBezTo>
                  <a:cubicBezTo>
                    <a:pt x="1000" y="167"/>
                    <a:pt x="973" y="197"/>
                    <a:pt x="948" y="223"/>
                  </a:cubicBezTo>
                  <a:cubicBezTo>
                    <a:pt x="923" y="249"/>
                    <a:pt x="908" y="268"/>
                    <a:pt x="882" y="301"/>
                  </a:cubicBezTo>
                  <a:cubicBezTo>
                    <a:pt x="856" y="334"/>
                    <a:pt x="824" y="380"/>
                    <a:pt x="789" y="424"/>
                  </a:cubicBezTo>
                  <a:cubicBezTo>
                    <a:pt x="754" y="468"/>
                    <a:pt x="709" y="519"/>
                    <a:pt x="672" y="562"/>
                  </a:cubicBezTo>
                  <a:cubicBezTo>
                    <a:pt x="635" y="605"/>
                    <a:pt x="607" y="640"/>
                    <a:pt x="567" y="679"/>
                  </a:cubicBezTo>
                  <a:cubicBezTo>
                    <a:pt x="527" y="718"/>
                    <a:pt x="474" y="763"/>
                    <a:pt x="429" y="799"/>
                  </a:cubicBezTo>
                  <a:cubicBezTo>
                    <a:pt x="384" y="835"/>
                    <a:pt x="339" y="863"/>
                    <a:pt x="294" y="892"/>
                  </a:cubicBezTo>
                  <a:cubicBezTo>
                    <a:pt x="249" y="921"/>
                    <a:pt x="197" y="953"/>
                    <a:pt x="156" y="976"/>
                  </a:cubicBezTo>
                  <a:cubicBezTo>
                    <a:pt x="115" y="999"/>
                    <a:pt x="71" y="1019"/>
                    <a:pt x="45" y="1030"/>
                  </a:cubicBezTo>
                  <a:lnTo>
                    <a:pt x="0" y="1039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 rot="1374000">
              <a:off x="5829120" y="4267080"/>
              <a:ext cx="437040" cy="21312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894" h="549">
                  <a:moveTo>
                    <a:pt x="0" y="549"/>
                  </a:moveTo>
                  <a:cubicBezTo>
                    <a:pt x="0" y="549"/>
                    <a:pt x="174" y="405"/>
                    <a:pt x="174" y="405"/>
                  </a:cubicBezTo>
                  <a:cubicBezTo>
                    <a:pt x="174" y="405"/>
                    <a:pt x="294" y="300"/>
                    <a:pt x="294" y="300"/>
                  </a:cubicBezTo>
                  <a:cubicBezTo>
                    <a:pt x="294" y="300"/>
                    <a:pt x="403" y="199"/>
                    <a:pt x="441" y="162"/>
                  </a:cubicBezTo>
                  <a:cubicBezTo>
                    <a:pt x="479" y="125"/>
                    <a:pt x="495" y="100"/>
                    <a:pt x="522" y="78"/>
                  </a:cubicBezTo>
                  <a:cubicBezTo>
                    <a:pt x="549" y="56"/>
                    <a:pt x="580" y="41"/>
                    <a:pt x="603" y="30"/>
                  </a:cubicBezTo>
                  <a:cubicBezTo>
                    <a:pt x="626" y="19"/>
                    <a:pt x="635" y="13"/>
                    <a:pt x="663" y="9"/>
                  </a:cubicBezTo>
                  <a:cubicBezTo>
                    <a:pt x="691" y="5"/>
                    <a:pt x="738" y="0"/>
                    <a:pt x="771" y="3"/>
                  </a:cubicBezTo>
                  <a:cubicBezTo>
                    <a:pt x="804" y="6"/>
                    <a:pt x="840" y="18"/>
                    <a:pt x="861" y="27"/>
                  </a:cubicBezTo>
                  <a:cubicBezTo>
                    <a:pt x="882" y="36"/>
                    <a:pt x="894" y="53"/>
                    <a:pt x="894" y="57"/>
                  </a:cubicBezTo>
                  <a:cubicBezTo>
                    <a:pt x="894" y="61"/>
                    <a:pt x="879" y="55"/>
                    <a:pt x="864" y="51"/>
                  </a:cubicBezTo>
                  <a:cubicBezTo>
                    <a:pt x="849" y="47"/>
                    <a:pt x="822" y="36"/>
                    <a:pt x="801" y="33"/>
                  </a:cubicBezTo>
                  <a:cubicBezTo>
                    <a:pt x="780" y="30"/>
                    <a:pt x="761" y="28"/>
                    <a:pt x="735" y="33"/>
                  </a:cubicBezTo>
                  <a:cubicBezTo>
                    <a:pt x="709" y="38"/>
                    <a:pt x="669" y="53"/>
                    <a:pt x="642" y="66"/>
                  </a:cubicBezTo>
                  <a:cubicBezTo>
                    <a:pt x="615" y="79"/>
                    <a:pt x="594" y="94"/>
                    <a:pt x="573" y="111"/>
                  </a:cubicBezTo>
                  <a:cubicBezTo>
                    <a:pt x="552" y="128"/>
                    <a:pt x="535" y="143"/>
                    <a:pt x="513" y="165"/>
                  </a:cubicBezTo>
                  <a:cubicBezTo>
                    <a:pt x="491" y="187"/>
                    <a:pt x="466" y="213"/>
                    <a:pt x="441" y="234"/>
                  </a:cubicBezTo>
                  <a:cubicBezTo>
                    <a:pt x="415" y="257"/>
                    <a:pt x="387" y="279"/>
                    <a:pt x="357" y="303"/>
                  </a:cubicBezTo>
                  <a:cubicBezTo>
                    <a:pt x="327" y="327"/>
                    <a:pt x="294" y="352"/>
                    <a:pt x="261" y="378"/>
                  </a:cubicBezTo>
                  <a:cubicBezTo>
                    <a:pt x="228" y="404"/>
                    <a:pt x="192" y="436"/>
                    <a:pt x="159" y="459"/>
                  </a:cubicBezTo>
                  <a:cubicBezTo>
                    <a:pt x="126" y="482"/>
                    <a:pt x="92" y="498"/>
                    <a:pt x="66" y="513"/>
                  </a:cubicBezTo>
                  <a:lnTo>
                    <a:pt x="0" y="549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 rot="1374000">
              <a:off x="5387040" y="3780000"/>
              <a:ext cx="989280" cy="71892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016" h="1850">
                  <a:moveTo>
                    <a:pt x="2016" y="884"/>
                  </a:moveTo>
                  <a:lnTo>
                    <a:pt x="1394" y="114"/>
                  </a:lnTo>
                  <a:lnTo>
                    <a:pt x="1364" y="80"/>
                  </a:lnTo>
                  <a:cubicBezTo>
                    <a:pt x="1339" y="69"/>
                    <a:pt x="1287" y="54"/>
                    <a:pt x="1242" y="50"/>
                  </a:cubicBezTo>
                  <a:cubicBezTo>
                    <a:pt x="1197" y="46"/>
                    <a:pt x="1129" y="54"/>
                    <a:pt x="1092" y="56"/>
                  </a:cubicBezTo>
                  <a:cubicBezTo>
                    <a:pt x="1055" y="58"/>
                    <a:pt x="1050" y="59"/>
                    <a:pt x="1022" y="64"/>
                  </a:cubicBezTo>
                  <a:lnTo>
                    <a:pt x="926" y="86"/>
                  </a:lnTo>
                  <a:cubicBezTo>
                    <a:pt x="891" y="98"/>
                    <a:pt x="846" y="113"/>
                    <a:pt x="810" y="134"/>
                  </a:cubicBezTo>
                  <a:cubicBezTo>
                    <a:pt x="774" y="155"/>
                    <a:pt x="748" y="180"/>
                    <a:pt x="708" y="212"/>
                  </a:cubicBezTo>
                  <a:cubicBezTo>
                    <a:pt x="668" y="244"/>
                    <a:pt x="616" y="289"/>
                    <a:pt x="570" y="326"/>
                  </a:cubicBezTo>
                  <a:cubicBezTo>
                    <a:pt x="524" y="363"/>
                    <a:pt x="487" y="400"/>
                    <a:pt x="432" y="434"/>
                  </a:cubicBezTo>
                  <a:cubicBezTo>
                    <a:pt x="377" y="468"/>
                    <a:pt x="291" y="507"/>
                    <a:pt x="240" y="534"/>
                  </a:cubicBezTo>
                  <a:cubicBezTo>
                    <a:pt x="189" y="561"/>
                    <a:pt x="156" y="579"/>
                    <a:pt x="126" y="596"/>
                  </a:cubicBezTo>
                  <a:lnTo>
                    <a:pt x="60" y="632"/>
                  </a:lnTo>
                  <a:lnTo>
                    <a:pt x="402" y="1850"/>
                  </a:lnTo>
                  <a:lnTo>
                    <a:pt x="0" y="590"/>
                  </a:lnTo>
                  <a:lnTo>
                    <a:pt x="192" y="500"/>
                  </a:lnTo>
                  <a:cubicBezTo>
                    <a:pt x="259" y="467"/>
                    <a:pt x="337" y="432"/>
                    <a:pt x="402" y="392"/>
                  </a:cubicBezTo>
                  <a:cubicBezTo>
                    <a:pt x="467" y="352"/>
                    <a:pt x="525" y="304"/>
                    <a:pt x="582" y="260"/>
                  </a:cubicBezTo>
                  <a:cubicBezTo>
                    <a:pt x="639" y="216"/>
                    <a:pt x="698" y="161"/>
                    <a:pt x="744" y="128"/>
                  </a:cubicBezTo>
                  <a:cubicBezTo>
                    <a:pt x="790" y="95"/>
                    <a:pt x="818" y="80"/>
                    <a:pt x="858" y="62"/>
                  </a:cubicBezTo>
                  <a:cubicBezTo>
                    <a:pt x="898" y="44"/>
                    <a:pt x="939" y="32"/>
                    <a:pt x="986" y="22"/>
                  </a:cubicBezTo>
                  <a:cubicBezTo>
                    <a:pt x="1033" y="12"/>
                    <a:pt x="1092" y="4"/>
                    <a:pt x="1140" y="2"/>
                  </a:cubicBezTo>
                  <a:cubicBezTo>
                    <a:pt x="1188" y="0"/>
                    <a:pt x="1236" y="4"/>
                    <a:pt x="1272" y="8"/>
                  </a:cubicBezTo>
                  <a:cubicBezTo>
                    <a:pt x="1311" y="15"/>
                    <a:pt x="1332" y="18"/>
                    <a:pt x="1354" y="26"/>
                  </a:cubicBezTo>
                  <a:cubicBezTo>
                    <a:pt x="1376" y="34"/>
                    <a:pt x="1393" y="48"/>
                    <a:pt x="1406" y="58"/>
                  </a:cubicBezTo>
                  <a:lnTo>
                    <a:pt x="1434" y="86"/>
                  </a:lnTo>
                  <a:lnTo>
                    <a:pt x="2016" y="884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 rot="1374000">
              <a:off x="5225760" y="4039200"/>
              <a:ext cx="1115640" cy="60120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40" h="1600">
                  <a:moveTo>
                    <a:pt x="2116" y="568"/>
                  </a:moveTo>
                  <a:lnTo>
                    <a:pt x="2140" y="656"/>
                  </a:lnTo>
                  <a:lnTo>
                    <a:pt x="324" y="1600"/>
                  </a:lnTo>
                  <a:lnTo>
                    <a:pt x="0" y="0"/>
                  </a:lnTo>
                  <a:lnTo>
                    <a:pt x="368" y="1508"/>
                  </a:lnTo>
                  <a:lnTo>
                    <a:pt x="2116" y="568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 rot="1374000">
              <a:off x="5254920" y="4074480"/>
              <a:ext cx="1053360" cy="522360"/>
            </a:xfrm>
            <a:custGeom>
              <a:avLst/>
              <a:gdLst>
                <a:gd name="textAreaLeft" fmla="*/ 0 w 1053360"/>
                <a:gd name="textAreaRight" fmla="*/ 1053720 w 10533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088" h="1492">
                  <a:moveTo>
                    <a:pt x="2088" y="444"/>
                  </a:moveTo>
                  <a:cubicBezTo>
                    <a:pt x="2076" y="441"/>
                    <a:pt x="1968" y="446"/>
                    <a:pt x="1912" y="460"/>
                  </a:cubicBezTo>
                  <a:cubicBezTo>
                    <a:pt x="1856" y="474"/>
                    <a:pt x="1797" y="503"/>
                    <a:pt x="1752" y="528"/>
                  </a:cubicBezTo>
                  <a:lnTo>
                    <a:pt x="1640" y="608"/>
                  </a:lnTo>
                  <a:lnTo>
                    <a:pt x="1516" y="704"/>
                  </a:lnTo>
                  <a:lnTo>
                    <a:pt x="1376" y="808"/>
                  </a:lnTo>
                  <a:lnTo>
                    <a:pt x="1180" y="960"/>
                  </a:lnTo>
                  <a:lnTo>
                    <a:pt x="1000" y="1084"/>
                  </a:lnTo>
                  <a:lnTo>
                    <a:pt x="844" y="1184"/>
                  </a:lnTo>
                  <a:lnTo>
                    <a:pt x="676" y="1288"/>
                  </a:lnTo>
                  <a:lnTo>
                    <a:pt x="516" y="1384"/>
                  </a:lnTo>
                  <a:lnTo>
                    <a:pt x="404" y="1448"/>
                  </a:lnTo>
                  <a:lnTo>
                    <a:pt x="376" y="1452"/>
                  </a:lnTo>
                  <a:lnTo>
                    <a:pt x="352" y="1388"/>
                  </a:lnTo>
                  <a:lnTo>
                    <a:pt x="12" y="60"/>
                  </a:lnTo>
                  <a:lnTo>
                    <a:pt x="96" y="0"/>
                  </a:lnTo>
                  <a:lnTo>
                    <a:pt x="0" y="52"/>
                  </a:lnTo>
                  <a:lnTo>
                    <a:pt x="348" y="1492"/>
                  </a:lnTo>
                  <a:lnTo>
                    <a:pt x="396" y="1488"/>
                  </a:lnTo>
                  <a:lnTo>
                    <a:pt x="492" y="1444"/>
                  </a:lnTo>
                  <a:cubicBezTo>
                    <a:pt x="549" y="1415"/>
                    <a:pt x="657" y="1361"/>
                    <a:pt x="736" y="1316"/>
                  </a:cubicBezTo>
                  <a:lnTo>
                    <a:pt x="964" y="1176"/>
                  </a:lnTo>
                  <a:lnTo>
                    <a:pt x="1144" y="1048"/>
                  </a:lnTo>
                  <a:lnTo>
                    <a:pt x="1380" y="880"/>
                  </a:lnTo>
                  <a:lnTo>
                    <a:pt x="1596" y="720"/>
                  </a:lnTo>
                  <a:cubicBezTo>
                    <a:pt x="1659" y="673"/>
                    <a:pt x="1715" y="627"/>
                    <a:pt x="1760" y="596"/>
                  </a:cubicBezTo>
                  <a:cubicBezTo>
                    <a:pt x="1805" y="565"/>
                    <a:pt x="1831" y="551"/>
                    <a:pt x="1868" y="532"/>
                  </a:cubicBezTo>
                  <a:cubicBezTo>
                    <a:pt x="1905" y="513"/>
                    <a:pt x="1947" y="495"/>
                    <a:pt x="1984" y="480"/>
                  </a:cubicBezTo>
                  <a:lnTo>
                    <a:pt x="2088" y="444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 rot="1374000">
              <a:off x="5328360" y="4168440"/>
              <a:ext cx="391320" cy="31248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800" h="808">
                  <a:moveTo>
                    <a:pt x="772" y="428"/>
                  </a:moveTo>
                  <a:cubicBezTo>
                    <a:pt x="746" y="440"/>
                    <a:pt x="691" y="477"/>
                    <a:pt x="644" y="504"/>
                  </a:cubicBezTo>
                  <a:lnTo>
                    <a:pt x="488" y="588"/>
                  </a:lnTo>
                  <a:cubicBezTo>
                    <a:pt x="432" y="619"/>
                    <a:pt x="349" y="668"/>
                    <a:pt x="308" y="692"/>
                  </a:cubicBezTo>
                  <a:lnTo>
                    <a:pt x="244" y="732"/>
                  </a:lnTo>
                  <a:lnTo>
                    <a:pt x="0" y="0"/>
                  </a:lnTo>
                  <a:lnTo>
                    <a:pt x="164" y="676"/>
                  </a:lnTo>
                  <a:lnTo>
                    <a:pt x="192" y="784"/>
                  </a:lnTo>
                  <a:lnTo>
                    <a:pt x="204" y="808"/>
                  </a:lnTo>
                  <a:lnTo>
                    <a:pt x="248" y="792"/>
                  </a:lnTo>
                  <a:cubicBezTo>
                    <a:pt x="265" y="781"/>
                    <a:pt x="269" y="765"/>
                    <a:pt x="304" y="740"/>
                  </a:cubicBezTo>
                  <a:cubicBezTo>
                    <a:pt x="339" y="715"/>
                    <a:pt x="403" y="672"/>
                    <a:pt x="456" y="640"/>
                  </a:cubicBezTo>
                  <a:cubicBezTo>
                    <a:pt x="509" y="608"/>
                    <a:pt x="572" y="577"/>
                    <a:pt x="620" y="548"/>
                  </a:cubicBezTo>
                  <a:lnTo>
                    <a:pt x="744" y="464"/>
                  </a:lnTo>
                  <a:cubicBezTo>
                    <a:pt x="774" y="445"/>
                    <a:pt x="795" y="438"/>
                    <a:pt x="800" y="432"/>
                  </a:cubicBezTo>
                  <a:lnTo>
                    <a:pt x="772" y="428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6315840" y="4434120"/>
              <a:ext cx="163080" cy="910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74" h="125">
                  <a:moveTo>
                    <a:pt x="6" y="70"/>
                  </a:moveTo>
                  <a:cubicBezTo>
                    <a:pt x="11" y="51"/>
                    <a:pt x="77" y="22"/>
                    <a:pt x="77" y="22"/>
                  </a:cubicBezTo>
                  <a:cubicBezTo>
                    <a:pt x="77" y="22"/>
                    <a:pt x="181" y="2"/>
                    <a:pt x="181" y="2"/>
                  </a:cubicBezTo>
                  <a:cubicBezTo>
                    <a:pt x="181" y="2"/>
                    <a:pt x="249" y="0"/>
                    <a:pt x="249" y="0"/>
                  </a:cubicBezTo>
                  <a:cubicBezTo>
                    <a:pt x="267" y="4"/>
                    <a:pt x="274" y="15"/>
                    <a:pt x="266" y="32"/>
                  </a:cubicBezTo>
                  <a:cubicBezTo>
                    <a:pt x="257" y="48"/>
                    <a:pt x="217" y="85"/>
                    <a:pt x="193" y="101"/>
                  </a:cubicBezTo>
                  <a:cubicBezTo>
                    <a:pt x="193" y="101"/>
                    <a:pt x="142" y="124"/>
                    <a:pt x="123" y="125"/>
                  </a:cubicBezTo>
                  <a:cubicBezTo>
                    <a:pt x="105" y="125"/>
                    <a:pt x="48" y="108"/>
                    <a:pt x="48" y="108"/>
                  </a:cubicBezTo>
                  <a:cubicBezTo>
                    <a:pt x="27" y="96"/>
                    <a:pt x="0" y="88"/>
                    <a:pt x="6" y="70"/>
                  </a:cubicBezTo>
                  <a:close/>
                </a:path>
              </a:pathLst>
            </a:custGeom>
            <a:solidFill>
              <a:srgbClr val="5601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 rot="21390600">
              <a:off x="6338160" y="2587680"/>
              <a:ext cx="1026000" cy="158256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1582560"/>
                <a:gd name="textAreaBottom" fmla="*/ 1582920 h 15825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 flipH="1" rot="21262800">
              <a:off x="5318640" y="2654280"/>
              <a:ext cx="992880" cy="1692000"/>
            </a:xfrm>
            <a:custGeom>
              <a:avLst/>
              <a:gdLst>
                <a:gd name="textAreaLeft" fmla="*/ 360 w 992880"/>
                <a:gd name="textAreaRight" fmla="*/ 993600 w 99288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 flipH="1" rot="21262800">
              <a:off x="5363280" y="2629440"/>
              <a:ext cx="892440" cy="1180800"/>
            </a:xfrm>
            <a:custGeom>
              <a:avLst/>
              <a:gdLst>
                <a:gd name="textAreaLeft" fmla="*/ -360 w 892440"/>
                <a:gd name="textAreaRight" fmla="*/ 892440 w 89244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 rot="337200">
              <a:off x="6185880" y="2632680"/>
              <a:ext cx="674640" cy="10432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26"/>
          <p:cNvSpPr/>
          <p:nvPr/>
        </p:nvSpPr>
        <p:spPr>
          <a:xfrm>
            <a:off x="768240" y="1498680"/>
            <a:ext cx="789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e0000"/>
                </a:solidFill>
                <a:latin typeface="Bradley Hand ITC"/>
              </a:rPr>
              <a:t>L</a:t>
            </a:r>
            <a:r>
              <a:rPr b="1" lang="fr-FR" sz="9600" spc="-1" strike="noStrike">
                <a:solidFill>
                  <a:srgbClr val="fe6100"/>
                </a:solidFill>
                <a:latin typeface="Bradley Hand ITC"/>
              </a:rPr>
              <a:t>a</a:t>
            </a:r>
            <a:r>
              <a:rPr b="1" lang="fr-FR" sz="9600" spc="-1" strike="noStrike">
                <a:solidFill>
                  <a:srgbClr val="004a48"/>
                </a:solidFill>
                <a:latin typeface="Bradley Hand ITC"/>
              </a:rPr>
              <a:t> </a:t>
            </a:r>
            <a:r>
              <a:rPr b="1" lang="fr-FR" sz="9600" spc="-1" strike="noStrike">
                <a:solidFill>
                  <a:srgbClr val="c3ff01"/>
                </a:solidFill>
                <a:latin typeface="Bradley Hand ITC"/>
              </a:rPr>
              <a:t>P</a:t>
            </a:r>
            <a:r>
              <a:rPr b="1" lang="fr-FR" sz="9600" spc="-1" strike="noStrike">
                <a:solidFill>
                  <a:srgbClr val="8cff01"/>
                </a:solidFill>
                <a:latin typeface="Bradley Hand ITC"/>
              </a:rPr>
              <a:t>ê</a:t>
            </a:r>
            <a:r>
              <a:rPr b="1" lang="fr-FR" sz="9600" spc="-1" strike="noStrike">
                <a:solidFill>
                  <a:srgbClr val="01ff50"/>
                </a:solidFill>
                <a:latin typeface="Bradley Hand ITC"/>
              </a:rPr>
              <a:t>c</a:t>
            </a:r>
            <a:r>
              <a:rPr b="1" lang="fr-FR" sz="9600" spc="-1" strike="noStrike">
                <a:solidFill>
                  <a:srgbClr val="01ffff"/>
                </a:solidFill>
                <a:latin typeface="Bradley Hand ITC"/>
              </a:rPr>
              <a:t>h</a:t>
            </a:r>
            <a:r>
              <a:rPr b="1" lang="fr-FR" sz="9600" spc="-1" strike="noStrike">
                <a:solidFill>
                  <a:srgbClr val="0168ff"/>
                </a:solidFill>
                <a:latin typeface="Bradley Hand ITC"/>
              </a:rPr>
              <a:t>e</a:t>
            </a:r>
            <a:r>
              <a:rPr b="1" lang="fr-FR" sz="9600" spc="-1" strike="noStrike">
                <a:solidFill>
                  <a:srgbClr val="5601ff"/>
                </a:solidFill>
                <a:latin typeface="Bradley Hand ITC"/>
              </a:rPr>
              <a:t>L</a:t>
            </a:r>
            <a:r>
              <a:rPr b="1" lang="fr-FR" sz="9600" spc="-1" strike="noStrike">
                <a:solidFill>
                  <a:srgbClr val="db01ff"/>
                </a:solidFill>
                <a:latin typeface="Bradley Hand ITC"/>
              </a:rPr>
              <a:t>i</a:t>
            </a:r>
            <a:r>
              <a:rPr b="1" lang="fr-FR" sz="9600" spc="-1" strike="noStrike">
                <a:solidFill>
                  <a:srgbClr val="fe02b6"/>
                </a:solidFill>
                <a:latin typeface="Bradley Hand ITC"/>
              </a:rPr>
              <a:t>r</a:t>
            </a:r>
            <a:r>
              <a:rPr b="1" lang="fr-FR" sz="9600" spc="-1" strike="noStrike">
                <a:solidFill>
                  <a:srgbClr val="ff0101"/>
                </a:solidFill>
                <a:latin typeface="Bradley Hand ITC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e 24"/>
          <p:cNvGrpSpPr/>
          <p:nvPr/>
        </p:nvGrpSpPr>
        <p:grpSpPr>
          <a:xfrm>
            <a:off x="-642240" y="749160"/>
            <a:ext cx="10226880" cy="4800600"/>
            <a:chOff x="-642240" y="749160"/>
            <a:chExt cx="10226880" cy="4800600"/>
          </a:xfrm>
        </p:grpSpPr>
        <p:grpSp>
          <p:nvGrpSpPr>
            <p:cNvPr id="177" name="AutoShape 2"/>
            <p:cNvGrpSpPr/>
            <p:nvPr/>
          </p:nvGrpSpPr>
          <p:grpSpPr>
            <a:xfrm>
              <a:off x="82440" y="749160"/>
              <a:ext cx="8967960" cy="4800600"/>
              <a:chOff x="82440" y="749160"/>
              <a:chExt cx="8967960" cy="4800600"/>
            </a:xfrm>
          </p:grpSpPr>
          <p:pic>
            <p:nvPicPr>
              <p:cNvPr id="178" name="AutoShap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40" y="749160"/>
                <a:ext cx="896796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248040" y="914040"/>
                <a:ext cx="8643960" cy="447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e 26"/>
            <p:cNvGrpSpPr/>
            <p:nvPr/>
          </p:nvGrpSpPr>
          <p:grpSpPr>
            <a:xfrm>
              <a:off x="5031000" y="2543760"/>
              <a:ext cx="2860560" cy="2774520"/>
              <a:chOff x="5031000" y="2543760"/>
              <a:chExt cx="2860560" cy="2774520"/>
            </a:xfrm>
          </p:grpSpPr>
          <p:sp>
            <p:nvSpPr>
              <p:cNvPr id="181" name="Freeform 5"/>
              <p:cNvSpPr/>
              <p:nvPr/>
            </p:nvSpPr>
            <p:spPr>
              <a:xfrm>
                <a:off x="6851880" y="4561560"/>
                <a:ext cx="908280" cy="212400"/>
              </a:xfrm>
              <a:custGeom>
                <a:avLst/>
                <a:gdLst>
                  <a:gd name="textAreaLeft" fmla="*/ 0 w 908280"/>
                  <a:gd name="textAreaRight" fmla="*/ 908640 w 90828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803" h="423">
                    <a:moveTo>
                      <a:pt x="3" y="423"/>
                    </a:moveTo>
                    <a:cubicBezTo>
                      <a:pt x="0" y="419"/>
                      <a:pt x="37" y="373"/>
                      <a:pt x="80" y="351"/>
                    </a:cubicBezTo>
                    <a:cubicBezTo>
                      <a:pt x="123" y="329"/>
                      <a:pt x="164" y="313"/>
                      <a:pt x="262" y="288"/>
                    </a:cubicBezTo>
                    <a:cubicBezTo>
                      <a:pt x="360" y="263"/>
                      <a:pt x="532" y="228"/>
                      <a:pt x="666" y="202"/>
                    </a:cubicBezTo>
                    <a:cubicBezTo>
                      <a:pt x="800" y="176"/>
                      <a:pt x="920" y="157"/>
                      <a:pt x="1069" y="130"/>
                    </a:cubicBezTo>
                    <a:lnTo>
                      <a:pt x="1558" y="43"/>
                    </a:lnTo>
                    <a:lnTo>
                      <a:pt x="1803" y="0"/>
                    </a:lnTo>
                    <a:lnTo>
                      <a:pt x="1491" y="106"/>
                    </a:lnTo>
                    <a:lnTo>
                      <a:pt x="1232" y="183"/>
                    </a:lnTo>
                    <a:cubicBezTo>
                      <a:pt x="1165" y="201"/>
                      <a:pt x="1144" y="204"/>
                      <a:pt x="1088" y="216"/>
                    </a:cubicBezTo>
                    <a:cubicBezTo>
                      <a:pt x="1032" y="228"/>
                      <a:pt x="974" y="241"/>
                      <a:pt x="896" y="255"/>
                    </a:cubicBezTo>
                    <a:cubicBezTo>
                      <a:pt x="818" y="269"/>
                      <a:pt x="710" y="285"/>
                      <a:pt x="622" y="298"/>
                    </a:cubicBezTo>
                    <a:cubicBezTo>
                      <a:pt x="534" y="311"/>
                      <a:pt x="435" y="323"/>
                      <a:pt x="368" y="331"/>
                    </a:cubicBezTo>
                    <a:cubicBezTo>
                      <a:pt x="368" y="331"/>
                      <a:pt x="264" y="339"/>
                      <a:pt x="219" y="346"/>
                    </a:cubicBezTo>
                    <a:cubicBezTo>
                      <a:pt x="174" y="353"/>
                      <a:pt x="135" y="362"/>
                      <a:pt x="99" y="375"/>
                    </a:cubicBezTo>
                    <a:cubicBezTo>
                      <a:pt x="63" y="388"/>
                      <a:pt x="23" y="413"/>
                      <a:pt x="3" y="4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6"/>
              <p:cNvSpPr/>
              <p:nvPr/>
            </p:nvSpPr>
            <p:spPr>
              <a:xfrm>
                <a:off x="6788520" y="4500360"/>
                <a:ext cx="926280" cy="226800"/>
              </a:xfrm>
              <a:custGeom>
                <a:avLst/>
                <a:gdLst>
                  <a:gd name="textAreaLeft" fmla="*/ 0 w 926280"/>
                  <a:gd name="textAreaRight" fmla="*/ 926640 w 926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1732" h="432">
                    <a:moveTo>
                      <a:pt x="0" y="432"/>
                    </a:moveTo>
                    <a:cubicBezTo>
                      <a:pt x="9" y="424"/>
                      <a:pt x="31" y="382"/>
                      <a:pt x="60" y="357"/>
                    </a:cubicBezTo>
                    <a:cubicBezTo>
                      <a:pt x="89" y="332"/>
                      <a:pt x="135" y="300"/>
                      <a:pt x="177" y="279"/>
                    </a:cubicBezTo>
                    <a:cubicBezTo>
                      <a:pt x="219" y="258"/>
                      <a:pt x="266" y="241"/>
                      <a:pt x="312" y="231"/>
                    </a:cubicBezTo>
                    <a:cubicBezTo>
                      <a:pt x="358" y="221"/>
                      <a:pt x="401" y="221"/>
                      <a:pt x="453" y="219"/>
                    </a:cubicBezTo>
                    <a:cubicBezTo>
                      <a:pt x="505" y="217"/>
                      <a:pt x="558" y="220"/>
                      <a:pt x="624" y="219"/>
                    </a:cubicBezTo>
                    <a:cubicBezTo>
                      <a:pt x="690" y="218"/>
                      <a:pt x="783" y="215"/>
                      <a:pt x="852" y="210"/>
                    </a:cubicBezTo>
                    <a:cubicBezTo>
                      <a:pt x="921" y="205"/>
                      <a:pt x="972" y="197"/>
                      <a:pt x="1041" y="186"/>
                    </a:cubicBezTo>
                    <a:cubicBezTo>
                      <a:pt x="1110" y="175"/>
                      <a:pt x="1191" y="160"/>
                      <a:pt x="1269" y="144"/>
                    </a:cubicBezTo>
                    <a:cubicBezTo>
                      <a:pt x="1347" y="128"/>
                      <a:pt x="1441" y="107"/>
                      <a:pt x="1512" y="87"/>
                    </a:cubicBezTo>
                    <a:cubicBezTo>
                      <a:pt x="1583" y="67"/>
                      <a:pt x="1657" y="35"/>
                      <a:pt x="1692" y="21"/>
                    </a:cubicBezTo>
                    <a:cubicBezTo>
                      <a:pt x="1727" y="7"/>
                      <a:pt x="1732" y="0"/>
                      <a:pt x="1722" y="0"/>
                    </a:cubicBezTo>
                    <a:cubicBezTo>
                      <a:pt x="1712" y="0"/>
                      <a:pt x="1682" y="8"/>
                      <a:pt x="1629" y="21"/>
                    </a:cubicBezTo>
                    <a:cubicBezTo>
                      <a:pt x="1576" y="34"/>
                      <a:pt x="1480" y="65"/>
                      <a:pt x="1401" y="81"/>
                    </a:cubicBezTo>
                    <a:cubicBezTo>
                      <a:pt x="1322" y="97"/>
                      <a:pt x="1249" y="107"/>
                      <a:pt x="1152" y="120"/>
                    </a:cubicBezTo>
                    <a:cubicBezTo>
                      <a:pt x="1055" y="133"/>
                      <a:pt x="926" y="147"/>
                      <a:pt x="816" y="156"/>
                    </a:cubicBezTo>
                    <a:cubicBezTo>
                      <a:pt x="706" y="165"/>
                      <a:pt x="577" y="166"/>
                      <a:pt x="492" y="171"/>
                    </a:cubicBezTo>
                    <a:cubicBezTo>
                      <a:pt x="407" y="176"/>
                      <a:pt x="359" y="178"/>
                      <a:pt x="306" y="189"/>
                    </a:cubicBezTo>
                    <a:cubicBezTo>
                      <a:pt x="253" y="200"/>
                      <a:pt x="209" y="223"/>
                      <a:pt x="174" y="240"/>
                    </a:cubicBezTo>
                    <a:cubicBezTo>
                      <a:pt x="139" y="257"/>
                      <a:pt x="115" y="276"/>
                      <a:pt x="93" y="294"/>
                    </a:cubicBezTo>
                    <a:cubicBezTo>
                      <a:pt x="71" y="312"/>
                      <a:pt x="53" y="329"/>
                      <a:pt x="39" y="348"/>
                    </a:cubicBezTo>
                    <a:cubicBezTo>
                      <a:pt x="25" y="367"/>
                      <a:pt x="12" y="391"/>
                      <a:pt x="6" y="405"/>
                    </a:cubicBezTo>
                    <a:cubicBezTo>
                      <a:pt x="0" y="419"/>
                      <a:pt x="1" y="427"/>
                      <a:pt x="0" y="4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7"/>
              <p:cNvSpPr/>
              <p:nvPr/>
            </p:nvSpPr>
            <p:spPr>
              <a:xfrm>
                <a:off x="6718320" y="4616640"/>
                <a:ext cx="88200" cy="11628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77" h="229">
                    <a:moveTo>
                      <a:pt x="177" y="0"/>
                    </a:moveTo>
                    <a:cubicBezTo>
                      <a:pt x="167" y="3"/>
                      <a:pt x="131" y="23"/>
                      <a:pt x="108" y="42"/>
                    </a:cubicBezTo>
                    <a:cubicBezTo>
                      <a:pt x="85" y="61"/>
                      <a:pt x="56" y="93"/>
                      <a:pt x="39" y="114"/>
                    </a:cubicBezTo>
                    <a:cubicBezTo>
                      <a:pt x="22" y="135"/>
                      <a:pt x="12" y="154"/>
                      <a:pt x="6" y="171"/>
                    </a:cubicBezTo>
                    <a:cubicBezTo>
                      <a:pt x="0" y="188"/>
                      <a:pt x="1" y="207"/>
                      <a:pt x="3" y="216"/>
                    </a:cubicBezTo>
                    <a:cubicBezTo>
                      <a:pt x="5" y="225"/>
                      <a:pt x="12" y="227"/>
                      <a:pt x="21" y="228"/>
                    </a:cubicBezTo>
                    <a:cubicBezTo>
                      <a:pt x="30" y="229"/>
                      <a:pt x="49" y="226"/>
                      <a:pt x="57" y="219"/>
                    </a:cubicBezTo>
                    <a:cubicBezTo>
                      <a:pt x="65" y="212"/>
                      <a:pt x="68" y="199"/>
                      <a:pt x="72" y="186"/>
                    </a:cubicBezTo>
                    <a:cubicBezTo>
                      <a:pt x="76" y="173"/>
                      <a:pt x="78" y="153"/>
                      <a:pt x="84" y="138"/>
                    </a:cubicBezTo>
                    <a:cubicBezTo>
                      <a:pt x="90" y="123"/>
                      <a:pt x="100" y="107"/>
                      <a:pt x="108" y="93"/>
                    </a:cubicBezTo>
                    <a:cubicBezTo>
                      <a:pt x="116" y="79"/>
                      <a:pt x="126" y="63"/>
                      <a:pt x="135" y="51"/>
                    </a:cubicBezTo>
                    <a:cubicBezTo>
                      <a:pt x="144" y="39"/>
                      <a:pt x="158" y="29"/>
                      <a:pt x="165" y="21"/>
                    </a:cubicBezTo>
                    <a:cubicBezTo>
                      <a:pt x="172" y="13"/>
                      <a:pt x="175" y="4"/>
                      <a:pt x="17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8"/>
              <p:cNvSpPr/>
              <p:nvPr/>
            </p:nvSpPr>
            <p:spPr>
              <a:xfrm>
                <a:off x="6591240" y="4526640"/>
                <a:ext cx="489240" cy="251280"/>
              </a:xfrm>
              <a:custGeom>
                <a:avLst/>
                <a:gdLst>
                  <a:gd name="textAreaLeft" fmla="*/ 0 w 489240"/>
                  <a:gd name="textAreaRight" fmla="*/ 489600 w 48924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9"/>
              <p:cNvSpPr/>
              <p:nvPr/>
            </p:nvSpPr>
            <p:spPr>
              <a:xfrm rot="21432600">
                <a:off x="6520680" y="4402080"/>
                <a:ext cx="1293480" cy="310680"/>
              </a:xfrm>
              <a:custGeom>
                <a:avLst/>
                <a:gdLst>
                  <a:gd name="textAreaLeft" fmla="*/ 0 w 1293480"/>
                  <a:gd name="textAreaRight" fmla="*/ 1293840 w 129348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2308" h="538">
                    <a:moveTo>
                      <a:pt x="0" y="526"/>
                    </a:moveTo>
                    <a:cubicBezTo>
                      <a:pt x="4" y="506"/>
                      <a:pt x="15" y="444"/>
                      <a:pt x="26" y="408"/>
                    </a:cubicBezTo>
                    <a:cubicBezTo>
                      <a:pt x="37" y="372"/>
                      <a:pt x="47" y="344"/>
                      <a:pt x="64" y="312"/>
                    </a:cubicBezTo>
                    <a:cubicBezTo>
                      <a:pt x="81" y="280"/>
                      <a:pt x="104" y="245"/>
                      <a:pt x="128" y="218"/>
                    </a:cubicBezTo>
                    <a:cubicBezTo>
                      <a:pt x="152" y="191"/>
                      <a:pt x="176" y="169"/>
                      <a:pt x="206" y="150"/>
                    </a:cubicBezTo>
                    <a:cubicBezTo>
                      <a:pt x="236" y="131"/>
                      <a:pt x="270" y="117"/>
                      <a:pt x="310" y="106"/>
                    </a:cubicBezTo>
                    <a:cubicBezTo>
                      <a:pt x="350" y="95"/>
                      <a:pt x="400" y="89"/>
                      <a:pt x="448" y="84"/>
                    </a:cubicBezTo>
                    <a:cubicBezTo>
                      <a:pt x="496" y="79"/>
                      <a:pt x="538" y="76"/>
                      <a:pt x="596" y="78"/>
                    </a:cubicBezTo>
                    <a:cubicBezTo>
                      <a:pt x="654" y="80"/>
                      <a:pt x="738" y="89"/>
                      <a:pt x="798" y="94"/>
                    </a:cubicBezTo>
                    <a:lnTo>
                      <a:pt x="956" y="106"/>
                    </a:lnTo>
                    <a:cubicBezTo>
                      <a:pt x="1013" y="109"/>
                      <a:pt x="1077" y="115"/>
                      <a:pt x="1142" y="114"/>
                    </a:cubicBezTo>
                    <a:cubicBezTo>
                      <a:pt x="1207" y="113"/>
                      <a:pt x="1278" y="105"/>
                      <a:pt x="1344" y="98"/>
                    </a:cubicBezTo>
                    <a:lnTo>
                      <a:pt x="1538" y="72"/>
                    </a:lnTo>
                    <a:cubicBezTo>
                      <a:pt x="1601" y="63"/>
                      <a:pt x="1660" y="53"/>
                      <a:pt x="1720" y="42"/>
                    </a:cubicBezTo>
                    <a:cubicBezTo>
                      <a:pt x="1780" y="31"/>
                      <a:pt x="1861" y="15"/>
                      <a:pt x="1896" y="8"/>
                    </a:cubicBezTo>
                    <a:lnTo>
                      <a:pt x="1928" y="0"/>
                    </a:lnTo>
                    <a:lnTo>
                      <a:pt x="2258" y="252"/>
                    </a:lnTo>
                    <a:cubicBezTo>
                      <a:pt x="2308" y="292"/>
                      <a:pt x="2238" y="246"/>
                      <a:pt x="2226" y="240"/>
                    </a:cubicBezTo>
                    <a:cubicBezTo>
                      <a:pt x="2214" y="234"/>
                      <a:pt x="2236" y="247"/>
                      <a:pt x="2186" y="214"/>
                    </a:cubicBezTo>
                    <a:cubicBezTo>
                      <a:pt x="2136" y="181"/>
                      <a:pt x="1972" y="71"/>
                      <a:pt x="1928" y="40"/>
                    </a:cubicBezTo>
                    <a:lnTo>
                      <a:pt x="1920" y="30"/>
                    </a:lnTo>
                    <a:cubicBezTo>
                      <a:pt x="1912" y="31"/>
                      <a:pt x="1905" y="37"/>
                      <a:pt x="1882" y="44"/>
                    </a:cubicBezTo>
                    <a:cubicBezTo>
                      <a:pt x="1859" y="51"/>
                      <a:pt x="1820" y="63"/>
                      <a:pt x="1780" y="72"/>
                    </a:cubicBezTo>
                    <a:lnTo>
                      <a:pt x="1640" y="100"/>
                    </a:lnTo>
                    <a:lnTo>
                      <a:pt x="1522" y="122"/>
                    </a:lnTo>
                    <a:cubicBezTo>
                      <a:pt x="1472" y="131"/>
                      <a:pt x="1398" y="146"/>
                      <a:pt x="1338" y="154"/>
                    </a:cubicBezTo>
                    <a:cubicBezTo>
                      <a:pt x="1278" y="162"/>
                      <a:pt x="1226" y="166"/>
                      <a:pt x="1164" y="168"/>
                    </a:cubicBezTo>
                    <a:cubicBezTo>
                      <a:pt x="1102" y="170"/>
                      <a:pt x="1023" y="167"/>
                      <a:pt x="964" y="164"/>
                    </a:cubicBezTo>
                    <a:cubicBezTo>
                      <a:pt x="904" y="162"/>
                      <a:pt x="862" y="155"/>
                      <a:pt x="808" y="150"/>
                    </a:cubicBezTo>
                    <a:cubicBezTo>
                      <a:pt x="754" y="145"/>
                      <a:pt x="687" y="136"/>
                      <a:pt x="642" y="132"/>
                    </a:cubicBezTo>
                    <a:cubicBezTo>
                      <a:pt x="597" y="128"/>
                      <a:pt x="580" y="127"/>
                      <a:pt x="536" y="128"/>
                    </a:cubicBezTo>
                    <a:cubicBezTo>
                      <a:pt x="493" y="128"/>
                      <a:pt x="425" y="130"/>
                      <a:pt x="380" y="136"/>
                    </a:cubicBezTo>
                    <a:cubicBezTo>
                      <a:pt x="335" y="142"/>
                      <a:pt x="300" y="153"/>
                      <a:pt x="266" y="166"/>
                    </a:cubicBezTo>
                    <a:cubicBezTo>
                      <a:pt x="232" y="179"/>
                      <a:pt x="205" y="195"/>
                      <a:pt x="178" y="216"/>
                    </a:cubicBezTo>
                    <a:cubicBezTo>
                      <a:pt x="151" y="237"/>
                      <a:pt x="125" y="260"/>
                      <a:pt x="104" y="290"/>
                    </a:cubicBezTo>
                    <a:cubicBezTo>
                      <a:pt x="83" y="320"/>
                      <a:pt x="66" y="366"/>
                      <a:pt x="54" y="394"/>
                    </a:cubicBezTo>
                    <a:lnTo>
                      <a:pt x="32" y="456"/>
                    </a:lnTo>
                    <a:lnTo>
                      <a:pt x="14" y="530"/>
                    </a:lnTo>
                    <a:lnTo>
                      <a:pt x="2" y="53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"/>
              <p:cNvSpPr/>
              <p:nvPr/>
            </p:nvSpPr>
            <p:spPr>
              <a:xfrm>
                <a:off x="6353280" y="3980880"/>
                <a:ext cx="740520" cy="236880"/>
              </a:xfrm>
              <a:custGeom>
                <a:avLst/>
                <a:gdLst>
                  <a:gd name="textAreaLeft" fmla="*/ 0 w 740520"/>
                  <a:gd name="textAreaRight" fmla="*/ 740880 w 74052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1470" h="471">
                    <a:moveTo>
                      <a:pt x="2" y="459"/>
                    </a:moveTo>
                    <a:cubicBezTo>
                      <a:pt x="5" y="454"/>
                      <a:pt x="0" y="465"/>
                      <a:pt x="11" y="444"/>
                    </a:cubicBezTo>
                    <a:cubicBezTo>
                      <a:pt x="22" y="423"/>
                      <a:pt x="42" y="368"/>
                      <a:pt x="66" y="331"/>
                    </a:cubicBezTo>
                    <a:cubicBezTo>
                      <a:pt x="90" y="294"/>
                      <a:pt x="123" y="253"/>
                      <a:pt x="153" y="220"/>
                    </a:cubicBezTo>
                    <a:cubicBezTo>
                      <a:pt x="183" y="187"/>
                      <a:pt x="214" y="157"/>
                      <a:pt x="246" y="133"/>
                    </a:cubicBezTo>
                    <a:cubicBezTo>
                      <a:pt x="278" y="109"/>
                      <a:pt x="307" y="92"/>
                      <a:pt x="344" y="76"/>
                    </a:cubicBezTo>
                    <a:cubicBezTo>
                      <a:pt x="381" y="60"/>
                      <a:pt x="424" y="49"/>
                      <a:pt x="467" y="39"/>
                    </a:cubicBezTo>
                    <a:cubicBezTo>
                      <a:pt x="510" y="29"/>
                      <a:pt x="543" y="23"/>
                      <a:pt x="603" y="18"/>
                    </a:cubicBezTo>
                    <a:cubicBezTo>
                      <a:pt x="663" y="13"/>
                      <a:pt x="754" y="11"/>
                      <a:pt x="827" y="9"/>
                    </a:cubicBezTo>
                    <a:cubicBezTo>
                      <a:pt x="900" y="7"/>
                      <a:pt x="969" y="4"/>
                      <a:pt x="1043" y="4"/>
                    </a:cubicBezTo>
                    <a:cubicBezTo>
                      <a:pt x="1117" y="4"/>
                      <a:pt x="1208" y="10"/>
                      <a:pt x="1274" y="10"/>
                    </a:cubicBezTo>
                    <a:cubicBezTo>
                      <a:pt x="1340" y="10"/>
                      <a:pt x="1410" y="2"/>
                      <a:pt x="1440" y="1"/>
                    </a:cubicBezTo>
                    <a:cubicBezTo>
                      <a:pt x="1470" y="0"/>
                      <a:pt x="1457" y="1"/>
                      <a:pt x="1455" y="4"/>
                    </a:cubicBezTo>
                    <a:cubicBezTo>
                      <a:pt x="1453" y="7"/>
                      <a:pt x="1440" y="17"/>
                      <a:pt x="1427" y="21"/>
                    </a:cubicBezTo>
                    <a:cubicBezTo>
                      <a:pt x="1414" y="25"/>
                      <a:pt x="1409" y="25"/>
                      <a:pt x="1376" y="28"/>
                    </a:cubicBezTo>
                    <a:cubicBezTo>
                      <a:pt x="1343" y="31"/>
                      <a:pt x="1274" y="38"/>
                      <a:pt x="1227" y="42"/>
                    </a:cubicBezTo>
                    <a:cubicBezTo>
                      <a:pt x="1180" y="46"/>
                      <a:pt x="1152" y="44"/>
                      <a:pt x="1095" y="46"/>
                    </a:cubicBezTo>
                    <a:cubicBezTo>
                      <a:pt x="1038" y="48"/>
                      <a:pt x="953" y="53"/>
                      <a:pt x="887" y="56"/>
                    </a:cubicBezTo>
                    <a:cubicBezTo>
                      <a:pt x="821" y="59"/>
                      <a:pt x="755" y="62"/>
                      <a:pt x="699" y="66"/>
                    </a:cubicBezTo>
                    <a:cubicBezTo>
                      <a:pt x="643" y="70"/>
                      <a:pt x="592" y="76"/>
                      <a:pt x="549" y="82"/>
                    </a:cubicBezTo>
                    <a:cubicBezTo>
                      <a:pt x="506" y="88"/>
                      <a:pt x="476" y="97"/>
                      <a:pt x="443" y="105"/>
                    </a:cubicBezTo>
                    <a:cubicBezTo>
                      <a:pt x="410" y="113"/>
                      <a:pt x="381" y="121"/>
                      <a:pt x="353" y="132"/>
                    </a:cubicBezTo>
                    <a:cubicBezTo>
                      <a:pt x="325" y="143"/>
                      <a:pt x="301" y="153"/>
                      <a:pt x="275" y="169"/>
                    </a:cubicBezTo>
                    <a:cubicBezTo>
                      <a:pt x="275" y="169"/>
                      <a:pt x="220" y="205"/>
                      <a:pt x="198" y="225"/>
                    </a:cubicBezTo>
                    <a:cubicBezTo>
                      <a:pt x="176" y="245"/>
                      <a:pt x="155" y="270"/>
                      <a:pt x="137" y="289"/>
                    </a:cubicBezTo>
                    <a:cubicBezTo>
                      <a:pt x="119" y="308"/>
                      <a:pt x="109" y="324"/>
                      <a:pt x="98" y="340"/>
                    </a:cubicBezTo>
                    <a:lnTo>
                      <a:pt x="65" y="390"/>
                    </a:lnTo>
                    <a:cubicBezTo>
                      <a:pt x="52" y="410"/>
                      <a:pt x="27" y="449"/>
                      <a:pt x="17" y="462"/>
                    </a:cubicBezTo>
                    <a:lnTo>
                      <a:pt x="6" y="471"/>
                    </a:lnTo>
                    <a:lnTo>
                      <a:pt x="2" y="45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1"/>
              <p:cNvSpPr/>
              <p:nvPr/>
            </p:nvSpPr>
            <p:spPr>
              <a:xfrm>
                <a:off x="7094160" y="3995280"/>
                <a:ext cx="482400" cy="34128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960" h="680">
                    <a:moveTo>
                      <a:pt x="0" y="0"/>
                    </a:moveTo>
                    <a:lnTo>
                      <a:pt x="144" y="112"/>
                    </a:lnTo>
                    <a:lnTo>
                      <a:pt x="328" y="264"/>
                    </a:lnTo>
                    <a:lnTo>
                      <a:pt x="536" y="412"/>
                    </a:lnTo>
                    <a:lnTo>
                      <a:pt x="700" y="516"/>
                    </a:lnTo>
                    <a:lnTo>
                      <a:pt x="844" y="612"/>
                    </a:lnTo>
                    <a:lnTo>
                      <a:pt x="960" y="680"/>
                    </a:lnTo>
                    <a:lnTo>
                      <a:pt x="712" y="476"/>
                    </a:lnTo>
                    <a:lnTo>
                      <a:pt x="536" y="344"/>
                    </a:lnTo>
                    <a:lnTo>
                      <a:pt x="308" y="192"/>
                    </a:lnTo>
                    <a:lnTo>
                      <a:pt x="104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"/>
              <p:cNvSpPr/>
              <p:nvPr/>
            </p:nvSpPr>
            <p:spPr>
              <a:xfrm>
                <a:off x="6643440" y="4502160"/>
                <a:ext cx="1248120" cy="375840"/>
              </a:xfrm>
              <a:custGeom>
                <a:avLst/>
                <a:gdLst>
                  <a:gd name="textAreaLeft" fmla="*/ 0 w 1248120"/>
                  <a:gd name="textAreaRight" fmla="*/ 1248480 w 12481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2040" h="612">
                    <a:moveTo>
                      <a:pt x="0" y="528"/>
                    </a:moveTo>
                    <a:lnTo>
                      <a:pt x="2000" y="68"/>
                    </a:lnTo>
                    <a:lnTo>
                      <a:pt x="1888" y="0"/>
                    </a:lnTo>
                    <a:lnTo>
                      <a:pt x="2040" y="72"/>
                    </a:lnTo>
                    <a:lnTo>
                      <a:pt x="16" y="612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3"/>
              <p:cNvSpPr/>
              <p:nvPr/>
            </p:nvSpPr>
            <p:spPr>
              <a:xfrm flipH="1" rot="20490600">
                <a:off x="5946840" y="4630680"/>
                <a:ext cx="516240" cy="175680"/>
              </a:xfrm>
              <a:custGeom>
                <a:avLst/>
                <a:gdLst>
                  <a:gd name="textAreaLeft" fmla="*/ 360 w 516240"/>
                  <a:gd name="textAreaRight" fmla="*/ 516960 w 51624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 rot="1374000">
                <a:off x="5505840" y="4469040"/>
                <a:ext cx="921960" cy="461880"/>
              </a:xfrm>
              <a:custGeom>
                <a:avLst/>
                <a:gdLst>
                  <a:gd name="textAreaLeft" fmla="*/ 0 w 921960"/>
                  <a:gd name="textAreaRight" fmla="*/ 922320 w 92196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1516" h="1039">
                    <a:moveTo>
                      <a:pt x="0" y="1039"/>
                    </a:moveTo>
                    <a:cubicBezTo>
                      <a:pt x="31" y="1017"/>
                      <a:pt x="168" y="942"/>
                      <a:pt x="234" y="898"/>
                    </a:cubicBezTo>
                    <a:cubicBezTo>
                      <a:pt x="300" y="854"/>
                      <a:pt x="342" y="823"/>
                      <a:pt x="399" y="772"/>
                    </a:cubicBezTo>
                    <a:cubicBezTo>
                      <a:pt x="456" y="721"/>
                      <a:pt x="520" y="654"/>
                      <a:pt x="576" y="592"/>
                    </a:cubicBezTo>
                    <a:cubicBezTo>
                      <a:pt x="632" y="530"/>
                      <a:pt x="688" y="456"/>
                      <a:pt x="738" y="397"/>
                    </a:cubicBezTo>
                    <a:cubicBezTo>
                      <a:pt x="788" y="338"/>
                      <a:pt x="830" y="285"/>
                      <a:pt x="873" y="238"/>
                    </a:cubicBezTo>
                    <a:cubicBezTo>
                      <a:pt x="916" y="191"/>
                      <a:pt x="958" y="147"/>
                      <a:pt x="999" y="115"/>
                    </a:cubicBezTo>
                    <a:cubicBezTo>
                      <a:pt x="1040" y="83"/>
                      <a:pt x="1077" y="61"/>
                      <a:pt x="1119" y="43"/>
                    </a:cubicBezTo>
                    <a:cubicBezTo>
                      <a:pt x="1161" y="25"/>
                      <a:pt x="1211" y="13"/>
                      <a:pt x="1254" y="7"/>
                    </a:cubicBezTo>
                    <a:cubicBezTo>
                      <a:pt x="1297" y="1"/>
                      <a:pt x="1345" y="0"/>
                      <a:pt x="1380" y="4"/>
                    </a:cubicBezTo>
                    <a:cubicBezTo>
                      <a:pt x="1415" y="8"/>
                      <a:pt x="1447" y="23"/>
                      <a:pt x="1467" y="31"/>
                    </a:cubicBezTo>
                    <a:cubicBezTo>
                      <a:pt x="1487" y="39"/>
                      <a:pt x="1516" y="55"/>
                      <a:pt x="1500" y="55"/>
                    </a:cubicBezTo>
                    <a:lnTo>
                      <a:pt x="1368" y="31"/>
                    </a:lnTo>
                    <a:cubicBezTo>
                      <a:pt x="1325" y="28"/>
                      <a:pt x="1280" y="31"/>
                      <a:pt x="1242" y="37"/>
                    </a:cubicBezTo>
                    <a:cubicBezTo>
                      <a:pt x="1204" y="43"/>
                      <a:pt x="1175" y="53"/>
                      <a:pt x="1140" y="70"/>
                    </a:cubicBezTo>
                    <a:cubicBezTo>
                      <a:pt x="1105" y="87"/>
                      <a:pt x="1064" y="117"/>
                      <a:pt x="1032" y="142"/>
                    </a:cubicBezTo>
                    <a:cubicBezTo>
                      <a:pt x="1000" y="167"/>
                      <a:pt x="973" y="197"/>
                      <a:pt x="948" y="223"/>
                    </a:cubicBezTo>
                    <a:cubicBezTo>
                      <a:pt x="923" y="249"/>
                      <a:pt x="908" y="268"/>
                      <a:pt x="882" y="301"/>
                    </a:cubicBezTo>
                    <a:cubicBezTo>
                      <a:pt x="856" y="334"/>
                      <a:pt x="824" y="380"/>
                      <a:pt x="789" y="424"/>
                    </a:cubicBezTo>
                    <a:cubicBezTo>
                      <a:pt x="754" y="468"/>
                      <a:pt x="709" y="519"/>
                      <a:pt x="672" y="562"/>
                    </a:cubicBezTo>
                    <a:cubicBezTo>
                      <a:pt x="635" y="605"/>
                      <a:pt x="607" y="640"/>
                      <a:pt x="567" y="679"/>
                    </a:cubicBezTo>
                    <a:cubicBezTo>
                      <a:pt x="527" y="718"/>
                      <a:pt x="474" y="763"/>
                      <a:pt x="429" y="799"/>
                    </a:cubicBezTo>
                    <a:cubicBezTo>
                      <a:pt x="384" y="835"/>
                      <a:pt x="339" y="863"/>
                      <a:pt x="294" y="892"/>
                    </a:cubicBezTo>
                    <a:cubicBezTo>
                      <a:pt x="249" y="921"/>
                      <a:pt x="197" y="953"/>
                      <a:pt x="156" y="976"/>
                    </a:cubicBezTo>
                    <a:cubicBezTo>
                      <a:pt x="115" y="999"/>
                      <a:pt x="71" y="1019"/>
                      <a:pt x="45" y="1030"/>
                    </a:cubicBezTo>
                    <a:lnTo>
                      <a:pt x="0" y="103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 rot="1374000">
                <a:off x="5865840" y="4624920"/>
                <a:ext cx="541440" cy="259560"/>
              </a:xfrm>
              <a:custGeom>
                <a:avLst/>
                <a:gdLst>
                  <a:gd name="textAreaLeft" fmla="*/ 0 w 541440"/>
                  <a:gd name="textAreaRight" fmla="*/ 541800 w 54144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894" h="549">
                    <a:moveTo>
                      <a:pt x="0" y="549"/>
                    </a:moveTo>
                    <a:cubicBezTo>
                      <a:pt x="0" y="549"/>
                      <a:pt x="174" y="405"/>
                      <a:pt x="174" y="405"/>
                    </a:cubicBezTo>
                    <a:cubicBezTo>
                      <a:pt x="174" y="405"/>
                      <a:pt x="294" y="300"/>
                      <a:pt x="294" y="300"/>
                    </a:cubicBezTo>
                    <a:cubicBezTo>
                      <a:pt x="294" y="300"/>
                      <a:pt x="403" y="199"/>
                      <a:pt x="441" y="162"/>
                    </a:cubicBezTo>
                    <a:cubicBezTo>
                      <a:pt x="479" y="125"/>
                      <a:pt x="495" y="100"/>
                      <a:pt x="522" y="78"/>
                    </a:cubicBezTo>
                    <a:cubicBezTo>
                      <a:pt x="549" y="56"/>
                      <a:pt x="580" y="41"/>
                      <a:pt x="603" y="30"/>
                    </a:cubicBezTo>
                    <a:cubicBezTo>
                      <a:pt x="626" y="19"/>
                      <a:pt x="635" y="13"/>
                      <a:pt x="663" y="9"/>
                    </a:cubicBezTo>
                    <a:cubicBezTo>
                      <a:pt x="691" y="5"/>
                      <a:pt x="738" y="0"/>
                      <a:pt x="771" y="3"/>
                    </a:cubicBezTo>
                    <a:cubicBezTo>
                      <a:pt x="804" y="6"/>
                      <a:pt x="840" y="18"/>
                      <a:pt x="861" y="27"/>
                    </a:cubicBezTo>
                    <a:cubicBezTo>
                      <a:pt x="882" y="36"/>
                      <a:pt x="894" y="53"/>
                      <a:pt x="894" y="57"/>
                    </a:cubicBezTo>
                    <a:cubicBezTo>
                      <a:pt x="894" y="61"/>
                      <a:pt x="879" y="55"/>
                      <a:pt x="864" y="51"/>
                    </a:cubicBezTo>
                    <a:cubicBezTo>
                      <a:pt x="849" y="47"/>
                      <a:pt x="822" y="36"/>
                      <a:pt x="801" y="33"/>
                    </a:cubicBezTo>
                    <a:cubicBezTo>
                      <a:pt x="780" y="30"/>
                      <a:pt x="761" y="28"/>
                      <a:pt x="735" y="33"/>
                    </a:cubicBezTo>
                    <a:cubicBezTo>
                      <a:pt x="709" y="38"/>
                      <a:pt x="669" y="53"/>
                      <a:pt x="642" y="66"/>
                    </a:cubicBezTo>
                    <a:cubicBezTo>
                      <a:pt x="615" y="79"/>
                      <a:pt x="594" y="94"/>
                      <a:pt x="573" y="111"/>
                    </a:cubicBezTo>
                    <a:cubicBezTo>
                      <a:pt x="552" y="128"/>
                      <a:pt x="535" y="143"/>
                      <a:pt x="513" y="165"/>
                    </a:cubicBezTo>
                    <a:cubicBezTo>
                      <a:pt x="491" y="187"/>
                      <a:pt x="466" y="213"/>
                      <a:pt x="441" y="234"/>
                    </a:cubicBezTo>
                    <a:cubicBezTo>
                      <a:pt x="415" y="257"/>
                      <a:pt x="387" y="279"/>
                      <a:pt x="357" y="303"/>
                    </a:cubicBezTo>
                    <a:cubicBezTo>
                      <a:pt x="327" y="327"/>
                      <a:pt x="294" y="352"/>
                      <a:pt x="261" y="378"/>
                    </a:cubicBezTo>
                    <a:cubicBezTo>
                      <a:pt x="228" y="404"/>
                      <a:pt x="192" y="436"/>
                      <a:pt x="159" y="459"/>
                    </a:cubicBezTo>
                    <a:cubicBezTo>
                      <a:pt x="126" y="482"/>
                      <a:pt x="92" y="498"/>
                      <a:pt x="66" y="513"/>
                    </a:cubicBez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 rot="1374000">
                <a:off x="5317920" y="4031640"/>
                <a:ext cx="1225440" cy="874800"/>
              </a:xfrm>
              <a:custGeom>
                <a:avLst/>
                <a:gdLst>
                  <a:gd name="textAreaLeft" fmla="*/ 0 w 1225440"/>
                  <a:gd name="textAreaRight" fmla="*/ 1225800 w 1225440"/>
                  <a:gd name="textAreaTop" fmla="*/ 0 h 874800"/>
                  <a:gd name="textAreaBottom" fmla="*/ 875160 h 874800"/>
                </a:gdLst>
                <a:ahLst/>
                <a:rect l="textAreaLeft" t="textAreaTop" r="textAreaRight" b="textAreaBottom"/>
                <a:pathLst>
                  <a:path w="2016" h="1850">
                    <a:moveTo>
                      <a:pt x="2016" y="884"/>
                    </a:moveTo>
                    <a:lnTo>
                      <a:pt x="1394" y="114"/>
                    </a:lnTo>
                    <a:lnTo>
                      <a:pt x="1364" y="80"/>
                    </a:lnTo>
                    <a:cubicBezTo>
                      <a:pt x="1339" y="69"/>
                      <a:pt x="1287" y="54"/>
                      <a:pt x="1242" y="50"/>
                    </a:cubicBezTo>
                    <a:cubicBezTo>
                      <a:pt x="1197" y="46"/>
                      <a:pt x="1129" y="54"/>
                      <a:pt x="1092" y="56"/>
                    </a:cubicBezTo>
                    <a:cubicBezTo>
                      <a:pt x="1055" y="58"/>
                      <a:pt x="1050" y="59"/>
                      <a:pt x="1022" y="64"/>
                    </a:cubicBezTo>
                    <a:lnTo>
                      <a:pt x="926" y="86"/>
                    </a:lnTo>
                    <a:cubicBezTo>
                      <a:pt x="891" y="98"/>
                      <a:pt x="846" y="113"/>
                      <a:pt x="810" y="134"/>
                    </a:cubicBezTo>
                    <a:cubicBezTo>
                      <a:pt x="774" y="155"/>
                      <a:pt x="748" y="180"/>
                      <a:pt x="708" y="212"/>
                    </a:cubicBezTo>
                    <a:cubicBezTo>
                      <a:pt x="668" y="244"/>
                      <a:pt x="616" y="289"/>
                      <a:pt x="570" y="326"/>
                    </a:cubicBezTo>
                    <a:cubicBezTo>
                      <a:pt x="524" y="363"/>
                      <a:pt x="487" y="400"/>
                      <a:pt x="432" y="434"/>
                    </a:cubicBezTo>
                    <a:cubicBezTo>
                      <a:pt x="377" y="468"/>
                      <a:pt x="291" y="507"/>
                      <a:pt x="240" y="534"/>
                    </a:cubicBezTo>
                    <a:cubicBezTo>
                      <a:pt x="189" y="561"/>
                      <a:pt x="156" y="579"/>
                      <a:pt x="126" y="596"/>
                    </a:cubicBezTo>
                    <a:lnTo>
                      <a:pt x="60" y="632"/>
                    </a:lnTo>
                    <a:lnTo>
                      <a:pt x="402" y="1850"/>
                    </a:lnTo>
                    <a:lnTo>
                      <a:pt x="0" y="590"/>
                    </a:lnTo>
                    <a:lnTo>
                      <a:pt x="192" y="500"/>
                    </a:lnTo>
                    <a:cubicBezTo>
                      <a:pt x="259" y="467"/>
                      <a:pt x="337" y="432"/>
                      <a:pt x="402" y="392"/>
                    </a:cubicBezTo>
                    <a:cubicBezTo>
                      <a:pt x="467" y="352"/>
                      <a:pt x="525" y="304"/>
                      <a:pt x="582" y="260"/>
                    </a:cubicBezTo>
                    <a:cubicBezTo>
                      <a:pt x="639" y="216"/>
                      <a:pt x="698" y="161"/>
                      <a:pt x="744" y="128"/>
                    </a:cubicBezTo>
                    <a:cubicBezTo>
                      <a:pt x="790" y="95"/>
                      <a:pt x="818" y="80"/>
                      <a:pt x="858" y="62"/>
                    </a:cubicBezTo>
                    <a:cubicBezTo>
                      <a:pt x="898" y="44"/>
                      <a:pt x="939" y="32"/>
                      <a:pt x="986" y="22"/>
                    </a:cubicBezTo>
                    <a:cubicBezTo>
                      <a:pt x="1033" y="12"/>
                      <a:pt x="1092" y="4"/>
                      <a:pt x="1140" y="2"/>
                    </a:cubicBezTo>
                    <a:cubicBezTo>
                      <a:pt x="1188" y="0"/>
                      <a:pt x="1236" y="4"/>
                      <a:pt x="1272" y="8"/>
                    </a:cubicBezTo>
                    <a:cubicBezTo>
                      <a:pt x="1311" y="15"/>
                      <a:pt x="1332" y="18"/>
                      <a:pt x="1354" y="26"/>
                    </a:cubicBezTo>
                    <a:cubicBezTo>
                      <a:pt x="1376" y="34"/>
                      <a:pt x="1393" y="48"/>
                      <a:pt x="1406" y="58"/>
                    </a:cubicBezTo>
                    <a:lnTo>
                      <a:pt x="1434" y="86"/>
                    </a:lnTo>
                    <a:lnTo>
                      <a:pt x="2016" y="8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 rot="1374000">
                <a:off x="5118840" y="4346640"/>
                <a:ext cx="1381680" cy="731520"/>
              </a:xfrm>
              <a:custGeom>
                <a:avLst/>
                <a:gdLst>
                  <a:gd name="textAreaLeft" fmla="*/ 0 w 1381680"/>
                  <a:gd name="textAreaRight" fmla="*/ 1382040 w 1381680"/>
                  <a:gd name="textAreaTop" fmla="*/ 0 h 731520"/>
                  <a:gd name="textAreaBottom" fmla="*/ 731520 h 731520"/>
                </a:gdLst>
                <a:ahLst/>
                <a:rect l="textAreaLeft" t="textAreaTop" r="textAreaRight" b="textAreaBottom"/>
                <a:pathLst>
                  <a:path w="2140" h="1600">
                    <a:moveTo>
                      <a:pt x="2116" y="568"/>
                    </a:moveTo>
                    <a:lnTo>
                      <a:pt x="2140" y="656"/>
                    </a:lnTo>
                    <a:lnTo>
                      <a:pt x="324" y="1600"/>
                    </a:lnTo>
                    <a:lnTo>
                      <a:pt x="0" y="0"/>
                    </a:lnTo>
                    <a:lnTo>
                      <a:pt x="368" y="1508"/>
                    </a:lnTo>
                    <a:lnTo>
                      <a:pt x="2116" y="5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8"/>
              <p:cNvSpPr/>
              <p:nvPr/>
            </p:nvSpPr>
            <p:spPr>
              <a:xfrm rot="1374000">
                <a:off x="5154480" y="4389480"/>
                <a:ext cx="1304640" cy="635400"/>
              </a:xfrm>
              <a:custGeom>
                <a:avLst/>
                <a:gdLst>
                  <a:gd name="textAreaLeft" fmla="*/ 0 w 1304640"/>
                  <a:gd name="textAreaRight" fmla="*/ 1305000 w 1304640"/>
                  <a:gd name="textAreaTop" fmla="*/ 0 h 635400"/>
                  <a:gd name="textAreaBottom" fmla="*/ 635760 h 635400"/>
                </a:gdLst>
                <a:ahLst/>
                <a:rect l="textAreaLeft" t="textAreaTop" r="textAreaRight" b="textAreaBottom"/>
                <a:pathLst>
                  <a:path w="2088" h="1492">
                    <a:moveTo>
                      <a:pt x="2088" y="444"/>
                    </a:moveTo>
                    <a:cubicBezTo>
                      <a:pt x="2076" y="441"/>
                      <a:pt x="1968" y="446"/>
                      <a:pt x="1912" y="460"/>
                    </a:cubicBezTo>
                    <a:cubicBezTo>
                      <a:pt x="1856" y="474"/>
                      <a:pt x="1797" y="503"/>
                      <a:pt x="1752" y="528"/>
                    </a:cubicBezTo>
                    <a:lnTo>
                      <a:pt x="1640" y="608"/>
                    </a:lnTo>
                    <a:lnTo>
                      <a:pt x="1516" y="704"/>
                    </a:lnTo>
                    <a:lnTo>
                      <a:pt x="1376" y="808"/>
                    </a:lnTo>
                    <a:lnTo>
                      <a:pt x="1180" y="960"/>
                    </a:lnTo>
                    <a:lnTo>
                      <a:pt x="1000" y="1084"/>
                    </a:lnTo>
                    <a:lnTo>
                      <a:pt x="844" y="1184"/>
                    </a:lnTo>
                    <a:lnTo>
                      <a:pt x="676" y="1288"/>
                    </a:lnTo>
                    <a:lnTo>
                      <a:pt x="516" y="1384"/>
                    </a:lnTo>
                    <a:lnTo>
                      <a:pt x="404" y="1448"/>
                    </a:lnTo>
                    <a:lnTo>
                      <a:pt x="376" y="1452"/>
                    </a:lnTo>
                    <a:lnTo>
                      <a:pt x="352" y="1388"/>
                    </a:lnTo>
                    <a:lnTo>
                      <a:pt x="12" y="60"/>
                    </a:lnTo>
                    <a:lnTo>
                      <a:pt x="96" y="0"/>
                    </a:lnTo>
                    <a:lnTo>
                      <a:pt x="0" y="52"/>
                    </a:lnTo>
                    <a:lnTo>
                      <a:pt x="348" y="1492"/>
                    </a:lnTo>
                    <a:lnTo>
                      <a:pt x="396" y="1488"/>
                    </a:lnTo>
                    <a:lnTo>
                      <a:pt x="492" y="1444"/>
                    </a:lnTo>
                    <a:cubicBezTo>
                      <a:pt x="549" y="1415"/>
                      <a:pt x="657" y="1361"/>
                      <a:pt x="736" y="1316"/>
                    </a:cubicBezTo>
                    <a:lnTo>
                      <a:pt x="964" y="1176"/>
                    </a:lnTo>
                    <a:lnTo>
                      <a:pt x="1144" y="1048"/>
                    </a:lnTo>
                    <a:lnTo>
                      <a:pt x="1380" y="880"/>
                    </a:lnTo>
                    <a:lnTo>
                      <a:pt x="1596" y="720"/>
                    </a:lnTo>
                    <a:cubicBezTo>
                      <a:pt x="1659" y="673"/>
                      <a:pt x="1715" y="627"/>
                      <a:pt x="1760" y="596"/>
                    </a:cubicBezTo>
                    <a:cubicBezTo>
                      <a:pt x="1805" y="565"/>
                      <a:pt x="1831" y="551"/>
                      <a:pt x="1868" y="532"/>
                    </a:cubicBezTo>
                    <a:cubicBezTo>
                      <a:pt x="1905" y="513"/>
                      <a:pt x="1947" y="495"/>
                      <a:pt x="1984" y="480"/>
                    </a:cubicBezTo>
                    <a:lnTo>
                      <a:pt x="2088" y="44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9"/>
              <p:cNvSpPr/>
              <p:nvPr/>
            </p:nvSpPr>
            <p:spPr>
              <a:xfrm rot="1374000">
                <a:off x="5245200" y="4504320"/>
                <a:ext cx="484560" cy="380160"/>
              </a:xfrm>
              <a:custGeom>
                <a:avLst/>
                <a:gdLst>
                  <a:gd name="textAreaLeft" fmla="*/ 0 w 484560"/>
                  <a:gd name="textAreaRight" fmla="*/ 484920 w 48456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800" h="808">
                    <a:moveTo>
                      <a:pt x="772" y="428"/>
                    </a:moveTo>
                    <a:cubicBezTo>
                      <a:pt x="746" y="440"/>
                      <a:pt x="691" y="477"/>
                      <a:pt x="644" y="504"/>
                    </a:cubicBezTo>
                    <a:lnTo>
                      <a:pt x="488" y="588"/>
                    </a:lnTo>
                    <a:cubicBezTo>
                      <a:pt x="432" y="619"/>
                      <a:pt x="349" y="668"/>
                      <a:pt x="308" y="692"/>
                    </a:cubicBezTo>
                    <a:lnTo>
                      <a:pt x="244" y="732"/>
                    </a:lnTo>
                    <a:lnTo>
                      <a:pt x="0" y="0"/>
                    </a:lnTo>
                    <a:lnTo>
                      <a:pt x="164" y="676"/>
                    </a:lnTo>
                    <a:lnTo>
                      <a:pt x="192" y="784"/>
                    </a:lnTo>
                    <a:lnTo>
                      <a:pt x="204" y="808"/>
                    </a:lnTo>
                    <a:lnTo>
                      <a:pt x="248" y="792"/>
                    </a:lnTo>
                    <a:cubicBezTo>
                      <a:pt x="265" y="781"/>
                      <a:pt x="269" y="765"/>
                      <a:pt x="304" y="740"/>
                    </a:cubicBezTo>
                    <a:cubicBezTo>
                      <a:pt x="339" y="715"/>
                      <a:pt x="403" y="672"/>
                      <a:pt x="456" y="640"/>
                    </a:cubicBezTo>
                    <a:cubicBezTo>
                      <a:pt x="509" y="608"/>
                      <a:pt x="572" y="577"/>
                      <a:pt x="620" y="548"/>
                    </a:cubicBezTo>
                    <a:lnTo>
                      <a:pt x="744" y="464"/>
                    </a:lnTo>
                    <a:cubicBezTo>
                      <a:pt x="774" y="445"/>
                      <a:pt x="795" y="438"/>
                      <a:pt x="800" y="432"/>
                    </a:cubicBezTo>
                    <a:lnTo>
                      <a:pt x="772" y="4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1"/>
              <p:cNvSpPr/>
              <p:nvPr/>
            </p:nvSpPr>
            <p:spPr>
              <a:xfrm>
                <a:off x="6468480" y="4827600"/>
                <a:ext cx="202320" cy="1108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6" y="70"/>
                    </a:moveTo>
                    <a:cubicBezTo>
                      <a:pt x="11" y="51"/>
                      <a:pt x="77" y="22"/>
                      <a:pt x="77" y="22"/>
                    </a:cubicBezTo>
                    <a:cubicBezTo>
                      <a:pt x="77" y="22"/>
                      <a:pt x="181" y="2"/>
                      <a:pt x="181" y="2"/>
                    </a:cubicBezTo>
                    <a:cubicBezTo>
                      <a:pt x="181" y="2"/>
                      <a:pt x="249" y="0"/>
                      <a:pt x="249" y="0"/>
                    </a:cubicBezTo>
                    <a:cubicBezTo>
                      <a:pt x="267" y="4"/>
                      <a:pt x="274" y="15"/>
                      <a:pt x="266" y="32"/>
                    </a:cubicBezTo>
                    <a:cubicBezTo>
                      <a:pt x="257" y="48"/>
                      <a:pt x="217" y="85"/>
                      <a:pt x="193" y="101"/>
                    </a:cubicBezTo>
                    <a:cubicBezTo>
                      <a:pt x="193" y="101"/>
                      <a:pt x="142" y="124"/>
                      <a:pt x="123" y="125"/>
                    </a:cubicBezTo>
                    <a:cubicBezTo>
                      <a:pt x="105" y="125"/>
                      <a:pt x="48" y="108"/>
                      <a:pt x="48" y="108"/>
                    </a:cubicBezTo>
                    <a:cubicBezTo>
                      <a:pt x="27" y="96"/>
                      <a:pt x="0" y="88"/>
                      <a:pt x="6" y="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2"/>
              <p:cNvSpPr/>
              <p:nvPr/>
            </p:nvSpPr>
            <p:spPr>
              <a:xfrm rot="21390600">
                <a:off x="6495840" y="2580480"/>
                <a:ext cx="1270800" cy="1925640"/>
              </a:xfrm>
              <a:custGeom>
                <a:avLst/>
                <a:gdLst>
                  <a:gd name="textAreaLeft" fmla="*/ 0 w 1270800"/>
                  <a:gd name="textAreaRight" fmla="*/ 1271160 w 1270800"/>
                  <a:gd name="textAreaTop" fmla="*/ 0 h 1925640"/>
                  <a:gd name="textAreaBottom" fmla="*/ 1926000 h 192564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3"/>
              <p:cNvSpPr/>
              <p:nvPr/>
            </p:nvSpPr>
            <p:spPr>
              <a:xfrm flipH="1" rot="21262800">
                <a:off x="5232960" y="2662200"/>
                <a:ext cx="1230120" cy="2058120"/>
              </a:xfrm>
              <a:custGeom>
                <a:avLst/>
                <a:gdLst>
                  <a:gd name="textAreaLeft" fmla="*/ -360 w 1230120"/>
                  <a:gd name="textAreaRight" fmla="*/ 1230120 w 1230120"/>
                  <a:gd name="textAreaTop" fmla="*/ 0 h 2058120"/>
                  <a:gd name="textAreaBottom" fmla="*/ 2058480 h 205812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4"/>
              <p:cNvSpPr/>
              <p:nvPr/>
            </p:nvSpPr>
            <p:spPr>
              <a:xfrm flipH="1" rot="21262800">
                <a:off x="5288040" y="2631600"/>
                <a:ext cx="1105560" cy="1436760"/>
              </a:xfrm>
              <a:custGeom>
                <a:avLst/>
                <a:gdLst>
                  <a:gd name="textAreaLeft" fmla="*/ -360 w 1105560"/>
                  <a:gd name="textAreaRight" fmla="*/ 1105560 w 1105560"/>
                  <a:gd name="textAreaTop" fmla="*/ 0 h 1436760"/>
                  <a:gd name="textAreaBottom" fmla="*/ 1437120 h 143676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5"/>
              <p:cNvSpPr/>
              <p:nvPr/>
            </p:nvSpPr>
            <p:spPr>
              <a:xfrm rot="337200">
                <a:off x="6307560" y="2635920"/>
                <a:ext cx="835920" cy="12693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1269360"/>
                  <a:gd name="textAreaBottom" fmla="*/ 1269720 h 126936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Text Box 26"/>
            <p:cNvGrpSpPr/>
            <p:nvPr/>
          </p:nvGrpSpPr>
          <p:grpSpPr>
            <a:xfrm>
              <a:off x="-642240" y="1236240"/>
              <a:ext cx="10226880" cy="2018520"/>
              <a:chOff x="-642240" y="1236240"/>
              <a:chExt cx="10226880" cy="2018520"/>
            </a:xfrm>
          </p:grpSpPr>
          <p:pic>
            <p:nvPicPr>
              <p:cNvPr id="202" name="Text Box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267480" y="1236240"/>
                <a:ext cx="8400600" cy="19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-642240" y="1255680"/>
                <a:ext cx="10226880" cy="19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500" spc="-1" strike="noStrike">
                    <a:solidFill>
                      <a:srgbClr val="ffffff"/>
                    </a:solidFill>
                    <a:latin typeface="Bradley Hand ITC"/>
                  </a:rPr>
                  <a:t>La PêcheLire</a:t>
                </a:r>
                <a:endParaRPr b="0" lang="en-US" sz="1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4" name="Picture 2" descr=""/>
          <p:cNvPicPr/>
          <p:nvPr/>
        </p:nvPicPr>
        <p:blipFill>
          <a:blip r:embed="rId3"/>
          <a:srcRect l="23511" t="28908" r="74107" b="65530"/>
          <a:stretch/>
        </p:blipFill>
        <p:spPr>
          <a:xfrm>
            <a:off x="3395520" y="1251000"/>
            <a:ext cx="581040" cy="542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4"/>
          <a:srcRect l="29058" t="28908" r="69155" b="65530"/>
          <a:stretch/>
        </p:blipFill>
        <p:spPr>
          <a:xfrm>
            <a:off x="6942240" y="1252440"/>
            <a:ext cx="434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5" descr=""/>
          <p:cNvPicPr/>
          <p:nvPr/>
        </p:nvPicPr>
        <p:blipFill>
          <a:blip r:embed="rId1"/>
          <a:stretch/>
        </p:blipFill>
        <p:spPr>
          <a:xfrm>
            <a:off x="1200240" y="1176480"/>
            <a:ext cx="613872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e 3"/>
          <p:cNvGrpSpPr/>
          <p:nvPr/>
        </p:nvGrpSpPr>
        <p:grpSpPr>
          <a:xfrm>
            <a:off x="82440" y="749160"/>
            <a:ext cx="8967960" cy="4800600"/>
            <a:chOff x="82440" y="749160"/>
            <a:chExt cx="8967960" cy="4800600"/>
          </a:xfrm>
        </p:grpSpPr>
        <p:grpSp>
          <p:nvGrpSpPr>
            <p:cNvPr id="208" name="AutoShape 2"/>
            <p:cNvGrpSpPr/>
            <p:nvPr/>
          </p:nvGrpSpPr>
          <p:grpSpPr>
            <a:xfrm>
              <a:off x="82440" y="749160"/>
              <a:ext cx="8967960" cy="4800600"/>
              <a:chOff x="82440" y="749160"/>
              <a:chExt cx="8967960" cy="4800600"/>
            </a:xfrm>
          </p:grpSpPr>
          <p:pic>
            <p:nvPicPr>
              <p:cNvPr id="209" name="AutoShap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40" y="749160"/>
                <a:ext cx="896796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248040" y="914040"/>
                <a:ext cx="8643960" cy="447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e 26"/>
            <p:cNvGrpSpPr/>
            <p:nvPr/>
          </p:nvGrpSpPr>
          <p:grpSpPr>
            <a:xfrm>
              <a:off x="5031000" y="2543760"/>
              <a:ext cx="2860560" cy="2774520"/>
              <a:chOff x="5031000" y="2543760"/>
              <a:chExt cx="2860560" cy="2774520"/>
            </a:xfrm>
          </p:grpSpPr>
          <p:sp>
            <p:nvSpPr>
              <p:cNvPr id="212" name="Freeform 5"/>
              <p:cNvSpPr/>
              <p:nvPr/>
            </p:nvSpPr>
            <p:spPr>
              <a:xfrm>
                <a:off x="6851880" y="4561560"/>
                <a:ext cx="908280" cy="212400"/>
              </a:xfrm>
              <a:custGeom>
                <a:avLst/>
                <a:gdLst>
                  <a:gd name="textAreaLeft" fmla="*/ 0 w 908280"/>
                  <a:gd name="textAreaRight" fmla="*/ 908640 w 90828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803" h="423">
                    <a:moveTo>
                      <a:pt x="3" y="423"/>
                    </a:moveTo>
                    <a:cubicBezTo>
                      <a:pt x="0" y="419"/>
                      <a:pt x="37" y="373"/>
                      <a:pt x="80" y="351"/>
                    </a:cubicBezTo>
                    <a:cubicBezTo>
                      <a:pt x="123" y="329"/>
                      <a:pt x="164" y="313"/>
                      <a:pt x="262" y="288"/>
                    </a:cubicBezTo>
                    <a:cubicBezTo>
                      <a:pt x="360" y="263"/>
                      <a:pt x="532" y="228"/>
                      <a:pt x="666" y="202"/>
                    </a:cubicBezTo>
                    <a:cubicBezTo>
                      <a:pt x="800" y="176"/>
                      <a:pt x="920" y="157"/>
                      <a:pt x="1069" y="130"/>
                    </a:cubicBezTo>
                    <a:lnTo>
                      <a:pt x="1558" y="43"/>
                    </a:lnTo>
                    <a:lnTo>
                      <a:pt x="1803" y="0"/>
                    </a:lnTo>
                    <a:lnTo>
                      <a:pt x="1491" y="106"/>
                    </a:lnTo>
                    <a:lnTo>
                      <a:pt x="1232" y="183"/>
                    </a:lnTo>
                    <a:cubicBezTo>
                      <a:pt x="1165" y="201"/>
                      <a:pt x="1144" y="204"/>
                      <a:pt x="1088" y="216"/>
                    </a:cubicBezTo>
                    <a:cubicBezTo>
                      <a:pt x="1032" y="228"/>
                      <a:pt x="974" y="241"/>
                      <a:pt x="896" y="255"/>
                    </a:cubicBezTo>
                    <a:cubicBezTo>
                      <a:pt x="818" y="269"/>
                      <a:pt x="710" y="285"/>
                      <a:pt x="622" y="298"/>
                    </a:cubicBezTo>
                    <a:cubicBezTo>
                      <a:pt x="534" y="311"/>
                      <a:pt x="435" y="323"/>
                      <a:pt x="368" y="331"/>
                    </a:cubicBezTo>
                    <a:cubicBezTo>
                      <a:pt x="368" y="331"/>
                      <a:pt x="264" y="339"/>
                      <a:pt x="219" y="346"/>
                    </a:cubicBezTo>
                    <a:cubicBezTo>
                      <a:pt x="174" y="353"/>
                      <a:pt x="135" y="362"/>
                      <a:pt x="99" y="375"/>
                    </a:cubicBezTo>
                    <a:cubicBezTo>
                      <a:pt x="63" y="388"/>
                      <a:pt x="23" y="413"/>
                      <a:pt x="3" y="4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"/>
              <p:cNvSpPr/>
              <p:nvPr/>
            </p:nvSpPr>
            <p:spPr>
              <a:xfrm>
                <a:off x="6788520" y="4500360"/>
                <a:ext cx="926280" cy="226800"/>
              </a:xfrm>
              <a:custGeom>
                <a:avLst/>
                <a:gdLst>
                  <a:gd name="textAreaLeft" fmla="*/ 0 w 926280"/>
                  <a:gd name="textAreaRight" fmla="*/ 926640 w 926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1732" h="432">
                    <a:moveTo>
                      <a:pt x="0" y="432"/>
                    </a:moveTo>
                    <a:cubicBezTo>
                      <a:pt x="9" y="424"/>
                      <a:pt x="31" y="382"/>
                      <a:pt x="60" y="357"/>
                    </a:cubicBezTo>
                    <a:cubicBezTo>
                      <a:pt x="89" y="332"/>
                      <a:pt x="135" y="300"/>
                      <a:pt x="177" y="279"/>
                    </a:cubicBezTo>
                    <a:cubicBezTo>
                      <a:pt x="219" y="258"/>
                      <a:pt x="266" y="241"/>
                      <a:pt x="312" y="231"/>
                    </a:cubicBezTo>
                    <a:cubicBezTo>
                      <a:pt x="358" y="221"/>
                      <a:pt x="401" y="221"/>
                      <a:pt x="453" y="219"/>
                    </a:cubicBezTo>
                    <a:cubicBezTo>
                      <a:pt x="505" y="217"/>
                      <a:pt x="558" y="220"/>
                      <a:pt x="624" y="219"/>
                    </a:cubicBezTo>
                    <a:cubicBezTo>
                      <a:pt x="690" y="218"/>
                      <a:pt x="783" y="215"/>
                      <a:pt x="852" y="210"/>
                    </a:cubicBezTo>
                    <a:cubicBezTo>
                      <a:pt x="921" y="205"/>
                      <a:pt x="972" y="197"/>
                      <a:pt x="1041" y="186"/>
                    </a:cubicBezTo>
                    <a:cubicBezTo>
                      <a:pt x="1110" y="175"/>
                      <a:pt x="1191" y="160"/>
                      <a:pt x="1269" y="144"/>
                    </a:cubicBezTo>
                    <a:cubicBezTo>
                      <a:pt x="1347" y="128"/>
                      <a:pt x="1441" y="107"/>
                      <a:pt x="1512" y="87"/>
                    </a:cubicBezTo>
                    <a:cubicBezTo>
                      <a:pt x="1583" y="67"/>
                      <a:pt x="1657" y="35"/>
                      <a:pt x="1692" y="21"/>
                    </a:cubicBezTo>
                    <a:cubicBezTo>
                      <a:pt x="1727" y="7"/>
                      <a:pt x="1732" y="0"/>
                      <a:pt x="1722" y="0"/>
                    </a:cubicBezTo>
                    <a:cubicBezTo>
                      <a:pt x="1712" y="0"/>
                      <a:pt x="1682" y="8"/>
                      <a:pt x="1629" y="21"/>
                    </a:cubicBezTo>
                    <a:cubicBezTo>
                      <a:pt x="1576" y="34"/>
                      <a:pt x="1480" y="65"/>
                      <a:pt x="1401" y="81"/>
                    </a:cubicBezTo>
                    <a:cubicBezTo>
                      <a:pt x="1322" y="97"/>
                      <a:pt x="1249" y="107"/>
                      <a:pt x="1152" y="120"/>
                    </a:cubicBezTo>
                    <a:cubicBezTo>
                      <a:pt x="1055" y="133"/>
                      <a:pt x="926" y="147"/>
                      <a:pt x="816" y="156"/>
                    </a:cubicBezTo>
                    <a:cubicBezTo>
                      <a:pt x="706" y="165"/>
                      <a:pt x="577" y="166"/>
                      <a:pt x="492" y="171"/>
                    </a:cubicBezTo>
                    <a:cubicBezTo>
                      <a:pt x="407" y="176"/>
                      <a:pt x="359" y="178"/>
                      <a:pt x="306" y="189"/>
                    </a:cubicBezTo>
                    <a:cubicBezTo>
                      <a:pt x="253" y="200"/>
                      <a:pt x="209" y="223"/>
                      <a:pt x="174" y="240"/>
                    </a:cubicBezTo>
                    <a:cubicBezTo>
                      <a:pt x="139" y="257"/>
                      <a:pt x="115" y="276"/>
                      <a:pt x="93" y="294"/>
                    </a:cubicBezTo>
                    <a:cubicBezTo>
                      <a:pt x="71" y="312"/>
                      <a:pt x="53" y="329"/>
                      <a:pt x="39" y="348"/>
                    </a:cubicBezTo>
                    <a:cubicBezTo>
                      <a:pt x="25" y="367"/>
                      <a:pt x="12" y="391"/>
                      <a:pt x="6" y="405"/>
                    </a:cubicBezTo>
                    <a:cubicBezTo>
                      <a:pt x="0" y="419"/>
                      <a:pt x="1" y="427"/>
                      <a:pt x="0" y="4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"/>
              <p:cNvSpPr/>
              <p:nvPr/>
            </p:nvSpPr>
            <p:spPr>
              <a:xfrm>
                <a:off x="6718320" y="4616640"/>
                <a:ext cx="88200" cy="11628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77" h="229">
                    <a:moveTo>
                      <a:pt x="177" y="0"/>
                    </a:moveTo>
                    <a:cubicBezTo>
                      <a:pt x="167" y="3"/>
                      <a:pt x="131" y="23"/>
                      <a:pt x="108" y="42"/>
                    </a:cubicBezTo>
                    <a:cubicBezTo>
                      <a:pt x="85" y="61"/>
                      <a:pt x="56" y="93"/>
                      <a:pt x="39" y="114"/>
                    </a:cubicBezTo>
                    <a:cubicBezTo>
                      <a:pt x="22" y="135"/>
                      <a:pt x="12" y="154"/>
                      <a:pt x="6" y="171"/>
                    </a:cubicBezTo>
                    <a:cubicBezTo>
                      <a:pt x="0" y="188"/>
                      <a:pt x="1" y="207"/>
                      <a:pt x="3" y="216"/>
                    </a:cubicBezTo>
                    <a:cubicBezTo>
                      <a:pt x="5" y="225"/>
                      <a:pt x="12" y="227"/>
                      <a:pt x="21" y="228"/>
                    </a:cubicBezTo>
                    <a:cubicBezTo>
                      <a:pt x="30" y="229"/>
                      <a:pt x="49" y="226"/>
                      <a:pt x="57" y="219"/>
                    </a:cubicBezTo>
                    <a:cubicBezTo>
                      <a:pt x="65" y="212"/>
                      <a:pt x="68" y="199"/>
                      <a:pt x="72" y="186"/>
                    </a:cubicBezTo>
                    <a:cubicBezTo>
                      <a:pt x="76" y="173"/>
                      <a:pt x="78" y="153"/>
                      <a:pt x="84" y="138"/>
                    </a:cubicBezTo>
                    <a:cubicBezTo>
                      <a:pt x="90" y="123"/>
                      <a:pt x="100" y="107"/>
                      <a:pt x="108" y="93"/>
                    </a:cubicBezTo>
                    <a:cubicBezTo>
                      <a:pt x="116" y="79"/>
                      <a:pt x="126" y="63"/>
                      <a:pt x="135" y="51"/>
                    </a:cubicBezTo>
                    <a:cubicBezTo>
                      <a:pt x="144" y="39"/>
                      <a:pt x="158" y="29"/>
                      <a:pt x="165" y="21"/>
                    </a:cubicBezTo>
                    <a:cubicBezTo>
                      <a:pt x="172" y="13"/>
                      <a:pt x="175" y="4"/>
                      <a:pt x="17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8"/>
              <p:cNvSpPr/>
              <p:nvPr/>
            </p:nvSpPr>
            <p:spPr>
              <a:xfrm>
                <a:off x="6591240" y="4526640"/>
                <a:ext cx="489240" cy="251280"/>
              </a:xfrm>
              <a:custGeom>
                <a:avLst/>
                <a:gdLst>
                  <a:gd name="textAreaLeft" fmla="*/ 0 w 489240"/>
                  <a:gd name="textAreaRight" fmla="*/ 489600 w 48924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9"/>
              <p:cNvSpPr/>
              <p:nvPr/>
            </p:nvSpPr>
            <p:spPr>
              <a:xfrm rot="21432600">
                <a:off x="6520680" y="4402080"/>
                <a:ext cx="1293480" cy="310680"/>
              </a:xfrm>
              <a:custGeom>
                <a:avLst/>
                <a:gdLst>
                  <a:gd name="textAreaLeft" fmla="*/ 0 w 1293480"/>
                  <a:gd name="textAreaRight" fmla="*/ 1293840 w 129348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2308" h="538">
                    <a:moveTo>
                      <a:pt x="0" y="526"/>
                    </a:moveTo>
                    <a:cubicBezTo>
                      <a:pt x="4" y="506"/>
                      <a:pt x="15" y="444"/>
                      <a:pt x="26" y="408"/>
                    </a:cubicBezTo>
                    <a:cubicBezTo>
                      <a:pt x="37" y="372"/>
                      <a:pt x="47" y="344"/>
                      <a:pt x="64" y="312"/>
                    </a:cubicBezTo>
                    <a:cubicBezTo>
                      <a:pt x="81" y="280"/>
                      <a:pt x="104" y="245"/>
                      <a:pt x="128" y="218"/>
                    </a:cubicBezTo>
                    <a:cubicBezTo>
                      <a:pt x="152" y="191"/>
                      <a:pt x="176" y="169"/>
                      <a:pt x="206" y="150"/>
                    </a:cubicBezTo>
                    <a:cubicBezTo>
                      <a:pt x="236" y="131"/>
                      <a:pt x="270" y="117"/>
                      <a:pt x="310" y="106"/>
                    </a:cubicBezTo>
                    <a:cubicBezTo>
                      <a:pt x="350" y="95"/>
                      <a:pt x="400" y="89"/>
                      <a:pt x="448" y="84"/>
                    </a:cubicBezTo>
                    <a:cubicBezTo>
                      <a:pt x="496" y="79"/>
                      <a:pt x="538" y="76"/>
                      <a:pt x="596" y="78"/>
                    </a:cubicBezTo>
                    <a:cubicBezTo>
                      <a:pt x="654" y="80"/>
                      <a:pt x="738" y="89"/>
                      <a:pt x="798" y="94"/>
                    </a:cubicBezTo>
                    <a:lnTo>
                      <a:pt x="956" y="106"/>
                    </a:lnTo>
                    <a:cubicBezTo>
                      <a:pt x="1013" y="109"/>
                      <a:pt x="1077" y="115"/>
                      <a:pt x="1142" y="114"/>
                    </a:cubicBezTo>
                    <a:cubicBezTo>
                      <a:pt x="1207" y="113"/>
                      <a:pt x="1278" y="105"/>
                      <a:pt x="1344" y="98"/>
                    </a:cubicBezTo>
                    <a:lnTo>
                      <a:pt x="1538" y="72"/>
                    </a:lnTo>
                    <a:cubicBezTo>
                      <a:pt x="1601" y="63"/>
                      <a:pt x="1660" y="53"/>
                      <a:pt x="1720" y="42"/>
                    </a:cubicBezTo>
                    <a:cubicBezTo>
                      <a:pt x="1780" y="31"/>
                      <a:pt x="1861" y="15"/>
                      <a:pt x="1896" y="8"/>
                    </a:cubicBezTo>
                    <a:lnTo>
                      <a:pt x="1928" y="0"/>
                    </a:lnTo>
                    <a:lnTo>
                      <a:pt x="2258" y="252"/>
                    </a:lnTo>
                    <a:cubicBezTo>
                      <a:pt x="2308" y="292"/>
                      <a:pt x="2238" y="246"/>
                      <a:pt x="2226" y="240"/>
                    </a:cubicBezTo>
                    <a:cubicBezTo>
                      <a:pt x="2214" y="234"/>
                      <a:pt x="2236" y="247"/>
                      <a:pt x="2186" y="214"/>
                    </a:cubicBezTo>
                    <a:cubicBezTo>
                      <a:pt x="2136" y="181"/>
                      <a:pt x="1972" y="71"/>
                      <a:pt x="1928" y="40"/>
                    </a:cubicBezTo>
                    <a:lnTo>
                      <a:pt x="1920" y="30"/>
                    </a:lnTo>
                    <a:cubicBezTo>
                      <a:pt x="1912" y="31"/>
                      <a:pt x="1905" y="37"/>
                      <a:pt x="1882" y="44"/>
                    </a:cubicBezTo>
                    <a:cubicBezTo>
                      <a:pt x="1859" y="51"/>
                      <a:pt x="1820" y="63"/>
                      <a:pt x="1780" y="72"/>
                    </a:cubicBezTo>
                    <a:lnTo>
                      <a:pt x="1640" y="100"/>
                    </a:lnTo>
                    <a:lnTo>
                      <a:pt x="1522" y="122"/>
                    </a:lnTo>
                    <a:cubicBezTo>
                      <a:pt x="1472" y="131"/>
                      <a:pt x="1398" y="146"/>
                      <a:pt x="1338" y="154"/>
                    </a:cubicBezTo>
                    <a:cubicBezTo>
                      <a:pt x="1278" y="162"/>
                      <a:pt x="1226" y="166"/>
                      <a:pt x="1164" y="168"/>
                    </a:cubicBezTo>
                    <a:cubicBezTo>
                      <a:pt x="1102" y="170"/>
                      <a:pt x="1023" y="167"/>
                      <a:pt x="964" y="164"/>
                    </a:cubicBezTo>
                    <a:cubicBezTo>
                      <a:pt x="904" y="162"/>
                      <a:pt x="862" y="155"/>
                      <a:pt x="808" y="150"/>
                    </a:cubicBezTo>
                    <a:cubicBezTo>
                      <a:pt x="754" y="145"/>
                      <a:pt x="687" y="136"/>
                      <a:pt x="642" y="132"/>
                    </a:cubicBezTo>
                    <a:cubicBezTo>
                      <a:pt x="597" y="128"/>
                      <a:pt x="580" y="127"/>
                      <a:pt x="536" y="128"/>
                    </a:cubicBezTo>
                    <a:cubicBezTo>
                      <a:pt x="493" y="128"/>
                      <a:pt x="425" y="130"/>
                      <a:pt x="380" y="136"/>
                    </a:cubicBezTo>
                    <a:cubicBezTo>
                      <a:pt x="335" y="142"/>
                      <a:pt x="300" y="153"/>
                      <a:pt x="266" y="166"/>
                    </a:cubicBezTo>
                    <a:cubicBezTo>
                      <a:pt x="232" y="179"/>
                      <a:pt x="205" y="195"/>
                      <a:pt x="178" y="216"/>
                    </a:cubicBezTo>
                    <a:cubicBezTo>
                      <a:pt x="151" y="237"/>
                      <a:pt x="125" y="260"/>
                      <a:pt x="104" y="290"/>
                    </a:cubicBezTo>
                    <a:cubicBezTo>
                      <a:pt x="83" y="320"/>
                      <a:pt x="66" y="366"/>
                      <a:pt x="54" y="394"/>
                    </a:cubicBezTo>
                    <a:lnTo>
                      <a:pt x="32" y="456"/>
                    </a:lnTo>
                    <a:lnTo>
                      <a:pt x="14" y="530"/>
                    </a:lnTo>
                    <a:lnTo>
                      <a:pt x="2" y="53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0"/>
              <p:cNvSpPr/>
              <p:nvPr/>
            </p:nvSpPr>
            <p:spPr>
              <a:xfrm>
                <a:off x="6353280" y="3980880"/>
                <a:ext cx="740520" cy="236880"/>
              </a:xfrm>
              <a:custGeom>
                <a:avLst/>
                <a:gdLst>
                  <a:gd name="textAreaLeft" fmla="*/ 0 w 740520"/>
                  <a:gd name="textAreaRight" fmla="*/ 740880 w 74052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1470" h="471">
                    <a:moveTo>
                      <a:pt x="2" y="459"/>
                    </a:moveTo>
                    <a:cubicBezTo>
                      <a:pt x="5" y="454"/>
                      <a:pt x="0" y="465"/>
                      <a:pt x="11" y="444"/>
                    </a:cubicBezTo>
                    <a:cubicBezTo>
                      <a:pt x="22" y="423"/>
                      <a:pt x="42" y="368"/>
                      <a:pt x="66" y="331"/>
                    </a:cubicBezTo>
                    <a:cubicBezTo>
                      <a:pt x="90" y="294"/>
                      <a:pt x="123" y="253"/>
                      <a:pt x="153" y="220"/>
                    </a:cubicBezTo>
                    <a:cubicBezTo>
                      <a:pt x="183" y="187"/>
                      <a:pt x="214" y="157"/>
                      <a:pt x="246" y="133"/>
                    </a:cubicBezTo>
                    <a:cubicBezTo>
                      <a:pt x="278" y="109"/>
                      <a:pt x="307" y="92"/>
                      <a:pt x="344" y="76"/>
                    </a:cubicBezTo>
                    <a:cubicBezTo>
                      <a:pt x="381" y="60"/>
                      <a:pt x="424" y="49"/>
                      <a:pt x="467" y="39"/>
                    </a:cubicBezTo>
                    <a:cubicBezTo>
                      <a:pt x="510" y="29"/>
                      <a:pt x="543" y="23"/>
                      <a:pt x="603" y="18"/>
                    </a:cubicBezTo>
                    <a:cubicBezTo>
                      <a:pt x="663" y="13"/>
                      <a:pt x="754" y="11"/>
                      <a:pt x="827" y="9"/>
                    </a:cubicBezTo>
                    <a:cubicBezTo>
                      <a:pt x="900" y="7"/>
                      <a:pt x="969" y="4"/>
                      <a:pt x="1043" y="4"/>
                    </a:cubicBezTo>
                    <a:cubicBezTo>
                      <a:pt x="1117" y="4"/>
                      <a:pt x="1208" y="10"/>
                      <a:pt x="1274" y="10"/>
                    </a:cubicBezTo>
                    <a:cubicBezTo>
                      <a:pt x="1340" y="10"/>
                      <a:pt x="1410" y="2"/>
                      <a:pt x="1440" y="1"/>
                    </a:cubicBezTo>
                    <a:cubicBezTo>
                      <a:pt x="1470" y="0"/>
                      <a:pt x="1457" y="1"/>
                      <a:pt x="1455" y="4"/>
                    </a:cubicBezTo>
                    <a:cubicBezTo>
                      <a:pt x="1453" y="7"/>
                      <a:pt x="1440" y="17"/>
                      <a:pt x="1427" y="21"/>
                    </a:cubicBezTo>
                    <a:cubicBezTo>
                      <a:pt x="1414" y="25"/>
                      <a:pt x="1409" y="25"/>
                      <a:pt x="1376" y="28"/>
                    </a:cubicBezTo>
                    <a:cubicBezTo>
                      <a:pt x="1343" y="31"/>
                      <a:pt x="1274" y="38"/>
                      <a:pt x="1227" y="42"/>
                    </a:cubicBezTo>
                    <a:cubicBezTo>
                      <a:pt x="1180" y="46"/>
                      <a:pt x="1152" y="44"/>
                      <a:pt x="1095" y="46"/>
                    </a:cubicBezTo>
                    <a:cubicBezTo>
                      <a:pt x="1038" y="48"/>
                      <a:pt x="953" y="53"/>
                      <a:pt x="887" y="56"/>
                    </a:cubicBezTo>
                    <a:cubicBezTo>
                      <a:pt x="821" y="59"/>
                      <a:pt x="755" y="62"/>
                      <a:pt x="699" y="66"/>
                    </a:cubicBezTo>
                    <a:cubicBezTo>
                      <a:pt x="643" y="70"/>
                      <a:pt x="592" y="76"/>
                      <a:pt x="549" y="82"/>
                    </a:cubicBezTo>
                    <a:cubicBezTo>
                      <a:pt x="506" y="88"/>
                      <a:pt x="476" y="97"/>
                      <a:pt x="443" y="105"/>
                    </a:cubicBezTo>
                    <a:cubicBezTo>
                      <a:pt x="410" y="113"/>
                      <a:pt x="381" y="121"/>
                      <a:pt x="353" y="132"/>
                    </a:cubicBezTo>
                    <a:cubicBezTo>
                      <a:pt x="325" y="143"/>
                      <a:pt x="301" y="153"/>
                      <a:pt x="275" y="169"/>
                    </a:cubicBezTo>
                    <a:cubicBezTo>
                      <a:pt x="275" y="169"/>
                      <a:pt x="220" y="205"/>
                      <a:pt x="198" y="225"/>
                    </a:cubicBezTo>
                    <a:cubicBezTo>
                      <a:pt x="176" y="245"/>
                      <a:pt x="155" y="270"/>
                      <a:pt x="137" y="289"/>
                    </a:cubicBezTo>
                    <a:cubicBezTo>
                      <a:pt x="119" y="308"/>
                      <a:pt x="109" y="324"/>
                      <a:pt x="98" y="340"/>
                    </a:cubicBezTo>
                    <a:lnTo>
                      <a:pt x="65" y="390"/>
                    </a:lnTo>
                    <a:cubicBezTo>
                      <a:pt x="52" y="410"/>
                      <a:pt x="27" y="449"/>
                      <a:pt x="17" y="462"/>
                    </a:cubicBezTo>
                    <a:lnTo>
                      <a:pt x="6" y="471"/>
                    </a:lnTo>
                    <a:lnTo>
                      <a:pt x="2" y="45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1"/>
              <p:cNvSpPr/>
              <p:nvPr/>
            </p:nvSpPr>
            <p:spPr>
              <a:xfrm>
                <a:off x="7094160" y="3995280"/>
                <a:ext cx="482400" cy="34128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960" h="680">
                    <a:moveTo>
                      <a:pt x="0" y="0"/>
                    </a:moveTo>
                    <a:lnTo>
                      <a:pt x="144" y="112"/>
                    </a:lnTo>
                    <a:lnTo>
                      <a:pt x="328" y="264"/>
                    </a:lnTo>
                    <a:lnTo>
                      <a:pt x="536" y="412"/>
                    </a:lnTo>
                    <a:lnTo>
                      <a:pt x="700" y="516"/>
                    </a:lnTo>
                    <a:lnTo>
                      <a:pt x="844" y="612"/>
                    </a:lnTo>
                    <a:lnTo>
                      <a:pt x="960" y="680"/>
                    </a:lnTo>
                    <a:lnTo>
                      <a:pt x="712" y="476"/>
                    </a:lnTo>
                    <a:lnTo>
                      <a:pt x="536" y="344"/>
                    </a:lnTo>
                    <a:lnTo>
                      <a:pt x="308" y="192"/>
                    </a:lnTo>
                    <a:lnTo>
                      <a:pt x="104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2"/>
              <p:cNvSpPr/>
              <p:nvPr/>
            </p:nvSpPr>
            <p:spPr>
              <a:xfrm>
                <a:off x="6643440" y="4502160"/>
                <a:ext cx="1248120" cy="375840"/>
              </a:xfrm>
              <a:custGeom>
                <a:avLst/>
                <a:gdLst>
                  <a:gd name="textAreaLeft" fmla="*/ 0 w 1248120"/>
                  <a:gd name="textAreaRight" fmla="*/ 1248480 w 12481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2040" h="612">
                    <a:moveTo>
                      <a:pt x="0" y="528"/>
                    </a:moveTo>
                    <a:lnTo>
                      <a:pt x="2000" y="68"/>
                    </a:lnTo>
                    <a:lnTo>
                      <a:pt x="1888" y="0"/>
                    </a:lnTo>
                    <a:lnTo>
                      <a:pt x="2040" y="72"/>
                    </a:lnTo>
                    <a:lnTo>
                      <a:pt x="16" y="612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3"/>
              <p:cNvSpPr/>
              <p:nvPr/>
            </p:nvSpPr>
            <p:spPr>
              <a:xfrm flipH="1" rot="20490600">
                <a:off x="5946840" y="4630680"/>
                <a:ext cx="516240" cy="175680"/>
              </a:xfrm>
              <a:custGeom>
                <a:avLst/>
                <a:gdLst>
                  <a:gd name="textAreaLeft" fmla="*/ 360 w 516240"/>
                  <a:gd name="textAreaRight" fmla="*/ 516960 w 51624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4"/>
              <p:cNvSpPr/>
              <p:nvPr/>
            </p:nvSpPr>
            <p:spPr>
              <a:xfrm rot="1374000">
                <a:off x="5505840" y="4469040"/>
                <a:ext cx="921960" cy="461880"/>
              </a:xfrm>
              <a:custGeom>
                <a:avLst/>
                <a:gdLst>
                  <a:gd name="textAreaLeft" fmla="*/ 0 w 921960"/>
                  <a:gd name="textAreaRight" fmla="*/ 922320 w 92196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1516" h="1039">
                    <a:moveTo>
                      <a:pt x="0" y="1039"/>
                    </a:moveTo>
                    <a:cubicBezTo>
                      <a:pt x="31" y="1017"/>
                      <a:pt x="168" y="942"/>
                      <a:pt x="234" y="898"/>
                    </a:cubicBezTo>
                    <a:cubicBezTo>
                      <a:pt x="300" y="854"/>
                      <a:pt x="342" y="823"/>
                      <a:pt x="399" y="772"/>
                    </a:cubicBezTo>
                    <a:cubicBezTo>
                      <a:pt x="456" y="721"/>
                      <a:pt x="520" y="654"/>
                      <a:pt x="576" y="592"/>
                    </a:cubicBezTo>
                    <a:cubicBezTo>
                      <a:pt x="632" y="530"/>
                      <a:pt x="688" y="456"/>
                      <a:pt x="738" y="397"/>
                    </a:cubicBezTo>
                    <a:cubicBezTo>
                      <a:pt x="788" y="338"/>
                      <a:pt x="830" y="285"/>
                      <a:pt x="873" y="238"/>
                    </a:cubicBezTo>
                    <a:cubicBezTo>
                      <a:pt x="916" y="191"/>
                      <a:pt x="958" y="147"/>
                      <a:pt x="999" y="115"/>
                    </a:cubicBezTo>
                    <a:cubicBezTo>
                      <a:pt x="1040" y="83"/>
                      <a:pt x="1077" y="61"/>
                      <a:pt x="1119" y="43"/>
                    </a:cubicBezTo>
                    <a:cubicBezTo>
                      <a:pt x="1161" y="25"/>
                      <a:pt x="1211" y="13"/>
                      <a:pt x="1254" y="7"/>
                    </a:cubicBezTo>
                    <a:cubicBezTo>
                      <a:pt x="1297" y="1"/>
                      <a:pt x="1345" y="0"/>
                      <a:pt x="1380" y="4"/>
                    </a:cubicBezTo>
                    <a:cubicBezTo>
                      <a:pt x="1415" y="8"/>
                      <a:pt x="1447" y="23"/>
                      <a:pt x="1467" y="31"/>
                    </a:cubicBezTo>
                    <a:cubicBezTo>
                      <a:pt x="1487" y="39"/>
                      <a:pt x="1516" y="55"/>
                      <a:pt x="1500" y="55"/>
                    </a:cubicBezTo>
                    <a:lnTo>
                      <a:pt x="1368" y="31"/>
                    </a:lnTo>
                    <a:cubicBezTo>
                      <a:pt x="1325" y="28"/>
                      <a:pt x="1280" y="31"/>
                      <a:pt x="1242" y="37"/>
                    </a:cubicBezTo>
                    <a:cubicBezTo>
                      <a:pt x="1204" y="43"/>
                      <a:pt x="1175" y="53"/>
                      <a:pt x="1140" y="70"/>
                    </a:cubicBezTo>
                    <a:cubicBezTo>
                      <a:pt x="1105" y="87"/>
                      <a:pt x="1064" y="117"/>
                      <a:pt x="1032" y="142"/>
                    </a:cubicBezTo>
                    <a:cubicBezTo>
                      <a:pt x="1000" y="167"/>
                      <a:pt x="973" y="197"/>
                      <a:pt x="948" y="223"/>
                    </a:cubicBezTo>
                    <a:cubicBezTo>
                      <a:pt x="923" y="249"/>
                      <a:pt x="908" y="268"/>
                      <a:pt x="882" y="301"/>
                    </a:cubicBezTo>
                    <a:cubicBezTo>
                      <a:pt x="856" y="334"/>
                      <a:pt x="824" y="380"/>
                      <a:pt x="789" y="424"/>
                    </a:cubicBezTo>
                    <a:cubicBezTo>
                      <a:pt x="754" y="468"/>
                      <a:pt x="709" y="519"/>
                      <a:pt x="672" y="562"/>
                    </a:cubicBezTo>
                    <a:cubicBezTo>
                      <a:pt x="635" y="605"/>
                      <a:pt x="607" y="640"/>
                      <a:pt x="567" y="679"/>
                    </a:cubicBezTo>
                    <a:cubicBezTo>
                      <a:pt x="527" y="718"/>
                      <a:pt x="474" y="763"/>
                      <a:pt x="429" y="799"/>
                    </a:cubicBezTo>
                    <a:cubicBezTo>
                      <a:pt x="384" y="835"/>
                      <a:pt x="339" y="863"/>
                      <a:pt x="294" y="892"/>
                    </a:cubicBezTo>
                    <a:cubicBezTo>
                      <a:pt x="249" y="921"/>
                      <a:pt x="197" y="953"/>
                      <a:pt x="156" y="976"/>
                    </a:cubicBezTo>
                    <a:cubicBezTo>
                      <a:pt x="115" y="999"/>
                      <a:pt x="71" y="1019"/>
                      <a:pt x="45" y="1030"/>
                    </a:cubicBezTo>
                    <a:lnTo>
                      <a:pt x="0" y="103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5"/>
              <p:cNvSpPr/>
              <p:nvPr/>
            </p:nvSpPr>
            <p:spPr>
              <a:xfrm rot="1374000">
                <a:off x="5865840" y="4624920"/>
                <a:ext cx="541440" cy="259560"/>
              </a:xfrm>
              <a:custGeom>
                <a:avLst/>
                <a:gdLst>
                  <a:gd name="textAreaLeft" fmla="*/ 0 w 541440"/>
                  <a:gd name="textAreaRight" fmla="*/ 541800 w 54144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894" h="549">
                    <a:moveTo>
                      <a:pt x="0" y="549"/>
                    </a:moveTo>
                    <a:cubicBezTo>
                      <a:pt x="0" y="549"/>
                      <a:pt x="174" y="405"/>
                      <a:pt x="174" y="405"/>
                    </a:cubicBezTo>
                    <a:cubicBezTo>
                      <a:pt x="174" y="405"/>
                      <a:pt x="294" y="300"/>
                      <a:pt x="294" y="300"/>
                    </a:cubicBezTo>
                    <a:cubicBezTo>
                      <a:pt x="294" y="300"/>
                      <a:pt x="403" y="199"/>
                      <a:pt x="441" y="162"/>
                    </a:cubicBezTo>
                    <a:cubicBezTo>
                      <a:pt x="479" y="125"/>
                      <a:pt x="495" y="100"/>
                      <a:pt x="522" y="78"/>
                    </a:cubicBezTo>
                    <a:cubicBezTo>
                      <a:pt x="549" y="56"/>
                      <a:pt x="580" y="41"/>
                      <a:pt x="603" y="30"/>
                    </a:cubicBezTo>
                    <a:cubicBezTo>
                      <a:pt x="626" y="19"/>
                      <a:pt x="635" y="13"/>
                      <a:pt x="663" y="9"/>
                    </a:cubicBezTo>
                    <a:cubicBezTo>
                      <a:pt x="691" y="5"/>
                      <a:pt x="738" y="0"/>
                      <a:pt x="771" y="3"/>
                    </a:cubicBezTo>
                    <a:cubicBezTo>
                      <a:pt x="804" y="6"/>
                      <a:pt x="840" y="18"/>
                      <a:pt x="861" y="27"/>
                    </a:cubicBezTo>
                    <a:cubicBezTo>
                      <a:pt x="882" y="36"/>
                      <a:pt x="894" y="53"/>
                      <a:pt x="894" y="57"/>
                    </a:cubicBezTo>
                    <a:cubicBezTo>
                      <a:pt x="894" y="61"/>
                      <a:pt x="879" y="55"/>
                      <a:pt x="864" y="51"/>
                    </a:cubicBezTo>
                    <a:cubicBezTo>
                      <a:pt x="849" y="47"/>
                      <a:pt x="822" y="36"/>
                      <a:pt x="801" y="33"/>
                    </a:cubicBezTo>
                    <a:cubicBezTo>
                      <a:pt x="780" y="30"/>
                      <a:pt x="761" y="28"/>
                      <a:pt x="735" y="33"/>
                    </a:cubicBezTo>
                    <a:cubicBezTo>
                      <a:pt x="709" y="38"/>
                      <a:pt x="669" y="53"/>
                      <a:pt x="642" y="66"/>
                    </a:cubicBezTo>
                    <a:cubicBezTo>
                      <a:pt x="615" y="79"/>
                      <a:pt x="594" y="94"/>
                      <a:pt x="573" y="111"/>
                    </a:cubicBezTo>
                    <a:cubicBezTo>
                      <a:pt x="552" y="128"/>
                      <a:pt x="535" y="143"/>
                      <a:pt x="513" y="165"/>
                    </a:cubicBezTo>
                    <a:cubicBezTo>
                      <a:pt x="491" y="187"/>
                      <a:pt x="466" y="213"/>
                      <a:pt x="441" y="234"/>
                    </a:cubicBezTo>
                    <a:cubicBezTo>
                      <a:pt x="415" y="257"/>
                      <a:pt x="387" y="279"/>
                      <a:pt x="357" y="303"/>
                    </a:cubicBezTo>
                    <a:cubicBezTo>
                      <a:pt x="327" y="327"/>
                      <a:pt x="294" y="352"/>
                      <a:pt x="261" y="378"/>
                    </a:cubicBezTo>
                    <a:cubicBezTo>
                      <a:pt x="228" y="404"/>
                      <a:pt x="192" y="436"/>
                      <a:pt x="159" y="459"/>
                    </a:cubicBezTo>
                    <a:cubicBezTo>
                      <a:pt x="126" y="482"/>
                      <a:pt x="92" y="498"/>
                      <a:pt x="66" y="513"/>
                    </a:cubicBez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6"/>
              <p:cNvSpPr/>
              <p:nvPr/>
            </p:nvSpPr>
            <p:spPr>
              <a:xfrm rot="1374000">
                <a:off x="5317920" y="4031640"/>
                <a:ext cx="1225440" cy="874800"/>
              </a:xfrm>
              <a:custGeom>
                <a:avLst/>
                <a:gdLst>
                  <a:gd name="textAreaLeft" fmla="*/ 0 w 1225440"/>
                  <a:gd name="textAreaRight" fmla="*/ 1225800 w 1225440"/>
                  <a:gd name="textAreaTop" fmla="*/ 0 h 874800"/>
                  <a:gd name="textAreaBottom" fmla="*/ 875160 h 874800"/>
                </a:gdLst>
                <a:ahLst/>
                <a:rect l="textAreaLeft" t="textAreaTop" r="textAreaRight" b="textAreaBottom"/>
                <a:pathLst>
                  <a:path w="2016" h="1850">
                    <a:moveTo>
                      <a:pt x="2016" y="884"/>
                    </a:moveTo>
                    <a:lnTo>
                      <a:pt x="1394" y="114"/>
                    </a:lnTo>
                    <a:lnTo>
                      <a:pt x="1364" y="80"/>
                    </a:lnTo>
                    <a:cubicBezTo>
                      <a:pt x="1339" y="69"/>
                      <a:pt x="1287" y="54"/>
                      <a:pt x="1242" y="50"/>
                    </a:cubicBezTo>
                    <a:cubicBezTo>
                      <a:pt x="1197" y="46"/>
                      <a:pt x="1129" y="54"/>
                      <a:pt x="1092" y="56"/>
                    </a:cubicBezTo>
                    <a:cubicBezTo>
                      <a:pt x="1055" y="58"/>
                      <a:pt x="1050" y="59"/>
                      <a:pt x="1022" y="64"/>
                    </a:cubicBezTo>
                    <a:lnTo>
                      <a:pt x="926" y="86"/>
                    </a:lnTo>
                    <a:cubicBezTo>
                      <a:pt x="891" y="98"/>
                      <a:pt x="846" y="113"/>
                      <a:pt x="810" y="134"/>
                    </a:cubicBezTo>
                    <a:cubicBezTo>
                      <a:pt x="774" y="155"/>
                      <a:pt x="748" y="180"/>
                      <a:pt x="708" y="212"/>
                    </a:cubicBezTo>
                    <a:cubicBezTo>
                      <a:pt x="668" y="244"/>
                      <a:pt x="616" y="289"/>
                      <a:pt x="570" y="326"/>
                    </a:cubicBezTo>
                    <a:cubicBezTo>
                      <a:pt x="524" y="363"/>
                      <a:pt x="487" y="400"/>
                      <a:pt x="432" y="434"/>
                    </a:cubicBezTo>
                    <a:cubicBezTo>
                      <a:pt x="377" y="468"/>
                      <a:pt x="291" y="507"/>
                      <a:pt x="240" y="534"/>
                    </a:cubicBezTo>
                    <a:cubicBezTo>
                      <a:pt x="189" y="561"/>
                      <a:pt x="156" y="579"/>
                      <a:pt x="126" y="596"/>
                    </a:cubicBezTo>
                    <a:lnTo>
                      <a:pt x="60" y="632"/>
                    </a:lnTo>
                    <a:lnTo>
                      <a:pt x="402" y="1850"/>
                    </a:lnTo>
                    <a:lnTo>
                      <a:pt x="0" y="590"/>
                    </a:lnTo>
                    <a:lnTo>
                      <a:pt x="192" y="500"/>
                    </a:lnTo>
                    <a:cubicBezTo>
                      <a:pt x="259" y="467"/>
                      <a:pt x="337" y="432"/>
                      <a:pt x="402" y="392"/>
                    </a:cubicBezTo>
                    <a:cubicBezTo>
                      <a:pt x="467" y="352"/>
                      <a:pt x="525" y="304"/>
                      <a:pt x="582" y="260"/>
                    </a:cubicBezTo>
                    <a:cubicBezTo>
                      <a:pt x="639" y="216"/>
                      <a:pt x="698" y="161"/>
                      <a:pt x="744" y="128"/>
                    </a:cubicBezTo>
                    <a:cubicBezTo>
                      <a:pt x="790" y="95"/>
                      <a:pt x="818" y="80"/>
                      <a:pt x="858" y="62"/>
                    </a:cubicBezTo>
                    <a:cubicBezTo>
                      <a:pt x="898" y="44"/>
                      <a:pt x="939" y="32"/>
                      <a:pt x="986" y="22"/>
                    </a:cubicBezTo>
                    <a:cubicBezTo>
                      <a:pt x="1033" y="12"/>
                      <a:pt x="1092" y="4"/>
                      <a:pt x="1140" y="2"/>
                    </a:cubicBezTo>
                    <a:cubicBezTo>
                      <a:pt x="1188" y="0"/>
                      <a:pt x="1236" y="4"/>
                      <a:pt x="1272" y="8"/>
                    </a:cubicBezTo>
                    <a:cubicBezTo>
                      <a:pt x="1311" y="15"/>
                      <a:pt x="1332" y="18"/>
                      <a:pt x="1354" y="26"/>
                    </a:cubicBezTo>
                    <a:cubicBezTo>
                      <a:pt x="1376" y="34"/>
                      <a:pt x="1393" y="48"/>
                      <a:pt x="1406" y="58"/>
                    </a:cubicBezTo>
                    <a:lnTo>
                      <a:pt x="1434" y="86"/>
                    </a:lnTo>
                    <a:lnTo>
                      <a:pt x="2016" y="8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"/>
              <p:cNvSpPr/>
              <p:nvPr/>
            </p:nvSpPr>
            <p:spPr>
              <a:xfrm rot="1374000">
                <a:off x="5118840" y="4346640"/>
                <a:ext cx="1381680" cy="731520"/>
              </a:xfrm>
              <a:custGeom>
                <a:avLst/>
                <a:gdLst>
                  <a:gd name="textAreaLeft" fmla="*/ 0 w 1381680"/>
                  <a:gd name="textAreaRight" fmla="*/ 1382040 w 1381680"/>
                  <a:gd name="textAreaTop" fmla="*/ 0 h 731520"/>
                  <a:gd name="textAreaBottom" fmla="*/ 731520 h 731520"/>
                </a:gdLst>
                <a:ahLst/>
                <a:rect l="textAreaLeft" t="textAreaTop" r="textAreaRight" b="textAreaBottom"/>
                <a:pathLst>
                  <a:path w="2140" h="1600">
                    <a:moveTo>
                      <a:pt x="2116" y="568"/>
                    </a:moveTo>
                    <a:lnTo>
                      <a:pt x="2140" y="656"/>
                    </a:lnTo>
                    <a:lnTo>
                      <a:pt x="324" y="1600"/>
                    </a:lnTo>
                    <a:lnTo>
                      <a:pt x="0" y="0"/>
                    </a:lnTo>
                    <a:lnTo>
                      <a:pt x="368" y="1508"/>
                    </a:lnTo>
                    <a:lnTo>
                      <a:pt x="2116" y="5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"/>
              <p:cNvSpPr/>
              <p:nvPr/>
            </p:nvSpPr>
            <p:spPr>
              <a:xfrm rot="1374000">
                <a:off x="5154480" y="4389480"/>
                <a:ext cx="1304640" cy="635400"/>
              </a:xfrm>
              <a:custGeom>
                <a:avLst/>
                <a:gdLst>
                  <a:gd name="textAreaLeft" fmla="*/ 0 w 1304640"/>
                  <a:gd name="textAreaRight" fmla="*/ 1305000 w 1304640"/>
                  <a:gd name="textAreaTop" fmla="*/ 0 h 635400"/>
                  <a:gd name="textAreaBottom" fmla="*/ 635760 h 635400"/>
                </a:gdLst>
                <a:ahLst/>
                <a:rect l="textAreaLeft" t="textAreaTop" r="textAreaRight" b="textAreaBottom"/>
                <a:pathLst>
                  <a:path w="2088" h="1492">
                    <a:moveTo>
                      <a:pt x="2088" y="444"/>
                    </a:moveTo>
                    <a:cubicBezTo>
                      <a:pt x="2076" y="441"/>
                      <a:pt x="1968" y="446"/>
                      <a:pt x="1912" y="460"/>
                    </a:cubicBezTo>
                    <a:cubicBezTo>
                      <a:pt x="1856" y="474"/>
                      <a:pt x="1797" y="503"/>
                      <a:pt x="1752" y="528"/>
                    </a:cubicBezTo>
                    <a:lnTo>
                      <a:pt x="1640" y="608"/>
                    </a:lnTo>
                    <a:lnTo>
                      <a:pt x="1516" y="704"/>
                    </a:lnTo>
                    <a:lnTo>
                      <a:pt x="1376" y="808"/>
                    </a:lnTo>
                    <a:lnTo>
                      <a:pt x="1180" y="960"/>
                    </a:lnTo>
                    <a:lnTo>
                      <a:pt x="1000" y="1084"/>
                    </a:lnTo>
                    <a:lnTo>
                      <a:pt x="844" y="1184"/>
                    </a:lnTo>
                    <a:lnTo>
                      <a:pt x="676" y="1288"/>
                    </a:lnTo>
                    <a:lnTo>
                      <a:pt x="516" y="1384"/>
                    </a:lnTo>
                    <a:lnTo>
                      <a:pt x="404" y="1448"/>
                    </a:lnTo>
                    <a:lnTo>
                      <a:pt x="376" y="1452"/>
                    </a:lnTo>
                    <a:lnTo>
                      <a:pt x="352" y="1388"/>
                    </a:lnTo>
                    <a:lnTo>
                      <a:pt x="12" y="60"/>
                    </a:lnTo>
                    <a:lnTo>
                      <a:pt x="96" y="0"/>
                    </a:lnTo>
                    <a:lnTo>
                      <a:pt x="0" y="52"/>
                    </a:lnTo>
                    <a:lnTo>
                      <a:pt x="348" y="1492"/>
                    </a:lnTo>
                    <a:lnTo>
                      <a:pt x="396" y="1488"/>
                    </a:lnTo>
                    <a:lnTo>
                      <a:pt x="492" y="1444"/>
                    </a:lnTo>
                    <a:cubicBezTo>
                      <a:pt x="549" y="1415"/>
                      <a:pt x="657" y="1361"/>
                      <a:pt x="736" y="1316"/>
                    </a:cubicBezTo>
                    <a:lnTo>
                      <a:pt x="964" y="1176"/>
                    </a:lnTo>
                    <a:lnTo>
                      <a:pt x="1144" y="1048"/>
                    </a:lnTo>
                    <a:lnTo>
                      <a:pt x="1380" y="880"/>
                    </a:lnTo>
                    <a:lnTo>
                      <a:pt x="1596" y="720"/>
                    </a:lnTo>
                    <a:cubicBezTo>
                      <a:pt x="1659" y="673"/>
                      <a:pt x="1715" y="627"/>
                      <a:pt x="1760" y="596"/>
                    </a:cubicBezTo>
                    <a:cubicBezTo>
                      <a:pt x="1805" y="565"/>
                      <a:pt x="1831" y="551"/>
                      <a:pt x="1868" y="532"/>
                    </a:cubicBezTo>
                    <a:cubicBezTo>
                      <a:pt x="1905" y="513"/>
                      <a:pt x="1947" y="495"/>
                      <a:pt x="1984" y="480"/>
                    </a:cubicBezTo>
                    <a:lnTo>
                      <a:pt x="2088" y="44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9"/>
              <p:cNvSpPr/>
              <p:nvPr/>
            </p:nvSpPr>
            <p:spPr>
              <a:xfrm rot="1374000">
                <a:off x="5245200" y="4504320"/>
                <a:ext cx="484560" cy="380160"/>
              </a:xfrm>
              <a:custGeom>
                <a:avLst/>
                <a:gdLst>
                  <a:gd name="textAreaLeft" fmla="*/ 0 w 484560"/>
                  <a:gd name="textAreaRight" fmla="*/ 484920 w 48456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800" h="808">
                    <a:moveTo>
                      <a:pt x="772" y="428"/>
                    </a:moveTo>
                    <a:cubicBezTo>
                      <a:pt x="746" y="440"/>
                      <a:pt x="691" y="477"/>
                      <a:pt x="644" y="504"/>
                    </a:cubicBezTo>
                    <a:lnTo>
                      <a:pt x="488" y="588"/>
                    </a:lnTo>
                    <a:cubicBezTo>
                      <a:pt x="432" y="619"/>
                      <a:pt x="349" y="668"/>
                      <a:pt x="308" y="692"/>
                    </a:cubicBezTo>
                    <a:lnTo>
                      <a:pt x="244" y="732"/>
                    </a:lnTo>
                    <a:lnTo>
                      <a:pt x="0" y="0"/>
                    </a:lnTo>
                    <a:lnTo>
                      <a:pt x="164" y="676"/>
                    </a:lnTo>
                    <a:lnTo>
                      <a:pt x="192" y="784"/>
                    </a:lnTo>
                    <a:lnTo>
                      <a:pt x="204" y="808"/>
                    </a:lnTo>
                    <a:lnTo>
                      <a:pt x="248" y="792"/>
                    </a:lnTo>
                    <a:cubicBezTo>
                      <a:pt x="265" y="781"/>
                      <a:pt x="269" y="765"/>
                      <a:pt x="304" y="740"/>
                    </a:cubicBezTo>
                    <a:cubicBezTo>
                      <a:pt x="339" y="715"/>
                      <a:pt x="403" y="672"/>
                      <a:pt x="456" y="640"/>
                    </a:cubicBezTo>
                    <a:cubicBezTo>
                      <a:pt x="509" y="608"/>
                      <a:pt x="572" y="577"/>
                      <a:pt x="620" y="548"/>
                    </a:cubicBezTo>
                    <a:lnTo>
                      <a:pt x="744" y="464"/>
                    </a:lnTo>
                    <a:cubicBezTo>
                      <a:pt x="774" y="445"/>
                      <a:pt x="795" y="438"/>
                      <a:pt x="800" y="432"/>
                    </a:cubicBezTo>
                    <a:lnTo>
                      <a:pt x="772" y="4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1"/>
              <p:cNvSpPr/>
              <p:nvPr/>
            </p:nvSpPr>
            <p:spPr>
              <a:xfrm>
                <a:off x="6468480" y="4827600"/>
                <a:ext cx="202320" cy="1108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6" y="70"/>
                    </a:moveTo>
                    <a:cubicBezTo>
                      <a:pt x="11" y="51"/>
                      <a:pt x="77" y="22"/>
                      <a:pt x="77" y="22"/>
                    </a:cubicBezTo>
                    <a:cubicBezTo>
                      <a:pt x="77" y="22"/>
                      <a:pt x="181" y="2"/>
                      <a:pt x="181" y="2"/>
                    </a:cubicBezTo>
                    <a:cubicBezTo>
                      <a:pt x="181" y="2"/>
                      <a:pt x="249" y="0"/>
                      <a:pt x="249" y="0"/>
                    </a:cubicBezTo>
                    <a:cubicBezTo>
                      <a:pt x="267" y="4"/>
                      <a:pt x="274" y="15"/>
                      <a:pt x="266" y="32"/>
                    </a:cubicBezTo>
                    <a:cubicBezTo>
                      <a:pt x="257" y="48"/>
                      <a:pt x="217" y="85"/>
                      <a:pt x="193" y="101"/>
                    </a:cubicBezTo>
                    <a:cubicBezTo>
                      <a:pt x="193" y="101"/>
                      <a:pt x="142" y="124"/>
                      <a:pt x="123" y="125"/>
                    </a:cubicBezTo>
                    <a:cubicBezTo>
                      <a:pt x="105" y="125"/>
                      <a:pt x="48" y="108"/>
                      <a:pt x="48" y="108"/>
                    </a:cubicBezTo>
                    <a:cubicBezTo>
                      <a:pt x="27" y="96"/>
                      <a:pt x="0" y="88"/>
                      <a:pt x="6" y="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2"/>
              <p:cNvSpPr/>
              <p:nvPr/>
            </p:nvSpPr>
            <p:spPr>
              <a:xfrm rot="21390600">
                <a:off x="6495840" y="2580480"/>
                <a:ext cx="1270800" cy="1925640"/>
              </a:xfrm>
              <a:custGeom>
                <a:avLst/>
                <a:gdLst>
                  <a:gd name="textAreaLeft" fmla="*/ 0 w 1270800"/>
                  <a:gd name="textAreaRight" fmla="*/ 1271160 w 1270800"/>
                  <a:gd name="textAreaTop" fmla="*/ 0 h 1925640"/>
                  <a:gd name="textAreaBottom" fmla="*/ 1926000 h 192564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3"/>
              <p:cNvSpPr/>
              <p:nvPr/>
            </p:nvSpPr>
            <p:spPr>
              <a:xfrm flipH="1" rot="21262800">
                <a:off x="5232960" y="2662200"/>
                <a:ext cx="1230120" cy="2058120"/>
              </a:xfrm>
              <a:custGeom>
                <a:avLst/>
                <a:gdLst>
                  <a:gd name="textAreaLeft" fmla="*/ -360 w 1230120"/>
                  <a:gd name="textAreaRight" fmla="*/ 1230120 w 1230120"/>
                  <a:gd name="textAreaTop" fmla="*/ 0 h 2058120"/>
                  <a:gd name="textAreaBottom" fmla="*/ 2058480 h 205812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4"/>
              <p:cNvSpPr/>
              <p:nvPr/>
            </p:nvSpPr>
            <p:spPr>
              <a:xfrm flipH="1" rot="21262800">
                <a:off x="5288040" y="2631600"/>
                <a:ext cx="1105560" cy="1436760"/>
              </a:xfrm>
              <a:custGeom>
                <a:avLst/>
                <a:gdLst>
                  <a:gd name="textAreaLeft" fmla="*/ -360 w 1105560"/>
                  <a:gd name="textAreaRight" fmla="*/ 1105560 w 1105560"/>
                  <a:gd name="textAreaTop" fmla="*/ 0 h 1436760"/>
                  <a:gd name="textAreaBottom" fmla="*/ 1437120 h 143676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5"/>
              <p:cNvSpPr/>
              <p:nvPr/>
            </p:nvSpPr>
            <p:spPr>
              <a:xfrm rot="337200">
                <a:off x="6307560" y="2635920"/>
                <a:ext cx="835920" cy="12693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1269360"/>
                  <a:gd name="textAreaBottom" fmla="*/ 1269720 h 126936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Text Box 26"/>
          <p:cNvGrpSpPr/>
          <p:nvPr/>
        </p:nvGrpSpPr>
        <p:grpSpPr>
          <a:xfrm>
            <a:off x="3151080" y="1158840"/>
            <a:ext cx="3133800" cy="2048040"/>
            <a:chOff x="3151080" y="1158840"/>
            <a:chExt cx="3133800" cy="2048040"/>
          </a:xfrm>
        </p:grpSpPr>
        <p:pic>
          <p:nvPicPr>
            <p:cNvPr id="233" name="Text Box 26" descr=""/>
            <p:cNvPicPr/>
            <p:nvPr/>
          </p:nvPicPr>
          <p:blipFill>
            <a:blip r:embed="rId2"/>
            <a:stretch/>
          </p:blipFill>
          <p:spPr>
            <a:xfrm>
              <a:off x="3151080" y="1158840"/>
              <a:ext cx="31338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173400" y="1177920"/>
              <a:ext cx="309888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500" spc="-1" strike="noStrike">
                  <a:solidFill>
                    <a:srgbClr val="ff0000"/>
                  </a:solidFill>
                  <a:latin typeface="Bradley Hand ITC"/>
                </a:rPr>
                <a:t>ê  </a:t>
              </a:r>
              <a:r>
                <a:rPr b="1" lang="fr-FR" sz="12500" spc="-1" strike="noStrike">
                  <a:solidFill>
                    <a:srgbClr val="ffff00"/>
                  </a:solidFill>
                  <a:latin typeface="Bradley Hand ITC"/>
                </a:rPr>
                <a:t>i </a:t>
              </a:r>
              <a:endParaRPr b="0" lang="en-US" sz="1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rcRect l="29058" t="28908" r="69155" b="65530"/>
          <a:stretch/>
        </p:blipFill>
        <p:spPr>
          <a:xfrm>
            <a:off x="4384800" y="2009880"/>
            <a:ext cx="436320" cy="542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"/>
          <a:srcRect l="23511" t="28908" r="74107" b="65530"/>
          <a:stretch/>
        </p:blipFill>
        <p:spPr>
          <a:xfrm>
            <a:off x="3059280" y="2600280"/>
            <a:ext cx="580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2:40:54Z</dcterms:created>
  <dc:creator>pboineau</dc:creator>
  <dc:description/>
  <dc:language>en-US</dc:language>
  <cp:lastModifiedBy>p.boineau</cp:lastModifiedBy>
  <dcterms:modified xsi:type="dcterms:W3CDTF">2012-03-15T12:41:40Z</dcterms:modified>
  <cp:revision>32</cp:revision>
  <dc:subject/>
  <dc:title>Diapositive 1</dc:title>
</cp:coreProperties>
</file>