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png" ContentType="image/png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Tendeur de liss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  <a:ea typeface="Arial"/>
              </a:rPr>
              <a:t>TENDEUR DE LI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: Jean-Pierre Muzeau                                                    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Mise sous forme PowerPoint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: 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0234" descr=""/>
          <p:cNvPicPr/>
          <p:nvPr/>
        </p:nvPicPr>
        <p:blipFill>
          <a:blip r:embed="rId3"/>
          <a:srcRect l="0" t="31125" r="26687" b="0"/>
          <a:stretch/>
        </p:blipFill>
        <p:spPr>
          <a:xfrm>
            <a:off x="2610000" y="425520"/>
            <a:ext cx="3933720" cy="277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03480" y="1743120"/>
            <a:ext cx="48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2509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2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2513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8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a portée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susceptibles de fl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98508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013520" y="5227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>
            <a:hlinkClick r:id="" action="ppaction://hlinkshowjump?jump=nextslide"/>
          </p:cNvPr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854760" y="561024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2551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2552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2553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9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8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2569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2570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5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2576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1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2582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9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2590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6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8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2599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2600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1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0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14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2615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2616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9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2640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3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2664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2665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3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2674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2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2683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1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2692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0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2701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2702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6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2707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1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2712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6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2717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1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2722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6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2727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0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2731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5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2737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2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2743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47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2749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2752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2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2763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3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2774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2775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8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2779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1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2782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7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2788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2789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1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2792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4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2795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7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2798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00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2801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2802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2819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2832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5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2836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1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a portée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susceptibles de fl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8508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013520" y="5227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38040" y="5573880"/>
            <a:ext cx="6297840" cy="31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peuvent éviter le déversement des li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98508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>
            <a:hlinkClick r:id="" action="ppaction://hlinkshowjump?jump=nextslide"/>
          </p:cNvPr>
          <p:cNvSpPr/>
          <p:nvPr/>
        </p:nvSpPr>
        <p:spPr>
          <a:xfrm>
            <a:off x="7013520" y="5622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93440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962840" y="5622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854760" y="601020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8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2879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2880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2881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2882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7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2888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6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2897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2898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3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2904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9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2910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7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2918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4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6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2927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2928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9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0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4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5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2936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7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8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2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2943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2944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7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2968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1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2992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1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3002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0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3011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9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3020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8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3029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4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3035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9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3040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9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3050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4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3055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8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3059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3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4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3065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0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3071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75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6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3077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9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3080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90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3091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3092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6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3097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01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3102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3103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3104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6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3107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9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3110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2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3113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5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3116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9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2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5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3126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8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3129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3130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6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3147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9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3160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3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3164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9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a portée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susceptibles de fl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338040" y="5573880"/>
            <a:ext cx="6297840" cy="31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peuvent éviter le déversement des li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698508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013520" y="56228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5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3196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3197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3198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3199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4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3205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3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3214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3215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0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6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3227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4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1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3242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3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3244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3245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6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7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8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9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0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1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52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3253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4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5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6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7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8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59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3260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3261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4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3285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8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3309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3310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8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3319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7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3328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6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3337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5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3346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3347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1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6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3357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1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3362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6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3367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1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3372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5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3376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0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1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3382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3383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7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3388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92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3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3394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6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3397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7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3408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3409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3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3414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8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3419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3420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3421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3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3424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6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3427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9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32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3433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3434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6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3437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9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3440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2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3443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45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3446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3447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3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3464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8" name=""/>
          <p:cNvGrpSpPr/>
          <p:nvPr/>
        </p:nvGrpSpPr>
        <p:grpSpPr>
          <a:xfrm>
            <a:off x="2268360" y="619560"/>
            <a:ext cx="4960440" cy="4969080"/>
            <a:chOff x="2268360" y="619560"/>
            <a:chExt cx="4960440" cy="4969080"/>
          </a:xfrm>
        </p:grpSpPr>
        <p:sp>
          <p:nvSpPr>
            <p:cNvPr id="3479" name=""/>
            <p:cNvSpPr/>
            <p:nvPr/>
          </p:nvSpPr>
          <p:spPr>
            <a:xfrm>
              <a:off x="2320920" y="619560"/>
              <a:ext cx="4907880" cy="4969080"/>
            </a:xfrm>
            <a:custGeom>
              <a:avLst/>
              <a:gdLst/>
              <a:ahLst/>
              <a:rect l="l" t="t" r="r" b="b"/>
              <a:pathLst>
                <a:path w="2619" h="2652">
                  <a:moveTo>
                    <a:pt x="1125" y="0"/>
                  </a:moveTo>
                  <a:lnTo>
                    <a:pt x="190" y="346"/>
                  </a:lnTo>
                  <a:lnTo>
                    <a:pt x="0" y="1633"/>
                  </a:lnTo>
                  <a:lnTo>
                    <a:pt x="245" y="2641"/>
                  </a:lnTo>
                  <a:lnTo>
                    <a:pt x="1965" y="2652"/>
                  </a:lnTo>
                  <a:lnTo>
                    <a:pt x="2619" y="1475"/>
                  </a:lnTo>
                  <a:lnTo>
                    <a:pt x="2288" y="146"/>
                  </a:lnTo>
                  <a:lnTo>
                    <a:pt x="1125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320920" y="1058040"/>
              <a:ext cx="4551840" cy="3451320"/>
            </a:xfrm>
            <a:custGeom>
              <a:avLst/>
              <a:gdLst/>
              <a:ahLst/>
              <a:rect l="l" t="t" r="r" b="b"/>
              <a:pathLst>
                <a:path w="2429" h="1842">
                  <a:moveTo>
                    <a:pt x="1028" y="0"/>
                  </a:moveTo>
                  <a:lnTo>
                    <a:pt x="0" y="621"/>
                  </a:lnTo>
                  <a:lnTo>
                    <a:pt x="410" y="1707"/>
                  </a:lnTo>
                  <a:lnTo>
                    <a:pt x="1530" y="1842"/>
                  </a:lnTo>
                  <a:lnTo>
                    <a:pt x="2429" y="994"/>
                  </a:lnTo>
                  <a:lnTo>
                    <a:pt x="1741" y="61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268360" y="3688920"/>
              <a:ext cx="4536360" cy="1514160"/>
            </a:xfrm>
            <a:custGeom>
              <a:avLst/>
              <a:gdLst/>
              <a:ahLst/>
              <a:rect l="l" t="t" r="r" b="b"/>
              <a:pathLst>
                <a:path w="2422" h="808">
                  <a:moveTo>
                    <a:pt x="1601" y="0"/>
                  </a:moveTo>
                  <a:lnTo>
                    <a:pt x="0" y="270"/>
                  </a:lnTo>
                  <a:lnTo>
                    <a:pt x="0" y="635"/>
                  </a:lnTo>
                  <a:lnTo>
                    <a:pt x="2140" y="808"/>
                  </a:lnTo>
                  <a:lnTo>
                    <a:pt x="2140" y="806"/>
                  </a:lnTo>
                  <a:lnTo>
                    <a:pt x="2144" y="804"/>
                  </a:lnTo>
                  <a:lnTo>
                    <a:pt x="2146" y="802"/>
                  </a:lnTo>
                  <a:lnTo>
                    <a:pt x="2152" y="798"/>
                  </a:lnTo>
                  <a:lnTo>
                    <a:pt x="2158" y="794"/>
                  </a:lnTo>
                  <a:lnTo>
                    <a:pt x="2165" y="789"/>
                  </a:lnTo>
                  <a:lnTo>
                    <a:pt x="2173" y="783"/>
                  </a:lnTo>
                  <a:lnTo>
                    <a:pt x="2182" y="777"/>
                  </a:lnTo>
                  <a:lnTo>
                    <a:pt x="2188" y="773"/>
                  </a:lnTo>
                  <a:lnTo>
                    <a:pt x="2192" y="770"/>
                  </a:lnTo>
                  <a:lnTo>
                    <a:pt x="2197" y="764"/>
                  </a:lnTo>
                  <a:lnTo>
                    <a:pt x="2203" y="762"/>
                  </a:lnTo>
                  <a:lnTo>
                    <a:pt x="2209" y="756"/>
                  </a:lnTo>
                  <a:lnTo>
                    <a:pt x="2215" y="753"/>
                  </a:lnTo>
                  <a:lnTo>
                    <a:pt x="2220" y="749"/>
                  </a:lnTo>
                  <a:lnTo>
                    <a:pt x="2226" y="745"/>
                  </a:lnTo>
                  <a:lnTo>
                    <a:pt x="2232" y="739"/>
                  </a:lnTo>
                  <a:lnTo>
                    <a:pt x="2237" y="735"/>
                  </a:lnTo>
                  <a:lnTo>
                    <a:pt x="2243" y="730"/>
                  </a:lnTo>
                  <a:lnTo>
                    <a:pt x="2251" y="726"/>
                  </a:lnTo>
                  <a:lnTo>
                    <a:pt x="2256" y="720"/>
                  </a:lnTo>
                  <a:lnTo>
                    <a:pt x="2264" y="716"/>
                  </a:lnTo>
                  <a:lnTo>
                    <a:pt x="2270" y="711"/>
                  </a:lnTo>
                  <a:lnTo>
                    <a:pt x="2277" y="707"/>
                  </a:lnTo>
                  <a:lnTo>
                    <a:pt x="2281" y="699"/>
                  </a:lnTo>
                  <a:lnTo>
                    <a:pt x="2289" y="696"/>
                  </a:lnTo>
                  <a:lnTo>
                    <a:pt x="2294" y="690"/>
                  </a:lnTo>
                  <a:lnTo>
                    <a:pt x="2302" y="684"/>
                  </a:lnTo>
                  <a:lnTo>
                    <a:pt x="2308" y="678"/>
                  </a:lnTo>
                  <a:lnTo>
                    <a:pt x="2313" y="673"/>
                  </a:lnTo>
                  <a:lnTo>
                    <a:pt x="2319" y="669"/>
                  </a:lnTo>
                  <a:lnTo>
                    <a:pt x="2327" y="663"/>
                  </a:lnTo>
                  <a:lnTo>
                    <a:pt x="2332" y="657"/>
                  </a:lnTo>
                  <a:lnTo>
                    <a:pt x="2338" y="652"/>
                  </a:lnTo>
                  <a:lnTo>
                    <a:pt x="2344" y="646"/>
                  </a:lnTo>
                  <a:lnTo>
                    <a:pt x="2350" y="642"/>
                  </a:lnTo>
                  <a:lnTo>
                    <a:pt x="2355" y="637"/>
                  </a:lnTo>
                  <a:lnTo>
                    <a:pt x="2361" y="631"/>
                  </a:lnTo>
                  <a:lnTo>
                    <a:pt x="2367" y="625"/>
                  </a:lnTo>
                  <a:lnTo>
                    <a:pt x="2372" y="619"/>
                  </a:lnTo>
                  <a:lnTo>
                    <a:pt x="2376" y="616"/>
                  </a:lnTo>
                  <a:lnTo>
                    <a:pt x="2382" y="610"/>
                  </a:lnTo>
                  <a:lnTo>
                    <a:pt x="2386" y="604"/>
                  </a:lnTo>
                  <a:lnTo>
                    <a:pt x="2389" y="599"/>
                  </a:lnTo>
                  <a:lnTo>
                    <a:pt x="2397" y="589"/>
                  </a:lnTo>
                  <a:lnTo>
                    <a:pt x="2405" y="580"/>
                  </a:lnTo>
                  <a:lnTo>
                    <a:pt x="2410" y="572"/>
                  </a:lnTo>
                  <a:lnTo>
                    <a:pt x="2416" y="562"/>
                  </a:lnTo>
                  <a:lnTo>
                    <a:pt x="2418" y="555"/>
                  </a:lnTo>
                  <a:lnTo>
                    <a:pt x="2422" y="549"/>
                  </a:lnTo>
                  <a:lnTo>
                    <a:pt x="2420" y="543"/>
                  </a:lnTo>
                  <a:lnTo>
                    <a:pt x="2418" y="540"/>
                  </a:lnTo>
                  <a:lnTo>
                    <a:pt x="2416" y="534"/>
                  </a:lnTo>
                  <a:lnTo>
                    <a:pt x="2412" y="528"/>
                  </a:lnTo>
                  <a:lnTo>
                    <a:pt x="2407" y="523"/>
                  </a:lnTo>
                  <a:lnTo>
                    <a:pt x="2403" y="515"/>
                  </a:lnTo>
                  <a:lnTo>
                    <a:pt x="2395" y="509"/>
                  </a:lnTo>
                  <a:lnTo>
                    <a:pt x="2388" y="502"/>
                  </a:lnTo>
                  <a:lnTo>
                    <a:pt x="2378" y="494"/>
                  </a:lnTo>
                  <a:lnTo>
                    <a:pt x="2369" y="486"/>
                  </a:lnTo>
                  <a:lnTo>
                    <a:pt x="2359" y="477"/>
                  </a:lnTo>
                  <a:lnTo>
                    <a:pt x="2348" y="469"/>
                  </a:lnTo>
                  <a:lnTo>
                    <a:pt x="2336" y="458"/>
                  </a:lnTo>
                  <a:lnTo>
                    <a:pt x="2323" y="450"/>
                  </a:lnTo>
                  <a:lnTo>
                    <a:pt x="2310" y="441"/>
                  </a:lnTo>
                  <a:lnTo>
                    <a:pt x="2296" y="431"/>
                  </a:lnTo>
                  <a:lnTo>
                    <a:pt x="2281" y="418"/>
                  </a:lnTo>
                  <a:lnTo>
                    <a:pt x="2266" y="408"/>
                  </a:lnTo>
                  <a:lnTo>
                    <a:pt x="2251" y="397"/>
                  </a:lnTo>
                  <a:lnTo>
                    <a:pt x="2235" y="388"/>
                  </a:lnTo>
                  <a:lnTo>
                    <a:pt x="2216" y="376"/>
                  </a:lnTo>
                  <a:lnTo>
                    <a:pt x="2199" y="365"/>
                  </a:lnTo>
                  <a:lnTo>
                    <a:pt x="2182" y="353"/>
                  </a:lnTo>
                  <a:lnTo>
                    <a:pt x="2165" y="340"/>
                  </a:lnTo>
                  <a:lnTo>
                    <a:pt x="2148" y="329"/>
                  </a:lnTo>
                  <a:lnTo>
                    <a:pt x="2129" y="317"/>
                  </a:lnTo>
                  <a:lnTo>
                    <a:pt x="2110" y="304"/>
                  </a:lnTo>
                  <a:lnTo>
                    <a:pt x="2091" y="292"/>
                  </a:lnTo>
                  <a:lnTo>
                    <a:pt x="2072" y="281"/>
                  </a:lnTo>
                  <a:lnTo>
                    <a:pt x="2053" y="270"/>
                  </a:lnTo>
                  <a:lnTo>
                    <a:pt x="2034" y="258"/>
                  </a:lnTo>
                  <a:lnTo>
                    <a:pt x="2015" y="247"/>
                  </a:lnTo>
                  <a:lnTo>
                    <a:pt x="1994" y="234"/>
                  </a:lnTo>
                  <a:lnTo>
                    <a:pt x="1975" y="222"/>
                  </a:lnTo>
                  <a:lnTo>
                    <a:pt x="1956" y="209"/>
                  </a:lnTo>
                  <a:lnTo>
                    <a:pt x="1937" y="197"/>
                  </a:lnTo>
                  <a:lnTo>
                    <a:pt x="1918" y="186"/>
                  </a:lnTo>
                  <a:lnTo>
                    <a:pt x="1899" y="175"/>
                  </a:lnTo>
                  <a:lnTo>
                    <a:pt x="1880" y="163"/>
                  </a:lnTo>
                  <a:lnTo>
                    <a:pt x="1863" y="154"/>
                  </a:lnTo>
                  <a:lnTo>
                    <a:pt x="1844" y="140"/>
                  </a:lnTo>
                  <a:lnTo>
                    <a:pt x="1827" y="131"/>
                  </a:lnTo>
                  <a:lnTo>
                    <a:pt x="1808" y="119"/>
                  </a:lnTo>
                  <a:lnTo>
                    <a:pt x="1793" y="112"/>
                  </a:lnTo>
                  <a:lnTo>
                    <a:pt x="1775" y="100"/>
                  </a:lnTo>
                  <a:lnTo>
                    <a:pt x="1760" y="91"/>
                  </a:lnTo>
                  <a:lnTo>
                    <a:pt x="1743" y="83"/>
                  </a:lnTo>
                  <a:lnTo>
                    <a:pt x="1732" y="74"/>
                  </a:lnTo>
                  <a:lnTo>
                    <a:pt x="1717" y="66"/>
                  </a:lnTo>
                  <a:lnTo>
                    <a:pt x="1703" y="59"/>
                  </a:lnTo>
                  <a:lnTo>
                    <a:pt x="1688" y="49"/>
                  </a:lnTo>
                  <a:lnTo>
                    <a:pt x="1677" y="43"/>
                  </a:lnTo>
                  <a:lnTo>
                    <a:pt x="1665" y="36"/>
                  </a:lnTo>
                  <a:lnTo>
                    <a:pt x="1654" y="30"/>
                  </a:lnTo>
                  <a:lnTo>
                    <a:pt x="1644" y="24"/>
                  </a:lnTo>
                  <a:lnTo>
                    <a:pt x="1637" y="21"/>
                  </a:lnTo>
                  <a:lnTo>
                    <a:pt x="1627" y="15"/>
                  </a:lnTo>
                  <a:lnTo>
                    <a:pt x="1621" y="9"/>
                  </a:lnTo>
                  <a:lnTo>
                    <a:pt x="1616" y="5"/>
                  </a:lnTo>
                  <a:lnTo>
                    <a:pt x="1610" y="4"/>
                  </a:lnTo>
                  <a:lnTo>
                    <a:pt x="1602" y="0"/>
                  </a:lnTo>
                  <a:lnTo>
                    <a:pt x="1601" y="0"/>
                  </a:lnTo>
                  <a:lnTo>
                    <a:pt x="1601" y="0"/>
                  </a:lnTo>
                  <a:close/>
                </a:path>
              </a:pathLst>
            </a:custGeom>
            <a:solidFill>
              <a:srgbClr val="f7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628360" y="1406520"/>
              <a:ext cx="3798360" cy="2769120"/>
            </a:xfrm>
            <a:custGeom>
              <a:avLst/>
              <a:gdLst/>
              <a:ahLst/>
              <a:rect l="l" t="t" r="r" b="b"/>
              <a:pathLst>
                <a:path w="2028" h="1477">
                  <a:moveTo>
                    <a:pt x="9" y="0"/>
                  </a:moveTo>
                  <a:lnTo>
                    <a:pt x="2028" y="0"/>
                  </a:lnTo>
                  <a:lnTo>
                    <a:pt x="2009" y="1460"/>
                  </a:lnTo>
                  <a:lnTo>
                    <a:pt x="0" y="1477"/>
                  </a:lnTo>
                  <a:lnTo>
                    <a:pt x="53" y="1426"/>
                  </a:lnTo>
                  <a:lnTo>
                    <a:pt x="1954" y="1413"/>
                  </a:lnTo>
                  <a:lnTo>
                    <a:pt x="1973" y="61"/>
                  </a:lnTo>
                  <a:lnTo>
                    <a:pt x="55" y="5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628360" y="1406520"/>
              <a:ext cx="108720" cy="2769120"/>
            </a:xfrm>
            <a:custGeom>
              <a:avLst/>
              <a:gdLst/>
              <a:ahLst/>
              <a:rect l="l" t="t" r="r" b="b"/>
              <a:pathLst>
                <a:path w="59" h="1477">
                  <a:moveTo>
                    <a:pt x="59" y="50"/>
                  </a:moveTo>
                  <a:lnTo>
                    <a:pt x="53" y="1426"/>
                  </a:lnTo>
                  <a:lnTo>
                    <a:pt x="0" y="1477"/>
                  </a:lnTo>
                  <a:lnTo>
                    <a:pt x="9" y="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710880" y="1706400"/>
              <a:ext cx="1734480" cy="1997640"/>
            </a:xfrm>
            <a:custGeom>
              <a:avLst/>
              <a:gdLst/>
              <a:ahLst/>
              <a:rect l="l" t="t" r="r" b="b"/>
              <a:pathLst>
                <a:path w="926" h="1066">
                  <a:moveTo>
                    <a:pt x="312" y="0"/>
                  </a:moveTo>
                  <a:lnTo>
                    <a:pt x="0" y="420"/>
                  </a:lnTo>
                  <a:lnTo>
                    <a:pt x="376" y="1066"/>
                  </a:lnTo>
                  <a:lnTo>
                    <a:pt x="926" y="447"/>
                  </a:lnTo>
                  <a:lnTo>
                    <a:pt x="640" y="3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abf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107520" y="1437120"/>
              <a:ext cx="565560" cy="2697840"/>
            </a:xfrm>
            <a:custGeom>
              <a:avLst/>
              <a:gdLst/>
              <a:ahLst/>
              <a:rect l="l" t="t" r="r" b="b"/>
              <a:pathLst>
                <a:path w="302" h="1441">
                  <a:moveTo>
                    <a:pt x="258" y="27"/>
                  </a:moveTo>
                  <a:lnTo>
                    <a:pt x="258" y="27"/>
                  </a:lnTo>
                  <a:lnTo>
                    <a:pt x="258" y="31"/>
                  </a:lnTo>
                  <a:lnTo>
                    <a:pt x="258" y="35"/>
                  </a:lnTo>
                  <a:lnTo>
                    <a:pt x="258" y="38"/>
                  </a:lnTo>
                  <a:lnTo>
                    <a:pt x="260" y="42"/>
                  </a:lnTo>
                  <a:lnTo>
                    <a:pt x="260" y="50"/>
                  </a:lnTo>
                  <a:lnTo>
                    <a:pt x="260" y="55"/>
                  </a:lnTo>
                  <a:lnTo>
                    <a:pt x="260" y="61"/>
                  </a:lnTo>
                  <a:lnTo>
                    <a:pt x="262" y="69"/>
                  </a:lnTo>
                  <a:lnTo>
                    <a:pt x="262" y="76"/>
                  </a:lnTo>
                  <a:lnTo>
                    <a:pt x="264" y="84"/>
                  </a:lnTo>
                  <a:lnTo>
                    <a:pt x="264" y="94"/>
                  </a:lnTo>
                  <a:lnTo>
                    <a:pt x="266" y="101"/>
                  </a:lnTo>
                  <a:lnTo>
                    <a:pt x="266" y="113"/>
                  </a:lnTo>
                  <a:lnTo>
                    <a:pt x="266" y="122"/>
                  </a:lnTo>
                  <a:lnTo>
                    <a:pt x="268" y="133"/>
                  </a:lnTo>
                  <a:lnTo>
                    <a:pt x="268" y="143"/>
                  </a:lnTo>
                  <a:lnTo>
                    <a:pt x="270" y="154"/>
                  </a:lnTo>
                  <a:lnTo>
                    <a:pt x="270" y="166"/>
                  </a:lnTo>
                  <a:lnTo>
                    <a:pt x="271" y="179"/>
                  </a:lnTo>
                  <a:lnTo>
                    <a:pt x="271" y="190"/>
                  </a:lnTo>
                  <a:lnTo>
                    <a:pt x="273" y="204"/>
                  </a:lnTo>
                  <a:lnTo>
                    <a:pt x="275" y="217"/>
                  </a:lnTo>
                  <a:lnTo>
                    <a:pt x="275" y="230"/>
                  </a:lnTo>
                  <a:lnTo>
                    <a:pt x="277" y="244"/>
                  </a:lnTo>
                  <a:lnTo>
                    <a:pt x="277" y="259"/>
                  </a:lnTo>
                  <a:lnTo>
                    <a:pt x="279" y="272"/>
                  </a:lnTo>
                  <a:lnTo>
                    <a:pt x="281" y="287"/>
                  </a:lnTo>
                  <a:lnTo>
                    <a:pt x="281" y="301"/>
                  </a:lnTo>
                  <a:lnTo>
                    <a:pt x="283" y="316"/>
                  </a:lnTo>
                  <a:lnTo>
                    <a:pt x="283" y="329"/>
                  </a:lnTo>
                  <a:lnTo>
                    <a:pt x="285" y="344"/>
                  </a:lnTo>
                  <a:lnTo>
                    <a:pt x="285" y="360"/>
                  </a:lnTo>
                  <a:lnTo>
                    <a:pt x="287" y="375"/>
                  </a:lnTo>
                  <a:lnTo>
                    <a:pt x="289" y="388"/>
                  </a:lnTo>
                  <a:lnTo>
                    <a:pt x="289" y="403"/>
                  </a:lnTo>
                  <a:lnTo>
                    <a:pt x="290" y="419"/>
                  </a:lnTo>
                  <a:lnTo>
                    <a:pt x="292" y="434"/>
                  </a:lnTo>
                  <a:lnTo>
                    <a:pt x="292" y="447"/>
                  </a:lnTo>
                  <a:lnTo>
                    <a:pt x="292" y="462"/>
                  </a:lnTo>
                  <a:lnTo>
                    <a:pt x="292" y="476"/>
                  </a:lnTo>
                  <a:lnTo>
                    <a:pt x="294" y="491"/>
                  </a:lnTo>
                  <a:lnTo>
                    <a:pt x="294" y="506"/>
                  </a:lnTo>
                  <a:lnTo>
                    <a:pt x="296" y="519"/>
                  </a:lnTo>
                  <a:lnTo>
                    <a:pt x="296" y="535"/>
                  </a:lnTo>
                  <a:lnTo>
                    <a:pt x="298" y="548"/>
                  </a:lnTo>
                  <a:lnTo>
                    <a:pt x="298" y="559"/>
                  </a:lnTo>
                  <a:lnTo>
                    <a:pt x="300" y="574"/>
                  </a:lnTo>
                  <a:lnTo>
                    <a:pt x="300" y="586"/>
                  </a:lnTo>
                  <a:lnTo>
                    <a:pt x="300" y="601"/>
                  </a:lnTo>
                  <a:lnTo>
                    <a:pt x="300" y="612"/>
                  </a:lnTo>
                  <a:lnTo>
                    <a:pt x="302" y="624"/>
                  </a:lnTo>
                  <a:lnTo>
                    <a:pt x="302" y="635"/>
                  </a:lnTo>
                  <a:lnTo>
                    <a:pt x="302" y="649"/>
                  </a:lnTo>
                  <a:lnTo>
                    <a:pt x="302" y="658"/>
                  </a:lnTo>
                  <a:lnTo>
                    <a:pt x="302" y="670"/>
                  </a:lnTo>
                  <a:lnTo>
                    <a:pt x="302" y="679"/>
                  </a:lnTo>
                  <a:lnTo>
                    <a:pt x="302" y="690"/>
                  </a:lnTo>
                  <a:lnTo>
                    <a:pt x="302" y="698"/>
                  </a:lnTo>
                  <a:lnTo>
                    <a:pt x="302" y="708"/>
                  </a:lnTo>
                  <a:lnTo>
                    <a:pt x="302" y="715"/>
                  </a:lnTo>
                  <a:lnTo>
                    <a:pt x="302" y="723"/>
                  </a:lnTo>
                  <a:lnTo>
                    <a:pt x="300" y="730"/>
                  </a:lnTo>
                  <a:lnTo>
                    <a:pt x="300" y="738"/>
                  </a:lnTo>
                  <a:lnTo>
                    <a:pt x="298" y="746"/>
                  </a:lnTo>
                  <a:lnTo>
                    <a:pt x="298" y="755"/>
                  </a:lnTo>
                  <a:lnTo>
                    <a:pt x="296" y="763"/>
                  </a:lnTo>
                  <a:lnTo>
                    <a:pt x="296" y="772"/>
                  </a:lnTo>
                  <a:lnTo>
                    <a:pt x="294" y="782"/>
                  </a:lnTo>
                  <a:lnTo>
                    <a:pt x="294" y="793"/>
                  </a:lnTo>
                  <a:lnTo>
                    <a:pt x="292" y="803"/>
                  </a:lnTo>
                  <a:lnTo>
                    <a:pt x="292" y="812"/>
                  </a:lnTo>
                  <a:lnTo>
                    <a:pt x="292" y="824"/>
                  </a:lnTo>
                  <a:lnTo>
                    <a:pt x="292" y="835"/>
                  </a:lnTo>
                  <a:lnTo>
                    <a:pt x="290" y="844"/>
                  </a:lnTo>
                  <a:lnTo>
                    <a:pt x="290" y="856"/>
                  </a:lnTo>
                  <a:lnTo>
                    <a:pt x="289" y="867"/>
                  </a:lnTo>
                  <a:lnTo>
                    <a:pt x="289" y="881"/>
                  </a:lnTo>
                  <a:lnTo>
                    <a:pt x="287" y="892"/>
                  </a:lnTo>
                  <a:lnTo>
                    <a:pt x="285" y="903"/>
                  </a:lnTo>
                  <a:lnTo>
                    <a:pt x="283" y="915"/>
                  </a:lnTo>
                  <a:lnTo>
                    <a:pt x="283" y="928"/>
                  </a:lnTo>
                  <a:lnTo>
                    <a:pt x="281" y="939"/>
                  </a:lnTo>
                  <a:lnTo>
                    <a:pt x="281" y="953"/>
                  </a:lnTo>
                  <a:lnTo>
                    <a:pt x="279" y="964"/>
                  </a:lnTo>
                  <a:lnTo>
                    <a:pt x="279" y="977"/>
                  </a:lnTo>
                  <a:lnTo>
                    <a:pt x="277" y="991"/>
                  </a:lnTo>
                  <a:lnTo>
                    <a:pt x="277" y="1002"/>
                  </a:lnTo>
                  <a:lnTo>
                    <a:pt x="275" y="1016"/>
                  </a:lnTo>
                  <a:lnTo>
                    <a:pt x="275" y="1027"/>
                  </a:lnTo>
                  <a:lnTo>
                    <a:pt x="273" y="1040"/>
                  </a:lnTo>
                  <a:lnTo>
                    <a:pt x="271" y="1052"/>
                  </a:lnTo>
                  <a:lnTo>
                    <a:pt x="270" y="1065"/>
                  </a:lnTo>
                  <a:lnTo>
                    <a:pt x="270" y="1078"/>
                  </a:lnTo>
                  <a:lnTo>
                    <a:pt x="268" y="1090"/>
                  </a:lnTo>
                  <a:lnTo>
                    <a:pt x="268" y="1101"/>
                  </a:lnTo>
                  <a:lnTo>
                    <a:pt x="266" y="1112"/>
                  </a:lnTo>
                  <a:lnTo>
                    <a:pt x="266" y="1124"/>
                  </a:lnTo>
                  <a:lnTo>
                    <a:pt x="264" y="1135"/>
                  </a:lnTo>
                  <a:lnTo>
                    <a:pt x="264" y="1147"/>
                  </a:lnTo>
                  <a:lnTo>
                    <a:pt x="262" y="1156"/>
                  </a:lnTo>
                  <a:lnTo>
                    <a:pt x="262" y="1170"/>
                  </a:lnTo>
                  <a:lnTo>
                    <a:pt x="260" y="1179"/>
                  </a:lnTo>
                  <a:lnTo>
                    <a:pt x="258" y="1189"/>
                  </a:lnTo>
                  <a:lnTo>
                    <a:pt x="258" y="1198"/>
                  </a:lnTo>
                  <a:lnTo>
                    <a:pt x="256" y="1209"/>
                  </a:lnTo>
                  <a:lnTo>
                    <a:pt x="256" y="1217"/>
                  </a:lnTo>
                  <a:lnTo>
                    <a:pt x="254" y="1227"/>
                  </a:lnTo>
                  <a:lnTo>
                    <a:pt x="254" y="1236"/>
                  </a:lnTo>
                  <a:lnTo>
                    <a:pt x="254" y="1246"/>
                  </a:lnTo>
                  <a:lnTo>
                    <a:pt x="252" y="1251"/>
                  </a:lnTo>
                  <a:lnTo>
                    <a:pt x="252" y="1261"/>
                  </a:lnTo>
                  <a:lnTo>
                    <a:pt x="252" y="1266"/>
                  </a:lnTo>
                  <a:lnTo>
                    <a:pt x="252" y="1274"/>
                  </a:lnTo>
                  <a:lnTo>
                    <a:pt x="251" y="1280"/>
                  </a:lnTo>
                  <a:lnTo>
                    <a:pt x="251" y="1287"/>
                  </a:lnTo>
                  <a:lnTo>
                    <a:pt x="251" y="1291"/>
                  </a:lnTo>
                  <a:lnTo>
                    <a:pt x="251" y="1297"/>
                  </a:lnTo>
                  <a:lnTo>
                    <a:pt x="249" y="1304"/>
                  </a:lnTo>
                  <a:lnTo>
                    <a:pt x="249" y="1312"/>
                  </a:lnTo>
                  <a:lnTo>
                    <a:pt x="249" y="1316"/>
                  </a:lnTo>
                  <a:lnTo>
                    <a:pt x="249" y="1316"/>
                  </a:lnTo>
                  <a:lnTo>
                    <a:pt x="290" y="1441"/>
                  </a:lnTo>
                  <a:lnTo>
                    <a:pt x="21" y="1441"/>
                  </a:lnTo>
                  <a:lnTo>
                    <a:pt x="21" y="1438"/>
                  </a:lnTo>
                  <a:lnTo>
                    <a:pt x="21" y="1430"/>
                  </a:lnTo>
                  <a:lnTo>
                    <a:pt x="19" y="1424"/>
                  </a:lnTo>
                  <a:lnTo>
                    <a:pt x="19" y="1417"/>
                  </a:lnTo>
                  <a:lnTo>
                    <a:pt x="19" y="1409"/>
                  </a:lnTo>
                  <a:lnTo>
                    <a:pt x="19" y="1401"/>
                  </a:lnTo>
                  <a:lnTo>
                    <a:pt x="19" y="1396"/>
                  </a:lnTo>
                  <a:lnTo>
                    <a:pt x="19" y="1390"/>
                  </a:lnTo>
                  <a:lnTo>
                    <a:pt x="19" y="1384"/>
                  </a:lnTo>
                  <a:lnTo>
                    <a:pt x="19" y="1379"/>
                  </a:lnTo>
                  <a:lnTo>
                    <a:pt x="19" y="1373"/>
                  </a:lnTo>
                  <a:lnTo>
                    <a:pt x="19" y="1367"/>
                  </a:lnTo>
                  <a:lnTo>
                    <a:pt x="19" y="1362"/>
                  </a:lnTo>
                  <a:lnTo>
                    <a:pt x="19" y="1356"/>
                  </a:lnTo>
                  <a:lnTo>
                    <a:pt x="19" y="1348"/>
                  </a:lnTo>
                  <a:lnTo>
                    <a:pt x="19" y="1341"/>
                  </a:lnTo>
                  <a:lnTo>
                    <a:pt x="19" y="1333"/>
                  </a:lnTo>
                  <a:lnTo>
                    <a:pt x="19" y="1327"/>
                  </a:lnTo>
                  <a:lnTo>
                    <a:pt x="19" y="1320"/>
                  </a:lnTo>
                  <a:lnTo>
                    <a:pt x="19" y="1312"/>
                  </a:lnTo>
                  <a:lnTo>
                    <a:pt x="19" y="1304"/>
                  </a:lnTo>
                  <a:lnTo>
                    <a:pt x="19" y="1299"/>
                  </a:lnTo>
                  <a:lnTo>
                    <a:pt x="19" y="1289"/>
                  </a:lnTo>
                  <a:lnTo>
                    <a:pt x="19" y="1282"/>
                  </a:lnTo>
                  <a:lnTo>
                    <a:pt x="19" y="1272"/>
                  </a:lnTo>
                  <a:lnTo>
                    <a:pt x="19" y="1265"/>
                  </a:lnTo>
                  <a:lnTo>
                    <a:pt x="19" y="1255"/>
                  </a:lnTo>
                  <a:lnTo>
                    <a:pt x="19" y="1247"/>
                  </a:lnTo>
                  <a:lnTo>
                    <a:pt x="19" y="1238"/>
                  </a:lnTo>
                  <a:lnTo>
                    <a:pt x="19" y="1230"/>
                  </a:lnTo>
                  <a:lnTo>
                    <a:pt x="19" y="1221"/>
                  </a:lnTo>
                  <a:lnTo>
                    <a:pt x="19" y="1211"/>
                  </a:lnTo>
                  <a:lnTo>
                    <a:pt x="19" y="1202"/>
                  </a:lnTo>
                  <a:lnTo>
                    <a:pt x="21" y="1192"/>
                  </a:lnTo>
                  <a:lnTo>
                    <a:pt x="21" y="1183"/>
                  </a:lnTo>
                  <a:lnTo>
                    <a:pt x="21" y="1173"/>
                  </a:lnTo>
                  <a:lnTo>
                    <a:pt x="22" y="1166"/>
                  </a:lnTo>
                  <a:lnTo>
                    <a:pt x="22" y="1156"/>
                  </a:lnTo>
                  <a:lnTo>
                    <a:pt x="22" y="1145"/>
                  </a:lnTo>
                  <a:lnTo>
                    <a:pt x="22" y="1135"/>
                  </a:lnTo>
                  <a:lnTo>
                    <a:pt x="24" y="1126"/>
                  </a:lnTo>
                  <a:lnTo>
                    <a:pt x="24" y="1116"/>
                  </a:lnTo>
                  <a:lnTo>
                    <a:pt x="24" y="1107"/>
                  </a:lnTo>
                  <a:lnTo>
                    <a:pt x="26" y="1097"/>
                  </a:lnTo>
                  <a:lnTo>
                    <a:pt x="26" y="1088"/>
                  </a:lnTo>
                  <a:lnTo>
                    <a:pt x="28" y="1078"/>
                  </a:lnTo>
                  <a:lnTo>
                    <a:pt x="28" y="1067"/>
                  </a:lnTo>
                  <a:lnTo>
                    <a:pt x="30" y="1057"/>
                  </a:lnTo>
                  <a:lnTo>
                    <a:pt x="30" y="1048"/>
                  </a:lnTo>
                  <a:lnTo>
                    <a:pt x="32" y="1038"/>
                  </a:lnTo>
                  <a:lnTo>
                    <a:pt x="32" y="1027"/>
                  </a:lnTo>
                  <a:lnTo>
                    <a:pt x="34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7"/>
                  </a:lnTo>
                  <a:lnTo>
                    <a:pt x="40" y="977"/>
                  </a:lnTo>
                  <a:lnTo>
                    <a:pt x="40" y="966"/>
                  </a:lnTo>
                  <a:lnTo>
                    <a:pt x="41" y="957"/>
                  </a:lnTo>
                  <a:lnTo>
                    <a:pt x="41" y="945"/>
                  </a:lnTo>
                  <a:lnTo>
                    <a:pt x="43" y="934"/>
                  </a:lnTo>
                  <a:lnTo>
                    <a:pt x="43" y="920"/>
                  </a:lnTo>
                  <a:lnTo>
                    <a:pt x="43" y="911"/>
                  </a:lnTo>
                  <a:lnTo>
                    <a:pt x="43" y="898"/>
                  </a:lnTo>
                  <a:lnTo>
                    <a:pt x="45" y="886"/>
                  </a:lnTo>
                  <a:lnTo>
                    <a:pt x="45" y="873"/>
                  </a:lnTo>
                  <a:lnTo>
                    <a:pt x="45" y="862"/>
                  </a:lnTo>
                  <a:lnTo>
                    <a:pt x="45" y="850"/>
                  </a:lnTo>
                  <a:lnTo>
                    <a:pt x="47" y="837"/>
                  </a:lnTo>
                  <a:lnTo>
                    <a:pt x="47" y="825"/>
                  </a:lnTo>
                  <a:lnTo>
                    <a:pt x="47" y="812"/>
                  </a:lnTo>
                  <a:lnTo>
                    <a:pt x="47" y="799"/>
                  </a:lnTo>
                  <a:lnTo>
                    <a:pt x="47" y="785"/>
                  </a:lnTo>
                  <a:lnTo>
                    <a:pt x="47" y="772"/>
                  </a:lnTo>
                  <a:lnTo>
                    <a:pt x="47" y="759"/>
                  </a:lnTo>
                  <a:lnTo>
                    <a:pt x="47" y="746"/>
                  </a:lnTo>
                  <a:lnTo>
                    <a:pt x="47" y="734"/>
                  </a:lnTo>
                  <a:lnTo>
                    <a:pt x="47" y="721"/>
                  </a:lnTo>
                  <a:lnTo>
                    <a:pt x="49" y="708"/>
                  </a:lnTo>
                  <a:lnTo>
                    <a:pt x="47" y="694"/>
                  </a:lnTo>
                  <a:lnTo>
                    <a:pt x="47" y="683"/>
                  </a:lnTo>
                  <a:lnTo>
                    <a:pt x="47" y="670"/>
                  </a:lnTo>
                  <a:lnTo>
                    <a:pt x="47" y="658"/>
                  </a:lnTo>
                  <a:lnTo>
                    <a:pt x="47" y="645"/>
                  </a:lnTo>
                  <a:lnTo>
                    <a:pt x="47" y="633"/>
                  </a:lnTo>
                  <a:lnTo>
                    <a:pt x="47" y="620"/>
                  </a:lnTo>
                  <a:lnTo>
                    <a:pt x="47" y="609"/>
                  </a:lnTo>
                  <a:lnTo>
                    <a:pt x="45" y="595"/>
                  </a:lnTo>
                  <a:lnTo>
                    <a:pt x="45" y="584"/>
                  </a:lnTo>
                  <a:lnTo>
                    <a:pt x="45" y="573"/>
                  </a:lnTo>
                  <a:lnTo>
                    <a:pt x="45" y="561"/>
                  </a:lnTo>
                  <a:lnTo>
                    <a:pt x="43" y="550"/>
                  </a:lnTo>
                  <a:lnTo>
                    <a:pt x="43" y="538"/>
                  </a:lnTo>
                  <a:lnTo>
                    <a:pt x="43" y="527"/>
                  </a:lnTo>
                  <a:lnTo>
                    <a:pt x="43" y="517"/>
                  </a:lnTo>
                  <a:lnTo>
                    <a:pt x="43" y="508"/>
                  </a:lnTo>
                  <a:lnTo>
                    <a:pt x="43" y="497"/>
                  </a:lnTo>
                  <a:lnTo>
                    <a:pt x="41" y="487"/>
                  </a:lnTo>
                  <a:lnTo>
                    <a:pt x="41" y="478"/>
                  </a:lnTo>
                  <a:lnTo>
                    <a:pt x="41" y="468"/>
                  </a:lnTo>
                  <a:lnTo>
                    <a:pt x="41" y="459"/>
                  </a:lnTo>
                  <a:lnTo>
                    <a:pt x="41" y="451"/>
                  </a:lnTo>
                  <a:lnTo>
                    <a:pt x="41" y="443"/>
                  </a:lnTo>
                  <a:lnTo>
                    <a:pt x="40" y="436"/>
                  </a:lnTo>
                  <a:lnTo>
                    <a:pt x="40" y="428"/>
                  </a:lnTo>
                  <a:lnTo>
                    <a:pt x="38" y="420"/>
                  </a:lnTo>
                  <a:lnTo>
                    <a:pt x="38" y="415"/>
                  </a:lnTo>
                  <a:lnTo>
                    <a:pt x="38" y="409"/>
                  </a:lnTo>
                  <a:lnTo>
                    <a:pt x="38" y="403"/>
                  </a:lnTo>
                  <a:lnTo>
                    <a:pt x="38" y="398"/>
                  </a:lnTo>
                  <a:lnTo>
                    <a:pt x="38" y="394"/>
                  </a:lnTo>
                  <a:lnTo>
                    <a:pt x="38" y="386"/>
                  </a:lnTo>
                  <a:lnTo>
                    <a:pt x="38" y="382"/>
                  </a:lnTo>
                  <a:lnTo>
                    <a:pt x="38" y="379"/>
                  </a:lnTo>
                  <a:lnTo>
                    <a:pt x="38" y="377"/>
                  </a:lnTo>
                  <a:lnTo>
                    <a:pt x="0" y="0"/>
                  </a:lnTo>
                  <a:lnTo>
                    <a:pt x="258" y="27"/>
                  </a:lnTo>
                  <a:lnTo>
                    <a:pt x="258" y="27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3216240" y="159444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0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234960" y="216792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0" y="4"/>
                  </a:moveTo>
                  <a:lnTo>
                    <a:pt x="4" y="101"/>
                  </a:lnTo>
                  <a:lnTo>
                    <a:pt x="116" y="101"/>
                  </a:lnTo>
                  <a:lnTo>
                    <a:pt x="11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238200" y="275580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0" y="3"/>
                  </a:moveTo>
                  <a:lnTo>
                    <a:pt x="2" y="100"/>
                  </a:lnTo>
                  <a:lnTo>
                    <a:pt x="116" y="100"/>
                  </a:lnTo>
                  <a:lnTo>
                    <a:pt x="1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216240" y="318348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156120" y="371880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6"/>
                  </a:moveTo>
                  <a:lnTo>
                    <a:pt x="4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942640" y="1496520"/>
              <a:ext cx="190800" cy="2601000"/>
            </a:xfrm>
            <a:custGeom>
              <a:avLst/>
              <a:gdLst/>
              <a:ahLst/>
              <a:rect l="l" t="t" r="r" b="b"/>
              <a:pathLst>
                <a:path w="103" h="1387">
                  <a:moveTo>
                    <a:pt x="12" y="0"/>
                  </a:moveTo>
                  <a:lnTo>
                    <a:pt x="12" y="2"/>
                  </a:lnTo>
                  <a:lnTo>
                    <a:pt x="12" y="7"/>
                  </a:lnTo>
                  <a:lnTo>
                    <a:pt x="14" y="13"/>
                  </a:lnTo>
                  <a:lnTo>
                    <a:pt x="14" y="21"/>
                  </a:lnTo>
                  <a:lnTo>
                    <a:pt x="15" y="30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17" y="47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7" y="66"/>
                  </a:lnTo>
                  <a:lnTo>
                    <a:pt x="19" y="74"/>
                  </a:lnTo>
                  <a:lnTo>
                    <a:pt x="19" y="81"/>
                  </a:lnTo>
                  <a:lnTo>
                    <a:pt x="21" y="89"/>
                  </a:lnTo>
                  <a:lnTo>
                    <a:pt x="21" y="99"/>
                  </a:lnTo>
                  <a:lnTo>
                    <a:pt x="23" y="106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7" y="133"/>
                  </a:lnTo>
                  <a:lnTo>
                    <a:pt x="27" y="142"/>
                  </a:lnTo>
                  <a:lnTo>
                    <a:pt x="29" y="154"/>
                  </a:lnTo>
                  <a:lnTo>
                    <a:pt x="29" y="163"/>
                  </a:lnTo>
                  <a:lnTo>
                    <a:pt x="29" y="173"/>
                  </a:lnTo>
                  <a:lnTo>
                    <a:pt x="31" y="184"/>
                  </a:lnTo>
                  <a:lnTo>
                    <a:pt x="33" y="195"/>
                  </a:lnTo>
                  <a:lnTo>
                    <a:pt x="33" y="207"/>
                  </a:lnTo>
                  <a:lnTo>
                    <a:pt x="33" y="216"/>
                  </a:lnTo>
                  <a:lnTo>
                    <a:pt x="34" y="228"/>
                  </a:lnTo>
                  <a:lnTo>
                    <a:pt x="34" y="239"/>
                  </a:lnTo>
                  <a:lnTo>
                    <a:pt x="34" y="251"/>
                  </a:lnTo>
                  <a:lnTo>
                    <a:pt x="36" y="262"/>
                  </a:lnTo>
                  <a:lnTo>
                    <a:pt x="36" y="273"/>
                  </a:lnTo>
                  <a:lnTo>
                    <a:pt x="38" y="287"/>
                  </a:lnTo>
                  <a:lnTo>
                    <a:pt x="38" y="298"/>
                  </a:lnTo>
                  <a:lnTo>
                    <a:pt x="40" y="310"/>
                  </a:lnTo>
                  <a:lnTo>
                    <a:pt x="40" y="321"/>
                  </a:lnTo>
                  <a:lnTo>
                    <a:pt x="42" y="334"/>
                  </a:lnTo>
                  <a:lnTo>
                    <a:pt x="42" y="348"/>
                  </a:lnTo>
                  <a:lnTo>
                    <a:pt x="44" y="359"/>
                  </a:lnTo>
                  <a:lnTo>
                    <a:pt x="44" y="372"/>
                  </a:lnTo>
                  <a:lnTo>
                    <a:pt x="44" y="386"/>
                  </a:lnTo>
                  <a:lnTo>
                    <a:pt x="44" y="397"/>
                  </a:lnTo>
                  <a:lnTo>
                    <a:pt x="46" y="410"/>
                  </a:lnTo>
                  <a:lnTo>
                    <a:pt x="46" y="422"/>
                  </a:lnTo>
                  <a:lnTo>
                    <a:pt x="46" y="435"/>
                  </a:lnTo>
                  <a:lnTo>
                    <a:pt x="46" y="448"/>
                  </a:lnTo>
                  <a:lnTo>
                    <a:pt x="48" y="462"/>
                  </a:lnTo>
                  <a:lnTo>
                    <a:pt x="48" y="473"/>
                  </a:lnTo>
                  <a:lnTo>
                    <a:pt x="48" y="486"/>
                  </a:lnTo>
                  <a:lnTo>
                    <a:pt x="48" y="500"/>
                  </a:lnTo>
                  <a:lnTo>
                    <a:pt x="48" y="511"/>
                  </a:lnTo>
                  <a:lnTo>
                    <a:pt x="48" y="524"/>
                  </a:lnTo>
                  <a:lnTo>
                    <a:pt x="48" y="536"/>
                  </a:lnTo>
                  <a:lnTo>
                    <a:pt x="48" y="549"/>
                  </a:lnTo>
                  <a:lnTo>
                    <a:pt x="48" y="560"/>
                  </a:lnTo>
                  <a:lnTo>
                    <a:pt x="48" y="574"/>
                  </a:lnTo>
                  <a:lnTo>
                    <a:pt x="50" y="587"/>
                  </a:lnTo>
                  <a:lnTo>
                    <a:pt x="48" y="599"/>
                  </a:lnTo>
                  <a:lnTo>
                    <a:pt x="48" y="610"/>
                  </a:lnTo>
                  <a:lnTo>
                    <a:pt x="46" y="621"/>
                  </a:lnTo>
                  <a:lnTo>
                    <a:pt x="46" y="635"/>
                  </a:lnTo>
                  <a:lnTo>
                    <a:pt x="46" y="646"/>
                  </a:lnTo>
                  <a:lnTo>
                    <a:pt x="46" y="659"/>
                  </a:lnTo>
                  <a:lnTo>
                    <a:pt x="44" y="671"/>
                  </a:lnTo>
                  <a:lnTo>
                    <a:pt x="44" y="684"/>
                  </a:lnTo>
                  <a:lnTo>
                    <a:pt x="44" y="695"/>
                  </a:lnTo>
                  <a:lnTo>
                    <a:pt x="44" y="707"/>
                  </a:lnTo>
                  <a:lnTo>
                    <a:pt x="44" y="720"/>
                  </a:lnTo>
                  <a:lnTo>
                    <a:pt x="44" y="732"/>
                  </a:lnTo>
                  <a:lnTo>
                    <a:pt x="42" y="743"/>
                  </a:lnTo>
                  <a:lnTo>
                    <a:pt x="42" y="756"/>
                  </a:lnTo>
                  <a:lnTo>
                    <a:pt x="42" y="768"/>
                  </a:lnTo>
                  <a:lnTo>
                    <a:pt x="42" y="781"/>
                  </a:lnTo>
                  <a:lnTo>
                    <a:pt x="40" y="792"/>
                  </a:lnTo>
                  <a:lnTo>
                    <a:pt x="40" y="806"/>
                  </a:lnTo>
                  <a:lnTo>
                    <a:pt x="38" y="817"/>
                  </a:lnTo>
                  <a:lnTo>
                    <a:pt x="38" y="830"/>
                  </a:lnTo>
                  <a:lnTo>
                    <a:pt x="38" y="842"/>
                  </a:lnTo>
                  <a:lnTo>
                    <a:pt x="36" y="853"/>
                  </a:lnTo>
                  <a:lnTo>
                    <a:pt x="36" y="865"/>
                  </a:lnTo>
                  <a:lnTo>
                    <a:pt x="36" y="878"/>
                  </a:lnTo>
                  <a:lnTo>
                    <a:pt x="34" y="887"/>
                  </a:lnTo>
                  <a:lnTo>
                    <a:pt x="34" y="901"/>
                  </a:lnTo>
                  <a:lnTo>
                    <a:pt x="33" y="912"/>
                  </a:lnTo>
                  <a:lnTo>
                    <a:pt x="33" y="924"/>
                  </a:lnTo>
                  <a:lnTo>
                    <a:pt x="33" y="935"/>
                  </a:lnTo>
                  <a:lnTo>
                    <a:pt x="33" y="946"/>
                  </a:lnTo>
                  <a:lnTo>
                    <a:pt x="31" y="958"/>
                  </a:lnTo>
                  <a:lnTo>
                    <a:pt x="31" y="969"/>
                  </a:lnTo>
                  <a:lnTo>
                    <a:pt x="29" y="979"/>
                  </a:lnTo>
                  <a:lnTo>
                    <a:pt x="29" y="990"/>
                  </a:lnTo>
                  <a:lnTo>
                    <a:pt x="29" y="1002"/>
                  </a:lnTo>
                  <a:lnTo>
                    <a:pt x="29" y="1011"/>
                  </a:lnTo>
                  <a:lnTo>
                    <a:pt x="27" y="1021"/>
                  </a:lnTo>
                  <a:lnTo>
                    <a:pt x="27" y="1032"/>
                  </a:lnTo>
                  <a:lnTo>
                    <a:pt x="25" y="1041"/>
                  </a:lnTo>
                  <a:lnTo>
                    <a:pt x="25" y="1053"/>
                  </a:lnTo>
                  <a:lnTo>
                    <a:pt x="25" y="1060"/>
                  </a:lnTo>
                  <a:lnTo>
                    <a:pt x="23" y="1072"/>
                  </a:lnTo>
                  <a:lnTo>
                    <a:pt x="23" y="1081"/>
                  </a:lnTo>
                  <a:lnTo>
                    <a:pt x="23" y="1091"/>
                  </a:lnTo>
                  <a:lnTo>
                    <a:pt x="21" y="1100"/>
                  </a:lnTo>
                  <a:lnTo>
                    <a:pt x="21" y="1110"/>
                  </a:lnTo>
                  <a:lnTo>
                    <a:pt x="19" y="1117"/>
                  </a:lnTo>
                  <a:lnTo>
                    <a:pt x="19" y="1127"/>
                  </a:lnTo>
                  <a:lnTo>
                    <a:pt x="19" y="1137"/>
                  </a:lnTo>
                  <a:lnTo>
                    <a:pt x="17" y="1144"/>
                  </a:lnTo>
                  <a:lnTo>
                    <a:pt x="17" y="1152"/>
                  </a:lnTo>
                  <a:lnTo>
                    <a:pt x="17" y="1159"/>
                  </a:lnTo>
                  <a:lnTo>
                    <a:pt x="17" y="1167"/>
                  </a:lnTo>
                  <a:lnTo>
                    <a:pt x="15" y="1175"/>
                  </a:lnTo>
                  <a:lnTo>
                    <a:pt x="15" y="1182"/>
                  </a:lnTo>
                  <a:lnTo>
                    <a:pt x="15" y="1190"/>
                  </a:lnTo>
                  <a:lnTo>
                    <a:pt x="14" y="1195"/>
                  </a:lnTo>
                  <a:lnTo>
                    <a:pt x="14" y="1203"/>
                  </a:lnTo>
                  <a:lnTo>
                    <a:pt x="12" y="1209"/>
                  </a:lnTo>
                  <a:lnTo>
                    <a:pt x="12" y="1216"/>
                  </a:lnTo>
                  <a:lnTo>
                    <a:pt x="12" y="1222"/>
                  </a:lnTo>
                  <a:lnTo>
                    <a:pt x="10" y="1228"/>
                  </a:lnTo>
                  <a:lnTo>
                    <a:pt x="10" y="1233"/>
                  </a:lnTo>
                  <a:lnTo>
                    <a:pt x="10" y="1239"/>
                  </a:lnTo>
                  <a:lnTo>
                    <a:pt x="6" y="1249"/>
                  </a:lnTo>
                  <a:lnTo>
                    <a:pt x="6" y="1258"/>
                  </a:lnTo>
                  <a:lnTo>
                    <a:pt x="4" y="1268"/>
                  </a:lnTo>
                  <a:lnTo>
                    <a:pt x="4" y="1275"/>
                  </a:lnTo>
                  <a:lnTo>
                    <a:pt x="2" y="1283"/>
                  </a:lnTo>
                  <a:lnTo>
                    <a:pt x="2" y="1292"/>
                  </a:lnTo>
                  <a:lnTo>
                    <a:pt x="2" y="1300"/>
                  </a:lnTo>
                  <a:lnTo>
                    <a:pt x="2" y="1308"/>
                  </a:lnTo>
                  <a:lnTo>
                    <a:pt x="0" y="1313"/>
                  </a:lnTo>
                  <a:lnTo>
                    <a:pt x="0" y="1321"/>
                  </a:lnTo>
                  <a:lnTo>
                    <a:pt x="0" y="1327"/>
                  </a:lnTo>
                  <a:lnTo>
                    <a:pt x="0" y="1334"/>
                  </a:lnTo>
                  <a:lnTo>
                    <a:pt x="0" y="1338"/>
                  </a:lnTo>
                  <a:lnTo>
                    <a:pt x="2" y="1344"/>
                  </a:lnTo>
                  <a:lnTo>
                    <a:pt x="2" y="1349"/>
                  </a:lnTo>
                  <a:lnTo>
                    <a:pt x="2" y="1353"/>
                  </a:lnTo>
                  <a:lnTo>
                    <a:pt x="2" y="1361"/>
                  </a:lnTo>
                  <a:lnTo>
                    <a:pt x="2" y="1368"/>
                  </a:lnTo>
                  <a:lnTo>
                    <a:pt x="2" y="1374"/>
                  </a:lnTo>
                  <a:lnTo>
                    <a:pt x="4" y="1380"/>
                  </a:lnTo>
                  <a:lnTo>
                    <a:pt x="6" y="1386"/>
                  </a:lnTo>
                  <a:lnTo>
                    <a:pt x="6" y="1387"/>
                  </a:lnTo>
                  <a:lnTo>
                    <a:pt x="55" y="1387"/>
                  </a:lnTo>
                  <a:lnTo>
                    <a:pt x="55" y="1386"/>
                  </a:lnTo>
                  <a:lnTo>
                    <a:pt x="55" y="1380"/>
                  </a:lnTo>
                  <a:lnTo>
                    <a:pt x="55" y="1372"/>
                  </a:lnTo>
                  <a:lnTo>
                    <a:pt x="55" y="1365"/>
                  </a:lnTo>
                  <a:lnTo>
                    <a:pt x="55" y="1359"/>
                  </a:lnTo>
                  <a:lnTo>
                    <a:pt x="55" y="1351"/>
                  </a:lnTo>
                  <a:lnTo>
                    <a:pt x="55" y="1346"/>
                  </a:lnTo>
                  <a:lnTo>
                    <a:pt x="55" y="1338"/>
                  </a:lnTo>
                  <a:lnTo>
                    <a:pt x="55" y="1330"/>
                  </a:lnTo>
                  <a:lnTo>
                    <a:pt x="55" y="1325"/>
                  </a:lnTo>
                  <a:lnTo>
                    <a:pt x="55" y="1315"/>
                  </a:lnTo>
                  <a:lnTo>
                    <a:pt x="55" y="1309"/>
                  </a:lnTo>
                  <a:lnTo>
                    <a:pt x="55" y="1298"/>
                  </a:lnTo>
                  <a:lnTo>
                    <a:pt x="55" y="1290"/>
                  </a:lnTo>
                  <a:lnTo>
                    <a:pt x="55" y="1281"/>
                  </a:lnTo>
                  <a:lnTo>
                    <a:pt x="55" y="1271"/>
                  </a:lnTo>
                  <a:lnTo>
                    <a:pt x="55" y="1266"/>
                  </a:lnTo>
                  <a:lnTo>
                    <a:pt x="55" y="1262"/>
                  </a:lnTo>
                  <a:lnTo>
                    <a:pt x="55" y="1256"/>
                  </a:lnTo>
                  <a:lnTo>
                    <a:pt x="57" y="1252"/>
                  </a:lnTo>
                  <a:lnTo>
                    <a:pt x="57" y="1247"/>
                  </a:lnTo>
                  <a:lnTo>
                    <a:pt x="57" y="1243"/>
                  </a:lnTo>
                  <a:lnTo>
                    <a:pt x="57" y="1237"/>
                  </a:lnTo>
                  <a:lnTo>
                    <a:pt x="59" y="1232"/>
                  </a:lnTo>
                  <a:lnTo>
                    <a:pt x="59" y="1228"/>
                  </a:lnTo>
                  <a:lnTo>
                    <a:pt x="59" y="1222"/>
                  </a:lnTo>
                  <a:lnTo>
                    <a:pt x="59" y="1216"/>
                  </a:lnTo>
                  <a:lnTo>
                    <a:pt x="61" y="1213"/>
                  </a:lnTo>
                  <a:lnTo>
                    <a:pt x="61" y="1207"/>
                  </a:lnTo>
                  <a:lnTo>
                    <a:pt x="61" y="1201"/>
                  </a:lnTo>
                  <a:lnTo>
                    <a:pt x="63" y="1195"/>
                  </a:lnTo>
                  <a:lnTo>
                    <a:pt x="63" y="1192"/>
                  </a:lnTo>
                  <a:lnTo>
                    <a:pt x="63" y="1186"/>
                  </a:lnTo>
                  <a:lnTo>
                    <a:pt x="65" y="1180"/>
                  </a:lnTo>
                  <a:lnTo>
                    <a:pt x="65" y="1176"/>
                  </a:lnTo>
                  <a:lnTo>
                    <a:pt x="67" y="1171"/>
                  </a:lnTo>
                  <a:lnTo>
                    <a:pt x="69" y="1165"/>
                  </a:lnTo>
                  <a:lnTo>
                    <a:pt x="69" y="1161"/>
                  </a:lnTo>
                  <a:lnTo>
                    <a:pt x="71" y="1156"/>
                  </a:lnTo>
                  <a:lnTo>
                    <a:pt x="71" y="1152"/>
                  </a:lnTo>
                  <a:lnTo>
                    <a:pt x="71" y="1146"/>
                  </a:lnTo>
                  <a:lnTo>
                    <a:pt x="73" y="1140"/>
                  </a:lnTo>
                  <a:lnTo>
                    <a:pt x="73" y="1135"/>
                  </a:lnTo>
                  <a:lnTo>
                    <a:pt x="74" y="1127"/>
                  </a:lnTo>
                  <a:lnTo>
                    <a:pt x="74" y="1121"/>
                  </a:lnTo>
                  <a:lnTo>
                    <a:pt x="76" y="1114"/>
                  </a:lnTo>
                  <a:lnTo>
                    <a:pt x="76" y="1108"/>
                  </a:lnTo>
                  <a:lnTo>
                    <a:pt x="78" y="1102"/>
                  </a:lnTo>
                  <a:lnTo>
                    <a:pt x="78" y="1095"/>
                  </a:lnTo>
                  <a:lnTo>
                    <a:pt x="78" y="1087"/>
                  </a:lnTo>
                  <a:lnTo>
                    <a:pt x="80" y="1081"/>
                  </a:lnTo>
                  <a:lnTo>
                    <a:pt x="80" y="1074"/>
                  </a:lnTo>
                  <a:lnTo>
                    <a:pt x="82" y="1066"/>
                  </a:lnTo>
                  <a:lnTo>
                    <a:pt x="82" y="1059"/>
                  </a:lnTo>
                  <a:lnTo>
                    <a:pt x="82" y="1049"/>
                  </a:lnTo>
                  <a:lnTo>
                    <a:pt x="84" y="1043"/>
                  </a:lnTo>
                  <a:lnTo>
                    <a:pt x="84" y="1034"/>
                  </a:lnTo>
                  <a:lnTo>
                    <a:pt x="84" y="1026"/>
                  </a:lnTo>
                  <a:lnTo>
                    <a:pt x="84" y="1017"/>
                  </a:lnTo>
                  <a:lnTo>
                    <a:pt x="86" y="1009"/>
                  </a:lnTo>
                  <a:lnTo>
                    <a:pt x="86" y="1000"/>
                  </a:lnTo>
                  <a:lnTo>
                    <a:pt x="86" y="992"/>
                  </a:lnTo>
                  <a:lnTo>
                    <a:pt x="88" y="983"/>
                  </a:lnTo>
                  <a:lnTo>
                    <a:pt x="88" y="975"/>
                  </a:lnTo>
                  <a:lnTo>
                    <a:pt x="88" y="965"/>
                  </a:lnTo>
                  <a:lnTo>
                    <a:pt x="88" y="958"/>
                  </a:lnTo>
                  <a:lnTo>
                    <a:pt x="90" y="950"/>
                  </a:lnTo>
                  <a:lnTo>
                    <a:pt x="90" y="941"/>
                  </a:lnTo>
                  <a:lnTo>
                    <a:pt x="90" y="933"/>
                  </a:lnTo>
                  <a:lnTo>
                    <a:pt x="90" y="924"/>
                  </a:lnTo>
                  <a:lnTo>
                    <a:pt x="92" y="916"/>
                  </a:lnTo>
                  <a:lnTo>
                    <a:pt x="92" y="908"/>
                  </a:lnTo>
                  <a:lnTo>
                    <a:pt x="92" y="901"/>
                  </a:lnTo>
                  <a:lnTo>
                    <a:pt x="92" y="891"/>
                  </a:lnTo>
                  <a:lnTo>
                    <a:pt x="92" y="884"/>
                  </a:lnTo>
                  <a:lnTo>
                    <a:pt x="93" y="876"/>
                  </a:lnTo>
                  <a:lnTo>
                    <a:pt x="93" y="868"/>
                  </a:lnTo>
                  <a:lnTo>
                    <a:pt x="93" y="859"/>
                  </a:lnTo>
                  <a:lnTo>
                    <a:pt x="93" y="853"/>
                  </a:lnTo>
                  <a:lnTo>
                    <a:pt x="93" y="846"/>
                  </a:lnTo>
                  <a:lnTo>
                    <a:pt x="93" y="838"/>
                  </a:lnTo>
                  <a:lnTo>
                    <a:pt x="93" y="830"/>
                  </a:lnTo>
                  <a:lnTo>
                    <a:pt x="93" y="823"/>
                  </a:lnTo>
                  <a:lnTo>
                    <a:pt x="95" y="819"/>
                  </a:lnTo>
                  <a:lnTo>
                    <a:pt x="95" y="811"/>
                  </a:lnTo>
                  <a:lnTo>
                    <a:pt x="95" y="806"/>
                  </a:lnTo>
                  <a:lnTo>
                    <a:pt x="95" y="800"/>
                  </a:lnTo>
                  <a:lnTo>
                    <a:pt x="95" y="794"/>
                  </a:lnTo>
                  <a:lnTo>
                    <a:pt x="95" y="789"/>
                  </a:lnTo>
                  <a:lnTo>
                    <a:pt x="95" y="783"/>
                  </a:lnTo>
                  <a:lnTo>
                    <a:pt x="95" y="779"/>
                  </a:lnTo>
                  <a:lnTo>
                    <a:pt x="95" y="773"/>
                  </a:lnTo>
                  <a:lnTo>
                    <a:pt x="95" y="766"/>
                  </a:lnTo>
                  <a:lnTo>
                    <a:pt x="95" y="760"/>
                  </a:lnTo>
                  <a:lnTo>
                    <a:pt x="95" y="752"/>
                  </a:lnTo>
                  <a:lnTo>
                    <a:pt x="95" y="751"/>
                  </a:lnTo>
                  <a:lnTo>
                    <a:pt x="95" y="747"/>
                  </a:lnTo>
                  <a:lnTo>
                    <a:pt x="97" y="747"/>
                  </a:lnTo>
                  <a:lnTo>
                    <a:pt x="97" y="745"/>
                  </a:lnTo>
                  <a:lnTo>
                    <a:pt x="97" y="739"/>
                  </a:lnTo>
                  <a:lnTo>
                    <a:pt x="97" y="735"/>
                  </a:lnTo>
                  <a:lnTo>
                    <a:pt x="97" y="730"/>
                  </a:lnTo>
                  <a:lnTo>
                    <a:pt x="97" y="724"/>
                  </a:lnTo>
                  <a:lnTo>
                    <a:pt x="99" y="718"/>
                  </a:lnTo>
                  <a:lnTo>
                    <a:pt x="99" y="711"/>
                  </a:lnTo>
                  <a:lnTo>
                    <a:pt x="99" y="703"/>
                  </a:lnTo>
                  <a:lnTo>
                    <a:pt x="99" y="695"/>
                  </a:lnTo>
                  <a:lnTo>
                    <a:pt x="101" y="686"/>
                  </a:lnTo>
                  <a:lnTo>
                    <a:pt x="101" y="680"/>
                  </a:lnTo>
                  <a:lnTo>
                    <a:pt x="101" y="675"/>
                  </a:lnTo>
                  <a:lnTo>
                    <a:pt x="101" y="671"/>
                  </a:lnTo>
                  <a:lnTo>
                    <a:pt x="101" y="665"/>
                  </a:lnTo>
                  <a:lnTo>
                    <a:pt x="101" y="659"/>
                  </a:lnTo>
                  <a:lnTo>
                    <a:pt x="101" y="654"/>
                  </a:lnTo>
                  <a:lnTo>
                    <a:pt x="101" y="648"/>
                  </a:lnTo>
                  <a:lnTo>
                    <a:pt x="103" y="642"/>
                  </a:lnTo>
                  <a:lnTo>
                    <a:pt x="103" y="635"/>
                  </a:lnTo>
                  <a:lnTo>
                    <a:pt x="103" y="629"/>
                  </a:lnTo>
                  <a:lnTo>
                    <a:pt x="103" y="621"/>
                  </a:lnTo>
                  <a:lnTo>
                    <a:pt x="103" y="616"/>
                  </a:lnTo>
                  <a:lnTo>
                    <a:pt x="103" y="608"/>
                  </a:lnTo>
                  <a:lnTo>
                    <a:pt x="103" y="602"/>
                  </a:lnTo>
                  <a:lnTo>
                    <a:pt x="103" y="595"/>
                  </a:lnTo>
                  <a:lnTo>
                    <a:pt x="103" y="589"/>
                  </a:lnTo>
                  <a:lnTo>
                    <a:pt x="103" y="579"/>
                  </a:lnTo>
                  <a:lnTo>
                    <a:pt x="103" y="574"/>
                  </a:lnTo>
                  <a:lnTo>
                    <a:pt x="103" y="566"/>
                  </a:lnTo>
                  <a:lnTo>
                    <a:pt x="103" y="559"/>
                  </a:lnTo>
                  <a:lnTo>
                    <a:pt x="103" y="551"/>
                  </a:lnTo>
                  <a:lnTo>
                    <a:pt x="103" y="541"/>
                  </a:lnTo>
                  <a:lnTo>
                    <a:pt x="103" y="534"/>
                  </a:lnTo>
                  <a:lnTo>
                    <a:pt x="103" y="526"/>
                  </a:lnTo>
                  <a:lnTo>
                    <a:pt x="101" y="517"/>
                  </a:lnTo>
                  <a:lnTo>
                    <a:pt x="101" y="509"/>
                  </a:lnTo>
                  <a:lnTo>
                    <a:pt x="101" y="500"/>
                  </a:lnTo>
                  <a:lnTo>
                    <a:pt x="101" y="492"/>
                  </a:lnTo>
                  <a:lnTo>
                    <a:pt x="101" y="483"/>
                  </a:lnTo>
                  <a:lnTo>
                    <a:pt x="101" y="475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99" y="448"/>
                  </a:lnTo>
                  <a:lnTo>
                    <a:pt x="99" y="439"/>
                  </a:lnTo>
                  <a:lnTo>
                    <a:pt x="99" y="429"/>
                  </a:lnTo>
                  <a:lnTo>
                    <a:pt x="99" y="420"/>
                  </a:lnTo>
                  <a:lnTo>
                    <a:pt x="97" y="410"/>
                  </a:lnTo>
                  <a:lnTo>
                    <a:pt x="97" y="401"/>
                  </a:lnTo>
                  <a:lnTo>
                    <a:pt x="97" y="391"/>
                  </a:lnTo>
                  <a:lnTo>
                    <a:pt x="97" y="382"/>
                  </a:lnTo>
                  <a:lnTo>
                    <a:pt x="95" y="372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95" y="344"/>
                  </a:lnTo>
                  <a:lnTo>
                    <a:pt x="93" y="334"/>
                  </a:lnTo>
                  <a:lnTo>
                    <a:pt x="93" y="325"/>
                  </a:lnTo>
                  <a:lnTo>
                    <a:pt x="92" y="315"/>
                  </a:lnTo>
                  <a:lnTo>
                    <a:pt x="92" y="306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90" y="279"/>
                  </a:lnTo>
                  <a:lnTo>
                    <a:pt x="90" y="270"/>
                  </a:lnTo>
                  <a:lnTo>
                    <a:pt x="88" y="262"/>
                  </a:lnTo>
                  <a:lnTo>
                    <a:pt x="88" y="253"/>
                  </a:lnTo>
                  <a:lnTo>
                    <a:pt x="88" y="243"/>
                  </a:lnTo>
                  <a:lnTo>
                    <a:pt x="88" y="235"/>
                  </a:lnTo>
                  <a:lnTo>
                    <a:pt x="86" y="226"/>
                  </a:lnTo>
                  <a:lnTo>
                    <a:pt x="86" y="218"/>
                  </a:lnTo>
                  <a:lnTo>
                    <a:pt x="84" y="209"/>
                  </a:lnTo>
                  <a:lnTo>
                    <a:pt x="84" y="201"/>
                  </a:lnTo>
                  <a:lnTo>
                    <a:pt x="84" y="194"/>
                  </a:lnTo>
                  <a:lnTo>
                    <a:pt x="82" y="186"/>
                  </a:lnTo>
                  <a:lnTo>
                    <a:pt x="82" y="178"/>
                  </a:lnTo>
                  <a:lnTo>
                    <a:pt x="82" y="171"/>
                  </a:lnTo>
                  <a:lnTo>
                    <a:pt x="82" y="163"/>
                  </a:lnTo>
                  <a:lnTo>
                    <a:pt x="80" y="156"/>
                  </a:lnTo>
                  <a:lnTo>
                    <a:pt x="80" y="148"/>
                  </a:lnTo>
                  <a:lnTo>
                    <a:pt x="80" y="140"/>
                  </a:lnTo>
                  <a:lnTo>
                    <a:pt x="78" y="133"/>
                  </a:lnTo>
                  <a:lnTo>
                    <a:pt x="78" y="127"/>
                  </a:lnTo>
                  <a:lnTo>
                    <a:pt x="78" y="119"/>
                  </a:lnTo>
                  <a:lnTo>
                    <a:pt x="78" y="114"/>
                  </a:lnTo>
                  <a:lnTo>
                    <a:pt x="76" y="106"/>
                  </a:lnTo>
                  <a:lnTo>
                    <a:pt x="76" y="100"/>
                  </a:lnTo>
                  <a:lnTo>
                    <a:pt x="74" y="93"/>
                  </a:lnTo>
                  <a:lnTo>
                    <a:pt x="74" y="89"/>
                  </a:lnTo>
                  <a:lnTo>
                    <a:pt x="74" y="81"/>
                  </a:lnTo>
                  <a:lnTo>
                    <a:pt x="73" y="78"/>
                  </a:lnTo>
                  <a:lnTo>
                    <a:pt x="73" y="72"/>
                  </a:lnTo>
                  <a:lnTo>
                    <a:pt x="73" y="66"/>
                  </a:lnTo>
                  <a:lnTo>
                    <a:pt x="71" y="61"/>
                  </a:lnTo>
                  <a:lnTo>
                    <a:pt x="71" y="55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69" y="22"/>
                  </a:lnTo>
                  <a:lnTo>
                    <a:pt x="69" y="17"/>
                  </a:lnTo>
                  <a:lnTo>
                    <a:pt x="67" y="9"/>
                  </a:lnTo>
                  <a:lnTo>
                    <a:pt x="67" y="7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403080" y="1496520"/>
              <a:ext cx="187560" cy="2611800"/>
            </a:xfrm>
            <a:custGeom>
              <a:avLst/>
              <a:gdLst/>
              <a:ahLst/>
              <a:rect l="l" t="t" r="r" b="b"/>
              <a:pathLst>
                <a:path w="99" h="1393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5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4" y="81"/>
                  </a:lnTo>
                  <a:lnTo>
                    <a:pt x="16" y="89"/>
                  </a:lnTo>
                  <a:lnTo>
                    <a:pt x="16" y="95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9" y="116"/>
                  </a:lnTo>
                  <a:lnTo>
                    <a:pt x="19" y="123"/>
                  </a:lnTo>
                  <a:lnTo>
                    <a:pt x="21" y="131"/>
                  </a:lnTo>
                  <a:lnTo>
                    <a:pt x="21" y="138"/>
                  </a:lnTo>
                  <a:lnTo>
                    <a:pt x="23" y="146"/>
                  </a:lnTo>
                  <a:lnTo>
                    <a:pt x="23" y="154"/>
                  </a:lnTo>
                  <a:lnTo>
                    <a:pt x="25" y="161"/>
                  </a:lnTo>
                  <a:lnTo>
                    <a:pt x="25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9" y="195"/>
                  </a:lnTo>
                  <a:lnTo>
                    <a:pt x="29" y="203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31" y="235"/>
                  </a:lnTo>
                  <a:lnTo>
                    <a:pt x="33" y="245"/>
                  </a:lnTo>
                  <a:lnTo>
                    <a:pt x="33" y="253"/>
                  </a:lnTo>
                  <a:lnTo>
                    <a:pt x="35" y="262"/>
                  </a:lnTo>
                  <a:lnTo>
                    <a:pt x="35" y="272"/>
                  </a:lnTo>
                  <a:lnTo>
                    <a:pt x="37" y="279"/>
                  </a:lnTo>
                  <a:lnTo>
                    <a:pt x="37" y="289"/>
                  </a:lnTo>
                  <a:lnTo>
                    <a:pt x="38" y="296"/>
                  </a:lnTo>
                  <a:lnTo>
                    <a:pt x="38" y="304"/>
                  </a:lnTo>
                  <a:lnTo>
                    <a:pt x="38" y="313"/>
                  </a:lnTo>
                  <a:lnTo>
                    <a:pt x="38" y="321"/>
                  </a:lnTo>
                  <a:lnTo>
                    <a:pt x="40" y="329"/>
                  </a:lnTo>
                  <a:lnTo>
                    <a:pt x="40" y="336"/>
                  </a:lnTo>
                  <a:lnTo>
                    <a:pt x="42" y="346"/>
                  </a:lnTo>
                  <a:lnTo>
                    <a:pt x="42" y="353"/>
                  </a:lnTo>
                  <a:lnTo>
                    <a:pt x="42" y="361"/>
                  </a:lnTo>
                  <a:lnTo>
                    <a:pt x="42" y="368"/>
                  </a:lnTo>
                  <a:lnTo>
                    <a:pt x="42" y="376"/>
                  </a:lnTo>
                  <a:lnTo>
                    <a:pt x="42" y="384"/>
                  </a:lnTo>
                  <a:lnTo>
                    <a:pt x="42" y="391"/>
                  </a:lnTo>
                  <a:lnTo>
                    <a:pt x="42" y="397"/>
                  </a:lnTo>
                  <a:lnTo>
                    <a:pt x="44" y="407"/>
                  </a:lnTo>
                  <a:lnTo>
                    <a:pt x="42" y="412"/>
                  </a:lnTo>
                  <a:lnTo>
                    <a:pt x="42" y="420"/>
                  </a:lnTo>
                  <a:lnTo>
                    <a:pt x="42" y="426"/>
                  </a:lnTo>
                  <a:lnTo>
                    <a:pt x="42" y="433"/>
                  </a:lnTo>
                  <a:lnTo>
                    <a:pt x="42" y="439"/>
                  </a:lnTo>
                  <a:lnTo>
                    <a:pt x="42" y="446"/>
                  </a:lnTo>
                  <a:lnTo>
                    <a:pt x="42" y="452"/>
                  </a:lnTo>
                  <a:lnTo>
                    <a:pt x="42" y="462"/>
                  </a:lnTo>
                  <a:lnTo>
                    <a:pt x="42" y="467"/>
                  </a:lnTo>
                  <a:lnTo>
                    <a:pt x="42" y="475"/>
                  </a:lnTo>
                  <a:lnTo>
                    <a:pt x="42" y="481"/>
                  </a:lnTo>
                  <a:lnTo>
                    <a:pt x="42" y="488"/>
                  </a:lnTo>
                  <a:lnTo>
                    <a:pt x="42" y="494"/>
                  </a:lnTo>
                  <a:lnTo>
                    <a:pt x="42" y="502"/>
                  </a:lnTo>
                  <a:lnTo>
                    <a:pt x="42" y="509"/>
                  </a:lnTo>
                  <a:lnTo>
                    <a:pt x="42" y="515"/>
                  </a:lnTo>
                  <a:lnTo>
                    <a:pt x="42" y="522"/>
                  </a:lnTo>
                  <a:lnTo>
                    <a:pt x="42" y="528"/>
                  </a:lnTo>
                  <a:lnTo>
                    <a:pt x="42" y="534"/>
                  </a:lnTo>
                  <a:lnTo>
                    <a:pt x="42" y="541"/>
                  </a:lnTo>
                  <a:lnTo>
                    <a:pt x="42" y="547"/>
                  </a:lnTo>
                  <a:lnTo>
                    <a:pt x="42" y="555"/>
                  </a:lnTo>
                  <a:lnTo>
                    <a:pt x="42" y="560"/>
                  </a:lnTo>
                  <a:lnTo>
                    <a:pt x="42" y="568"/>
                  </a:lnTo>
                  <a:lnTo>
                    <a:pt x="42" y="574"/>
                  </a:lnTo>
                  <a:lnTo>
                    <a:pt x="42" y="579"/>
                  </a:lnTo>
                  <a:lnTo>
                    <a:pt x="42" y="585"/>
                  </a:lnTo>
                  <a:lnTo>
                    <a:pt x="42" y="593"/>
                  </a:lnTo>
                  <a:lnTo>
                    <a:pt x="42" y="597"/>
                  </a:lnTo>
                  <a:lnTo>
                    <a:pt x="42" y="604"/>
                  </a:lnTo>
                  <a:lnTo>
                    <a:pt x="42" y="610"/>
                  </a:lnTo>
                  <a:lnTo>
                    <a:pt x="42" y="616"/>
                  </a:lnTo>
                  <a:lnTo>
                    <a:pt x="42" y="621"/>
                  </a:lnTo>
                  <a:lnTo>
                    <a:pt x="42" y="625"/>
                  </a:lnTo>
                  <a:lnTo>
                    <a:pt x="42" y="631"/>
                  </a:lnTo>
                  <a:lnTo>
                    <a:pt x="42" y="637"/>
                  </a:lnTo>
                  <a:lnTo>
                    <a:pt x="42" y="640"/>
                  </a:lnTo>
                  <a:lnTo>
                    <a:pt x="42" y="646"/>
                  </a:lnTo>
                  <a:lnTo>
                    <a:pt x="42" y="650"/>
                  </a:lnTo>
                  <a:lnTo>
                    <a:pt x="42" y="656"/>
                  </a:lnTo>
                  <a:lnTo>
                    <a:pt x="40" y="663"/>
                  </a:lnTo>
                  <a:lnTo>
                    <a:pt x="40" y="673"/>
                  </a:lnTo>
                  <a:lnTo>
                    <a:pt x="40" y="680"/>
                  </a:lnTo>
                  <a:lnTo>
                    <a:pt x="40" y="688"/>
                  </a:lnTo>
                  <a:lnTo>
                    <a:pt x="40" y="694"/>
                  </a:lnTo>
                  <a:lnTo>
                    <a:pt x="40" y="699"/>
                  </a:lnTo>
                  <a:lnTo>
                    <a:pt x="40" y="703"/>
                  </a:lnTo>
                  <a:lnTo>
                    <a:pt x="40" y="709"/>
                  </a:lnTo>
                  <a:lnTo>
                    <a:pt x="40" y="713"/>
                  </a:lnTo>
                  <a:lnTo>
                    <a:pt x="40" y="716"/>
                  </a:lnTo>
                  <a:lnTo>
                    <a:pt x="40" y="718"/>
                  </a:lnTo>
                  <a:lnTo>
                    <a:pt x="40" y="726"/>
                  </a:lnTo>
                  <a:lnTo>
                    <a:pt x="40" y="730"/>
                  </a:lnTo>
                  <a:lnTo>
                    <a:pt x="40" y="735"/>
                  </a:lnTo>
                  <a:lnTo>
                    <a:pt x="40" y="741"/>
                  </a:lnTo>
                  <a:lnTo>
                    <a:pt x="40" y="751"/>
                  </a:lnTo>
                  <a:lnTo>
                    <a:pt x="40" y="758"/>
                  </a:lnTo>
                  <a:lnTo>
                    <a:pt x="40" y="768"/>
                  </a:lnTo>
                  <a:lnTo>
                    <a:pt x="40" y="772"/>
                  </a:lnTo>
                  <a:lnTo>
                    <a:pt x="40" y="777"/>
                  </a:lnTo>
                  <a:lnTo>
                    <a:pt x="40" y="783"/>
                  </a:lnTo>
                  <a:lnTo>
                    <a:pt x="40" y="789"/>
                  </a:lnTo>
                  <a:lnTo>
                    <a:pt x="40" y="792"/>
                  </a:lnTo>
                  <a:lnTo>
                    <a:pt x="40" y="798"/>
                  </a:lnTo>
                  <a:lnTo>
                    <a:pt x="40" y="806"/>
                  </a:lnTo>
                  <a:lnTo>
                    <a:pt x="40" y="811"/>
                  </a:lnTo>
                  <a:lnTo>
                    <a:pt x="40" y="817"/>
                  </a:lnTo>
                  <a:lnTo>
                    <a:pt x="40" y="823"/>
                  </a:lnTo>
                  <a:lnTo>
                    <a:pt x="40" y="829"/>
                  </a:lnTo>
                  <a:lnTo>
                    <a:pt x="40" y="836"/>
                  </a:lnTo>
                  <a:lnTo>
                    <a:pt x="38" y="842"/>
                  </a:lnTo>
                  <a:lnTo>
                    <a:pt x="38" y="848"/>
                  </a:lnTo>
                  <a:lnTo>
                    <a:pt x="38" y="853"/>
                  </a:lnTo>
                  <a:lnTo>
                    <a:pt x="38" y="861"/>
                  </a:lnTo>
                  <a:lnTo>
                    <a:pt x="37" y="867"/>
                  </a:lnTo>
                  <a:lnTo>
                    <a:pt x="37" y="874"/>
                  </a:lnTo>
                  <a:lnTo>
                    <a:pt x="37" y="880"/>
                  </a:lnTo>
                  <a:lnTo>
                    <a:pt x="37" y="887"/>
                  </a:lnTo>
                  <a:lnTo>
                    <a:pt x="37" y="893"/>
                  </a:lnTo>
                  <a:lnTo>
                    <a:pt x="37" y="901"/>
                  </a:lnTo>
                  <a:lnTo>
                    <a:pt x="35" y="906"/>
                  </a:lnTo>
                  <a:lnTo>
                    <a:pt x="35" y="914"/>
                  </a:lnTo>
                  <a:lnTo>
                    <a:pt x="35" y="920"/>
                  </a:lnTo>
                  <a:lnTo>
                    <a:pt x="35" y="927"/>
                  </a:lnTo>
                  <a:lnTo>
                    <a:pt x="35" y="933"/>
                  </a:lnTo>
                  <a:lnTo>
                    <a:pt x="35" y="941"/>
                  </a:lnTo>
                  <a:lnTo>
                    <a:pt x="33" y="946"/>
                  </a:lnTo>
                  <a:lnTo>
                    <a:pt x="33" y="952"/>
                  </a:lnTo>
                  <a:lnTo>
                    <a:pt x="31" y="960"/>
                  </a:lnTo>
                  <a:lnTo>
                    <a:pt x="31" y="965"/>
                  </a:lnTo>
                  <a:lnTo>
                    <a:pt x="31" y="973"/>
                  </a:lnTo>
                  <a:lnTo>
                    <a:pt x="31" y="979"/>
                  </a:lnTo>
                  <a:lnTo>
                    <a:pt x="29" y="984"/>
                  </a:lnTo>
                  <a:lnTo>
                    <a:pt x="29" y="992"/>
                  </a:lnTo>
                  <a:lnTo>
                    <a:pt x="29" y="998"/>
                  </a:lnTo>
                  <a:lnTo>
                    <a:pt x="27" y="1003"/>
                  </a:lnTo>
                  <a:lnTo>
                    <a:pt x="27" y="1009"/>
                  </a:lnTo>
                  <a:lnTo>
                    <a:pt x="25" y="1017"/>
                  </a:lnTo>
                  <a:lnTo>
                    <a:pt x="25" y="1021"/>
                  </a:lnTo>
                  <a:lnTo>
                    <a:pt x="23" y="1026"/>
                  </a:lnTo>
                  <a:lnTo>
                    <a:pt x="23" y="1032"/>
                  </a:lnTo>
                  <a:lnTo>
                    <a:pt x="23" y="1038"/>
                  </a:lnTo>
                  <a:lnTo>
                    <a:pt x="19" y="1047"/>
                  </a:lnTo>
                  <a:lnTo>
                    <a:pt x="18" y="1057"/>
                  </a:lnTo>
                  <a:lnTo>
                    <a:pt x="18" y="1066"/>
                  </a:lnTo>
                  <a:lnTo>
                    <a:pt x="16" y="1076"/>
                  </a:lnTo>
                  <a:lnTo>
                    <a:pt x="14" y="1083"/>
                  </a:lnTo>
                  <a:lnTo>
                    <a:pt x="12" y="1091"/>
                  </a:lnTo>
                  <a:lnTo>
                    <a:pt x="10" y="1098"/>
                  </a:lnTo>
                  <a:lnTo>
                    <a:pt x="10" y="1108"/>
                  </a:lnTo>
                  <a:lnTo>
                    <a:pt x="8" y="1116"/>
                  </a:lnTo>
                  <a:lnTo>
                    <a:pt x="6" y="1123"/>
                  </a:lnTo>
                  <a:lnTo>
                    <a:pt x="4" y="1129"/>
                  </a:lnTo>
                  <a:lnTo>
                    <a:pt x="4" y="1138"/>
                  </a:lnTo>
                  <a:lnTo>
                    <a:pt x="4" y="1144"/>
                  </a:lnTo>
                  <a:lnTo>
                    <a:pt x="4" y="1150"/>
                  </a:lnTo>
                  <a:lnTo>
                    <a:pt x="2" y="1157"/>
                  </a:lnTo>
                  <a:lnTo>
                    <a:pt x="2" y="1165"/>
                  </a:lnTo>
                  <a:lnTo>
                    <a:pt x="2" y="1169"/>
                  </a:lnTo>
                  <a:lnTo>
                    <a:pt x="0" y="1176"/>
                  </a:lnTo>
                  <a:lnTo>
                    <a:pt x="0" y="1180"/>
                  </a:lnTo>
                  <a:lnTo>
                    <a:pt x="0" y="1188"/>
                  </a:lnTo>
                  <a:lnTo>
                    <a:pt x="0" y="1192"/>
                  </a:lnTo>
                  <a:lnTo>
                    <a:pt x="0" y="1199"/>
                  </a:lnTo>
                  <a:lnTo>
                    <a:pt x="0" y="1203"/>
                  </a:lnTo>
                  <a:lnTo>
                    <a:pt x="0" y="1211"/>
                  </a:lnTo>
                  <a:lnTo>
                    <a:pt x="0" y="1216"/>
                  </a:lnTo>
                  <a:lnTo>
                    <a:pt x="0" y="1220"/>
                  </a:lnTo>
                  <a:lnTo>
                    <a:pt x="0" y="1228"/>
                  </a:lnTo>
                  <a:lnTo>
                    <a:pt x="0" y="1233"/>
                  </a:lnTo>
                  <a:lnTo>
                    <a:pt x="0" y="1239"/>
                  </a:lnTo>
                  <a:lnTo>
                    <a:pt x="0" y="1245"/>
                  </a:lnTo>
                  <a:lnTo>
                    <a:pt x="0" y="1251"/>
                  </a:lnTo>
                  <a:lnTo>
                    <a:pt x="2" y="1258"/>
                  </a:lnTo>
                  <a:lnTo>
                    <a:pt x="2" y="1264"/>
                  </a:lnTo>
                  <a:lnTo>
                    <a:pt x="2" y="1271"/>
                  </a:lnTo>
                  <a:lnTo>
                    <a:pt x="2" y="1275"/>
                  </a:lnTo>
                  <a:lnTo>
                    <a:pt x="2" y="1283"/>
                  </a:lnTo>
                  <a:lnTo>
                    <a:pt x="2" y="1289"/>
                  </a:lnTo>
                  <a:lnTo>
                    <a:pt x="2" y="1294"/>
                  </a:lnTo>
                  <a:lnTo>
                    <a:pt x="4" y="1300"/>
                  </a:lnTo>
                  <a:lnTo>
                    <a:pt x="4" y="1308"/>
                  </a:lnTo>
                  <a:lnTo>
                    <a:pt x="4" y="1311"/>
                  </a:lnTo>
                  <a:lnTo>
                    <a:pt x="4" y="1317"/>
                  </a:lnTo>
                  <a:lnTo>
                    <a:pt x="6" y="1323"/>
                  </a:lnTo>
                  <a:lnTo>
                    <a:pt x="6" y="1329"/>
                  </a:lnTo>
                  <a:lnTo>
                    <a:pt x="6" y="1334"/>
                  </a:lnTo>
                  <a:lnTo>
                    <a:pt x="8" y="1338"/>
                  </a:lnTo>
                  <a:lnTo>
                    <a:pt x="8" y="1344"/>
                  </a:lnTo>
                  <a:lnTo>
                    <a:pt x="10" y="1349"/>
                  </a:lnTo>
                  <a:lnTo>
                    <a:pt x="10" y="1357"/>
                  </a:lnTo>
                  <a:lnTo>
                    <a:pt x="12" y="1365"/>
                  </a:lnTo>
                  <a:lnTo>
                    <a:pt x="12" y="1372"/>
                  </a:lnTo>
                  <a:lnTo>
                    <a:pt x="14" y="1380"/>
                  </a:lnTo>
                  <a:lnTo>
                    <a:pt x="16" y="1384"/>
                  </a:lnTo>
                  <a:lnTo>
                    <a:pt x="16" y="1387"/>
                  </a:lnTo>
                  <a:lnTo>
                    <a:pt x="16" y="1389"/>
                  </a:lnTo>
                  <a:lnTo>
                    <a:pt x="18" y="1391"/>
                  </a:lnTo>
                  <a:lnTo>
                    <a:pt x="76" y="1393"/>
                  </a:lnTo>
                  <a:lnTo>
                    <a:pt x="76" y="1391"/>
                  </a:lnTo>
                  <a:lnTo>
                    <a:pt x="75" y="1389"/>
                  </a:lnTo>
                  <a:lnTo>
                    <a:pt x="73" y="1384"/>
                  </a:lnTo>
                  <a:lnTo>
                    <a:pt x="71" y="1376"/>
                  </a:lnTo>
                  <a:lnTo>
                    <a:pt x="69" y="1370"/>
                  </a:lnTo>
                  <a:lnTo>
                    <a:pt x="69" y="1367"/>
                  </a:lnTo>
                  <a:lnTo>
                    <a:pt x="67" y="1361"/>
                  </a:lnTo>
                  <a:lnTo>
                    <a:pt x="65" y="1355"/>
                  </a:lnTo>
                  <a:lnTo>
                    <a:pt x="63" y="1349"/>
                  </a:lnTo>
                  <a:lnTo>
                    <a:pt x="63" y="1344"/>
                  </a:lnTo>
                  <a:lnTo>
                    <a:pt x="61" y="1336"/>
                  </a:lnTo>
                  <a:lnTo>
                    <a:pt x="61" y="1330"/>
                  </a:lnTo>
                  <a:lnTo>
                    <a:pt x="59" y="1323"/>
                  </a:lnTo>
                  <a:lnTo>
                    <a:pt x="57" y="1313"/>
                  </a:lnTo>
                  <a:lnTo>
                    <a:pt x="57" y="1306"/>
                  </a:lnTo>
                  <a:lnTo>
                    <a:pt x="56" y="1298"/>
                  </a:lnTo>
                  <a:lnTo>
                    <a:pt x="54" y="1287"/>
                  </a:lnTo>
                  <a:lnTo>
                    <a:pt x="54" y="1279"/>
                  </a:lnTo>
                  <a:lnTo>
                    <a:pt x="54" y="1270"/>
                  </a:lnTo>
                  <a:lnTo>
                    <a:pt x="54" y="1260"/>
                  </a:lnTo>
                  <a:lnTo>
                    <a:pt x="54" y="1254"/>
                  </a:lnTo>
                  <a:lnTo>
                    <a:pt x="54" y="1249"/>
                  </a:lnTo>
                  <a:lnTo>
                    <a:pt x="54" y="1245"/>
                  </a:lnTo>
                  <a:lnTo>
                    <a:pt x="54" y="1239"/>
                  </a:lnTo>
                  <a:lnTo>
                    <a:pt x="54" y="1233"/>
                  </a:lnTo>
                  <a:lnTo>
                    <a:pt x="54" y="1228"/>
                  </a:lnTo>
                  <a:lnTo>
                    <a:pt x="54" y="1222"/>
                  </a:lnTo>
                  <a:lnTo>
                    <a:pt x="54" y="1218"/>
                  </a:lnTo>
                  <a:lnTo>
                    <a:pt x="54" y="1211"/>
                  </a:lnTo>
                  <a:lnTo>
                    <a:pt x="54" y="1205"/>
                  </a:lnTo>
                  <a:lnTo>
                    <a:pt x="56" y="1201"/>
                  </a:lnTo>
                  <a:lnTo>
                    <a:pt x="56" y="1195"/>
                  </a:lnTo>
                  <a:lnTo>
                    <a:pt x="56" y="1190"/>
                  </a:lnTo>
                  <a:lnTo>
                    <a:pt x="57" y="1184"/>
                  </a:lnTo>
                  <a:lnTo>
                    <a:pt x="57" y="1178"/>
                  </a:lnTo>
                  <a:lnTo>
                    <a:pt x="59" y="1173"/>
                  </a:lnTo>
                  <a:lnTo>
                    <a:pt x="59" y="1167"/>
                  </a:lnTo>
                  <a:lnTo>
                    <a:pt x="59" y="1161"/>
                  </a:lnTo>
                  <a:lnTo>
                    <a:pt x="61" y="1154"/>
                  </a:lnTo>
                  <a:lnTo>
                    <a:pt x="61" y="1150"/>
                  </a:lnTo>
                  <a:lnTo>
                    <a:pt x="61" y="1144"/>
                  </a:lnTo>
                  <a:lnTo>
                    <a:pt x="63" y="1138"/>
                  </a:lnTo>
                  <a:lnTo>
                    <a:pt x="63" y="1133"/>
                  </a:lnTo>
                  <a:lnTo>
                    <a:pt x="65" y="1127"/>
                  </a:lnTo>
                  <a:lnTo>
                    <a:pt x="65" y="1123"/>
                  </a:lnTo>
                  <a:lnTo>
                    <a:pt x="65" y="1117"/>
                  </a:lnTo>
                  <a:lnTo>
                    <a:pt x="67" y="1112"/>
                  </a:lnTo>
                  <a:lnTo>
                    <a:pt x="67" y="1108"/>
                  </a:lnTo>
                  <a:lnTo>
                    <a:pt x="69" y="1098"/>
                  </a:lnTo>
                  <a:lnTo>
                    <a:pt x="71" y="1089"/>
                  </a:lnTo>
                  <a:lnTo>
                    <a:pt x="71" y="1079"/>
                  </a:lnTo>
                  <a:lnTo>
                    <a:pt x="73" y="1070"/>
                  </a:lnTo>
                  <a:lnTo>
                    <a:pt x="73" y="1060"/>
                  </a:lnTo>
                  <a:lnTo>
                    <a:pt x="75" y="1053"/>
                  </a:lnTo>
                  <a:lnTo>
                    <a:pt x="76" y="1043"/>
                  </a:lnTo>
                  <a:lnTo>
                    <a:pt x="78" y="1034"/>
                  </a:lnTo>
                  <a:lnTo>
                    <a:pt x="78" y="1024"/>
                  </a:lnTo>
                  <a:lnTo>
                    <a:pt x="80" y="1017"/>
                  </a:lnTo>
                  <a:lnTo>
                    <a:pt x="80" y="1007"/>
                  </a:lnTo>
                  <a:lnTo>
                    <a:pt x="82" y="998"/>
                  </a:lnTo>
                  <a:lnTo>
                    <a:pt x="82" y="988"/>
                  </a:lnTo>
                  <a:lnTo>
                    <a:pt x="84" y="979"/>
                  </a:lnTo>
                  <a:lnTo>
                    <a:pt x="84" y="975"/>
                  </a:lnTo>
                  <a:lnTo>
                    <a:pt x="84" y="969"/>
                  </a:lnTo>
                  <a:lnTo>
                    <a:pt x="84" y="964"/>
                  </a:lnTo>
                  <a:lnTo>
                    <a:pt x="86" y="960"/>
                  </a:lnTo>
                  <a:lnTo>
                    <a:pt x="86" y="954"/>
                  </a:lnTo>
                  <a:lnTo>
                    <a:pt x="86" y="948"/>
                  </a:lnTo>
                  <a:lnTo>
                    <a:pt x="88" y="943"/>
                  </a:lnTo>
                  <a:lnTo>
                    <a:pt x="88" y="939"/>
                  </a:lnTo>
                  <a:lnTo>
                    <a:pt x="88" y="933"/>
                  </a:lnTo>
                  <a:lnTo>
                    <a:pt x="90" y="927"/>
                  </a:lnTo>
                  <a:lnTo>
                    <a:pt x="90" y="922"/>
                  </a:lnTo>
                  <a:lnTo>
                    <a:pt x="90" y="916"/>
                  </a:lnTo>
                  <a:lnTo>
                    <a:pt x="90" y="910"/>
                  </a:lnTo>
                  <a:lnTo>
                    <a:pt x="92" y="905"/>
                  </a:lnTo>
                  <a:lnTo>
                    <a:pt x="92" y="899"/>
                  </a:lnTo>
                  <a:lnTo>
                    <a:pt x="94" y="893"/>
                  </a:lnTo>
                  <a:lnTo>
                    <a:pt x="94" y="886"/>
                  </a:lnTo>
                  <a:lnTo>
                    <a:pt x="94" y="880"/>
                  </a:lnTo>
                  <a:lnTo>
                    <a:pt x="94" y="874"/>
                  </a:lnTo>
                  <a:lnTo>
                    <a:pt x="95" y="867"/>
                  </a:lnTo>
                  <a:lnTo>
                    <a:pt x="95" y="859"/>
                  </a:lnTo>
                  <a:lnTo>
                    <a:pt x="95" y="853"/>
                  </a:lnTo>
                  <a:lnTo>
                    <a:pt x="95" y="848"/>
                  </a:lnTo>
                  <a:lnTo>
                    <a:pt x="97" y="840"/>
                  </a:lnTo>
                  <a:lnTo>
                    <a:pt x="97" y="832"/>
                  </a:lnTo>
                  <a:lnTo>
                    <a:pt x="97" y="825"/>
                  </a:lnTo>
                  <a:lnTo>
                    <a:pt x="97" y="819"/>
                  </a:lnTo>
                  <a:lnTo>
                    <a:pt x="97" y="811"/>
                  </a:lnTo>
                  <a:lnTo>
                    <a:pt x="97" y="806"/>
                  </a:lnTo>
                  <a:lnTo>
                    <a:pt x="97" y="798"/>
                  </a:lnTo>
                  <a:lnTo>
                    <a:pt x="97" y="792"/>
                  </a:lnTo>
                  <a:lnTo>
                    <a:pt x="99" y="787"/>
                  </a:lnTo>
                  <a:lnTo>
                    <a:pt x="99" y="781"/>
                  </a:lnTo>
                  <a:lnTo>
                    <a:pt x="99" y="775"/>
                  </a:lnTo>
                  <a:lnTo>
                    <a:pt x="99" y="768"/>
                  </a:lnTo>
                  <a:lnTo>
                    <a:pt x="99" y="764"/>
                  </a:lnTo>
                  <a:lnTo>
                    <a:pt x="99" y="758"/>
                  </a:lnTo>
                  <a:lnTo>
                    <a:pt x="99" y="752"/>
                  </a:lnTo>
                  <a:lnTo>
                    <a:pt x="99" y="747"/>
                  </a:lnTo>
                  <a:lnTo>
                    <a:pt x="99" y="743"/>
                  </a:lnTo>
                  <a:lnTo>
                    <a:pt x="99" y="737"/>
                  </a:lnTo>
                  <a:lnTo>
                    <a:pt x="99" y="732"/>
                  </a:lnTo>
                  <a:lnTo>
                    <a:pt x="99" y="726"/>
                  </a:lnTo>
                  <a:lnTo>
                    <a:pt x="99" y="722"/>
                  </a:lnTo>
                  <a:lnTo>
                    <a:pt x="99" y="713"/>
                  </a:lnTo>
                  <a:lnTo>
                    <a:pt x="99" y="703"/>
                  </a:lnTo>
                  <a:lnTo>
                    <a:pt x="97" y="694"/>
                  </a:lnTo>
                  <a:lnTo>
                    <a:pt x="97" y="686"/>
                  </a:lnTo>
                  <a:lnTo>
                    <a:pt x="97" y="675"/>
                  </a:lnTo>
                  <a:lnTo>
                    <a:pt x="97" y="667"/>
                  </a:lnTo>
                  <a:lnTo>
                    <a:pt x="97" y="661"/>
                  </a:lnTo>
                  <a:lnTo>
                    <a:pt x="97" y="657"/>
                  </a:lnTo>
                  <a:lnTo>
                    <a:pt x="97" y="652"/>
                  </a:lnTo>
                  <a:lnTo>
                    <a:pt x="97" y="648"/>
                  </a:lnTo>
                  <a:lnTo>
                    <a:pt x="95" y="642"/>
                  </a:lnTo>
                  <a:lnTo>
                    <a:pt x="95" y="638"/>
                  </a:lnTo>
                  <a:lnTo>
                    <a:pt x="95" y="633"/>
                  </a:lnTo>
                  <a:lnTo>
                    <a:pt x="95" y="629"/>
                  </a:lnTo>
                  <a:lnTo>
                    <a:pt x="95" y="623"/>
                  </a:lnTo>
                  <a:lnTo>
                    <a:pt x="95" y="618"/>
                  </a:lnTo>
                  <a:lnTo>
                    <a:pt x="95" y="612"/>
                  </a:lnTo>
                  <a:lnTo>
                    <a:pt x="95" y="608"/>
                  </a:lnTo>
                  <a:lnTo>
                    <a:pt x="95" y="602"/>
                  </a:lnTo>
                  <a:lnTo>
                    <a:pt x="95" y="597"/>
                  </a:lnTo>
                  <a:lnTo>
                    <a:pt x="95" y="593"/>
                  </a:lnTo>
                  <a:lnTo>
                    <a:pt x="95" y="587"/>
                  </a:lnTo>
                  <a:lnTo>
                    <a:pt x="95" y="579"/>
                  </a:lnTo>
                  <a:lnTo>
                    <a:pt x="95" y="574"/>
                  </a:lnTo>
                  <a:lnTo>
                    <a:pt x="95" y="568"/>
                  </a:lnTo>
                  <a:lnTo>
                    <a:pt x="95" y="562"/>
                  </a:lnTo>
                  <a:lnTo>
                    <a:pt x="95" y="555"/>
                  </a:lnTo>
                  <a:lnTo>
                    <a:pt x="95" y="549"/>
                  </a:lnTo>
                  <a:lnTo>
                    <a:pt x="95" y="543"/>
                  </a:lnTo>
                  <a:lnTo>
                    <a:pt x="95" y="538"/>
                  </a:lnTo>
                  <a:lnTo>
                    <a:pt x="95" y="530"/>
                  </a:lnTo>
                  <a:lnTo>
                    <a:pt x="95" y="522"/>
                  </a:lnTo>
                  <a:lnTo>
                    <a:pt x="95" y="515"/>
                  </a:lnTo>
                  <a:lnTo>
                    <a:pt x="95" y="509"/>
                  </a:lnTo>
                  <a:lnTo>
                    <a:pt x="95" y="502"/>
                  </a:lnTo>
                  <a:lnTo>
                    <a:pt x="97" y="494"/>
                  </a:lnTo>
                  <a:lnTo>
                    <a:pt x="97" y="486"/>
                  </a:lnTo>
                  <a:lnTo>
                    <a:pt x="97" y="479"/>
                  </a:lnTo>
                  <a:lnTo>
                    <a:pt x="97" y="469"/>
                  </a:lnTo>
                  <a:lnTo>
                    <a:pt x="97" y="462"/>
                  </a:lnTo>
                  <a:lnTo>
                    <a:pt x="97" y="452"/>
                  </a:lnTo>
                  <a:lnTo>
                    <a:pt x="97" y="443"/>
                  </a:lnTo>
                  <a:lnTo>
                    <a:pt x="97" y="433"/>
                  </a:lnTo>
                  <a:lnTo>
                    <a:pt x="97" y="424"/>
                  </a:lnTo>
                  <a:lnTo>
                    <a:pt x="97" y="416"/>
                  </a:lnTo>
                  <a:lnTo>
                    <a:pt x="97" y="407"/>
                  </a:lnTo>
                  <a:lnTo>
                    <a:pt x="95" y="395"/>
                  </a:lnTo>
                  <a:lnTo>
                    <a:pt x="95" y="387"/>
                  </a:lnTo>
                  <a:lnTo>
                    <a:pt x="95" y="376"/>
                  </a:lnTo>
                  <a:lnTo>
                    <a:pt x="95" y="368"/>
                  </a:lnTo>
                  <a:lnTo>
                    <a:pt x="95" y="357"/>
                  </a:lnTo>
                  <a:lnTo>
                    <a:pt x="95" y="348"/>
                  </a:lnTo>
                  <a:lnTo>
                    <a:pt x="94" y="338"/>
                  </a:lnTo>
                  <a:lnTo>
                    <a:pt x="94" y="329"/>
                  </a:lnTo>
                  <a:lnTo>
                    <a:pt x="92" y="317"/>
                  </a:lnTo>
                  <a:lnTo>
                    <a:pt x="92" y="308"/>
                  </a:lnTo>
                  <a:lnTo>
                    <a:pt x="90" y="298"/>
                  </a:lnTo>
                  <a:lnTo>
                    <a:pt x="90" y="289"/>
                  </a:lnTo>
                  <a:lnTo>
                    <a:pt x="90" y="277"/>
                  </a:lnTo>
                  <a:lnTo>
                    <a:pt x="88" y="268"/>
                  </a:lnTo>
                  <a:lnTo>
                    <a:pt x="88" y="258"/>
                  </a:lnTo>
                  <a:lnTo>
                    <a:pt x="88" y="249"/>
                  </a:lnTo>
                  <a:lnTo>
                    <a:pt x="86" y="237"/>
                  </a:lnTo>
                  <a:lnTo>
                    <a:pt x="84" y="228"/>
                  </a:lnTo>
                  <a:lnTo>
                    <a:pt x="84" y="218"/>
                  </a:lnTo>
                  <a:lnTo>
                    <a:pt x="84" y="209"/>
                  </a:lnTo>
                  <a:lnTo>
                    <a:pt x="82" y="199"/>
                  </a:lnTo>
                  <a:lnTo>
                    <a:pt x="82" y="190"/>
                  </a:lnTo>
                  <a:lnTo>
                    <a:pt x="80" y="180"/>
                  </a:lnTo>
                  <a:lnTo>
                    <a:pt x="80" y="173"/>
                  </a:lnTo>
                  <a:lnTo>
                    <a:pt x="78" y="163"/>
                  </a:lnTo>
                  <a:lnTo>
                    <a:pt x="78" y="154"/>
                  </a:lnTo>
                  <a:lnTo>
                    <a:pt x="76" y="144"/>
                  </a:lnTo>
                  <a:lnTo>
                    <a:pt x="76" y="137"/>
                  </a:lnTo>
                  <a:lnTo>
                    <a:pt x="75" y="127"/>
                  </a:lnTo>
                  <a:lnTo>
                    <a:pt x="75" y="119"/>
                  </a:lnTo>
                  <a:lnTo>
                    <a:pt x="73" y="112"/>
                  </a:lnTo>
                  <a:lnTo>
                    <a:pt x="73" y="104"/>
                  </a:lnTo>
                  <a:lnTo>
                    <a:pt x="71" y="97"/>
                  </a:lnTo>
                  <a:lnTo>
                    <a:pt x="69" y="89"/>
                  </a:lnTo>
                  <a:lnTo>
                    <a:pt x="69" y="80"/>
                  </a:lnTo>
                  <a:lnTo>
                    <a:pt x="69" y="74"/>
                  </a:lnTo>
                  <a:lnTo>
                    <a:pt x="67" y="66"/>
                  </a:lnTo>
                  <a:lnTo>
                    <a:pt x="67" y="61"/>
                  </a:lnTo>
                  <a:lnTo>
                    <a:pt x="65" y="55"/>
                  </a:lnTo>
                  <a:lnTo>
                    <a:pt x="65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8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59" y="5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3111120" y="1564560"/>
              <a:ext cx="288720" cy="24300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0" y="4"/>
                  </a:moveTo>
                  <a:lnTo>
                    <a:pt x="140" y="0"/>
                  </a:lnTo>
                  <a:lnTo>
                    <a:pt x="153" y="129"/>
                  </a:lnTo>
                  <a:lnTo>
                    <a:pt x="98" y="70"/>
                  </a:lnTo>
                  <a:lnTo>
                    <a:pt x="96" y="53"/>
                  </a:lnTo>
                  <a:lnTo>
                    <a:pt x="53" y="5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107520" y="1564560"/>
              <a:ext cx="284400" cy="246960"/>
            </a:xfrm>
            <a:custGeom>
              <a:avLst/>
              <a:gdLst/>
              <a:ahLst/>
              <a:rect l="l" t="t" r="r" b="b"/>
              <a:pathLst>
                <a:path w="152" h="133">
                  <a:moveTo>
                    <a:pt x="0" y="0"/>
                  </a:moveTo>
                  <a:lnTo>
                    <a:pt x="9" y="133"/>
                  </a:lnTo>
                  <a:lnTo>
                    <a:pt x="152" y="127"/>
                  </a:lnTo>
                  <a:lnTo>
                    <a:pt x="136" y="87"/>
                  </a:lnTo>
                  <a:lnTo>
                    <a:pt x="100" y="70"/>
                  </a:lnTo>
                  <a:lnTo>
                    <a:pt x="53" y="74"/>
                  </a:lnTo>
                  <a:lnTo>
                    <a:pt x="55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168000" y="2092320"/>
              <a:ext cx="276840" cy="24012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0" y="2"/>
                  </a:moveTo>
                  <a:lnTo>
                    <a:pt x="141" y="0"/>
                  </a:lnTo>
                  <a:lnTo>
                    <a:pt x="146" y="129"/>
                  </a:lnTo>
                  <a:lnTo>
                    <a:pt x="95" y="72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168000" y="2092320"/>
              <a:ext cx="269280" cy="243720"/>
            </a:xfrm>
            <a:custGeom>
              <a:avLst/>
              <a:gdLst/>
              <a:ahLst/>
              <a:rect l="l" t="t" r="r" b="b"/>
              <a:pathLst>
                <a:path w="145" h="131">
                  <a:moveTo>
                    <a:pt x="0" y="0"/>
                  </a:moveTo>
                  <a:lnTo>
                    <a:pt x="2" y="131"/>
                  </a:lnTo>
                  <a:lnTo>
                    <a:pt x="145" y="126"/>
                  </a:lnTo>
                  <a:lnTo>
                    <a:pt x="133" y="88"/>
                  </a:lnTo>
                  <a:lnTo>
                    <a:pt x="97" y="72"/>
                  </a:lnTo>
                  <a:lnTo>
                    <a:pt x="49" y="74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168000" y="2673360"/>
              <a:ext cx="280080" cy="23616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0" y="2"/>
                  </a:moveTo>
                  <a:lnTo>
                    <a:pt x="143" y="0"/>
                  </a:lnTo>
                  <a:lnTo>
                    <a:pt x="148" y="127"/>
                  </a:lnTo>
                  <a:lnTo>
                    <a:pt x="97" y="70"/>
                  </a:lnTo>
                  <a:lnTo>
                    <a:pt x="97" y="53"/>
                  </a:lnTo>
                  <a:lnTo>
                    <a:pt x="51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3168000" y="2673360"/>
              <a:ext cx="276840" cy="24372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0"/>
                  </a:moveTo>
                  <a:lnTo>
                    <a:pt x="0" y="131"/>
                  </a:lnTo>
                  <a:lnTo>
                    <a:pt x="146" y="125"/>
                  </a:lnTo>
                  <a:lnTo>
                    <a:pt x="133" y="86"/>
                  </a:lnTo>
                  <a:lnTo>
                    <a:pt x="97" y="70"/>
                  </a:lnTo>
                  <a:lnTo>
                    <a:pt x="49" y="74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152520" y="3239280"/>
              <a:ext cx="258120" cy="25488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5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130560" y="3235320"/>
              <a:ext cx="269280" cy="25488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10" y="0"/>
                  </a:moveTo>
                  <a:lnTo>
                    <a:pt x="0" y="132"/>
                  </a:lnTo>
                  <a:lnTo>
                    <a:pt x="144" y="137"/>
                  </a:lnTo>
                  <a:lnTo>
                    <a:pt x="135" y="95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111120" y="3771360"/>
              <a:ext cx="266760" cy="25488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0"/>
                  </a:moveTo>
                  <a:lnTo>
                    <a:pt x="140" y="8"/>
                  </a:lnTo>
                  <a:lnTo>
                    <a:pt x="133" y="135"/>
                  </a:lnTo>
                  <a:lnTo>
                    <a:pt x="89" y="76"/>
                  </a:lnTo>
                  <a:lnTo>
                    <a:pt x="89" y="56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096360" y="3763800"/>
              <a:ext cx="265680" cy="25812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8" y="0"/>
                  </a:moveTo>
                  <a:lnTo>
                    <a:pt x="0" y="131"/>
                  </a:lnTo>
                  <a:lnTo>
                    <a:pt x="143" y="137"/>
                  </a:lnTo>
                  <a:lnTo>
                    <a:pt x="131" y="97"/>
                  </a:lnTo>
                  <a:lnTo>
                    <a:pt x="99" y="79"/>
                  </a:lnTo>
                  <a:lnTo>
                    <a:pt x="51" y="78"/>
                  </a:lnTo>
                  <a:lnTo>
                    <a:pt x="55" y="5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410920" y="4186800"/>
              <a:ext cx="1385280" cy="719640"/>
            </a:xfrm>
            <a:custGeom>
              <a:avLst/>
              <a:gdLst/>
              <a:ahLst/>
              <a:rect l="l" t="t" r="r" b="b"/>
              <a:pathLst>
                <a:path w="739" h="384">
                  <a:moveTo>
                    <a:pt x="4" y="333"/>
                  </a:moveTo>
                  <a:lnTo>
                    <a:pt x="2" y="331"/>
                  </a:lnTo>
                  <a:lnTo>
                    <a:pt x="2" y="323"/>
                  </a:lnTo>
                  <a:lnTo>
                    <a:pt x="0" y="317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0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2" y="203"/>
                  </a:lnTo>
                  <a:lnTo>
                    <a:pt x="2" y="198"/>
                  </a:lnTo>
                  <a:lnTo>
                    <a:pt x="2" y="192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0" y="158"/>
                  </a:lnTo>
                  <a:lnTo>
                    <a:pt x="13" y="152"/>
                  </a:lnTo>
                  <a:lnTo>
                    <a:pt x="13" y="146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29" y="108"/>
                  </a:lnTo>
                  <a:lnTo>
                    <a:pt x="32" y="103"/>
                  </a:lnTo>
                  <a:lnTo>
                    <a:pt x="34" y="99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5" y="72"/>
                  </a:lnTo>
                  <a:lnTo>
                    <a:pt x="65" y="63"/>
                  </a:lnTo>
                  <a:lnTo>
                    <a:pt x="74" y="57"/>
                  </a:lnTo>
                  <a:lnTo>
                    <a:pt x="78" y="53"/>
                  </a:lnTo>
                  <a:lnTo>
                    <a:pt x="82" y="49"/>
                  </a:lnTo>
                  <a:lnTo>
                    <a:pt x="87" y="45"/>
                  </a:lnTo>
                  <a:lnTo>
                    <a:pt x="95" y="44"/>
                  </a:lnTo>
                  <a:lnTo>
                    <a:pt x="101" y="40"/>
                  </a:lnTo>
                  <a:lnTo>
                    <a:pt x="108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1" y="28"/>
                  </a:lnTo>
                  <a:lnTo>
                    <a:pt x="141" y="26"/>
                  </a:lnTo>
                  <a:lnTo>
                    <a:pt x="148" y="23"/>
                  </a:lnTo>
                  <a:lnTo>
                    <a:pt x="158" y="21"/>
                  </a:lnTo>
                  <a:lnTo>
                    <a:pt x="167" y="19"/>
                  </a:lnTo>
                  <a:lnTo>
                    <a:pt x="179" y="17"/>
                  </a:lnTo>
                  <a:lnTo>
                    <a:pt x="188" y="15"/>
                  </a:lnTo>
                  <a:lnTo>
                    <a:pt x="200" y="13"/>
                  </a:lnTo>
                  <a:lnTo>
                    <a:pt x="209" y="11"/>
                  </a:lnTo>
                  <a:lnTo>
                    <a:pt x="221" y="9"/>
                  </a:lnTo>
                  <a:lnTo>
                    <a:pt x="232" y="7"/>
                  </a:lnTo>
                  <a:lnTo>
                    <a:pt x="243" y="7"/>
                  </a:lnTo>
                  <a:lnTo>
                    <a:pt x="253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0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8" y="2"/>
                  </a:lnTo>
                  <a:lnTo>
                    <a:pt x="352" y="0"/>
                  </a:lnTo>
                  <a:lnTo>
                    <a:pt x="363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1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7" y="6"/>
                  </a:lnTo>
                  <a:lnTo>
                    <a:pt x="449" y="6"/>
                  </a:lnTo>
                  <a:lnTo>
                    <a:pt x="462" y="7"/>
                  </a:lnTo>
                  <a:lnTo>
                    <a:pt x="473" y="7"/>
                  </a:lnTo>
                  <a:lnTo>
                    <a:pt x="485" y="9"/>
                  </a:lnTo>
                  <a:lnTo>
                    <a:pt x="496" y="11"/>
                  </a:lnTo>
                  <a:lnTo>
                    <a:pt x="508" y="13"/>
                  </a:lnTo>
                  <a:lnTo>
                    <a:pt x="521" y="15"/>
                  </a:lnTo>
                  <a:lnTo>
                    <a:pt x="532" y="19"/>
                  </a:lnTo>
                  <a:lnTo>
                    <a:pt x="542" y="21"/>
                  </a:lnTo>
                  <a:lnTo>
                    <a:pt x="553" y="23"/>
                  </a:lnTo>
                  <a:lnTo>
                    <a:pt x="563" y="26"/>
                  </a:lnTo>
                  <a:lnTo>
                    <a:pt x="574" y="30"/>
                  </a:lnTo>
                  <a:lnTo>
                    <a:pt x="586" y="34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5"/>
                  </a:lnTo>
                  <a:lnTo>
                    <a:pt x="622" y="47"/>
                  </a:lnTo>
                  <a:lnTo>
                    <a:pt x="631" y="53"/>
                  </a:lnTo>
                  <a:lnTo>
                    <a:pt x="639" y="59"/>
                  </a:lnTo>
                  <a:lnTo>
                    <a:pt x="648" y="63"/>
                  </a:lnTo>
                  <a:lnTo>
                    <a:pt x="654" y="68"/>
                  </a:lnTo>
                  <a:lnTo>
                    <a:pt x="662" y="72"/>
                  </a:lnTo>
                  <a:lnTo>
                    <a:pt x="667" y="78"/>
                  </a:lnTo>
                  <a:lnTo>
                    <a:pt x="675" y="85"/>
                  </a:lnTo>
                  <a:lnTo>
                    <a:pt x="681" y="89"/>
                  </a:lnTo>
                  <a:lnTo>
                    <a:pt x="686" y="97"/>
                  </a:lnTo>
                  <a:lnTo>
                    <a:pt x="692" y="103"/>
                  </a:lnTo>
                  <a:lnTo>
                    <a:pt x="696" y="110"/>
                  </a:lnTo>
                  <a:lnTo>
                    <a:pt x="700" y="116"/>
                  </a:lnTo>
                  <a:lnTo>
                    <a:pt x="703" y="123"/>
                  </a:lnTo>
                  <a:lnTo>
                    <a:pt x="705" y="129"/>
                  </a:lnTo>
                  <a:lnTo>
                    <a:pt x="709" y="137"/>
                  </a:lnTo>
                  <a:lnTo>
                    <a:pt x="713" y="142"/>
                  </a:lnTo>
                  <a:lnTo>
                    <a:pt x="715" y="150"/>
                  </a:lnTo>
                  <a:lnTo>
                    <a:pt x="719" y="156"/>
                  </a:lnTo>
                  <a:lnTo>
                    <a:pt x="720" y="163"/>
                  </a:lnTo>
                  <a:lnTo>
                    <a:pt x="722" y="167"/>
                  </a:lnTo>
                  <a:lnTo>
                    <a:pt x="724" y="175"/>
                  </a:lnTo>
                  <a:lnTo>
                    <a:pt x="726" y="180"/>
                  </a:lnTo>
                  <a:lnTo>
                    <a:pt x="730" y="188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5"/>
                  </a:lnTo>
                  <a:lnTo>
                    <a:pt x="736" y="213"/>
                  </a:lnTo>
                  <a:lnTo>
                    <a:pt x="736" y="218"/>
                  </a:lnTo>
                  <a:lnTo>
                    <a:pt x="736" y="224"/>
                  </a:lnTo>
                  <a:lnTo>
                    <a:pt x="738" y="230"/>
                  </a:lnTo>
                  <a:lnTo>
                    <a:pt x="738" y="236"/>
                  </a:lnTo>
                  <a:lnTo>
                    <a:pt x="738" y="241"/>
                  </a:lnTo>
                  <a:lnTo>
                    <a:pt x="738" y="247"/>
                  </a:lnTo>
                  <a:lnTo>
                    <a:pt x="738" y="253"/>
                  </a:lnTo>
                  <a:lnTo>
                    <a:pt x="739" y="258"/>
                  </a:lnTo>
                  <a:lnTo>
                    <a:pt x="739" y="264"/>
                  </a:lnTo>
                  <a:lnTo>
                    <a:pt x="739" y="270"/>
                  </a:lnTo>
                  <a:lnTo>
                    <a:pt x="739" y="274"/>
                  </a:lnTo>
                  <a:lnTo>
                    <a:pt x="739" y="279"/>
                  </a:lnTo>
                  <a:lnTo>
                    <a:pt x="738" y="285"/>
                  </a:lnTo>
                  <a:lnTo>
                    <a:pt x="738" y="289"/>
                  </a:lnTo>
                  <a:lnTo>
                    <a:pt x="738" y="295"/>
                  </a:lnTo>
                  <a:lnTo>
                    <a:pt x="738" y="300"/>
                  </a:lnTo>
                  <a:lnTo>
                    <a:pt x="736" y="310"/>
                  </a:lnTo>
                  <a:lnTo>
                    <a:pt x="734" y="317"/>
                  </a:lnTo>
                  <a:lnTo>
                    <a:pt x="732" y="325"/>
                  </a:lnTo>
                  <a:lnTo>
                    <a:pt x="730" y="334"/>
                  </a:lnTo>
                  <a:lnTo>
                    <a:pt x="730" y="340"/>
                  </a:lnTo>
                  <a:lnTo>
                    <a:pt x="728" y="348"/>
                  </a:lnTo>
                  <a:lnTo>
                    <a:pt x="726" y="353"/>
                  </a:lnTo>
                  <a:lnTo>
                    <a:pt x="724" y="361"/>
                  </a:lnTo>
                  <a:lnTo>
                    <a:pt x="720" y="365"/>
                  </a:lnTo>
                  <a:lnTo>
                    <a:pt x="720" y="371"/>
                  </a:lnTo>
                  <a:lnTo>
                    <a:pt x="719" y="374"/>
                  </a:lnTo>
                  <a:lnTo>
                    <a:pt x="719" y="378"/>
                  </a:lnTo>
                  <a:lnTo>
                    <a:pt x="715" y="382"/>
                  </a:lnTo>
                  <a:lnTo>
                    <a:pt x="715" y="384"/>
                  </a:lnTo>
                  <a:lnTo>
                    <a:pt x="667" y="359"/>
                  </a:lnTo>
                  <a:lnTo>
                    <a:pt x="667" y="357"/>
                  </a:lnTo>
                  <a:lnTo>
                    <a:pt x="669" y="352"/>
                  </a:lnTo>
                  <a:lnTo>
                    <a:pt x="671" y="346"/>
                  </a:lnTo>
                  <a:lnTo>
                    <a:pt x="675" y="338"/>
                  </a:lnTo>
                  <a:lnTo>
                    <a:pt x="675" y="333"/>
                  </a:lnTo>
                  <a:lnTo>
                    <a:pt x="677" y="327"/>
                  </a:lnTo>
                  <a:lnTo>
                    <a:pt x="677" y="321"/>
                  </a:lnTo>
                  <a:lnTo>
                    <a:pt x="679" y="314"/>
                  </a:lnTo>
                  <a:lnTo>
                    <a:pt x="681" y="308"/>
                  </a:lnTo>
                  <a:lnTo>
                    <a:pt x="682" y="300"/>
                  </a:lnTo>
                  <a:lnTo>
                    <a:pt x="682" y="293"/>
                  </a:lnTo>
                  <a:lnTo>
                    <a:pt x="684" y="285"/>
                  </a:lnTo>
                  <a:lnTo>
                    <a:pt x="684" y="277"/>
                  </a:lnTo>
                  <a:lnTo>
                    <a:pt x="684" y="270"/>
                  </a:lnTo>
                  <a:lnTo>
                    <a:pt x="684" y="260"/>
                  </a:lnTo>
                  <a:lnTo>
                    <a:pt x="684" y="251"/>
                  </a:lnTo>
                  <a:lnTo>
                    <a:pt x="684" y="241"/>
                  </a:lnTo>
                  <a:lnTo>
                    <a:pt x="682" y="232"/>
                  </a:lnTo>
                  <a:lnTo>
                    <a:pt x="681" y="222"/>
                  </a:lnTo>
                  <a:lnTo>
                    <a:pt x="681" y="215"/>
                  </a:lnTo>
                  <a:lnTo>
                    <a:pt x="679" y="209"/>
                  </a:lnTo>
                  <a:lnTo>
                    <a:pt x="677" y="203"/>
                  </a:lnTo>
                  <a:lnTo>
                    <a:pt x="677" y="198"/>
                  </a:lnTo>
                  <a:lnTo>
                    <a:pt x="675" y="194"/>
                  </a:lnTo>
                  <a:lnTo>
                    <a:pt x="671" y="184"/>
                  </a:lnTo>
                  <a:lnTo>
                    <a:pt x="667" y="175"/>
                  </a:lnTo>
                  <a:lnTo>
                    <a:pt x="665" y="169"/>
                  </a:lnTo>
                  <a:lnTo>
                    <a:pt x="663" y="165"/>
                  </a:lnTo>
                  <a:lnTo>
                    <a:pt x="660" y="160"/>
                  </a:lnTo>
                  <a:lnTo>
                    <a:pt x="658" y="154"/>
                  </a:lnTo>
                  <a:lnTo>
                    <a:pt x="652" y="144"/>
                  </a:lnTo>
                  <a:lnTo>
                    <a:pt x="646" y="137"/>
                  </a:lnTo>
                  <a:lnTo>
                    <a:pt x="643" y="131"/>
                  </a:lnTo>
                  <a:lnTo>
                    <a:pt x="639" y="125"/>
                  </a:lnTo>
                  <a:lnTo>
                    <a:pt x="633" y="122"/>
                  </a:lnTo>
                  <a:lnTo>
                    <a:pt x="629" y="118"/>
                  </a:lnTo>
                  <a:lnTo>
                    <a:pt x="624" y="112"/>
                  </a:lnTo>
                  <a:lnTo>
                    <a:pt x="618" y="108"/>
                  </a:lnTo>
                  <a:lnTo>
                    <a:pt x="612" y="104"/>
                  </a:lnTo>
                  <a:lnTo>
                    <a:pt x="608" y="103"/>
                  </a:lnTo>
                  <a:lnTo>
                    <a:pt x="601" y="99"/>
                  </a:lnTo>
                  <a:lnTo>
                    <a:pt x="595" y="95"/>
                  </a:lnTo>
                  <a:lnTo>
                    <a:pt x="587" y="91"/>
                  </a:lnTo>
                  <a:lnTo>
                    <a:pt x="582" y="89"/>
                  </a:lnTo>
                  <a:lnTo>
                    <a:pt x="574" y="87"/>
                  </a:lnTo>
                  <a:lnTo>
                    <a:pt x="567" y="84"/>
                  </a:lnTo>
                  <a:lnTo>
                    <a:pt x="561" y="82"/>
                  </a:lnTo>
                  <a:lnTo>
                    <a:pt x="553" y="80"/>
                  </a:lnTo>
                  <a:lnTo>
                    <a:pt x="546" y="76"/>
                  </a:lnTo>
                  <a:lnTo>
                    <a:pt x="536" y="74"/>
                  </a:lnTo>
                  <a:lnTo>
                    <a:pt x="528" y="72"/>
                  </a:lnTo>
                  <a:lnTo>
                    <a:pt x="521" y="72"/>
                  </a:lnTo>
                  <a:lnTo>
                    <a:pt x="511" y="68"/>
                  </a:lnTo>
                  <a:lnTo>
                    <a:pt x="504" y="68"/>
                  </a:lnTo>
                  <a:lnTo>
                    <a:pt x="496" y="66"/>
                  </a:lnTo>
                  <a:lnTo>
                    <a:pt x="487" y="66"/>
                  </a:lnTo>
                  <a:lnTo>
                    <a:pt x="479" y="65"/>
                  </a:lnTo>
                  <a:lnTo>
                    <a:pt x="470" y="63"/>
                  </a:lnTo>
                  <a:lnTo>
                    <a:pt x="462" y="63"/>
                  </a:lnTo>
                  <a:lnTo>
                    <a:pt x="454" y="63"/>
                  </a:lnTo>
                  <a:lnTo>
                    <a:pt x="445" y="61"/>
                  </a:lnTo>
                  <a:lnTo>
                    <a:pt x="435" y="61"/>
                  </a:lnTo>
                  <a:lnTo>
                    <a:pt x="428" y="61"/>
                  </a:lnTo>
                  <a:lnTo>
                    <a:pt x="420" y="61"/>
                  </a:lnTo>
                  <a:lnTo>
                    <a:pt x="411" y="61"/>
                  </a:lnTo>
                  <a:lnTo>
                    <a:pt x="403" y="59"/>
                  </a:lnTo>
                  <a:lnTo>
                    <a:pt x="394" y="59"/>
                  </a:lnTo>
                  <a:lnTo>
                    <a:pt x="386" y="59"/>
                  </a:lnTo>
                  <a:lnTo>
                    <a:pt x="378" y="59"/>
                  </a:lnTo>
                  <a:lnTo>
                    <a:pt x="369" y="59"/>
                  </a:lnTo>
                  <a:lnTo>
                    <a:pt x="361" y="59"/>
                  </a:lnTo>
                  <a:lnTo>
                    <a:pt x="354" y="59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31" y="59"/>
                  </a:lnTo>
                  <a:lnTo>
                    <a:pt x="325" y="61"/>
                  </a:lnTo>
                  <a:lnTo>
                    <a:pt x="317" y="61"/>
                  </a:lnTo>
                  <a:lnTo>
                    <a:pt x="312" y="61"/>
                  </a:lnTo>
                  <a:lnTo>
                    <a:pt x="306" y="61"/>
                  </a:lnTo>
                  <a:lnTo>
                    <a:pt x="300" y="61"/>
                  </a:lnTo>
                  <a:lnTo>
                    <a:pt x="295" y="61"/>
                  </a:lnTo>
                  <a:lnTo>
                    <a:pt x="287" y="61"/>
                  </a:lnTo>
                  <a:lnTo>
                    <a:pt x="283" y="61"/>
                  </a:lnTo>
                  <a:lnTo>
                    <a:pt x="278" y="63"/>
                  </a:lnTo>
                  <a:lnTo>
                    <a:pt x="270" y="63"/>
                  </a:lnTo>
                  <a:lnTo>
                    <a:pt x="262" y="65"/>
                  </a:lnTo>
                  <a:lnTo>
                    <a:pt x="257" y="65"/>
                  </a:lnTo>
                  <a:lnTo>
                    <a:pt x="251" y="65"/>
                  </a:lnTo>
                  <a:lnTo>
                    <a:pt x="249" y="65"/>
                  </a:lnTo>
                  <a:lnTo>
                    <a:pt x="249" y="66"/>
                  </a:lnTo>
                  <a:lnTo>
                    <a:pt x="247" y="66"/>
                  </a:lnTo>
                  <a:lnTo>
                    <a:pt x="241" y="66"/>
                  </a:lnTo>
                  <a:lnTo>
                    <a:pt x="236" y="66"/>
                  </a:lnTo>
                  <a:lnTo>
                    <a:pt x="234" y="66"/>
                  </a:lnTo>
                  <a:lnTo>
                    <a:pt x="228" y="68"/>
                  </a:lnTo>
                  <a:lnTo>
                    <a:pt x="222" y="70"/>
                  </a:lnTo>
                  <a:lnTo>
                    <a:pt x="217" y="70"/>
                  </a:lnTo>
                  <a:lnTo>
                    <a:pt x="209" y="72"/>
                  </a:lnTo>
                  <a:lnTo>
                    <a:pt x="203" y="72"/>
                  </a:lnTo>
                  <a:lnTo>
                    <a:pt x="196" y="74"/>
                  </a:lnTo>
                  <a:lnTo>
                    <a:pt x="188" y="76"/>
                  </a:lnTo>
                  <a:lnTo>
                    <a:pt x="183" y="78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58" y="85"/>
                  </a:lnTo>
                  <a:lnTo>
                    <a:pt x="150" y="87"/>
                  </a:lnTo>
                  <a:lnTo>
                    <a:pt x="143" y="89"/>
                  </a:lnTo>
                  <a:lnTo>
                    <a:pt x="135" y="93"/>
                  </a:lnTo>
                  <a:lnTo>
                    <a:pt x="127" y="97"/>
                  </a:lnTo>
                  <a:lnTo>
                    <a:pt x="120" y="101"/>
                  </a:lnTo>
                  <a:lnTo>
                    <a:pt x="112" y="104"/>
                  </a:lnTo>
                  <a:lnTo>
                    <a:pt x="106" y="108"/>
                  </a:lnTo>
                  <a:lnTo>
                    <a:pt x="99" y="112"/>
                  </a:lnTo>
                  <a:lnTo>
                    <a:pt x="93" y="116"/>
                  </a:lnTo>
                  <a:lnTo>
                    <a:pt x="89" y="122"/>
                  </a:lnTo>
                  <a:lnTo>
                    <a:pt x="84" y="125"/>
                  </a:lnTo>
                  <a:lnTo>
                    <a:pt x="78" y="131"/>
                  </a:lnTo>
                  <a:lnTo>
                    <a:pt x="76" y="137"/>
                  </a:lnTo>
                  <a:lnTo>
                    <a:pt x="72" y="142"/>
                  </a:lnTo>
                  <a:lnTo>
                    <a:pt x="72" y="150"/>
                  </a:lnTo>
                  <a:lnTo>
                    <a:pt x="68" y="154"/>
                  </a:lnTo>
                  <a:lnTo>
                    <a:pt x="68" y="161"/>
                  </a:lnTo>
                  <a:lnTo>
                    <a:pt x="67" y="167"/>
                  </a:lnTo>
                  <a:lnTo>
                    <a:pt x="67" y="175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8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6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5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1" y="310"/>
                  </a:lnTo>
                  <a:lnTo>
                    <a:pt x="61" y="317"/>
                  </a:lnTo>
                  <a:lnTo>
                    <a:pt x="63" y="325"/>
                  </a:lnTo>
                  <a:lnTo>
                    <a:pt x="63" y="327"/>
                  </a:lnTo>
                  <a:lnTo>
                    <a:pt x="63" y="329"/>
                  </a:lnTo>
                  <a:lnTo>
                    <a:pt x="4" y="333"/>
                  </a:lnTo>
                  <a:lnTo>
                    <a:pt x="4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834720" y="4191120"/>
              <a:ext cx="1385280" cy="719640"/>
            </a:xfrm>
            <a:custGeom>
              <a:avLst/>
              <a:gdLst/>
              <a:ahLst/>
              <a:rect l="l" t="t" r="r" b="b"/>
              <a:pathLst>
                <a:path w="740" h="384">
                  <a:moveTo>
                    <a:pt x="6" y="332"/>
                  </a:moveTo>
                  <a:lnTo>
                    <a:pt x="6" y="329"/>
                  </a:lnTo>
                  <a:lnTo>
                    <a:pt x="4" y="323"/>
                  </a:lnTo>
                  <a:lnTo>
                    <a:pt x="4" y="317"/>
                  </a:lnTo>
                  <a:lnTo>
                    <a:pt x="2" y="312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2" y="232"/>
                  </a:lnTo>
                  <a:lnTo>
                    <a:pt x="2" y="226"/>
                  </a:lnTo>
                  <a:lnTo>
                    <a:pt x="4" y="220"/>
                  </a:lnTo>
                  <a:lnTo>
                    <a:pt x="4" y="215"/>
                  </a:lnTo>
                  <a:lnTo>
                    <a:pt x="4" y="209"/>
                  </a:lnTo>
                  <a:lnTo>
                    <a:pt x="4" y="203"/>
                  </a:lnTo>
                  <a:lnTo>
                    <a:pt x="6" y="197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8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56"/>
                  </a:lnTo>
                  <a:lnTo>
                    <a:pt x="14" y="150"/>
                  </a:lnTo>
                  <a:lnTo>
                    <a:pt x="16" y="146"/>
                  </a:lnTo>
                  <a:lnTo>
                    <a:pt x="18" y="140"/>
                  </a:lnTo>
                  <a:lnTo>
                    <a:pt x="19" y="135"/>
                  </a:lnTo>
                  <a:lnTo>
                    <a:pt x="21" y="129"/>
                  </a:lnTo>
                  <a:lnTo>
                    <a:pt x="23" y="123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31" y="108"/>
                  </a:lnTo>
                  <a:lnTo>
                    <a:pt x="33" y="102"/>
                  </a:lnTo>
                  <a:lnTo>
                    <a:pt x="35" y="97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6" y="70"/>
                  </a:lnTo>
                  <a:lnTo>
                    <a:pt x="63" y="63"/>
                  </a:lnTo>
                  <a:lnTo>
                    <a:pt x="75" y="57"/>
                  </a:lnTo>
                  <a:lnTo>
                    <a:pt x="76" y="53"/>
                  </a:lnTo>
                  <a:lnTo>
                    <a:pt x="82" y="49"/>
                  </a:lnTo>
                  <a:lnTo>
                    <a:pt x="88" y="45"/>
                  </a:lnTo>
                  <a:lnTo>
                    <a:pt x="95" y="43"/>
                  </a:lnTo>
                  <a:lnTo>
                    <a:pt x="101" y="40"/>
                  </a:lnTo>
                  <a:lnTo>
                    <a:pt x="109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2" y="28"/>
                  </a:lnTo>
                  <a:lnTo>
                    <a:pt x="139" y="26"/>
                  </a:lnTo>
                  <a:lnTo>
                    <a:pt x="149" y="23"/>
                  </a:lnTo>
                  <a:lnTo>
                    <a:pt x="158" y="21"/>
                  </a:lnTo>
                  <a:lnTo>
                    <a:pt x="168" y="17"/>
                  </a:lnTo>
                  <a:lnTo>
                    <a:pt x="177" y="17"/>
                  </a:lnTo>
                  <a:lnTo>
                    <a:pt x="189" y="15"/>
                  </a:lnTo>
                  <a:lnTo>
                    <a:pt x="200" y="13"/>
                  </a:lnTo>
                  <a:lnTo>
                    <a:pt x="210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44" y="5"/>
                  </a:lnTo>
                  <a:lnTo>
                    <a:pt x="253" y="5"/>
                  </a:lnTo>
                  <a:lnTo>
                    <a:pt x="267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1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9" y="2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5" y="2"/>
                  </a:lnTo>
                  <a:lnTo>
                    <a:pt x="388" y="2"/>
                  </a:lnTo>
                  <a:lnTo>
                    <a:pt x="400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8" y="5"/>
                  </a:lnTo>
                  <a:lnTo>
                    <a:pt x="449" y="5"/>
                  </a:lnTo>
                  <a:lnTo>
                    <a:pt x="462" y="5"/>
                  </a:lnTo>
                  <a:lnTo>
                    <a:pt x="474" y="7"/>
                  </a:lnTo>
                  <a:lnTo>
                    <a:pt x="487" y="9"/>
                  </a:lnTo>
                  <a:lnTo>
                    <a:pt x="498" y="11"/>
                  </a:lnTo>
                  <a:lnTo>
                    <a:pt x="510" y="13"/>
                  </a:lnTo>
                  <a:lnTo>
                    <a:pt x="521" y="15"/>
                  </a:lnTo>
                  <a:lnTo>
                    <a:pt x="533" y="17"/>
                  </a:lnTo>
                  <a:lnTo>
                    <a:pt x="542" y="21"/>
                  </a:lnTo>
                  <a:lnTo>
                    <a:pt x="554" y="23"/>
                  </a:lnTo>
                  <a:lnTo>
                    <a:pt x="565" y="26"/>
                  </a:lnTo>
                  <a:lnTo>
                    <a:pt x="576" y="30"/>
                  </a:lnTo>
                  <a:lnTo>
                    <a:pt x="586" y="32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3"/>
                  </a:lnTo>
                  <a:lnTo>
                    <a:pt x="622" y="47"/>
                  </a:lnTo>
                  <a:lnTo>
                    <a:pt x="632" y="53"/>
                  </a:lnTo>
                  <a:lnTo>
                    <a:pt x="639" y="59"/>
                  </a:lnTo>
                  <a:lnTo>
                    <a:pt x="649" y="63"/>
                  </a:lnTo>
                  <a:lnTo>
                    <a:pt x="656" y="68"/>
                  </a:lnTo>
                  <a:lnTo>
                    <a:pt x="662" y="72"/>
                  </a:lnTo>
                  <a:lnTo>
                    <a:pt x="670" y="78"/>
                  </a:lnTo>
                  <a:lnTo>
                    <a:pt x="675" y="83"/>
                  </a:lnTo>
                  <a:lnTo>
                    <a:pt x="681" y="89"/>
                  </a:lnTo>
                  <a:lnTo>
                    <a:pt x="687" y="97"/>
                  </a:lnTo>
                  <a:lnTo>
                    <a:pt x="692" y="102"/>
                  </a:lnTo>
                  <a:lnTo>
                    <a:pt x="698" y="110"/>
                  </a:lnTo>
                  <a:lnTo>
                    <a:pt x="700" y="116"/>
                  </a:lnTo>
                  <a:lnTo>
                    <a:pt x="704" y="121"/>
                  </a:lnTo>
                  <a:lnTo>
                    <a:pt x="708" y="127"/>
                  </a:lnTo>
                  <a:lnTo>
                    <a:pt x="711" y="135"/>
                  </a:lnTo>
                  <a:lnTo>
                    <a:pt x="713" y="140"/>
                  </a:lnTo>
                  <a:lnTo>
                    <a:pt x="715" y="148"/>
                  </a:lnTo>
                  <a:lnTo>
                    <a:pt x="719" y="154"/>
                  </a:lnTo>
                  <a:lnTo>
                    <a:pt x="723" y="161"/>
                  </a:lnTo>
                  <a:lnTo>
                    <a:pt x="725" y="167"/>
                  </a:lnTo>
                  <a:lnTo>
                    <a:pt x="727" y="175"/>
                  </a:lnTo>
                  <a:lnTo>
                    <a:pt x="727" y="178"/>
                  </a:lnTo>
                  <a:lnTo>
                    <a:pt x="730" y="186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3"/>
                  </a:lnTo>
                  <a:lnTo>
                    <a:pt x="736" y="211"/>
                  </a:lnTo>
                  <a:lnTo>
                    <a:pt x="736" y="216"/>
                  </a:lnTo>
                  <a:lnTo>
                    <a:pt x="738" y="222"/>
                  </a:lnTo>
                  <a:lnTo>
                    <a:pt x="738" y="228"/>
                  </a:lnTo>
                  <a:lnTo>
                    <a:pt x="738" y="234"/>
                  </a:lnTo>
                  <a:lnTo>
                    <a:pt x="738" y="239"/>
                  </a:lnTo>
                  <a:lnTo>
                    <a:pt x="740" y="245"/>
                  </a:lnTo>
                  <a:lnTo>
                    <a:pt x="740" y="251"/>
                  </a:lnTo>
                  <a:lnTo>
                    <a:pt x="740" y="256"/>
                  </a:lnTo>
                  <a:lnTo>
                    <a:pt x="740" y="262"/>
                  </a:lnTo>
                  <a:lnTo>
                    <a:pt x="740" y="268"/>
                  </a:lnTo>
                  <a:lnTo>
                    <a:pt x="740" y="274"/>
                  </a:lnTo>
                  <a:lnTo>
                    <a:pt x="740" y="279"/>
                  </a:lnTo>
                  <a:lnTo>
                    <a:pt x="740" y="283"/>
                  </a:lnTo>
                  <a:lnTo>
                    <a:pt x="740" y="289"/>
                  </a:lnTo>
                  <a:lnTo>
                    <a:pt x="740" y="294"/>
                  </a:lnTo>
                  <a:lnTo>
                    <a:pt x="740" y="298"/>
                  </a:lnTo>
                  <a:lnTo>
                    <a:pt x="738" y="308"/>
                  </a:lnTo>
                  <a:lnTo>
                    <a:pt x="736" y="317"/>
                  </a:lnTo>
                  <a:lnTo>
                    <a:pt x="734" y="325"/>
                  </a:lnTo>
                  <a:lnTo>
                    <a:pt x="734" y="334"/>
                  </a:lnTo>
                  <a:lnTo>
                    <a:pt x="732" y="340"/>
                  </a:lnTo>
                  <a:lnTo>
                    <a:pt x="730" y="348"/>
                  </a:lnTo>
                  <a:lnTo>
                    <a:pt x="728" y="353"/>
                  </a:lnTo>
                  <a:lnTo>
                    <a:pt x="727" y="361"/>
                  </a:lnTo>
                  <a:lnTo>
                    <a:pt x="725" y="365"/>
                  </a:lnTo>
                  <a:lnTo>
                    <a:pt x="723" y="369"/>
                  </a:lnTo>
                  <a:lnTo>
                    <a:pt x="721" y="372"/>
                  </a:lnTo>
                  <a:lnTo>
                    <a:pt x="721" y="376"/>
                  </a:lnTo>
                  <a:lnTo>
                    <a:pt x="719" y="382"/>
                  </a:lnTo>
                  <a:lnTo>
                    <a:pt x="719" y="384"/>
                  </a:lnTo>
                  <a:lnTo>
                    <a:pt x="668" y="357"/>
                  </a:lnTo>
                  <a:lnTo>
                    <a:pt x="668" y="355"/>
                  </a:lnTo>
                  <a:lnTo>
                    <a:pt x="670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1"/>
                  </a:lnTo>
                  <a:lnTo>
                    <a:pt x="677" y="325"/>
                  </a:lnTo>
                  <a:lnTo>
                    <a:pt x="679" y="319"/>
                  </a:lnTo>
                  <a:lnTo>
                    <a:pt x="681" y="313"/>
                  </a:lnTo>
                  <a:lnTo>
                    <a:pt x="681" y="306"/>
                  </a:lnTo>
                  <a:lnTo>
                    <a:pt x="683" y="300"/>
                  </a:lnTo>
                  <a:lnTo>
                    <a:pt x="683" y="293"/>
                  </a:lnTo>
                  <a:lnTo>
                    <a:pt x="685" y="285"/>
                  </a:lnTo>
                  <a:lnTo>
                    <a:pt x="685" y="275"/>
                  </a:lnTo>
                  <a:lnTo>
                    <a:pt x="685" y="268"/>
                  </a:lnTo>
                  <a:lnTo>
                    <a:pt x="685" y="258"/>
                  </a:lnTo>
                  <a:lnTo>
                    <a:pt x="687" y="251"/>
                  </a:lnTo>
                  <a:lnTo>
                    <a:pt x="685" y="241"/>
                  </a:lnTo>
                  <a:lnTo>
                    <a:pt x="685" y="232"/>
                  </a:lnTo>
                  <a:lnTo>
                    <a:pt x="683" y="222"/>
                  </a:lnTo>
                  <a:lnTo>
                    <a:pt x="681" y="213"/>
                  </a:lnTo>
                  <a:lnTo>
                    <a:pt x="679" y="207"/>
                  </a:lnTo>
                  <a:lnTo>
                    <a:pt x="679" y="203"/>
                  </a:lnTo>
                  <a:lnTo>
                    <a:pt x="677" y="197"/>
                  </a:lnTo>
                  <a:lnTo>
                    <a:pt x="675" y="192"/>
                  </a:lnTo>
                  <a:lnTo>
                    <a:pt x="673" y="182"/>
                  </a:lnTo>
                  <a:lnTo>
                    <a:pt x="670" y="175"/>
                  </a:lnTo>
                  <a:lnTo>
                    <a:pt x="668" y="169"/>
                  </a:lnTo>
                  <a:lnTo>
                    <a:pt x="664" y="163"/>
                  </a:lnTo>
                  <a:lnTo>
                    <a:pt x="662" y="158"/>
                  </a:lnTo>
                  <a:lnTo>
                    <a:pt x="660" y="154"/>
                  </a:lnTo>
                  <a:lnTo>
                    <a:pt x="654" y="144"/>
                  </a:lnTo>
                  <a:lnTo>
                    <a:pt x="649" y="135"/>
                  </a:lnTo>
                  <a:lnTo>
                    <a:pt x="645" y="129"/>
                  </a:lnTo>
                  <a:lnTo>
                    <a:pt x="639" y="123"/>
                  </a:lnTo>
                  <a:lnTo>
                    <a:pt x="635" y="120"/>
                  </a:lnTo>
                  <a:lnTo>
                    <a:pt x="632" y="116"/>
                  </a:lnTo>
                  <a:lnTo>
                    <a:pt x="626" y="110"/>
                  </a:lnTo>
                  <a:lnTo>
                    <a:pt x="620" y="108"/>
                  </a:lnTo>
                  <a:lnTo>
                    <a:pt x="614" y="104"/>
                  </a:lnTo>
                  <a:lnTo>
                    <a:pt x="609" y="101"/>
                  </a:lnTo>
                  <a:lnTo>
                    <a:pt x="603" y="97"/>
                  </a:lnTo>
                  <a:lnTo>
                    <a:pt x="595" y="95"/>
                  </a:lnTo>
                  <a:lnTo>
                    <a:pt x="590" y="91"/>
                  </a:lnTo>
                  <a:lnTo>
                    <a:pt x="584" y="89"/>
                  </a:lnTo>
                  <a:lnTo>
                    <a:pt x="576" y="85"/>
                  </a:lnTo>
                  <a:lnTo>
                    <a:pt x="569" y="83"/>
                  </a:lnTo>
                  <a:lnTo>
                    <a:pt x="561" y="82"/>
                  </a:lnTo>
                  <a:lnTo>
                    <a:pt x="555" y="80"/>
                  </a:lnTo>
                  <a:lnTo>
                    <a:pt x="546" y="78"/>
                  </a:lnTo>
                  <a:lnTo>
                    <a:pt x="538" y="74"/>
                  </a:lnTo>
                  <a:lnTo>
                    <a:pt x="531" y="72"/>
                  </a:lnTo>
                  <a:lnTo>
                    <a:pt x="523" y="72"/>
                  </a:lnTo>
                  <a:lnTo>
                    <a:pt x="514" y="70"/>
                  </a:lnTo>
                  <a:lnTo>
                    <a:pt x="506" y="70"/>
                  </a:lnTo>
                  <a:lnTo>
                    <a:pt x="497" y="68"/>
                  </a:lnTo>
                  <a:lnTo>
                    <a:pt x="489" y="66"/>
                  </a:lnTo>
                  <a:lnTo>
                    <a:pt x="479" y="64"/>
                  </a:lnTo>
                  <a:lnTo>
                    <a:pt x="472" y="64"/>
                  </a:lnTo>
                  <a:lnTo>
                    <a:pt x="464" y="63"/>
                  </a:lnTo>
                  <a:lnTo>
                    <a:pt x="455" y="63"/>
                  </a:lnTo>
                  <a:lnTo>
                    <a:pt x="447" y="63"/>
                  </a:lnTo>
                  <a:lnTo>
                    <a:pt x="438" y="63"/>
                  </a:lnTo>
                  <a:lnTo>
                    <a:pt x="430" y="63"/>
                  </a:lnTo>
                  <a:lnTo>
                    <a:pt x="422" y="63"/>
                  </a:lnTo>
                  <a:lnTo>
                    <a:pt x="413" y="61"/>
                  </a:lnTo>
                  <a:lnTo>
                    <a:pt x="403" y="61"/>
                  </a:lnTo>
                  <a:lnTo>
                    <a:pt x="396" y="61"/>
                  </a:lnTo>
                  <a:lnTo>
                    <a:pt x="388" y="61"/>
                  </a:lnTo>
                  <a:lnTo>
                    <a:pt x="379" y="61"/>
                  </a:lnTo>
                  <a:lnTo>
                    <a:pt x="371" y="61"/>
                  </a:lnTo>
                  <a:lnTo>
                    <a:pt x="363" y="61"/>
                  </a:lnTo>
                  <a:lnTo>
                    <a:pt x="356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3" y="61"/>
                  </a:lnTo>
                  <a:lnTo>
                    <a:pt x="327" y="61"/>
                  </a:lnTo>
                  <a:lnTo>
                    <a:pt x="320" y="61"/>
                  </a:lnTo>
                  <a:lnTo>
                    <a:pt x="314" y="63"/>
                  </a:lnTo>
                  <a:lnTo>
                    <a:pt x="308" y="63"/>
                  </a:lnTo>
                  <a:lnTo>
                    <a:pt x="303" y="63"/>
                  </a:lnTo>
                  <a:lnTo>
                    <a:pt x="295" y="63"/>
                  </a:lnTo>
                  <a:lnTo>
                    <a:pt x="289" y="63"/>
                  </a:lnTo>
                  <a:lnTo>
                    <a:pt x="284" y="63"/>
                  </a:lnTo>
                  <a:lnTo>
                    <a:pt x="280" y="64"/>
                  </a:lnTo>
                  <a:lnTo>
                    <a:pt x="270" y="64"/>
                  </a:lnTo>
                  <a:lnTo>
                    <a:pt x="265" y="66"/>
                  </a:lnTo>
                  <a:lnTo>
                    <a:pt x="257" y="66"/>
                  </a:lnTo>
                  <a:lnTo>
                    <a:pt x="253" y="66"/>
                  </a:lnTo>
                  <a:lnTo>
                    <a:pt x="251" y="66"/>
                  </a:lnTo>
                  <a:lnTo>
                    <a:pt x="251" y="68"/>
                  </a:lnTo>
                  <a:lnTo>
                    <a:pt x="248" y="68"/>
                  </a:lnTo>
                  <a:lnTo>
                    <a:pt x="244" y="68"/>
                  </a:lnTo>
                  <a:lnTo>
                    <a:pt x="238" y="68"/>
                  </a:lnTo>
                  <a:lnTo>
                    <a:pt x="234" y="68"/>
                  </a:lnTo>
                  <a:lnTo>
                    <a:pt x="230" y="70"/>
                  </a:lnTo>
                  <a:lnTo>
                    <a:pt x="225" y="70"/>
                  </a:lnTo>
                  <a:lnTo>
                    <a:pt x="219" y="70"/>
                  </a:lnTo>
                  <a:lnTo>
                    <a:pt x="211" y="72"/>
                  </a:lnTo>
                  <a:lnTo>
                    <a:pt x="204" y="72"/>
                  </a:lnTo>
                  <a:lnTo>
                    <a:pt x="198" y="76"/>
                  </a:lnTo>
                  <a:lnTo>
                    <a:pt x="190" y="76"/>
                  </a:lnTo>
                  <a:lnTo>
                    <a:pt x="183" y="78"/>
                  </a:lnTo>
                  <a:lnTo>
                    <a:pt x="175" y="82"/>
                  </a:lnTo>
                  <a:lnTo>
                    <a:pt x="168" y="83"/>
                  </a:lnTo>
                  <a:lnTo>
                    <a:pt x="160" y="85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7" y="95"/>
                  </a:lnTo>
                  <a:lnTo>
                    <a:pt x="128" y="97"/>
                  </a:lnTo>
                  <a:lnTo>
                    <a:pt x="120" y="101"/>
                  </a:lnTo>
                  <a:lnTo>
                    <a:pt x="113" y="104"/>
                  </a:lnTo>
                  <a:lnTo>
                    <a:pt x="107" y="110"/>
                  </a:lnTo>
                  <a:lnTo>
                    <a:pt x="101" y="112"/>
                  </a:lnTo>
                  <a:lnTo>
                    <a:pt x="95" y="118"/>
                  </a:lnTo>
                  <a:lnTo>
                    <a:pt x="90" y="121"/>
                  </a:lnTo>
                  <a:lnTo>
                    <a:pt x="86" y="127"/>
                  </a:lnTo>
                  <a:lnTo>
                    <a:pt x="80" y="133"/>
                  </a:lnTo>
                  <a:lnTo>
                    <a:pt x="76" y="137"/>
                  </a:lnTo>
                  <a:lnTo>
                    <a:pt x="75" y="144"/>
                  </a:lnTo>
                  <a:lnTo>
                    <a:pt x="73" y="150"/>
                  </a:lnTo>
                  <a:lnTo>
                    <a:pt x="71" y="156"/>
                  </a:lnTo>
                  <a:lnTo>
                    <a:pt x="69" y="163"/>
                  </a:lnTo>
                  <a:lnTo>
                    <a:pt x="67" y="169"/>
                  </a:lnTo>
                  <a:lnTo>
                    <a:pt x="67" y="177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7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6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5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4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3" y="310"/>
                  </a:lnTo>
                  <a:lnTo>
                    <a:pt x="63" y="317"/>
                  </a:lnTo>
                  <a:lnTo>
                    <a:pt x="63" y="323"/>
                  </a:lnTo>
                  <a:lnTo>
                    <a:pt x="63" y="327"/>
                  </a:lnTo>
                  <a:lnTo>
                    <a:pt x="65" y="329"/>
                  </a:lnTo>
                  <a:lnTo>
                    <a:pt x="6" y="332"/>
                  </a:lnTo>
                  <a:lnTo>
                    <a:pt x="6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262120" y="4198680"/>
              <a:ext cx="1385280" cy="715320"/>
            </a:xfrm>
            <a:custGeom>
              <a:avLst/>
              <a:gdLst/>
              <a:ahLst/>
              <a:rect l="l" t="t" r="r" b="b"/>
              <a:pathLst>
                <a:path w="739" h="382">
                  <a:moveTo>
                    <a:pt x="3" y="330"/>
                  </a:moveTo>
                  <a:lnTo>
                    <a:pt x="2" y="328"/>
                  </a:lnTo>
                  <a:lnTo>
                    <a:pt x="2" y="321"/>
                  </a:lnTo>
                  <a:lnTo>
                    <a:pt x="2" y="317"/>
                  </a:lnTo>
                  <a:lnTo>
                    <a:pt x="2" y="311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89"/>
                  </a:lnTo>
                  <a:lnTo>
                    <a:pt x="0" y="281"/>
                  </a:lnTo>
                  <a:lnTo>
                    <a:pt x="0" y="271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6"/>
                  </a:lnTo>
                  <a:lnTo>
                    <a:pt x="2" y="220"/>
                  </a:lnTo>
                  <a:lnTo>
                    <a:pt x="2" y="212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4"/>
                  </a:lnTo>
                  <a:lnTo>
                    <a:pt x="5" y="178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9" y="159"/>
                  </a:lnTo>
                  <a:lnTo>
                    <a:pt x="9" y="155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5" y="138"/>
                  </a:lnTo>
                  <a:lnTo>
                    <a:pt x="17" y="133"/>
                  </a:lnTo>
                  <a:lnTo>
                    <a:pt x="21" y="127"/>
                  </a:lnTo>
                  <a:lnTo>
                    <a:pt x="22" y="121"/>
                  </a:lnTo>
                  <a:lnTo>
                    <a:pt x="24" y="116"/>
                  </a:lnTo>
                  <a:lnTo>
                    <a:pt x="26" y="110"/>
                  </a:lnTo>
                  <a:lnTo>
                    <a:pt x="28" y="106"/>
                  </a:lnTo>
                  <a:lnTo>
                    <a:pt x="32" y="100"/>
                  </a:lnTo>
                  <a:lnTo>
                    <a:pt x="34" y="95"/>
                  </a:lnTo>
                  <a:lnTo>
                    <a:pt x="38" y="91"/>
                  </a:lnTo>
                  <a:lnTo>
                    <a:pt x="41" y="85"/>
                  </a:lnTo>
                  <a:lnTo>
                    <a:pt x="47" y="76"/>
                  </a:lnTo>
                  <a:lnTo>
                    <a:pt x="55" y="68"/>
                  </a:lnTo>
                  <a:lnTo>
                    <a:pt x="64" y="60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1" y="47"/>
                  </a:lnTo>
                  <a:lnTo>
                    <a:pt x="87" y="43"/>
                  </a:lnTo>
                  <a:lnTo>
                    <a:pt x="95" y="39"/>
                  </a:lnTo>
                  <a:lnTo>
                    <a:pt x="100" y="38"/>
                  </a:lnTo>
                  <a:lnTo>
                    <a:pt x="108" y="34"/>
                  </a:lnTo>
                  <a:lnTo>
                    <a:pt x="116" y="32"/>
                  </a:lnTo>
                  <a:lnTo>
                    <a:pt x="123" y="28"/>
                  </a:lnTo>
                  <a:lnTo>
                    <a:pt x="133" y="26"/>
                  </a:lnTo>
                  <a:lnTo>
                    <a:pt x="140" y="24"/>
                  </a:lnTo>
                  <a:lnTo>
                    <a:pt x="148" y="20"/>
                  </a:lnTo>
                  <a:lnTo>
                    <a:pt x="159" y="19"/>
                  </a:lnTo>
                  <a:lnTo>
                    <a:pt x="167" y="17"/>
                  </a:lnTo>
                  <a:lnTo>
                    <a:pt x="178" y="15"/>
                  </a:lnTo>
                  <a:lnTo>
                    <a:pt x="188" y="13"/>
                  </a:lnTo>
                  <a:lnTo>
                    <a:pt x="199" y="13"/>
                  </a:lnTo>
                  <a:lnTo>
                    <a:pt x="209" y="9"/>
                  </a:lnTo>
                  <a:lnTo>
                    <a:pt x="220" y="7"/>
                  </a:lnTo>
                  <a:lnTo>
                    <a:pt x="232" y="5"/>
                  </a:lnTo>
                  <a:lnTo>
                    <a:pt x="243" y="5"/>
                  </a:lnTo>
                  <a:lnTo>
                    <a:pt x="252" y="3"/>
                  </a:lnTo>
                  <a:lnTo>
                    <a:pt x="266" y="1"/>
                  </a:lnTo>
                  <a:lnTo>
                    <a:pt x="277" y="1"/>
                  </a:lnTo>
                  <a:lnTo>
                    <a:pt x="289" y="1"/>
                  </a:lnTo>
                  <a:lnTo>
                    <a:pt x="302" y="1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1"/>
                  </a:lnTo>
                  <a:lnTo>
                    <a:pt x="401" y="1"/>
                  </a:lnTo>
                  <a:lnTo>
                    <a:pt x="412" y="1"/>
                  </a:lnTo>
                  <a:lnTo>
                    <a:pt x="425" y="1"/>
                  </a:lnTo>
                  <a:lnTo>
                    <a:pt x="437" y="3"/>
                  </a:lnTo>
                  <a:lnTo>
                    <a:pt x="448" y="3"/>
                  </a:lnTo>
                  <a:lnTo>
                    <a:pt x="462" y="5"/>
                  </a:lnTo>
                  <a:lnTo>
                    <a:pt x="473" y="5"/>
                  </a:lnTo>
                  <a:lnTo>
                    <a:pt x="484" y="9"/>
                  </a:lnTo>
                  <a:lnTo>
                    <a:pt x="496" y="9"/>
                  </a:lnTo>
                  <a:lnTo>
                    <a:pt x="509" y="11"/>
                  </a:lnTo>
                  <a:lnTo>
                    <a:pt x="521" y="13"/>
                  </a:lnTo>
                  <a:lnTo>
                    <a:pt x="532" y="17"/>
                  </a:lnTo>
                  <a:lnTo>
                    <a:pt x="541" y="19"/>
                  </a:lnTo>
                  <a:lnTo>
                    <a:pt x="553" y="20"/>
                  </a:lnTo>
                  <a:lnTo>
                    <a:pt x="562" y="24"/>
                  </a:lnTo>
                  <a:lnTo>
                    <a:pt x="574" y="28"/>
                  </a:lnTo>
                  <a:lnTo>
                    <a:pt x="585" y="30"/>
                  </a:lnTo>
                  <a:lnTo>
                    <a:pt x="595" y="34"/>
                  </a:lnTo>
                  <a:lnTo>
                    <a:pt x="604" y="38"/>
                  </a:lnTo>
                  <a:lnTo>
                    <a:pt x="614" y="41"/>
                  </a:lnTo>
                  <a:lnTo>
                    <a:pt x="621" y="45"/>
                  </a:lnTo>
                  <a:lnTo>
                    <a:pt x="631" y="51"/>
                  </a:lnTo>
                  <a:lnTo>
                    <a:pt x="638" y="55"/>
                  </a:lnTo>
                  <a:lnTo>
                    <a:pt x="648" y="60"/>
                  </a:lnTo>
                  <a:lnTo>
                    <a:pt x="654" y="66"/>
                  </a:lnTo>
                  <a:lnTo>
                    <a:pt x="661" y="70"/>
                  </a:lnTo>
                  <a:lnTo>
                    <a:pt x="667" y="76"/>
                  </a:lnTo>
                  <a:lnTo>
                    <a:pt x="675" y="81"/>
                  </a:lnTo>
                  <a:lnTo>
                    <a:pt x="680" y="87"/>
                  </a:lnTo>
                  <a:lnTo>
                    <a:pt x="686" y="93"/>
                  </a:lnTo>
                  <a:lnTo>
                    <a:pt x="692" y="100"/>
                  </a:lnTo>
                  <a:lnTo>
                    <a:pt x="695" y="106"/>
                  </a:lnTo>
                  <a:lnTo>
                    <a:pt x="699" y="114"/>
                  </a:lnTo>
                  <a:lnTo>
                    <a:pt x="703" y="119"/>
                  </a:lnTo>
                  <a:lnTo>
                    <a:pt x="705" y="125"/>
                  </a:lnTo>
                  <a:lnTo>
                    <a:pt x="709" y="133"/>
                  </a:lnTo>
                  <a:lnTo>
                    <a:pt x="713" y="138"/>
                  </a:lnTo>
                  <a:lnTo>
                    <a:pt x="714" y="146"/>
                  </a:lnTo>
                  <a:lnTo>
                    <a:pt x="718" y="152"/>
                  </a:lnTo>
                  <a:lnTo>
                    <a:pt x="720" y="159"/>
                  </a:lnTo>
                  <a:lnTo>
                    <a:pt x="722" y="165"/>
                  </a:lnTo>
                  <a:lnTo>
                    <a:pt x="724" y="173"/>
                  </a:lnTo>
                  <a:lnTo>
                    <a:pt x="726" y="176"/>
                  </a:lnTo>
                  <a:lnTo>
                    <a:pt x="730" y="184"/>
                  </a:lnTo>
                  <a:lnTo>
                    <a:pt x="730" y="190"/>
                  </a:lnTo>
                  <a:lnTo>
                    <a:pt x="732" y="197"/>
                  </a:lnTo>
                  <a:lnTo>
                    <a:pt x="733" y="201"/>
                  </a:lnTo>
                  <a:lnTo>
                    <a:pt x="735" y="209"/>
                  </a:lnTo>
                  <a:lnTo>
                    <a:pt x="735" y="214"/>
                  </a:lnTo>
                  <a:lnTo>
                    <a:pt x="735" y="220"/>
                  </a:lnTo>
                  <a:lnTo>
                    <a:pt x="737" y="226"/>
                  </a:lnTo>
                  <a:lnTo>
                    <a:pt x="737" y="231"/>
                  </a:lnTo>
                  <a:lnTo>
                    <a:pt x="737" y="237"/>
                  </a:lnTo>
                  <a:lnTo>
                    <a:pt x="737" y="243"/>
                  </a:lnTo>
                  <a:lnTo>
                    <a:pt x="737" y="249"/>
                  </a:lnTo>
                  <a:lnTo>
                    <a:pt x="739" y="254"/>
                  </a:lnTo>
                  <a:lnTo>
                    <a:pt x="739" y="260"/>
                  </a:lnTo>
                  <a:lnTo>
                    <a:pt x="739" y="266"/>
                  </a:lnTo>
                  <a:lnTo>
                    <a:pt x="739" y="271"/>
                  </a:lnTo>
                  <a:lnTo>
                    <a:pt x="739" y="277"/>
                  </a:lnTo>
                  <a:lnTo>
                    <a:pt x="737" y="281"/>
                  </a:lnTo>
                  <a:lnTo>
                    <a:pt x="737" y="287"/>
                  </a:lnTo>
                  <a:lnTo>
                    <a:pt x="737" y="292"/>
                  </a:lnTo>
                  <a:lnTo>
                    <a:pt x="737" y="296"/>
                  </a:lnTo>
                  <a:lnTo>
                    <a:pt x="735" y="306"/>
                  </a:lnTo>
                  <a:lnTo>
                    <a:pt x="733" y="315"/>
                  </a:lnTo>
                  <a:lnTo>
                    <a:pt x="732" y="323"/>
                  </a:lnTo>
                  <a:lnTo>
                    <a:pt x="732" y="330"/>
                  </a:lnTo>
                  <a:lnTo>
                    <a:pt x="730" y="338"/>
                  </a:lnTo>
                  <a:lnTo>
                    <a:pt x="728" y="346"/>
                  </a:lnTo>
                  <a:lnTo>
                    <a:pt x="726" y="351"/>
                  </a:lnTo>
                  <a:lnTo>
                    <a:pt x="724" y="357"/>
                  </a:lnTo>
                  <a:lnTo>
                    <a:pt x="720" y="363"/>
                  </a:lnTo>
                  <a:lnTo>
                    <a:pt x="720" y="366"/>
                  </a:lnTo>
                  <a:lnTo>
                    <a:pt x="718" y="370"/>
                  </a:lnTo>
                  <a:lnTo>
                    <a:pt x="718" y="374"/>
                  </a:lnTo>
                  <a:lnTo>
                    <a:pt x="716" y="380"/>
                  </a:lnTo>
                  <a:lnTo>
                    <a:pt x="716" y="382"/>
                  </a:lnTo>
                  <a:lnTo>
                    <a:pt x="667" y="357"/>
                  </a:lnTo>
                  <a:lnTo>
                    <a:pt x="667" y="355"/>
                  </a:lnTo>
                  <a:lnTo>
                    <a:pt x="669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0"/>
                  </a:lnTo>
                  <a:lnTo>
                    <a:pt x="676" y="325"/>
                  </a:lnTo>
                  <a:lnTo>
                    <a:pt x="678" y="319"/>
                  </a:lnTo>
                  <a:lnTo>
                    <a:pt x="680" y="313"/>
                  </a:lnTo>
                  <a:lnTo>
                    <a:pt x="680" y="306"/>
                  </a:lnTo>
                  <a:lnTo>
                    <a:pt x="682" y="300"/>
                  </a:lnTo>
                  <a:lnTo>
                    <a:pt x="682" y="292"/>
                  </a:lnTo>
                  <a:lnTo>
                    <a:pt x="684" y="285"/>
                  </a:lnTo>
                  <a:lnTo>
                    <a:pt x="684" y="275"/>
                  </a:lnTo>
                  <a:lnTo>
                    <a:pt x="684" y="268"/>
                  </a:lnTo>
                  <a:lnTo>
                    <a:pt x="684" y="258"/>
                  </a:lnTo>
                  <a:lnTo>
                    <a:pt x="684" y="251"/>
                  </a:lnTo>
                  <a:lnTo>
                    <a:pt x="684" y="239"/>
                  </a:lnTo>
                  <a:lnTo>
                    <a:pt x="682" y="231"/>
                  </a:lnTo>
                  <a:lnTo>
                    <a:pt x="680" y="222"/>
                  </a:lnTo>
                  <a:lnTo>
                    <a:pt x="680" y="212"/>
                  </a:lnTo>
                  <a:lnTo>
                    <a:pt x="678" y="207"/>
                  </a:lnTo>
                  <a:lnTo>
                    <a:pt x="678" y="201"/>
                  </a:lnTo>
                  <a:lnTo>
                    <a:pt x="676" y="197"/>
                  </a:lnTo>
                  <a:lnTo>
                    <a:pt x="675" y="192"/>
                  </a:lnTo>
                  <a:lnTo>
                    <a:pt x="673" y="186"/>
                  </a:lnTo>
                  <a:lnTo>
                    <a:pt x="671" y="182"/>
                  </a:lnTo>
                  <a:lnTo>
                    <a:pt x="669" y="176"/>
                  </a:lnTo>
                  <a:lnTo>
                    <a:pt x="667" y="173"/>
                  </a:lnTo>
                  <a:lnTo>
                    <a:pt x="665" y="167"/>
                  </a:lnTo>
                  <a:lnTo>
                    <a:pt x="663" y="161"/>
                  </a:lnTo>
                  <a:lnTo>
                    <a:pt x="659" y="157"/>
                  </a:lnTo>
                  <a:lnTo>
                    <a:pt x="657" y="152"/>
                  </a:lnTo>
                  <a:lnTo>
                    <a:pt x="654" y="146"/>
                  </a:lnTo>
                  <a:lnTo>
                    <a:pt x="652" y="142"/>
                  </a:lnTo>
                  <a:lnTo>
                    <a:pt x="650" y="136"/>
                  </a:lnTo>
                  <a:lnTo>
                    <a:pt x="646" y="133"/>
                  </a:lnTo>
                  <a:lnTo>
                    <a:pt x="642" y="127"/>
                  </a:lnTo>
                  <a:lnTo>
                    <a:pt x="638" y="121"/>
                  </a:lnTo>
                  <a:lnTo>
                    <a:pt x="633" y="117"/>
                  </a:lnTo>
                  <a:lnTo>
                    <a:pt x="629" y="114"/>
                  </a:lnTo>
                  <a:lnTo>
                    <a:pt x="623" y="108"/>
                  </a:lnTo>
                  <a:lnTo>
                    <a:pt x="617" y="106"/>
                  </a:lnTo>
                  <a:lnTo>
                    <a:pt x="614" y="102"/>
                  </a:lnTo>
                  <a:lnTo>
                    <a:pt x="608" y="98"/>
                  </a:lnTo>
                  <a:lnTo>
                    <a:pt x="600" y="95"/>
                  </a:lnTo>
                  <a:lnTo>
                    <a:pt x="595" y="91"/>
                  </a:lnTo>
                  <a:lnTo>
                    <a:pt x="587" y="89"/>
                  </a:lnTo>
                  <a:lnTo>
                    <a:pt x="581" y="85"/>
                  </a:lnTo>
                  <a:lnTo>
                    <a:pt x="574" y="83"/>
                  </a:lnTo>
                  <a:lnTo>
                    <a:pt x="566" y="81"/>
                  </a:lnTo>
                  <a:lnTo>
                    <a:pt x="560" y="79"/>
                  </a:lnTo>
                  <a:lnTo>
                    <a:pt x="553" y="78"/>
                  </a:lnTo>
                  <a:lnTo>
                    <a:pt x="545" y="74"/>
                  </a:lnTo>
                  <a:lnTo>
                    <a:pt x="536" y="72"/>
                  </a:lnTo>
                  <a:lnTo>
                    <a:pt x="528" y="70"/>
                  </a:lnTo>
                  <a:lnTo>
                    <a:pt x="521" y="68"/>
                  </a:lnTo>
                  <a:lnTo>
                    <a:pt x="511" y="66"/>
                  </a:lnTo>
                  <a:lnTo>
                    <a:pt x="503" y="66"/>
                  </a:lnTo>
                  <a:lnTo>
                    <a:pt x="496" y="64"/>
                  </a:lnTo>
                  <a:lnTo>
                    <a:pt x="486" y="64"/>
                  </a:lnTo>
                  <a:lnTo>
                    <a:pt x="479" y="62"/>
                  </a:lnTo>
                  <a:lnTo>
                    <a:pt x="469" y="62"/>
                  </a:lnTo>
                  <a:lnTo>
                    <a:pt x="462" y="60"/>
                  </a:lnTo>
                  <a:lnTo>
                    <a:pt x="454" y="60"/>
                  </a:lnTo>
                  <a:lnTo>
                    <a:pt x="444" y="60"/>
                  </a:lnTo>
                  <a:lnTo>
                    <a:pt x="435" y="59"/>
                  </a:lnTo>
                  <a:lnTo>
                    <a:pt x="427" y="59"/>
                  </a:lnTo>
                  <a:lnTo>
                    <a:pt x="420" y="59"/>
                  </a:lnTo>
                  <a:lnTo>
                    <a:pt x="410" y="59"/>
                  </a:lnTo>
                  <a:lnTo>
                    <a:pt x="403" y="57"/>
                  </a:lnTo>
                  <a:lnTo>
                    <a:pt x="393" y="57"/>
                  </a:lnTo>
                  <a:lnTo>
                    <a:pt x="386" y="57"/>
                  </a:lnTo>
                  <a:lnTo>
                    <a:pt x="378" y="57"/>
                  </a:lnTo>
                  <a:lnTo>
                    <a:pt x="368" y="57"/>
                  </a:lnTo>
                  <a:lnTo>
                    <a:pt x="361" y="57"/>
                  </a:lnTo>
                  <a:lnTo>
                    <a:pt x="353" y="57"/>
                  </a:lnTo>
                  <a:lnTo>
                    <a:pt x="346" y="57"/>
                  </a:lnTo>
                  <a:lnTo>
                    <a:pt x="338" y="57"/>
                  </a:lnTo>
                  <a:lnTo>
                    <a:pt x="330" y="57"/>
                  </a:lnTo>
                  <a:lnTo>
                    <a:pt x="325" y="59"/>
                  </a:lnTo>
                  <a:lnTo>
                    <a:pt x="317" y="59"/>
                  </a:lnTo>
                  <a:lnTo>
                    <a:pt x="311" y="59"/>
                  </a:lnTo>
                  <a:lnTo>
                    <a:pt x="306" y="59"/>
                  </a:lnTo>
                  <a:lnTo>
                    <a:pt x="300" y="60"/>
                  </a:lnTo>
                  <a:lnTo>
                    <a:pt x="294" y="60"/>
                  </a:lnTo>
                  <a:lnTo>
                    <a:pt x="289" y="60"/>
                  </a:lnTo>
                  <a:lnTo>
                    <a:pt x="283" y="60"/>
                  </a:lnTo>
                  <a:lnTo>
                    <a:pt x="277" y="60"/>
                  </a:lnTo>
                  <a:lnTo>
                    <a:pt x="270" y="62"/>
                  </a:lnTo>
                  <a:lnTo>
                    <a:pt x="262" y="62"/>
                  </a:lnTo>
                  <a:lnTo>
                    <a:pt x="256" y="62"/>
                  </a:lnTo>
                  <a:lnTo>
                    <a:pt x="251" y="64"/>
                  </a:lnTo>
                  <a:lnTo>
                    <a:pt x="249" y="64"/>
                  </a:lnTo>
                  <a:lnTo>
                    <a:pt x="249" y="64"/>
                  </a:lnTo>
                  <a:lnTo>
                    <a:pt x="247" y="64"/>
                  </a:lnTo>
                  <a:lnTo>
                    <a:pt x="241" y="64"/>
                  </a:lnTo>
                  <a:lnTo>
                    <a:pt x="235" y="64"/>
                  </a:lnTo>
                  <a:lnTo>
                    <a:pt x="233" y="66"/>
                  </a:lnTo>
                  <a:lnTo>
                    <a:pt x="228" y="66"/>
                  </a:lnTo>
                  <a:lnTo>
                    <a:pt x="224" y="68"/>
                  </a:lnTo>
                  <a:lnTo>
                    <a:pt x="216" y="68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7" y="74"/>
                  </a:lnTo>
                  <a:lnTo>
                    <a:pt x="188" y="74"/>
                  </a:lnTo>
                  <a:lnTo>
                    <a:pt x="182" y="76"/>
                  </a:lnTo>
                  <a:lnTo>
                    <a:pt x="173" y="79"/>
                  </a:lnTo>
                  <a:lnTo>
                    <a:pt x="167" y="81"/>
                  </a:lnTo>
                  <a:lnTo>
                    <a:pt x="159" y="83"/>
                  </a:lnTo>
                  <a:lnTo>
                    <a:pt x="150" y="85"/>
                  </a:lnTo>
                  <a:lnTo>
                    <a:pt x="142" y="89"/>
                  </a:lnTo>
                  <a:lnTo>
                    <a:pt x="135" y="93"/>
                  </a:lnTo>
                  <a:lnTo>
                    <a:pt x="127" y="95"/>
                  </a:lnTo>
                  <a:lnTo>
                    <a:pt x="119" y="98"/>
                  </a:lnTo>
                  <a:lnTo>
                    <a:pt x="112" y="102"/>
                  </a:lnTo>
                  <a:lnTo>
                    <a:pt x="106" y="106"/>
                  </a:lnTo>
                  <a:lnTo>
                    <a:pt x="99" y="110"/>
                  </a:lnTo>
                  <a:lnTo>
                    <a:pt x="93" y="116"/>
                  </a:lnTo>
                  <a:lnTo>
                    <a:pt x="89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6" y="135"/>
                  </a:lnTo>
                  <a:lnTo>
                    <a:pt x="72" y="140"/>
                  </a:lnTo>
                  <a:lnTo>
                    <a:pt x="72" y="148"/>
                  </a:lnTo>
                  <a:lnTo>
                    <a:pt x="68" y="154"/>
                  </a:lnTo>
                  <a:lnTo>
                    <a:pt x="68" y="159"/>
                  </a:lnTo>
                  <a:lnTo>
                    <a:pt x="66" y="167"/>
                  </a:lnTo>
                  <a:lnTo>
                    <a:pt x="66" y="173"/>
                  </a:lnTo>
                  <a:lnTo>
                    <a:pt x="64" y="180"/>
                  </a:lnTo>
                  <a:lnTo>
                    <a:pt x="62" y="188"/>
                  </a:lnTo>
                  <a:lnTo>
                    <a:pt x="62" y="195"/>
                  </a:lnTo>
                  <a:lnTo>
                    <a:pt x="62" y="203"/>
                  </a:lnTo>
                  <a:lnTo>
                    <a:pt x="61" y="211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3"/>
                  </a:lnTo>
                  <a:lnTo>
                    <a:pt x="61" y="239"/>
                  </a:lnTo>
                  <a:lnTo>
                    <a:pt x="61" y="247"/>
                  </a:lnTo>
                  <a:lnTo>
                    <a:pt x="61" y="254"/>
                  </a:lnTo>
                  <a:lnTo>
                    <a:pt x="61" y="262"/>
                  </a:lnTo>
                  <a:lnTo>
                    <a:pt x="61" y="268"/>
                  </a:lnTo>
                  <a:lnTo>
                    <a:pt x="61" y="275"/>
                  </a:lnTo>
                  <a:lnTo>
                    <a:pt x="61" y="281"/>
                  </a:lnTo>
                  <a:lnTo>
                    <a:pt x="61" y="287"/>
                  </a:lnTo>
                  <a:lnTo>
                    <a:pt x="61" y="292"/>
                  </a:lnTo>
                  <a:lnTo>
                    <a:pt x="61" y="296"/>
                  </a:lnTo>
                  <a:lnTo>
                    <a:pt x="61" y="302"/>
                  </a:lnTo>
                  <a:lnTo>
                    <a:pt x="61" y="308"/>
                  </a:lnTo>
                  <a:lnTo>
                    <a:pt x="61" y="315"/>
                  </a:lnTo>
                  <a:lnTo>
                    <a:pt x="62" y="321"/>
                  </a:lnTo>
                  <a:lnTo>
                    <a:pt x="62" y="325"/>
                  </a:lnTo>
                  <a:lnTo>
                    <a:pt x="62" y="327"/>
                  </a:lnTo>
                  <a:lnTo>
                    <a:pt x="3" y="330"/>
                  </a:lnTo>
                  <a:lnTo>
                    <a:pt x="3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632560" y="1444680"/>
              <a:ext cx="562320" cy="2701080"/>
            </a:xfrm>
            <a:custGeom>
              <a:avLst/>
              <a:gdLst/>
              <a:ahLst/>
              <a:rect l="l" t="t" r="r" b="b"/>
              <a:pathLst>
                <a:path w="301" h="1443">
                  <a:moveTo>
                    <a:pt x="259" y="29"/>
                  </a:moveTo>
                  <a:lnTo>
                    <a:pt x="259" y="29"/>
                  </a:lnTo>
                  <a:lnTo>
                    <a:pt x="259" y="34"/>
                  </a:lnTo>
                  <a:lnTo>
                    <a:pt x="259" y="36"/>
                  </a:lnTo>
                  <a:lnTo>
                    <a:pt x="259" y="40"/>
                  </a:lnTo>
                  <a:lnTo>
                    <a:pt x="261" y="46"/>
                  </a:lnTo>
                  <a:lnTo>
                    <a:pt x="261" y="51"/>
                  </a:lnTo>
                  <a:lnTo>
                    <a:pt x="261" y="57"/>
                  </a:lnTo>
                  <a:lnTo>
                    <a:pt x="261" y="63"/>
                  </a:lnTo>
                  <a:lnTo>
                    <a:pt x="261" y="71"/>
                  </a:lnTo>
                  <a:lnTo>
                    <a:pt x="263" y="78"/>
                  </a:lnTo>
                  <a:lnTo>
                    <a:pt x="263" y="86"/>
                  </a:lnTo>
                  <a:lnTo>
                    <a:pt x="265" y="95"/>
                  </a:lnTo>
                  <a:lnTo>
                    <a:pt x="265" y="105"/>
                  </a:lnTo>
                  <a:lnTo>
                    <a:pt x="266" y="114"/>
                  </a:lnTo>
                  <a:lnTo>
                    <a:pt x="266" y="124"/>
                  </a:lnTo>
                  <a:lnTo>
                    <a:pt x="268" y="135"/>
                  </a:lnTo>
                  <a:lnTo>
                    <a:pt x="268" y="145"/>
                  </a:lnTo>
                  <a:lnTo>
                    <a:pt x="270" y="158"/>
                  </a:lnTo>
                  <a:lnTo>
                    <a:pt x="270" y="169"/>
                  </a:lnTo>
                  <a:lnTo>
                    <a:pt x="272" y="181"/>
                  </a:lnTo>
                  <a:lnTo>
                    <a:pt x="272" y="194"/>
                  </a:lnTo>
                  <a:lnTo>
                    <a:pt x="274" y="207"/>
                  </a:lnTo>
                  <a:lnTo>
                    <a:pt x="274" y="219"/>
                  </a:lnTo>
                  <a:lnTo>
                    <a:pt x="276" y="232"/>
                  </a:lnTo>
                  <a:lnTo>
                    <a:pt x="276" y="245"/>
                  </a:lnTo>
                  <a:lnTo>
                    <a:pt x="278" y="261"/>
                  </a:lnTo>
                  <a:lnTo>
                    <a:pt x="280" y="274"/>
                  </a:lnTo>
                  <a:lnTo>
                    <a:pt x="282" y="289"/>
                  </a:lnTo>
                  <a:lnTo>
                    <a:pt x="282" y="302"/>
                  </a:lnTo>
                  <a:lnTo>
                    <a:pt x="284" y="318"/>
                  </a:lnTo>
                  <a:lnTo>
                    <a:pt x="284" y="331"/>
                  </a:lnTo>
                  <a:lnTo>
                    <a:pt x="286" y="346"/>
                  </a:lnTo>
                  <a:lnTo>
                    <a:pt x="286" y="359"/>
                  </a:lnTo>
                  <a:lnTo>
                    <a:pt x="287" y="375"/>
                  </a:lnTo>
                  <a:lnTo>
                    <a:pt x="287" y="390"/>
                  </a:lnTo>
                  <a:lnTo>
                    <a:pt x="289" y="405"/>
                  </a:lnTo>
                  <a:lnTo>
                    <a:pt x="289" y="420"/>
                  </a:lnTo>
                  <a:lnTo>
                    <a:pt x="291" y="436"/>
                  </a:lnTo>
                  <a:lnTo>
                    <a:pt x="291" y="449"/>
                  </a:lnTo>
                  <a:lnTo>
                    <a:pt x="293" y="464"/>
                  </a:lnTo>
                  <a:lnTo>
                    <a:pt x="293" y="477"/>
                  </a:lnTo>
                  <a:lnTo>
                    <a:pt x="295" y="493"/>
                  </a:lnTo>
                  <a:lnTo>
                    <a:pt x="295" y="506"/>
                  </a:lnTo>
                  <a:lnTo>
                    <a:pt x="297" y="521"/>
                  </a:lnTo>
                  <a:lnTo>
                    <a:pt x="297" y="534"/>
                  </a:lnTo>
                  <a:lnTo>
                    <a:pt x="299" y="550"/>
                  </a:lnTo>
                  <a:lnTo>
                    <a:pt x="299" y="561"/>
                  </a:lnTo>
                  <a:lnTo>
                    <a:pt x="299" y="574"/>
                  </a:lnTo>
                  <a:lnTo>
                    <a:pt x="299" y="588"/>
                  </a:lnTo>
                  <a:lnTo>
                    <a:pt x="301" y="601"/>
                  </a:lnTo>
                  <a:lnTo>
                    <a:pt x="301" y="612"/>
                  </a:lnTo>
                  <a:lnTo>
                    <a:pt x="301" y="624"/>
                  </a:lnTo>
                  <a:lnTo>
                    <a:pt x="301" y="635"/>
                  </a:lnTo>
                  <a:lnTo>
                    <a:pt x="301" y="648"/>
                  </a:lnTo>
                  <a:lnTo>
                    <a:pt x="301" y="660"/>
                  </a:lnTo>
                  <a:lnTo>
                    <a:pt x="301" y="669"/>
                  </a:lnTo>
                  <a:lnTo>
                    <a:pt x="301" y="679"/>
                  </a:lnTo>
                  <a:lnTo>
                    <a:pt x="301" y="690"/>
                  </a:lnTo>
                  <a:lnTo>
                    <a:pt x="301" y="700"/>
                  </a:lnTo>
                  <a:lnTo>
                    <a:pt x="301" y="707"/>
                  </a:lnTo>
                  <a:lnTo>
                    <a:pt x="301" y="715"/>
                  </a:lnTo>
                  <a:lnTo>
                    <a:pt x="301" y="724"/>
                  </a:lnTo>
                  <a:lnTo>
                    <a:pt x="299" y="732"/>
                  </a:lnTo>
                  <a:lnTo>
                    <a:pt x="299" y="740"/>
                  </a:lnTo>
                  <a:lnTo>
                    <a:pt x="299" y="747"/>
                  </a:lnTo>
                  <a:lnTo>
                    <a:pt x="297" y="757"/>
                  </a:lnTo>
                  <a:lnTo>
                    <a:pt x="297" y="764"/>
                  </a:lnTo>
                  <a:lnTo>
                    <a:pt x="295" y="774"/>
                  </a:lnTo>
                  <a:lnTo>
                    <a:pt x="295" y="783"/>
                  </a:lnTo>
                  <a:lnTo>
                    <a:pt x="295" y="795"/>
                  </a:lnTo>
                  <a:lnTo>
                    <a:pt x="293" y="804"/>
                  </a:lnTo>
                  <a:lnTo>
                    <a:pt x="293" y="814"/>
                  </a:lnTo>
                  <a:lnTo>
                    <a:pt x="291" y="825"/>
                  </a:lnTo>
                  <a:lnTo>
                    <a:pt x="291" y="837"/>
                  </a:lnTo>
                  <a:lnTo>
                    <a:pt x="289" y="848"/>
                  </a:lnTo>
                  <a:lnTo>
                    <a:pt x="289" y="859"/>
                  </a:lnTo>
                  <a:lnTo>
                    <a:pt x="287" y="871"/>
                  </a:lnTo>
                  <a:lnTo>
                    <a:pt x="287" y="882"/>
                  </a:lnTo>
                  <a:lnTo>
                    <a:pt x="286" y="894"/>
                  </a:lnTo>
                  <a:lnTo>
                    <a:pt x="286" y="905"/>
                  </a:lnTo>
                  <a:lnTo>
                    <a:pt x="284" y="916"/>
                  </a:lnTo>
                  <a:lnTo>
                    <a:pt x="284" y="930"/>
                  </a:lnTo>
                  <a:lnTo>
                    <a:pt x="282" y="941"/>
                  </a:lnTo>
                  <a:lnTo>
                    <a:pt x="280" y="954"/>
                  </a:lnTo>
                  <a:lnTo>
                    <a:pt x="278" y="968"/>
                  </a:lnTo>
                  <a:lnTo>
                    <a:pt x="278" y="979"/>
                  </a:lnTo>
                  <a:lnTo>
                    <a:pt x="276" y="993"/>
                  </a:lnTo>
                  <a:lnTo>
                    <a:pt x="276" y="1006"/>
                  </a:lnTo>
                  <a:lnTo>
                    <a:pt x="274" y="1017"/>
                  </a:lnTo>
                  <a:lnTo>
                    <a:pt x="274" y="1031"/>
                  </a:lnTo>
                  <a:lnTo>
                    <a:pt x="272" y="1042"/>
                  </a:lnTo>
                  <a:lnTo>
                    <a:pt x="272" y="1055"/>
                  </a:lnTo>
                  <a:lnTo>
                    <a:pt x="270" y="1067"/>
                  </a:lnTo>
                  <a:lnTo>
                    <a:pt x="270" y="1080"/>
                  </a:lnTo>
                  <a:lnTo>
                    <a:pt x="268" y="1091"/>
                  </a:lnTo>
                  <a:lnTo>
                    <a:pt x="268" y="1103"/>
                  </a:lnTo>
                  <a:lnTo>
                    <a:pt x="266" y="1114"/>
                  </a:lnTo>
                  <a:lnTo>
                    <a:pt x="265" y="1127"/>
                  </a:lnTo>
                  <a:lnTo>
                    <a:pt x="263" y="1137"/>
                  </a:lnTo>
                  <a:lnTo>
                    <a:pt x="263" y="1148"/>
                  </a:lnTo>
                  <a:lnTo>
                    <a:pt x="261" y="1160"/>
                  </a:lnTo>
                  <a:lnTo>
                    <a:pt x="261" y="1171"/>
                  </a:lnTo>
                  <a:lnTo>
                    <a:pt x="261" y="1181"/>
                  </a:lnTo>
                  <a:lnTo>
                    <a:pt x="259" y="1192"/>
                  </a:lnTo>
                  <a:lnTo>
                    <a:pt x="259" y="1202"/>
                  </a:lnTo>
                  <a:lnTo>
                    <a:pt x="257" y="1211"/>
                  </a:lnTo>
                  <a:lnTo>
                    <a:pt x="257" y="1221"/>
                  </a:lnTo>
                  <a:lnTo>
                    <a:pt x="255" y="1230"/>
                  </a:lnTo>
                  <a:lnTo>
                    <a:pt x="255" y="1238"/>
                  </a:lnTo>
                  <a:lnTo>
                    <a:pt x="255" y="1247"/>
                  </a:lnTo>
                  <a:lnTo>
                    <a:pt x="253" y="1255"/>
                  </a:lnTo>
                  <a:lnTo>
                    <a:pt x="253" y="1262"/>
                  </a:lnTo>
                  <a:lnTo>
                    <a:pt x="251" y="1270"/>
                  </a:lnTo>
                  <a:lnTo>
                    <a:pt x="251" y="1276"/>
                  </a:lnTo>
                  <a:lnTo>
                    <a:pt x="251" y="1283"/>
                  </a:lnTo>
                  <a:lnTo>
                    <a:pt x="249" y="1289"/>
                  </a:lnTo>
                  <a:lnTo>
                    <a:pt x="249" y="1295"/>
                  </a:lnTo>
                  <a:lnTo>
                    <a:pt x="249" y="1300"/>
                  </a:lnTo>
                  <a:lnTo>
                    <a:pt x="249" y="1308"/>
                  </a:lnTo>
                  <a:lnTo>
                    <a:pt x="249" y="1314"/>
                  </a:lnTo>
                  <a:lnTo>
                    <a:pt x="249" y="1318"/>
                  </a:lnTo>
                  <a:lnTo>
                    <a:pt x="249" y="1319"/>
                  </a:lnTo>
                  <a:lnTo>
                    <a:pt x="291" y="1443"/>
                  </a:lnTo>
                  <a:lnTo>
                    <a:pt x="21" y="1443"/>
                  </a:lnTo>
                  <a:lnTo>
                    <a:pt x="21" y="1439"/>
                  </a:lnTo>
                  <a:lnTo>
                    <a:pt x="21" y="1432"/>
                  </a:lnTo>
                  <a:lnTo>
                    <a:pt x="19" y="1426"/>
                  </a:lnTo>
                  <a:lnTo>
                    <a:pt x="19" y="1420"/>
                  </a:lnTo>
                  <a:lnTo>
                    <a:pt x="19" y="1411"/>
                  </a:lnTo>
                  <a:lnTo>
                    <a:pt x="19" y="1403"/>
                  </a:lnTo>
                  <a:lnTo>
                    <a:pt x="19" y="1397"/>
                  </a:lnTo>
                  <a:lnTo>
                    <a:pt x="19" y="1392"/>
                  </a:lnTo>
                  <a:lnTo>
                    <a:pt x="19" y="1386"/>
                  </a:lnTo>
                  <a:lnTo>
                    <a:pt x="19" y="1380"/>
                  </a:lnTo>
                  <a:lnTo>
                    <a:pt x="19" y="1375"/>
                  </a:lnTo>
                  <a:lnTo>
                    <a:pt x="19" y="1369"/>
                  </a:lnTo>
                  <a:lnTo>
                    <a:pt x="19" y="1363"/>
                  </a:lnTo>
                  <a:lnTo>
                    <a:pt x="19" y="1358"/>
                  </a:lnTo>
                  <a:lnTo>
                    <a:pt x="19" y="1350"/>
                  </a:lnTo>
                  <a:lnTo>
                    <a:pt x="19" y="1342"/>
                  </a:lnTo>
                  <a:lnTo>
                    <a:pt x="19" y="1337"/>
                  </a:lnTo>
                  <a:lnTo>
                    <a:pt x="19" y="1329"/>
                  </a:lnTo>
                  <a:lnTo>
                    <a:pt x="19" y="1321"/>
                  </a:lnTo>
                  <a:lnTo>
                    <a:pt x="19" y="1314"/>
                  </a:lnTo>
                  <a:lnTo>
                    <a:pt x="19" y="1308"/>
                  </a:lnTo>
                  <a:lnTo>
                    <a:pt x="19" y="1300"/>
                  </a:lnTo>
                  <a:lnTo>
                    <a:pt x="19" y="1291"/>
                  </a:lnTo>
                  <a:lnTo>
                    <a:pt x="19" y="1283"/>
                  </a:lnTo>
                  <a:lnTo>
                    <a:pt x="19" y="1274"/>
                  </a:lnTo>
                  <a:lnTo>
                    <a:pt x="19" y="1266"/>
                  </a:lnTo>
                  <a:lnTo>
                    <a:pt x="19" y="1259"/>
                  </a:lnTo>
                  <a:lnTo>
                    <a:pt x="19" y="1249"/>
                  </a:lnTo>
                  <a:lnTo>
                    <a:pt x="19" y="1240"/>
                  </a:lnTo>
                  <a:lnTo>
                    <a:pt x="19" y="1232"/>
                  </a:lnTo>
                  <a:lnTo>
                    <a:pt x="19" y="1221"/>
                  </a:lnTo>
                  <a:lnTo>
                    <a:pt x="19" y="1213"/>
                  </a:lnTo>
                  <a:lnTo>
                    <a:pt x="19" y="1204"/>
                  </a:lnTo>
                  <a:lnTo>
                    <a:pt x="21" y="1194"/>
                  </a:lnTo>
                  <a:lnTo>
                    <a:pt x="21" y="1185"/>
                  </a:lnTo>
                  <a:lnTo>
                    <a:pt x="21" y="1175"/>
                  </a:lnTo>
                  <a:lnTo>
                    <a:pt x="23" y="1166"/>
                  </a:lnTo>
                  <a:lnTo>
                    <a:pt x="23" y="1156"/>
                  </a:lnTo>
                  <a:lnTo>
                    <a:pt x="23" y="1146"/>
                  </a:lnTo>
                  <a:lnTo>
                    <a:pt x="23" y="1137"/>
                  </a:lnTo>
                  <a:lnTo>
                    <a:pt x="25" y="1127"/>
                  </a:lnTo>
                  <a:lnTo>
                    <a:pt x="25" y="1116"/>
                  </a:lnTo>
                  <a:lnTo>
                    <a:pt x="25" y="1107"/>
                  </a:lnTo>
                  <a:lnTo>
                    <a:pt x="27" y="1097"/>
                  </a:lnTo>
                  <a:lnTo>
                    <a:pt x="27" y="1088"/>
                  </a:lnTo>
                  <a:lnTo>
                    <a:pt x="29" y="1078"/>
                  </a:lnTo>
                  <a:lnTo>
                    <a:pt x="29" y="1067"/>
                  </a:lnTo>
                  <a:lnTo>
                    <a:pt x="29" y="1057"/>
                  </a:lnTo>
                  <a:lnTo>
                    <a:pt x="31" y="1048"/>
                  </a:lnTo>
                  <a:lnTo>
                    <a:pt x="33" y="1038"/>
                  </a:lnTo>
                  <a:lnTo>
                    <a:pt x="33" y="1027"/>
                  </a:lnTo>
                  <a:lnTo>
                    <a:pt x="35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9"/>
                  </a:lnTo>
                  <a:lnTo>
                    <a:pt x="38" y="977"/>
                  </a:lnTo>
                  <a:lnTo>
                    <a:pt x="38" y="968"/>
                  </a:lnTo>
                  <a:lnTo>
                    <a:pt x="40" y="956"/>
                  </a:lnTo>
                  <a:lnTo>
                    <a:pt x="40" y="945"/>
                  </a:lnTo>
                  <a:lnTo>
                    <a:pt x="42" y="934"/>
                  </a:lnTo>
                  <a:lnTo>
                    <a:pt x="42" y="922"/>
                  </a:lnTo>
                  <a:lnTo>
                    <a:pt x="44" y="911"/>
                  </a:lnTo>
                  <a:lnTo>
                    <a:pt x="44" y="899"/>
                  </a:lnTo>
                  <a:lnTo>
                    <a:pt x="46" y="886"/>
                  </a:lnTo>
                  <a:lnTo>
                    <a:pt x="46" y="875"/>
                  </a:lnTo>
                  <a:lnTo>
                    <a:pt x="46" y="861"/>
                  </a:lnTo>
                  <a:lnTo>
                    <a:pt x="46" y="850"/>
                  </a:lnTo>
                  <a:lnTo>
                    <a:pt x="48" y="837"/>
                  </a:lnTo>
                  <a:lnTo>
                    <a:pt x="48" y="825"/>
                  </a:lnTo>
                  <a:lnTo>
                    <a:pt x="48" y="812"/>
                  </a:lnTo>
                  <a:lnTo>
                    <a:pt x="48" y="799"/>
                  </a:lnTo>
                  <a:lnTo>
                    <a:pt x="48" y="787"/>
                  </a:lnTo>
                  <a:lnTo>
                    <a:pt x="48" y="774"/>
                  </a:lnTo>
                  <a:lnTo>
                    <a:pt x="48" y="761"/>
                  </a:lnTo>
                  <a:lnTo>
                    <a:pt x="48" y="747"/>
                  </a:lnTo>
                  <a:lnTo>
                    <a:pt x="48" y="736"/>
                  </a:lnTo>
                  <a:lnTo>
                    <a:pt x="48" y="723"/>
                  </a:lnTo>
                  <a:lnTo>
                    <a:pt x="50" y="709"/>
                  </a:lnTo>
                  <a:lnTo>
                    <a:pt x="48" y="696"/>
                  </a:lnTo>
                  <a:lnTo>
                    <a:pt x="48" y="685"/>
                  </a:lnTo>
                  <a:lnTo>
                    <a:pt x="48" y="671"/>
                  </a:lnTo>
                  <a:lnTo>
                    <a:pt x="48" y="660"/>
                  </a:lnTo>
                  <a:lnTo>
                    <a:pt x="48" y="647"/>
                  </a:lnTo>
                  <a:lnTo>
                    <a:pt x="48" y="635"/>
                  </a:lnTo>
                  <a:lnTo>
                    <a:pt x="48" y="622"/>
                  </a:lnTo>
                  <a:lnTo>
                    <a:pt x="48" y="610"/>
                  </a:lnTo>
                  <a:lnTo>
                    <a:pt x="46" y="597"/>
                  </a:lnTo>
                  <a:lnTo>
                    <a:pt x="46" y="586"/>
                  </a:lnTo>
                  <a:lnTo>
                    <a:pt x="46" y="572"/>
                  </a:lnTo>
                  <a:lnTo>
                    <a:pt x="46" y="563"/>
                  </a:lnTo>
                  <a:lnTo>
                    <a:pt x="44" y="551"/>
                  </a:lnTo>
                  <a:lnTo>
                    <a:pt x="44" y="540"/>
                  </a:lnTo>
                  <a:lnTo>
                    <a:pt x="44" y="531"/>
                  </a:lnTo>
                  <a:lnTo>
                    <a:pt x="44" y="519"/>
                  </a:lnTo>
                  <a:lnTo>
                    <a:pt x="42" y="508"/>
                  </a:lnTo>
                  <a:lnTo>
                    <a:pt x="42" y="498"/>
                  </a:lnTo>
                  <a:lnTo>
                    <a:pt x="42" y="489"/>
                  </a:lnTo>
                  <a:lnTo>
                    <a:pt x="42" y="479"/>
                  </a:lnTo>
                  <a:lnTo>
                    <a:pt x="40" y="470"/>
                  </a:lnTo>
                  <a:lnTo>
                    <a:pt x="40" y="462"/>
                  </a:lnTo>
                  <a:lnTo>
                    <a:pt x="40" y="453"/>
                  </a:lnTo>
                  <a:lnTo>
                    <a:pt x="40" y="447"/>
                  </a:lnTo>
                  <a:lnTo>
                    <a:pt x="40" y="437"/>
                  </a:lnTo>
                  <a:lnTo>
                    <a:pt x="38" y="430"/>
                  </a:lnTo>
                  <a:lnTo>
                    <a:pt x="38" y="424"/>
                  </a:lnTo>
                  <a:lnTo>
                    <a:pt x="38" y="416"/>
                  </a:lnTo>
                  <a:lnTo>
                    <a:pt x="38" y="411"/>
                  </a:lnTo>
                  <a:lnTo>
                    <a:pt x="38" y="405"/>
                  </a:lnTo>
                  <a:lnTo>
                    <a:pt x="38" y="399"/>
                  </a:lnTo>
                  <a:lnTo>
                    <a:pt x="38" y="397"/>
                  </a:lnTo>
                  <a:lnTo>
                    <a:pt x="38" y="388"/>
                  </a:lnTo>
                  <a:lnTo>
                    <a:pt x="38" y="384"/>
                  </a:lnTo>
                  <a:lnTo>
                    <a:pt x="38" y="380"/>
                  </a:lnTo>
                  <a:lnTo>
                    <a:pt x="38" y="380"/>
                  </a:lnTo>
                  <a:lnTo>
                    <a:pt x="0" y="0"/>
                  </a:lnTo>
                  <a:lnTo>
                    <a:pt x="259" y="29"/>
                  </a:lnTo>
                  <a:lnTo>
                    <a:pt x="259" y="29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737680" y="1605240"/>
              <a:ext cx="21636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56400" y="217476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760000" y="2763720"/>
              <a:ext cx="220680" cy="19440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0" y="6"/>
                  </a:moveTo>
                  <a:lnTo>
                    <a:pt x="4" y="103"/>
                  </a:lnTo>
                  <a:lnTo>
                    <a:pt x="118" y="103"/>
                  </a:lnTo>
                  <a:lnTo>
                    <a:pt x="1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737680" y="31942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4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681880" y="37306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7"/>
                  </a:moveTo>
                  <a:lnTo>
                    <a:pt x="2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467680" y="1504440"/>
              <a:ext cx="187560" cy="2604240"/>
            </a:xfrm>
            <a:custGeom>
              <a:avLst/>
              <a:gdLst/>
              <a:ahLst/>
              <a:rect l="l" t="t" r="r" b="b"/>
              <a:pathLst>
                <a:path w="101" h="1390">
                  <a:moveTo>
                    <a:pt x="11" y="0"/>
                  </a:moveTo>
                  <a:lnTo>
                    <a:pt x="11" y="4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7" y="56"/>
                  </a:lnTo>
                  <a:lnTo>
                    <a:pt x="17" y="61"/>
                  </a:lnTo>
                  <a:lnTo>
                    <a:pt x="17" y="69"/>
                  </a:lnTo>
                  <a:lnTo>
                    <a:pt x="19" y="77"/>
                  </a:lnTo>
                  <a:lnTo>
                    <a:pt x="19" y="84"/>
                  </a:lnTo>
                  <a:lnTo>
                    <a:pt x="21" y="92"/>
                  </a:lnTo>
                  <a:lnTo>
                    <a:pt x="21" y="101"/>
                  </a:lnTo>
                  <a:lnTo>
                    <a:pt x="23" y="109"/>
                  </a:lnTo>
                  <a:lnTo>
                    <a:pt x="25" y="118"/>
                  </a:lnTo>
                  <a:lnTo>
                    <a:pt x="25" y="126"/>
                  </a:lnTo>
                  <a:lnTo>
                    <a:pt x="25" y="135"/>
                  </a:lnTo>
                  <a:lnTo>
                    <a:pt x="25" y="145"/>
                  </a:lnTo>
                  <a:lnTo>
                    <a:pt x="27" y="154"/>
                  </a:lnTo>
                  <a:lnTo>
                    <a:pt x="29" y="166"/>
                  </a:lnTo>
                  <a:lnTo>
                    <a:pt x="29" y="175"/>
                  </a:lnTo>
                  <a:lnTo>
                    <a:pt x="30" y="187"/>
                  </a:lnTo>
                  <a:lnTo>
                    <a:pt x="32" y="198"/>
                  </a:lnTo>
                  <a:lnTo>
                    <a:pt x="32" y="208"/>
                  </a:lnTo>
                  <a:lnTo>
                    <a:pt x="32" y="219"/>
                  </a:lnTo>
                  <a:lnTo>
                    <a:pt x="34" y="231"/>
                  </a:lnTo>
                  <a:lnTo>
                    <a:pt x="34" y="242"/>
                  </a:lnTo>
                  <a:lnTo>
                    <a:pt x="34" y="251"/>
                  </a:lnTo>
                  <a:lnTo>
                    <a:pt x="36" y="265"/>
                  </a:lnTo>
                  <a:lnTo>
                    <a:pt x="36" y="276"/>
                  </a:lnTo>
                  <a:lnTo>
                    <a:pt x="38" y="288"/>
                  </a:lnTo>
                  <a:lnTo>
                    <a:pt x="38" y="301"/>
                  </a:lnTo>
                  <a:lnTo>
                    <a:pt x="38" y="312"/>
                  </a:lnTo>
                  <a:lnTo>
                    <a:pt x="40" y="324"/>
                  </a:lnTo>
                  <a:lnTo>
                    <a:pt x="40" y="337"/>
                  </a:lnTo>
                  <a:lnTo>
                    <a:pt x="42" y="350"/>
                  </a:lnTo>
                  <a:lnTo>
                    <a:pt x="42" y="362"/>
                  </a:lnTo>
                  <a:lnTo>
                    <a:pt x="44" y="375"/>
                  </a:lnTo>
                  <a:lnTo>
                    <a:pt x="44" y="388"/>
                  </a:lnTo>
                  <a:lnTo>
                    <a:pt x="44" y="400"/>
                  </a:lnTo>
                  <a:lnTo>
                    <a:pt x="46" y="413"/>
                  </a:lnTo>
                  <a:lnTo>
                    <a:pt x="46" y="424"/>
                  </a:lnTo>
                  <a:lnTo>
                    <a:pt x="46" y="438"/>
                  </a:lnTo>
                  <a:lnTo>
                    <a:pt x="46" y="451"/>
                  </a:lnTo>
                  <a:lnTo>
                    <a:pt x="48" y="462"/>
                  </a:lnTo>
                  <a:lnTo>
                    <a:pt x="48" y="476"/>
                  </a:lnTo>
                  <a:lnTo>
                    <a:pt x="48" y="489"/>
                  </a:lnTo>
                  <a:lnTo>
                    <a:pt x="48" y="500"/>
                  </a:lnTo>
                  <a:lnTo>
                    <a:pt x="48" y="514"/>
                  </a:lnTo>
                  <a:lnTo>
                    <a:pt x="48" y="525"/>
                  </a:lnTo>
                  <a:lnTo>
                    <a:pt x="48" y="538"/>
                  </a:lnTo>
                  <a:lnTo>
                    <a:pt x="48" y="550"/>
                  </a:lnTo>
                  <a:lnTo>
                    <a:pt x="48" y="563"/>
                  </a:lnTo>
                  <a:lnTo>
                    <a:pt x="48" y="576"/>
                  </a:lnTo>
                  <a:lnTo>
                    <a:pt x="49" y="590"/>
                  </a:lnTo>
                  <a:lnTo>
                    <a:pt x="48" y="601"/>
                  </a:lnTo>
                  <a:lnTo>
                    <a:pt x="48" y="613"/>
                  </a:lnTo>
                  <a:lnTo>
                    <a:pt x="46" y="624"/>
                  </a:lnTo>
                  <a:lnTo>
                    <a:pt x="46" y="637"/>
                  </a:lnTo>
                  <a:lnTo>
                    <a:pt x="46" y="649"/>
                  </a:lnTo>
                  <a:lnTo>
                    <a:pt x="46" y="660"/>
                  </a:lnTo>
                  <a:lnTo>
                    <a:pt x="44" y="672"/>
                  </a:lnTo>
                  <a:lnTo>
                    <a:pt x="44" y="685"/>
                  </a:lnTo>
                  <a:lnTo>
                    <a:pt x="44" y="698"/>
                  </a:lnTo>
                  <a:lnTo>
                    <a:pt x="42" y="710"/>
                  </a:lnTo>
                  <a:lnTo>
                    <a:pt x="42" y="723"/>
                  </a:lnTo>
                  <a:lnTo>
                    <a:pt x="42" y="734"/>
                  </a:lnTo>
                  <a:lnTo>
                    <a:pt x="42" y="746"/>
                  </a:lnTo>
                  <a:lnTo>
                    <a:pt x="40" y="759"/>
                  </a:lnTo>
                  <a:lnTo>
                    <a:pt x="40" y="770"/>
                  </a:lnTo>
                  <a:lnTo>
                    <a:pt x="40" y="784"/>
                  </a:lnTo>
                  <a:lnTo>
                    <a:pt x="40" y="795"/>
                  </a:lnTo>
                  <a:lnTo>
                    <a:pt x="38" y="808"/>
                  </a:lnTo>
                  <a:lnTo>
                    <a:pt x="38" y="820"/>
                  </a:lnTo>
                  <a:lnTo>
                    <a:pt x="38" y="831"/>
                  </a:lnTo>
                  <a:lnTo>
                    <a:pt x="36" y="845"/>
                  </a:lnTo>
                  <a:lnTo>
                    <a:pt x="36" y="856"/>
                  </a:lnTo>
                  <a:lnTo>
                    <a:pt x="36" y="867"/>
                  </a:lnTo>
                  <a:lnTo>
                    <a:pt x="36" y="881"/>
                  </a:lnTo>
                  <a:lnTo>
                    <a:pt x="34" y="890"/>
                  </a:lnTo>
                  <a:lnTo>
                    <a:pt x="34" y="903"/>
                  </a:lnTo>
                  <a:lnTo>
                    <a:pt x="32" y="913"/>
                  </a:lnTo>
                  <a:lnTo>
                    <a:pt x="32" y="926"/>
                  </a:lnTo>
                  <a:lnTo>
                    <a:pt x="32" y="936"/>
                  </a:lnTo>
                  <a:lnTo>
                    <a:pt x="32" y="947"/>
                  </a:lnTo>
                  <a:lnTo>
                    <a:pt x="30" y="961"/>
                  </a:lnTo>
                  <a:lnTo>
                    <a:pt x="30" y="972"/>
                  </a:lnTo>
                  <a:lnTo>
                    <a:pt x="29" y="981"/>
                  </a:lnTo>
                  <a:lnTo>
                    <a:pt x="29" y="993"/>
                  </a:lnTo>
                  <a:lnTo>
                    <a:pt x="27" y="1002"/>
                  </a:lnTo>
                  <a:lnTo>
                    <a:pt x="27" y="1014"/>
                  </a:lnTo>
                  <a:lnTo>
                    <a:pt x="27" y="1023"/>
                  </a:lnTo>
                  <a:lnTo>
                    <a:pt x="25" y="1035"/>
                  </a:lnTo>
                  <a:lnTo>
                    <a:pt x="25" y="1044"/>
                  </a:lnTo>
                  <a:lnTo>
                    <a:pt x="25" y="1056"/>
                  </a:lnTo>
                  <a:lnTo>
                    <a:pt x="25" y="1063"/>
                  </a:lnTo>
                  <a:lnTo>
                    <a:pt x="23" y="1075"/>
                  </a:lnTo>
                  <a:lnTo>
                    <a:pt x="23" y="1082"/>
                  </a:lnTo>
                  <a:lnTo>
                    <a:pt x="23" y="1094"/>
                  </a:lnTo>
                  <a:lnTo>
                    <a:pt x="21" y="1103"/>
                  </a:lnTo>
                  <a:lnTo>
                    <a:pt x="21" y="1111"/>
                  </a:lnTo>
                  <a:lnTo>
                    <a:pt x="19" y="1120"/>
                  </a:lnTo>
                  <a:lnTo>
                    <a:pt x="19" y="1130"/>
                  </a:lnTo>
                  <a:lnTo>
                    <a:pt x="19" y="1137"/>
                  </a:lnTo>
                  <a:lnTo>
                    <a:pt x="17" y="1147"/>
                  </a:lnTo>
                  <a:lnTo>
                    <a:pt x="17" y="1154"/>
                  </a:lnTo>
                  <a:lnTo>
                    <a:pt x="17" y="1162"/>
                  </a:lnTo>
                  <a:lnTo>
                    <a:pt x="15" y="1170"/>
                  </a:lnTo>
                  <a:lnTo>
                    <a:pt x="15" y="1177"/>
                  </a:lnTo>
                  <a:lnTo>
                    <a:pt x="13" y="1185"/>
                  </a:lnTo>
                  <a:lnTo>
                    <a:pt x="13" y="1192"/>
                  </a:lnTo>
                  <a:lnTo>
                    <a:pt x="13" y="1200"/>
                  </a:lnTo>
                  <a:lnTo>
                    <a:pt x="11" y="1206"/>
                  </a:lnTo>
                  <a:lnTo>
                    <a:pt x="11" y="1211"/>
                  </a:lnTo>
                  <a:lnTo>
                    <a:pt x="11" y="1219"/>
                  </a:lnTo>
                  <a:lnTo>
                    <a:pt x="11" y="1225"/>
                  </a:lnTo>
                  <a:lnTo>
                    <a:pt x="10" y="1230"/>
                  </a:lnTo>
                  <a:lnTo>
                    <a:pt x="10" y="1236"/>
                  </a:lnTo>
                  <a:lnTo>
                    <a:pt x="10" y="1242"/>
                  </a:lnTo>
                  <a:lnTo>
                    <a:pt x="6" y="1251"/>
                  </a:lnTo>
                  <a:lnTo>
                    <a:pt x="6" y="1261"/>
                  </a:lnTo>
                  <a:lnTo>
                    <a:pt x="4" y="1270"/>
                  </a:lnTo>
                  <a:lnTo>
                    <a:pt x="4" y="1280"/>
                  </a:lnTo>
                  <a:lnTo>
                    <a:pt x="2" y="1287"/>
                  </a:lnTo>
                  <a:lnTo>
                    <a:pt x="2" y="1295"/>
                  </a:lnTo>
                  <a:lnTo>
                    <a:pt x="0" y="1303"/>
                  </a:lnTo>
                  <a:lnTo>
                    <a:pt x="0" y="1310"/>
                  </a:lnTo>
                  <a:lnTo>
                    <a:pt x="0" y="1318"/>
                  </a:lnTo>
                  <a:lnTo>
                    <a:pt x="0" y="1324"/>
                  </a:lnTo>
                  <a:lnTo>
                    <a:pt x="0" y="1331"/>
                  </a:lnTo>
                  <a:lnTo>
                    <a:pt x="0" y="1337"/>
                  </a:lnTo>
                  <a:lnTo>
                    <a:pt x="0" y="1343"/>
                  </a:lnTo>
                  <a:lnTo>
                    <a:pt x="0" y="1346"/>
                  </a:lnTo>
                  <a:lnTo>
                    <a:pt x="0" y="1352"/>
                  </a:lnTo>
                  <a:lnTo>
                    <a:pt x="2" y="1358"/>
                  </a:lnTo>
                  <a:lnTo>
                    <a:pt x="2" y="1364"/>
                  </a:lnTo>
                  <a:lnTo>
                    <a:pt x="2" y="1373"/>
                  </a:lnTo>
                  <a:lnTo>
                    <a:pt x="2" y="1377"/>
                  </a:lnTo>
                  <a:lnTo>
                    <a:pt x="4" y="1383"/>
                  </a:lnTo>
                  <a:lnTo>
                    <a:pt x="6" y="1388"/>
                  </a:lnTo>
                  <a:lnTo>
                    <a:pt x="6" y="1390"/>
                  </a:lnTo>
                  <a:lnTo>
                    <a:pt x="55" y="1388"/>
                  </a:lnTo>
                  <a:lnTo>
                    <a:pt x="55" y="1386"/>
                  </a:lnTo>
                  <a:lnTo>
                    <a:pt x="55" y="1383"/>
                  </a:lnTo>
                  <a:lnTo>
                    <a:pt x="55" y="1379"/>
                  </a:lnTo>
                  <a:lnTo>
                    <a:pt x="55" y="1375"/>
                  </a:lnTo>
                  <a:lnTo>
                    <a:pt x="55" y="1371"/>
                  </a:lnTo>
                  <a:lnTo>
                    <a:pt x="55" y="1365"/>
                  </a:lnTo>
                  <a:lnTo>
                    <a:pt x="53" y="1360"/>
                  </a:lnTo>
                  <a:lnTo>
                    <a:pt x="53" y="1354"/>
                  </a:lnTo>
                  <a:lnTo>
                    <a:pt x="53" y="1346"/>
                  </a:lnTo>
                  <a:lnTo>
                    <a:pt x="53" y="1341"/>
                  </a:lnTo>
                  <a:lnTo>
                    <a:pt x="53" y="1333"/>
                  </a:lnTo>
                  <a:lnTo>
                    <a:pt x="53" y="1326"/>
                  </a:lnTo>
                  <a:lnTo>
                    <a:pt x="53" y="1318"/>
                  </a:lnTo>
                  <a:lnTo>
                    <a:pt x="55" y="1310"/>
                  </a:lnTo>
                  <a:lnTo>
                    <a:pt x="55" y="1301"/>
                  </a:lnTo>
                  <a:lnTo>
                    <a:pt x="55" y="1293"/>
                  </a:lnTo>
                  <a:lnTo>
                    <a:pt x="55" y="1284"/>
                  </a:lnTo>
                  <a:lnTo>
                    <a:pt x="55" y="1274"/>
                  </a:lnTo>
                  <a:lnTo>
                    <a:pt x="55" y="1268"/>
                  </a:lnTo>
                  <a:lnTo>
                    <a:pt x="55" y="1265"/>
                  </a:lnTo>
                  <a:lnTo>
                    <a:pt x="55" y="1259"/>
                  </a:lnTo>
                  <a:lnTo>
                    <a:pt x="57" y="1255"/>
                  </a:lnTo>
                  <a:lnTo>
                    <a:pt x="57" y="1249"/>
                  </a:lnTo>
                  <a:lnTo>
                    <a:pt x="57" y="1244"/>
                  </a:lnTo>
                  <a:lnTo>
                    <a:pt x="57" y="1240"/>
                  </a:lnTo>
                  <a:lnTo>
                    <a:pt x="59" y="1236"/>
                  </a:lnTo>
                  <a:lnTo>
                    <a:pt x="59" y="1230"/>
                  </a:lnTo>
                  <a:lnTo>
                    <a:pt x="59" y="1225"/>
                  </a:lnTo>
                  <a:lnTo>
                    <a:pt x="59" y="1219"/>
                  </a:lnTo>
                  <a:lnTo>
                    <a:pt x="61" y="1215"/>
                  </a:lnTo>
                  <a:lnTo>
                    <a:pt x="61" y="1210"/>
                  </a:lnTo>
                  <a:lnTo>
                    <a:pt x="61" y="1204"/>
                  </a:lnTo>
                  <a:lnTo>
                    <a:pt x="63" y="1200"/>
                  </a:lnTo>
                  <a:lnTo>
                    <a:pt x="63" y="1194"/>
                  </a:lnTo>
                  <a:lnTo>
                    <a:pt x="63" y="1189"/>
                  </a:lnTo>
                  <a:lnTo>
                    <a:pt x="65" y="1185"/>
                  </a:lnTo>
                  <a:lnTo>
                    <a:pt x="65" y="1179"/>
                  </a:lnTo>
                  <a:lnTo>
                    <a:pt x="67" y="1173"/>
                  </a:lnTo>
                  <a:lnTo>
                    <a:pt x="67" y="1170"/>
                  </a:lnTo>
                  <a:lnTo>
                    <a:pt x="68" y="1164"/>
                  </a:lnTo>
                  <a:lnTo>
                    <a:pt x="68" y="1160"/>
                  </a:lnTo>
                  <a:lnTo>
                    <a:pt x="70" y="1154"/>
                  </a:lnTo>
                  <a:lnTo>
                    <a:pt x="70" y="1149"/>
                  </a:lnTo>
                  <a:lnTo>
                    <a:pt x="72" y="1143"/>
                  </a:lnTo>
                  <a:lnTo>
                    <a:pt x="72" y="1137"/>
                  </a:lnTo>
                  <a:lnTo>
                    <a:pt x="74" y="1132"/>
                  </a:lnTo>
                  <a:lnTo>
                    <a:pt x="74" y="1124"/>
                  </a:lnTo>
                  <a:lnTo>
                    <a:pt x="74" y="1118"/>
                  </a:lnTo>
                  <a:lnTo>
                    <a:pt x="76" y="1111"/>
                  </a:lnTo>
                  <a:lnTo>
                    <a:pt x="76" y="1105"/>
                  </a:lnTo>
                  <a:lnTo>
                    <a:pt x="76" y="1097"/>
                  </a:lnTo>
                  <a:lnTo>
                    <a:pt x="78" y="1092"/>
                  </a:lnTo>
                  <a:lnTo>
                    <a:pt x="78" y="1084"/>
                  </a:lnTo>
                  <a:lnTo>
                    <a:pt x="80" y="1076"/>
                  </a:lnTo>
                  <a:lnTo>
                    <a:pt x="80" y="1069"/>
                  </a:lnTo>
                  <a:lnTo>
                    <a:pt x="82" y="1061"/>
                  </a:lnTo>
                  <a:lnTo>
                    <a:pt x="82" y="1054"/>
                  </a:lnTo>
                  <a:lnTo>
                    <a:pt x="84" y="1046"/>
                  </a:lnTo>
                  <a:lnTo>
                    <a:pt x="84" y="1037"/>
                  </a:lnTo>
                  <a:lnTo>
                    <a:pt x="84" y="1029"/>
                  </a:lnTo>
                  <a:lnTo>
                    <a:pt x="84" y="1019"/>
                  </a:lnTo>
                  <a:lnTo>
                    <a:pt x="86" y="1012"/>
                  </a:lnTo>
                  <a:lnTo>
                    <a:pt x="86" y="1002"/>
                  </a:lnTo>
                  <a:lnTo>
                    <a:pt x="86" y="995"/>
                  </a:lnTo>
                  <a:lnTo>
                    <a:pt x="87" y="987"/>
                  </a:lnTo>
                  <a:lnTo>
                    <a:pt x="87" y="978"/>
                  </a:lnTo>
                  <a:lnTo>
                    <a:pt x="87" y="970"/>
                  </a:lnTo>
                  <a:lnTo>
                    <a:pt x="87" y="961"/>
                  </a:lnTo>
                  <a:lnTo>
                    <a:pt x="89" y="953"/>
                  </a:lnTo>
                  <a:lnTo>
                    <a:pt x="89" y="945"/>
                  </a:lnTo>
                  <a:lnTo>
                    <a:pt x="89" y="936"/>
                  </a:lnTo>
                  <a:lnTo>
                    <a:pt x="89" y="928"/>
                  </a:lnTo>
                  <a:lnTo>
                    <a:pt x="89" y="921"/>
                  </a:lnTo>
                  <a:lnTo>
                    <a:pt x="91" y="911"/>
                  </a:lnTo>
                  <a:lnTo>
                    <a:pt x="91" y="903"/>
                  </a:lnTo>
                  <a:lnTo>
                    <a:pt x="91" y="896"/>
                  </a:lnTo>
                  <a:lnTo>
                    <a:pt x="91" y="886"/>
                  </a:lnTo>
                  <a:lnTo>
                    <a:pt x="91" y="879"/>
                  </a:lnTo>
                  <a:lnTo>
                    <a:pt x="91" y="871"/>
                  </a:lnTo>
                  <a:lnTo>
                    <a:pt x="91" y="864"/>
                  </a:lnTo>
                  <a:lnTo>
                    <a:pt x="91" y="856"/>
                  </a:lnTo>
                  <a:lnTo>
                    <a:pt x="93" y="848"/>
                  </a:lnTo>
                  <a:lnTo>
                    <a:pt x="93" y="841"/>
                  </a:lnTo>
                  <a:lnTo>
                    <a:pt x="93" y="833"/>
                  </a:lnTo>
                  <a:lnTo>
                    <a:pt x="93" y="827"/>
                  </a:lnTo>
                  <a:lnTo>
                    <a:pt x="93" y="822"/>
                  </a:lnTo>
                  <a:lnTo>
                    <a:pt x="93" y="814"/>
                  </a:lnTo>
                  <a:lnTo>
                    <a:pt x="93" y="808"/>
                  </a:lnTo>
                  <a:lnTo>
                    <a:pt x="93" y="803"/>
                  </a:lnTo>
                  <a:lnTo>
                    <a:pt x="95" y="797"/>
                  </a:lnTo>
                  <a:lnTo>
                    <a:pt x="95" y="791"/>
                  </a:lnTo>
                  <a:lnTo>
                    <a:pt x="95" y="786"/>
                  </a:lnTo>
                  <a:lnTo>
                    <a:pt x="95" y="782"/>
                  </a:lnTo>
                  <a:lnTo>
                    <a:pt x="95" y="776"/>
                  </a:lnTo>
                  <a:lnTo>
                    <a:pt x="95" y="769"/>
                  </a:lnTo>
                  <a:lnTo>
                    <a:pt x="95" y="763"/>
                  </a:lnTo>
                  <a:lnTo>
                    <a:pt x="95" y="757"/>
                  </a:lnTo>
                  <a:lnTo>
                    <a:pt x="95" y="753"/>
                  </a:lnTo>
                  <a:lnTo>
                    <a:pt x="95" y="749"/>
                  </a:lnTo>
                  <a:lnTo>
                    <a:pt x="97" y="749"/>
                  </a:lnTo>
                  <a:lnTo>
                    <a:pt x="97" y="748"/>
                  </a:lnTo>
                  <a:lnTo>
                    <a:pt x="97" y="742"/>
                  </a:lnTo>
                  <a:lnTo>
                    <a:pt x="97" y="738"/>
                  </a:lnTo>
                  <a:lnTo>
                    <a:pt x="97" y="734"/>
                  </a:lnTo>
                  <a:lnTo>
                    <a:pt x="97" y="727"/>
                  </a:lnTo>
                  <a:lnTo>
                    <a:pt x="99" y="723"/>
                  </a:lnTo>
                  <a:lnTo>
                    <a:pt x="99" y="713"/>
                  </a:lnTo>
                  <a:lnTo>
                    <a:pt x="99" y="708"/>
                  </a:lnTo>
                  <a:lnTo>
                    <a:pt x="99" y="698"/>
                  </a:lnTo>
                  <a:lnTo>
                    <a:pt x="101" y="689"/>
                  </a:lnTo>
                  <a:lnTo>
                    <a:pt x="101" y="683"/>
                  </a:lnTo>
                  <a:lnTo>
                    <a:pt x="101" y="679"/>
                  </a:lnTo>
                  <a:lnTo>
                    <a:pt x="101" y="673"/>
                  </a:lnTo>
                  <a:lnTo>
                    <a:pt x="101" y="668"/>
                  </a:lnTo>
                  <a:lnTo>
                    <a:pt x="101" y="662"/>
                  </a:lnTo>
                  <a:lnTo>
                    <a:pt x="101" y="656"/>
                  </a:lnTo>
                  <a:lnTo>
                    <a:pt x="101" y="651"/>
                  </a:lnTo>
                  <a:lnTo>
                    <a:pt x="101" y="645"/>
                  </a:lnTo>
                  <a:lnTo>
                    <a:pt x="101" y="639"/>
                  </a:lnTo>
                  <a:lnTo>
                    <a:pt x="101" y="632"/>
                  </a:lnTo>
                  <a:lnTo>
                    <a:pt x="101" y="626"/>
                  </a:lnTo>
                  <a:lnTo>
                    <a:pt x="101" y="618"/>
                  </a:lnTo>
                  <a:lnTo>
                    <a:pt x="101" y="613"/>
                  </a:lnTo>
                  <a:lnTo>
                    <a:pt x="101" y="605"/>
                  </a:lnTo>
                  <a:lnTo>
                    <a:pt x="101" y="597"/>
                  </a:lnTo>
                  <a:lnTo>
                    <a:pt x="101" y="592"/>
                  </a:lnTo>
                  <a:lnTo>
                    <a:pt x="101" y="584"/>
                  </a:lnTo>
                  <a:lnTo>
                    <a:pt x="101" y="576"/>
                  </a:lnTo>
                  <a:lnTo>
                    <a:pt x="101" y="569"/>
                  </a:lnTo>
                  <a:lnTo>
                    <a:pt x="101" y="561"/>
                  </a:lnTo>
                  <a:lnTo>
                    <a:pt x="101" y="554"/>
                  </a:lnTo>
                  <a:lnTo>
                    <a:pt x="101" y="546"/>
                  </a:lnTo>
                  <a:lnTo>
                    <a:pt x="101" y="538"/>
                  </a:lnTo>
                  <a:lnTo>
                    <a:pt x="101" y="529"/>
                  </a:lnTo>
                  <a:lnTo>
                    <a:pt x="101" y="521"/>
                  </a:lnTo>
                  <a:lnTo>
                    <a:pt x="101" y="512"/>
                  </a:lnTo>
                  <a:lnTo>
                    <a:pt x="101" y="502"/>
                  </a:lnTo>
                  <a:lnTo>
                    <a:pt x="101" y="495"/>
                  </a:lnTo>
                  <a:lnTo>
                    <a:pt x="101" y="485"/>
                  </a:lnTo>
                  <a:lnTo>
                    <a:pt x="101" y="478"/>
                  </a:lnTo>
                  <a:lnTo>
                    <a:pt x="101" y="468"/>
                  </a:lnTo>
                  <a:lnTo>
                    <a:pt x="101" y="461"/>
                  </a:lnTo>
                  <a:lnTo>
                    <a:pt x="99" y="451"/>
                  </a:lnTo>
                  <a:lnTo>
                    <a:pt x="99" y="442"/>
                  </a:lnTo>
                  <a:lnTo>
                    <a:pt x="99" y="432"/>
                  </a:lnTo>
                  <a:lnTo>
                    <a:pt x="99" y="423"/>
                  </a:lnTo>
                  <a:lnTo>
                    <a:pt x="97" y="413"/>
                  </a:lnTo>
                  <a:lnTo>
                    <a:pt x="97" y="404"/>
                  </a:lnTo>
                  <a:lnTo>
                    <a:pt x="97" y="394"/>
                  </a:lnTo>
                  <a:lnTo>
                    <a:pt x="97" y="386"/>
                  </a:lnTo>
                  <a:lnTo>
                    <a:pt x="95" y="375"/>
                  </a:lnTo>
                  <a:lnTo>
                    <a:pt x="95" y="365"/>
                  </a:lnTo>
                  <a:lnTo>
                    <a:pt x="93" y="356"/>
                  </a:lnTo>
                  <a:lnTo>
                    <a:pt x="93" y="346"/>
                  </a:lnTo>
                  <a:lnTo>
                    <a:pt x="93" y="337"/>
                  </a:lnTo>
                  <a:lnTo>
                    <a:pt x="91" y="327"/>
                  </a:lnTo>
                  <a:lnTo>
                    <a:pt x="91" y="318"/>
                  </a:lnTo>
                  <a:lnTo>
                    <a:pt x="91" y="308"/>
                  </a:lnTo>
                  <a:lnTo>
                    <a:pt x="89" y="299"/>
                  </a:lnTo>
                  <a:lnTo>
                    <a:pt x="89" y="289"/>
                  </a:lnTo>
                  <a:lnTo>
                    <a:pt x="89" y="282"/>
                  </a:lnTo>
                  <a:lnTo>
                    <a:pt x="89" y="272"/>
                  </a:lnTo>
                  <a:lnTo>
                    <a:pt x="87" y="263"/>
                  </a:lnTo>
                  <a:lnTo>
                    <a:pt x="87" y="255"/>
                  </a:lnTo>
                  <a:lnTo>
                    <a:pt x="87" y="246"/>
                  </a:lnTo>
                  <a:lnTo>
                    <a:pt x="87" y="238"/>
                  </a:lnTo>
                  <a:lnTo>
                    <a:pt x="86" y="229"/>
                  </a:lnTo>
                  <a:lnTo>
                    <a:pt x="86" y="219"/>
                  </a:lnTo>
                  <a:lnTo>
                    <a:pt x="84" y="211"/>
                  </a:lnTo>
                  <a:lnTo>
                    <a:pt x="84" y="204"/>
                  </a:lnTo>
                  <a:lnTo>
                    <a:pt x="84" y="194"/>
                  </a:lnTo>
                  <a:lnTo>
                    <a:pt x="82" y="187"/>
                  </a:lnTo>
                  <a:lnTo>
                    <a:pt x="82" y="179"/>
                  </a:lnTo>
                  <a:lnTo>
                    <a:pt x="82" y="172"/>
                  </a:lnTo>
                  <a:lnTo>
                    <a:pt x="80" y="164"/>
                  </a:lnTo>
                  <a:lnTo>
                    <a:pt x="80" y="156"/>
                  </a:lnTo>
                  <a:lnTo>
                    <a:pt x="78" y="149"/>
                  </a:lnTo>
                  <a:lnTo>
                    <a:pt x="78" y="141"/>
                  </a:lnTo>
                  <a:lnTo>
                    <a:pt x="78" y="134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6" y="115"/>
                  </a:lnTo>
                  <a:lnTo>
                    <a:pt x="76" y="109"/>
                  </a:lnTo>
                  <a:lnTo>
                    <a:pt x="74" y="101"/>
                  </a:lnTo>
                  <a:lnTo>
                    <a:pt x="74" y="96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7"/>
                  </a:lnTo>
                  <a:lnTo>
                    <a:pt x="70" y="61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0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8" y="23"/>
                  </a:lnTo>
                  <a:lnTo>
                    <a:pt x="67" y="18"/>
                  </a:lnTo>
                  <a:lnTo>
                    <a:pt x="67" y="12"/>
                  </a:lnTo>
                  <a:lnTo>
                    <a:pt x="67" y="8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924520" y="1504440"/>
              <a:ext cx="187560" cy="2615400"/>
            </a:xfrm>
            <a:custGeom>
              <a:avLst/>
              <a:gdLst/>
              <a:ahLst/>
              <a:rect l="l" t="t" r="r" b="b"/>
              <a:pathLst>
                <a:path w="101" h="1398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4" y="59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4" y="77"/>
                  </a:lnTo>
                  <a:lnTo>
                    <a:pt x="15" y="84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9" y="103"/>
                  </a:lnTo>
                  <a:lnTo>
                    <a:pt x="19" y="111"/>
                  </a:lnTo>
                  <a:lnTo>
                    <a:pt x="21" y="118"/>
                  </a:lnTo>
                  <a:lnTo>
                    <a:pt x="21" y="126"/>
                  </a:lnTo>
                  <a:lnTo>
                    <a:pt x="23" y="134"/>
                  </a:lnTo>
                  <a:lnTo>
                    <a:pt x="23" y="141"/>
                  </a:lnTo>
                  <a:lnTo>
                    <a:pt x="25" y="149"/>
                  </a:lnTo>
                  <a:lnTo>
                    <a:pt x="25" y="156"/>
                  </a:lnTo>
                  <a:lnTo>
                    <a:pt x="25" y="164"/>
                  </a:lnTo>
                  <a:lnTo>
                    <a:pt x="27" y="172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9" y="196"/>
                  </a:lnTo>
                  <a:lnTo>
                    <a:pt x="29" y="206"/>
                  </a:lnTo>
                  <a:lnTo>
                    <a:pt x="31" y="213"/>
                  </a:lnTo>
                  <a:lnTo>
                    <a:pt x="31" y="221"/>
                  </a:lnTo>
                  <a:lnTo>
                    <a:pt x="33" y="231"/>
                  </a:lnTo>
                  <a:lnTo>
                    <a:pt x="33" y="238"/>
                  </a:lnTo>
                  <a:lnTo>
                    <a:pt x="34" y="248"/>
                  </a:lnTo>
                  <a:lnTo>
                    <a:pt x="34" y="255"/>
                  </a:lnTo>
                  <a:lnTo>
                    <a:pt x="36" y="265"/>
                  </a:lnTo>
                  <a:lnTo>
                    <a:pt x="36" y="274"/>
                  </a:lnTo>
                  <a:lnTo>
                    <a:pt x="38" y="282"/>
                  </a:lnTo>
                  <a:lnTo>
                    <a:pt x="38" y="289"/>
                  </a:lnTo>
                  <a:lnTo>
                    <a:pt x="40" y="297"/>
                  </a:lnTo>
                  <a:lnTo>
                    <a:pt x="40" y="307"/>
                  </a:lnTo>
                  <a:lnTo>
                    <a:pt x="40" y="314"/>
                  </a:lnTo>
                  <a:lnTo>
                    <a:pt x="40" y="324"/>
                  </a:lnTo>
                  <a:lnTo>
                    <a:pt x="40" y="331"/>
                  </a:lnTo>
                  <a:lnTo>
                    <a:pt x="42" y="339"/>
                  </a:lnTo>
                  <a:lnTo>
                    <a:pt x="42" y="348"/>
                  </a:lnTo>
                  <a:lnTo>
                    <a:pt x="42" y="354"/>
                  </a:lnTo>
                  <a:lnTo>
                    <a:pt x="44" y="364"/>
                  </a:lnTo>
                  <a:lnTo>
                    <a:pt x="44" y="371"/>
                  </a:lnTo>
                  <a:lnTo>
                    <a:pt x="44" y="379"/>
                  </a:lnTo>
                  <a:lnTo>
                    <a:pt x="44" y="386"/>
                  </a:lnTo>
                  <a:lnTo>
                    <a:pt x="44" y="392"/>
                  </a:lnTo>
                  <a:lnTo>
                    <a:pt x="44" y="400"/>
                  </a:lnTo>
                  <a:lnTo>
                    <a:pt x="46" y="407"/>
                  </a:lnTo>
                  <a:lnTo>
                    <a:pt x="44" y="415"/>
                  </a:lnTo>
                  <a:lnTo>
                    <a:pt x="44" y="421"/>
                  </a:lnTo>
                  <a:lnTo>
                    <a:pt x="44" y="428"/>
                  </a:lnTo>
                  <a:lnTo>
                    <a:pt x="44" y="436"/>
                  </a:lnTo>
                  <a:lnTo>
                    <a:pt x="44" y="442"/>
                  </a:lnTo>
                  <a:lnTo>
                    <a:pt x="44" y="449"/>
                  </a:lnTo>
                  <a:lnTo>
                    <a:pt x="44" y="457"/>
                  </a:lnTo>
                  <a:lnTo>
                    <a:pt x="44" y="462"/>
                  </a:lnTo>
                  <a:lnTo>
                    <a:pt x="44" y="470"/>
                  </a:lnTo>
                  <a:lnTo>
                    <a:pt x="44" y="476"/>
                  </a:lnTo>
                  <a:lnTo>
                    <a:pt x="44" y="483"/>
                  </a:lnTo>
                  <a:lnTo>
                    <a:pt x="44" y="491"/>
                  </a:lnTo>
                  <a:lnTo>
                    <a:pt x="44" y="497"/>
                  </a:lnTo>
                  <a:lnTo>
                    <a:pt x="44" y="504"/>
                  </a:lnTo>
                  <a:lnTo>
                    <a:pt x="44" y="512"/>
                  </a:lnTo>
                  <a:lnTo>
                    <a:pt x="44" y="519"/>
                  </a:lnTo>
                  <a:lnTo>
                    <a:pt x="44" y="525"/>
                  </a:lnTo>
                  <a:lnTo>
                    <a:pt x="44" y="531"/>
                  </a:lnTo>
                  <a:lnTo>
                    <a:pt x="44" y="538"/>
                  </a:lnTo>
                  <a:lnTo>
                    <a:pt x="44" y="544"/>
                  </a:lnTo>
                  <a:lnTo>
                    <a:pt x="44" y="550"/>
                  </a:lnTo>
                  <a:lnTo>
                    <a:pt x="44" y="557"/>
                  </a:lnTo>
                  <a:lnTo>
                    <a:pt x="44" y="565"/>
                  </a:lnTo>
                  <a:lnTo>
                    <a:pt x="44" y="571"/>
                  </a:lnTo>
                  <a:lnTo>
                    <a:pt x="44" y="576"/>
                  </a:lnTo>
                  <a:lnTo>
                    <a:pt x="44" y="582"/>
                  </a:lnTo>
                  <a:lnTo>
                    <a:pt x="44" y="590"/>
                  </a:lnTo>
                  <a:lnTo>
                    <a:pt x="44" y="596"/>
                  </a:lnTo>
                  <a:lnTo>
                    <a:pt x="44" y="601"/>
                  </a:lnTo>
                  <a:lnTo>
                    <a:pt x="44" y="607"/>
                  </a:lnTo>
                  <a:lnTo>
                    <a:pt x="44" y="613"/>
                  </a:lnTo>
                  <a:lnTo>
                    <a:pt x="44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4"/>
                  </a:lnTo>
                  <a:lnTo>
                    <a:pt x="42" y="639"/>
                  </a:lnTo>
                  <a:lnTo>
                    <a:pt x="42" y="645"/>
                  </a:lnTo>
                  <a:lnTo>
                    <a:pt x="42" y="649"/>
                  </a:lnTo>
                  <a:lnTo>
                    <a:pt x="42" y="654"/>
                  </a:lnTo>
                  <a:lnTo>
                    <a:pt x="42" y="658"/>
                  </a:lnTo>
                  <a:lnTo>
                    <a:pt x="42" y="668"/>
                  </a:lnTo>
                  <a:lnTo>
                    <a:pt x="42" y="675"/>
                  </a:lnTo>
                  <a:lnTo>
                    <a:pt x="42" y="683"/>
                  </a:lnTo>
                  <a:lnTo>
                    <a:pt x="42" y="691"/>
                  </a:lnTo>
                  <a:lnTo>
                    <a:pt x="42" y="696"/>
                  </a:lnTo>
                  <a:lnTo>
                    <a:pt x="42" y="702"/>
                  </a:lnTo>
                  <a:lnTo>
                    <a:pt x="42" y="706"/>
                  </a:lnTo>
                  <a:lnTo>
                    <a:pt x="42" y="710"/>
                  </a:lnTo>
                  <a:lnTo>
                    <a:pt x="42" y="715"/>
                  </a:lnTo>
                  <a:lnTo>
                    <a:pt x="42" y="719"/>
                  </a:lnTo>
                  <a:lnTo>
                    <a:pt x="42" y="721"/>
                  </a:lnTo>
                  <a:lnTo>
                    <a:pt x="42" y="727"/>
                  </a:lnTo>
                  <a:lnTo>
                    <a:pt x="42" y="732"/>
                  </a:lnTo>
                  <a:lnTo>
                    <a:pt x="42" y="736"/>
                  </a:lnTo>
                  <a:lnTo>
                    <a:pt x="42" y="744"/>
                  </a:lnTo>
                  <a:lnTo>
                    <a:pt x="42" y="753"/>
                  </a:lnTo>
                  <a:lnTo>
                    <a:pt x="40" y="761"/>
                  </a:lnTo>
                  <a:lnTo>
                    <a:pt x="40" y="770"/>
                  </a:lnTo>
                  <a:lnTo>
                    <a:pt x="40" y="774"/>
                  </a:lnTo>
                  <a:lnTo>
                    <a:pt x="40" y="780"/>
                  </a:lnTo>
                  <a:lnTo>
                    <a:pt x="40" y="786"/>
                  </a:lnTo>
                  <a:lnTo>
                    <a:pt x="40" y="789"/>
                  </a:lnTo>
                  <a:lnTo>
                    <a:pt x="40" y="795"/>
                  </a:lnTo>
                  <a:lnTo>
                    <a:pt x="40" y="801"/>
                  </a:lnTo>
                  <a:lnTo>
                    <a:pt x="40" y="807"/>
                  </a:lnTo>
                  <a:lnTo>
                    <a:pt x="40" y="814"/>
                  </a:lnTo>
                  <a:lnTo>
                    <a:pt x="40" y="818"/>
                  </a:lnTo>
                  <a:lnTo>
                    <a:pt x="40" y="826"/>
                  </a:lnTo>
                  <a:lnTo>
                    <a:pt x="40" y="831"/>
                  </a:lnTo>
                  <a:lnTo>
                    <a:pt x="40" y="839"/>
                  </a:lnTo>
                  <a:lnTo>
                    <a:pt x="40" y="845"/>
                  </a:lnTo>
                  <a:lnTo>
                    <a:pt x="40" y="850"/>
                  </a:lnTo>
                  <a:lnTo>
                    <a:pt x="40" y="856"/>
                  </a:lnTo>
                  <a:lnTo>
                    <a:pt x="40" y="864"/>
                  </a:lnTo>
                  <a:lnTo>
                    <a:pt x="38" y="869"/>
                  </a:lnTo>
                  <a:lnTo>
                    <a:pt x="38" y="877"/>
                  </a:lnTo>
                  <a:lnTo>
                    <a:pt x="38" y="883"/>
                  </a:lnTo>
                  <a:lnTo>
                    <a:pt x="38" y="890"/>
                  </a:lnTo>
                  <a:lnTo>
                    <a:pt x="38" y="896"/>
                  </a:lnTo>
                  <a:lnTo>
                    <a:pt x="38" y="903"/>
                  </a:lnTo>
                  <a:lnTo>
                    <a:pt x="36" y="909"/>
                  </a:lnTo>
                  <a:lnTo>
                    <a:pt x="36" y="917"/>
                  </a:lnTo>
                  <a:lnTo>
                    <a:pt x="36" y="922"/>
                  </a:lnTo>
                  <a:lnTo>
                    <a:pt x="36" y="930"/>
                  </a:lnTo>
                  <a:lnTo>
                    <a:pt x="36" y="936"/>
                  </a:lnTo>
                  <a:lnTo>
                    <a:pt x="36" y="943"/>
                  </a:lnTo>
                  <a:lnTo>
                    <a:pt x="34" y="949"/>
                  </a:lnTo>
                  <a:lnTo>
                    <a:pt x="34" y="957"/>
                  </a:lnTo>
                  <a:lnTo>
                    <a:pt x="33" y="962"/>
                  </a:lnTo>
                  <a:lnTo>
                    <a:pt x="33" y="970"/>
                  </a:lnTo>
                  <a:lnTo>
                    <a:pt x="33" y="976"/>
                  </a:lnTo>
                  <a:lnTo>
                    <a:pt x="31" y="981"/>
                  </a:lnTo>
                  <a:lnTo>
                    <a:pt x="31" y="989"/>
                  </a:lnTo>
                  <a:lnTo>
                    <a:pt x="31" y="995"/>
                  </a:lnTo>
                  <a:lnTo>
                    <a:pt x="29" y="1000"/>
                  </a:lnTo>
                  <a:lnTo>
                    <a:pt x="29" y="1006"/>
                  </a:lnTo>
                  <a:lnTo>
                    <a:pt x="27" y="1012"/>
                  </a:lnTo>
                  <a:lnTo>
                    <a:pt x="27" y="1018"/>
                  </a:lnTo>
                  <a:lnTo>
                    <a:pt x="25" y="1023"/>
                  </a:lnTo>
                  <a:lnTo>
                    <a:pt x="25" y="1029"/>
                  </a:lnTo>
                  <a:lnTo>
                    <a:pt x="25" y="1035"/>
                  </a:lnTo>
                  <a:lnTo>
                    <a:pt x="25" y="1042"/>
                  </a:lnTo>
                  <a:lnTo>
                    <a:pt x="21" y="1050"/>
                  </a:lnTo>
                  <a:lnTo>
                    <a:pt x="19" y="1059"/>
                  </a:lnTo>
                  <a:lnTo>
                    <a:pt x="17" y="1069"/>
                  </a:lnTo>
                  <a:lnTo>
                    <a:pt x="15" y="1078"/>
                  </a:lnTo>
                  <a:lnTo>
                    <a:pt x="14" y="1086"/>
                  </a:lnTo>
                  <a:lnTo>
                    <a:pt x="14" y="1095"/>
                  </a:lnTo>
                  <a:lnTo>
                    <a:pt x="12" y="1103"/>
                  </a:lnTo>
                  <a:lnTo>
                    <a:pt x="12" y="1111"/>
                  </a:lnTo>
                  <a:lnTo>
                    <a:pt x="10" y="1118"/>
                  </a:lnTo>
                  <a:lnTo>
                    <a:pt x="8" y="1126"/>
                  </a:lnTo>
                  <a:lnTo>
                    <a:pt x="6" y="1134"/>
                  </a:lnTo>
                  <a:lnTo>
                    <a:pt x="6" y="1139"/>
                  </a:lnTo>
                  <a:lnTo>
                    <a:pt x="6" y="1147"/>
                  </a:lnTo>
                  <a:lnTo>
                    <a:pt x="4" y="1153"/>
                  </a:lnTo>
                  <a:lnTo>
                    <a:pt x="4" y="1160"/>
                  </a:lnTo>
                  <a:lnTo>
                    <a:pt x="4" y="1166"/>
                  </a:lnTo>
                  <a:lnTo>
                    <a:pt x="2" y="1172"/>
                  </a:lnTo>
                  <a:lnTo>
                    <a:pt x="2" y="1177"/>
                  </a:lnTo>
                  <a:lnTo>
                    <a:pt x="0" y="1183"/>
                  </a:lnTo>
                  <a:lnTo>
                    <a:pt x="0" y="1189"/>
                  </a:lnTo>
                  <a:lnTo>
                    <a:pt x="0" y="1194"/>
                  </a:lnTo>
                  <a:lnTo>
                    <a:pt x="0" y="1200"/>
                  </a:lnTo>
                  <a:lnTo>
                    <a:pt x="0" y="1208"/>
                  </a:lnTo>
                  <a:lnTo>
                    <a:pt x="0" y="1213"/>
                  </a:lnTo>
                  <a:lnTo>
                    <a:pt x="0" y="1219"/>
                  </a:lnTo>
                  <a:lnTo>
                    <a:pt x="0" y="1225"/>
                  </a:lnTo>
                  <a:lnTo>
                    <a:pt x="0" y="1230"/>
                  </a:lnTo>
                  <a:lnTo>
                    <a:pt x="0" y="1236"/>
                  </a:lnTo>
                  <a:lnTo>
                    <a:pt x="0" y="1242"/>
                  </a:lnTo>
                  <a:lnTo>
                    <a:pt x="2" y="1248"/>
                  </a:lnTo>
                  <a:lnTo>
                    <a:pt x="2" y="1253"/>
                  </a:lnTo>
                  <a:lnTo>
                    <a:pt x="2" y="1261"/>
                  </a:lnTo>
                  <a:lnTo>
                    <a:pt x="2" y="1267"/>
                  </a:lnTo>
                  <a:lnTo>
                    <a:pt x="2" y="1272"/>
                  </a:lnTo>
                  <a:lnTo>
                    <a:pt x="2" y="1280"/>
                  </a:lnTo>
                  <a:lnTo>
                    <a:pt x="2" y="1286"/>
                  </a:lnTo>
                  <a:lnTo>
                    <a:pt x="2" y="1291"/>
                  </a:lnTo>
                  <a:lnTo>
                    <a:pt x="4" y="1297"/>
                  </a:lnTo>
                  <a:lnTo>
                    <a:pt x="4" y="1303"/>
                  </a:lnTo>
                  <a:lnTo>
                    <a:pt x="6" y="1308"/>
                  </a:lnTo>
                  <a:lnTo>
                    <a:pt x="6" y="1314"/>
                  </a:lnTo>
                  <a:lnTo>
                    <a:pt x="6" y="1322"/>
                  </a:lnTo>
                  <a:lnTo>
                    <a:pt x="8" y="1326"/>
                  </a:lnTo>
                  <a:lnTo>
                    <a:pt x="8" y="1333"/>
                  </a:lnTo>
                  <a:lnTo>
                    <a:pt x="8" y="1337"/>
                  </a:lnTo>
                  <a:lnTo>
                    <a:pt x="10" y="1343"/>
                  </a:lnTo>
                  <a:lnTo>
                    <a:pt x="10" y="1346"/>
                  </a:lnTo>
                  <a:lnTo>
                    <a:pt x="12" y="1352"/>
                  </a:lnTo>
                  <a:lnTo>
                    <a:pt x="12" y="1362"/>
                  </a:lnTo>
                  <a:lnTo>
                    <a:pt x="14" y="1369"/>
                  </a:lnTo>
                  <a:lnTo>
                    <a:pt x="14" y="1375"/>
                  </a:lnTo>
                  <a:lnTo>
                    <a:pt x="15" y="1383"/>
                  </a:lnTo>
                  <a:lnTo>
                    <a:pt x="15" y="1388"/>
                  </a:lnTo>
                  <a:lnTo>
                    <a:pt x="17" y="1390"/>
                  </a:lnTo>
                  <a:lnTo>
                    <a:pt x="17" y="1392"/>
                  </a:lnTo>
                  <a:lnTo>
                    <a:pt x="17" y="1394"/>
                  </a:lnTo>
                  <a:lnTo>
                    <a:pt x="78" y="1398"/>
                  </a:lnTo>
                  <a:lnTo>
                    <a:pt x="78" y="1396"/>
                  </a:lnTo>
                  <a:lnTo>
                    <a:pt x="76" y="1392"/>
                  </a:lnTo>
                  <a:lnTo>
                    <a:pt x="74" y="1386"/>
                  </a:lnTo>
                  <a:lnTo>
                    <a:pt x="72" y="1379"/>
                  </a:lnTo>
                  <a:lnTo>
                    <a:pt x="71" y="1373"/>
                  </a:lnTo>
                  <a:lnTo>
                    <a:pt x="69" y="1369"/>
                  </a:lnTo>
                  <a:lnTo>
                    <a:pt x="67" y="1364"/>
                  </a:lnTo>
                  <a:lnTo>
                    <a:pt x="67" y="1360"/>
                  </a:lnTo>
                  <a:lnTo>
                    <a:pt x="65" y="1352"/>
                  </a:lnTo>
                  <a:lnTo>
                    <a:pt x="65" y="1346"/>
                  </a:lnTo>
                  <a:lnTo>
                    <a:pt x="63" y="1339"/>
                  </a:lnTo>
                  <a:lnTo>
                    <a:pt x="63" y="1333"/>
                  </a:lnTo>
                  <a:lnTo>
                    <a:pt x="61" y="1326"/>
                  </a:lnTo>
                  <a:lnTo>
                    <a:pt x="59" y="1318"/>
                  </a:lnTo>
                  <a:lnTo>
                    <a:pt x="57" y="1308"/>
                  </a:lnTo>
                  <a:lnTo>
                    <a:pt x="57" y="1301"/>
                  </a:lnTo>
                  <a:lnTo>
                    <a:pt x="55" y="1291"/>
                  </a:lnTo>
                  <a:lnTo>
                    <a:pt x="53" y="1282"/>
                  </a:lnTo>
                  <a:lnTo>
                    <a:pt x="53" y="1272"/>
                  </a:lnTo>
                  <a:lnTo>
                    <a:pt x="53" y="1263"/>
                  </a:lnTo>
                  <a:lnTo>
                    <a:pt x="53" y="1257"/>
                  </a:lnTo>
                  <a:lnTo>
                    <a:pt x="53" y="1253"/>
                  </a:lnTo>
                  <a:lnTo>
                    <a:pt x="53" y="1248"/>
                  </a:lnTo>
                  <a:lnTo>
                    <a:pt x="53" y="1242"/>
                  </a:lnTo>
                  <a:lnTo>
                    <a:pt x="53" y="1236"/>
                  </a:lnTo>
                  <a:lnTo>
                    <a:pt x="53" y="1230"/>
                  </a:lnTo>
                  <a:lnTo>
                    <a:pt x="53" y="1227"/>
                  </a:lnTo>
                  <a:lnTo>
                    <a:pt x="55" y="1221"/>
                  </a:lnTo>
                  <a:lnTo>
                    <a:pt x="55" y="1215"/>
                  </a:lnTo>
                  <a:lnTo>
                    <a:pt x="55" y="1210"/>
                  </a:lnTo>
                  <a:lnTo>
                    <a:pt x="55" y="1204"/>
                  </a:lnTo>
                  <a:lnTo>
                    <a:pt x="57" y="1198"/>
                  </a:lnTo>
                  <a:lnTo>
                    <a:pt x="57" y="1192"/>
                  </a:lnTo>
                  <a:lnTo>
                    <a:pt x="57" y="1187"/>
                  </a:lnTo>
                  <a:lnTo>
                    <a:pt x="59" y="1181"/>
                  </a:lnTo>
                  <a:lnTo>
                    <a:pt x="61" y="1175"/>
                  </a:lnTo>
                  <a:lnTo>
                    <a:pt x="61" y="1170"/>
                  </a:lnTo>
                  <a:lnTo>
                    <a:pt x="61" y="1164"/>
                  </a:lnTo>
                  <a:lnTo>
                    <a:pt x="63" y="1158"/>
                  </a:lnTo>
                  <a:lnTo>
                    <a:pt x="63" y="1153"/>
                  </a:lnTo>
                  <a:lnTo>
                    <a:pt x="63" y="1147"/>
                  </a:lnTo>
                  <a:lnTo>
                    <a:pt x="65" y="1141"/>
                  </a:lnTo>
                  <a:lnTo>
                    <a:pt x="65" y="1135"/>
                  </a:lnTo>
                  <a:lnTo>
                    <a:pt x="67" y="1132"/>
                  </a:lnTo>
                  <a:lnTo>
                    <a:pt x="67" y="1126"/>
                  </a:lnTo>
                  <a:lnTo>
                    <a:pt x="67" y="1120"/>
                  </a:lnTo>
                  <a:lnTo>
                    <a:pt x="67" y="1114"/>
                  </a:lnTo>
                  <a:lnTo>
                    <a:pt x="69" y="1109"/>
                  </a:lnTo>
                  <a:lnTo>
                    <a:pt x="71" y="1099"/>
                  </a:lnTo>
                  <a:lnTo>
                    <a:pt x="72" y="1092"/>
                  </a:lnTo>
                  <a:lnTo>
                    <a:pt x="72" y="1082"/>
                  </a:lnTo>
                  <a:lnTo>
                    <a:pt x="74" y="1073"/>
                  </a:lnTo>
                  <a:lnTo>
                    <a:pt x="74" y="1063"/>
                  </a:lnTo>
                  <a:lnTo>
                    <a:pt x="76" y="1056"/>
                  </a:lnTo>
                  <a:lnTo>
                    <a:pt x="78" y="1044"/>
                  </a:lnTo>
                  <a:lnTo>
                    <a:pt x="78" y="1037"/>
                  </a:lnTo>
                  <a:lnTo>
                    <a:pt x="80" y="1027"/>
                  </a:lnTo>
                  <a:lnTo>
                    <a:pt x="82" y="1019"/>
                  </a:lnTo>
                  <a:lnTo>
                    <a:pt x="82" y="1014"/>
                  </a:lnTo>
                  <a:lnTo>
                    <a:pt x="82" y="1010"/>
                  </a:lnTo>
                  <a:lnTo>
                    <a:pt x="82" y="1004"/>
                  </a:lnTo>
                  <a:lnTo>
                    <a:pt x="84" y="1000"/>
                  </a:lnTo>
                  <a:lnTo>
                    <a:pt x="84" y="989"/>
                  </a:lnTo>
                  <a:lnTo>
                    <a:pt x="86" y="981"/>
                  </a:lnTo>
                  <a:lnTo>
                    <a:pt x="86" y="976"/>
                  </a:lnTo>
                  <a:lnTo>
                    <a:pt x="86" y="972"/>
                  </a:lnTo>
                  <a:lnTo>
                    <a:pt x="86" y="966"/>
                  </a:lnTo>
                  <a:lnTo>
                    <a:pt x="88" y="962"/>
                  </a:lnTo>
                  <a:lnTo>
                    <a:pt x="88" y="957"/>
                  </a:lnTo>
                  <a:lnTo>
                    <a:pt x="88" y="951"/>
                  </a:lnTo>
                  <a:lnTo>
                    <a:pt x="90" y="945"/>
                  </a:lnTo>
                  <a:lnTo>
                    <a:pt x="90" y="941"/>
                  </a:lnTo>
                  <a:lnTo>
                    <a:pt x="90" y="936"/>
                  </a:lnTo>
                  <a:lnTo>
                    <a:pt x="91" y="930"/>
                  </a:lnTo>
                  <a:lnTo>
                    <a:pt x="91" y="924"/>
                  </a:lnTo>
                  <a:lnTo>
                    <a:pt x="91" y="919"/>
                  </a:lnTo>
                  <a:lnTo>
                    <a:pt x="91" y="913"/>
                  </a:lnTo>
                  <a:lnTo>
                    <a:pt x="93" y="907"/>
                  </a:lnTo>
                  <a:lnTo>
                    <a:pt x="93" y="900"/>
                  </a:lnTo>
                  <a:lnTo>
                    <a:pt x="93" y="896"/>
                  </a:lnTo>
                  <a:lnTo>
                    <a:pt x="93" y="888"/>
                  </a:lnTo>
                  <a:lnTo>
                    <a:pt x="95" y="883"/>
                  </a:lnTo>
                  <a:lnTo>
                    <a:pt x="95" y="875"/>
                  </a:lnTo>
                  <a:lnTo>
                    <a:pt x="95" y="869"/>
                  </a:lnTo>
                  <a:lnTo>
                    <a:pt x="95" y="862"/>
                  </a:lnTo>
                  <a:lnTo>
                    <a:pt x="97" y="856"/>
                  </a:lnTo>
                  <a:lnTo>
                    <a:pt x="97" y="848"/>
                  </a:lnTo>
                  <a:lnTo>
                    <a:pt x="99" y="843"/>
                  </a:lnTo>
                  <a:lnTo>
                    <a:pt x="99" y="835"/>
                  </a:lnTo>
                  <a:lnTo>
                    <a:pt x="99" y="827"/>
                  </a:lnTo>
                  <a:lnTo>
                    <a:pt x="99" y="820"/>
                  </a:lnTo>
                  <a:lnTo>
                    <a:pt x="99" y="814"/>
                  </a:lnTo>
                  <a:lnTo>
                    <a:pt x="99" y="807"/>
                  </a:lnTo>
                  <a:lnTo>
                    <a:pt x="99" y="801"/>
                  </a:lnTo>
                  <a:lnTo>
                    <a:pt x="99" y="795"/>
                  </a:lnTo>
                  <a:lnTo>
                    <a:pt x="101" y="789"/>
                  </a:lnTo>
                  <a:lnTo>
                    <a:pt x="101" y="784"/>
                  </a:lnTo>
                  <a:lnTo>
                    <a:pt x="101" y="776"/>
                  </a:lnTo>
                  <a:lnTo>
                    <a:pt x="101" y="770"/>
                  </a:lnTo>
                  <a:lnTo>
                    <a:pt x="101" y="765"/>
                  </a:lnTo>
                  <a:lnTo>
                    <a:pt x="101" y="761"/>
                  </a:lnTo>
                  <a:lnTo>
                    <a:pt x="101" y="755"/>
                  </a:lnTo>
                  <a:lnTo>
                    <a:pt x="101" y="749"/>
                  </a:lnTo>
                  <a:lnTo>
                    <a:pt x="101" y="746"/>
                  </a:lnTo>
                  <a:lnTo>
                    <a:pt x="101" y="740"/>
                  </a:lnTo>
                  <a:lnTo>
                    <a:pt x="101" y="734"/>
                  </a:lnTo>
                  <a:lnTo>
                    <a:pt x="101" y="729"/>
                  </a:lnTo>
                  <a:lnTo>
                    <a:pt x="101" y="725"/>
                  </a:lnTo>
                  <a:lnTo>
                    <a:pt x="101" y="715"/>
                  </a:lnTo>
                  <a:lnTo>
                    <a:pt x="101" y="706"/>
                  </a:lnTo>
                  <a:lnTo>
                    <a:pt x="99" y="696"/>
                  </a:lnTo>
                  <a:lnTo>
                    <a:pt x="99" y="687"/>
                  </a:lnTo>
                  <a:lnTo>
                    <a:pt x="99" y="679"/>
                  </a:lnTo>
                  <a:lnTo>
                    <a:pt x="99" y="670"/>
                  </a:lnTo>
                  <a:lnTo>
                    <a:pt x="99" y="664"/>
                  </a:lnTo>
                  <a:lnTo>
                    <a:pt x="99" y="660"/>
                  </a:lnTo>
                  <a:lnTo>
                    <a:pt x="99" y="654"/>
                  </a:lnTo>
                  <a:lnTo>
                    <a:pt x="99" y="651"/>
                  </a:lnTo>
                  <a:lnTo>
                    <a:pt x="97" y="641"/>
                  </a:lnTo>
                  <a:lnTo>
                    <a:pt x="97" y="632"/>
                  </a:lnTo>
                  <a:lnTo>
                    <a:pt x="97" y="626"/>
                  </a:lnTo>
                  <a:lnTo>
                    <a:pt x="97" y="620"/>
                  </a:lnTo>
                  <a:lnTo>
                    <a:pt x="97" y="616"/>
                  </a:lnTo>
                  <a:lnTo>
                    <a:pt x="97" y="611"/>
                  </a:lnTo>
                  <a:lnTo>
                    <a:pt x="97" y="605"/>
                  </a:lnTo>
                  <a:lnTo>
                    <a:pt x="97" y="601"/>
                  </a:lnTo>
                  <a:lnTo>
                    <a:pt x="97" y="596"/>
                  </a:lnTo>
                  <a:lnTo>
                    <a:pt x="97" y="590"/>
                  </a:lnTo>
                  <a:lnTo>
                    <a:pt x="97" y="584"/>
                  </a:lnTo>
                  <a:lnTo>
                    <a:pt x="97" y="576"/>
                  </a:lnTo>
                  <a:lnTo>
                    <a:pt x="97" y="571"/>
                  </a:lnTo>
                  <a:lnTo>
                    <a:pt x="97" y="565"/>
                  </a:lnTo>
                  <a:lnTo>
                    <a:pt x="97" y="559"/>
                  </a:lnTo>
                  <a:lnTo>
                    <a:pt x="97" y="552"/>
                  </a:lnTo>
                  <a:lnTo>
                    <a:pt x="97" y="546"/>
                  </a:lnTo>
                  <a:lnTo>
                    <a:pt x="97" y="540"/>
                  </a:lnTo>
                  <a:lnTo>
                    <a:pt x="97" y="533"/>
                  </a:lnTo>
                  <a:lnTo>
                    <a:pt x="97" y="525"/>
                  </a:lnTo>
                  <a:lnTo>
                    <a:pt x="97" y="519"/>
                  </a:lnTo>
                  <a:lnTo>
                    <a:pt x="97" y="512"/>
                  </a:lnTo>
                  <a:lnTo>
                    <a:pt x="97" y="504"/>
                  </a:lnTo>
                  <a:lnTo>
                    <a:pt x="99" y="497"/>
                  </a:lnTo>
                  <a:lnTo>
                    <a:pt x="99" y="487"/>
                  </a:lnTo>
                  <a:lnTo>
                    <a:pt x="99" y="481"/>
                  </a:lnTo>
                  <a:lnTo>
                    <a:pt x="99" y="472"/>
                  </a:lnTo>
                  <a:lnTo>
                    <a:pt x="99" y="462"/>
                  </a:lnTo>
                  <a:lnTo>
                    <a:pt x="99" y="455"/>
                  </a:lnTo>
                  <a:lnTo>
                    <a:pt x="99" y="445"/>
                  </a:lnTo>
                  <a:lnTo>
                    <a:pt x="99" y="436"/>
                  </a:lnTo>
                  <a:lnTo>
                    <a:pt x="99" y="426"/>
                  </a:lnTo>
                  <a:lnTo>
                    <a:pt x="99" y="419"/>
                  </a:lnTo>
                  <a:lnTo>
                    <a:pt x="99" y="409"/>
                  </a:lnTo>
                  <a:lnTo>
                    <a:pt x="97" y="398"/>
                  </a:lnTo>
                  <a:lnTo>
                    <a:pt x="97" y="390"/>
                  </a:lnTo>
                  <a:lnTo>
                    <a:pt x="97" y="379"/>
                  </a:lnTo>
                  <a:lnTo>
                    <a:pt x="97" y="369"/>
                  </a:lnTo>
                  <a:lnTo>
                    <a:pt x="95" y="360"/>
                  </a:lnTo>
                  <a:lnTo>
                    <a:pt x="95" y="350"/>
                  </a:lnTo>
                  <a:lnTo>
                    <a:pt x="95" y="339"/>
                  </a:lnTo>
                  <a:lnTo>
                    <a:pt x="95" y="331"/>
                  </a:lnTo>
                  <a:lnTo>
                    <a:pt x="93" y="320"/>
                  </a:lnTo>
                  <a:lnTo>
                    <a:pt x="93" y="310"/>
                  </a:lnTo>
                  <a:lnTo>
                    <a:pt x="91" y="301"/>
                  </a:lnTo>
                  <a:lnTo>
                    <a:pt x="91" y="289"/>
                  </a:lnTo>
                  <a:lnTo>
                    <a:pt x="91" y="280"/>
                  </a:lnTo>
                  <a:lnTo>
                    <a:pt x="90" y="270"/>
                  </a:lnTo>
                  <a:lnTo>
                    <a:pt x="90" y="259"/>
                  </a:lnTo>
                  <a:lnTo>
                    <a:pt x="90" y="250"/>
                  </a:lnTo>
                  <a:lnTo>
                    <a:pt x="88" y="240"/>
                  </a:lnTo>
                  <a:lnTo>
                    <a:pt x="86" y="231"/>
                  </a:lnTo>
                  <a:lnTo>
                    <a:pt x="86" y="219"/>
                  </a:lnTo>
                  <a:lnTo>
                    <a:pt x="86" y="210"/>
                  </a:lnTo>
                  <a:lnTo>
                    <a:pt x="84" y="200"/>
                  </a:lnTo>
                  <a:lnTo>
                    <a:pt x="82" y="192"/>
                  </a:lnTo>
                  <a:lnTo>
                    <a:pt x="82" y="181"/>
                  </a:lnTo>
                  <a:lnTo>
                    <a:pt x="82" y="173"/>
                  </a:lnTo>
                  <a:lnTo>
                    <a:pt x="80" y="16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8" y="137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4" y="113"/>
                  </a:lnTo>
                  <a:lnTo>
                    <a:pt x="74" y="105"/>
                  </a:lnTo>
                  <a:lnTo>
                    <a:pt x="72" y="97"/>
                  </a:lnTo>
                  <a:lnTo>
                    <a:pt x="71" y="90"/>
                  </a:lnTo>
                  <a:lnTo>
                    <a:pt x="71" y="82"/>
                  </a:lnTo>
                  <a:lnTo>
                    <a:pt x="69" y="75"/>
                  </a:lnTo>
                  <a:lnTo>
                    <a:pt x="69" y="69"/>
                  </a:lnTo>
                  <a:lnTo>
                    <a:pt x="67" y="61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4"/>
                  </a:lnTo>
                  <a:lnTo>
                    <a:pt x="65" y="39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3" y="21"/>
                  </a:lnTo>
                  <a:lnTo>
                    <a:pt x="63" y="14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5632560" y="1575720"/>
              <a:ext cx="291960" cy="23940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0" y="1"/>
                  </a:moveTo>
                  <a:lnTo>
                    <a:pt x="143" y="0"/>
                  </a:lnTo>
                  <a:lnTo>
                    <a:pt x="156" y="129"/>
                  </a:lnTo>
                  <a:lnTo>
                    <a:pt x="101" y="72"/>
                  </a:lnTo>
                  <a:lnTo>
                    <a:pt x="99" y="53"/>
                  </a:lnTo>
                  <a:lnTo>
                    <a:pt x="54" y="5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5632560" y="1575720"/>
              <a:ext cx="284400" cy="243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0" y="131"/>
                  </a:lnTo>
                  <a:lnTo>
                    <a:pt x="152" y="127"/>
                  </a:lnTo>
                  <a:lnTo>
                    <a:pt x="137" y="87"/>
                  </a:lnTo>
                  <a:lnTo>
                    <a:pt x="101" y="72"/>
                  </a:lnTo>
                  <a:lnTo>
                    <a:pt x="54" y="74"/>
                  </a:lnTo>
                  <a:lnTo>
                    <a:pt x="54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692680" y="2099880"/>
              <a:ext cx="273240" cy="24372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0" y="2"/>
                  </a:moveTo>
                  <a:lnTo>
                    <a:pt x="138" y="0"/>
                  </a:lnTo>
                  <a:lnTo>
                    <a:pt x="144" y="129"/>
                  </a:lnTo>
                  <a:lnTo>
                    <a:pt x="95" y="70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5688360" y="20998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2" y="131"/>
                  </a:lnTo>
                  <a:lnTo>
                    <a:pt x="144" y="125"/>
                  </a:lnTo>
                  <a:lnTo>
                    <a:pt x="131" y="87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692680" y="2681280"/>
              <a:ext cx="276840" cy="243000"/>
            </a:xfrm>
            <a:custGeom>
              <a:avLst/>
              <a:gdLst/>
              <a:ahLst/>
              <a:rect l="l" t="t" r="r" b="b"/>
              <a:pathLst>
                <a:path w="148" h="129">
                  <a:moveTo>
                    <a:pt x="0" y="0"/>
                  </a:moveTo>
                  <a:lnTo>
                    <a:pt x="140" y="0"/>
                  </a:lnTo>
                  <a:lnTo>
                    <a:pt x="148" y="129"/>
                  </a:lnTo>
                  <a:lnTo>
                    <a:pt x="97" y="70"/>
                  </a:lnTo>
                  <a:lnTo>
                    <a:pt x="97" y="51"/>
                  </a:lnTo>
                  <a:lnTo>
                    <a:pt x="51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692680" y="26812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0" y="131"/>
                  </a:lnTo>
                  <a:lnTo>
                    <a:pt x="144" y="125"/>
                  </a:lnTo>
                  <a:lnTo>
                    <a:pt x="133" y="85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677560" y="3247200"/>
              <a:ext cx="258120" cy="25812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3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655240" y="3247200"/>
              <a:ext cx="269280" cy="250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7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632560" y="3782520"/>
              <a:ext cx="265680" cy="2588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0" y="0"/>
                  </a:moveTo>
                  <a:lnTo>
                    <a:pt x="143" y="8"/>
                  </a:lnTo>
                  <a:lnTo>
                    <a:pt x="135" y="137"/>
                  </a:lnTo>
                  <a:lnTo>
                    <a:pt x="92" y="74"/>
                  </a:lnTo>
                  <a:lnTo>
                    <a:pt x="92" y="55"/>
                  </a:lnTo>
                  <a:lnTo>
                    <a:pt x="48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613840" y="3778920"/>
              <a:ext cx="273240" cy="25488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5"/>
                  </a:lnTo>
                  <a:lnTo>
                    <a:pt x="101" y="76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4" name=""/>
          <p:cNvSpPr/>
          <p:nvPr/>
        </p:nvSpPr>
        <p:spPr>
          <a:xfrm>
            <a:off x="3421080" y="1700280"/>
            <a:ext cx="23032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Fin     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"/>
          <p:cNvSpPr/>
          <p:nvPr/>
        </p:nvSpPr>
        <p:spPr>
          <a:xfrm>
            <a:off x="434880" y="1197000"/>
            <a:ext cx="2427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3478320" y="958680"/>
            <a:ext cx="4600440" cy="5108760"/>
            <a:chOff x="3478320" y="958680"/>
            <a:chExt cx="4600440" cy="5108760"/>
          </a:xfrm>
        </p:grpSpPr>
        <p:grpSp>
          <p:nvGrpSpPr>
            <p:cNvPr id="3528" name=""/>
            <p:cNvGrpSpPr/>
            <p:nvPr/>
          </p:nvGrpSpPr>
          <p:grpSpPr>
            <a:xfrm>
              <a:off x="3478320" y="958680"/>
              <a:ext cx="2495520" cy="3073320"/>
              <a:chOff x="3478320" y="958680"/>
              <a:chExt cx="2495520" cy="3073320"/>
            </a:xfrm>
          </p:grpSpPr>
          <p:sp>
            <p:nvSpPr>
              <p:cNvPr id="3529" name=""/>
              <p:cNvSpPr/>
              <p:nvPr/>
            </p:nvSpPr>
            <p:spPr>
              <a:xfrm>
                <a:off x="3546720" y="1800000"/>
                <a:ext cx="2427120" cy="2232000"/>
              </a:xfrm>
              <a:custGeom>
                <a:avLst/>
                <a:gdLst/>
                <a:ahLst/>
                <a:rect l="l" t="t" r="r" b="b"/>
                <a:pathLst>
                  <a:path w="1529" h="1406">
                    <a:moveTo>
                      <a:pt x="1433" y="949"/>
                    </a:moveTo>
                    <a:lnTo>
                      <a:pt x="1338" y="673"/>
                    </a:lnTo>
                    <a:lnTo>
                      <a:pt x="1269" y="501"/>
                    </a:lnTo>
                    <a:lnTo>
                      <a:pt x="1132" y="267"/>
                    </a:lnTo>
                    <a:lnTo>
                      <a:pt x="1106" y="233"/>
                    </a:lnTo>
                    <a:lnTo>
                      <a:pt x="932" y="164"/>
                    </a:lnTo>
                    <a:lnTo>
                      <a:pt x="752" y="95"/>
                    </a:lnTo>
                    <a:lnTo>
                      <a:pt x="656" y="77"/>
                    </a:lnTo>
                    <a:lnTo>
                      <a:pt x="587" y="95"/>
                    </a:lnTo>
                    <a:lnTo>
                      <a:pt x="458" y="138"/>
                    </a:lnTo>
                    <a:lnTo>
                      <a:pt x="268" y="216"/>
                    </a:lnTo>
                    <a:lnTo>
                      <a:pt x="199" y="233"/>
                    </a:lnTo>
                    <a:lnTo>
                      <a:pt x="147" y="354"/>
                    </a:lnTo>
                    <a:lnTo>
                      <a:pt x="78" y="560"/>
                    </a:lnTo>
                    <a:lnTo>
                      <a:pt x="60" y="612"/>
                    </a:lnTo>
                    <a:lnTo>
                      <a:pt x="165" y="681"/>
                    </a:lnTo>
                    <a:lnTo>
                      <a:pt x="224" y="733"/>
                    </a:lnTo>
                    <a:lnTo>
                      <a:pt x="250" y="802"/>
                    </a:lnTo>
                    <a:lnTo>
                      <a:pt x="286" y="915"/>
                    </a:lnTo>
                    <a:lnTo>
                      <a:pt x="302" y="1044"/>
                    </a:lnTo>
                    <a:lnTo>
                      <a:pt x="345" y="1139"/>
                    </a:lnTo>
                    <a:lnTo>
                      <a:pt x="415" y="1156"/>
                    </a:lnTo>
                    <a:lnTo>
                      <a:pt x="510" y="1164"/>
                    </a:lnTo>
                    <a:lnTo>
                      <a:pt x="690" y="1208"/>
                    </a:lnTo>
                    <a:lnTo>
                      <a:pt x="803" y="1251"/>
                    </a:lnTo>
                    <a:lnTo>
                      <a:pt x="985" y="1285"/>
                    </a:lnTo>
                    <a:lnTo>
                      <a:pt x="1184" y="1311"/>
                    </a:lnTo>
                    <a:lnTo>
                      <a:pt x="1243" y="1329"/>
                    </a:lnTo>
                    <a:lnTo>
                      <a:pt x="1243" y="1380"/>
                    </a:lnTo>
                    <a:lnTo>
                      <a:pt x="1174" y="1406"/>
                    </a:lnTo>
                    <a:lnTo>
                      <a:pt x="1037" y="1363"/>
                    </a:lnTo>
                    <a:lnTo>
                      <a:pt x="855" y="1311"/>
                    </a:lnTo>
                    <a:lnTo>
                      <a:pt x="648" y="1260"/>
                    </a:lnTo>
                    <a:lnTo>
                      <a:pt x="484" y="1234"/>
                    </a:lnTo>
                    <a:lnTo>
                      <a:pt x="407" y="1216"/>
                    </a:lnTo>
                    <a:lnTo>
                      <a:pt x="294" y="1216"/>
                    </a:lnTo>
                    <a:lnTo>
                      <a:pt x="276" y="1190"/>
                    </a:lnTo>
                    <a:lnTo>
                      <a:pt x="242" y="1069"/>
                    </a:lnTo>
                    <a:lnTo>
                      <a:pt x="224" y="941"/>
                    </a:lnTo>
                    <a:lnTo>
                      <a:pt x="216" y="846"/>
                    </a:lnTo>
                    <a:lnTo>
                      <a:pt x="165" y="759"/>
                    </a:lnTo>
                    <a:lnTo>
                      <a:pt x="103" y="707"/>
                    </a:lnTo>
                    <a:lnTo>
                      <a:pt x="0" y="647"/>
                    </a:lnTo>
                    <a:lnTo>
                      <a:pt x="8" y="586"/>
                    </a:lnTo>
                    <a:lnTo>
                      <a:pt x="34" y="491"/>
                    </a:lnTo>
                    <a:lnTo>
                      <a:pt x="103" y="336"/>
                    </a:lnTo>
                    <a:lnTo>
                      <a:pt x="147" y="198"/>
                    </a:lnTo>
                    <a:lnTo>
                      <a:pt x="173" y="172"/>
                    </a:lnTo>
                    <a:lnTo>
                      <a:pt x="311" y="146"/>
                    </a:lnTo>
                    <a:lnTo>
                      <a:pt x="432" y="103"/>
                    </a:lnTo>
                    <a:lnTo>
                      <a:pt x="535" y="34"/>
                    </a:lnTo>
                    <a:lnTo>
                      <a:pt x="587" y="0"/>
                    </a:lnTo>
                    <a:lnTo>
                      <a:pt x="656" y="0"/>
                    </a:lnTo>
                    <a:lnTo>
                      <a:pt x="700" y="0"/>
                    </a:lnTo>
                    <a:lnTo>
                      <a:pt x="777" y="59"/>
                    </a:lnTo>
                    <a:lnTo>
                      <a:pt x="864" y="87"/>
                    </a:lnTo>
                    <a:lnTo>
                      <a:pt x="985" y="129"/>
                    </a:lnTo>
                    <a:lnTo>
                      <a:pt x="1140" y="172"/>
                    </a:lnTo>
                    <a:lnTo>
                      <a:pt x="1184" y="198"/>
                    </a:lnTo>
                    <a:lnTo>
                      <a:pt x="1217" y="259"/>
                    </a:lnTo>
                    <a:lnTo>
                      <a:pt x="1235" y="336"/>
                    </a:lnTo>
                    <a:lnTo>
                      <a:pt x="1295" y="440"/>
                    </a:lnTo>
                    <a:lnTo>
                      <a:pt x="1364" y="586"/>
                    </a:lnTo>
                    <a:lnTo>
                      <a:pt x="1416" y="681"/>
                    </a:lnTo>
                    <a:lnTo>
                      <a:pt x="1451" y="794"/>
                    </a:lnTo>
                    <a:lnTo>
                      <a:pt x="1503" y="897"/>
                    </a:lnTo>
                    <a:lnTo>
                      <a:pt x="1529" y="957"/>
                    </a:lnTo>
                    <a:lnTo>
                      <a:pt x="1485" y="1000"/>
                    </a:lnTo>
                    <a:lnTo>
                      <a:pt x="1433" y="94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830760" y="2098440"/>
                <a:ext cx="2114640" cy="1852920"/>
              </a:xfrm>
              <a:custGeom>
                <a:avLst/>
                <a:gdLst/>
                <a:ahLst/>
                <a:rect l="l" t="t" r="r" b="b"/>
                <a:pathLst>
                  <a:path w="1332" h="1167">
                    <a:moveTo>
                      <a:pt x="398" y="699"/>
                    </a:moveTo>
                    <a:lnTo>
                      <a:pt x="406" y="614"/>
                    </a:lnTo>
                    <a:lnTo>
                      <a:pt x="381" y="519"/>
                    </a:lnTo>
                    <a:lnTo>
                      <a:pt x="337" y="424"/>
                    </a:lnTo>
                    <a:lnTo>
                      <a:pt x="311" y="355"/>
                    </a:lnTo>
                    <a:lnTo>
                      <a:pt x="286" y="285"/>
                    </a:lnTo>
                    <a:lnTo>
                      <a:pt x="190" y="216"/>
                    </a:lnTo>
                    <a:lnTo>
                      <a:pt x="103" y="157"/>
                    </a:lnTo>
                    <a:lnTo>
                      <a:pt x="34" y="95"/>
                    </a:lnTo>
                    <a:lnTo>
                      <a:pt x="0" y="34"/>
                    </a:lnTo>
                    <a:lnTo>
                      <a:pt x="34" y="0"/>
                    </a:lnTo>
                    <a:lnTo>
                      <a:pt x="70" y="52"/>
                    </a:lnTo>
                    <a:lnTo>
                      <a:pt x="129" y="113"/>
                    </a:lnTo>
                    <a:lnTo>
                      <a:pt x="199" y="173"/>
                    </a:lnTo>
                    <a:lnTo>
                      <a:pt x="278" y="208"/>
                    </a:lnTo>
                    <a:lnTo>
                      <a:pt x="355" y="252"/>
                    </a:lnTo>
                    <a:lnTo>
                      <a:pt x="373" y="293"/>
                    </a:lnTo>
                    <a:lnTo>
                      <a:pt x="381" y="363"/>
                    </a:lnTo>
                    <a:lnTo>
                      <a:pt x="406" y="432"/>
                    </a:lnTo>
                    <a:lnTo>
                      <a:pt x="442" y="509"/>
                    </a:lnTo>
                    <a:lnTo>
                      <a:pt x="458" y="588"/>
                    </a:lnTo>
                    <a:lnTo>
                      <a:pt x="484" y="658"/>
                    </a:lnTo>
                    <a:lnTo>
                      <a:pt x="614" y="674"/>
                    </a:lnTo>
                    <a:lnTo>
                      <a:pt x="830" y="683"/>
                    </a:lnTo>
                    <a:lnTo>
                      <a:pt x="926" y="683"/>
                    </a:lnTo>
                    <a:lnTo>
                      <a:pt x="1080" y="709"/>
                    </a:lnTo>
                    <a:lnTo>
                      <a:pt x="1203" y="753"/>
                    </a:lnTo>
                    <a:lnTo>
                      <a:pt x="1332" y="778"/>
                    </a:lnTo>
                    <a:lnTo>
                      <a:pt x="1324" y="820"/>
                    </a:lnTo>
                    <a:lnTo>
                      <a:pt x="1262" y="890"/>
                    </a:lnTo>
                    <a:lnTo>
                      <a:pt x="1150" y="915"/>
                    </a:lnTo>
                    <a:lnTo>
                      <a:pt x="1098" y="925"/>
                    </a:lnTo>
                    <a:lnTo>
                      <a:pt x="1064" y="994"/>
                    </a:lnTo>
                    <a:lnTo>
                      <a:pt x="1046" y="1046"/>
                    </a:lnTo>
                    <a:lnTo>
                      <a:pt x="1055" y="1159"/>
                    </a:lnTo>
                    <a:lnTo>
                      <a:pt x="1003" y="1167"/>
                    </a:lnTo>
                    <a:lnTo>
                      <a:pt x="1003" y="1063"/>
                    </a:lnTo>
                    <a:lnTo>
                      <a:pt x="1003" y="985"/>
                    </a:lnTo>
                    <a:lnTo>
                      <a:pt x="1029" y="907"/>
                    </a:lnTo>
                    <a:lnTo>
                      <a:pt x="1080" y="848"/>
                    </a:lnTo>
                    <a:lnTo>
                      <a:pt x="1142" y="848"/>
                    </a:lnTo>
                    <a:lnTo>
                      <a:pt x="1211" y="830"/>
                    </a:lnTo>
                    <a:lnTo>
                      <a:pt x="1142" y="786"/>
                    </a:lnTo>
                    <a:lnTo>
                      <a:pt x="985" y="743"/>
                    </a:lnTo>
                    <a:lnTo>
                      <a:pt x="848" y="743"/>
                    </a:lnTo>
                    <a:lnTo>
                      <a:pt x="684" y="735"/>
                    </a:lnTo>
                    <a:lnTo>
                      <a:pt x="553" y="717"/>
                    </a:lnTo>
                    <a:lnTo>
                      <a:pt x="484" y="735"/>
                    </a:lnTo>
                    <a:lnTo>
                      <a:pt x="381" y="838"/>
                    </a:lnTo>
                    <a:lnTo>
                      <a:pt x="294" y="943"/>
                    </a:lnTo>
                    <a:lnTo>
                      <a:pt x="242" y="1002"/>
                    </a:lnTo>
                    <a:lnTo>
                      <a:pt x="139" y="994"/>
                    </a:lnTo>
                    <a:lnTo>
                      <a:pt x="216" y="925"/>
                    </a:lnTo>
                    <a:lnTo>
                      <a:pt x="294" y="856"/>
                    </a:lnTo>
                    <a:lnTo>
                      <a:pt x="398" y="69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988160" y="2124000"/>
                <a:ext cx="317520" cy="550800"/>
              </a:xfrm>
              <a:custGeom>
                <a:avLst/>
                <a:gdLst/>
                <a:ahLst/>
                <a:rect l="l" t="t" r="r" b="b"/>
                <a:pathLst>
                  <a:path w="200" h="347">
                    <a:moveTo>
                      <a:pt x="200" y="0"/>
                    </a:moveTo>
                    <a:lnTo>
                      <a:pt x="82" y="10"/>
                    </a:lnTo>
                    <a:lnTo>
                      <a:pt x="27" y="63"/>
                    </a:lnTo>
                    <a:lnTo>
                      <a:pt x="27" y="116"/>
                    </a:lnTo>
                    <a:lnTo>
                      <a:pt x="63" y="187"/>
                    </a:lnTo>
                    <a:lnTo>
                      <a:pt x="82" y="240"/>
                    </a:lnTo>
                    <a:lnTo>
                      <a:pt x="45" y="284"/>
                    </a:lnTo>
                    <a:lnTo>
                      <a:pt x="0" y="294"/>
                    </a:lnTo>
                    <a:lnTo>
                      <a:pt x="10" y="347"/>
                    </a:lnTo>
                    <a:lnTo>
                      <a:pt x="63" y="337"/>
                    </a:lnTo>
                    <a:lnTo>
                      <a:pt x="109" y="302"/>
                    </a:lnTo>
                    <a:lnTo>
                      <a:pt x="145" y="231"/>
                    </a:lnTo>
                    <a:lnTo>
                      <a:pt x="127" y="170"/>
                    </a:lnTo>
                    <a:lnTo>
                      <a:pt x="90" y="116"/>
                    </a:lnTo>
                    <a:lnTo>
                      <a:pt x="90" y="71"/>
                    </a:lnTo>
                    <a:lnTo>
                      <a:pt x="145" y="45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708360" y="2357280"/>
                <a:ext cx="590760" cy="739800"/>
              </a:xfrm>
              <a:custGeom>
                <a:avLst/>
                <a:gdLst/>
                <a:ahLst/>
                <a:rect l="l" t="t" r="r" b="b"/>
                <a:pathLst>
                  <a:path w="372" h="466">
                    <a:moveTo>
                      <a:pt x="18" y="0"/>
                    </a:moveTo>
                    <a:lnTo>
                      <a:pt x="80" y="61"/>
                    </a:lnTo>
                    <a:lnTo>
                      <a:pt x="177" y="114"/>
                    </a:lnTo>
                    <a:lnTo>
                      <a:pt x="248" y="158"/>
                    </a:lnTo>
                    <a:lnTo>
                      <a:pt x="301" y="185"/>
                    </a:lnTo>
                    <a:lnTo>
                      <a:pt x="311" y="246"/>
                    </a:lnTo>
                    <a:lnTo>
                      <a:pt x="311" y="316"/>
                    </a:lnTo>
                    <a:lnTo>
                      <a:pt x="319" y="361"/>
                    </a:lnTo>
                    <a:lnTo>
                      <a:pt x="372" y="404"/>
                    </a:lnTo>
                    <a:lnTo>
                      <a:pt x="372" y="466"/>
                    </a:lnTo>
                    <a:lnTo>
                      <a:pt x="301" y="466"/>
                    </a:lnTo>
                    <a:lnTo>
                      <a:pt x="266" y="404"/>
                    </a:lnTo>
                    <a:lnTo>
                      <a:pt x="258" y="333"/>
                    </a:lnTo>
                    <a:lnTo>
                      <a:pt x="258" y="254"/>
                    </a:lnTo>
                    <a:lnTo>
                      <a:pt x="248" y="219"/>
                    </a:lnTo>
                    <a:lnTo>
                      <a:pt x="169" y="176"/>
                    </a:lnTo>
                    <a:lnTo>
                      <a:pt x="71" y="122"/>
                    </a:lnTo>
                    <a:lnTo>
                      <a:pt x="18" y="89"/>
                    </a:lnTo>
                    <a:lnTo>
                      <a:pt x="0" y="6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18200" y="3429000"/>
                <a:ext cx="168120" cy="331560"/>
              </a:xfrm>
              <a:custGeom>
                <a:avLst/>
                <a:gdLst/>
                <a:ahLst/>
                <a:rect l="l" t="t" r="r" b="b"/>
                <a:pathLst>
                  <a:path w="106" h="209">
                    <a:moveTo>
                      <a:pt x="106" y="0"/>
                    </a:moveTo>
                    <a:lnTo>
                      <a:pt x="77" y="55"/>
                    </a:lnTo>
                    <a:lnTo>
                      <a:pt x="58" y="137"/>
                    </a:lnTo>
                    <a:lnTo>
                      <a:pt x="58" y="209"/>
                    </a:lnTo>
                    <a:lnTo>
                      <a:pt x="0" y="137"/>
                    </a:lnTo>
                    <a:lnTo>
                      <a:pt x="19" y="8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478320" y="958680"/>
                <a:ext cx="673200" cy="914400"/>
              </a:xfrm>
              <a:custGeom>
                <a:avLst/>
                <a:gdLst/>
                <a:ahLst/>
                <a:rect l="l" t="t" r="r" b="b"/>
                <a:pathLst>
                  <a:path w="424" h="576">
                    <a:moveTo>
                      <a:pt x="71" y="201"/>
                    </a:moveTo>
                    <a:lnTo>
                      <a:pt x="43" y="201"/>
                    </a:lnTo>
                    <a:lnTo>
                      <a:pt x="18" y="201"/>
                    </a:lnTo>
                    <a:lnTo>
                      <a:pt x="8" y="174"/>
                    </a:lnTo>
                    <a:lnTo>
                      <a:pt x="0" y="148"/>
                    </a:lnTo>
                    <a:lnTo>
                      <a:pt x="0" y="122"/>
                    </a:lnTo>
                    <a:lnTo>
                      <a:pt x="0" y="96"/>
                    </a:lnTo>
                    <a:lnTo>
                      <a:pt x="0" y="69"/>
                    </a:lnTo>
                    <a:lnTo>
                      <a:pt x="0" y="43"/>
                    </a:lnTo>
                    <a:lnTo>
                      <a:pt x="26" y="26"/>
                    </a:lnTo>
                    <a:lnTo>
                      <a:pt x="35" y="0"/>
                    </a:lnTo>
                    <a:lnTo>
                      <a:pt x="61" y="0"/>
                    </a:lnTo>
                    <a:lnTo>
                      <a:pt x="88" y="8"/>
                    </a:lnTo>
                    <a:lnTo>
                      <a:pt x="79" y="35"/>
                    </a:lnTo>
                    <a:lnTo>
                      <a:pt x="53" y="43"/>
                    </a:lnTo>
                    <a:lnTo>
                      <a:pt x="35" y="69"/>
                    </a:lnTo>
                    <a:lnTo>
                      <a:pt x="35" y="96"/>
                    </a:lnTo>
                    <a:lnTo>
                      <a:pt x="35" y="122"/>
                    </a:lnTo>
                    <a:lnTo>
                      <a:pt x="53" y="148"/>
                    </a:lnTo>
                    <a:lnTo>
                      <a:pt x="79" y="158"/>
                    </a:lnTo>
                    <a:lnTo>
                      <a:pt x="106" y="158"/>
                    </a:lnTo>
                    <a:lnTo>
                      <a:pt x="132" y="158"/>
                    </a:lnTo>
                    <a:lnTo>
                      <a:pt x="159" y="148"/>
                    </a:lnTo>
                    <a:lnTo>
                      <a:pt x="185" y="130"/>
                    </a:lnTo>
                    <a:lnTo>
                      <a:pt x="203" y="104"/>
                    </a:lnTo>
                    <a:lnTo>
                      <a:pt x="177" y="96"/>
                    </a:lnTo>
                    <a:lnTo>
                      <a:pt x="150" y="96"/>
                    </a:lnTo>
                    <a:lnTo>
                      <a:pt x="124" y="262"/>
                    </a:lnTo>
                    <a:lnTo>
                      <a:pt x="124" y="296"/>
                    </a:lnTo>
                    <a:lnTo>
                      <a:pt x="142" y="324"/>
                    </a:lnTo>
                    <a:lnTo>
                      <a:pt x="167" y="341"/>
                    </a:lnTo>
                    <a:lnTo>
                      <a:pt x="195" y="357"/>
                    </a:lnTo>
                    <a:lnTo>
                      <a:pt x="229" y="349"/>
                    </a:lnTo>
                    <a:lnTo>
                      <a:pt x="256" y="341"/>
                    </a:lnTo>
                    <a:lnTo>
                      <a:pt x="274" y="314"/>
                    </a:lnTo>
                    <a:lnTo>
                      <a:pt x="246" y="306"/>
                    </a:lnTo>
                    <a:lnTo>
                      <a:pt x="221" y="324"/>
                    </a:lnTo>
                    <a:lnTo>
                      <a:pt x="221" y="349"/>
                    </a:lnTo>
                    <a:lnTo>
                      <a:pt x="229" y="375"/>
                    </a:lnTo>
                    <a:lnTo>
                      <a:pt x="229" y="403"/>
                    </a:lnTo>
                    <a:lnTo>
                      <a:pt x="229" y="428"/>
                    </a:lnTo>
                    <a:lnTo>
                      <a:pt x="246" y="454"/>
                    </a:lnTo>
                    <a:lnTo>
                      <a:pt x="274" y="472"/>
                    </a:lnTo>
                    <a:lnTo>
                      <a:pt x="300" y="490"/>
                    </a:lnTo>
                    <a:lnTo>
                      <a:pt x="327" y="507"/>
                    </a:lnTo>
                    <a:lnTo>
                      <a:pt x="353" y="523"/>
                    </a:lnTo>
                    <a:lnTo>
                      <a:pt x="380" y="523"/>
                    </a:lnTo>
                    <a:lnTo>
                      <a:pt x="406" y="533"/>
                    </a:lnTo>
                    <a:lnTo>
                      <a:pt x="424" y="559"/>
                    </a:lnTo>
                    <a:lnTo>
                      <a:pt x="398" y="576"/>
                    </a:lnTo>
                    <a:lnTo>
                      <a:pt x="371" y="576"/>
                    </a:lnTo>
                    <a:lnTo>
                      <a:pt x="345" y="576"/>
                    </a:lnTo>
                    <a:lnTo>
                      <a:pt x="317" y="576"/>
                    </a:lnTo>
                    <a:lnTo>
                      <a:pt x="282" y="559"/>
                    </a:lnTo>
                    <a:lnTo>
                      <a:pt x="256" y="551"/>
                    </a:lnTo>
                    <a:lnTo>
                      <a:pt x="246" y="523"/>
                    </a:lnTo>
                    <a:lnTo>
                      <a:pt x="221" y="515"/>
                    </a:lnTo>
                    <a:lnTo>
                      <a:pt x="213" y="490"/>
                    </a:lnTo>
                    <a:lnTo>
                      <a:pt x="177" y="480"/>
                    </a:lnTo>
                    <a:lnTo>
                      <a:pt x="177" y="454"/>
                    </a:lnTo>
                    <a:lnTo>
                      <a:pt x="159" y="428"/>
                    </a:lnTo>
                    <a:lnTo>
                      <a:pt x="159" y="403"/>
                    </a:lnTo>
                    <a:lnTo>
                      <a:pt x="159" y="375"/>
                    </a:lnTo>
                    <a:lnTo>
                      <a:pt x="159" y="349"/>
                    </a:lnTo>
                    <a:lnTo>
                      <a:pt x="167" y="324"/>
                    </a:lnTo>
                    <a:lnTo>
                      <a:pt x="195" y="296"/>
                    </a:lnTo>
                    <a:lnTo>
                      <a:pt x="213" y="270"/>
                    </a:lnTo>
                    <a:lnTo>
                      <a:pt x="238" y="270"/>
                    </a:lnTo>
                    <a:lnTo>
                      <a:pt x="264" y="270"/>
                    </a:lnTo>
                    <a:lnTo>
                      <a:pt x="292" y="270"/>
                    </a:lnTo>
                    <a:lnTo>
                      <a:pt x="317" y="280"/>
                    </a:lnTo>
                    <a:lnTo>
                      <a:pt x="327" y="306"/>
                    </a:lnTo>
                    <a:lnTo>
                      <a:pt x="327" y="332"/>
                    </a:lnTo>
                    <a:lnTo>
                      <a:pt x="317" y="357"/>
                    </a:lnTo>
                    <a:lnTo>
                      <a:pt x="292" y="367"/>
                    </a:lnTo>
                    <a:lnTo>
                      <a:pt x="264" y="367"/>
                    </a:lnTo>
                    <a:lnTo>
                      <a:pt x="238" y="367"/>
                    </a:lnTo>
                    <a:lnTo>
                      <a:pt x="213" y="367"/>
                    </a:lnTo>
                    <a:lnTo>
                      <a:pt x="185" y="367"/>
                    </a:lnTo>
                    <a:lnTo>
                      <a:pt x="159" y="367"/>
                    </a:lnTo>
                    <a:lnTo>
                      <a:pt x="132" y="349"/>
                    </a:lnTo>
                    <a:lnTo>
                      <a:pt x="106" y="341"/>
                    </a:lnTo>
                    <a:lnTo>
                      <a:pt x="96" y="314"/>
                    </a:lnTo>
                    <a:lnTo>
                      <a:pt x="71" y="288"/>
                    </a:lnTo>
                    <a:lnTo>
                      <a:pt x="71" y="262"/>
                    </a:lnTo>
                    <a:lnTo>
                      <a:pt x="71" y="235"/>
                    </a:lnTo>
                    <a:lnTo>
                      <a:pt x="71" y="209"/>
                    </a:lnTo>
                    <a:lnTo>
                      <a:pt x="71" y="183"/>
                    </a:lnTo>
                    <a:lnTo>
                      <a:pt x="96" y="166"/>
                    </a:lnTo>
                    <a:lnTo>
                      <a:pt x="96" y="140"/>
                    </a:lnTo>
                    <a:lnTo>
                      <a:pt x="114" y="114"/>
                    </a:lnTo>
                    <a:lnTo>
                      <a:pt x="132" y="87"/>
                    </a:lnTo>
                    <a:lnTo>
                      <a:pt x="159" y="69"/>
                    </a:lnTo>
                    <a:lnTo>
                      <a:pt x="185" y="61"/>
                    </a:lnTo>
                    <a:lnTo>
                      <a:pt x="213" y="61"/>
                    </a:lnTo>
                    <a:lnTo>
                      <a:pt x="238" y="61"/>
                    </a:lnTo>
                    <a:lnTo>
                      <a:pt x="264" y="69"/>
                    </a:lnTo>
                    <a:lnTo>
                      <a:pt x="264" y="96"/>
                    </a:lnTo>
                    <a:lnTo>
                      <a:pt x="264" y="122"/>
                    </a:lnTo>
                    <a:lnTo>
                      <a:pt x="264" y="148"/>
                    </a:lnTo>
                    <a:lnTo>
                      <a:pt x="246" y="174"/>
                    </a:lnTo>
                    <a:lnTo>
                      <a:pt x="221" y="183"/>
                    </a:lnTo>
                    <a:lnTo>
                      <a:pt x="195" y="191"/>
                    </a:lnTo>
                    <a:lnTo>
                      <a:pt x="167" y="191"/>
                    </a:lnTo>
                    <a:lnTo>
                      <a:pt x="142" y="191"/>
                    </a:lnTo>
                    <a:lnTo>
                      <a:pt x="114" y="191"/>
                    </a:lnTo>
                    <a:lnTo>
                      <a:pt x="88" y="191"/>
                    </a:lnTo>
                    <a:lnTo>
                      <a:pt x="61" y="209"/>
                    </a:lnTo>
                    <a:lnTo>
                      <a:pt x="35" y="209"/>
                    </a:lnTo>
                    <a:lnTo>
                      <a:pt x="8" y="183"/>
                    </a:lnTo>
                    <a:lnTo>
                      <a:pt x="8" y="148"/>
                    </a:lnTo>
                    <a:lnTo>
                      <a:pt x="71" y="20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4741920" y="1006560"/>
                <a:ext cx="455760" cy="841320"/>
              </a:xfrm>
              <a:custGeom>
                <a:avLst/>
                <a:gdLst/>
                <a:ahLst/>
                <a:rect l="l" t="t" r="r" b="b"/>
                <a:pathLst>
                  <a:path w="287" h="530">
                    <a:moveTo>
                      <a:pt x="144" y="477"/>
                    </a:moveTo>
                    <a:lnTo>
                      <a:pt x="131" y="477"/>
                    </a:lnTo>
                    <a:lnTo>
                      <a:pt x="103" y="477"/>
                    </a:lnTo>
                    <a:lnTo>
                      <a:pt x="90" y="460"/>
                    </a:lnTo>
                    <a:lnTo>
                      <a:pt x="73" y="447"/>
                    </a:lnTo>
                    <a:lnTo>
                      <a:pt x="50" y="439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63" y="352"/>
                    </a:lnTo>
                    <a:lnTo>
                      <a:pt x="73" y="324"/>
                    </a:lnTo>
                    <a:lnTo>
                      <a:pt x="86" y="298"/>
                    </a:lnTo>
                    <a:lnTo>
                      <a:pt x="94" y="273"/>
                    </a:lnTo>
                    <a:lnTo>
                      <a:pt x="113" y="255"/>
                    </a:lnTo>
                    <a:lnTo>
                      <a:pt x="131" y="232"/>
                    </a:lnTo>
                    <a:lnTo>
                      <a:pt x="153" y="242"/>
                    </a:lnTo>
                    <a:lnTo>
                      <a:pt x="179" y="245"/>
                    </a:lnTo>
                    <a:lnTo>
                      <a:pt x="194" y="255"/>
                    </a:lnTo>
                    <a:lnTo>
                      <a:pt x="189" y="276"/>
                    </a:lnTo>
                    <a:lnTo>
                      <a:pt x="166" y="298"/>
                    </a:lnTo>
                    <a:lnTo>
                      <a:pt x="148" y="289"/>
                    </a:lnTo>
                    <a:lnTo>
                      <a:pt x="126" y="281"/>
                    </a:lnTo>
                    <a:lnTo>
                      <a:pt x="131" y="255"/>
                    </a:lnTo>
                    <a:lnTo>
                      <a:pt x="134" y="228"/>
                    </a:lnTo>
                    <a:lnTo>
                      <a:pt x="134" y="197"/>
                    </a:lnTo>
                    <a:lnTo>
                      <a:pt x="144" y="166"/>
                    </a:lnTo>
                    <a:lnTo>
                      <a:pt x="153" y="141"/>
                    </a:lnTo>
                    <a:lnTo>
                      <a:pt x="179" y="128"/>
                    </a:lnTo>
                    <a:lnTo>
                      <a:pt x="197" y="105"/>
                    </a:lnTo>
                    <a:lnTo>
                      <a:pt x="219" y="115"/>
                    </a:lnTo>
                    <a:lnTo>
                      <a:pt x="242" y="102"/>
                    </a:lnTo>
                    <a:lnTo>
                      <a:pt x="256" y="128"/>
                    </a:lnTo>
                    <a:lnTo>
                      <a:pt x="247" y="153"/>
                    </a:lnTo>
                    <a:lnTo>
                      <a:pt x="224" y="176"/>
                    </a:lnTo>
                    <a:lnTo>
                      <a:pt x="206" y="176"/>
                    </a:lnTo>
                    <a:lnTo>
                      <a:pt x="184" y="166"/>
                    </a:lnTo>
                    <a:lnTo>
                      <a:pt x="161" y="158"/>
                    </a:lnTo>
                    <a:lnTo>
                      <a:pt x="156" y="132"/>
                    </a:lnTo>
                    <a:lnTo>
                      <a:pt x="156" y="110"/>
                    </a:lnTo>
                    <a:lnTo>
                      <a:pt x="171" y="84"/>
                    </a:lnTo>
                    <a:lnTo>
                      <a:pt x="179" y="57"/>
                    </a:lnTo>
                    <a:lnTo>
                      <a:pt x="202" y="31"/>
                    </a:lnTo>
                    <a:lnTo>
                      <a:pt x="219" y="18"/>
                    </a:lnTo>
                    <a:lnTo>
                      <a:pt x="202" y="8"/>
                    </a:lnTo>
                    <a:lnTo>
                      <a:pt x="179" y="0"/>
                    </a:lnTo>
                    <a:lnTo>
                      <a:pt x="171" y="23"/>
                    </a:lnTo>
                    <a:lnTo>
                      <a:pt x="156" y="57"/>
                    </a:lnTo>
                    <a:lnTo>
                      <a:pt x="139" y="79"/>
                    </a:lnTo>
                    <a:lnTo>
                      <a:pt x="131" y="105"/>
                    </a:lnTo>
                    <a:lnTo>
                      <a:pt x="139" y="128"/>
                    </a:lnTo>
                    <a:lnTo>
                      <a:pt x="131" y="153"/>
                    </a:lnTo>
                    <a:lnTo>
                      <a:pt x="144" y="176"/>
                    </a:lnTo>
                    <a:lnTo>
                      <a:pt x="161" y="184"/>
                    </a:lnTo>
                    <a:lnTo>
                      <a:pt x="184" y="194"/>
                    </a:lnTo>
                    <a:lnTo>
                      <a:pt x="202" y="197"/>
                    </a:lnTo>
                    <a:lnTo>
                      <a:pt x="219" y="207"/>
                    </a:lnTo>
                    <a:lnTo>
                      <a:pt x="237" y="189"/>
                    </a:lnTo>
                    <a:lnTo>
                      <a:pt x="264" y="179"/>
                    </a:lnTo>
                    <a:lnTo>
                      <a:pt x="274" y="158"/>
                    </a:lnTo>
                    <a:lnTo>
                      <a:pt x="287" y="132"/>
                    </a:lnTo>
                    <a:lnTo>
                      <a:pt x="282" y="97"/>
                    </a:lnTo>
                    <a:lnTo>
                      <a:pt x="264" y="84"/>
                    </a:lnTo>
                    <a:lnTo>
                      <a:pt x="256" y="66"/>
                    </a:lnTo>
                    <a:lnTo>
                      <a:pt x="234" y="57"/>
                    </a:lnTo>
                    <a:lnTo>
                      <a:pt x="211" y="79"/>
                    </a:lnTo>
                    <a:lnTo>
                      <a:pt x="184" y="87"/>
                    </a:lnTo>
                    <a:lnTo>
                      <a:pt x="166" y="110"/>
                    </a:lnTo>
                    <a:lnTo>
                      <a:pt x="139" y="128"/>
                    </a:lnTo>
                    <a:lnTo>
                      <a:pt x="113" y="145"/>
                    </a:lnTo>
                    <a:lnTo>
                      <a:pt x="98" y="166"/>
                    </a:lnTo>
                    <a:lnTo>
                      <a:pt x="90" y="197"/>
                    </a:lnTo>
                    <a:lnTo>
                      <a:pt x="103" y="215"/>
                    </a:lnTo>
                    <a:lnTo>
                      <a:pt x="98" y="242"/>
                    </a:lnTo>
                    <a:lnTo>
                      <a:pt x="103" y="273"/>
                    </a:lnTo>
                    <a:lnTo>
                      <a:pt x="103" y="298"/>
                    </a:lnTo>
                    <a:lnTo>
                      <a:pt x="116" y="329"/>
                    </a:lnTo>
                    <a:lnTo>
                      <a:pt x="134" y="347"/>
                    </a:lnTo>
                    <a:lnTo>
                      <a:pt x="148" y="355"/>
                    </a:lnTo>
                    <a:lnTo>
                      <a:pt x="171" y="360"/>
                    </a:lnTo>
                    <a:lnTo>
                      <a:pt x="197" y="347"/>
                    </a:lnTo>
                    <a:lnTo>
                      <a:pt x="211" y="324"/>
                    </a:lnTo>
                    <a:lnTo>
                      <a:pt x="234" y="306"/>
                    </a:lnTo>
                    <a:lnTo>
                      <a:pt x="242" y="281"/>
                    </a:lnTo>
                    <a:lnTo>
                      <a:pt x="252" y="258"/>
                    </a:lnTo>
                    <a:lnTo>
                      <a:pt x="237" y="242"/>
                    </a:lnTo>
                    <a:lnTo>
                      <a:pt x="229" y="211"/>
                    </a:lnTo>
                    <a:lnTo>
                      <a:pt x="206" y="202"/>
                    </a:lnTo>
                    <a:lnTo>
                      <a:pt x="189" y="194"/>
                    </a:lnTo>
                    <a:lnTo>
                      <a:pt x="161" y="194"/>
                    </a:lnTo>
                    <a:lnTo>
                      <a:pt x="134" y="211"/>
                    </a:lnTo>
                    <a:lnTo>
                      <a:pt x="113" y="219"/>
                    </a:lnTo>
                    <a:lnTo>
                      <a:pt x="81" y="224"/>
                    </a:lnTo>
                    <a:lnTo>
                      <a:pt x="63" y="245"/>
                    </a:lnTo>
                    <a:lnTo>
                      <a:pt x="36" y="258"/>
                    </a:lnTo>
                    <a:lnTo>
                      <a:pt x="28" y="289"/>
                    </a:lnTo>
                    <a:lnTo>
                      <a:pt x="13" y="311"/>
                    </a:lnTo>
                    <a:lnTo>
                      <a:pt x="5" y="337"/>
                    </a:lnTo>
                    <a:lnTo>
                      <a:pt x="5" y="364"/>
                    </a:lnTo>
                    <a:lnTo>
                      <a:pt x="0" y="395"/>
                    </a:lnTo>
                    <a:lnTo>
                      <a:pt x="10" y="421"/>
                    </a:lnTo>
                    <a:lnTo>
                      <a:pt x="10" y="451"/>
                    </a:lnTo>
                    <a:lnTo>
                      <a:pt x="23" y="469"/>
                    </a:lnTo>
                    <a:lnTo>
                      <a:pt x="36" y="487"/>
                    </a:lnTo>
                    <a:lnTo>
                      <a:pt x="58" y="495"/>
                    </a:lnTo>
                    <a:lnTo>
                      <a:pt x="76" y="505"/>
                    </a:lnTo>
                    <a:lnTo>
                      <a:pt x="94" y="522"/>
                    </a:lnTo>
                    <a:lnTo>
                      <a:pt x="113" y="530"/>
                    </a:lnTo>
                    <a:lnTo>
                      <a:pt x="144" y="47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6" name=""/>
            <p:cNvGrpSpPr/>
            <p:nvPr/>
          </p:nvGrpSpPr>
          <p:grpSpPr>
            <a:xfrm>
              <a:off x="5612040" y="2628720"/>
              <a:ext cx="2466720" cy="3438720"/>
              <a:chOff x="5612040" y="2628720"/>
              <a:chExt cx="2466720" cy="3438720"/>
            </a:xfrm>
          </p:grpSpPr>
          <p:sp>
            <p:nvSpPr>
              <p:cNvPr id="3537" name=""/>
              <p:cNvSpPr/>
              <p:nvPr/>
            </p:nvSpPr>
            <p:spPr>
              <a:xfrm>
                <a:off x="6794640" y="3564000"/>
                <a:ext cx="714240" cy="1145880"/>
              </a:xfrm>
              <a:custGeom>
                <a:avLst/>
                <a:gdLst/>
                <a:ahLst/>
                <a:rect l="l" t="t" r="r" b="b"/>
                <a:pathLst>
                  <a:path w="450" h="722">
                    <a:moveTo>
                      <a:pt x="142" y="174"/>
                    </a:moveTo>
                    <a:lnTo>
                      <a:pt x="142" y="70"/>
                    </a:lnTo>
                    <a:lnTo>
                      <a:pt x="150" y="26"/>
                    </a:lnTo>
                    <a:lnTo>
                      <a:pt x="203" y="0"/>
                    </a:lnTo>
                    <a:lnTo>
                      <a:pt x="308" y="18"/>
                    </a:lnTo>
                    <a:lnTo>
                      <a:pt x="388" y="79"/>
                    </a:lnTo>
                    <a:lnTo>
                      <a:pt x="432" y="192"/>
                    </a:lnTo>
                    <a:lnTo>
                      <a:pt x="450" y="331"/>
                    </a:lnTo>
                    <a:lnTo>
                      <a:pt x="424" y="479"/>
                    </a:lnTo>
                    <a:lnTo>
                      <a:pt x="397" y="592"/>
                    </a:lnTo>
                    <a:lnTo>
                      <a:pt x="308" y="661"/>
                    </a:lnTo>
                    <a:lnTo>
                      <a:pt x="229" y="696"/>
                    </a:lnTo>
                    <a:lnTo>
                      <a:pt x="114" y="722"/>
                    </a:lnTo>
                    <a:lnTo>
                      <a:pt x="35" y="704"/>
                    </a:lnTo>
                    <a:lnTo>
                      <a:pt x="8" y="661"/>
                    </a:lnTo>
                    <a:lnTo>
                      <a:pt x="0" y="600"/>
                    </a:lnTo>
                    <a:lnTo>
                      <a:pt x="18" y="505"/>
                    </a:lnTo>
                    <a:lnTo>
                      <a:pt x="79" y="453"/>
                    </a:lnTo>
                    <a:lnTo>
                      <a:pt x="132" y="410"/>
                    </a:lnTo>
                    <a:lnTo>
                      <a:pt x="158" y="366"/>
                    </a:lnTo>
                    <a:lnTo>
                      <a:pt x="158" y="313"/>
                    </a:lnTo>
                    <a:lnTo>
                      <a:pt x="142" y="1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270920" y="3646440"/>
                <a:ext cx="807840" cy="1158840"/>
              </a:xfrm>
              <a:custGeom>
                <a:avLst/>
                <a:gdLst/>
                <a:ahLst/>
                <a:rect l="l" t="t" r="r" b="b"/>
                <a:pathLst>
                  <a:path w="509" h="730">
                    <a:moveTo>
                      <a:pt x="18" y="0"/>
                    </a:moveTo>
                    <a:lnTo>
                      <a:pt x="0" y="43"/>
                    </a:lnTo>
                    <a:lnTo>
                      <a:pt x="8" y="113"/>
                    </a:lnTo>
                    <a:lnTo>
                      <a:pt x="114" y="148"/>
                    </a:lnTo>
                    <a:lnTo>
                      <a:pt x="255" y="208"/>
                    </a:lnTo>
                    <a:lnTo>
                      <a:pt x="351" y="287"/>
                    </a:lnTo>
                    <a:lnTo>
                      <a:pt x="413" y="356"/>
                    </a:lnTo>
                    <a:lnTo>
                      <a:pt x="413" y="391"/>
                    </a:lnTo>
                    <a:lnTo>
                      <a:pt x="359" y="469"/>
                    </a:lnTo>
                    <a:lnTo>
                      <a:pt x="280" y="522"/>
                    </a:lnTo>
                    <a:lnTo>
                      <a:pt x="211" y="565"/>
                    </a:lnTo>
                    <a:lnTo>
                      <a:pt x="184" y="617"/>
                    </a:lnTo>
                    <a:lnTo>
                      <a:pt x="193" y="660"/>
                    </a:lnTo>
                    <a:lnTo>
                      <a:pt x="193" y="704"/>
                    </a:lnTo>
                    <a:lnTo>
                      <a:pt x="255" y="730"/>
                    </a:lnTo>
                    <a:lnTo>
                      <a:pt x="316" y="722"/>
                    </a:lnTo>
                    <a:lnTo>
                      <a:pt x="359" y="694"/>
                    </a:lnTo>
                    <a:lnTo>
                      <a:pt x="351" y="643"/>
                    </a:lnTo>
                    <a:lnTo>
                      <a:pt x="308" y="617"/>
                    </a:lnTo>
                    <a:lnTo>
                      <a:pt x="308" y="581"/>
                    </a:lnTo>
                    <a:lnTo>
                      <a:pt x="334" y="530"/>
                    </a:lnTo>
                    <a:lnTo>
                      <a:pt x="413" y="478"/>
                    </a:lnTo>
                    <a:lnTo>
                      <a:pt x="483" y="407"/>
                    </a:lnTo>
                    <a:lnTo>
                      <a:pt x="509" y="366"/>
                    </a:lnTo>
                    <a:lnTo>
                      <a:pt x="483" y="312"/>
                    </a:lnTo>
                    <a:lnTo>
                      <a:pt x="404" y="269"/>
                    </a:lnTo>
                    <a:lnTo>
                      <a:pt x="308" y="192"/>
                    </a:lnTo>
                    <a:lnTo>
                      <a:pt x="219" y="122"/>
                    </a:lnTo>
                    <a:lnTo>
                      <a:pt x="150" y="69"/>
                    </a:lnTo>
                    <a:lnTo>
                      <a:pt x="97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113520" y="2628720"/>
                <a:ext cx="1066680" cy="1131840"/>
              </a:xfrm>
              <a:custGeom>
                <a:avLst/>
                <a:gdLst/>
                <a:ahLst/>
                <a:rect l="l" t="t" r="r" b="b"/>
                <a:pathLst>
                  <a:path w="672" h="713">
                    <a:moveTo>
                      <a:pt x="516" y="583"/>
                    </a:moveTo>
                    <a:lnTo>
                      <a:pt x="655" y="601"/>
                    </a:lnTo>
                    <a:lnTo>
                      <a:pt x="672" y="662"/>
                    </a:lnTo>
                    <a:lnTo>
                      <a:pt x="637" y="713"/>
                    </a:lnTo>
                    <a:lnTo>
                      <a:pt x="532" y="696"/>
                    </a:lnTo>
                    <a:lnTo>
                      <a:pt x="384" y="662"/>
                    </a:lnTo>
                    <a:lnTo>
                      <a:pt x="245" y="644"/>
                    </a:lnTo>
                    <a:lnTo>
                      <a:pt x="140" y="644"/>
                    </a:lnTo>
                    <a:lnTo>
                      <a:pt x="123" y="609"/>
                    </a:lnTo>
                    <a:lnTo>
                      <a:pt x="87" y="435"/>
                    </a:lnTo>
                    <a:lnTo>
                      <a:pt x="61" y="269"/>
                    </a:lnTo>
                    <a:lnTo>
                      <a:pt x="69" y="191"/>
                    </a:lnTo>
                    <a:lnTo>
                      <a:pt x="8" y="148"/>
                    </a:lnTo>
                    <a:lnTo>
                      <a:pt x="0" y="87"/>
                    </a:lnTo>
                    <a:lnTo>
                      <a:pt x="79" y="0"/>
                    </a:lnTo>
                    <a:lnTo>
                      <a:pt x="157" y="8"/>
                    </a:lnTo>
                    <a:lnTo>
                      <a:pt x="202" y="61"/>
                    </a:lnTo>
                    <a:lnTo>
                      <a:pt x="192" y="104"/>
                    </a:lnTo>
                    <a:lnTo>
                      <a:pt x="148" y="112"/>
                    </a:lnTo>
                    <a:lnTo>
                      <a:pt x="131" y="138"/>
                    </a:lnTo>
                    <a:lnTo>
                      <a:pt x="140" y="191"/>
                    </a:lnTo>
                    <a:lnTo>
                      <a:pt x="123" y="278"/>
                    </a:lnTo>
                    <a:lnTo>
                      <a:pt x="148" y="383"/>
                    </a:lnTo>
                    <a:lnTo>
                      <a:pt x="166" y="504"/>
                    </a:lnTo>
                    <a:lnTo>
                      <a:pt x="210" y="591"/>
                    </a:lnTo>
                    <a:lnTo>
                      <a:pt x="306" y="583"/>
                    </a:lnTo>
                    <a:lnTo>
                      <a:pt x="437" y="583"/>
                    </a:lnTo>
                    <a:lnTo>
                      <a:pt x="516" y="5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612040" y="3984480"/>
                <a:ext cx="1392120" cy="700200"/>
              </a:xfrm>
              <a:custGeom>
                <a:avLst/>
                <a:gdLst/>
                <a:ahLst/>
                <a:rect l="l" t="t" r="r" b="b"/>
                <a:pathLst>
                  <a:path w="877" h="441">
                    <a:moveTo>
                      <a:pt x="842" y="299"/>
                    </a:moveTo>
                    <a:lnTo>
                      <a:pt x="877" y="352"/>
                    </a:lnTo>
                    <a:lnTo>
                      <a:pt x="851" y="415"/>
                    </a:lnTo>
                    <a:lnTo>
                      <a:pt x="782" y="441"/>
                    </a:lnTo>
                    <a:lnTo>
                      <a:pt x="677" y="388"/>
                    </a:lnTo>
                    <a:lnTo>
                      <a:pt x="600" y="309"/>
                    </a:lnTo>
                    <a:lnTo>
                      <a:pt x="564" y="238"/>
                    </a:lnTo>
                    <a:lnTo>
                      <a:pt x="521" y="141"/>
                    </a:lnTo>
                    <a:lnTo>
                      <a:pt x="495" y="124"/>
                    </a:lnTo>
                    <a:lnTo>
                      <a:pt x="444" y="159"/>
                    </a:lnTo>
                    <a:lnTo>
                      <a:pt x="356" y="238"/>
                    </a:lnTo>
                    <a:lnTo>
                      <a:pt x="269" y="309"/>
                    </a:lnTo>
                    <a:lnTo>
                      <a:pt x="174" y="352"/>
                    </a:lnTo>
                    <a:lnTo>
                      <a:pt x="165" y="388"/>
                    </a:lnTo>
                    <a:lnTo>
                      <a:pt x="121" y="405"/>
                    </a:lnTo>
                    <a:lnTo>
                      <a:pt x="52" y="352"/>
                    </a:lnTo>
                    <a:lnTo>
                      <a:pt x="18" y="273"/>
                    </a:lnTo>
                    <a:lnTo>
                      <a:pt x="0" y="132"/>
                    </a:lnTo>
                    <a:lnTo>
                      <a:pt x="8" y="61"/>
                    </a:lnTo>
                    <a:lnTo>
                      <a:pt x="87" y="17"/>
                    </a:lnTo>
                    <a:lnTo>
                      <a:pt x="113" y="8"/>
                    </a:lnTo>
                    <a:lnTo>
                      <a:pt x="139" y="43"/>
                    </a:lnTo>
                    <a:lnTo>
                      <a:pt x="105" y="106"/>
                    </a:lnTo>
                    <a:lnTo>
                      <a:pt x="95" y="194"/>
                    </a:lnTo>
                    <a:lnTo>
                      <a:pt x="113" y="281"/>
                    </a:lnTo>
                    <a:lnTo>
                      <a:pt x="149" y="309"/>
                    </a:lnTo>
                    <a:lnTo>
                      <a:pt x="218" y="264"/>
                    </a:lnTo>
                    <a:lnTo>
                      <a:pt x="313" y="194"/>
                    </a:lnTo>
                    <a:lnTo>
                      <a:pt x="390" y="114"/>
                    </a:lnTo>
                    <a:lnTo>
                      <a:pt x="469" y="25"/>
                    </a:lnTo>
                    <a:lnTo>
                      <a:pt x="521" y="0"/>
                    </a:lnTo>
                    <a:lnTo>
                      <a:pt x="556" y="8"/>
                    </a:lnTo>
                    <a:lnTo>
                      <a:pt x="572" y="61"/>
                    </a:lnTo>
                    <a:lnTo>
                      <a:pt x="626" y="159"/>
                    </a:lnTo>
                    <a:lnTo>
                      <a:pt x="660" y="228"/>
                    </a:lnTo>
                    <a:lnTo>
                      <a:pt x="747" y="273"/>
                    </a:lnTo>
                    <a:lnTo>
                      <a:pt x="842" y="2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359760" y="4529160"/>
                <a:ext cx="768240" cy="1538280"/>
              </a:xfrm>
              <a:custGeom>
                <a:avLst/>
                <a:gdLst/>
                <a:ahLst/>
                <a:rect l="l" t="t" r="r" b="b"/>
                <a:pathLst>
                  <a:path w="484" h="969">
                    <a:moveTo>
                      <a:pt x="334" y="0"/>
                    </a:moveTo>
                    <a:lnTo>
                      <a:pt x="395" y="0"/>
                    </a:lnTo>
                    <a:lnTo>
                      <a:pt x="475" y="25"/>
                    </a:lnTo>
                    <a:lnTo>
                      <a:pt x="458" y="69"/>
                    </a:lnTo>
                    <a:lnTo>
                      <a:pt x="369" y="146"/>
                    </a:lnTo>
                    <a:lnTo>
                      <a:pt x="272" y="233"/>
                    </a:lnTo>
                    <a:lnTo>
                      <a:pt x="150" y="328"/>
                    </a:lnTo>
                    <a:lnTo>
                      <a:pt x="105" y="372"/>
                    </a:lnTo>
                    <a:lnTo>
                      <a:pt x="122" y="433"/>
                    </a:lnTo>
                    <a:lnTo>
                      <a:pt x="229" y="562"/>
                    </a:lnTo>
                    <a:lnTo>
                      <a:pt x="334" y="728"/>
                    </a:lnTo>
                    <a:lnTo>
                      <a:pt x="430" y="849"/>
                    </a:lnTo>
                    <a:lnTo>
                      <a:pt x="484" y="900"/>
                    </a:lnTo>
                    <a:lnTo>
                      <a:pt x="466" y="944"/>
                    </a:lnTo>
                    <a:lnTo>
                      <a:pt x="405" y="944"/>
                    </a:lnTo>
                    <a:lnTo>
                      <a:pt x="298" y="969"/>
                    </a:lnTo>
                    <a:lnTo>
                      <a:pt x="185" y="952"/>
                    </a:lnTo>
                    <a:lnTo>
                      <a:pt x="158" y="908"/>
                    </a:lnTo>
                    <a:lnTo>
                      <a:pt x="229" y="892"/>
                    </a:lnTo>
                    <a:lnTo>
                      <a:pt x="326" y="900"/>
                    </a:lnTo>
                    <a:lnTo>
                      <a:pt x="369" y="900"/>
                    </a:lnTo>
                    <a:lnTo>
                      <a:pt x="369" y="839"/>
                    </a:lnTo>
                    <a:lnTo>
                      <a:pt x="308" y="762"/>
                    </a:lnTo>
                    <a:lnTo>
                      <a:pt x="237" y="675"/>
                    </a:lnTo>
                    <a:lnTo>
                      <a:pt x="168" y="572"/>
                    </a:lnTo>
                    <a:lnTo>
                      <a:pt x="61" y="451"/>
                    </a:lnTo>
                    <a:lnTo>
                      <a:pt x="0" y="354"/>
                    </a:lnTo>
                    <a:lnTo>
                      <a:pt x="18" y="328"/>
                    </a:lnTo>
                    <a:lnTo>
                      <a:pt x="71" y="277"/>
                    </a:lnTo>
                    <a:lnTo>
                      <a:pt x="185" y="156"/>
                    </a:lnTo>
                    <a:lnTo>
                      <a:pt x="255" y="8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659640" y="2805120"/>
                <a:ext cx="725400" cy="750960"/>
              </a:xfrm>
              <a:custGeom>
                <a:avLst/>
                <a:gdLst/>
                <a:ahLst/>
                <a:rect l="l" t="t" r="r" b="b"/>
                <a:pathLst>
                  <a:path w="457" h="473">
                    <a:moveTo>
                      <a:pt x="149" y="122"/>
                    </a:moveTo>
                    <a:lnTo>
                      <a:pt x="203" y="35"/>
                    </a:lnTo>
                    <a:lnTo>
                      <a:pt x="264" y="8"/>
                    </a:lnTo>
                    <a:lnTo>
                      <a:pt x="307" y="0"/>
                    </a:lnTo>
                    <a:lnTo>
                      <a:pt x="361" y="18"/>
                    </a:lnTo>
                    <a:lnTo>
                      <a:pt x="414" y="61"/>
                    </a:lnTo>
                    <a:lnTo>
                      <a:pt x="432" y="114"/>
                    </a:lnTo>
                    <a:lnTo>
                      <a:pt x="457" y="201"/>
                    </a:lnTo>
                    <a:lnTo>
                      <a:pt x="449" y="298"/>
                    </a:lnTo>
                    <a:lnTo>
                      <a:pt x="440" y="377"/>
                    </a:lnTo>
                    <a:lnTo>
                      <a:pt x="404" y="430"/>
                    </a:lnTo>
                    <a:lnTo>
                      <a:pt x="361" y="473"/>
                    </a:lnTo>
                    <a:lnTo>
                      <a:pt x="299" y="465"/>
                    </a:lnTo>
                    <a:lnTo>
                      <a:pt x="237" y="448"/>
                    </a:lnTo>
                    <a:lnTo>
                      <a:pt x="175" y="403"/>
                    </a:lnTo>
                    <a:lnTo>
                      <a:pt x="140" y="351"/>
                    </a:lnTo>
                    <a:lnTo>
                      <a:pt x="122" y="262"/>
                    </a:lnTo>
                    <a:lnTo>
                      <a:pt x="122" y="184"/>
                    </a:lnTo>
                    <a:lnTo>
                      <a:pt x="61" y="132"/>
                    </a:lnTo>
                    <a:lnTo>
                      <a:pt x="25" y="114"/>
                    </a:lnTo>
                    <a:lnTo>
                      <a:pt x="0" y="87"/>
                    </a:lnTo>
                    <a:lnTo>
                      <a:pt x="8" y="53"/>
                    </a:lnTo>
                    <a:lnTo>
                      <a:pt x="35" y="43"/>
                    </a:lnTo>
                    <a:lnTo>
                      <a:pt x="61" y="71"/>
                    </a:lnTo>
                    <a:lnTo>
                      <a:pt x="88" y="105"/>
                    </a:lnTo>
                    <a:lnTo>
                      <a:pt x="149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4402080" y="4081320"/>
              <a:ext cx="524160" cy="941400"/>
            </a:xfrm>
            <a:custGeom>
              <a:avLst/>
              <a:gdLst/>
              <a:ahLst/>
              <a:rect l="l" t="t" r="r" b="b"/>
              <a:pathLst>
                <a:path w="330" h="593">
                  <a:moveTo>
                    <a:pt x="330" y="593"/>
                  </a:moveTo>
                  <a:lnTo>
                    <a:pt x="204" y="506"/>
                  </a:lnTo>
                  <a:lnTo>
                    <a:pt x="116" y="401"/>
                  </a:lnTo>
                  <a:lnTo>
                    <a:pt x="63" y="296"/>
                  </a:lnTo>
                  <a:lnTo>
                    <a:pt x="9" y="140"/>
                  </a:lnTo>
                  <a:lnTo>
                    <a:pt x="0" y="35"/>
                  </a:lnTo>
                  <a:lnTo>
                    <a:pt x="27" y="0"/>
                  </a:lnTo>
                  <a:lnTo>
                    <a:pt x="53" y="0"/>
                  </a:lnTo>
                  <a:lnTo>
                    <a:pt x="53" y="51"/>
                  </a:lnTo>
                  <a:lnTo>
                    <a:pt x="53" y="130"/>
                  </a:lnTo>
                  <a:lnTo>
                    <a:pt x="88" y="270"/>
                  </a:lnTo>
                  <a:lnTo>
                    <a:pt x="134" y="375"/>
                  </a:lnTo>
                  <a:lnTo>
                    <a:pt x="214" y="462"/>
                  </a:lnTo>
                  <a:lnTo>
                    <a:pt x="330" y="59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878360" y="4168800"/>
              <a:ext cx="414360" cy="663480"/>
            </a:xfrm>
            <a:custGeom>
              <a:avLst/>
              <a:gdLst/>
              <a:ahLst/>
              <a:rect l="l" t="t" r="r" b="b"/>
              <a:pathLst>
                <a:path w="261" h="418">
                  <a:moveTo>
                    <a:pt x="261" y="418"/>
                  </a:moveTo>
                  <a:lnTo>
                    <a:pt x="183" y="368"/>
                  </a:lnTo>
                  <a:lnTo>
                    <a:pt x="124" y="301"/>
                  </a:lnTo>
                  <a:lnTo>
                    <a:pt x="74" y="228"/>
                  </a:lnTo>
                  <a:lnTo>
                    <a:pt x="21" y="117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7" y="0"/>
                  </a:lnTo>
                  <a:lnTo>
                    <a:pt x="29" y="41"/>
                  </a:lnTo>
                  <a:lnTo>
                    <a:pt x="41" y="103"/>
                  </a:lnTo>
                  <a:lnTo>
                    <a:pt x="85" y="201"/>
                  </a:lnTo>
                  <a:lnTo>
                    <a:pt x="124" y="278"/>
                  </a:lnTo>
                  <a:lnTo>
                    <a:pt x="180" y="335"/>
                  </a:lnTo>
                  <a:lnTo>
                    <a:pt x="261" y="4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35880" y="4635360"/>
              <a:ext cx="385560" cy="238320"/>
            </a:xfrm>
            <a:custGeom>
              <a:avLst/>
              <a:gdLst/>
              <a:ahLst/>
              <a:rect l="l" t="t" r="r" b="b"/>
              <a:pathLst>
                <a:path w="243" h="150">
                  <a:moveTo>
                    <a:pt x="243" y="0"/>
                  </a:moveTo>
                  <a:lnTo>
                    <a:pt x="143" y="76"/>
                  </a:lnTo>
                  <a:lnTo>
                    <a:pt x="62" y="113"/>
                  </a:lnTo>
                  <a:lnTo>
                    <a:pt x="0" y="84"/>
                  </a:lnTo>
                  <a:lnTo>
                    <a:pt x="0" y="131"/>
                  </a:lnTo>
                  <a:lnTo>
                    <a:pt x="54" y="150"/>
                  </a:lnTo>
                  <a:lnTo>
                    <a:pt x="117" y="14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8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3549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"/>
          <p:cNvSpPr/>
          <p:nvPr/>
        </p:nvSpPr>
        <p:spPr>
          <a:xfrm>
            <a:off x="0" y="50832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3" name=""/>
          <p:cNvGrpSpPr/>
          <p:nvPr/>
        </p:nvGrpSpPr>
        <p:grpSpPr>
          <a:xfrm>
            <a:off x="3713040" y="1724040"/>
            <a:ext cx="2098800" cy="3313080"/>
            <a:chOff x="3713040" y="1724040"/>
            <a:chExt cx="2098800" cy="3313080"/>
          </a:xfrm>
        </p:grpSpPr>
        <p:sp>
          <p:nvSpPr>
            <p:cNvPr id="3554" name=""/>
            <p:cNvSpPr/>
            <p:nvPr/>
          </p:nvSpPr>
          <p:spPr>
            <a:xfrm>
              <a:off x="4356000" y="2651040"/>
              <a:ext cx="569880" cy="1260720"/>
            </a:xfrm>
            <a:custGeom>
              <a:avLst/>
              <a:gdLst/>
              <a:ahLst/>
              <a:rect l="l" t="t" r="r" b="b"/>
              <a:pathLst>
                <a:path w="359" h="794">
                  <a:moveTo>
                    <a:pt x="84" y="64"/>
                  </a:moveTo>
                  <a:lnTo>
                    <a:pt x="123" y="18"/>
                  </a:lnTo>
                  <a:lnTo>
                    <a:pt x="197" y="0"/>
                  </a:lnTo>
                  <a:lnTo>
                    <a:pt x="260" y="18"/>
                  </a:lnTo>
                  <a:lnTo>
                    <a:pt x="295" y="43"/>
                  </a:lnTo>
                  <a:lnTo>
                    <a:pt x="323" y="95"/>
                  </a:lnTo>
                  <a:lnTo>
                    <a:pt x="348" y="187"/>
                  </a:lnTo>
                  <a:lnTo>
                    <a:pt x="359" y="286"/>
                  </a:lnTo>
                  <a:lnTo>
                    <a:pt x="359" y="465"/>
                  </a:lnTo>
                  <a:lnTo>
                    <a:pt x="323" y="622"/>
                  </a:lnTo>
                  <a:lnTo>
                    <a:pt x="271" y="710"/>
                  </a:lnTo>
                  <a:lnTo>
                    <a:pt x="218" y="759"/>
                  </a:lnTo>
                  <a:lnTo>
                    <a:pt x="158" y="794"/>
                  </a:lnTo>
                  <a:lnTo>
                    <a:pt x="73" y="791"/>
                  </a:lnTo>
                  <a:lnTo>
                    <a:pt x="7" y="738"/>
                  </a:lnTo>
                  <a:lnTo>
                    <a:pt x="0" y="674"/>
                  </a:lnTo>
                  <a:lnTo>
                    <a:pt x="31" y="579"/>
                  </a:lnTo>
                  <a:lnTo>
                    <a:pt x="59" y="473"/>
                  </a:lnTo>
                  <a:lnTo>
                    <a:pt x="70" y="335"/>
                  </a:lnTo>
                  <a:lnTo>
                    <a:pt x="52" y="219"/>
                  </a:lnTo>
                  <a:lnTo>
                    <a:pt x="52" y="134"/>
                  </a:lnTo>
                  <a:lnTo>
                    <a:pt x="8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572000" y="3772080"/>
              <a:ext cx="654120" cy="1247760"/>
            </a:xfrm>
            <a:custGeom>
              <a:avLst/>
              <a:gdLst/>
              <a:ahLst/>
              <a:rect l="l" t="t" r="r" b="b"/>
              <a:pathLst>
                <a:path w="412" h="786">
                  <a:moveTo>
                    <a:pt x="137" y="32"/>
                  </a:moveTo>
                  <a:lnTo>
                    <a:pt x="88" y="0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0" y="106"/>
                  </a:lnTo>
                  <a:lnTo>
                    <a:pt x="67" y="169"/>
                  </a:lnTo>
                  <a:lnTo>
                    <a:pt x="183" y="226"/>
                  </a:lnTo>
                  <a:lnTo>
                    <a:pt x="317" y="349"/>
                  </a:lnTo>
                  <a:lnTo>
                    <a:pt x="338" y="402"/>
                  </a:lnTo>
                  <a:lnTo>
                    <a:pt x="327" y="426"/>
                  </a:lnTo>
                  <a:lnTo>
                    <a:pt x="225" y="508"/>
                  </a:lnTo>
                  <a:lnTo>
                    <a:pt x="105" y="603"/>
                  </a:lnTo>
                  <a:lnTo>
                    <a:pt x="77" y="645"/>
                  </a:lnTo>
                  <a:lnTo>
                    <a:pt x="77" y="688"/>
                  </a:lnTo>
                  <a:lnTo>
                    <a:pt x="169" y="733"/>
                  </a:lnTo>
                  <a:lnTo>
                    <a:pt x="310" y="786"/>
                  </a:lnTo>
                  <a:lnTo>
                    <a:pt x="359" y="786"/>
                  </a:lnTo>
                  <a:lnTo>
                    <a:pt x="412" y="751"/>
                  </a:lnTo>
                  <a:lnTo>
                    <a:pt x="412" y="723"/>
                  </a:lnTo>
                  <a:lnTo>
                    <a:pt x="373" y="709"/>
                  </a:lnTo>
                  <a:lnTo>
                    <a:pt x="193" y="688"/>
                  </a:lnTo>
                  <a:lnTo>
                    <a:pt x="127" y="670"/>
                  </a:lnTo>
                  <a:lnTo>
                    <a:pt x="119" y="638"/>
                  </a:lnTo>
                  <a:lnTo>
                    <a:pt x="236" y="550"/>
                  </a:lnTo>
                  <a:lnTo>
                    <a:pt x="362" y="465"/>
                  </a:lnTo>
                  <a:lnTo>
                    <a:pt x="391" y="433"/>
                  </a:lnTo>
                  <a:lnTo>
                    <a:pt x="401" y="391"/>
                  </a:lnTo>
                  <a:lnTo>
                    <a:pt x="391" y="331"/>
                  </a:lnTo>
                  <a:lnTo>
                    <a:pt x="352" y="285"/>
                  </a:lnTo>
                  <a:lnTo>
                    <a:pt x="225" y="131"/>
                  </a:lnTo>
                  <a:lnTo>
                    <a:pt x="13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713040" y="3710160"/>
              <a:ext cx="812880" cy="1326960"/>
            </a:xfrm>
            <a:custGeom>
              <a:avLst/>
              <a:gdLst/>
              <a:ahLst/>
              <a:rect l="l" t="t" r="r" b="b"/>
              <a:pathLst>
                <a:path w="512" h="836">
                  <a:moveTo>
                    <a:pt x="279" y="113"/>
                  </a:moveTo>
                  <a:lnTo>
                    <a:pt x="361" y="43"/>
                  </a:lnTo>
                  <a:lnTo>
                    <a:pt x="438" y="0"/>
                  </a:lnTo>
                  <a:lnTo>
                    <a:pt x="488" y="7"/>
                  </a:lnTo>
                  <a:lnTo>
                    <a:pt x="512" y="43"/>
                  </a:lnTo>
                  <a:lnTo>
                    <a:pt x="512" y="81"/>
                  </a:lnTo>
                  <a:lnTo>
                    <a:pt x="498" y="124"/>
                  </a:lnTo>
                  <a:lnTo>
                    <a:pt x="445" y="148"/>
                  </a:lnTo>
                  <a:lnTo>
                    <a:pt x="340" y="208"/>
                  </a:lnTo>
                  <a:lnTo>
                    <a:pt x="275" y="282"/>
                  </a:lnTo>
                  <a:lnTo>
                    <a:pt x="233" y="370"/>
                  </a:lnTo>
                  <a:lnTo>
                    <a:pt x="222" y="423"/>
                  </a:lnTo>
                  <a:lnTo>
                    <a:pt x="279" y="486"/>
                  </a:lnTo>
                  <a:lnTo>
                    <a:pt x="340" y="579"/>
                  </a:lnTo>
                  <a:lnTo>
                    <a:pt x="382" y="664"/>
                  </a:lnTo>
                  <a:lnTo>
                    <a:pt x="392" y="716"/>
                  </a:lnTo>
                  <a:lnTo>
                    <a:pt x="392" y="748"/>
                  </a:lnTo>
                  <a:lnTo>
                    <a:pt x="364" y="769"/>
                  </a:lnTo>
                  <a:lnTo>
                    <a:pt x="275" y="773"/>
                  </a:lnTo>
                  <a:lnTo>
                    <a:pt x="141" y="805"/>
                  </a:lnTo>
                  <a:lnTo>
                    <a:pt x="117" y="833"/>
                  </a:lnTo>
                  <a:lnTo>
                    <a:pt x="95" y="836"/>
                  </a:lnTo>
                  <a:lnTo>
                    <a:pt x="0" y="805"/>
                  </a:lnTo>
                  <a:lnTo>
                    <a:pt x="0" y="773"/>
                  </a:lnTo>
                  <a:lnTo>
                    <a:pt x="43" y="748"/>
                  </a:lnTo>
                  <a:lnTo>
                    <a:pt x="212" y="716"/>
                  </a:lnTo>
                  <a:lnTo>
                    <a:pt x="300" y="727"/>
                  </a:lnTo>
                  <a:lnTo>
                    <a:pt x="343" y="727"/>
                  </a:lnTo>
                  <a:lnTo>
                    <a:pt x="354" y="709"/>
                  </a:lnTo>
                  <a:lnTo>
                    <a:pt x="317" y="632"/>
                  </a:lnTo>
                  <a:lnTo>
                    <a:pt x="243" y="530"/>
                  </a:lnTo>
                  <a:lnTo>
                    <a:pt x="191" y="455"/>
                  </a:lnTo>
                  <a:lnTo>
                    <a:pt x="169" y="412"/>
                  </a:lnTo>
                  <a:lnTo>
                    <a:pt x="169" y="349"/>
                  </a:lnTo>
                  <a:lnTo>
                    <a:pt x="205" y="243"/>
                  </a:lnTo>
                  <a:lnTo>
                    <a:pt x="236" y="176"/>
                  </a:lnTo>
                  <a:lnTo>
                    <a:pt x="279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807000" y="2422440"/>
              <a:ext cx="717480" cy="1233720"/>
            </a:xfrm>
            <a:custGeom>
              <a:avLst/>
              <a:gdLst/>
              <a:ahLst/>
              <a:rect l="l" t="t" r="r" b="b"/>
              <a:pathLst>
                <a:path w="452" h="777">
                  <a:moveTo>
                    <a:pt x="56" y="22"/>
                  </a:moveTo>
                  <a:lnTo>
                    <a:pt x="88" y="0"/>
                  </a:lnTo>
                  <a:lnTo>
                    <a:pt x="112" y="22"/>
                  </a:lnTo>
                  <a:lnTo>
                    <a:pt x="172" y="121"/>
                  </a:lnTo>
                  <a:lnTo>
                    <a:pt x="279" y="206"/>
                  </a:lnTo>
                  <a:lnTo>
                    <a:pt x="353" y="223"/>
                  </a:lnTo>
                  <a:lnTo>
                    <a:pt x="437" y="234"/>
                  </a:lnTo>
                  <a:lnTo>
                    <a:pt x="452" y="280"/>
                  </a:lnTo>
                  <a:lnTo>
                    <a:pt x="430" y="329"/>
                  </a:lnTo>
                  <a:lnTo>
                    <a:pt x="378" y="343"/>
                  </a:lnTo>
                  <a:lnTo>
                    <a:pt x="304" y="322"/>
                  </a:lnTo>
                  <a:lnTo>
                    <a:pt x="197" y="227"/>
                  </a:lnTo>
                  <a:lnTo>
                    <a:pt x="130" y="142"/>
                  </a:lnTo>
                  <a:lnTo>
                    <a:pt x="91" y="100"/>
                  </a:lnTo>
                  <a:lnTo>
                    <a:pt x="66" y="149"/>
                  </a:lnTo>
                  <a:lnTo>
                    <a:pt x="70" y="269"/>
                  </a:lnTo>
                  <a:lnTo>
                    <a:pt x="98" y="417"/>
                  </a:lnTo>
                  <a:lnTo>
                    <a:pt x="130" y="466"/>
                  </a:lnTo>
                  <a:lnTo>
                    <a:pt x="176" y="509"/>
                  </a:lnTo>
                  <a:lnTo>
                    <a:pt x="204" y="544"/>
                  </a:lnTo>
                  <a:lnTo>
                    <a:pt x="126" y="614"/>
                  </a:lnTo>
                  <a:lnTo>
                    <a:pt x="56" y="699"/>
                  </a:lnTo>
                  <a:lnTo>
                    <a:pt x="42" y="777"/>
                  </a:lnTo>
                  <a:lnTo>
                    <a:pt x="10" y="774"/>
                  </a:lnTo>
                  <a:lnTo>
                    <a:pt x="0" y="671"/>
                  </a:lnTo>
                  <a:lnTo>
                    <a:pt x="59" y="607"/>
                  </a:lnTo>
                  <a:lnTo>
                    <a:pt x="123" y="540"/>
                  </a:lnTo>
                  <a:lnTo>
                    <a:pt x="91" y="470"/>
                  </a:lnTo>
                  <a:lnTo>
                    <a:pt x="59" y="385"/>
                  </a:lnTo>
                  <a:lnTo>
                    <a:pt x="38" y="276"/>
                  </a:lnTo>
                  <a:lnTo>
                    <a:pt x="24" y="164"/>
                  </a:lnTo>
                  <a:lnTo>
                    <a:pt x="38" y="6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05440" y="1744560"/>
              <a:ext cx="806400" cy="1338480"/>
            </a:xfrm>
            <a:custGeom>
              <a:avLst/>
              <a:gdLst/>
              <a:ahLst/>
              <a:rect l="l" t="t" r="r" b="b"/>
              <a:pathLst>
                <a:path w="508" h="843">
                  <a:moveTo>
                    <a:pt x="0" y="836"/>
                  </a:moveTo>
                  <a:lnTo>
                    <a:pt x="0" y="779"/>
                  </a:lnTo>
                  <a:lnTo>
                    <a:pt x="31" y="737"/>
                  </a:lnTo>
                  <a:lnTo>
                    <a:pt x="169" y="688"/>
                  </a:lnTo>
                  <a:lnTo>
                    <a:pt x="339" y="645"/>
                  </a:lnTo>
                  <a:lnTo>
                    <a:pt x="437" y="621"/>
                  </a:lnTo>
                  <a:lnTo>
                    <a:pt x="448" y="600"/>
                  </a:lnTo>
                  <a:lnTo>
                    <a:pt x="402" y="536"/>
                  </a:lnTo>
                  <a:lnTo>
                    <a:pt x="310" y="444"/>
                  </a:lnTo>
                  <a:lnTo>
                    <a:pt x="215" y="366"/>
                  </a:lnTo>
                  <a:lnTo>
                    <a:pt x="140" y="324"/>
                  </a:lnTo>
                  <a:lnTo>
                    <a:pt x="98" y="282"/>
                  </a:lnTo>
                  <a:lnTo>
                    <a:pt x="95" y="250"/>
                  </a:lnTo>
                  <a:lnTo>
                    <a:pt x="119" y="222"/>
                  </a:lnTo>
                  <a:lnTo>
                    <a:pt x="180" y="208"/>
                  </a:lnTo>
                  <a:lnTo>
                    <a:pt x="254" y="155"/>
                  </a:lnTo>
                  <a:lnTo>
                    <a:pt x="265" y="102"/>
                  </a:lnTo>
                  <a:lnTo>
                    <a:pt x="265" y="28"/>
                  </a:lnTo>
                  <a:lnTo>
                    <a:pt x="258" y="0"/>
                  </a:lnTo>
                  <a:lnTo>
                    <a:pt x="286" y="7"/>
                  </a:lnTo>
                  <a:lnTo>
                    <a:pt x="324" y="70"/>
                  </a:lnTo>
                  <a:lnTo>
                    <a:pt x="339" y="137"/>
                  </a:lnTo>
                  <a:lnTo>
                    <a:pt x="296" y="186"/>
                  </a:lnTo>
                  <a:lnTo>
                    <a:pt x="258" y="201"/>
                  </a:lnTo>
                  <a:lnTo>
                    <a:pt x="184" y="239"/>
                  </a:lnTo>
                  <a:lnTo>
                    <a:pt x="169" y="260"/>
                  </a:lnTo>
                  <a:lnTo>
                    <a:pt x="180" y="282"/>
                  </a:lnTo>
                  <a:lnTo>
                    <a:pt x="247" y="338"/>
                  </a:lnTo>
                  <a:lnTo>
                    <a:pt x="317" y="370"/>
                  </a:lnTo>
                  <a:lnTo>
                    <a:pt x="412" y="451"/>
                  </a:lnTo>
                  <a:lnTo>
                    <a:pt x="476" y="547"/>
                  </a:lnTo>
                  <a:lnTo>
                    <a:pt x="508" y="621"/>
                  </a:lnTo>
                  <a:lnTo>
                    <a:pt x="497" y="645"/>
                  </a:lnTo>
                  <a:lnTo>
                    <a:pt x="476" y="663"/>
                  </a:lnTo>
                  <a:lnTo>
                    <a:pt x="395" y="695"/>
                  </a:lnTo>
                  <a:lnTo>
                    <a:pt x="233" y="748"/>
                  </a:lnTo>
                  <a:lnTo>
                    <a:pt x="130" y="793"/>
                  </a:lnTo>
                  <a:lnTo>
                    <a:pt x="63" y="832"/>
                  </a:lnTo>
                  <a:lnTo>
                    <a:pt x="21" y="843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543560" y="1724040"/>
              <a:ext cx="631800" cy="952560"/>
            </a:xfrm>
            <a:custGeom>
              <a:avLst/>
              <a:gdLst/>
              <a:ahLst/>
              <a:rect l="l" t="t" r="r" b="b"/>
              <a:pathLst>
                <a:path w="398" h="600">
                  <a:moveTo>
                    <a:pt x="81" y="113"/>
                  </a:moveTo>
                  <a:lnTo>
                    <a:pt x="127" y="60"/>
                  </a:lnTo>
                  <a:lnTo>
                    <a:pt x="201" y="11"/>
                  </a:lnTo>
                  <a:lnTo>
                    <a:pt x="264" y="0"/>
                  </a:lnTo>
                  <a:lnTo>
                    <a:pt x="313" y="11"/>
                  </a:lnTo>
                  <a:lnTo>
                    <a:pt x="370" y="53"/>
                  </a:lnTo>
                  <a:lnTo>
                    <a:pt x="391" y="138"/>
                  </a:lnTo>
                  <a:lnTo>
                    <a:pt x="398" y="201"/>
                  </a:lnTo>
                  <a:lnTo>
                    <a:pt x="380" y="261"/>
                  </a:lnTo>
                  <a:lnTo>
                    <a:pt x="348" y="335"/>
                  </a:lnTo>
                  <a:lnTo>
                    <a:pt x="317" y="399"/>
                  </a:lnTo>
                  <a:lnTo>
                    <a:pt x="313" y="413"/>
                  </a:lnTo>
                  <a:lnTo>
                    <a:pt x="327" y="487"/>
                  </a:lnTo>
                  <a:lnTo>
                    <a:pt x="370" y="562"/>
                  </a:lnTo>
                  <a:lnTo>
                    <a:pt x="377" y="583"/>
                  </a:lnTo>
                  <a:lnTo>
                    <a:pt x="355" y="600"/>
                  </a:lnTo>
                  <a:lnTo>
                    <a:pt x="327" y="600"/>
                  </a:lnTo>
                  <a:lnTo>
                    <a:pt x="296" y="504"/>
                  </a:lnTo>
                  <a:lnTo>
                    <a:pt x="282" y="441"/>
                  </a:lnTo>
                  <a:lnTo>
                    <a:pt x="243" y="483"/>
                  </a:lnTo>
                  <a:lnTo>
                    <a:pt x="211" y="515"/>
                  </a:lnTo>
                  <a:lnTo>
                    <a:pt x="144" y="541"/>
                  </a:lnTo>
                  <a:lnTo>
                    <a:pt x="95" y="541"/>
                  </a:lnTo>
                  <a:lnTo>
                    <a:pt x="21" y="504"/>
                  </a:lnTo>
                  <a:lnTo>
                    <a:pt x="0" y="402"/>
                  </a:lnTo>
                  <a:lnTo>
                    <a:pt x="17" y="272"/>
                  </a:lnTo>
                  <a:lnTo>
                    <a:pt x="49" y="148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0" name=""/>
          <p:cNvGrpSpPr/>
          <p:nvPr/>
        </p:nvGrpSpPr>
        <p:grpSpPr>
          <a:xfrm>
            <a:off x="3983040" y="1085760"/>
            <a:ext cx="1025640" cy="839880"/>
            <a:chOff x="3983040" y="1085760"/>
            <a:chExt cx="1025640" cy="839880"/>
          </a:xfrm>
        </p:grpSpPr>
        <p:sp>
          <p:nvSpPr>
            <p:cNvPr id="3561" name=""/>
            <p:cNvSpPr/>
            <p:nvPr/>
          </p:nvSpPr>
          <p:spPr>
            <a:xfrm>
              <a:off x="4890960" y="1085760"/>
              <a:ext cx="117720" cy="470160"/>
            </a:xfrm>
            <a:custGeom>
              <a:avLst/>
              <a:gdLst/>
              <a:ahLst/>
              <a:rect l="l" t="t" r="r" b="b"/>
              <a:pathLst>
                <a:path w="74" h="296">
                  <a:moveTo>
                    <a:pt x="24" y="275"/>
                  </a:moveTo>
                  <a:lnTo>
                    <a:pt x="10" y="15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74" y="32"/>
                  </a:lnTo>
                  <a:lnTo>
                    <a:pt x="63" y="106"/>
                  </a:lnTo>
                  <a:lnTo>
                    <a:pt x="56" y="243"/>
                  </a:lnTo>
                  <a:lnTo>
                    <a:pt x="42" y="296"/>
                  </a:lnTo>
                  <a:lnTo>
                    <a:pt x="24" y="2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233960" y="1322280"/>
              <a:ext cx="409320" cy="320760"/>
            </a:xfrm>
            <a:custGeom>
              <a:avLst/>
              <a:gdLst/>
              <a:ahLst/>
              <a:rect l="l" t="t" r="r" b="b"/>
              <a:pathLst>
                <a:path w="258" h="202">
                  <a:moveTo>
                    <a:pt x="216" y="178"/>
                  </a:moveTo>
                  <a:lnTo>
                    <a:pt x="174" y="113"/>
                  </a:lnTo>
                  <a:lnTo>
                    <a:pt x="96" y="81"/>
                  </a:lnTo>
                  <a:lnTo>
                    <a:pt x="33" y="71"/>
                  </a:lnTo>
                  <a:lnTo>
                    <a:pt x="0" y="32"/>
                  </a:lnTo>
                  <a:lnTo>
                    <a:pt x="12" y="11"/>
                  </a:lnTo>
                  <a:lnTo>
                    <a:pt x="44" y="0"/>
                  </a:lnTo>
                  <a:lnTo>
                    <a:pt x="100" y="21"/>
                  </a:lnTo>
                  <a:lnTo>
                    <a:pt x="163" y="53"/>
                  </a:lnTo>
                  <a:lnTo>
                    <a:pt x="205" y="106"/>
                  </a:lnTo>
                  <a:lnTo>
                    <a:pt x="258" y="202"/>
                  </a:lnTo>
                  <a:lnTo>
                    <a:pt x="216" y="1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983040" y="1701720"/>
              <a:ext cx="442800" cy="22392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0" y="53"/>
                  </a:moveTo>
                  <a:lnTo>
                    <a:pt x="3" y="25"/>
                  </a:lnTo>
                  <a:lnTo>
                    <a:pt x="35" y="11"/>
                  </a:lnTo>
                  <a:lnTo>
                    <a:pt x="88" y="0"/>
                  </a:lnTo>
                  <a:lnTo>
                    <a:pt x="141" y="4"/>
                  </a:lnTo>
                  <a:lnTo>
                    <a:pt x="212" y="36"/>
                  </a:lnTo>
                  <a:lnTo>
                    <a:pt x="254" y="85"/>
                  </a:lnTo>
                  <a:lnTo>
                    <a:pt x="279" y="127"/>
                  </a:lnTo>
                  <a:lnTo>
                    <a:pt x="275" y="141"/>
                  </a:lnTo>
                  <a:lnTo>
                    <a:pt x="244" y="120"/>
                  </a:lnTo>
                  <a:lnTo>
                    <a:pt x="194" y="85"/>
                  </a:lnTo>
                  <a:lnTo>
                    <a:pt x="126" y="67"/>
                  </a:lnTo>
                  <a:lnTo>
                    <a:pt x="67" y="78"/>
                  </a:lnTo>
                  <a:lnTo>
                    <a:pt x="10" y="7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"/>
          <p:cNvSpPr/>
          <p:nvPr/>
        </p:nvSpPr>
        <p:spPr>
          <a:xfrm>
            <a:off x="0" y="4903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7" name=""/>
          <p:cNvGrpSpPr/>
          <p:nvPr/>
        </p:nvGrpSpPr>
        <p:grpSpPr>
          <a:xfrm>
            <a:off x="3049560" y="1365120"/>
            <a:ext cx="3038040" cy="3404880"/>
            <a:chOff x="3049560" y="1365120"/>
            <a:chExt cx="3038040" cy="3404880"/>
          </a:xfrm>
        </p:grpSpPr>
        <p:sp>
          <p:nvSpPr>
            <p:cNvPr id="3568" name=""/>
            <p:cNvSpPr/>
            <p:nvPr/>
          </p:nvSpPr>
          <p:spPr>
            <a:xfrm>
              <a:off x="3049560" y="1365120"/>
              <a:ext cx="3038040" cy="3040920"/>
            </a:xfrm>
            <a:custGeom>
              <a:avLst/>
              <a:gdLst/>
              <a:ahLst/>
              <a:rect l="l" t="t" r="r" b="b"/>
              <a:pathLst>
                <a:path w="2004" h="2005">
                  <a:moveTo>
                    <a:pt x="1003" y="0"/>
                  </a:moveTo>
                  <a:lnTo>
                    <a:pt x="995" y="0"/>
                  </a:lnTo>
                  <a:lnTo>
                    <a:pt x="987" y="0"/>
                  </a:lnTo>
                  <a:lnTo>
                    <a:pt x="978" y="0"/>
                  </a:lnTo>
                  <a:lnTo>
                    <a:pt x="970" y="1"/>
                  </a:lnTo>
                  <a:lnTo>
                    <a:pt x="961" y="1"/>
                  </a:lnTo>
                  <a:lnTo>
                    <a:pt x="952" y="1"/>
                  </a:lnTo>
                  <a:lnTo>
                    <a:pt x="943" y="2"/>
                  </a:lnTo>
                  <a:lnTo>
                    <a:pt x="935" y="2"/>
                  </a:lnTo>
                  <a:lnTo>
                    <a:pt x="887" y="7"/>
                  </a:lnTo>
                  <a:lnTo>
                    <a:pt x="838" y="14"/>
                  </a:lnTo>
                  <a:lnTo>
                    <a:pt x="791" y="23"/>
                  </a:lnTo>
                  <a:lnTo>
                    <a:pt x="744" y="33"/>
                  </a:lnTo>
                  <a:lnTo>
                    <a:pt x="699" y="47"/>
                  </a:lnTo>
                  <a:lnTo>
                    <a:pt x="654" y="62"/>
                  </a:lnTo>
                  <a:lnTo>
                    <a:pt x="610" y="80"/>
                  </a:lnTo>
                  <a:lnTo>
                    <a:pt x="569" y="99"/>
                  </a:lnTo>
                  <a:lnTo>
                    <a:pt x="528" y="120"/>
                  </a:lnTo>
                  <a:lnTo>
                    <a:pt x="487" y="143"/>
                  </a:lnTo>
                  <a:lnTo>
                    <a:pt x="448" y="167"/>
                  </a:lnTo>
                  <a:lnTo>
                    <a:pt x="410" y="194"/>
                  </a:lnTo>
                  <a:lnTo>
                    <a:pt x="374" y="221"/>
                  </a:lnTo>
                  <a:lnTo>
                    <a:pt x="339" y="251"/>
                  </a:lnTo>
                  <a:lnTo>
                    <a:pt x="305" y="282"/>
                  </a:lnTo>
                  <a:lnTo>
                    <a:pt x="273" y="315"/>
                  </a:lnTo>
                  <a:lnTo>
                    <a:pt x="243" y="348"/>
                  </a:lnTo>
                  <a:lnTo>
                    <a:pt x="213" y="384"/>
                  </a:lnTo>
                  <a:lnTo>
                    <a:pt x="187" y="421"/>
                  </a:lnTo>
                  <a:lnTo>
                    <a:pt x="160" y="457"/>
                  </a:lnTo>
                  <a:lnTo>
                    <a:pt x="136" y="497"/>
                  </a:lnTo>
                  <a:lnTo>
                    <a:pt x="114" y="537"/>
                  </a:lnTo>
                  <a:lnTo>
                    <a:pt x="93" y="578"/>
                  </a:lnTo>
                  <a:lnTo>
                    <a:pt x="75" y="620"/>
                  </a:lnTo>
                  <a:lnTo>
                    <a:pt x="59" y="664"/>
                  </a:lnTo>
                  <a:lnTo>
                    <a:pt x="44" y="707"/>
                  </a:lnTo>
                  <a:lnTo>
                    <a:pt x="31" y="752"/>
                  </a:lnTo>
                  <a:lnTo>
                    <a:pt x="21" y="798"/>
                  </a:lnTo>
                  <a:lnTo>
                    <a:pt x="13" y="845"/>
                  </a:lnTo>
                  <a:lnTo>
                    <a:pt x="6" y="892"/>
                  </a:lnTo>
                  <a:lnTo>
                    <a:pt x="2" y="939"/>
                  </a:lnTo>
                  <a:lnTo>
                    <a:pt x="0" y="987"/>
                  </a:lnTo>
                  <a:lnTo>
                    <a:pt x="0" y="1008"/>
                  </a:lnTo>
                  <a:lnTo>
                    <a:pt x="0" y="1029"/>
                  </a:lnTo>
                  <a:lnTo>
                    <a:pt x="1" y="1050"/>
                  </a:lnTo>
                  <a:lnTo>
                    <a:pt x="2" y="1070"/>
                  </a:lnTo>
                  <a:lnTo>
                    <a:pt x="9" y="1141"/>
                  </a:lnTo>
                  <a:lnTo>
                    <a:pt x="21" y="1209"/>
                  </a:lnTo>
                  <a:lnTo>
                    <a:pt x="37" y="1276"/>
                  </a:lnTo>
                  <a:lnTo>
                    <a:pt x="58" y="1340"/>
                  </a:lnTo>
                  <a:lnTo>
                    <a:pt x="83" y="1402"/>
                  </a:lnTo>
                  <a:lnTo>
                    <a:pt x="111" y="1462"/>
                  </a:lnTo>
                  <a:lnTo>
                    <a:pt x="144" y="1520"/>
                  </a:lnTo>
                  <a:lnTo>
                    <a:pt x="180" y="1575"/>
                  </a:lnTo>
                  <a:lnTo>
                    <a:pt x="198" y="1600"/>
                  </a:lnTo>
                  <a:lnTo>
                    <a:pt x="218" y="1626"/>
                  </a:lnTo>
                  <a:lnTo>
                    <a:pt x="239" y="1651"/>
                  </a:lnTo>
                  <a:lnTo>
                    <a:pt x="259" y="1674"/>
                  </a:lnTo>
                  <a:lnTo>
                    <a:pt x="281" y="1697"/>
                  </a:lnTo>
                  <a:lnTo>
                    <a:pt x="303" y="1720"/>
                  </a:lnTo>
                  <a:lnTo>
                    <a:pt x="326" y="1742"/>
                  </a:lnTo>
                  <a:lnTo>
                    <a:pt x="350" y="1763"/>
                  </a:lnTo>
                  <a:lnTo>
                    <a:pt x="374" y="1784"/>
                  </a:lnTo>
                  <a:lnTo>
                    <a:pt x="400" y="1803"/>
                  </a:lnTo>
                  <a:lnTo>
                    <a:pt x="425" y="1822"/>
                  </a:lnTo>
                  <a:lnTo>
                    <a:pt x="452" y="1840"/>
                  </a:lnTo>
                  <a:lnTo>
                    <a:pt x="478" y="1856"/>
                  </a:lnTo>
                  <a:lnTo>
                    <a:pt x="506" y="1874"/>
                  </a:lnTo>
                  <a:lnTo>
                    <a:pt x="533" y="1889"/>
                  </a:lnTo>
                  <a:lnTo>
                    <a:pt x="561" y="1902"/>
                  </a:lnTo>
                  <a:lnTo>
                    <a:pt x="590" y="1916"/>
                  </a:lnTo>
                  <a:lnTo>
                    <a:pt x="620" y="1929"/>
                  </a:lnTo>
                  <a:lnTo>
                    <a:pt x="650" y="1942"/>
                  </a:lnTo>
                  <a:lnTo>
                    <a:pt x="680" y="1952"/>
                  </a:lnTo>
                  <a:lnTo>
                    <a:pt x="711" y="1962"/>
                  </a:lnTo>
                  <a:lnTo>
                    <a:pt x="742" y="1970"/>
                  </a:lnTo>
                  <a:lnTo>
                    <a:pt x="773" y="1978"/>
                  </a:lnTo>
                  <a:lnTo>
                    <a:pt x="805" y="1985"/>
                  </a:lnTo>
                  <a:lnTo>
                    <a:pt x="837" y="1991"/>
                  </a:lnTo>
                  <a:lnTo>
                    <a:pt x="870" y="1997"/>
                  </a:lnTo>
                  <a:lnTo>
                    <a:pt x="902" y="2000"/>
                  </a:lnTo>
                  <a:lnTo>
                    <a:pt x="935" y="2003"/>
                  </a:lnTo>
                  <a:lnTo>
                    <a:pt x="969" y="2005"/>
                  </a:lnTo>
                  <a:lnTo>
                    <a:pt x="1002" y="2005"/>
                  </a:lnTo>
                  <a:lnTo>
                    <a:pt x="1035" y="2005"/>
                  </a:lnTo>
                  <a:lnTo>
                    <a:pt x="1070" y="2003"/>
                  </a:lnTo>
                  <a:lnTo>
                    <a:pt x="1085" y="2001"/>
                  </a:lnTo>
                  <a:lnTo>
                    <a:pt x="1101" y="2000"/>
                  </a:lnTo>
                  <a:lnTo>
                    <a:pt x="1116" y="1998"/>
                  </a:lnTo>
                  <a:lnTo>
                    <a:pt x="1132" y="1997"/>
                  </a:lnTo>
                  <a:lnTo>
                    <a:pt x="1147" y="1995"/>
                  </a:lnTo>
                  <a:lnTo>
                    <a:pt x="1162" y="1992"/>
                  </a:lnTo>
                  <a:lnTo>
                    <a:pt x="1178" y="1989"/>
                  </a:lnTo>
                  <a:lnTo>
                    <a:pt x="1193" y="1986"/>
                  </a:lnTo>
                  <a:lnTo>
                    <a:pt x="1208" y="1983"/>
                  </a:lnTo>
                  <a:lnTo>
                    <a:pt x="1223" y="1981"/>
                  </a:lnTo>
                  <a:lnTo>
                    <a:pt x="1238" y="1977"/>
                  </a:lnTo>
                  <a:lnTo>
                    <a:pt x="1253" y="1973"/>
                  </a:lnTo>
                  <a:lnTo>
                    <a:pt x="1268" y="1969"/>
                  </a:lnTo>
                  <a:lnTo>
                    <a:pt x="1283" y="1966"/>
                  </a:lnTo>
                  <a:lnTo>
                    <a:pt x="1297" y="1961"/>
                  </a:lnTo>
                  <a:lnTo>
                    <a:pt x="1312" y="1956"/>
                  </a:lnTo>
                  <a:lnTo>
                    <a:pt x="1383" y="1930"/>
                  </a:lnTo>
                  <a:lnTo>
                    <a:pt x="1452" y="1899"/>
                  </a:lnTo>
                  <a:lnTo>
                    <a:pt x="1519" y="1862"/>
                  </a:lnTo>
                  <a:lnTo>
                    <a:pt x="1581" y="1821"/>
                  </a:lnTo>
                  <a:lnTo>
                    <a:pt x="1641" y="1774"/>
                  </a:lnTo>
                  <a:lnTo>
                    <a:pt x="1696" y="1725"/>
                  </a:lnTo>
                  <a:lnTo>
                    <a:pt x="1748" y="1671"/>
                  </a:lnTo>
                  <a:lnTo>
                    <a:pt x="1797" y="1613"/>
                  </a:lnTo>
                  <a:lnTo>
                    <a:pt x="1839" y="1553"/>
                  </a:lnTo>
                  <a:lnTo>
                    <a:pt x="1878" y="1489"/>
                  </a:lnTo>
                  <a:lnTo>
                    <a:pt x="1913" y="1422"/>
                  </a:lnTo>
                  <a:lnTo>
                    <a:pt x="1942" y="1352"/>
                  </a:lnTo>
                  <a:lnTo>
                    <a:pt x="1965" y="1280"/>
                  </a:lnTo>
                  <a:lnTo>
                    <a:pt x="1983" y="1205"/>
                  </a:lnTo>
                  <a:lnTo>
                    <a:pt x="1996" y="1129"/>
                  </a:lnTo>
                  <a:lnTo>
                    <a:pt x="2003" y="1052"/>
                  </a:lnTo>
                  <a:lnTo>
                    <a:pt x="2004" y="1023"/>
                  </a:lnTo>
                  <a:lnTo>
                    <a:pt x="2004" y="994"/>
                  </a:lnTo>
                  <a:lnTo>
                    <a:pt x="2003" y="964"/>
                  </a:lnTo>
                  <a:lnTo>
                    <a:pt x="2002" y="936"/>
                  </a:lnTo>
                  <a:lnTo>
                    <a:pt x="1997" y="886"/>
                  </a:lnTo>
                  <a:lnTo>
                    <a:pt x="1990" y="838"/>
                  </a:lnTo>
                  <a:lnTo>
                    <a:pt x="1981" y="790"/>
                  </a:lnTo>
                  <a:lnTo>
                    <a:pt x="1969" y="743"/>
                  </a:lnTo>
                  <a:lnTo>
                    <a:pt x="1957" y="697"/>
                  </a:lnTo>
                  <a:lnTo>
                    <a:pt x="1941" y="652"/>
                  </a:lnTo>
                  <a:lnTo>
                    <a:pt x="1923" y="608"/>
                  </a:lnTo>
                  <a:lnTo>
                    <a:pt x="1904" y="566"/>
                  </a:lnTo>
                  <a:lnTo>
                    <a:pt x="1883" y="524"/>
                  </a:lnTo>
                  <a:lnTo>
                    <a:pt x="1860" y="484"/>
                  </a:lnTo>
                  <a:lnTo>
                    <a:pt x="1835" y="445"/>
                  </a:lnTo>
                  <a:lnTo>
                    <a:pt x="1808" y="407"/>
                  </a:lnTo>
                  <a:lnTo>
                    <a:pt x="1779" y="370"/>
                  </a:lnTo>
                  <a:lnTo>
                    <a:pt x="1749" y="335"/>
                  </a:lnTo>
                  <a:lnTo>
                    <a:pt x="1718" y="301"/>
                  </a:lnTo>
                  <a:lnTo>
                    <a:pt x="1685" y="268"/>
                  </a:lnTo>
                  <a:lnTo>
                    <a:pt x="1650" y="239"/>
                  </a:lnTo>
                  <a:lnTo>
                    <a:pt x="1615" y="210"/>
                  </a:lnTo>
                  <a:lnTo>
                    <a:pt x="1578" y="182"/>
                  </a:lnTo>
                  <a:lnTo>
                    <a:pt x="1540" y="157"/>
                  </a:lnTo>
                  <a:lnTo>
                    <a:pt x="1499" y="133"/>
                  </a:lnTo>
                  <a:lnTo>
                    <a:pt x="1459" y="111"/>
                  </a:lnTo>
                  <a:lnTo>
                    <a:pt x="1418" y="90"/>
                  </a:lnTo>
                  <a:lnTo>
                    <a:pt x="1375" y="71"/>
                  </a:lnTo>
                  <a:lnTo>
                    <a:pt x="1331" y="55"/>
                  </a:lnTo>
                  <a:lnTo>
                    <a:pt x="1286" y="41"/>
                  </a:lnTo>
                  <a:lnTo>
                    <a:pt x="1240" y="29"/>
                  </a:lnTo>
                  <a:lnTo>
                    <a:pt x="1194" y="18"/>
                  </a:lnTo>
                  <a:lnTo>
                    <a:pt x="1148" y="10"/>
                  </a:lnTo>
                  <a:lnTo>
                    <a:pt x="1100" y="5"/>
                  </a:lnTo>
                  <a:lnTo>
                    <a:pt x="1052" y="1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570200" y="4354560"/>
              <a:ext cx="394200" cy="415440"/>
            </a:xfrm>
            <a:custGeom>
              <a:avLst/>
              <a:gdLst/>
              <a:ahLst/>
              <a:rect l="l" t="t" r="r" b="b"/>
              <a:pathLst>
                <a:path w="261" h="273">
                  <a:moveTo>
                    <a:pt x="0" y="35"/>
                  </a:moveTo>
                  <a:lnTo>
                    <a:pt x="5" y="46"/>
                  </a:lnTo>
                  <a:lnTo>
                    <a:pt x="10" y="58"/>
                  </a:lnTo>
                  <a:lnTo>
                    <a:pt x="15" y="71"/>
                  </a:lnTo>
                  <a:lnTo>
                    <a:pt x="20" y="82"/>
                  </a:lnTo>
                  <a:lnTo>
                    <a:pt x="25" y="101"/>
                  </a:lnTo>
                  <a:lnTo>
                    <a:pt x="31" y="126"/>
                  </a:lnTo>
                  <a:lnTo>
                    <a:pt x="37" y="154"/>
                  </a:lnTo>
                  <a:lnTo>
                    <a:pt x="43" y="184"/>
                  </a:lnTo>
                  <a:lnTo>
                    <a:pt x="47" y="211"/>
                  </a:lnTo>
                  <a:lnTo>
                    <a:pt x="51" y="233"/>
                  </a:lnTo>
                  <a:lnTo>
                    <a:pt x="53" y="249"/>
                  </a:lnTo>
                  <a:lnTo>
                    <a:pt x="54" y="255"/>
                  </a:lnTo>
                  <a:lnTo>
                    <a:pt x="73" y="253"/>
                  </a:lnTo>
                  <a:lnTo>
                    <a:pt x="74" y="254"/>
                  </a:lnTo>
                  <a:lnTo>
                    <a:pt x="76" y="256"/>
                  </a:lnTo>
                  <a:lnTo>
                    <a:pt x="79" y="261"/>
                  </a:lnTo>
                  <a:lnTo>
                    <a:pt x="86" y="264"/>
                  </a:lnTo>
                  <a:lnTo>
                    <a:pt x="93" y="269"/>
                  </a:lnTo>
                  <a:lnTo>
                    <a:pt x="104" y="271"/>
                  </a:lnTo>
                  <a:lnTo>
                    <a:pt x="114" y="273"/>
                  </a:lnTo>
                  <a:lnTo>
                    <a:pt x="128" y="272"/>
                  </a:lnTo>
                  <a:lnTo>
                    <a:pt x="134" y="271"/>
                  </a:lnTo>
                  <a:lnTo>
                    <a:pt x="138" y="270"/>
                  </a:lnTo>
                  <a:lnTo>
                    <a:pt x="144" y="268"/>
                  </a:lnTo>
                  <a:lnTo>
                    <a:pt x="150" y="265"/>
                  </a:lnTo>
                  <a:lnTo>
                    <a:pt x="157" y="263"/>
                  </a:lnTo>
                  <a:lnTo>
                    <a:pt x="162" y="260"/>
                  </a:lnTo>
                  <a:lnTo>
                    <a:pt x="168" y="256"/>
                  </a:lnTo>
                  <a:lnTo>
                    <a:pt x="175" y="251"/>
                  </a:lnTo>
                  <a:lnTo>
                    <a:pt x="184" y="243"/>
                  </a:lnTo>
                  <a:lnTo>
                    <a:pt x="195" y="232"/>
                  </a:lnTo>
                  <a:lnTo>
                    <a:pt x="206" y="217"/>
                  </a:lnTo>
                  <a:lnTo>
                    <a:pt x="218" y="197"/>
                  </a:lnTo>
                  <a:lnTo>
                    <a:pt x="229" y="175"/>
                  </a:lnTo>
                  <a:lnTo>
                    <a:pt x="240" y="150"/>
                  </a:lnTo>
                  <a:lnTo>
                    <a:pt x="249" y="121"/>
                  </a:lnTo>
                  <a:lnTo>
                    <a:pt x="256" y="91"/>
                  </a:lnTo>
                  <a:lnTo>
                    <a:pt x="259" y="69"/>
                  </a:lnTo>
                  <a:lnTo>
                    <a:pt x="260" y="48"/>
                  </a:lnTo>
                  <a:lnTo>
                    <a:pt x="261" y="25"/>
                  </a:lnTo>
                  <a:lnTo>
                    <a:pt x="260" y="0"/>
                  </a:lnTo>
                  <a:lnTo>
                    <a:pt x="249" y="4"/>
                  </a:lnTo>
                  <a:lnTo>
                    <a:pt x="237" y="6"/>
                  </a:lnTo>
                  <a:lnTo>
                    <a:pt x="225" y="10"/>
                  </a:lnTo>
                  <a:lnTo>
                    <a:pt x="213" y="12"/>
                  </a:lnTo>
                  <a:lnTo>
                    <a:pt x="202" y="14"/>
                  </a:lnTo>
                  <a:lnTo>
                    <a:pt x="189" y="16"/>
                  </a:lnTo>
                  <a:lnTo>
                    <a:pt x="177" y="19"/>
                  </a:lnTo>
                  <a:lnTo>
                    <a:pt x="166" y="21"/>
                  </a:lnTo>
                  <a:lnTo>
                    <a:pt x="153" y="23"/>
                  </a:lnTo>
                  <a:lnTo>
                    <a:pt x="142" y="25"/>
                  </a:lnTo>
                  <a:lnTo>
                    <a:pt x="129" y="27"/>
                  </a:lnTo>
                  <a:lnTo>
                    <a:pt x="117" y="28"/>
                  </a:lnTo>
                  <a:lnTo>
                    <a:pt x="105" y="29"/>
                  </a:lnTo>
                  <a:lnTo>
                    <a:pt x="92" y="30"/>
                  </a:lnTo>
                  <a:lnTo>
                    <a:pt x="81" y="31"/>
                  </a:lnTo>
                  <a:lnTo>
                    <a:pt x="68" y="33"/>
                  </a:lnTo>
                  <a:lnTo>
                    <a:pt x="60" y="34"/>
                  </a:lnTo>
                  <a:lnTo>
                    <a:pt x="51" y="34"/>
                  </a:lnTo>
                  <a:lnTo>
                    <a:pt x="43" y="35"/>
                  </a:lnTo>
                  <a:lnTo>
                    <a:pt x="3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49560" y="1895760"/>
              <a:ext cx="2685600" cy="2510280"/>
            </a:xfrm>
            <a:custGeom>
              <a:avLst/>
              <a:gdLst/>
              <a:ahLst/>
              <a:rect l="l" t="t" r="r" b="b"/>
              <a:pathLst>
                <a:path w="1770" h="1655">
                  <a:moveTo>
                    <a:pt x="44" y="946"/>
                  </a:moveTo>
                  <a:lnTo>
                    <a:pt x="81" y="945"/>
                  </a:lnTo>
                  <a:lnTo>
                    <a:pt x="114" y="945"/>
                  </a:lnTo>
                  <a:lnTo>
                    <a:pt x="145" y="947"/>
                  </a:lnTo>
                  <a:lnTo>
                    <a:pt x="175" y="950"/>
                  </a:lnTo>
                  <a:lnTo>
                    <a:pt x="201" y="954"/>
                  </a:lnTo>
                  <a:lnTo>
                    <a:pt x="225" y="959"/>
                  </a:lnTo>
                  <a:lnTo>
                    <a:pt x="247" y="964"/>
                  </a:lnTo>
                  <a:lnTo>
                    <a:pt x="266" y="969"/>
                  </a:lnTo>
                  <a:lnTo>
                    <a:pt x="282" y="975"/>
                  </a:lnTo>
                  <a:lnTo>
                    <a:pt x="297" y="981"/>
                  </a:lnTo>
                  <a:lnTo>
                    <a:pt x="309" y="987"/>
                  </a:lnTo>
                  <a:lnTo>
                    <a:pt x="319" y="991"/>
                  </a:lnTo>
                  <a:lnTo>
                    <a:pt x="327" y="996"/>
                  </a:lnTo>
                  <a:lnTo>
                    <a:pt x="332" y="999"/>
                  </a:lnTo>
                  <a:lnTo>
                    <a:pt x="335" y="1000"/>
                  </a:lnTo>
                  <a:lnTo>
                    <a:pt x="336" y="1002"/>
                  </a:lnTo>
                  <a:lnTo>
                    <a:pt x="341" y="1006"/>
                  </a:lnTo>
                  <a:lnTo>
                    <a:pt x="354" y="1021"/>
                  </a:lnTo>
                  <a:lnTo>
                    <a:pt x="372" y="1041"/>
                  </a:lnTo>
                  <a:lnTo>
                    <a:pt x="397" y="1066"/>
                  </a:lnTo>
                  <a:lnTo>
                    <a:pt x="425" y="1094"/>
                  </a:lnTo>
                  <a:lnTo>
                    <a:pt x="455" y="1120"/>
                  </a:lnTo>
                  <a:lnTo>
                    <a:pt x="486" y="1146"/>
                  </a:lnTo>
                  <a:lnTo>
                    <a:pt x="517" y="1166"/>
                  </a:lnTo>
                  <a:lnTo>
                    <a:pt x="544" y="1181"/>
                  </a:lnTo>
                  <a:lnTo>
                    <a:pt x="566" y="1194"/>
                  </a:lnTo>
                  <a:lnTo>
                    <a:pt x="584" y="1206"/>
                  </a:lnTo>
                  <a:lnTo>
                    <a:pt x="600" y="1215"/>
                  </a:lnTo>
                  <a:lnTo>
                    <a:pt x="615" y="1224"/>
                  </a:lnTo>
                  <a:lnTo>
                    <a:pt x="629" y="1232"/>
                  </a:lnTo>
                  <a:lnTo>
                    <a:pt x="644" y="1242"/>
                  </a:lnTo>
                  <a:lnTo>
                    <a:pt x="659" y="1253"/>
                  </a:lnTo>
                  <a:lnTo>
                    <a:pt x="667" y="1261"/>
                  </a:lnTo>
                  <a:lnTo>
                    <a:pt x="677" y="1270"/>
                  </a:lnTo>
                  <a:lnTo>
                    <a:pt x="689" y="1279"/>
                  </a:lnTo>
                  <a:lnTo>
                    <a:pt x="700" y="1290"/>
                  </a:lnTo>
                  <a:lnTo>
                    <a:pt x="712" y="1299"/>
                  </a:lnTo>
                  <a:lnTo>
                    <a:pt x="723" y="1308"/>
                  </a:lnTo>
                  <a:lnTo>
                    <a:pt x="734" y="1317"/>
                  </a:lnTo>
                  <a:lnTo>
                    <a:pt x="743" y="1326"/>
                  </a:lnTo>
                  <a:lnTo>
                    <a:pt x="772" y="1358"/>
                  </a:lnTo>
                  <a:lnTo>
                    <a:pt x="798" y="1388"/>
                  </a:lnTo>
                  <a:lnTo>
                    <a:pt x="821" y="1416"/>
                  </a:lnTo>
                  <a:lnTo>
                    <a:pt x="841" y="1443"/>
                  </a:lnTo>
                  <a:lnTo>
                    <a:pt x="858" y="1465"/>
                  </a:lnTo>
                  <a:lnTo>
                    <a:pt x="870" y="1482"/>
                  </a:lnTo>
                  <a:lnTo>
                    <a:pt x="878" y="1494"/>
                  </a:lnTo>
                  <a:lnTo>
                    <a:pt x="880" y="1497"/>
                  </a:lnTo>
                  <a:lnTo>
                    <a:pt x="881" y="1498"/>
                  </a:lnTo>
                  <a:lnTo>
                    <a:pt x="883" y="1503"/>
                  </a:lnTo>
                  <a:lnTo>
                    <a:pt x="888" y="1510"/>
                  </a:lnTo>
                  <a:lnTo>
                    <a:pt x="895" y="1518"/>
                  </a:lnTo>
                  <a:lnTo>
                    <a:pt x="902" y="1527"/>
                  </a:lnTo>
                  <a:lnTo>
                    <a:pt x="910" y="1536"/>
                  </a:lnTo>
                  <a:lnTo>
                    <a:pt x="919" y="1547"/>
                  </a:lnTo>
                  <a:lnTo>
                    <a:pt x="928" y="1556"/>
                  </a:lnTo>
                  <a:lnTo>
                    <a:pt x="936" y="1564"/>
                  </a:lnTo>
                  <a:lnTo>
                    <a:pt x="946" y="1572"/>
                  </a:lnTo>
                  <a:lnTo>
                    <a:pt x="955" y="1582"/>
                  </a:lnTo>
                  <a:lnTo>
                    <a:pt x="965" y="1594"/>
                  </a:lnTo>
                  <a:lnTo>
                    <a:pt x="974" y="1608"/>
                  </a:lnTo>
                  <a:lnTo>
                    <a:pt x="985" y="1621"/>
                  </a:lnTo>
                  <a:lnTo>
                    <a:pt x="994" y="1638"/>
                  </a:lnTo>
                  <a:lnTo>
                    <a:pt x="1002" y="1655"/>
                  </a:lnTo>
                  <a:lnTo>
                    <a:pt x="1010" y="1655"/>
                  </a:lnTo>
                  <a:lnTo>
                    <a:pt x="1019" y="1655"/>
                  </a:lnTo>
                  <a:lnTo>
                    <a:pt x="1027" y="1655"/>
                  </a:lnTo>
                  <a:lnTo>
                    <a:pt x="1037" y="1655"/>
                  </a:lnTo>
                  <a:lnTo>
                    <a:pt x="1045" y="1655"/>
                  </a:lnTo>
                  <a:lnTo>
                    <a:pt x="1053" y="1654"/>
                  </a:lnTo>
                  <a:lnTo>
                    <a:pt x="1062" y="1654"/>
                  </a:lnTo>
                  <a:lnTo>
                    <a:pt x="1070" y="1653"/>
                  </a:lnTo>
                  <a:lnTo>
                    <a:pt x="1083" y="1651"/>
                  </a:lnTo>
                  <a:lnTo>
                    <a:pt x="1094" y="1650"/>
                  </a:lnTo>
                  <a:lnTo>
                    <a:pt x="1107" y="1649"/>
                  </a:lnTo>
                  <a:lnTo>
                    <a:pt x="1119" y="1648"/>
                  </a:lnTo>
                  <a:lnTo>
                    <a:pt x="1131" y="1647"/>
                  </a:lnTo>
                  <a:lnTo>
                    <a:pt x="1144" y="1645"/>
                  </a:lnTo>
                  <a:lnTo>
                    <a:pt x="1155" y="1643"/>
                  </a:lnTo>
                  <a:lnTo>
                    <a:pt x="1168" y="1641"/>
                  </a:lnTo>
                  <a:lnTo>
                    <a:pt x="1179" y="1639"/>
                  </a:lnTo>
                  <a:lnTo>
                    <a:pt x="1191" y="1636"/>
                  </a:lnTo>
                  <a:lnTo>
                    <a:pt x="1204" y="1634"/>
                  </a:lnTo>
                  <a:lnTo>
                    <a:pt x="1215" y="1632"/>
                  </a:lnTo>
                  <a:lnTo>
                    <a:pt x="1227" y="1630"/>
                  </a:lnTo>
                  <a:lnTo>
                    <a:pt x="1239" y="1626"/>
                  </a:lnTo>
                  <a:lnTo>
                    <a:pt x="1251" y="1624"/>
                  </a:lnTo>
                  <a:lnTo>
                    <a:pt x="1262" y="1620"/>
                  </a:lnTo>
                  <a:lnTo>
                    <a:pt x="1260" y="1600"/>
                  </a:lnTo>
                  <a:lnTo>
                    <a:pt x="1256" y="1578"/>
                  </a:lnTo>
                  <a:lnTo>
                    <a:pt x="1252" y="1556"/>
                  </a:lnTo>
                  <a:lnTo>
                    <a:pt x="1246" y="1534"/>
                  </a:lnTo>
                  <a:lnTo>
                    <a:pt x="1238" y="1511"/>
                  </a:lnTo>
                  <a:lnTo>
                    <a:pt x="1228" y="1489"/>
                  </a:lnTo>
                  <a:lnTo>
                    <a:pt x="1216" y="1466"/>
                  </a:lnTo>
                  <a:lnTo>
                    <a:pt x="1202" y="1443"/>
                  </a:lnTo>
                  <a:lnTo>
                    <a:pt x="1200" y="1439"/>
                  </a:lnTo>
                  <a:lnTo>
                    <a:pt x="1194" y="1428"/>
                  </a:lnTo>
                  <a:lnTo>
                    <a:pt x="1185" y="1412"/>
                  </a:lnTo>
                  <a:lnTo>
                    <a:pt x="1175" y="1390"/>
                  </a:lnTo>
                  <a:lnTo>
                    <a:pt x="1162" y="1366"/>
                  </a:lnTo>
                  <a:lnTo>
                    <a:pt x="1148" y="1339"/>
                  </a:lnTo>
                  <a:lnTo>
                    <a:pt x="1134" y="1313"/>
                  </a:lnTo>
                  <a:lnTo>
                    <a:pt x="1121" y="1286"/>
                  </a:lnTo>
                  <a:lnTo>
                    <a:pt x="1103" y="1245"/>
                  </a:lnTo>
                  <a:lnTo>
                    <a:pt x="1098" y="1219"/>
                  </a:lnTo>
                  <a:lnTo>
                    <a:pt x="1096" y="1200"/>
                  </a:lnTo>
                  <a:lnTo>
                    <a:pt x="1095" y="1180"/>
                  </a:lnTo>
                  <a:lnTo>
                    <a:pt x="1098" y="1174"/>
                  </a:lnTo>
                  <a:lnTo>
                    <a:pt x="1100" y="1169"/>
                  </a:lnTo>
                  <a:lnTo>
                    <a:pt x="1102" y="1163"/>
                  </a:lnTo>
                  <a:lnTo>
                    <a:pt x="1107" y="1157"/>
                  </a:lnTo>
                  <a:lnTo>
                    <a:pt x="1114" y="1150"/>
                  </a:lnTo>
                  <a:lnTo>
                    <a:pt x="1126" y="1142"/>
                  </a:lnTo>
                  <a:lnTo>
                    <a:pt x="1146" y="1133"/>
                  </a:lnTo>
                  <a:lnTo>
                    <a:pt x="1174" y="1123"/>
                  </a:lnTo>
                  <a:lnTo>
                    <a:pt x="1197" y="1116"/>
                  </a:lnTo>
                  <a:lnTo>
                    <a:pt x="1220" y="1111"/>
                  </a:lnTo>
                  <a:lnTo>
                    <a:pt x="1242" y="1108"/>
                  </a:lnTo>
                  <a:lnTo>
                    <a:pt x="1263" y="1106"/>
                  </a:lnTo>
                  <a:lnTo>
                    <a:pt x="1285" y="1106"/>
                  </a:lnTo>
                  <a:lnTo>
                    <a:pt x="1307" y="1106"/>
                  </a:lnTo>
                  <a:lnTo>
                    <a:pt x="1328" y="1109"/>
                  </a:lnTo>
                  <a:lnTo>
                    <a:pt x="1350" y="1110"/>
                  </a:lnTo>
                  <a:lnTo>
                    <a:pt x="1370" y="1112"/>
                  </a:lnTo>
                  <a:lnTo>
                    <a:pt x="1392" y="1114"/>
                  </a:lnTo>
                  <a:lnTo>
                    <a:pt x="1413" y="1116"/>
                  </a:lnTo>
                  <a:lnTo>
                    <a:pt x="1435" y="1117"/>
                  </a:lnTo>
                  <a:lnTo>
                    <a:pt x="1456" y="1117"/>
                  </a:lnTo>
                  <a:lnTo>
                    <a:pt x="1478" y="1116"/>
                  </a:lnTo>
                  <a:lnTo>
                    <a:pt x="1499" y="1112"/>
                  </a:lnTo>
                  <a:lnTo>
                    <a:pt x="1521" y="1108"/>
                  </a:lnTo>
                  <a:lnTo>
                    <a:pt x="1536" y="1103"/>
                  </a:lnTo>
                  <a:lnTo>
                    <a:pt x="1549" y="1097"/>
                  </a:lnTo>
                  <a:lnTo>
                    <a:pt x="1561" y="1090"/>
                  </a:lnTo>
                  <a:lnTo>
                    <a:pt x="1572" y="1083"/>
                  </a:lnTo>
                  <a:lnTo>
                    <a:pt x="1582" y="1074"/>
                  </a:lnTo>
                  <a:lnTo>
                    <a:pt x="1594" y="1064"/>
                  </a:lnTo>
                  <a:lnTo>
                    <a:pt x="1608" y="1052"/>
                  </a:lnTo>
                  <a:lnTo>
                    <a:pt x="1623" y="1038"/>
                  </a:lnTo>
                  <a:lnTo>
                    <a:pt x="1643" y="1020"/>
                  </a:lnTo>
                  <a:lnTo>
                    <a:pt x="1665" y="1002"/>
                  </a:lnTo>
                  <a:lnTo>
                    <a:pt x="1685" y="983"/>
                  </a:lnTo>
                  <a:lnTo>
                    <a:pt x="1704" y="966"/>
                  </a:lnTo>
                  <a:lnTo>
                    <a:pt x="1722" y="951"/>
                  </a:lnTo>
                  <a:lnTo>
                    <a:pt x="1736" y="936"/>
                  </a:lnTo>
                  <a:lnTo>
                    <a:pt x="1747" y="923"/>
                  </a:lnTo>
                  <a:lnTo>
                    <a:pt x="1754" y="912"/>
                  </a:lnTo>
                  <a:lnTo>
                    <a:pt x="1761" y="893"/>
                  </a:lnTo>
                  <a:lnTo>
                    <a:pt x="1764" y="870"/>
                  </a:lnTo>
                  <a:lnTo>
                    <a:pt x="1767" y="845"/>
                  </a:lnTo>
                  <a:lnTo>
                    <a:pt x="1764" y="817"/>
                  </a:lnTo>
                  <a:lnTo>
                    <a:pt x="1762" y="801"/>
                  </a:lnTo>
                  <a:lnTo>
                    <a:pt x="1759" y="785"/>
                  </a:lnTo>
                  <a:lnTo>
                    <a:pt x="1755" y="770"/>
                  </a:lnTo>
                  <a:lnTo>
                    <a:pt x="1749" y="755"/>
                  </a:lnTo>
                  <a:lnTo>
                    <a:pt x="1742" y="742"/>
                  </a:lnTo>
                  <a:lnTo>
                    <a:pt x="1733" y="730"/>
                  </a:lnTo>
                  <a:lnTo>
                    <a:pt x="1721" y="719"/>
                  </a:lnTo>
                  <a:lnTo>
                    <a:pt x="1706" y="711"/>
                  </a:lnTo>
                  <a:lnTo>
                    <a:pt x="1709" y="709"/>
                  </a:lnTo>
                  <a:lnTo>
                    <a:pt x="1716" y="704"/>
                  </a:lnTo>
                  <a:lnTo>
                    <a:pt x="1727" y="694"/>
                  </a:lnTo>
                  <a:lnTo>
                    <a:pt x="1740" y="679"/>
                  </a:lnTo>
                  <a:lnTo>
                    <a:pt x="1752" y="659"/>
                  </a:lnTo>
                  <a:lnTo>
                    <a:pt x="1762" y="633"/>
                  </a:lnTo>
                  <a:lnTo>
                    <a:pt x="1769" y="602"/>
                  </a:lnTo>
                  <a:lnTo>
                    <a:pt x="1770" y="563"/>
                  </a:lnTo>
                  <a:lnTo>
                    <a:pt x="1767" y="537"/>
                  </a:lnTo>
                  <a:lnTo>
                    <a:pt x="1760" y="518"/>
                  </a:lnTo>
                  <a:lnTo>
                    <a:pt x="1752" y="504"/>
                  </a:lnTo>
                  <a:lnTo>
                    <a:pt x="1741" y="493"/>
                  </a:lnTo>
                  <a:lnTo>
                    <a:pt x="1730" y="485"/>
                  </a:lnTo>
                  <a:lnTo>
                    <a:pt x="1717" y="478"/>
                  </a:lnTo>
                  <a:lnTo>
                    <a:pt x="1704" y="470"/>
                  </a:lnTo>
                  <a:lnTo>
                    <a:pt x="1693" y="461"/>
                  </a:lnTo>
                  <a:lnTo>
                    <a:pt x="1695" y="460"/>
                  </a:lnTo>
                  <a:lnTo>
                    <a:pt x="1703" y="454"/>
                  </a:lnTo>
                  <a:lnTo>
                    <a:pt x="1713" y="445"/>
                  </a:lnTo>
                  <a:lnTo>
                    <a:pt x="1723" y="432"/>
                  </a:lnTo>
                  <a:lnTo>
                    <a:pt x="1731" y="414"/>
                  </a:lnTo>
                  <a:lnTo>
                    <a:pt x="1737" y="391"/>
                  </a:lnTo>
                  <a:lnTo>
                    <a:pt x="1738" y="363"/>
                  </a:lnTo>
                  <a:lnTo>
                    <a:pt x="1732" y="329"/>
                  </a:lnTo>
                  <a:lnTo>
                    <a:pt x="1724" y="304"/>
                  </a:lnTo>
                  <a:lnTo>
                    <a:pt x="1714" y="286"/>
                  </a:lnTo>
                  <a:lnTo>
                    <a:pt x="1701" y="275"/>
                  </a:lnTo>
                  <a:lnTo>
                    <a:pt x="1687" y="265"/>
                  </a:lnTo>
                  <a:lnTo>
                    <a:pt x="1672" y="258"/>
                  </a:lnTo>
                  <a:lnTo>
                    <a:pt x="1656" y="253"/>
                  </a:lnTo>
                  <a:lnTo>
                    <a:pt x="1641" y="247"/>
                  </a:lnTo>
                  <a:lnTo>
                    <a:pt x="1626" y="239"/>
                  </a:lnTo>
                  <a:lnTo>
                    <a:pt x="1627" y="233"/>
                  </a:lnTo>
                  <a:lnTo>
                    <a:pt x="1630" y="218"/>
                  </a:lnTo>
                  <a:lnTo>
                    <a:pt x="1631" y="196"/>
                  </a:lnTo>
                  <a:lnTo>
                    <a:pt x="1630" y="170"/>
                  </a:lnTo>
                  <a:lnTo>
                    <a:pt x="1627" y="155"/>
                  </a:lnTo>
                  <a:lnTo>
                    <a:pt x="1623" y="141"/>
                  </a:lnTo>
                  <a:lnTo>
                    <a:pt x="1617" y="126"/>
                  </a:lnTo>
                  <a:lnTo>
                    <a:pt x="1610" y="111"/>
                  </a:lnTo>
                  <a:lnTo>
                    <a:pt x="1600" y="97"/>
                  </a:lnTo>
                  <a:lnTo>
                    <a:pt x="1586" y="84"/>
                  </a:lnTo>
                  <a:lnTo>
                    <a:pt x="1571" y="73"/>
                  </a:lnTo>
                  <a:lnTo>
                    <a:pt x="1551" y="62"/>
                  </a:lnTo>
                  <a:lnTo>
                    <a:pt x="1539" y="57"/>
                  </a:lnTo>
                  <a:lnTo>
                    <a:pt x="1523" y="50"/>
                  </a:lnTo>
                  <a:lnTo>
                    <a:pt x="1505" y="44"/>
                  </a:lnTo>
                  <a:lnTo>
                    <a:pt x="1486" y="37"/>
                  </a:lnTo>
                  <a:lnTo>
                    <a:pt x="1465" y="31"/>
                  </a:lnTo>
                  <a:lnTo>
                    <a:pt x="1442" y="24"/>
                  </a:lnTo>
                  <a:lnTo>
                    <a:pt x="1418" y="19"/>
                  </a:lnTo>
                  <a:lnTo>
                    <a:pt x="1394" y="13"/>
                  </a:lnTo>
                  <a:lnTo>
                    <a:pt x="1367" y="8"/>
                  </a:lnTo>
                  <a:lnTo>
                    <a:pt x="1341" y="5"/>
                  </a:lnTo>
                  <a:lnTo>
                    <a:pt x="1313" y="3"/>
                  </a:lnTo>
                  <a:lnTo>
                    <a:pt x="1285" y="0"/>
                  </a:lnTo>
                  <a:lnTo>
                    <a:pt x="1258" y="0"/>
                  </a:lnTo>
                  <a:lnTo>
                    <a:pt x="1230" y="1"/>
                  </a:lnTo>
                  <a:lnTo>
                    <a:pt x="1202" y="4"/>
                  </a:lnTo>
                  <a:lnTo>
                    <a:pt x="1176" y="8"/>
                  </a:lnTo>
                  <a:lnTo>
                    <a:pt x="1144" y="15"/>
                  </a:lnTo>
                  <a:lnTo>
                    <a:pt x="1114" y="21"/>
                  </a:lnTo>
                  <a:lnTo>
                    <a:pt x="1085" y="27"/>
                  </a:lnTo>
                  <a:lnTo>
                    <a:pt x="1057" y="31"/>
                  </a:lnTo>
                  <a:lnTo>
                    <a:pt x="1032" y="36"/>
                  </a:lnTo>
                  <a:lnTo>
                    <a:pt x="1007" y="41"/>
                  </a:lnTo>
                  <a:lnTo>
                    <a:pt x="984" y="44"/>
                  </a:lnTo>
                  <a:lnTo>
                    <a:pt x="962" y="48"/>
                  </a:lnTo>
                  <a:lnTo>
                    <a:pt x="942" y="51"/>
                  </a:lnTo>
                  <a:lnTo>
                    <a:pt x="923" y="53"/>
                  </a:lnTo>
                  <a:lnTo>
                    <a:pt x="905" y="57"/>
                  </a:lnTo>
                  <a:lnTo>
                    <a:pt x="889" y="59"/>
                  </a:lnTo>
                  <a:lnTo>
                    <a:pt x="874" y="60"/>
                  </a:lnTo>
                  <a:lnTo>
                    <a:pt x="860" y="62"/>
                  </a:lnTo>
                  <a:lnTo>
                    <a:pt x="848" y="65"/>
                  </a:lnTo>
                  <a:lnTo>
                    <a:pt x="837" y="66"/>
                  </a:lnTo>
                  <a:lnTo>
                    <a:pt x="791" y="74"/>
                  </a:lnTo>
                  <a:lnTo>
                    <a:pt x="751" y="83"/>
                  </a:lnTo>
                  <a:lnTo>
                    <a:pt x="715" y="91"/>
                  </a:lnTo>
                  <a:lnTo>
                    <a:pt x="685" y="101"/>
                  </a:lnTo>
                  <a:lnTo>
                    <a:pt x="660" y="111"/>
                  </a:lnTo>
                  <a:lnTo>
                    <a:pt x="638" y="120"/>
                  </a:lnTo>
                  <a:lnTo>
                    <a:pt x="619" y="129"/>
                  </a:lnTo>
                  <a:lnTo>
                    <a:pt x="602" y="139"/>
                  </a:lnTo>
                  <a:lnTo>
                    <a:pt x="587" y="148"/>
                  </a:lnTo>
                  <a:lnTo>
                    <a:pt x="574" y="157"/>
                  </a:lnTo>
                  <a:lnTo>
                    <a:pt x="560" y="166"/>
                  </a:lnTo>
                  <a:lnTo>
                    <a:pt x="547" y="174"/>
                  </a:lnTo>
                  <a:lnTo>
                    <a:pt x="533" y="182"/>
                  </a:lnTo>
                  <a:lnTo>
                    <a:pt x="518" y="190"/>
                  </a:lnTo>
                  <a:lnTo>
                    <a:pt x="501" y="197"/>
                  </a:lnTo>
                  <a:lnTo>
                    <a:pt x="481" y="203"/>
                  </a:lnTo>
                  <a:lnTo>
                    <a:pt x="468" y="207"/>
                  </a:lnTo>
                  <a:lnTo>
                    <a:pt x="452" y="210"/>
                  </a:lnTo>
                  <a:lnTo>
                    <a:pt x="433" y="213"/>
                  </a:lnTo>
                  <a:lnTo>
                    <a:pt x="411" y="216"/>
                  </a:lnTo>
                  <a:lnTo>
                    <a:pt x="388" y="219"/>
                  </a:lnTo>
                  <a:lnTo>
                    <a:pt x="363" y="223"/>
                  </a:lnTo>
                  <a:lnTo>
                    <a:pt x="336" y="225"/>
                  </a:lnTo>
                  <a:lnTo>
                    <a:pt x="310" y="227"/>
                  </a:lnTo>
                  <a:lnTo>
                    <a:pt x="281" y="230"/>
                  </a:lnTo>
                  <a:lnTo>
                    <a:pt x="252" y="232"/>
                  </a:lnTo>
                  <a:lnTo>
                    <a:pt x="224" y="234"/>
                  </a:lnTo>
                  <a:lnTo>
                    <a:pt x="195" y="235"/>
                  </a:lnTo>
                  <a:lnTo>
                    <a:pt x="167" y="238"/>
                  </a:lnTo>
                  <a:lnTo>
                    <a:pt x="139" y="239"/>
                  </a:lnTo>
                  <a:lnTo>
                    <a:pt x="114" y="239"/>
                  </a:lnTo>
                  <a:lnTo>
                    <a:pt x="89" y="240"/>
                  </a:lnTo>
                  <a:lnTo>
                    <a:pt x="68" y="284"/>
                  </a:lnTo>
                  <a:lnTo>
                    <a:pt x="51" y="331"/>
                  </a:lnTo>
                  <a:lnTo>
                    <a:pt x="35" y="382"/>
                  </a:lnTo>
                  <a:lnTo>
                    <a:pt x="22" y="435"/>
                  </a:lnTo>
                  <a:lnTo>
                    <a:pt x="13" y="490"/>
                  </a:lnTo>
                  <a:lnTo>
                    <a:pt x="6" y="545"/>
                  </a:lnTo>
                  <a:lnTo>
                    <a:pt x="1" y="602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0" y="682"/>
                  </a:lnTo>
                  <a:lnTo>
                    <a:pt x="0" y="695"/>
                  </a:lnTo>
                  <a:lnTo>
                    <a:pt x="1" y="708"/>
                  </a:lnTo>
                  <a:lnTo>
                    <a:pt x="1" y="711"/>
                  </a:lnTo>
                  <a:lnTo>
                    <a:pt x="1" y="714"/>
                  </a:lnTo>
                  <a:lnTo>
                    <a:pt x="1" y="717"/>
                  </a:lnTo>
                  <a:lnTo>
                    <a:pt x="2" y="720"/>
                  </a:lnTo>
                  <a:lnTo>
                    <a:pt x="5" y="749"/>
                  </a:lnTo>
                  <a:lnTo>
                    <a:pt x="8" y="779"/>
                  </a:lnTo>
                  <a:lnTo>
                    <a:pt x="12" y="808"/>
                  </a:lnTo>
                  <a:lnTo>
                    <a:pt x="16" y="836"/>
                  </a:lnTo>
                  <a:lnTo>
                    <a:pt x="22" y="864"/>
                  </a:lnTo>
                  <a:lnTo>
                    <a:pt x="29" y="892"/>
                  </a:lnTo>
                  <a:lnTo>
                    <a:pt x="36" y="920"/>
                  </a:lnTo>
                  <a:lnTo>
                    <a:pt x="44" y="9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879800" y="2849040"/>
              <a:ext cx="284760" cy="124560"/>
            </a:xfrm>
            <a:custGeom>
              <a:avLst/>
              <a:gdLst/>
              <a:ahLst/>
              <a:rect l="l" t="t" r="r" b="b"/>
              <a:pathLst>
                <a:path w="189" h="82">
                  <a:moveTo>
                    <a:pt x="0" y="52"/>
                  </a:moveTo>
                  <a:lnTo>
                    <a:pt x="0" y="53"/>
                  </a:lnTo>
                  <a:lnTo>
                    <a:pt x="1" y="56"/>
                  </a:lnTo>
                  <a:lnTo>
                    <a:pt x="3" y="59"/>
                  </a:lnTo>
                  <a:lnTo>
                    <a:pt x="7" y="64"/>
                  </a:lnTo>
                  <a:lnTo>
                    <a:pt x="14" y="68"/>
                  </a:lnTo>
                  <a:lnTo>
                    <a:pt x="25" y="73"/>
                  </a:lnTo>
                  <a:lnTo>
                    <a:pt x="39" y="76"/>
                  </a:lnTo>
                  <a:lnTo>
                    <a:pt x="59" y="80"/>
                  </a:lnTo>
                  <a:lnTo>
                    <a:pt x="81" y="82"/>
                  </a:lnTo>
                  <a:lnTo>
                    <a:pt x="102" y="82"/>
                  </a:lnTo>
                  <a:lnTo>
                    <a:pt x="122" y="82"/>
                  </a:lnTo>
                  <a:lnTo>
                    <a:pt x="140" y="80"/>
                  </a:lnTo>
                  <a:lnTo>
                    <a:pt x="158" y="75"/>
                  </a:lnTo>
                  <a:lnTo>
                    <a:pt x="170" y="67"/>
                  </a:lnTo>
                  <a:lnTo>
                    <a:pt x="181" y="58"/>
                  </a:lnTo>
                  <a:lnTo>
                    <a:pt x="188" y="45"/>
                  </a:lnTo>
                  <a:lnTo>
                    <a:pt x="189" y="34"/>
                  </a:lnTo>
                  <a:lnTo>
                    <a:pt x="188" y="23"/>
                  </a:lnTo>
                  <a:lnTo>
                    <a:pt x="184" y="14"/>
                  </a:lnTo>
                  <a:lnTo>
                    <a:pt x="177" y="7"/>
                  </a:lnTo>
                  <a:lnTo>
                    <a:pt x="169" y="3"/>
                  </a:lnTo>
                  <a:lnTo>
                    <a:pt x="160" y="0"/>
                  </a:lnTo>
                  <a:lnTo>
                    <a:pt x="151" y="1"/>
                  </a:lnTo>
                  <a:lnTo>
                    <a:pt x="140" y="7"/>
                  </a:lnTo>
                  <a:lnTo>
                    <a:pt x="130" y="15"/>
                  </a:lnTo>
                  <a:lnTo>
                    <a:pt x="121" y="24"/>
                  </a:lnTo>
                  <a:lnTo>
                    <a:pt x="109" y="33"/>
                  </a:lnTo>
                  <a:lnTo>
                    <a:pt x="97" y="39"/>
                  </a:lnTo>
                  <a:lnTo>
                    <a:pt x="79" y="46"/>
                  </a:lnTo>
                  <a:lnTo>
                    <a:pt x="59" y="51"/>
                  </a:lnTo>
                  <a:lnTo>
                    <a:pt x="32" y="5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4906800" y="2512440"/>
              <a:ext cx="194760" cy="9684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0" y="39"/>
                  </a:moveTo>
                  <a:lnTo>
                    <a:pt x="4" y="39"/>
                  </a:lnTo>
                  <a:lnTo>
                    <a:pt x="15" y="39"/>
                  </a:lnTo>
                  <a:lnTo>
                    <a:pt x="30" y="39"/>
                  </a:lnTo>
                  <a:lnTo>
                    <a:pt x="50" y="37"/>
                  </a:lnTo>
                  <a:lnTo>
                    <a:pt x="69" y="33"/>
                  </a:lnTo>
                  <a:lnTo>
                    <a:pt x="90" y="26"/>
                  </a:lnTo>
                  <a:lnTo>
                    <a:pt x="108" y="15"/>
                  </a:lnTo>
                  <a:lnTo>
                    <a:pt x="123" y="0"/>
                  </a:lnTo>
                  <a:lnTo>
                    <a:pt x="125" y="2"/>
                  </a:lnTo>
                  <a:lnTo>
                    <a:pt x="126" y="7"/>
                  </a:lnTo>
                  <a:lnTo>
                    <a:pt x="128" y="14"/>
                  </a:lnTo>
                  <a:lnTo>
                    <a:pt x="129" y="23"/>
                  </a:lnTo>
                  <a:lnTo>
                    <a:pt x="128" y="32"/>
                  </a:lnTo>
                  <a:lnTo>
                    <a:pt x="125" y="42"/>
                  </a:lnTo>
                  <a:lnTo>
                    <a:pt x="118" y="51"/>
                  </a:lnTo>
                  <a:lnTo>
                    <a:pt x="106" y="57"/>
                  </a:lnTo>
                  <a:lnTo>
                    <a:pt x="91" y="62"/>
                  </a:lnTo>
                  <a:lnTo>
                    <a:pt x="75" y="63"/>
                  </a:lnTo>
                  <a:lnTo>
                    <a:pt x="59" y="63"/>
                  </a:lnTo>
                  <a:lnTo>
                    <a:pt x="43" y="60"/>
                  </a:lnTo>
                  <a:lnTo>
                    <a:pt x="28" y="56"/>
                  </a:lnTo>
                  <a:lnTo>
                    <a:pt x="16" y="51"/>
                  </a:lnTo>
                  <a:lnTo>
                    <a:pt x="6" y="4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897800" y="2181240"/>
              <a:ext cx="158040" cy="8784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0" y="28"/>
                  </a:moveTo>
                  <a:lnTo>
                    <a:pt x="4" y="28"/>
                  </a:lnTo>
                  <a:lnTo>
                    <a:pt x="14" y="27"/>
                  </a:lnTo>
                  <a:lnTo>
                    <a:pt x="28" y="24"/>
                  </a:lnTo>
                  <a:lnTo>
                    <a:pt x="45" y="22"/>
                  </a:lnTo>
                  <a:lnTo>
                    <a:pt x="62" y="19"/>
                  </a:lnTo>
                  <a:lnTo>
                    <a:pt x="78" y="14"/>
                  </a:lnTo>
                  <a:lnTo>
                    <a:pt x="90" y="9"/>
                  </a:lnTo>
                  <a:lnTo>
                    <a:pt x="97" y="4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5" y="8"/>
                  </a:lnTo>
                  <a:lnTo>
                    <a:pt x="104" y="16"/>
                  </a:lnTo>
                  <a:lnTo>
                    <a:pt x="100" y="27"/>
                  </a:lnTo>
                  <a:lnTo>
                    <a:pt x="91" y="37"/>
                  </a:lnTo>
                  <a:lnTo>
                    <a:pt x="78" y="47"/>
                  </a:lnTo>
                  <a:lnTo>
                    <a:pt x="59" y="55"/>
                  </a:lnTo>
                  <a:lnTo>
                    <a:pt x="47" y="58"/>
                  </a:lnTo>
                  <a:lnTo>
                    <a:pt x="35" y="57"/>
                  </a:lnTo>
                  <a:lnTo>
                    <a:pt x="25" y="52"/>
                  </a:lnTo>
                  <a:lnTo>
                    <a:pt x="17" y="46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372560" y="3225600"/>
              <a:ext cx="1253880" cy="609840"/>
            </a:xfrm>
            <a:custGeom>
              <a:avLst/>
              <a:gdLst/>
              <a:ahLst/>
              <a:rect l="l" t="t" r="r" b="b"/>
              <a:pathLst>
                <a:path w="826" h="402">
                  <a:moveTo>
                    <a:pt x="826" y="14"/>
                  </a:moveTo>
                  <a:lnTo>
                    <a:pt x="825" y="14"/>
                  </a:lnTo>
                  <a:lnTo>
                    <a:pt x="822" y="16"/>
                  </a:lnTo>
                  <a:lnTo>
                    <a:pt x="818" y="17"/>
                  </a:lnTo>
                  <a:lnTo>
                    <a:pt x="812" y="21"/>
                  </a:lnTo>
                  <a:lnTo>
                    <a:pt x="805" y="23"/>
                  </a:lnTo>
                  <a:lnTo>
                    <a:pt x="796" y="26"/>
                  </a:lnTo>
                  <a:lnTo>
                    <a:pt x="785" y="29"/>
                  </a:lnTo>
                  <a:lnTo>
                    <a:pt x="773" y="32"/>
                  </a:lnTo>
                  <a:lnTo>
                    <a:pt x="759" y="35"/>
                  </a:lnTo>
                  <a:lnTo>
                    <a:pt x="744" y="36"/>
                  </a:lnTo>
                  <a:lnTo>
                    <a:pt x="727" y="37"/>
                  </a:lnTo>
                  <a:lnTo>
                    <a:pt x="707" y="37"/>
                  </a:lnTo>
                  <a:lnTo>
                    <a:pt x="688" y="36"/>
                  </a:lnTo>
                  <a:lnTo>
                    <a:pt x="666" y="33"/>
                  </a:lnTo>
                  <a:lnTo>
                    <a:pt x="643" y="30"/>
                  </a:lnTo>
                  <a:lnTo>
                    <a:pt x="617" y="24"/>
                  </a:lnTo>
                  <a:lnTo>
                    <a:pt x="593" y="18"/>
                  </a:lnTo>
                  <a:lnTo>
                    <a:pt x="573" y="13"/>
                  </a:lnTo>
                  <a:lnTo>
                    <a:pt x="557" y="9"/>
                  </a:lnTo>
                  <a:lnTo>
                    <a:pt x="544" y="6"/>
                  </a:lnTo>
                  <a:lnTo>
                    <a:pt x="534" y="3"/>
                  </a:lnTo>
                  <a:lnTo>
                    <a:pt x="527" y="1"/>
                  </a:lnTo>
                  <a:lnTo>
                    <a:pt x="523" y="0"/>
                  </a:lnTo>
                  <a:lnTo>
                    <a:pt x="522" y="0"/>
                  </a:lnTo>
                  <a:lnTo>
                    <a:pt x="521" y="0"/>
                  </a:lnTo>
                  <a:lnTo>
                    <a:pt x="517" y="2"/>
                  </a:lnTo>
                  <a:lnTo>
                    <a:pt x="512" y="5"/>
                  </a:lnTo>
                  <a:lnTo>
                    <a:pt x="506" y="7"/>
                  </a:lnTo>
                  <a:lnTo>
                    <a:pt x="497" y="10"/>
                  </a:lnTo>
                  <a:lnTo>
                    <a:pt x="487" y="14"/>
                  </a:lnTo>
                  <a:lnTo>
                    <a:pt x="477" y="17"/>
                  </a:lnTo>
                  <a:lnTo>
                    <a:pt x="464" y="20"/>
                  </a:lnTo>
                  <a:lnTo>
                    <a:pt x="450" y="22"/>
                  </a:lnTo>
                  <a:lnTo>
                    <a:pt x="435" y="24"/>
                  </a:lnTo>
                  <a:lnTo>
                    <a:pt x="420" y="24"/>
                  </a:lnTo>
                  <a:lnTo>
                    <a:pt x="404" y="24"/>
                  </a:lnTo>
                  <a:lnTo>
                    <a:pt x="387" y="23"/>
                  </a:lnTo>
                  <a:lnTo>
                    <a:pt x="371" y="20"/>
                  </a:lnTo>
                  <a:lnTo>
                    <a:pt x="352" y="14"/>
                  </a:lnTo>
                  <a:lnTo>
                    <a:pt x="335" y="7"/>
                  </a:lnTo>
                  <a:lnTo>
                    <a:pt x="340" y="16"/>
                  </a:lnTo>
                  <a:lnTo>
                    <a:pt x="348" y="37"/>
                  </a:lnTo>
                  <a:lnTo>
                    <a:pt x="351" y="61"/>
                  </a:lnTo>
                  <a:lnTo>
                    <a:pt x="343" y="81"/>
                  </a:lnTo>
                  <a:lnTo>
                    <a:pt x="335" y="86"/>
                  </a:lnTo>
                  <a:lnTo>
                    <a:pt x="326" y="90"/>
                  </a:lnTo>
                  <a:lnTo>
                    <a:pt x="316" y="93"/>
                  </a:lnTo>
                  <a:lnTo>
                    <a:pt x="305" y="97"/>
                  </a:lnTo>
                  <a:lnTo>
                    <a:pt x="293" y="99"/>
                  </a:lnTo>
                  <a:lnTo>
                    <a:pt x="280" y="101"/>
                  </a:lnTo>
                  <a:lnTo>
                    <a:pt x="266" y="104"/>
                  </a:lnTo>
                  <a:lnTo>
                    <a:pt x="253" y="106"/>
                  </a:lnTo>
                  <a:lnTo>
                    <a:pt x="238" y="108"/>
                  </a:lnTo>
                  <a:lnTo>
                    <a:pt x="225" y="112"/>
                  </a:lnTo>
                  <a:lnTo>
                    <a:pt x="211" y="115"/>
                  </a:lnTo>
                  <a:lnTo>
                    <a:pt x="197" y="120"/>
                  </a:lnTo>
                  <a:lnTo>
                    <a:pt x="183" y="126"/>
                  </a:lnTo>
                  <a:lnTo>
                    <a:pt x="169" y="131"/>
                  </a:lnTo>
                  <a:lnTo>
                    <a:pt x="157" y="141"/>
                  </a:lnTo>
                  <a:lnTo>
                    <a:pt x="145" y="150"/>
                  </a:lnTo>
                  <a:lnTo>
                    <a:pt x="121" y="166"/>
                  </a:lnTo>
                  <a:lnTo>
                    <a:pt x="93" y="175"/>
                  </a:lnTo>
                  <a:lnTo>
                    <a:pt x="67" y="179"/>
                  </a:lnTo>
                  <a:lnTo>
                    <a:pt x="41" y="182"/>
                  </a:lnTo>
                  <a:lnTo>
                    <a:pt x="20" y="187"/>
                  </a:lnTo>
                  <a:lnTo>
                    <a:pt x="6" y="196"/>
                  </a:lnTo>
                  <a:lnTo>
                    <a:pt x="0" y="213"/>
                  </a:lnTo>
                  <a:lnTo>
                    <a:pt x="5" y="243"/>
                  </a:lnTo>
                  <a:lnTo>
                    <a:pt x="12" y="260"/>
                  </a:lnTo>
                  <a:lnTo>
                    <a:pt x="18" y="274"/>
                  </a:lnTo>
                  <a:lnTo>
                    <a:pt x="28" y="286"/>
                  </a:lnTo>
                  <a:lnTo>
                    <a:pt x="38" y="296"/>
                  </a:lnTo>
                  <a:lnTo>
                    <a:pt x="50" y="304"/>
                  </a:lnTo>
                  <a:lnTo>
                    <a:pt x="62" y="311"/>
                  </a:lnTo>
                  <a:lnTo>
                    <a:pt x="75" y="318"/>
                  </a:lnTo>
                  <a:lnTo>
                    <a:pt x="89" y="324"/>
                  </a:lnTo>
                  <a:lnTo>
                    <a:pt x="104" y="331"/>
                  </a:lnTo>
                  <a:lnTo>
                    <a:pt x="117" y="336"/>
                  </a:lnTo>
                  <a:lnTo>
                    <a:pt x="132" y="343"/>
                  </a:lnTo>
                  <a:lnTo>
                    <a:pt x="149" y="351"/>
                  </a:lnTo>
                  <a:lnTo>
                    <a:pt x="164" y="362"/>
                  </a:lnTo>
                  <a:lnTo>
                    <a:pt x="179" y="373"/>
                  </a:lnTo>
                  <a:lnTo>
                    <a:pt x="193" y="386"/>
                  </a:lnTo>
                  <a:lnTo>
                    <a:pt x="208" y="402"/>
                  </a:lnTo>
                  <a:lnTo>
                    <a:pt x="207" y="397"/>
                  </a:lnTo>
                  <a:lnTo>
                    <a:pt x="203" y="386"/>
                  </a:lnTo>
                  <a:lnTo>
                    <a:pt x="197" y="368"/>
                  </a:lnTo>
                  <a:lnTo>
                    <a:pt x="192" y="347"/>
                  </a:lnTo>
                  <a:lnTo>
                    <a:pt x="188" y="325"/>
                  </a:lnTo>
                  <a:lnTo>
                    <a:pt x="187" y="303"/>
                  </a:lnTo>
                  <a:lnTo>
                    <a:pt x="189" y="283"/>
                  </a:lnTo>
                  <a:lnTo>
                    <a:pt x="196" y="268"/>
                  </a:lnTo>
                  <a:lnTo>
                    <a:pt x="205" y="257"/>
                  </a:lnTo>
                  <a:lnTo>
                    <a:pt x="213" y="247"/>
                  </a:lnTo>
                  <a:lnTo>
                    <a:pt x="222" y="237"/>
                  </a:lnTo>
                  <a:lnTo>
                    <a:pt x="233" y="228"/>
                  </a:lnTo>
                  <a:lnTo>
                    <a:pt x="245" y="221"/>
                  </a:lnTo>
                  <a:lnTo>
                    <a:pt x="261" y="213"/>
                  </a:lnTo>
                  <a:lnTo>
                    <a:pt x="282" y="207"/>
                  </a:lnTo>
                  <a:lnTo>
                    <a:pt x="309" y="202"/>
                  </a:lnTo>
                  <a:lnTo>
                    <a:pt x="342" y="197"/>
                  </a:lnTo>
                  <a:lnTo>
                    <a:pt x="373" y="195"/>
                  </a:lnTo>
                  <a:lnTo>
                    <a:pt x="404" y="192"/>
                  </a:lnTo>
                  <a:lnTo>
                    <a:pt x="433" y="192"/>
                  </a:lnTo>
                  <a:lnTo>
                    <a:pt x="459" y="194"/>
                  </a:lnTo>
                  <a:lnTo>
                    <a:pt x="485" y="195"/>
                  </a:lnTo>
                  <a:lnTo>
                    <a:pt x="509" y="197"/>
                  </a:lnTo>
                  <a:lnTo>
                    <a:pt x="531" y="198"/>
                  </a:lnTo>
                  <a:lnTo>
                    <a:pt x="552" y="199"/>
                  </a:lnTo>
                  <a:lnTo>
                    <a:pt x="571" y="200"/>
                  </a:lnTo>
                  <a:lnTo>
                    <a:pt x="590" y="200"/>
                  </a:lnTo>
                  <a:lnTo>
                    <a:pt x="606" y="199"/>
                  </a:lnTo>
                  <a:lnTo>
                    <a:pt x="620" y="197"/>
                  </a:lnTo>
                  <a:lnTo>
                    <a:pt x="633" y="192"/>
                  </a:lnTo>
                  <a:lnTo>
                    <a:pt x="645" y="185"/>
                  </a:lnTo>
                  <a:lnTo>
                    <a:pt x="655" y="176"/>
                  </a:lnTo>
                  <a:lnTo>
                    <a:pt x="684" y="149"/>
                  </a:lnTo>
                  <a:lnTo>
                    <a:pt x="714" y="126"/>
                  </a:lnTo>
                  <a:lnTo>
                    <a:pt x="743" y="106"/>
                  </a:lnTo>
                  <a:lnTo>
                    <a:pt x="769" y="89"/>
                  </a:lnTo>
                  <a:lnTo>
                    <a:pt x="792" y="71"/>
                  </a:lnTo>
                  <a:lnTo>
                    <a:pt x="811" y="54"/>
                  </a:lnTo>
                  <a:lnTo>
                    <a:pt x="822" y="36"/>
                  </a:lnTo>
                  <a:lnTo>
                    <a:pt x="8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064680" y="3073320"/>
              <a:ext cx="1535400" cy="1213920"/>
            </a:xfrm>
            <a:custGeom>
              <a:avLst/>
              <a:gdLst/>
              <a:ahLst/>
              <a:rect l="l" t="t" r="r" b="b"/>
              <a:pathLst>
                <a:path w="1013" h="799">
                  <a:moveTo>
                    <a:pt x="521" y="318"/>
                  </a:moveTo>
                  <a:lnTo>
                    <a:pt x="537" y="327"/>
                  </a:lnTo>
                  <a:lnTo>
                    <a:pt x="553" y="336"/>
                  </a:lnTo>
                  <a:lnTo>
                    <a:pt x="568" y="345"/>
                  </a:lnTo>
                  <a:lnTo>
                    <a:pt x="583" y="355"/>
                  </a:lnTo>
                  <a:lnTo>
                    <a:pt x="597" y="364"/>
                  </a:lnTo>
                  <a:lnTo>
                    <a:pt x="611" y="373"/>
                  </a:lnTo>
                  <a:lnTo>
                    <a:pt x="625" y="382"/>
                  </a:lnTo>
                  <a:lnTo>
                    <a:pt x="636" y="391"/>
                  </a:lnTo>
                  <a:lnTo>
                    <a:pt x="648" y="401"/>
                  </a:lnTo>
                  <a:lnTo>
                    <a:pt x="659" y="410"/>
                  </a:lnTo>
                  <a:lnTo>
                    <a:pt x="670" y="420"/>
                  </a:lnTo>
                  <a:lnTo>
                    <a:pt x="679" y="430"/>
                  </a:lnTo>
                  <a:lnTo>
                    <a:pt x="688" y="440"/>
                  </a:lnTo>
                  <a:lnTo>
                    <a:pt x="695" y="450"/>
                  </a:lnTo>
                  <a:lnTo>
                    <a:pt x="703" y="461"/>
                  </a:lnTo>
                  <a:lnTo>
                    <a:pt x="709" y="472"/>
                  </a:lnTo>
                  <a:lnTo>
                    <a:pt x="716" y="484"/>
                  </a:lnTo>
                  <a:lnTo>
                    <a:pt x="724" y="496"/>
                  </a:lnTo>
                  <a:lnTo>
                    <a:pt x="734" y="509"/>
                  </a:lnTo>
                  <a:lnTo>
                    <a:pt x="745" y="523"/>
                  </a:lnTo>
                  <a:lnTo>
                    <a:pt x="757" y="537"/>
                  </a:lnTo>
                  <a:lnTo>
                    <a:pt x="771" y="550"/>
                  </a:lnTo>
                  <a:lnTo>
                    <a:pt x="785" y="565"/>
                  </a:lnTo>
                  <a:lnTo>
                    <a:pt x="799" y="580"/>
                  </a:lnTo>
                  <a:lnTo>
                    <a:pt x="814" y="595"/>
                  </a:lnTo>
                  <a:lnTo>
                    <a:pt x="829" y="610"/>
                  </a:lnTo>
                  <a:lnTo>
                    <a:pt x="844" y="624"/>
                  </a:lnTo>
                  <a:lnTo>
                    <a:pt x="857" y="639"/>
                  </a:lnTo>
                  <a:lnTo>
                    <a:pt x="871" y="654"/>
                  </a:lnTo>
                  <a:lnTo>
                    <a:pt x="884" y="668"/>
                  </a:lnTo>
                  <a:lnTo>
                    <a:pt x="895" y="682"/>
                  </a:lnTo>
                  <a:lnTo>
                    <a:pt x="906" y="696"/>
                  </a:lnTo>
                  <a:lnTo>
                    <a:pt x="925" y="721"/>
                  </a:lnTo>
                  <a:lnTo>
                    <a:pt x="946" y="744"/>
                  </a:lnTo>
                  <a:lnTo>
                    <a:pt x="967" y="763"/>
                  </a:lnTo>
                  <a:lnTo>
                    <a:pt x="984" y="779"/>
                  </a:lnTo>
                  <a:lnTo>
                    <a:pt x="999" y="790"/>
                  </a:lnTo>
                  <a:lnTo>
                    <a:pt x="1008" y="797"/>
                  </a:lnTo>
                  <a:lnTo>
                    <a:pt x="1013" y="799"/>
                  </a:lnTo>
                  <a:lnTo>
                    <a:pt x="1011" y="795"/>
                  </a:lnTo>
                  <a:lnTo>
                    <a:pt x="1003" y="786"/>
                  </a:lnTo>
                  <a:lnTo>
                    <a:pt x="996" y="774"/>
                  </a:lnTo>
                  <a:lnTo>
                    <a:pt x="988" y="763"/>
                  </a:lnTo>
                  <a:lnTo>
                    <a:pt x="981" y="750"/>
                  </a:lnTo>
                  <a:lnTo>
                    <a:pt x="974" y="737"/>
                  </a:lnTo>
                  <a:lnTo>
                    <a:pt x="968" y="726"/>
                  </a:lnTo>
                  <a:lnTo>
                    <a:pt x="963" y="713"/>
                  </a:lnTo>
                  <a:lnTo>
                    <a:pt x="959" y="703"/>
                  </a:lnTo>
                  <a:lnTo>
                    <a:pt x="954" y="695"/>
                  </a:lnTo>
                  <a:lnTo>
                    <a:pt x="948" y="686"/>
                  </a:lnTo>
                  <a:lnTo>
                    <a:pt x="940" y="678"/>
                  </a:lnTo>
                  <a:lnTo>
                    <a:pt x="933" y="673"/>
                  </a:lnTo>
                  <a:lnTo>
                    <a:pt x="925" y="666"/>
                  </a:lnTo>
                  <a:lnTo>
                    <a:pt x="918" y="661"/>
                  </a:lnTo>
                  <a:lnTo>
                    <a:pt x="914" y="656"/>
                  </a:lnTo>
                  <a:lnTo>
                    <a:pt x="912" y="653"/>
                  </a:lnTo>
                  <a:lnTo>
                    <a:pt x="909" y="646"/>
                  </a:lnTo>
                  <a:lnTo>
                    <a:pt x="907" y="636"/>
                  </a:lnTo>
                  <a:lnTo>
                    <a:pt x="903" y="625"/>
                  </a:lnTo>
                  <a:lnTo>
                    <a:pt x="899" y="613"/>
                  </a:lnTo>
                  <a:lnTo>
                    <a:pt x="892" y="600"/>
                  </a:lnTo>
                  <a:lnTo>
                    <a:pt x="883" y="589"/>
                  </a:lnTo>
                  <a:lnTo>
                    <a:pt x="871" y="577"/>
                  </a:lnTo>
                  <a:lnTo>
                    <a:pt x="856" y="567"/>
                  </a:lnTo>
                  <a:lnTo>
                    <a:pt x="845" y="560"/>
                  </a:lnTo>
                  <a:lnTo>
                    <a:pt x="834" y="550"/>
                  </a:lnTo>
                  <a:lnTo>
                    <a:pt x="824" y="540"/>
                  </a:lnTo>
                  <a:lnTo>
                    <a:pt x="813" y="529"/>
                  </a:lnTo>
                  <a:lnTo>
                    <a:pt x="802" y="516"/>
                  </a:lnTo>
                  <a:lnTo>
                    <a:pt x="792" y="502"/>
                  </a:lnTo>
                  <a:lnTo>
                    <a:pt x="781" y="487"/>
                  </a:lnTo>
                  <a:lnTo>
                    <a:pt x="771" y="471"/>
                  </a:lnTo>
                  <a:lnTo>
                    <a:pt x="760" y="455"/>
                  </a:lnTo>
                  <a:lnTo>
                    <a:pt x="748" y="438"/>
                  </a:lnTo>
                  <a:lnTo>
                    <a:pt x="735" y="419"/>
                  </a:lnTo>
                  <a:lnTo>
                    <a:pt x="723" y="401"/>
                  </a:lnTo>
                  <a:lnTo>
                    <a:pt x="709" y="382"/>
                  </a:lnTo>
                  <a:lnTo>
                    <a:pt x="695" y="364"/>
                  </a:lnTo>
                  <a:lnTo>
                    <a:pt x="680" y="345"/>
                  </a:lnTo>
                  <a:lnTo>
                    <a:pt x="664" y="327"/>
                  </a:lnTo>
                  <a:lnTo>
                    <a:pt x="641" y="292"/>
                  </a:lnTo>
                  <a:lnTo>
                    <a:pt x="633" y="262"/>
                  </a:lnTo>
                  <a:lnTo>
                    <a:pt x="635" y="235"/>
                  </a:lnTo>
                  <a:lnTo>
                    <a:pt x="642" y="207"/>
                  </a:lnTo>
                  <a:lnTo>
                    <a:pt x="647" y="178"/>
                  </a:lnTo>
                  <a:lnTo>
                    <a:pt x="644" y="147"/>
                  </a:lnTo>
                  <a:lnTo>
                    <a:pt x="629" y="111"/>
                  </a:lnTo>
                  <a:lnTo>
                    <a:pt x="596" y="70"/>
                  </a:lnTo>
                  <a:lnTo>
                    <a:pt x="574" y="49"/>
                  </a:lnTo>
                  <a:lnTo>
                    <a:pt x="553" y="33"/>
                  </a:lnTo>
                  <a:lnTo>
                    <a:pt x="533" y="20"/>
                  </a:lnTo>
                  <a:lnTo>
                    <a:pt x="513" y="11"/>
                  </a:lnTo>
                  <a:lnTo>
                    <a:pt x="494" y="4"/>
                  </a:lnTo>
                  <a:lnTo>
                    <a:pt x="474" y="1"/>
                  </a:lnTo>
                  <a:lnTo>
                    <a:pt x="456" y="0"/>
                  </a:lnTo>
                  <a:lnTo>
                    <a:pt x="436" y="0"/>
                  </a:lnTo>
                  <a:lnTo>
                    <a:pt x="416" y="1"/>
                  </a:lnTo>
                  <a:lnTo>
                    <a:pt x="397" y="4"/>
                  </a:lnTo>
                  <a:lnTo>
                    <a:pt x="376" y="8"/>
                  </a:lnTo>
                  <a:lnTo>
                    <a:pt x="355" y="11"/>
                  </a:lnTo>
                  <a:lnTo>
                    <a:pt x="333" y="16"/>
                  </a:lnTo>
                  <a:lnTo>
                    <a:pt x="310" y="19"/>
                  </a:lnTo>
                  <a:lnTo>
                    <a:pt x="286" y="22"/>
                  </a:lnTo>
                  <a:lnTo>
                    <a:pt x="261" y="24"/>
                  </a:lnTo>
                  <a:lnTo>
                    <a:pt x="242" y="25"/>
                  </a:lnTo>
                  <a:lnTo>
                    <a:pt x="225" y="26"/>
                  </a:lnTo>
                  <a:lnTo>
                    <a:pt x="207" y="26"/>
                  </a:lnTo>
                  <a:lnTo>
                    <a:pt x="188" y="26"/>
                  </a:lnTo>
                  <a:lnTo>
                    <a:pt x="170" y="27"/>
                  </a:lnTo>
                  <a:lnTo>
                    <a:pt x="152" y="27"/>
                  </a:lnTo>
                  <a:lnTo>
                    <a:pt x="134" y="27"/>
                  </a:lnTo>
                  <a:lnTo>
                    <a:pt x="117" y="27"/>
                  </a:lnTo>
                  <a:lnTo>
                    <a:pt x="100" y="26"/>
                  </a:lnTo>
                  <a:lnTo>
                    <a:pt x="82" y="26"/>
                  </a:lnTo>
                  <a:lnTo>
                    <a:pt x="67" y="26"/>
                  </a:lnTo>
                  <a:lnTo>
                    <a:pt x="51" y="26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4" y="49"/>
                  </a:lnTo>
                  <a:lnTo>
                    <a:pt x="9" y="73"/>
                  </a:lnTo>
                  <a:lnTo>
                    <a:pt x="13" y="99"/>
                  </a:lnTo>
                  <a:lnTo>
                    <a:pt x="19" y="123"/>
                  </a:lnTo>
                  <a:lnTo>
                    <a:pt x="38" y="124"/>
                  </a:lnTo>
                  <a:lnTo>
                    <a:pt x="56" y="126"/>
                  </a:lnTo>
                  <a:lnTo>
                    <a:pt x="76" y="128"/>
                  </a:lnTo>
                  <a:lnTo>
                    <a:pt x="97" y="130"/>
                  </a:lnTo>
                  <a:lnTo>
                    <a:pt x="118" y="131"/>
                  </a:lnTo>
                  <a:lnTo>
                    <a:pt x="140" y="133"/>
                  </a:lnTo>
                  <a:lnTo>
                    <a:pt x="162" y="136"/>
                  </a:lnTo>
                  <a:lnTo>
                    <a:pt x="185" y="138"/>
                  </a:lnTo>
                  <a:lnTo>
                    <a:pt x="207" y="140"/>
                  </a:lnTo>
                  <a:lnTo>
                    <a:pt x="229" y="144"/>
                  </a:lnTo>
                  <a:lnTo>
                    <a:pt x="249" y="146"/>
                  </a:lnTo>
                  <a:lnTo>
                    <a:pt x="270" y="150"/>
                  </a:lnTo>
                  <a:lnTo>
                    <a:pt x="290" y="153"/>
                  </a:lnTo>
                  <a:lnTo>
                    <a:pt x="309" y="156"/>
                  </a:lnTo>
                  <a:lnTo>
                    <a:pt x="327" y="160"/>
                  </a:lnTo>
                  <a:lnTo>
                    <a:pt x="343" y="164"/>
                  </a:lnTo>
                  <a:lnTo>
                    <a:pt x="377" y="177"/>
                  </a:lnTo>
                  <a:lnTo>
                    <a:pt x="403" y="193"/>
                  </a:lnTo>
                  <a:lnTo>
                    <a:pt x="422" y="213"/>
                  </a:lnTo>
                  <a:lnTo>
                    <a:pt x="438" y="234"/>
                  </a:lnTo>
                  <a:lnTo>
                    <a:pt x="453" y="256"/>
                  </a:lnTo>
                  <a:lnTo>
                    <a:pt x="470" y="277"/>
                  </a:lnTo>
                  <a:lnTo>
                    <a:pt x="492" y="298"/>
                  </a:lnTo>
                  <a:lnTo>
                    <a:pt x="521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261760" y="2784960"/>
              <a:ext cx="397800" cy="173160"/>
            </a:xfrm>
            <a:custGeom>
              <a:avLst/>
              <a:gdLst/>
              <a:ahLst/>
              <a:rect l="l" t="t" r="r" b="b"/>
              <a:pathLst>
                <a:path w="263" h="115">
                  <a:moveTo>
                    <a:pt x="263" y="0"/>
                  </a:moveTo>
                  <a:lnTo>
                    <a:pt x="263" y="4"/>
                  </a:lnTo>
                  <a:lnTo>
                    <a:pt x="262" y="18"/>
                  </a:lnTo>
                  <a:lnTo>
                    <a:pt x="258" y="36"/>
                  </a:lnTo>
                  <a:lnTo>
                    <a:pt x="252" y="58"/>
                  </a:lnTo>
                  <a:lnTo>
                    <a:pt x="241" y="79"/>
                  </a:lnTo>
                  <a:lnTo>
                    <a:pt x="225" y="98"/>
                  </a:lnTo>
                  <a:lnTo>
                    <a:pt x="201" y="110"/>
                  </a:lnTo>
                  <a:lnTo>
                    <a:pt x="169" y="115"/>
                  </a:lnTo>
                  <a:lnTo>
                    <a:pt x="135" y="113"/>
                  </a:lnTo>
                  <a:lnTo>
                    <a:pt x="104" y="110"/>
                  </a:lnTo>
                  <a:lnTo>
                    <a:pt x="76" y="106"/>
                  </a:lnTo>
                  <a:lnTo>
                    <a:pt x="53" y="101"/>
                  </a:lnTo>
                  <a:lnTo>
                    <a:pt x="35" y="96"/>
                  </a:lnTo>
                  <a:lnTo>
                    <a:pt x="21" y="93"/>
                  </a:lnTo>
                  <a:lnTo>
                    <a:pt x="13" y="91"/>
                  </a:lnTo>
                  <a:lnTo>
                    <a:pt x="9" y="89"/>
                  </a:lnTo>
                  <a:lnTo>
                    <a:pt x="8" y="88"/>
                  </a:lnTo>
                  <a:lnTo>
                    <a:pt x="5" y="85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4" y="68"/>
                  </a:lnTo>
                  <a:lnTo>
                    <a:pt x="12" y="66"/>
                  </a:lnTo>
                  <a:lnTo>
                    <a:pt x="27" y="69"/>
                  </a:lnTo>
                  <a:lnTo>
                    <a:pt x="46" y="72"/>
                  </a:lnTo>
                  <a:lnTo>
                    <a:pt x="70" y="76"/>
                  </a:lnTo>
                  <a:lnTo>
                    <a:pt x="96" y="78"/>
                  </a:lnTo>
                  <a:lnTo>
                    <a:pt x="122" y="78"/>
                  </a:lnTo>
                  <a:lnTo>
                    <a:pt x="148" y="78"/>
                  </a:lnTo>
                  <a:lnTo>
                    <a:pt x="171" y="76"/>
                  </a:lnTo>
                  <a:lnTo>
                    <a:pt x="189" y="72"/>
                  </a:lnTo>
                  <a:lnTo>
                    <a:pt x="203" y="68"/>
                  </a:lnTo>
                  <a:lnTo>
                    <a:pt x="213" y="62"/>
                  </a:lnTo>
                  <a:lnTo>
                    <a:pt x="222" y="55"/>
                  </a:lnTo>
                  <a:lnTo>
                    <a:pt x="232" y="48"/>
                  </a:lnTo>
                  <a:lnTo>
                    <a:pt x="241" y="40"/>
                  </a:lnTo>
                  <a:lnTo>
                    <a:pt x="248" y="32"/>
                  </a:lnTo>
                  <a:lnTo>
                    <a:pt x="255" y="22"/>
                  </a:lnTo>
                  <a:lnTo>
                    <a:pt x="259" y="11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222520" y="2436120"/>
              <a:ext cx="412920" cy="139680"/>
            </a:xfrm>
            <a:custGeom>
              <a:avLst/>
              <a:gdLst/>
              <a:ahLst/>
              <a:rect l="l" t="t" r="r" b="b"/>
              <a:pathLst>
                <a:path w="272" h="92">
                  <a:moveTo>
                    <a:pt x="272" y="0"/>
                  </a:moveTo>
                  <a:lnTo>
                    <a:pt x="272" y="4"/>
                  </a:lnTo>
                  <a:lnTo>
                    <a:pt x="270" y="13"/>
                  </a:lnTo>
                  <a:lnTo>
                    <a:pt x="268" y="26"/>
                  </a:lnTo>
                  <a:lnTo>
                    <a:pt x="265" y="41"/>
                  </a:lnTo>
                  <a:lnTo>
                    <a:pt x="259" y="57"/>
                  </a:lnTo>
                  <a:lnTo>
                    <a:pt x="250" y="72"/>
                  </a:lnTo>
                  <a:lnTo>
                    <a:pt x="238" y="82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1" y="91"/>
                  </a:lnTo>
                  <a:lnTo>
                    <a:pt x="189" y="92"/>
                  </a:lnTo>
                  <a:lnTo>
                    <a:pt x="175" y="91"/>
                  </a:lnTo>
                  <a:lnTo>
                    <a:pt x="161" y="91"/>
                  </a:lnTo>
                  <a:lnTo>
                    <a:pt x="147" y="90"/>
                  </a:lnTo>
                  <a:lnTo>
                    <a:pt x="132" y="89"/>
                  </a:lnTo>
                  <a:lnTo>
                    <a:pt x="117" y="87"/>
                  </a:lnTo>
                  <a:lnTo>
                    <a:pt x="102" y="84"/>
                  </a:lnTo>
                  <a:lnTo>
                    <a:pt x="89" y="82"/>
                  </a:lnTo>
                  <a:lnTo>
                    <a:pt x="75" y="80"/>
                  </a:lnTo>
                  <a:lnTo>
                    <a:pt x="62" y="78"/>
                  </a:lnTo>
                  <a:lnTo>
                    <a:pt x="50" y="75"/>
                  </a:lnTo>
                  <a:lnTo>
                    <a:pt x="40" y="73"/>
                  </a:lnTo>
                  <a:lnTo>
                    <a:pt x="32" y="71"/>
                  </a:lnTo>
                  <a:lnTo>
                    <a:pt x="25" y="68"/>
                  </a:lnTo>
                  <a:lnTo>
                    <a:pt x="15" y="64"/>
                  </a:lnTo>
                  <a:lnTo>
                    <a:pt x="7" y="60"/>
                  </a:lnTo>
                  <a:lnTo>
                    <a:pt x="2" y="57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8" y="49"/>
                  </a:lnTo>
                  <a:lnTo>
                    <a:pt x="17" y="48"/>
                  </a:lnTo>
                  <a:lnTo>
                    <a:pt x="31" y="48"/>
                  </a:lnTo>
                  <a:lnTo>
                    <a:pt x="40" y="48"/>
                  </a:lnTo>
                  <a:lnTo>
                    <a:pt x="49" y="49"/>
                  </a:lnTo>
                  <a:lnTo>
                    <a:pt x="61" y="50"/>
                  </a:lnTo>
                  <a:lnTo>
                    <a:pt x="74" y="51"/>
                  </a:lnTo>
                  <a:lnTo>
                    <a:pt x="86" y="53"/>
                  </a:lnTo>
                  <a:lnTo>
                    <a:pt x="100" y="54"/>
                  </a:lnTo>
                  <a:lnTo>
                    <a:pt x="114" y="56"/>
                  </a:lnTo>
                  <a:lnTo>
                    <a:pt x="128" y="57"/>
                  </a:lnTo>
                  <a:lnTo>
                    <a:pt x="141" y="58"/>
                  </a:lnTo>
                  <a:lnTo>
                    <a:pt x="155" y="59"/>
                  </a:lnTo>
                  <a:lnTo>
                    <a:pt x="168" y="59"/>
                  </a:lnTo>
                  <a:lnTo>
                    <a:pt x="181" y="58"/>
                  </a:lnTo>
                  <a:lnTo>
                    <a:pt x="192" y="57"/>
                  </a:lnTo>
                  <a:lnTo>
                    <a:pt x="203" y="54"/>
                  </a:lnTo>
                  <a:lnTo>
                    <a:pt x="211" y="51"/>
                  </a:lnTo>
                  <a:lnTo>
                    <a:pt x="217" y="46"/>
                  </a:lnTo>
                  <a:lnTo>
                    <a:pt x="229" y="37"/>
                  </a:lnTo>
                  <a:lnTo>
                    <a:pt x="239" y="28"/>
                  </a:lnTo>
                  <a:lnTo>
                    <a:pt x="249" y="21"/>
                  </a:lnTo>
                  <a:lnTo>
                    <a:pt x="257" y="1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0" y="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174640" y="2142000"/>
              <a:ext cx="299880" cy="120960"/>
            </a:xfrm>
            <a:custGeom>
              <a:avLst/>
              <a:gdLst/>
              <a:ahLst/>
              <a:rect l="l" t="t" r="r" b="b"/>
              <a:pathLst>
                <a:path w="198" h="79">
                  <a:moveTo>
                    <a:pt x="192" y="0"/>
                  </a:moveTo>
                  <a:lnTo>
                    <a:pt x="194" y="13"/>
                  </a:lnTo>
                  <a:lnTo>
                    <a:pt x="198" y="43"/>
                  </a:lnTo>
                  <a:lnTo>
                    <a:pt x="197" y="71"/>
                  </a:lnTo>
                  <a:lnTo>
                    <a:pt x="184" y="79"/>
                  </a:lnTo>
                  <a:lnTo>
                    <a:pt x="170" y="74"/>
                  </a:lnTo>
                  <a:lnTo>
                    <a:pt x="149" y="69"/>
                  </a:lnTo>
                  <a:lnTo>
                    <a:pt x="125" y="62"/>
                  </a:lnTo>
                  <a:lnTo>
                    <a:pt x="97" y="55"/>
                  </a:lnTo>
                  <a:lnTo>
                    <a:pt x="70" y="49"/>
                  </a:lnTo>
                  <a:lnTo>
                    <a:pt x="44" y="42"/>
                  </a:lnTo>
                  <a:lnTo>
                    <a:pt x="24" y="36"/>
                  </a:lnTo>
                  <a:lnTo>
                    <a:pt x="10" y="32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13" y="13"/>
                  </a:lnTo>
                  <a:lnTo>
                    <a:pt x="23" y="12"/>
                  </a:lnTo>
                  <a:lnTo>
                    <a:pt x="32" y="13"/>
                  </a:lnTo>
                  <a:lnTo>
                    <a:pt x="42" y="17"/>
                  </a:lnTo>
                  <a:lnTo>
                    <a:pt x="57" y="21"/>
                  </a:lnTo>
                  <a:lnTo>
                    <a:pt x="78" y="26"/>
                  </a:lnTo>
                  <a:lnTo>
                    <a:pt x="103" y="31"/>
                  </a:lnTo>
                  <a:lnTo>
                    <a:pt x="131" y="32"/>
                  </a:lnTo>
                  <a:lnTo>
                    <a:pt x="155" y="32"/>
                  </a:lnTo>
                  <a:lnTo>
                    <a:pt x="176" y="26"/>
                  </a:lnTo>
                  <a:lnTo>
                    <a:pt x="190" y="1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"/>
          <p:cNvSpPr/>
          <p:nvPr/>
        </p:nvSpPr>
        <p:spPr>
          <a:xfrm>
            <a:off x="0" y="47800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1954080" y="496800"/>
            <a:ext cx="523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49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50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56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62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70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86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90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96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01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12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13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29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55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68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75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85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90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4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95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245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248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260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269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274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285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290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éléments supportés par les tendeurs de lis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305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2511360" y="785880"/>
            <a:ext cx="3998880" cy="5048280"/>
            <a:chOff x="2511360" y="785880"/>
            <a:chExt cx="3998880" cy="5048280"/>
          </a:xfrm>
        </p:grpSpPr>
        <p:sp>
          <p:nvSpPr>
            <p:cNvPr id="3588" name=""/>
            <p:cNvSpPr/>
            <p:nvPr/>
          </p:nvSpPr>
          <p:spPr>
            <a:xfrm>
              <a:off x="2511360" y="785880"/>
              <a:ext cx="3998880" cy="5048280"/>
            </a:xfrm>
            <a:custGeom>
              <a:avLst/>
              <a:gdLst/>
              <a:ahLst/>
              <a:rect l="l" t="t" r="r" b="b"/>
              <a:pathLst>
                <a:path w="1950" h="2462">
                  <a:moveTo>
                    <a:pt x="0" y="1067"/>
                  </a:moveTo>
                  <a:lnTo>
                    <a:pt x="0" y="1059"/>
                  </a:lnTo>
                  <a:lnTo>
                    <a:pt x="996" y="0"/>
                  </a:lnTo>
                  <a:lnTo>
                    <a:pt x="1950" y="1084"/>
                  </a:lnTo>
                  <a:lnTo>
                    <a:pt x="1950" y="2462"/>
                  </a:lnTo>
                  <a:lnTo>
                    <a:pt x="0" y="2462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bf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684600" y="1930320"/>
              <a:ext cx="2825640" cy="3059280"/>
            </a:xfrm>
            <a:custGeom>
              <a:avLst/>
              <a:gdLst/>
              <a:ahLst/>
              <a:rect l="l" t="t" r="r" b="b"/>
              <a:pathLst>
                <a:path w="1378" h="1491">
                  <a:moveTo>
                    <a:pt x="922" y="4"/>
                  </a:moveTo>
                  <a:lnTo>
                    <a:pt x="1378" y="525"/>
                  </a:lnTo>
                  <a:lnTo>
                    <a:pt x="1378" y="1491"/>
                  </a:lnTo>
                  <a:lnTo>
                    <a:pt x="1375" y="1491"/>
                  </a:lnTo>
                  <a:lnTo>
                    <a:pt x="1363" y="1491"/>
                  </a:lnTo>
                  <a:lnTo>
                    <a:pt x="1343" y="1491"/>
                  </a:lnTo>
                  <a:lnTo>
                    <a:pt x="1319" y="1491"/>
                  </a:lnTo>
                  <a:lnTo>
                    <a:pt x="1288" y="1491"/>
                  </a:lnTo>
                  <a:lnTo>
                    <a:pt x="1251" y="1491"/>
                  </a:lnTo>
                  <a:lnTo>
                    <a:pt x="1209" y="1491"/>
                  </a:lnTo>
                  <a:lnTo>
                    <a:pt x="1162" y="1489"/>
                  </a:lnTo>
                  <a:lnTo>
                    <a:pt x="1112" y="1489"/>
                  </a:lnTo>
                  <a:lnTo>
                    <a:pt x="1059" y="1489"/>
                  </a:lnTo>
                  <a:lnTo>
                    <a:pt x="1001" y="1489"/>
                  </a:lnTo>
                  <a:lnTo>
                    <a:pt x="942" y="1489"/>
                  </a:lnTo>
                  <a:lnTo>
                    <a:pt x="880" y="1489"/>
                  </a:lnTo>
                  <a:lnTo>
                    <a:pt x="818" y="1489"/>
                  </a:lnTo>
                  <a:lnTo>
                    <a:pt x="753" y="1489"/>
                  </a:lnTo>
                  <a:lnTo>
                    <a:pt x="689" y="1488"/>
                  </a:lnTo>
                  <a:lnTo>
                    <a:pt x="624" y="1488"/>
                  </a:lnTo>
                  <a:lnTo>
                    <a:pt x="560" y="1488"/>
                  </a:lnTo>
                  <a:lnTo>
                    <a:pt x="498" y="1488"/>
                  </a:lnTo>
                  <a:lnTo>
                    <a:pt x="435" y="1488"/>
                  </a:lnTo>
                  <a:lnTo>
                    <a:pt x="376" y="1488"/>
                  </a:lnTo>
                  <a:lnTo>
                    <a:pt x="319" y="1488"/>
                  </a:lnTo>
                  <a:lnTo>
                    <a:pt x="266" y="1488"/>
                  </a:lnTo>
                  <a:lnTo>
                    <a:pt x="215" y="1488"/>
                  </a:lnTo>
                  <a:lnTo>
                    <a:pt x="169" y="1488"/>
                  </a:lnTo>
                  <a:lnTo>
                    <a:pt x="126" y="1489"/>
                  </a:lnTo>
                  <a:lnTo>
                    <a:pt x="90" y="1489"/>
                  </a:lnTo>
                  <a:lnTo>
                    <a:pt x="58" y="1489"/>
                  </a:lnTo>
                  <a:lnTo>
                    <a:pt x="34" y="1489"/>
                  </a:lnTo>
                  <a:lnTo>
                    <a:pt x="15" y="1489"/>
                  </a:lnTo>
                  <a:lnTo>
                    <a:pt x="3" y="1491"/>
                  </a:lnTo>
                  <a:lnTo>
                    <a:pt x="0" y="1491"/>
                  </a:lnTo>
                  <a:lnTo>
                    <a:pt x="0" y="6"/>
                  </a:lnTo>
                  <a:lnTo>
                    <a:pt x="2" y="4"/>
                  </a:lnTo>
                  <a:lnTo>
                    <a:pt x="10" y="3"/>
                  </a:lnTo>
                  <a:lnTo>
                    <a:pt x="23" y="2"/>
                  </a:lnTo>
                  <a:lnTo>
                    <a:pt x="39" y="2"/>
                  </a:lnTo>
                  <a:lnTo>
                    <a:pt x="60" y="1"/>
                  </a:lnTo>
                  <a:lnTo>
                    <a:pt x="85" y="1"/>
                  </a:lnTo>
                  <a:lnTo>
                    <a:pt x="113" y="0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4" y="0"/>
                  </a:lnTo>
                  <a:lnTo>
                    <a:pt x="252" y="0"/>
                  </a:lnTo>
                  <a:lnTo>
                    <a:pt x="291" y="0"/>
                  </a:lnTo>
                  <a:lnTo>
                    <a:pt x="333" y="0"/>
                  </a:lnTo>
                  <a:lnTo>
                    <a:pt x="374" y="0"/>
                  </a:lnTo>
                  <a:lnTo>
                    <a:pt x="418" y="0"/>
                  </a:lnTo>
                  <a:lnTo>
                    <a:pt x="461" y="0"/>
                  </a:lnTo>
                  <a:lnTo>
                    <a:pt x="503" y="1"/>
                  </a:lnTo>
                  <a:lnTo>
                    <a:pt x="547" y="1"/>
                  </a:lnTo>
                  <a:lnTo>
                    <a:pt x="589" y="1"/>
                  </a:lnTo>
                  <a:lnTo>
                    <a:pt x="630" y="1"/>
                  </a:lnTo>
                  <a:lnTo>
                    <a:pt x="669" y="2"/>
                  </a:lnTo>
                  <a:lnTo>
                    <a:pt x="707" y="2"/>
                  </a:lnTo>
                  <a:lnTo>
                    <a:pt x="744" y="2"/>
                  </a:lnTo>
                  <a:lnTo>
                    <a:pt x="778" y="3"/>
                  </a:lnTo>
                  <a:lnTo>
                    <a:pt x="809" y="3"/>
                  </a:lnTo>
                  <a:lnTo>
                    <a:pt x="836" y="3"/>
                  </a:lnTo>
                  <a:lnTo>
                    <a:pt x="862" y="3"/>
                  </a:lnTo>
                  <a:lnTo>
                    <a:pt x="882" y="4"/>
                  </a:lnTo>
                  <a:lnTo>
                    <a:pt x="899" y="4"/>
                  </a:lnTo>
                  <a:lnTo>
                    <a:pt x="911" y="4"/>
                  </a:lnTo>
                  <a:lnTo>
                    <a:pt x="919" y="4"/>
                  </a:lnTo>
                  <a:lnTo>
                    <a:pt x="922" y="4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724120" y="4788000"/>
              <a:ext cx="2146320" cy="1038240"/>
            </a:xfrm>
            <a:custGeom>
              <a:avLst/>
              <a:gdLst/>
              <a:ahLst/>
              <a:rect l="l" t="t" r="r" b="b"/>
              <a:pathLst>
                <a:path w="1046" h="504">
                  <a:moveTo>
                    <a:pt x="25" y="0"/>
                  </a:moveTo>
                  <a:lnTo>
                    <a:pt x="1024" y="0"/>
                  </a:lnTo>
                  <a:lnTo>
                    <a:pt x="1034" y="2"/>
                  </a:lnTo>
                  <a:lnTo>
                    <a:pt x="1040" y="7"/>
                  </a:lnTo>
                  <a:lnTo>
                    <a:pt x="1045" y="14"/>
                  </a:lnTo>
                  <a:lnTo>
                    <a:pt x="1046" y="23"/>
                  </a:lnTo>
                  <a:lnTo>
                    <a:pt x="1043" y="503"/>
                  </a:lnTo>
                  <a:lnTo>
                    <a:pt x="1039" y="503"/>
                  </a:lnTo>
                  <a:lnTo>
                    <a:pt x="1030" y="503"/>
                  </a:lnTo>
                  <a:lnTo>
                    <a:pt x="1015" y="503"/>
                  </a:lnTo>
                  <a:lnTo>
                    <a:pt x="995" y="503"/>
                  </a:lnTo>
                  <a:lnTo>
                    <a:pt x="971" y="503"/>
                  </a:lnTo>
                  <a:lnTo>
                    <a:pt x="944" y="503"/>
                  </a:lnTo>
                  <a:lnTo>
                    <a:pt x="911" y="503"/>
                  </a:lnTo>
                  <a:lnTo>
                    <a:pt x="877" y="503"/>
                  </a:lnTo>
                  <a:lnTo>
                    <a:pt x="839" y="503"/>
                  </a:lnTo>
                  <a:lnTo>
                    <a:pt x="797" y="503"/>
                  </a:lnTo>
                  <a:lnTo>
                    <a:pt x="755" y="503"/>
                  </a:lnTo>
                  <a:lnTo>
                    <a:pt x="710" y="503"/>
                  </a:lnTo>
                  <a:lnTo>
                    <a:pt x="664" y="503"/>
                  </a:lnTo>
                  <a:lnTo>
                    <a:pt x="615" y="503"/>
                  </a:lnTo>
                  <a:lnTo>
                    <a:pt x="567" y="503"/>
                  </a:lnTo>
                  <a:lnTo>
                    <a:pt x="518" y="503"/>
                  </a:lnTo>
                  <a:lnTo>
                    <a:pt x="470" y="503"/>
                  </a:lnTo>
                  <a:lnTo>
                    <a:pt x="422" y="504"/>
                  </a:lnTo>
                  <a:lnTo>
                    <a:pt x="374" y="504"/>
                  </a:lnTo>
                  <a:lnTo>
                    <a:pt x="328" y="504"/>
                  </a:lnTo>
                  <a:lnTo>
                    <a:pt x="283" y="504"/>
                  </a:lnTo>
                  <a:lnTo>
                    <a:pt x="241" y="504"/>
                  </a:lnTo>
                  <a:lnTo>
                    <a:pt x="200" y="504"/>
                  </a:lnTo>
                  <a:lnTo>
                    <a:pt x="162" y="504"/>
                  </a:lnTo>
                  <a:lnTo>
                    <a:pt x="128" y="504"/>
                  </a:lnTo>
                  <a:lnTo>
                    <a:pt x="95" y="504"/>
                  </a:lnTo>
                  <a:lnTo>
                    <a:pt x="68" y="504"/>
                  </a:lnTo>
                  <a:lnTo>
                    <a:pt x="45" y="504"/>
                  </a:lnTo>
                  <a:lnTo>
                    <a:pt x="25" y="504"/>
                  </a:lnTo>
                  <a:lnTo>
                    <a:pt x="11" y="503"/>
                  </a:lnTo>
                  <a:lnTo>
                    <a:pt x="3" y="503"/>
                  </a:lnTo>
                  <a:lnTo>
                    <a:pt x="0" y="503"/>
                  </a:lnTo>
                  <a:lnTo>
                    <a:pt x="3" y="23"/>
                  </a:lnTo>
                  <a:lnTo>
                    <a:pt x="5" y="14"/>
                  </a:lnTo>
                  <a:lnTo>
                    <a:pt x="10" y="7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884320" y="2601720"/>
              <a:ext cx="2424240" cy="2186280"/>
            </a:xfrm>
            <a:custGeom>
              <a:avLst/>
              <a:gdLst/>
              <a:ahLst/>
              <a:rect l="l" t="t" r="r" b="b"/>
              <a:pathLst>
                <a:path w="1183" h="1067">
                  <a:moveTo>
                    <a:pt x="181" y="440"/>
                  </a:moveTo>
                  <a:lnTo>
                    <a:pt x="155" y="491"/>
                  </a:lnTo>
                  <a:lnTo>
                    <a:pt x="136" y="569"/>
                  </a:lnTo>
                  <a:lnTo>
                    <a:pt x="126" y="664"/>
                  </a:lnTo>
                  <a:lnTo>
                    <a:pt x="121" y="765"/>
                  </a:lnTo>
                  <a:lnTo>
                    <a:pt x="121" y="861"/>
                  </a:lnTo>
                  <a:lnTo>
                    <a:pt x="122" y="942"/>
                  </a:lnTo>
                  <a:lnTo>
                    <a:pt x="125" y="1000"/>
                  </a:lnTo>
                  <a:lnTo>
                    <a:pt x="126" y="1021"/>
                  </a:lnTo>
                  <a:lnTo>
                    <a:pt x="99" y="1020"/>
                  </a:lnTo>
                  <a:lnTo>
                    <a:pt x="75" y="1024"/>
                  </a:lnTo>
                  <a:lnTo>
                    <a:pt x="53" y="1031"/>
                  </a:lnTo>
                  <a:lnTo>
                    <a:pt x="35" y="1040"/>
                  </a:lnTo>
                  <a:lnTo>
                    <a:pt x="20" y="1049"/>
                  </a:lnTo>
                  <a:lnTo>
                    <a:pt x="9" y="1059"/>
                  </a:lnTo>
                  <a:lnTo>
                    <a:pt x="2" y="1064"/>
                  </a:lnTo>
                  <a:lnTo>
                    <a:pt x="0" y="1067"/>
                  </a:lnTo>
                  <a:lnTo>
                    <a:pt x="1" y="1067"/>
                  </a:lnTo>
                  <a:lnTo>
                    <a:pt x="6" y="1067"/>
                  </a:lnTo>
                  <a:lnTo>
                    <a:pt x="13" y="1066"/>
                  </a:lnTo>
                  <a:lnTo>
                    <a:pt x="21" y="1066"/>
                  </a:lnTo>
                  <a:lnTo>
                    <a:pt x="32" y="1066"/>
                  </a:lnTo>
                  <a:lnTo>
                    <a:pt x="44" y="1064"/>
                  </a:lnTo>
                  <a:lnTo>
                    <a:pt x="58" y="1064"/>
                  </a:lnTo>
                  <a:lnTo>
                    <a:pt x="73" y="1064"/>
                  </a:lnTo>
                  <a:lnTo>
                    <a:pt x="88" y="1064"/>
                  </a:lnTo>
                  <a:lnTo>
                    <a:pt x="104" y="1063"/>
                  </a:lnTo>
                  <a:lnTo>
                    <a:pt x="120" y="1063"/>
                  </a:lnTo>
                  <a:lnTo>
                    <a:pt x="136" y="1063"/>
                  </a:lnTo>
                  <a:lnTo>
                    <a:pt x="152" y="1064"/>
                  </a:lnTo>
                  <a:lnTo>
                    <a:pt x="167" y="1064"/>
                  </a:lnTo>
                  <a:lnTo>
                    <a:pt x="181" y="1066"/>
                  </a:lnTo>
                  <a:lnTo>
                    <a:pt x="194" y="1067"/>
                  </a:lnTo>
                  <a:lnTo>
                    <a:pt x="205" y="1000"/>
                  </a:lnTo>
                  <a:lnTo>
                    <a:pt x="213" y="849"/>
                  </a:lnTo>
                  <a:lnTo>
                    <a:pt x="218" y="698"/>
                  </a:lnTo>
                  <a:lnTo>
                    <a:pt x="219" y="630"/>
                  </a:lnTo>
                  <a:lnTo>
                    <a:pt x="221" y="637"/>
                  </a:lnTo>
                  <a:lnTo>
                    <a:pt x="229" y="658"/>
                  </a:lnTo>
                  <a:lnTo>
                    <a:pt x="240" y="689"/>
                  </a:lnTo>
                  <a:lnTo>
                    <a:pt x="251" y="728"/>
                  </a:lnTo>
                  <a:lnTo>
                    <a:pt x="264" y="774"/>
                  </a:lnTo>
                  <a:lnTo>
                    <a:pt x="276" y="823"/>
                  </a:lnTo>
                  <a:lnTo>
                    <a:pt x="285" y="873"/>
                  </a:lnTo>
                  <a:lnTo>
                    <a:pt x="291" y="923"/>
                  </a:lnTo>
                  <a:lnTo>
                    <a:pt x="282" y="955"/>
                  </a:lnTo>
                  <a:lnTo>
                    <a:pt x="274" y="983"/>
                  </a:lnTo>
                  <a:lnTo>
                    <a:pt x="267" y="1008"/>
                  </a:lnTo>
                  <a:lnTo>
                    <a:pt x="261" y="1029"/>
                  </a:lnTo>
                  <a:lnTo>
                    <a:pt x="255" y="1045"/>
                  </a:lnTo>
                  <a:lnTo>
                    <a:pt x="250" y="1056"/>
                  </a:lnTo>
                  <a:lnTo>
                    <a:pt x="247" y="1064"/>
                  </a:lnTo>
                  <a:lnTo>
                    <a:pt x="246" y="1067"/>
                  </a:lnTo>
                  <a:lnTo>
                    <a:pt x="666" y="1067"/>
                  </a:lnTo>
                  <a:lnTo>
                    <a:pt x="663" y="1058"/>
                  </a:lnTo>
                  <a:lnTo>
                    <a:pt x="655" y="1029"/>
                  </a:lnTo>
                  <a:lnTo>
                    <a:pt x="644" y="983"/>
                  </a:lnTo>
                  <a:lnTo>
                    <a:pt x="635" y="918"/>
                  </a:lnTo>
                  <a:lnTo>
                    <a:pt x="644" y="863"/>
                  </a:lnTo>
                  <a:lnTo>
                    <a:pt x="654" y="805"/>
                  </a:lnTo>
                  <a:lnTo>
                    <a:pt x="660" y="749"/>
                  </a:lnTo>
                  <a:lnTo>
                    <a:pt x="662" y="696"/>
                  </a:lnTo>
                  <a:lnTo>
                    <a:pt x="650" y="652"/>
                  </a:lnTo>
                  <a:lnTo>
                    <a:pt x="639" y="616"/>
                  </a:lnTo>
                  <a:lnTo>
                    <a:pt x="632" y="593"/>
                  </a:lnTo>
                  <a:lnTo>
                    <a:pt x="628" y="584"/>
                  </a:lnTo>
                  <a:lnTo>
                    <a:pt x="631" y="585"/>
                  </a:lnTo>
                  <a:lnTo>
                    <a:pt x="637" y="590"/>
                  </a:lnTo>
                  <a:lnTo>
                    <a:pt x="648" y="597"/>
                  </a:lnTo>
                  <a:lnTo>
                    <a:pt x="663" y="605"/>
                  </a:lnTo>
                  <a:lnTo>
                    <a:pt x="679" y="615"/>
                  </a:lnTo>
                  <a:lnTo>
                    <a:pt x="698" y="627"/>
                  </a:lnTo>
                  <a:lnTo>
                    <a:pt x="718" y="638"/>
                  </a:lnTo>
                  <a:lnTo>
                    <a:pt x="740" y="650"/>
                  </a:lnTo>
                  <a:lnTo>
                    <a:pt x="763" y="662"/>
                  </a:lnTo>
                  <a:lnTo>
                    <a:pt x="785" y="674"/>
                  </a:lnTo>
                  <a:lnTo>
                    <a:pt x="806" y="684"/>
                  </a:lnTo>
                  <a:lnTo>
                    <a:pt x="826" y="694"/>
                  </a:lnTo>
                  <a:lnTo>
                    <a:pt x="845" y="700"/>
                  </a:lnTo>
                  <a:lnTo>
                    <a:pt x="862" y="706"/>
                  </a:lnTo>
                  <a:lnTo>
                    <a:pt x="875" y="708"/>
                  </a:lnTo>
                  <a:lnTo>
                    <a:pt x="885" y="708"/>
                  </a:lnTo>
                  <a:lnTo>
                    <a:pt x="898" y="707"/>
                  </a:lnTo>
                  <a:lnTo>
                    <a:pt x="912" y="702"/>
                  </a:lnTo>
                  <a:lnTo>
                    <a:pt x="929" y="691"/>
                  </a:lnTo>
                  <a:lnTo>
                    <a:pt x="947" y="677"/>
                  </a:lnTo>
                  <a:lnTo>
                    <a:pt x="966" y="661"/>
                  </a:lnTo>
                  <a:lnTo>
                    <a:pt x="987" y="643"/>
                  </a:lnTo>
                  <a:lnTo>
                    <a:pt x="1007" y="623"/>
                  </a:lnTo>
                  <a:lnTo>
                    <a:pt x="1028" y="602"/>
                  </a:lnTo>
                  <a:lnTo>
                    <a:pt x="1048" y="582"/>
                  </a:lnTo>
                  <a:lnTo>
                    <a:pt x="1067" y="561"/>
                  </a:lnTo>
                  <a:lnTo>
                    <a:pt x="1086" y="541"/>
                  </a:lnTo>
                  <a:lnTo>
                    <a:pt x="1102" y="524"/>
                  </a:lnTo>
                  <a:lnTo>
                    <a:pt x="1116" y="508"/>
                  </a:lnTo>
                  <a:lnTo>
                    <a:pt x="1128" y="494"/>
                  </a:lnTo>
                  <a:lnTo>
                    <a:pt x="1136" y="485"/>
                  </a:lnTo>
                  <a:lnTo>
                    <a:pt x="1142" y="479"/>
                  </a:lnTo>
                  <a:lnTo>
                    <a:pt x="1163" y="455"/>
                  </a:lnTo>
                  <a:lnTo>
                    <a:pt x="1176" y="430"/>
                  </a:lnTo>
                  <a:lnTo>
                    <a:pt x="1181" y="405"/>
                  </a:lnTo>
                  <a:lnTo>
                    <a:pt x="1183" y="381"/>
                  </a:lnTo>
                  <a:lnTo>
                    <a:pt x="1181" y="359"/>
                  </a:lnTo>
                  <a:lnTo>
                    <a:pt x="1179" y="339"/>
                  </a:lnTo>
                  <a:lnTo>
                    <a:pt x="1178" y="323"/>
                  </a:lnTo>
                  <a:lnTo>
                    <a:pt x="1178" y="309"/>
                  </a:lnTo>
                  <a:lnTo>
                    <a:pt x="1177" y="306"/>
                  </a:lnTo>
                  <a:lnTo>
                    <a:pt x="1171" y="310"/>
                  </a:lnTo>
                  <a:lnTo>
                    <a:pt x="1162" y="318"/>
                  </a:lnTo>
                  <a:lnTo>
                    <a:pt x="1150" y="329"/>
                  </a:lnTo>
                  <a:lnTo>
                    <a:pt x="1138" y="342"/>
                  </a:lnTo>
                  <a:lnTo>
                    <a:pt x="1125" y="352"/>
                  </a:lnTo>
                  <a:lnTo>
                    <a:pt x="1112" y="362"/>
                  </a:lnTo>
                  <a:lnTo>
                    <a:pt x="1101" y="365"/>
                  </a:lnTo>
                  <a:lnTo>
                    <a:pt x="1089" y="392"/>
                  </a:lnTo>
                  <a:lnTo>
                    <a:pt x="1082" y="419"/>
                  </a:lnTo>
                  <a:lnTo>
                    <a:pt x="1079" y="441"/>
                  </a:lnTo>
                  <a:lnTo>
                    <a:pt x="1078" y="450"/>
                  </a:lnTo>
                  <a:lnTo>
                    <a:pt x="884" y="576"/>
                  </a:lnTo>
                  <a:lnTo>
                    <a:pt x="882" y="575"/>
                  </a:lnTo>
                  <a:lnTo>
                    <a:pt x="877" y="573"/>
                  </a:lnTo>
                  <a:lnTo>
                    <a:pt x="869" y="569"/>
                  </a:lnTo>
                  <a:lnTo>
                    <a:pt x="859" y="563"/>
                  </a:lnTo>
                  <a:lnTo>
                    <a:pt x="846" y="556"/>
                  </a:lnTo>
                  <a:lnTo>
                    <a:pt x="832" y="549"/>
                  </a:lnTo>
                  <a:lnTo>
                    <a:pt x="816" y="540"/>
                  </a:lnTo>
                  <a:lnTo>
                    <a:pt x="799" y="530"/>
                  </a:lnTo>
                  <a:lnTo>
                    <a:pt x="781" y="520"/>
                  </a:lnTo>
                  <a:lnTo>
                    <a:pt x="763" y="508"/>
                  </a:lnTo>
                  <a:lnTo>
                    <a:pt x="746" y="496"/>
                  </a:lnTo>
                  <a:lnTo>
                    <a:pt x="728" y="484"/>
                  </a:lnTo>
                  <a:lnTo>
                    <a:pt x="711" y="471"/>
                  </a:lnTo>
                  <a:lnTo>
                    <a:pt x="695" y="458"/>
                  </a:lnTo>
                  <a:lnTo>
                    <a:pt x="681" y="445"/>
                  </a:lnTo>
                  <a:lnTo>
                    <a:pt x="669" y="432"/>
                  </a:lnTo>
                  <a:lnTo>
                    <a:pt x="656" y="419"/>
                  </a:lnTo>
                  <a:lnTo>
                    <a:pt x="642" y="408"/>
                  </a:lnTo>
                  <a:lnTo>
                    <a:pt x="627" y="397"/>
                  </a:lnTo>
                  <a:lnTo>
                    <a:pt x="610" y="389"/>
                  </a:lnTo>
                  <a:lnTo>
                    <a:pt x="594" y="381"/>
                  </a:lnTo>
                  <a:lnTo>
                    <a:pt x="575" y="376"/>
                  </a:lnTo>
                  <a:lnTo>
                    <a:pt x="558" y="370"/>
                  </a:lnTo>
                  <a:lnTo>
                    <a:pt x="542" y="365"/>
                  </a:lnTo>
                  <a:lnTo>
                    <a:pt x="526" y="363"/>
                  </a:lnTo>
                  <a:lnTo>
                    <a:pt x="509" y="359"/>
                  </a:lnTo>
                  <a:lnTo>
                    <a:pt x="496" y="358"/>
                  </a:lnTo>
                  <a:lnTo>
                    <a:pt x="484" y="356"/>
                  </a:lnTo>
                  <a:lnTo>
                    <a:pt x="474" y="356"/>
                  </a:lnTo>
                  <a:lnTo>
                    <a:pt x="467" y="355"/>
                  </a:lnTo>
                  <a:lnTo>
                    <a:pt x="461" y="355"/>
                  </a:lnTo>
                  <a:lnTo>
                    <a:pt x="460" y="355"/>
                  </a:lnTo>
                  <a:lnTo>
                    <a:pt x="460" y="340"/>
                  </a:lnTo>
                  <a:lnTo>
                    <a:pt x="458" y="328"/>
                  </a:lnTo>
                  <a:lnTo>
                    <a:pt x="455" y="318"/>
                  </a:lnTo>
                  <a:lnTo>
                    <a:pt x="455" y="310"/>
                  </a:lnTo>
                  <a:lnTo>
                    <a:pt x="459" y="302"/>
                  </a:lnTo>
                  <a:lnTo>
                    <a:pt x="469" y="295"/>
                  </a:lnTo>
                  <a:lnTo>
                    <a:pt x="489" y="288"/>
                  </a:lnTo>
                  <a:lnTo>
                    <a:pt x="518" y="281"/>
                  </a:lnTo>
                  <a:lnTo>
                    <a:pt x="536" y="271"/>
                  </a:lnTo>
                  <a:lnTo>
                    <a:pt x="544" y="255"/>
                  </a:lnTo>
                  <a:lnTo>
                    <a:pt x="544" y="234"/>
                  </a:lnTo>
                  <a:lnTo>
                    <a:pt x="536" y="212"/>
                  </a:lnTo>
                  <a:lnTo>
                    <a:pt x="533" y="200"/>
                  </a:lnTo>
                  <a:lnTo>
                    <a:pt x="533" y="191"/>
                  </a:lnTo>
                  <a:lnTo>
                    <a:pt x="533" y="181"/>
                  </a:lnTo>
                  <a:lnTo>
                    <a:pt x="530" y="167"/>
                  </a:lnTo>
                  <a:lnTo>
                    <a:pt x="521" y="159"/>
                  </a:lnTo>
                  <a:lnTo>
                    <a:pt x="513" y="152"/>
                  </a:lnTo>
                  <a:lnTo>
                    <a:pt x="506" y="146"/>
                  </a:lnTo>
                  <a:lnTo>
                    <a:pt x="500" y="142"/>
                  </a:lnTo>
                  <a:lnTo>
                    <a:pt x="497" y="138"/>
                  </a:lnTo>
                  <a:lnTo>
                    <a:pt x="493" y="135"/>
                  </a:lnTo>
                  <a:lnTo>
                    <a:pt x="491" y="132"/>
                  </a:lnTo>
                  <a:lnTo>
                    <a:pt x="490" y="130"/>
                  </a:lnTo>
                  <a:lnTo>
                    <a:pt x="469" y="94"/>
                  </a:lnTo>
                  <a:lnTo>
                    <a:pt x="447" y="64"/>
                  </a:lnTo>
                  <a:lnTo>
                    <a:pt x="424" y="41"/>
                  </a:lnTo>
                  <a:lnTo>
                    <a:pt x="401" y="23"/>
                  </a:lnTo>
                  <a:lnTo>
                    <a:pt x="377" y="11"/>
                  </a:lnTo>
                  <a:lnTo>
                    <a:pt x="353" y="3"/>
                  </a:lnTo>
                  <a:lnTo>
                    <a:pt x="330" y="0"/>
                  </a:lnTo>
                  <a:lnTo>
                    <a:pt x="307" y="1"/>
                  </a:lnTo>
                  <a:lnTo>
                    <a:pt x="285" y="5"/>
                  </a:lnTo>
                  <a:lnTo>
                    <a:pt x="265" y="13"/>
                  </a:lnTo>
                  <a:lnTo>
                    <a:pt x="247" y="22"/>
                  </a:lnTo>
                  <a:lnTo>
                    <a:pt x="229" y="33"/>
                  </a:lnTo>
                  <a:lnTo>
                    <a:pt x="216" y="47"/>
                  </a:lnTo>
                  <a:lnTo>
                    <a:pt x="204" y="62"/>
                  </a:lnTo>
                  <a:lnTo>
                    <a:pt x="196" y="78"/>
                  </a:lnTo>
                  <a:lnTo>
                    <a:pt x="191" y="94"/>
                  </a:lnTo>
                  <a:lnTo>
                    <a:pt x="187" y="151"/>
                  </a:lnTo>
                  <a:lnTo>
                    <a:pt x="196" y="189"/>
                  </a:lnTo>
                  <a:lnTo>
                    <a:pt x="214" y="213"/>
                  </a:lnTo>
                  <a:lnTo>
                    <a:pt x="239" y="232"/>
                  </a:lnTo>
                  <a:lnTo>
                    <a:pt x="265" y="249"/>
                  </a:lnTo>
                  <a:lnTo>
                    <a:pt x="288" y="273"/>
                  </a:lnTo>
                  <a:lnTo>
                    <a:pt x="306" y="309"/>
                  </a:lnTo>
                  <a:lnTo>
                    <a:pt x="314" y="364"/>
                  </a:lnTo>
                  <a:lnTo>
                    <a:pt x="301" y="372"/>
                  </a:lnTo>
                  <a:lnTo>
                    <a:pt x="282" y="382"/>
                  </a:lnTo>
                  <a:lnTo>
                    <a:pt x="261" y="395"/>
                  </a:lnTo>
                  <a:lnTo>
                    <a:pt x="239" y="408"/>
                  </a:lnTo>
                  <a:lnTo>
                    <a:pt x="217" y="420"/>
                  </a:lnTo>
                  <a:lnTo>
                    <a:pt x="198" y="431"/>
                  </a:lnTo>
                  <a:lnTo>
                    <a:pt x="186" y="438"/>
                  </a:lnTo>
                  <a:lnTo>
                    <a:pt x="181" y="440"/>
                  </a:lnTo>
                  <a:close/>
                </a:path>
              </a:pathLst>
            </a:custGeom>
            <a:solidFill>
              <a:srgbClr val="ff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151080" y="2573280"/>
              <a:ext cx="574560" cy="804960"/>
            </a:xfrm>
            <a:custGeom>
              <a:avLst/>
              <a:gdLst/>
              <a:ahLst/>
              <a:rect l="l" t="t" r="r" b="b"/>
              <a:pathLst>
                <a:path w="280" h="393">
                  <a:moveTo>
                    <a:pt x="261" y="62"/>
                  </a:moveTo>
                  <a:lnTo>
                    <a:pt x="272" y="93"/>
                  </a:lnTo>
                  <a:lnTo>
                    <a:pt x="277" y="118"/>
                  </a:lnTo>
                  <a:lnTo>
                    <a:pt x="276" y="136"/>
                  </a:lnTo>
                  <a:lnTo>
                    <a:pt x="271" y="150"/>
                  </a:lnTo>
                  <a:lnTo>
                    <a:pt x="264" y="159"/>
                  </a:lnTo>
                  <a:lnTo>
                    <a:pt x="257" y="165"/>
                  </a:lnTo>
                  <a:lnTo>
                    <a:pt x="251" y="167"/>
                  </a:lnTo>
                  <a:lnTo>
                    <a:pt x="249" y="168"/>
                  </a:lnTo>
                  <a:lnTo>
                    <a:pt x="249" y="167"/>
                  </a:lnTo>
                  <a:lnTo>
                    <a:pt x="248" y="165"/>
                  </a:lnTo>
                  <a:lnTo>
                    <a:pt x="241" y="165"/>
                  </a:lnTo>
                  <a:lnTo>
                    <a:pt x="225" y="168"/>
                  </a:lnTo>
                  <a:lnTo>
                    <a:pt x="216" y="174"/>
                  </a:lnTo>
                  <a:lnTo>
                    <a:pt x="212" y="183"/>
                  </a:lnTo>
                  <a:lnTo>
                    <a:pt x="212" y="195"/>
                  </a:lnTo>
                  <a:lnTo>
                    <a:pt x="216" y="209"/>
                  </a:lnTo>
                  <a:lnTo>
                    <a:pt x="220" y="221"/>
                  </a:lnTo>
                  <a:lnTo>
                    <a:pt x="227" y="233"/>
                  </a:lnTo>
                  <a:lnTo>
                    <a:pt x="235" y="241"/>
                  </a:lnTo>
                  <a:lnTo>
                    <a:pt x="243" y="244"/>
                  </a:lnTo>
                  <a:lnTo>
                    <a:pt x="258" y="247"/>
                  </a:lnTo>
                  <a:lnTo>
                    <a:pt x="269" y="248"/>
                  </a:lnTo>
                  <a:lnTo>
                    <a:pt x="274" y="248"/>
                  </a:lnTo>
                  <a:lnTo>
                    <a:pt x="277" y="248"/>
                  </a:lnTo>
                  <a:lnTo>
                    <a:pt x="278" y="251"/>
                  </a:lnTo>
                  <a:lnTo>
                    <a:pt x="279" y="260"/>
                  </a:lnTo>
                  <a:lnTo>
                    <a:pt x="280" y="274"/>
                  </a:lnTo>
                  <a:lnTo>
                    <a:pt x="280" y="290"/>
                  </a:lnTo>
                  <a:lnTo>
                    <a:pt x="278" y="308"/>
                  </a:lnTo>
                  <a:lnTo>
                    <a:pt x="271" y="323"/>
                  </a:lnTo>
                  <a:lnTo>
                    <a:pt x="261" y="335"/>
                  </a:lnTo>
                  <a:lnTo>
                    <a:pt x="243" y="342"/>
                  </a:lnTo>
                  <a:lnTo>
                    <a:pt x="217" y="349"/>
                  </a:lnTo>
                  <a:lnTo>
                    <a:pt x="194" y="358"/>
                  </a:lnTo>
                  <a:lnTo>
                    <a:pt x="173" y="368"/>
                  </a:lnTo>
                  <a:lnTo>
                    <a:pt x="153" y="377"/>
                  </a:lnTo>
                  <a:lnTo>
                    <a:pt x="136" y="385"/>
                  </a:lnTo>
                  <a:lnTo>
                    <a:pt x="119" y="391"/>
                  </a:lnTo>
                  <a:lnTo>
                    <a:pt x="103" y="393"/>
                  </a:lnTo>
                  <a:lnTo>
                    <a:pt x="84" y="392"/>
                  </a:lnTo>
                  <a:lnTo>
                    <a:pt x="66" y="387"/>
                  </a:lnTo>
                  <a:lnTo>
                    <a:pt x="47" y="381"/>
                  </a:lnTo>
                  <a:lnTo>
                    <a:pt x="31" y="373"/>
                  </a:lnTo>
                  <a:lnTo>
                    <a:pt x="17" y="363"/>
                  </a:lnTo>
                  <a:lnTo>
                    <a:pt x="7" y="349"/>
                  </a:lnTo>
                  <a:lnTo>
                    <a:pt x="1" y="333"/>
                  </a:lnTo>
                  <a:lnTo>
                    <a:pt x="0" y="312"/>
                  </a:lnTo>
                  <a:lnTo>
                    <a:pt x="6" y="288"/>
                  </a:lnTo>
                  <a:lnTo>
                    <a:pt x="15" y="232"/>
                  </a:lnTo>
                  <a:lnTo>
                    <a:pt x="15" y="173"/>
                  </a:lnTo>
                  <a:lnTo>
                    <a:pt x="13" y="119"/>
                  </a:lnTo>
                  <a:lnTo>
                    <a:pt x="20" y="75"/>
                  </a:lnTo>
                  <a:lnTo>
                    <a:pt x="29" y="58"/>
                  </a:lnTo>
                  <a:lnTo>
                    <a:pt x="41" y="44"/>
                  </a:lnTo>
                  <a:lnTo>
                    <a:pt x="53" y="31"/>
                  </a:lnTo>
                  <a:lnTo>
                    <a:pt x="68" y="22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5" y="5"/>
                  </a:lnTo>
                  <a:lnTo>
                    <a:pt x="132" y="1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94" y="2"/>
                  </a:lnTo>
                  <a:lnTo>
                    <a:pt x="208" y="4"/>
                  </a:lnTo>
                  <a:lnTo>
                    <a:pt x="219" y="6"/>
                  </a:lnTo>
                  <a:lnTo>
                    <a:pt x="231" y="8"/>
                  </a:lnTo>
                  <a:lnTo>
                    <a:pt x="239" y="10"/>
                  </a:lnTo>
                  <a:lnTo>
                    <a:pt x="256" y="17"/>
                  </a:lnTo>
                  <a:lnTo>
                    <a:pt x="266" y="25"/>
                  </a:lnTo>
                  <a:lnTo>
                    <a:pt x="271" y="34"/>
                  </a:lnTo>
                  <a:lnTo>
                    <a:pt x="271" y="43"/>
                  </a:lnTo>
                  <a:lnTo>
                    <a:pt x="269" y="50"/>
                  </a:lnTo>
                  <a:lnTo>
                    <a:pt x="265" y="57"/>
                  </a:lnTo>
                  <a:lnTo>
                    <a:pt x="262" y="61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135240" y="3328920"/>
              <a:ext cx="2095560" cy="1459080"/>
            </a:xfrm>
            <a:custGeom>
              <a:avLst/>
              <a:gdLst/>
              <a:ahLst/>
              <a:rect l="l" t="t" r="r" b="b"/>
              <a:pathLst>
                <a:path w="1024" h="712">
                  <a:moveTo>
                    <a:pt x="60" y="85"/>
                  </a:moveTo>
                  <a:lnTo>
                    <a:pt x="34" y="136"/>
                  </a:lnTo>
                  <a:lnTo>
                    <a:pt x="15" y="214"/>
                  </a:lnTo>
                  <a:lnTo>
                    <a:pt x="5" y="309"/>
                  </a:lnTo>
                  <a:lnTo>
                    <a:pt x="0" y="410"/>
                  </a:lnTo>
                  <a:lnTo>
                    <a:pt x="0" y="506"/>
                  </a:lnTo>
                  <a:lnTo>
                    <a:pt x="1" y="587"/>
                  </a:lnTo>
                  <a:lnTo>
                    <a:pt x="4" y="645"/>
                  </a:lnTo>
                  <a:lnTo>
                    <a:pt x="5" y="666"/>
                  </a:lnTo>
                  <a:lnTo>
                    <a:pt x="8" y="668"/>
                  </a:lnTo>
                  <a:lnTo>
                    <a:pt x="14" y="674"/>
                  </a:lnTo>
                  <a:lnTo>
                    <a:pt x="22" y="682"/>
                  </a:lnTo>
                  <a:lnTo>
                    <a:pt x="32" y="690"/>
                  </a:lnTo>
                  <a:lnTo>
                    <a:pt x="43" y="699"/>
                  </a:lnTo>
                  <a:lnTo>
                    <a:pt x="53" y="706"/>
                  </a:lnTo>
                  <a:lnTo>
                    <a:pt x="63" y="711"/>
                  </a:lnTo>
                  <a:lnTo>
                    <a:pt x="73" y="712"/>
                  </a:lnTo>
                  <a:lnTo>
                    <a:pt x="80" y="696"/>
                  </a:lnTo>
                  <a:lnTo>
                    <a:pt x="87" y="653"/>
                  </a:lnTo>
                  <a:lnTo>
                    <a:pt x="92" y="594"/>
                  </a:lnTo>
                  <a:lnTo>
                    <a:pt x="99" y="526"/>
                  </a:lnTo>
                  <a:lnTo>
                    <a:pt x="104" y="458"/>
                  </a:lnTo>
                  <a:lnTo>
                    <a:pt x="107" y="398"/>
                  </a:lnTo>
                  <a:lnTo>
                    <a:pt x="110" y="357"/>
                  </a:lnTo>
                  <a:lnTo>
                    <a:pt x="111" y="341"/>
                  </a:lnTo>
                  <a:lnTo>
                    <a:pt x="112" y="345"/>
                  </a:lnTo>
                  <a:lnTo>
                    <a:pt x="113" y="360"/>
                  </a:lnTo>
                  <a:lnTo>
                    <a:pt x="117" y="382"/>
                  </a:lnTo>
                  <a:lnTo>
                    <a:pt x="122" y="411"/>
                  </a:lnTo>
                  <a:lnTo>
                    <a:pt x="128" y="444"/>
                  </a:lnTo>
                  <a:lnTo>
                    <a:pt x="136" y="483"/>
                  </a:lnTo>
                  <a:lnTo>
                    <a:pt x="145" y="523"/>
                  </a:lnTo>
                  <a:lnTo>
                    <a:pt x="156" y="564"/>
                  </a:lnTo>
                  <a:lnTo>
                    <a:pt x="142" y="624"/>
                  </a:lnTo>
                  <a:lnTo>
                    <a:pt x="131" y="671"/>
                  </a:lnTo>
                  <a:lnTo>
                    <a:pt x="127" y="701"/>
                  </a:lnTo>
                  <a:lnTo>
                    <a:pt x="125" y="712"/>
                  </a:lnTo>
                  <a:lnTo>
                    <a:pt x="545" y="712"/>
                  </a:lnTo>
                  <a:lnTo>
                    <a:pt x="544" y="701"/>
                  </a:lnTo>
                  <a:lnTo>
                    <a:pt x="541" y="671"/>
                  </a:lnTo>
                  <a:lnTo>
                    <a:pt x="536" y="624"/>
                  </a:lnTo>
                  <a:lnTo>
                    <a:pt x="529" y="560"/>
                  </a:lnTo>
                  <a:lnTo>
                    <a:pt x="536" y="506"/>
                  </a:lnTo>
                  <a:lnTo>
                    <a:pt x="541" y="448"/>
                  </a:lnTo>
                  <a:lnTo>
                    <a:pt x="542" y="393"/>
                  </a:lnTo>
                  <a:lnTo>
                    <a:pt x="541" y="341"/>
                  </a:lnTo>
                  <a:lnTo>
                    <a:pt x="529" y="297"/>
                  </a:lnTo>
                  <a:lnTo>
                    <a:pt x="518" y="261"/>
                  </a:lnTo>
                  <a:lnTo>
                    <a:pt x="511" y="238"/>
                  </a:lnTo>
                  <a:lnTo>
                    <a:pt x="507" y="229"/>
                  </a:lnTo>
                  <a:lnTo>
                    <a:pt x="510" y="230"/>
                  </a:lnTo>
                  <a:lnTo>
                    <a:pt x="518" y="235"/>
                  </a:lnTo>
                  <a:lnTo>
                    <a:pt x="529" y="243"/>
                  </a:lnTo>
                  <a:lnTo>
                    <a:pt x="544" y="252"/>
                  </a:lnTo>
                  <a:lnTo>
                    <a:pt x="561" y="262"/>
                  </a:lnTo>
                  <a:lnTo>
                    <a:pt x="582" y="275"/>
                  </a:lnTo>
                  <a:lnTo>
                    <a:pt x="604" y="288"/>
                  </a:lnTo>
                  <a:lnTo>
                    <a:pt x="627" y="302"/>
                  </a:lnTo>
                  <a:lnTo>
                    <a:pt x="650" y="314"/>
                  </a:lnTo>
                  <a:lnTo>
                    <a:pt x="674" y="327"/>
                  </a:lnTo>
                  <a:lnTo>
                    <a:pt x="697" y="339"/>
                  </a:lnTo>
                  <a:lnTo>
                    <a:pt x="719" y="349"/>
                  </a:lnTo>
                  <a:lnTo>
                    <a:pt x="739" y="357"/>
                  </a:lnTo>
                  <a:lnTo>
                    <a:pt x="756" y="363"/>
                  </a:lnTo>
                  <a:lnTo>
                    <a:pt x="770" y="366"/>
                  </a:lnTo>
                  <a:lnTo>
                    <a:pt x="780" y="366"/>
                  </a:lnTo>
                  <a:lnTo>
                    <a:pt x="793" y="364"/>
                  </a:lnTo>
                  <a:lnTo>
                    <a:pt x="808" y="357"/>
                  </a:lnTo>
                  <a:lnTo>
                    <a:pt x="826" y="345"/>
                  </a:lnTo>
                  <a:lnTo>
                    <a:pt x="846" y="330"/>
                  </a:lnTo>
                  <a:lnTo>
                    <a:pt x="867" y="312"/>
                  </a:lnTo>
                  <a:lnTo>
                    <a:pt x="889" y="291"/>
                  </a:lnTo>
                  <a:lnTo>
                    <a:pt x="911" y="268"/>
                  </a:lnTo>
                  <a:lnTo>
                    <a:pt x="932" y="245"/>
                  </a:lnTo>
                  <a:lnTo>
                    <a:pt x="952" y="222"/>
                  </a:lnTo>
                  <a:lnTo>
                    <a:pt x="972" y="200"/>
                  </a:lnTo>
                  <a:lnTo>
                    <a:pt x="988" y="180"/>
                  </a:lnTo>
                  <a:lnTo>
                    <a:pt x="1003" y="161"/>
                  </a:lnTo>
                  <a:lnTo>
                    <a:pt x="1013" y="145"/>
                  </a:lnTo>
                  <a:lnTo>
                    <a:pt x="1020" y="133"/>
                  </a:lnTo>
                  <a:lnTo>
                    <a:pt x="1024" y="127"/>
                  </a:lnTo>
                  <a:lnTo>
                    <a:pt x="1021" y="124"/>
                  </a:lnTo>
                  <a:lnTo>
                    <a:pt x="994" y="129"/>
                  </a:lnTo>
                  <a:lnTo>
                    <a:pt x="975" y="128"/>
                  </a:lnTo>
                  <a:lnTo>
                    <a:pt x="964" y="123"/>
                  </a:lnTo>
                  <a:lnTo>
                    <a:pt x="957" y="116"/>
                  </a:lnTo>
                  <a:lnTo>
                    <a:pt x="954" y="109"/>
                  </a:lnTo>
                  <a:lnTo>
                    <a:pt x="954" y="102"/>
                  </a:lnTo>
                  <a:lnTo>
                    <a:pt x="956" y="98"/>
                  </a:lnTo>
                  <a:lnTo>
                    <a:pt x="957" y="95"/>
                  </a:lnTo>
                  <a:lnTo>
                    <a:pt x="763" y="221"/>
                  </a:lnTo>
                  <a:lnTo>
                    <a:pt x="761" y="220"/>
                  </a:lnTo>
                  <a:lnTo>
                    <a:pt x="756" y="218"/>
                  </a:lnTo>
                  <a:lnTo>
                    <a:pt x="748" y="214"/>
                  </a:lnTo>
                  <a:lnTo>
                    <a:pt x="738" y="208"/>
                  </a:lnTo>
                  <a:lnTo>
                    <a:pt x="725" y="201"/>
                  </a:lnTo>
                  <a:lnTo>
                    <a:pt x="711" y="194"/>
                  </a:lnTo>
                  <a:lnTo>
                    <a:pt x="695" y="185"/>
                  </a:lnTo>
                  <a:lnTo>
                    <a:pt x="678" y="175"/>
                  </a:lnTo>
                  <a:lnTo>
                    <a:pt x="660" y="165"/>
                  </a:lnTo>
                  <a:lnTo>
                    <a:pt x="642" y="153"/>
                  </a:lnTo>
                  <a:lnTo>
                    <a:pt x="625" y="141"/>
                  </a:lnTo>
                  <a:lnTo>
                    <a:pt x="607" y="129"/>
                  </a:lnTo>
                  <a:lnTo>
                    <a:pt x="590" y="116"/>
                  </a:lnTo>
                  <a:lnTo>
                    <a:pt x="574" y="103"/>
                  </a:lnTo>
                  <a:lnTo>
                    <a:pt x="560" y="90"/>
                  </a:lnTo>
                  <a:lnTo>
                    <a:pt x="548" y="77"/>
                  </a:lnTo>
                  <a:lnTo>
                    <a:pt x="535" y="64"/>
                  </a:lnTo>
                  <a:lnTo>
                    <a:pt x="521" y="53"/>
                  </a:lnTo>
                  <a:lnTo>
                    <a:pt x="506" y="42"/>
                  </a:lnTo>
                  <a:lnTo>
                    <a:pt x="489" y="34"/>
                  </a:lnTo>
                  <a:lnTo>
                    <a:pt x="473" y="26"/>
                  </a:lnTo>
                  <a:lnTo>
                    <a:pt x="454" y="21"/>
                  </a:lnTo>
                  <a:lnTo>
                    <a:pt x="437" y="15"/>
                  </a:lnTo>
                  <a:lnTo>
                    <a:pt x="421" y="10"/>
                  </a:lnTo>
                  <a:lnTo>
                    <a:pt x="405" y="8"/>
                  </a:lnTo>
                  <a:lnTo>
                    <a:pt x="388" y="4"/>
                  </a:lnTo>
                  <a:lnTo>
                    <a:pt x="375" y="3"/>
                  </a:lnTo>
                  <a:lnTo>
                    <a:pt x="363" y="1"/>
                  </a:lnTo>
                  <a:lnTo>
                    <a:pt x="353" y="1"/>
                  </a:lnTo>
                  <a:lnTo>
                    <a:pt x="346" y="0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5" y="2"/>
                  </a:lnTo>
                  <a:lnTo>
                    <a:pt x="325" y="7"/>
                  </a:lnTo>
                  <a:lnTo>
                    <a:pt x="310" y="12"/>
                  </a:lnTo>
                  <a:lnTo>
                    <a:pt x="291" y="18"/>
                  </a:lnTo>
                  <a:lnTo>
                    <a:pt x="269" y="22"/>
                  </a:lnTo>
                  <a:lnTo>
                    <a:pt x="243" y="23"/>
                  </a:lnTo>
                  <a:lnTo>
                    <a:pt x="218" y="19"/>
                  </a:lnTo>
                  <a:lnTo>
                    <a:pt x="193" y="9"/>
                  </a:lnTo>
                  <a:lnTo>
                    <a:pt x="180" y="17"/>
                  </a:lnTo>
                  <a:lnTo>
                    <a:pt x="161" y="27"/>
                  </a:lnTo>
                  <a:lnTo>
                    <a:pt x="140" y="40"/>
                  </a:lnTo>
                  <a:lnTo>
                    <a:pt x="118" y="53"/>
                  </a:lnTo>
                  <a:lnTo>
                    <a:pt x="96" y="65"/>
                  </a:lnTo>
                  <a:lnTo>
                    <a:pt x="77" y="76"/>
                  </a:lnTo>
                  <a:lnTo>
                    <a:pt x="65" y="83"/>
                  </a:lnTo>
                  <a:lnTo>
                    <a:pt x="60" y="85"/>
                  </a:lnTo>
                  <a:close/>
                </a:path>
              </a:pathLst>
            </a:custGeom>
            <a:solidFill>
              <a:srgbClr val="f9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1800" y="2527200"/>
              <a:ext cx="23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RREUR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7" name="" descr=""/>
          <p:cNvPicPr/>
          <p:nvPr/>
        </p:nvPicPr>
        <p:blipFill>
          <a:blip r:embed="rId1"/>
          <a:stretch/>
        </p:blipFill>
        <p:spPr>
          <a:xfrm>
            <a:off x="708120" y="835200"/>
            <a:ext cx="4432320" cy="4760640"/>
          </a:xfrm>
          <a:prstGeom prst="rect">
            <a:avLst/>
          </a:prstGeom>
          <a:ln w="0">
            <a:noFill/>
          </a:ln>
        </p:spPr>
      </p:pic>
      <p:sp>
        <p:nvSpPr>
          <p:cNvPr id="3608" name=""/>
          <p:cNvSpPr/>
          <p:nvPr/>
        </p:nvSpPr>
        <p:spPr>
          <a:xfrm>
            <a:off x="4826160" y="1522440"/>
            <a:ext cx="3744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936720" y="1847880"/>
            <a:ext cx="3998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2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361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"/>
          <p:cNvSpPr/>
          <p:nvPr/>
        </p:nvSpPr>
        <p:spPr>
          <a:xfrm>
            <a:off x="638280" y="1360440"/>
            <a:ext cx="2716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4043520" y="2514600"/>
            <a:ext cx="3790800" cy="2031840"/>
          </a:xfrm>
          <a:custGeom>
            <a:avLst/>
            <a:gdLst/>
            <a:ahLst/>
            <a:rect l="l" t="t" r="r" b="b"/>
            <a:pathLst>
              <a:path w="2388" h="1280">
                <a:moveTo>
                  <a:pt x="133" y="1217"/>
                </a:moveTo>
                <a:lnTo>
                  <a:pt x="127" y="1217"/>
                </a:lnTo>
                <a:lnTo>
                  <a:pt x="109" y="1210"/>
                </a:lnTo>
                <a:lnTo>
                  <a:pt x="84" y="1195"/>
                </a:lnTo>
                <a:lnTo>
                  <a:pt x="58" y="1166"/>
                </a:lnTo>
                <a:lnTo>
                  <a:pt x="33" y="1119"/>
                </a:lnTo>
                <a:lnTo>
                  <a:pt x="15" y="1050"/>
                </a:lnTo>
                <a:lnTo>
                  <a:pt x="9" y="954"/>
                </a:lnTo>
                <a:lnTo>
                  <a:pt x="15" y="825"/>
                </a:lnTo>
                <a:lnTo>
                  <a:pt x="29" y="665"/>
                </a:lnTo>
                <a:lnTo>
                  <a:pt x="31" y="546"/>
                </a:lnTo>
                <a:lnTo>
                  <a:pt x="26" y="459"/>
                </a:lnTo>
                <a:lnTo>
                  <a:pt x="17" y="397"/>
                </a:lnTo>
                <a:lnTo>
                  <a:pt x="9" y="355"/>
                </a:lnTo>
                <a:lnTo>
                  <a:pt x="2" y="326"/>
                </a:lnTo>
                <a:lnTo>
                  <a:pt x="0" y="299"/>
                </a:lnTo>
                <a:lnTo>
                  <a:pt x="6" y="270"/>
                </a:lnTo>
                <a:lnTo>
                  <a:pt x="15" y="246"/>
                </a:lnTo>
                <a:lnTo>
                  <a:pt x="24" y="223"/>
                </a:lnTo>
                <a:lnTo>
                  <a:pt x="33" y="201"/>
                </a:lnTo>
                <a:lnTo>
                  <a:pt x="44" y="179"/>
                </a:lnTo>
                <a:lnTo>
                  <a:pt x="55" y="159"/>
                </a:lnTo>
                <a:lnTo>
                  <a:pt x="71" y="141"/>
                </a:lnTo>
                <a:lnTo>
                  <a:pt x="89" y="123"/>
                </a:lnTo>
                <a:lnTo>
                  <a:pt x="111" y="105"/>
                </a:lnTo>
                <a:lnTo>
                  <a:pt x="138" y="92"/>
                </a:lnTo>
                <a:lnTo>
                  <a:pt x="171" y="81"/>
                </a:lnTo>
                <a:lnTo>
                  <a:pt x="209" y="70"/>
                </a:lnTo>
                <a:lnTo>
                  <a:pt x="256" y="63"/>
                </a:lnTo>
                <a:lnTo>
                  <a:pt x="307" y="58"/>
                </a:lnTo>
                <a:lnTo>
                  <a:pt x="368" y="56"/>
                </a:lnTo>
                <a:lnTo>
                  <a:pt x="439" y="56"/>
                </a:lnTo>
                <a:lnTo>
                  <a:pt x="517" y="61"/>
                </a:lnTo>
                <a:lnTo>
                  <a:pt x="597" y="67"/>
                </a:lnTo>
                <a:lnTo>
                  <a:pt x="673" y="74"/>
                </a:lnTo>
                <a:lnTo>
                  <a:pt x="745" y="81"/>
                </a:lnTo>
                <a:lnTo>
                  <a:pt x="809" y="87"/>
                </a:lnTo>
                <a:lnTo>
                  <a:pt x="869" y="94"/>
                </a:lnTo>
                <a:lnTo>
                  <a:pt x="927" y="98"/>
                </a:lnTo>
                <a:lnTo>
                  <a:pt x="981" y="105"/>
                </a:lnTo>
                <a:lnTo>
                  <a:pt x="1032" y="110"/>
                </a:lnTo>
                <a:lnTo>
                  <a:pt x="1084" y="114"/>
                </a:lnTo>
                <a:lnTo>
                  <a:pt x="1130" y="116"/>
                </a:lnTo>
                <a:lnTo>
                  <a:pt x="1179" y="119"/>
                </a:lnTo>
                <a:lnTo>
                  <a:pt x="1226" y="119"/>
                </a:lnTo>
                <a:lnTo>
                  <a:pt x="1275" y="119"/>
                </a:lnTo>
                <a:lnTo>
                  <a:pt x="1324" y="116"/>
                </a:lnTo>
                <a:lnTo>
                  <a:pt x="1373" y="112"/>
                </a:lnTo>
                <a:lnTo>
                  <a:pt x="1427" y="107"/>
                </a:lnTo>
                <a:lnTo>
                  <a:pt x="1481" y="101"/>
                </a:lnTo>
                <a:lnTo>
                  <a:pt x="1532" y="94"/>
                </a:lnTo>
                <a:lnTo>
                  <a:pt x="1581" y="87"/>
                </a:lnTo>
                <a:lnTo>
                  <a:pt x="1630" y="78"/>
                </a:lnTo>
                <a:lnTo>
                  <a:pt x="1677" y="72"/>
                </a:lnTo>
                <a:lnTo>
                  <a:pt x="1724" y="63"/>
                </a:lnTo>
                <a:lnTo>
                  <a:pt x="1768" y="54"/>
                </a:lnTo>
                <a:lnTo>
                  <a:pt x="1813" y="47"/>
                </a:lnTo>
                <a:lnTo>
                  <a:pt x="1855" y="38"/>
                </a:lnTo>
                <a:lnTo>
                  <a:pt x="1895" y="32"/>
                </a:lnTo>
                <a:lnTo>
                  <a:pt x="1938" y="25"/>
                </a:lnTo>
                <a:lnTo>
                  <a:pt x="1978" y="18"/>
                </a:lnTo>
                <a:lnTo>
                  <a:pt x="2016" y="12"/>
                </a:lnTo>
                <a:lnTo>
                  <a:pt x="2056" y="7"/>
                </a:lnTo>
                <a:lnTo>
                  <a:pt x="2094" y="3"/>
                </a:lnTo>
                <a:lnTo>
                  <a:pt x="2132" y="0"/>
                </a:lnTo>
                <a:lnTo>
                  <a:pt x="2194" y="5"/>
                </a:lnTo>
                <a:lnTo>
                  <a:pt x="2245" y="25"/>
                </a:lnTo>
                <a:lnTo>
                  <a:pt x="2288" y="58"/>
                </a:lnTo>
                <a:lnTo>
                  <a:pt x="2321" y="101"/>
                </a:lnTo>
                <a:lnTo>
                  <a:pt x="2346" y="154"/>
                </a:lnTo>
                <a:lnTo>
                  <a:pt x="2366" y="217"/>
                </a:lnTo>
                <a:lnTo>
                  <a:pt x="2377" y="283"/>
                </a:lnTo>
                <a:lnTo>
                  <a:pt x="2386" y="355"/>
                </a:lnTo>
                <a:lnTo>
                  <a:pt x="2388" y="428"/>
                </a:lnTo>
                <a:lnTo>
                  <a:pt x="2386" y="502"/>
                </a:lnTo>
                <a:lnTo>
                  <a:pt x="2384" y="573"/>
                </a:lnTo>
                <a:lnTo>
                  <a:pt x="2377" y="640"/>
                </a:lnTo>
                <a:lnTo>
                  <a:pt x="2370" y="702"/>
                </a:lnTo>
                <a:lnTo>
                  <a:pt x="2364" y="756"/>
                </a:lnTo>
                <a:lnTo>
                  <a:pt x="2355" y="803"/>
                </a:lnTo>
                <a:lnTo>
                  <a:pt x="2350" y="836"/>
                </a:lnTo>
                <a:lnTo>
                  <a:pt x="2344" y="885"/>
                </a:lnTo>
                <a:lnTo>
                  <a:pt x="2344" y="925"/>
                </a:lnTo>
                <a:lnTo>
                  <a:pt x="2341" y="959"/>
                </a:lnTo>
                <a:lnTo>
                  <a:pt x="2339" y="985"/>
                </a:lnTo>
                <a:lnTo>
                  <a:pt x="2330" y="1012"/>
                </a:lnTo>
                <a:lnTo>
                  <a:pt x="2315" y="1039"/>
                </a:lnTo>
                <a:lnTo>
                  <a:pt x="2283" y="1068"/>
                </a:lnTo>
                <a:lnTo>
                  <a:pt x="2239" y="1104"/>
                </a:lnTo>
                <a:lnTo>
                  <a:pt x="2208" y="1124"/>
                </a:lnTo>
                <a:lnTo>
                  <a:pt x="2174" y="1139"/>
                </a:lnTo>
                <a:lnTo>
                  <a:pt x="2136" y="1155"/>
                </a:lnTo>
                <a:lnTo>
                  <a:pt x="2096" y="1168"/>
                </a:lnTo>
                <a:lnTo>
                  <a:pt x="2051" y="1182"/>
                </a:lnTo>
                <a:lnTo>
                  <a:pt x="2007" y="1190"/>
                </a:lnTo>
                <a:lnTo>
                  <a:pt x="1958" y="1199"/>
                </a:lnTo>
                <a:lnTo>
                  <a:pt x="1906" y="1208"/>
                </a:lnTo>
                <a:lnTo>
                  <a:pt x="1855" y="1215"/>
                </a:lnTo>
                <a:lnTo>
                  <a:pt x="1802" y="1219"/>
                </a:lnTo>
                <a:lnTo>
                  <a:pt x="1746" y="1224"/>
                </a:lnTo>
                <a:lnTo>
                  <a:pt x="1690" y="1228"/>
                </a:lnTo>
                <a:lnTo>
                  <a:pt x="1632" y="1231"/>
                </a:lnTo>
                <a:lnTo>
                  <a:pt x="1574" y="1233"/>
                </a:lnTo>
                <a:lnTo>
                  <a:pt x="1518" y="1235"/>
                </a:lnTo>
                <a:lnTo>
                  <a:pt x="1460" y="1235"/>
                </a:lnTo>
                <a:lnTo>
                  <a:pt x="1402" y="1235"/>
                </a:lnTo>
                <a:lnTo>
                  <a:pt x="1344" y="1235"/>
                </a:lnTo>
                <a:lnTo>
                  <a:pt x="1289" y="1235"/>
                </a:lnTo>
                <a:lnTo>
                  <a:pt x="1235" y="1235"/>
                </a:lnTo>
                <a:lnTo>
                  <a:pt x="1182" y="1235"/>
                </a:lnTo>
                <a:lnTo>
                  <a:pt x="1128" y="1235"/>
                </a:lnTo>
                <a:lnTo>
                  <a:pt x="1079" y="1235"/>
                </a:lnTo>
                <a:lnTo>
                  <a:pt x="1030" y="1235"/>
                </a:lnTo>
                <a:lnTo>
                  <a:pt x="983" y="1235"/>
                </a:lnTo>
                <a:lnTo>
                  <a:pt x="941" y="1235"/>
                </a:lnTo>
                <a:lnTo>
                  <a:pt x="901" y="1237"/>
                </a:lnTo>
                <a:lnTo>
                  <a:pt x="863" y="1239"/>
                </a:lnTo>
                <a:lnTo>
                  <a:pt x="829" y="1242"/>
                </a:lnTo>
                <a:lnTo>
                  <a:pt x="800" y="1246"/>
                </a:lnTo>
                <a:lnTo>
                  <a:pt x="774" y="1251"/>
                </a:lnTo>
                <a:lnTo>
                  <a:pt x="751" y="1257"/>
                </a:lnTo>
                <a:lnTo>
                  <a:pt x="709" y="1268"/>
                </a:lnTo>
                <a:lnTo>
                  <a:pt x="664" y="1275"/>
                </a:lnTo>
                <a:lnTo>
                  <a:pt x="615" y="1280"/>
                </a:lnTo>
                <a:lnTo>
                  <a:pt x="566" y="1280"/>
                </a:lnTo>
                <a:lnTo>
                  <a:pt x="515" y="1280"/>
                </a:lnTo>
                <a:lnTo>
                  <a:pt x="463" y="1275"/>
                </a:lnTo>
                <a:lnTo>
                  <a:pt x="412" y="1271"/>
                </a:lnTo>
                <a:lnTo>
                  <a:pt x="363" y="1264"/>
                </a:lnTo>
                <a:lnTo>
                  <a:pt x="316" y="1255"/>
                </a:lnTo>
                <a:lnTo>
                  <a:pt x="274" y="1248"/>
                </a:lnTo>
                <a:lnTo>
                  <a:pt x="234" y="1239"/>
                </a:lnTo>
                <a:lnTo>
                  <a:pt x="200" y="1233"/>
                </a:lnTo>
                <a:lnTo>
                  <a:pt x="171" y="1226"/>
                </a:lnTo>
                <a:lnTo>
                  <a:pt x="151" y="1222"/>
                </a:lnTo>
                <a:lnTo>
                  <a:pt x="138" y="1219"/>
                </a:lnTo>
                <a:lnTo>
                  <a:pt x="133" y="121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4006800" y="3976560"/>
            <a:ext cx="3795840" cy="1733760"/>
          </a:xfrm>
          <a:custGeom>
            <a:avLst/>
            <a:gdLst/>
            <a:ahLst/>
            <a:rect l="l" t="t" r="r" b="b"/>
            <a:pathLst>
              <a:path w="2391" h="1092">
                <a:moveTo>
                  <a:pt x="2217" y="18"/>
                </a:moveTo>
                <a:lnTo>
                  <a:pt x="2226" y="15"/>
                </a:lnTo>
                <a:lnTo>
                  <a:pt x="2248" y="11"/>
                </a:lnTo>
                <a:lnTo>
                  <a:pt x="2280" y="13"/>
                </a:lnTo>
                <a:lnTo>
                  <a:pt x="2313" y="27"/>
                </a:lnTo>
                <a:lnTo>
                  <a:pt x="2344" y="58"/>
                </a:lnTo>
                <a:lnTo>
                  <a:pt x="2369" y="113"/>
                </a:lnTo>
                <a:lnTo>
                  <a:pt x="2382" y="200"/>
                </a:lnTo>
                <a:lnTo>
                  <a:pt x="2376" y="325"/>
                </a:lnTo>
                <a:lnTo>
                  <a:pt x="2362" y="486"/>
                </a:lnTo>
                <a:lnTo>
                  <a:pt x="2360" y="604"/>
                </a:lnTo>
                <a:lnTo>
                  <a:pt x="2364" y="691"/>
                </a:lnTo>
                <a:lnTo>
                  <a:pt x="2373" y="751"/>
                </a:lnTo>
                <a:lnTo>
                  <a:pt x="2382" y="793"/>
                </a:lnTo>
                <a:lnTo>
                  <a:pt x="2389" y="824"/>
                </a:lnTo>
                <a:lnTo>
                  <a:pt x="2391" y="851"/>
                </a:lnTo>
                <a:lnTo>
                  <a:pt x="2384" y="880"/>
                </a:lnTo>
                <a:lnTo>
                  <a:pt x="2376" y="902"/>
                </a:lnTo>
                <a:lnTo>
                  <a:pt x="2367" y="925"/>
                </a:lnTo>
                <a:lnTo>
                  <a:pt x="2358" y="947"/>
                </a:lnTo>
                <a:lnTo>
                  <a:pt x="2347" y="969"/>
                </a:lnTo>
                <a:lnTo>
                  <a:pt x="2335" y="989"/>
                </a:lnTo>
                <a:lnTo>
                  <a:pt x="2320" y="1007"/>
                </a:lnTo>
                <a:lnTo>
                  <a:pt x="2302" y="1025"/>
                </a:lnTo>
                <a:lnTo>
                  <a:pt x="2280" y="1040"/>
                </a:lnTo>
                <a:lnTo>
                  <a:pt x="2253" y="1056"/>
                </a:lnTo>
                <a:lnTo>
                  <a:pt x="2222" y="1067"/>
                </a:lnTo>
                <a:lnTo>
                  <a:pt x="2184" y="1076"/>
                </a:lnTo>
                <a:lnTo>
                  <a:pt x="2137" y="1085"/>
                </a:lnTo>
                <a:lnTo>
                  <a:pt x="2086" y="1089"/>
                </a:lnTo>
                <a:lnTo>
                  <a:pt x="2025" y="1092"/>
                </a:lnTo>
                <a:lnTo>
                  <a:pt x="1954" y="1089"/>
                </a:lnTo>
                <a:lnTo>
                  <a:pt x="1876" y="1085"/>
                </a:lnTo>
                <a:lnTo>
                  <a:pt x="1796" y="1078"/>
                </a:lnTo>
                <a:lnTo>
                  <a:pt x="1720" y="1074"/>
                </a:lnTo>
                <a:lnTo>
                  <a:pt x="1648" y="1067"/>
                </a:lnTo>
                <a:lnTo>
                  <a:pt x="1584" y="1061"/>
                </a:lnTo>
                <a:lnTo>
                  <a:pt x="1524" y="1054"/>
                </a:lnTo>
                <a:lnTo>
                  <a:pt x="1466" y="1049"/>
                </a:lnTo>
                <a:lnTo>
                  <a:pt x="1412" y="1043"/>
                </a:lnTo>
                <a:lnTo>
                  <a:pt x="1361" y="1038"/>
                </a:lnTo>
                <a:lnTo>
                  <a:pt x="1309" y="1034"/>
                </a:lnTo>
                <a:lnTo>
                  <a:pt x="1263" y="1032"/>
                </a:lnTo>
                <a:lnTo>
                  <a:pt x="1214" y="1029"/>
                </a:lnTo>
                <a:lnTo>
                  <a:pt x="1167" y="1027"/>
                </a:lnTo>
                <a:lnTo>
                  <a:pt x="1118" y="1029"/>
                </a:lnTo>
                <a:lnTo>
                  <a:pt x="1069" y="1029"/>
                </a:lnTo>
                <a:lnTo>
                  <a:pt x="1020" y="1034"/>
                </a:lnTo>
                <a:lnTo>
                  <a:pt x="966" y="1038"/>
                </a:lnTo>
                <a:lnTo>
                  <a:pt x="912" y="1045"/>
                </a:lnTo>
                <a:lnTo>
                  <a:pt x="861" y="1049"/>
                </a:lnTo>
                <a:lnTo>
                  <a:pt x="810" y="1054"/>
                </a:lnTo>
                <a:lnTo>
                  <a:pt x="761" y="1056"/>
                </a:lnTo>
                <a:lnTo>
                  <a:pt x="714" y="1058"/>
                </a:lnTo>
                <a:lnTo>
                  <a:pt x="667" y="1061"/>
                </a:lnTo>
                <a:lnTo>
                  <a:pt x="620" y="1063"/>
                </a:lnTo>
                <a:lnTo>
                  <a:pt x="576" y="1065"/>
                </a:lnTo>
                <a:lnTo>
                  <a:pt x="533" y="1065"/>
                </a:lnTo>
                <a:lnTo>
                  <a:pt x="491" y="1067"/>
                </a:lnTo>
                <a:lnTo>
                  <a:pt x="449" y="1067"/>
                </a:lnTo>
                <a:lnTo>
                  <a:pt x="408" y="1067"/>
                </a:lnTo>
                <a:lnTo>
                  <a:pt x="368" y="1069"/>
                </a:lnTo>
                <a:lnTo>
                  <a:pt x="328" y="1069"/>
                </a:lnTo>
                <a:lnTo>
                  <a:pt x="290" y="1072"/>
                </a:lnTo>
                <a:lnTo>
                  <a:pt x="252" y="1074"/>
                </a:lnTo>
                <a:lnTo>
                  <a:pt x="190" y="1069"/>
                </a:lnTo>
                <a:lnTo>
                  <a:pt x="139" y="1054"/>
                </a:lnTo>
                <a:lnTo>
                  <a:pt x="96" y="1025"/>
                </a:lnTo>
                <a:lnTo>
                  <a:pt x="63" y="985"/>
                </a:lnTo>
                <a:lnTo>
                  <a:pt x="38" y="936"/>
                </a:lnTo>
                <a:lnTo>
                  <a:pt x="20" y="880"/>
                </a:lnTo>
                <a:lnTo>
                  <a:pt x="9" y="820"/>
                </a:lnTo>
                <a:lnTo>
                  <a:pt x="3" y="757"/>
                </a:lnTo>
                <a:lnTo>
                  <a:pt x="0" y="691"/>
                </a:lnTo>
                <a:lnTo>
                  <a:pt x="3" y="624"/>
                </a:lnTo>
                <a:lnTo>
                  <a:pt x="7" y="559"/>
                </a:lnTo>
                <a:lnTo>
                  <a:pt x="14" y="497"/>
                </a:lnTo>
                <a:lnTo>
                  <a:pt x="20" y="441"/>
                </a:lnTo>
                <a:lnTo>
                  <a:pt x="29" y="390"/>
                </a:lnTo>
                <a:lnTo>
                  <a:pt x="36" y="347"/>
                </a:lnTo>
                <a:lnTo>
                  <a:pt x="40" y="314"/>
                </a:lnTo>
                <a:lnTo>
                  <a:pt x="47" y="263"/>
                </a:lnTo>
                <a:lnTo>
                  <a:pt x="47" y="216"/>
                </a:lnTo>
                <a:lnTo>
                  <a:pt x="47" y="176"/>
                </a:lnTo>
                <a:lnTo>
                  <a:pt x="52" y="142"/>
                </a:lnTo>
                <a:lnTo>
                  <a:pt x="58" y="113"/>
                </a:lnTo>
                <a:lnTo>
                  <a:pt x="76" y="89"/>
                </a:lnTo>
                <a:lnTo>
                  <a:pt x="107" y="67"/>
                </a:lnTo>
                <a:lnTo>
                  <a:pt x="154" y="47"/>
                </a:lnTo>
                <a:lnTo>
                  <a:pt x="197" y="38"/>
                </a:lnTo>
                <a:lnTo>
                  <a:pt x="257" y="33"/>
                </a:lnTo>
                <a:lnTo>
                  <a:pt x="333" y="31"/>
                </a:lnTo>
                <a:lnTo>
                  <a:pt x="422" y="31"/>
                </a:lnTo>
                <a:lnTo>
                  <a:pt x="522" y="33"/>
                </a:lnTo>
                <a:lnTo>
                  <a:pt x="629" y="35"/>
                </a:lnTo>
                <a:lnTo>
                  <a:pt x="743" y="42"/>
                </a:lnTo>
                <a:lnTo>
                  <a:pt x="859" y="47"/>
                </a:lnTo>
                <a:lnTo>
                  <a:pt x="975" y="51"/>
                </a:lnTo>
                <a:lnTo>
                  <a:pt x="1091" y="55"/>
                </a:lnTo>
                <a:lnTo>
                  <a:pt x="1200" y="58"/>
                </a:lnTo>
                <a:lnTo>
                  <a:pt x="1303" y="60"/>
                </a:lnTo>
                <a:lnTo>
                  <a:pt x="1396" y="60"/>
                </a:lnTo>
                <a:lnTo>
                  <a:pt x="1477" y="55"/>
                </a:lnTo>
                <a:lnTo>
                  <a:pt x="1544" y="49"/>
                </a:lnTo>
                <a:lnTo>
                  <a:pt x="1593" y="38"/>
                </a:lnTo>
                <a:lnTo>
                  <a:pt x="1635" y="27"/>
                </a:lnTo>
                <a:lnTo>
                  <a:pt x="1680" y="18"/>
                </a:lnTo>
                <a:lnTo>
                  <a:pt x="1729" y="11"/>
                </a:lnTo>
                <a:lnTo>
                  <a:pt x="1780" y="6"/>
                </a:lnTo>
                <a:lnTo>
                  <a:pt x="1831" y="2"/>
                </a:lnTo>
                <a:lnTo>
                  <a:pt x="1883" y="2"/>
                </a:lnTo>
                <a:lnTo>
                  <a:pt x="1934" y="0"/>
                </a:lnTo>
                <a:lnTo>
                  <a:pt x="1985" y="2"/>
                </a:lnTo>
                <a:lnTo>
                  <a:pt x="2032" y="4"/>
                </a:lnTo>
                <a:lnTo>
                  <a:pt x="2074" y="6"/>
                </a:lnTo>
                <a:lnTo>
                  <a:pt x="2115" y="9"/>
                </a:lnTo>
                <a:lnTo>
                  <a:pt x="2150" y="11"/>
                </a:lnTo>
                <a:lnTo>
                  <a:pt x="2177" y="13"/>
                </a:lnTo>
                <a:lnTo>
                  <a:pt x="2199" y="15"/>
                </a:lnTo>
                <a:lnTo>
                  <a:pt x="2213" y="18"/>
                </a:lnTo>
                <a:lnTo>
                  <a:pt x="2217" y="18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549680" y="2344680"/>
            <a:ext cx="3033720" cy="3484800"/>
          </a:xfrm>
          <a:custGeom>
            <a:avLst/>
            <a:gdLst/>
            <a:ahLst/>
            <a:rect l="l" t="t" r="r" b="b"/>
            <a:pathLst>
              <a:path w="1911" h="2195">
                <a:moveTo>
                  <a:pt x="1911" y="357"/>
                </a:moveTo>
                <a:lnTo>
                  <a:pt x="1909" y="357"/>
                </a:lnTo>
                <a:lnTo>
                  <a:pt x="1898" y="359"/>
                </a:lnTo>
                <a:lnTo>
                  <a:pt x="1884" y="361"/>
                </a:lnTo>
                <a:lnTo>
                  <a:pt x="1864" y="366"/>
                </a:lnTo>
                <a:lnTo>
                  <a:pt x="1837" y="370"/>
                </a:lnTo>
                <a:lnTo>
                  <a:pt x="1806" y="375"/>
                </a:lnTo>
                <a:lnTo>
                  <a:pt x="1770" y="379"/>
                </a:lnTo>
                <a:lnTo>
                  <a:pt x="1732" y="384"/>
                </a:lnTo>
                <a:lnTo>
                  <a:pt x="1688" y="390"/>
                </a:lnTo>
                <a:lnTo>
                  <a:pt x="1641" y="393"/>
                </a:lnTo>
                <a:lnTo>
                  <a:pt x="1590" y="397"/>
                </a:lnTo>
                <a:lnTo>
                  <a:pt x="1536" y="402"/>
                </a:lnTo>
                <a:lnTo>
                  <a:pt x="1480" y="402"/>
                </a:lnTo>
                <a:lnTo>
                  <a:pt x="1420" y="404"/>
                </a:lnTo>
                <a:lnTo>
                  <a:pt x="1358" y="404"/>
                </a:lnTo>
                <a:lnTo>
                  <a:pt x="1295" y="402"/>
                </a:lnTo>
                <a:lnTo>
                  <a:pt x="1231" y="397"/>
                </a:lnTo>
                <a:lnTo>
                  <a:pt x="1164" y="393"/>
                </a:lnTo>
                <a:lnTo>
                  <a:pt x="1097" y="384"/>
                </a:lnTo>
                <a:lnTo>
                  <a:pt x="1028" y="375"/>
                </a:lnTo>
                <a:lnTo>
                  <a:pt x="959" y="361"/>
                </a:lnTo>
                <a:lnTo>
                  <a:pt x="889" y="346"/>
                </a:lnTo>
                <a:lnTo>
                  <a:pt x="820" y="328"/>
                </a:lnTo>
                <a:lnTo>
                  <a:pt x="751" y="306"/>
                </a:lnTo>
                <a:lnTo>
                  <a:pt x="684" y="281"/>
                </a:lnTo>
                <a:lnTo>
                  <a:pt x="617" y="254"/>
                </a:lnTo>
                <a:lnTo>
                  <a:pt x="550" y="221"/>
                </a:lnTo>
                <a:lnTo>
                  <a:pt x="486" y="185"/>
                </a:lnTo>
                <a:lnTo>
                  <a:pt x="426" y="145"/>
                </a:lnTo>
                <a:lnTo>
                  <a:pt x="365" y="103"/>
                </a:lnTo>
                <a:lnTo>
                  <a:pt x="307" y="54"/>
                </a:lnTo>
                <a:lnTo>
                  <a:pt x="252" y="0"/>
                </a:lnTo>
                <a:lnTo>
                  <a:pt x="245" y="21"/>
                </a:lnTo>
                <a:lnTo>
                  <a:pt x="223" y="76"/>
                </a:lnTo>
                <a:lnTo>
                  <a:pt x="194" y="159"/>
                </a:lnTo>
                <a:lnTo>
                  <a:pt x="158" y="254"/>
                </a:lnTo>
                <a:lnTo>
                  <a:pt x="122" y="359"/>
                </a:lnTo>
                <a:lnTo>
                  <a:pt x="89" y="460"/>
                </a:lnTo>
                <a:lnTo>
                  <a:pt x="62" y="549"/>
                </a:lnTo>
                <a:lnTo>
                  <a:pt x="44" y="616"/>
                </a:lnTo>
                <a:lnTo>
                  <a:pt x="40" y="631"/>
                </a:lnTo>
                <a:lnTo>
                  <a:pt x="31" y="660"/>
                </a:lnTo>
                <a:lnTo>
                  <a:pt x="20" y="702"/>
                </a:lnTo>
                <a:lnTo>
                  <a:pt x="11" y="756"/>
                </a:lnTo>
                <a:lnTo>
                  <a:pt x="2" y="816"/>
                </a:lnTo>
                <a:lnTo>
                  <a:pt x="0" y="885"/>
                </a:lnTo>
                <a:lnTo>
                  <a:pt x="6" y="959"/>
                </a:lnTo>
                <a:lnTo>
                  <a:pt x="22" y="1037"/>
                </a:lnTo>
                <a:lnTo>
                  <a:pt x="29" y="1079"/>
                </a:lnTo>
                <a:lnTo>
                  <a:pt x="33" y="1135"/>
                </a:lnTo>
                <a:lnTo>
                  <a:pt x="37" y="1199"/>
                </a:lnTo>
                <a:lnTo>
                  <a:pt x="40" y="1273"/>
                </a:lnTo>
                <a:lnTo>
                  <a:pt x="42" y="1351"/>
                </a:lnTo>
                <a:lnTo>
                  <a:pt x="46" y="1436"/>
                </a:lnTo>
                <a:lnTo>
                  <a:pt x="55" y="1525"/>
                </a:lnTo>
                <a:lnTo>
                  <a:pt x="69" y="1612"/>
                </a:lnTo>
                <a:lnTo>
                  <a:pt x="87" y="1701"/>
                </a:lnTo>
                <a:lnTo>
                  <a:pt x="111" y="1788"/>
                </a:lnTo>
                <a:lnTo>
                  <a:pt x="147" y="1870"/>
                </a:lnTo>
                <a:lnTo>
                  <a:pt x="189" y="1948"/>
                </a:lnTo>
                <a:lnTo>
                  <a:pt x="245" y="2019"/>
                </a:lnTo>
                <a:lnTo>
                  <a:pt x="312" y="2080"/>
                </a:lnTo>
                <a:lnTo>
                  <a:pt x="392" y="2131"/>
                </a:lnTo>
                <a:lnTo>
                  <a:pt x="488" y="2169"/>
                </a:lnTo>
                <a:lnTo>
                  <a:pt x="613" y="2193"/>
                </a:lnTo>
                <a:lnTo>
                  <a:pt x="731" y="2195"/>
                </a:lnTo>
                <a:lnTo>
                  <a:pt x="843" y="2175"/>
                </a:lnTo>
                <a:lnTo>
                  <a:pt x="950" y="2135"/>
                </a:lnTo>
                <a:lnTo>
                  <a:pt x="1048" y="2082"/>
                </a:lnTo>
                <a:lnTo>
                  <a:pt x="1137" y="2017"/>
                </a:lnTo>
                <a:lnTo>
                  <a:pt x="1222" y="1941"/>
                </a:lnTo>
                <a:lnTo>
                  <a:pt x="1298" y="1861"/>
                </a:lnTo>
                <a:lnTo>
                  <a:pt x="1364" y="1779"/>
                </a:lnTo>
                <a:lnTo>
                  <a:pt x="1425" y="1699"/>
                </a:lnTo>
                <a:lnTo>
                  <a:pt x="1476" y="1621"/>
                </a:lnTo>
                <a:lnTo>
                  <a:pt x="1518" y="1549"/>
                </a:lnTo>
                <a:lnTo>
                  <a:pt x="1550" y="1489"/>
                </a:lnTo>
                <a:lnTo>
                  <a:pt x="1574" y="1442"/>
                </a:lnTo>
                <a:lnTo>
                  <a:pt x="1590" y="1411"/>
                </a:lnTo>
                <a:lnTo>
                  <a:pt x="1594" y="1400"/>
                </a:lnTo>
                <a:lnTo>
                  <a:pt x="1601" y="1395"/>
                </a:lnTo>
                <a:lnTo>
                  <a:pt x="1616" y="1378"/>
                </a:lnTo>
                <a:lnTo>
                  <a:pt x="1641" y="1351"/>
                </a:lnTo>
                <a:lnTo>
                  <a:pt x="1668" y="1313"/>
                </a:lnTo>
                <a:lnTo>
                  <a:pt x="1695" y="1264"/>
                </a:lnTo>
                <a:lnTo>
                  <a:pt x="1719" y="1206"/>
                </a:lnTo>
                <a:lnTo>
                  <a:pt x="1735" y="1137"/>
                </a:lnTo>
                <a:lnTo>
                  <a:pt x="1741" y="1059"/>
                </a:lnTo>
                <a:lnTo>
                  <a:pt x="1748" y="965"/>
                </a:lnTo>
                <a:lnTo>
                  <a:pt x="1768" y="856"/>
                </a:lnTo>
                <a:lnTo>
                  <a:pt x="1795" y="740"/>
                </a:lnTo>
                <a:lnTo>
                  <a:pt x="1826" y="624"/>
                </a:lnTo>
                <a:lnTo>
                  <a:pt x="1857" y="522"/>
                </a:lnTo>
                <a:lnTo>
                  <a:pt x="1884" y="435"/>
                </a:lnTo>
                <a:lnTo>
                  <a:pt x="1904" y="377"/>
                </a:lnTo>
                <a:lnTo>
                  <a:pt x="1911" y="35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4867200" y="3038400"/>
            <a:ext cx="836640" cy="558720"/>
          </a:xfrm>
          <a:custGeom>
            <a:avLst/>
            <a:gdLst/>
            <a:ahLst/>
            <a:rect l="l" t="t" r="r" b="b"/>
            <a:pathLst>
              <a:path w="527" h="352">
                <a:moveTo>
                  <a:pt x="460" y="0"/>
                </a:moveTo>
                <a:lnTo>
                  <a:pt x="455" y="0"/>
                </a:lnTo>
                <a:lnTo>
                  <a:pt x="440" y="0"/>
                </a:lnTo>
                <a:lnTo>
                  <a:pt x="420" y="2"/>
                </a:lnTo>
                <a:lnTo>
                  <a:pt x="395" y="7"/>
                </a:lnTo>
                <a:lnTo>
                  <a:pt x="366" y="16"/>
                </a:lnTo>
                <a:lnTo>
                  <a:pt x="339" y="25"/>
                </a:lnTo>
                <a:lnTo>
                  <a:pt x="315" y="40"/>
                </a:lnTo>
                <a:lnTo>
                  <a:pt x="295" y="60"/>
                </a:lnTo>
                <a:lnTo>
                  <a:pt x="275" y="83"/>
                </a:lnTo>
                <a:lnTo>
                  <a:pt x="248" y="107"/>
                </a:lnTo>
                <a:lnTo>
                  <a:pt x="217" y="129"/>
                </a:lnTo>
                <a:lnTo>
                  <a:pt x="183" y="152"/>
                </a:lnTo>
                <a:lnTo>
                  <a:pt x="147" y="174"/>
                </a:lnTo>
                <a:lnTo>
                  <a:pt x="114" y="194"/>
                </a:lnTo>
                <a:lnTo>
                  <a:pt x="85" y="210"/>
                </a:lnTo>
                <a:lnTo>
                  <a:pt x="58" y="223"/>
                </a:lnTo>
                <a:lnTo>
                  <a:pt x="38" y="234"/>
                </a:lnTo>
                <a:lnTo>
                  <a:pt x="23" y="245"/>
                </a:lnTo>
                <a:lnTo>
                  <a:pt x="11" y="259"/>
                </a:lnTo>
                <a:lnTo>
                  <a:pt x="2" y="270"/>
                </a:lnTo>
                <a:lnTo>
                  <a:pt x="0" y="283"/>
                </a:lnTo>
                <a:lnTo>
                  <a:pt x="2" y="297"/>
                </a:lnTo>
                <a:lnTo>
                  <a:pt x="9" y="308"/>
                </a:lnTo>
                <a:lnTo>
                  <a:pt x="20" y="319"/>
                </a:lnTo>
                <a:lnTo>
                  <a:pt x="40" y="326"/>
                </a:lnTo>
                <a:lnTo>
                  <a:pt x="67" y="326"/>
                </a:lnTo>
                <a:lnTo>
                  <a:pt x="105" y="321"/>
                </a:lnTo>
                <a:lnTo>
                  <a:pt x="147" y="317"/>
                </a:lnTo>
                <a:lnTo>
                  <a:pt x="197" y="312"/>
                </a:lnTo>
                <a:lnTo>
                  <a:pt x="248" y="310"/>
                </a:lnTo>
                <a:lnTo>
                  <a:pt x="304" y="314"/>
                </a:lnTo>
                <a:lnTo>
                  <a:pt x="362" y="326"/>
                </a:lnTo>
                <a:lnTo>
                  <a:pt x="413" y="339"/>
                </a:lnTo>
                <a:lnTo>
                  <a:pt x="453" y="348"/>
                </a:lnTo>
                <a:lnTo>
                  <a:pt x="482" y="352"/>
                </a:lnTo>
                <a:lnTo>
                  <a:pt x="500" y="350"/>
                </a:lnTo>
                <a:lnTo>
                  <a:pt x="511" y="343"/>
                </a:lnTo>
                <a:lnTo>
                  <a:pt x="515" y="332"/>
                </a:lnTo>
                <a:lnTo>
                  <a:pt x="515" y="317"/>
                </a:lnTo>
                <a:lnTo>
                  <a:pt x="511" y="297"/>
                </a:lnTo>
                <a:lnTo>
                  <a:pt x="509" y="268"/>
                </a:lnTo>
                <a:lnTo>
                  <a:pt x="513" y="225"/>
                </a:lnTo>
                <a:lnTo>
                  <a:pt x="520" y="176"/>
                </a:lnTo>
                <a:lnTo>
                  <a:pt x="527" y="127"/>
                </a:lnTo>
                <a:lnTo>
                  <a:pt x="527" y="78"/>
                </a:lnTo>
                <a:lnTo>
                  <a:pt x="518" y="38"/>
                </a:lnTo>
                <a:lnTo>
                  <a:pt x="498" y="11"/>
                </a:lnTo>
                <a:lnTo>
                  <a:pt x="4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202440" y="3240000"/>
            <a:ext cx="750960" cy="779400"/>
          </a:xfrm>
          <a:custGeom>
            <a:avLst/>
            <a:gdLst/>
            <a:ahLst/>
            <a:rect l="l" t="t" r="r" b="b"/>
            <a:pathLst>
              <a:path w="473" h="491">
                <a:moveTo>
                  <a:pt x="114" y="0"/>
                </a:moveTo>
                <a:lnTo>
                  <a:pt x="121" y="0"/>
                </a:lnTo>
                <a:lnTo>
                  <a:pt x="138" y="2"/>
                </a:lnTo>
                <a:lnTo>
                  <a:pt x="165" y="9"/>
                </a:lnTo>
                <a:lnTo>
                  <a:pt x="194" y="20"/>
                </a:lnTo>
                <a:lnTo>
                  <a:pt x="225" y="38"/>
                </a:lnTo>
                <a:lnTo>
                  <a:pt x="252" y="65"/>
                </a:lnTo>
                <a:lnTo>
                  <a:pt x="274" y="101"/>
                </a:lnTo>
                <a:lnTo>
                  <a:pt x="286" y="147"/>
                </a:lnTo>
                <a:lnTo>
                  <a:pt x="297" y="196"/>
                </a:lnTo>
                <a:lnTo>
                  <a:pt x="317" y="239"/>
                </a:lnTo>
                <a:lnTo>
                  <a:pt x="344" y="274"/>
                </a:lnTo>
                <a:lnTo>
                  <a:pt x="373" y="306"/>
                </a:lnTo>
                <a:lnTo>
                  <a:pt x="402" y="330"/>
                </a:lnTo>
                <a:lnTo>
                  <a:pt x="428" y="352"/>
                </a:lnTo>
                <a:lnTo>
                  <a:pt x="451" y="370"/>
                </a:lnTo>
                <a:lnTo>
                  <a:pt x="464" y="386"/>
                </a:lnTo>
                <a:lnTo>
                  <a:pt x="473" y="421"/>
                </a:lnTo>
                <a:lnTo>
                  <a:pt x="471" y="462"/>
                </a:lnTo>
                <a:lnTo>
                  <a:pt x="455" y="491"/>
                </a:lnTo>
                <a:lnTo>
                  <a:pt x="426" y="488"/>
                </a:lnTo>
                <a:lnTo>
                  <a:pt x="406" y="475"/>
                </a:lnTo>
                <a:lnTo>
                  <a:pt x="379" y="457"/>
                </a:lnTo>
                <a:lnTo>
                  <a:pt x="346" y="437"/>
                </a:lnTo>
                <a:lnTo>
                  <a:pt x="308" y="415"/>
                </a:lnTo>
                <a:lnTo>
                  <a:pt x="265" y="395"/>
                </a:lnTo>
                <a:lnTo>
                  <a:pt x="221" y="375"/>
                </a:lnTo>
                <a:lnTo>
                  <a:pt x="172" y="359"/>
                </a:lnTo>
                <a:lnTo>
                  <a:pt x="123" y="348"/>
                </a:lnTo>
                <a:lnTo>
                  <a:pt x="78" y="339"/>
                </a:lnTo>
                <a:lnTo>
                  <a:pt x="45" y="332"/>
                </a:lnTo>
                <a:lnTo>
                  <a:pt x="22" y="321"/>
                </a:lnTo>
                <a:lnTo>
                  <a:pt x="9" y="312"/>
                </a:lnTo>
                <a:lnTo>
                  <a:pt x="2" y="299"/>
                </a:lnTo>
                <a:lnTo>
                  <a:pt x="0" y="281"/>
                </a:lnTo>
                <a:lnTo>
                  <a:pt x="5" y="261"/>
                </a:lnTo>
                <a:lnTo>
                  <a:pt x="11" y="236"/>
                </a:lnTo>
                <a:lnTo>
                  <a:pt x="18" y="208"/>
                </a:lnTo>
                <a:lnTo>
                  <a:pt x="27" y="172"/>
                </a:lnTo>
                <a:lnTo>
                  <a:pt x="34" y="136"/>
                </a:lnTo>
                <a:lnTo>
                  <a:pt x="42" y="101"/>
                </a:lnTo>
                <a:lnTo>
                  <a:pt x="56" y="69"/>
                </a:lnTo>
                <a:lnTo>
                  <a:pt x="69" y="38"/>
                </a:lnTo>
                <a:lnTo>
                  <a:pt x="89" y="16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4935600" y="2897280"/>
            <a:ext cx="377640" cy="279360"/>
          </a:xfrm>
          <a:custGeom>
            <a:avLst/>
            <a:gdLst/>
            <a:ahLst/>
            <a:rect l="l" t="t" r="r" b="b"/>
            <a:pathLst>
              <a:path w="238" h="176">
                <a:moveTo>
                  <a:pt x="238" y="31"/>
                </a:moveTo>
                <a:lnTo>
                  <a:pt x="234" y="34"/>
                </a:lnTo>
                <a:lnTo>
                  <a:pt x="223" y="42"/>
                </a:lnTo>
                <a:lnTo>
                  <a:pt x="205" y="56"/>
                </a:lnTo>
                <a:lnTo>
                  <a:pt x="185" y="74"/>
                </a:lnTo>
                <a:lnTo>
                  <a:pt x="160" y="91"/>
                </a:lnTo>
                <a:lnTo>
                  <a:pt x="136" y="112"/>
                </a:lnTo>
                <a:lnTo>
                  <a:pt x="111" y="132"/>
                </a:lnTo>
                <a:lnTo>
                  <a:pt x="89" y="149"/>
                </a:lnTo>
                <a:lnTo>
                  <a:pt x="69" y="163"/>
                </a:lnTo>
                <a:lnTo>
                  <a:pt x="46" y="172"/>
                </a:lnTo>
                <a:lnTo>
                  <a:pt x="26" y="176"/>
                </a:lnTo>
                <a:lnTo>
                  <a:pt x="11" y="172"/>
                </a:lnTo>
                <a:lnTo>
                  <a:pt x="2" y="163"/>
                </a:lnTo>
                <a:lnTo>
                  <a:pt x="0" y="147"/>
                </a:lnTo>
                <a:lnTo>
                  <a:pt x="13" y="125"/>
                </a:lnTo>
                <a:lnTo>
                  <a:pt x="38" y="96"/>
                </a:lnTo>
                <a:lnTo>
                  <a:pt x="71" y="65"/>
                </a:lnTo>
                <a:lnTo>
                  <a:pt x="107" y="40"/>
                </a:lnTo>
                <a:lnTo>
                  <a:pt x="142" y="20"/>
                </a:lnTo>
                <a:lnTo>
                  <a:pt x="174" y="7"/>
                </a:lnTo>
                <a:lnTo>
                  <a:pt x="200" y="0"/>
                </a:lnTo>
                <a:lnTo>
                  <a:pt x="223" y="0"/>
                </a:lnTo>
                <a:lnTo>
                  <a:pt x="236" y="11"/>
                </a:lnTo>
                <a:lnTo>
                  <a:pt x="23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6821640" y="3216240"/>
            <a:ext cx="339480" cy="611280"/>
          </a:xfrm>
          <a:custGeom>
            <a:avLst/>
            <a:gdLst/>
            <a:ahLst/>
            <a:rect l="l" t="t" r="r" b="b"/>
            <a:pathLst>
              <a:path w="214" h="385">
                <a:moveTo>
                  <a:pt x="0" y="40"/>
                </a:moveTo>
                <a:lnTo>
                  <a:pt x="0" y="46"/>
                </a:lnTo>
                <a:lnTo>
                  <a:pt x="5" y="64"/>
                </a:lnTo>
                <a:lnTo>
                  <a:pt x="9" y="91"/>
                </a:lnTo>
                <a:lnTo>
                  <a:pt x="18" y="124"/>
                </a:lnTo>
                <a:lnTo>
                  <a:pt x="27" y="158"/>
                </a:lnTo>
                <a:lnTo>
                  <a:pt x="38" y="194"/>
                </a:lnTo>
                <a:lnTo>
                  <a:pt x="52" y="223"/>
                </a:lnTo>
                <a:lnTo>
                  <a:pt x="67" y="247"/>
                </a:lnTo>
                <a:lnTo>
                  <a:pt x="83" y="267"/>
                </a:lnTo>
                <a:lnTo>
                  <a:pt x="99" y="289"/>
                </a:lnTo>
                <a:lnTo>
                  <a:pt x="112" y="309"/>
                </a:lnTo>
                <a:lnTo>
                  <a:pt x="123" y="329"/>
                </a:lnTo>
                <a:lnTo>
                  <a:pt x="136" y="347"/>
                </a:lnTo>
                <a:lnTo>
                  <a:pt x="148" y="363"/>
                </a:lnTo>
                <a:lnTo>
                  <a:pt x="159" y="374"/>
                </a:lnTo>
                <a:lnTo>
                  <a:pt x="170" y="381"/>
                </a:lnTo>
                <a:lnTo>
                  <a:pt x="197" y="385"/>
                </a:lnTo>
                <a:lnTo>
                  <a:pt x="210" y="378"/>
                </a:lnTo>
                <a:lnTo>
                  <a:pt x="214" y="367"/>
                </a:lnTo>
                <a:lnTo>
                  <a:pt x="208" y="347"/>
                </a:lnTo>
                <a:lnTo>
                  <a:pt x="197" y="323"/>
                </a:lnTo>
                <a:lnTo>
                  <a:pt x="179" y="292"/>
                </a:lnTo>
                <a:lnTo>
                  <a:pt x="161" y="260"/>
                </a:lnTo>
                <a:lnTo>
                  <a:pt x="141" y="225"/>
                </a:lnTo>
                <a:lnTo>
                  <a:pt x="123" y="189"/>
                </a:lnTo>
                <a:lnTo>
                  <a:pt x="110" y="158"/>
                </a:lnTo>
                <a:lnTo>
                  <a:pt x="99" y="129"/>
                </a:lnTo>
                <a:lnTo>
                  <a:pt x="92" y="104"/>
                </a:lnTo>
                <a:lnTo>
                  <a:pt x="85" y="82"/>
                </a:lnTo>
                <a:lnTo>
                  <a:pt x="81" y="62"/>
                </a:lnTo>
                <a:lnTo>
                  <a:pt x="76" y="46"/>
                </a:lnTo>
                <a:lnTo>
                  <a:pt x="74" y="33"/>
                </a:lnTo>
                <a:lnTo>
                  <a:pt x="70" y="22"/>
                </a:lnTo>
                <a:lnTo>
                  <a:pt x="61" y="11"/>
                </a:lnTo>
                <a:lnTo>
                  <a:pt x="52" y="4"/>
                </a:lnTo>
                <a:lnTo>
                  <a:pt x="41" y="0"/>
                </a:lnTo>
                <a:lnTo>
                  <a:pt x="27" y="0"/>
                </a:lnTo>
                <a:lnTo>
                  <a:pt x="16" y="6"/>
                </a:lnTo>
                <a:lnTo>
                  <a:pt x="7" y="2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4896000" y="4665600"/>
            <a:ext cx="1288800" cy="843120"/>
          </a:xfrm>
          <a:custGeom>
            <a:avLst/>
            <a:gdLst/>
            <a:ahLst/>
            <a:rect l="l" t="t" r="r" b="b"/>
            <a:pathLst>
              <a:path w="812" h="531">
                <a:moveTo>
                  <a:pt x="18" y="132"/>
                </a:moveTo>
                <a:lnTo>
                  <a:pt x="18" y="130"/>
                </a:lnTo>
                <a:lnTo>
                  <a:pt x="22" y="123"/>
                </a:lnTo>
                <a:lnTo>
                  <a:pt x="29" y="116"/>
                </a:lnTo>
                <a:lnTo>
                  <a:pt x="36" y="103"/>
                </a:lnTo>
                <a:lnTo>
                  <a:pt x="49" y="92"/>
                </a:lnTo>
                <a:lnTo>
                  <a:pt x="63" y="76"/>
                </a:lnTo>
                <a:lnTo>
                  <a:pt x="80" y="63"/>
                </a:lnTo>
                <a:lnTo>
                  <a:pt x="103" y="47"/>
                </a:lnTo>
                <a:lnTo>
                  <a:pt x="127" y="34"/>
                </a:lnTo>
                <a:lnTo>
                  <a:pt x="156" y="23"/>
                </a:lnTo>
                <a:lnTo>
                  <a:pt x="190" y="11"/>
                </a:lnTo>
                <a:lnTo>
                  <a:pt x="228" y="5"/>
                </a:lnTo>
                <a:lnTo>
                  <a:pt x="270" y="0"/>
                </a:lnTo>
                <a:lnTo>
                  <a:pt x="317" y="0"/>
                </a:lnTo>
                <a:lnTo>
                  <a:pt x="368" y="5"/>
                </a:lnTo>
                <a:lnTo>
                  <a:pt x="426" y="14"/>
                </a:lnTo>
                <a:lnTo>
                  <a:pt x="484" y="27"/>
                </a:lnTo>
                <a:lnTo>
                  <a:pt x="535" y="45"/>
                </a:lnTo>
                <a:lnTo>
                  <a:pt x="582" y="63"/>
                </a:lnTo>
                <a:lnTo>
                  <a:pt x="625" y="85"/>
                </a:lnTo>
                <a:lnTo>
                  <a:pt x="662" y="107"/>
                </a:lnTo>
                <a:lnTo>
                  <a:pt x="696" y="132"/>
                </a:lnTo>
                <a:lnTo>
                  <a:pt x="725" y="156"/>
                </a:lnTo>
                <a:lnTo>
                  <a:pt x="749" y="183"/>
                </a:lnTo>
                <a:lnTo>
                  <a:pt x="770" y="212"/>
                </a:lnTo>
                <a:lnTo>
                  <a:pt x="785" y="239"/>
                </a:lnTo>
                <a:lnTo>
                  <a:pt x="796" y="268"/>
                </a:lnTo>
                <a:lnTo>
                  <a:pt x="805" y="294"/>
                </a:lnTo>
                <a:lnTo>
                  <a:pt x="812" y="321"/>
                </a:lnTo>
                <a:lnTo>
                  <a:pt x="812" y="348"/>
                </a:lnTo>
                <a:lnTo>
                  <a:pt x="810" y="375"/>
                </a:lnTo>
                <a:lnTo>
                  <a:pt x="805" y="399"/>
                </a:lnTo>
                <a:lnTo>
                  <a:pt x="790" y="442"/>
                </a:lnTo>
                <a:lnTo>
                  <a:pt x="770" y="477"/>
                </a:lnTo>
                <a:lnTo>
                  <a:pt x="745" y="504"/>
                </a:lnTo>
                <a:lnTo>
                  <a:pt x="718" y="522"/>
                </a:lnTo>
                <a:lnTo>
                  <a:pt x="687" y="531"/>
                </a:lnTo>
                <a:lnTo>
                  <a:pt x="656" y="528"/>
                </a:lnTo>
                <a:lnTo>
                  <a:pt x="620" y="517"/>
                </a:lnTo>
                <a:lnTo>
                  <a:pt x="582" y="493"/>
                </a:lnTo>
                <a:lnTo>
                  <a:pt x="547" y="462"/>
                </a:lnTo>
                <a:lnTo>
                  <a:pt x="520" y="428"/>
                </a:lnTo>
                <a:lnTo>
                  <a:pt x="500" y="393"/>
                </a:lnTo>
                <a:lnTo>
                  <a:pt x="480" y="359"/>
                </a:lnTo>
                <a:lnTo>
                  <a:pt x="464" y="328"/>
                </a:lnTo>
                <a:lnTo>
                  <a:pt x="446" y="301"/>
                </a:lnTo>
                <a:lnTo>
                  <a:pt x="424" y="281"/>
                </a:lnTo>
                <a:lnTo>
                  <a:pt x="397" y="266"/>
                </a:lnTo>
                <a:lnTo>
                  <a:pt x="366" y="259"/>
                </a:lnTo>
                <a:lnTo>
                  <a:pt x="335" y="261"/>
                </a:lnTo>
                <a:lnTo>
                  <a:pt x="301" y="270"/>
                </a:lnTo>
                <a:lnTo>
                  <a:pt x="270" y="283"/>
                </a:lnTo>
                <a:lnTo>
                  <a:pt x="239" y="299"/>
                </a:lnTo>
                <a:lnTo>
                  <a:pt x="208" y="315"/>
                </a:lnTo>
                <a:lnTo>
                  <a:pt x="176" y="326"/>
                </a:lnTo>
                <a:lnTo>
                  <a:pt x="145" y="332"/>
                </a:lnTo>
                <a:lnTo>
                  <a:pt x="114" y="332"/>
                </a:lnTo>
                <a:lnTo>
                  <a:pt x="83" y="326"/>
                </a:lnTo>
                <a:lnTo>
                  <a:pt x="54" y="315"/>
                </a:lnTo>
                <a:lnTo>
                  <a:pt x="29" y="294"/>
                </a:lnTo>
                <a:lnTo>
                  <a:pt x="9" y="268"/>
                </a:lnTo>
                <a:lnTo>
                  <a:pt x="0" y="232"/>
                </a:lnTo>
                <a:lnTo>
                  <a:pt x="2" y="188"/>
                </a:lnTo>
                <a:lnTo>
                  <a:pt x="18" y="1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607000" y="3470400"/>
            <a:ext cx="336600" cy="828720"/>
          </a:xfrm>
          <a:custGeom>
            <a:avLst/>
            <a:gdLst/>
            <a:ahLst/>
            <a:rect l="l" t="t" r="r" b="b"/>
            <a:pathLst>
              <a:path w="212" h="522">
                <a:moveTo>
                  <a:pt x="163" y="13"/>
                </a:moveTo>
                <a:lnTo>
                  <a:pt x="163" y="25"/>
                </a:lnTo>
                <a:lnTo>
                  <a:pt x="159" y="54"/>
                </a:lnTo>
                <a:lnTo>
                  <a:pt x="154" y="96"/>
                </a:lnTo>
                <a:lnTo>
                  <a:pt x="145" y="147"/>
                </a:lnTo>
                <a:lnTo>
                  <a:pt x="136" y="205"/>
                </a:lnTo>
                <a:lnTo>
                  <a:pt x="123" y="263"/>
                </a:lnTo>
                <a:lnTo>
                  <a:pt x="107" y="319"/>
                </a:lnTo>
                <a:lnTo>
                  <a:pt x="90" y="366"/>
                </a:lnTo>
                <a:lnTo>
                  <a:pt x="70" y="403"/>
                </a:lnTo>
                <a:lnTo>
                  <a:pt x="52" y="432"/>
                </a:lnTo>
                <a:lnTo>
                  <a:pt x="34" y="457"/>
                </a:lnTo>
                <a:lnTo>
                  <a:pt x="18" y="475"/>
                </a:lnTo>
                <a:lnTo>
                  <a:pt x="7" y="488"/>
                </a:lnTo>
                <a:lnTo>
                  <a:pt x="0" y="497"/>
                </a:lnTo>
                <a:lnTo>
                  <a:pt x="0" y="508"/>
                </a:lnTo>
                <a:lnTo>
                  <a:pt x="7" y="517"/>
                </a:lnTo>
                <a:lnTo>
                  <a:pt x="20" y="522"/>
                </a:lnTo>
                <a:lnTo>
                  <a:pt x="38" y="519"/>
                </a:lnTo>
                <a:lnTo>
                  <a:pt x="61" y="510"/>
                </a:lnTo>
                <a:lnTo>
                  <a:pt x="83" y="493"/>
                </a:lnTo>
                <a:lnTo>
                  <a:pt x="105" y="468"/>
                </a:lnTo>
                <a:lnTo>
                  <a:pt x="128" y="437"/>
                </a:lnTo>
                <a:lnTo>
                  <a:pt x="143" y="399"/>
                </a:lnTo>
                <a:lnTo>
                  <a:pt x="157" y="357"/>
                </a:lnTo>
                <a:lnTo>
                  <a:pt x="168" y="303"/>
                </a:lnTo>
                <a:lnTo>
                  <a:pt x="183" y="239"/>
                </a:lnTo>
                <a:lnTo>
                  <a:pt x="197" y="172"/>
                </a:lnTo>
                <a:lnTo>
                  <a:pt x="208" y="109"/>
                </a:lnTo>
                <a:lnTo>
                  <a:pt x="212" y="56"/>
                </a:lnTo>
                <a:lnTo>
                  <a:pt x="208" y="16"/>
                </a:lnTo>
                <a:lnTo>
                  <a:pt x="192" y="0"/>
                </a:lnTo>
                <a:lnTo>
                  <a:pt x="16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5321160" y="4248000"/>
            <a:ext cx="863640" cy="382680"/>
          </a:xfrm>
          <a:custGeom>
            <a:avLst/>
            <a:gdLst/>
            <a:ahLst/>
            <a:rect l="l" t="t" r="r" b="b"/>
            <a:pathLst>
              <a:path w="544" h="241">
                <a:moveTo>
                  <a:pt x="0" y="34"/>
                </a:moveTo>
                <a:lnTo>
                  <a:pt x="0" y="38"/>
                </a:lnTo>
                <a:lnTo>
                  <a:pt x="2" y="49"/>
                </a:lnTo>
                <a:lnTo>
                  <a:pt x="6" y="63"/>
                </a:lnTo>
                <a:lnTo>
                  <a:pt x="13" y="81"/>
                </a:lnTo>
                <a:lnTo>
                  <a:pt x="22" y="101"/>
                </a:lnTo>
                <a:lnTo>
                  <a:pt x="35" y="116"/>
                </a:lnTo>
                <a:lnTo>
                  <a:pt x="53" y="130"/>
                </a:lnTo>
                <a:lnTo>
                  <a:pt x="73" y="136"/>
                </a:lnTo>
                <a:lnTo>
                  <a:pt x="105" y="141"/>
                </a:lnTo>
                <a:lnTo>
                  <a:pt x="116" y="143"/>
                </a:lnTo>
                <a:lnTo>
                  <a:pt x="118" y="141"/>
                </a:lnTo>
                <a:lnTo>
                  <a:pt x="129" y="136"/>
                </a:lnTo>
                <a:lnTo>
                  <a:pt x="136" y="139"/>
                </a:lnTo>
                <a:lnTo>
                  <a:pt x="140" y="145"/>
                </a:lnTo>
                <a:lnTo>
                  <a:pt x="140" y="156"/>
                </a:lnTo>
                <a:lnTo>
                  <a:pt x="142" y="172"/>
                </a:lnTo>
                <a:lnTo>
                  <a:pt x="149" y="188"/>
                </a:lnTo>
                <a:lnTo>
                  <a:pt x="160" y="203"/>
                </a:lnTo>
                <a:lnTo>
                  <a:pt x="178" y="219"/>
                </a:lnTo>
                <a:lnTo>
                  <a:pt x="207" y="230"/>
                </a:lnTo>
                <a:lnTo>
                  <a:pt x="241" y="237"/>
                </a:lnTo>
                <a:lnTo>
                  <a:pt x="272" y="241"/>
                </a:lnTo>
                <a:lnTo>
                  <a:pt x="301" y="239"/>
                </a:lnTo>
                <a:lnTo>
                  <a:pt x="328" y="234"/>
                </a:lnTo>
                <a:lnTo>
                  <a:pt x="348" y="228"/>
                </a:lnTo>
                <a:lnTo>
                  <a:pt x="363" y="219"/>
                </a:lnTo>
                <a:lnTo>
                  <a:pt x="374" y="210"/>
                </a:lnTo>
                <a:lnTo>
                  <a:pt x="379" y="199"/>
                </a:lnTo>
                <a:lnTo>
                  <a:pt x="381" y="192"/>
                </a:lnTo>
                <a:lnTo>
                  <a:pt x="383" y="192"/>
                </a:lnTo>
                <a:lnTo>
                  <a:pt x="386" y="199"/>
                </a:lnTo>
                <a:lnTo>
                  <a:pt x="394" y="208"/>
                </a:lnTo>
                <a:lnTo>
                  <a:pt x="406" y="219"/>
                </a:lnTo>
                <a:lnTo>
                  <a:pt x="423" y="228"/>
                </a:lnTo>
                <a:lnTo>
                  <a:pt x="450" y="237"/>
                </a:lnTo>
                <a:lnTo>
                  <a:pt x="484" y="241"/>
                </a:lnTo>
                <a:lnTo>
                  <a:pt x="515" y="241"/>
                </a:lnTo>
                <a:lnTo>
                  <a:pt x="535" y="241"/>
                </a:lnTo>
                <a:lnTo>
                  <a:pt x="544" y="237"/>
                </a:lnTo>
                <a:lnTo>
                  <a:pt x="544" y="232"/>
                </a:lnTo>
                <a:lnTo>
                  <a:pt x="537" y="225"/>
                </a:lnTo>
                <a:lnTo>
                  <a:pt x="526" y="219"/>
                </a:lnTo>
                <a:lnTo>
                  <a:pt x="513" y="212"/>
                </a:lnTo>
                <a:lnTo>
                  <a:pt x="499" y="203"/>
                </a:lnTo>
                <a:lnTo>
                  <a:pt x="484" y="196"/>
                </a:lnTo>
                <a:lnTo>
                  <a:pt x="468" y="188"/>
                </a:lnTo>
                <a:lnTo>
                  <a:pt x="452" y="179"/>
                </a:lnTo>
                <a:lnTo>
                  <a:pt x="437" y="172"/>
                </a:lnTo>
                <a:lnTo>
                  <a:pt x="421" y="163"/>
                </a:lnTo>
                <a:lnTo>
                  <a:pt x="408" y="156"/>
                </a:lnTo>
                <a:lnTo>
                  <a:pt x="394" y="152"/>
                </a:lnTo>
                <a:lnTo>
                  <a:pt x="383" y="147"/>
                </a:lnTo>
                <a:lnTo>
                  <a:pt x="372" y="147"/>
                </a:lnTo>
                <a:lnTo>
                  <a:pt x="361" y="152"/>
                </a:lnTo>
                <a:lnTo>
                  <a:pt x="345" y="161"/>
                </a:lnTo>
                <a:lnTo>
                  <a:pt x="330" y="172"/>
                </a:lnTo>
                <a:lnTo>
                  <a:pt x="310" y="181"/>
                </a:lnTo>
                <a:lnTo>
                  <a:pt x="290" y="190"/>
                </a:lnTo>
                <a:lnTo>
                  <a:pt x="265" y="192"/>
                </a:lnTo>
                <a:lnTo>
                  <a:pt x="238" y="188"/>
                </a:lnTo>
                <a:lnTo>
                  <a:pt x="205" y="168"/>
                </a:lnTo>
                <a:lnTo>
                  <a:pt x="196" y="141"/>
                </a:lnTo>
                <a:lnTo>
                  <a:pt x="192" y="116"/>
                </a:lnTo>
                <a:lnTo>
                  <a:pt x="183" y="101"/>
                </a:lnTo>
                <a:lnTo>
                  <a:pt x="171" y="98"/>
                </a:lnTo>
                <a:lnTo>
                  <a:pt x="154" y="96"/>
                </a:lnTo>
                <a:lnTo>
                  <a:pt x="136" y="94"/>
                </a:lnTo>
                <a:lnTo>
                  <a:pt x="118" y="94"/>
                </a:lnTo>
                <a:lnTo>
                  <a:pt x="100" y="92"/>
                </a:lnTo>
                <a:lnTo>
                  <a:pt x="84" y="87"/>
                </a:lnTo>
                <a:lnTo>
                  <a:pt x="71" y="83"/>
                </a:lnTo>
                <a:lnTo>
                  <a:pt x="62" y="74"/>
                </a:lnTo>
                <a:lnTo>
                  <a:pt x="49" y="45"/>
                </a:lnTo>
                <a:lnTo>
                  <a:pt x="31" y="14"/>
                </a:lnTo>
                <a:lnTo>
                  <a:pt x="13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5257800" y="5261040"/>
            <a:ext cx="409680" cy="342720"/>
          </a:xfrm>
          <a:custGeom>
            <a:avLst/>
            <a:gdLst/>
            <a:ahLst/>
            <a:rect l="l" t="t" r="r" b="b"/>
            <a:pathLst>
              <a:path w="258" h="216">
                <a:moveTo>
                  <a:pt x="26" y="38"/>
                </a:moveTo>
                <a:lnTo>
                  <a:pt x="29" y="35"/>
                </a:lnTo>
                <a:lnTo>
                  <a:pt x="35" y="29"/>
                </a:lnTo>
                <a:lnTo>
                  <a:pt x="46" y="20"/>
                </a:lnTo>
                <a:lnTo>
                  <a:pt x="62" y="9"/>
                </a:lnTo>
                <a:lnTo>
                  <a:pt x="80" y="2"/>
                </a:lnTo>
                <a:lnTo>
                  <a:pt x="102" y="0"/>
                </a:lnTo>
                <a:lnTo>
                  <a:pt x="127" y="4"/>
                </a:lnTo>
                <a:lnTo>
                  <a:pt x="153" y="15"/>
                </a:lnTo>
                <a:lnTo>
                  <a:pt x="178" y="31"/>
                </a:lnTo>
                <a:lnTo>
                  <a:pt x="200" y="49"/>
                </a:lnTo>
                <a:lnTo>
                  <a:pt x="216" y="64"/>
                </a:lnTo>
                <a:lnTo>
                  <a:pt x="229" y="80"/>
                </a:lnTo>
                <a:lnTo>
                  <a:pt x="240" y="96"/>
                </a:lnTo>
                <a:lnTo>
                  <a:pt x="249" y="111"/>
                </a:lnTo>
                <a:lnTo>
                  <a:pt x="254" y="129"/>
                </a:lnTo>
                <a:lnTo>
                  <a:pt x="258" y="147"/>
                </a:lnTo>
                <a:lnTo>
                  <a:pt x="258" y="167"/>
                </a:lnTo>
                <a:lnTo>
                  <a:pt x="252" y="185"/>
                </a:lnTo>
                <a:lnTo>
                  <a:pt x="240" y="198"/>
                </a:lnTo>
                <a:lnTo>
                  <a:pt x="227" y="209"/>
                </a:lnTo>
                <a:lnTo>
                  <a:pt x="211" y="216"/>
                </a:lnTo>
                <a:lnTo>
                  <a:pt x="196" y="214"/>
                </a:lnTo>
                <a:lnTo>
                  <a:pt x="182" y="205"/>
                </a:lnTo>
                <a:lnTo>
                  <a:pt x="169" y="185"/>
                </a:lnTo>
                <a:lnTo>
                  <a:pt x="158" y="160"/>
                </a:lnTo>
                <a:lnTo>
                  <a:pt x="147" y="140"/>
                </a:lnTo>
                <a:lnTo>
                  <a:pt x="133" y="122"/>
                </a:lnTo>
                <a:lnTo>
                  <a:pt x="120" y="107"/>
                </a:lnTo>
                <a:lnTo>
                  <a:pt x="107" y="96"/>
                </a:lnTo>
                <a:lnTo>
                  <a:pt x="93" y="89"/>
                </a:lnTo>
                <a:lnTo>
                  <a:pt x="75" y="87"/>
                </a:lnTo>
                <a:lnTo>
                  <a:pt x="58" y="89"/>
                </a:lnTo>
                <a:lnTo>
                  <a:pt x="40" y="93"/>
                </a:lnTo>
                <a:lnTo>
                  <a:pt x="24" y="93"/>
                </a:lnTo>
                <a:lnTo>
                  <a:pt x="11" y="91"/>
                </a:lnTo>
                <a:lnTo>
                  <a:pt x="4" y="87"/>
                </a:lnTo>
                <a:lnTo>
                  <a:pt x="0" y="80"/>
                </a:lnTo>
                <a:lnTo>
                  <a:pt x="2" y="69"/>
                </a:lnTo>
                <a:lnTo>
                  <a:pt x="11" y="55"/>
                </a:lnTo>
                <a:lnTo>
                  <a:pt x="2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4811760" y="3675240"/>
            <a:ext cx="639720" cy="137880"/>
          </a:xfrm>
          <a:custGeom>
            <a:avLst/>
            <a:gdLst/>
            <a:ahLst/>
            <a:rect l="l" t="t" r="r" b="b"/>
            <a:pathLst>
              <a:path w="403" h="87">
                <a:moveTo>
                  <a:pt x="376" y="18"/>
                </a:moveTo>
                <a:lnTo>
                  <a:pt x="370" y="16"/>
                </a:lnTo>
                <a:lnTo>
                  <a:pt x="352" y="14"/>
                </a:lnTo>
                <a:lnTo>
                  <a:pt x="327" y="9"/>
                </a:lnTo>
                <a:lnTo>
                  <a:pt x="294" y="5"/>
                </a:lnTo>
                <a:lnTo>
                  <a:pt x="256" y="3"/>
                </a:lnTo>
                <a:lnTo>
                  <a:pt x="216" y="0"/>
                </a:lnTo>
                <a:lnTo>
                  <a:pt x="176" y="3"/>
                </a:lnTo>
                <a:lnTo>
                  <a:pt x="136" y="9"/>
                </a:lnTo>
                <a:lnTo>
                  <a:pt x="100" y="18"/>
                </a:lnTo>
                <a:lnTo>
                  <a:pt x="66" y="25"/>
                </a:lnTo>
                <a:lnTo>
                  <a:pt x="40" y="29"/>
                </a:lnTo>
                <a:lnTo>
                  <a:pt x="20" y="36"/>
                </a:lnTo>
                <a:lnTo>
                  <a:pt x="6" y="43"/>
                </a:lnTo>
                <a:lnTo>
                  <a:pt x="0" y="49"/>
                </a:lnTo>
                <a:lnTo>
                  <a:pt x="0" y="58"/>
                </a:lnTo>
                <a:lnTo>
                  <a:pt x="11" y="72"/>
                </a:lnTo>
                <a:lnTo>
                  <a:pt x="29" y="83"/>
                </a:lnTo>
                <a:lnTo>
                  <a:pt x="49" y="87"/>
                </a:lnTo>
                <a:lnTo>
                  <a:pt x="75" y="87"/>
                </a:lnTo>
                <a:lnTo>
                  <a:pt x="107" y="85"/>
                </a:lnTo>
                <a:lnTo>
                  <a:pt x="142" y="81"/>
                </a:lnTo>
                <a:lnTo>
                  <a:pt x="182" y="78"/>
                </a:lnTo>
                <a:lnTo>
                  <a:pt x="227" y="78"/>
                </a:lnTo>
                <a:lnTo>
                  <a:pt x="276" y="81"/>
                </a:lnTo>
                <a:lnTo>
                  <a:pt x="321" y="85"/>
                </a:lnTo>
                <a:lnTo>
                  <a:pt x="354" y="85"/>
                </a:lnTo>
                <a:lnTo>
                  <a:pt x="381" y="81"/>
                </a:lnTo>
                <a:lnTo>
                  <a:pt x="397" y="72"/>
                </a:lnTo>
                <a:lnTo>
                  <a:pt x="403" y="63"/>
                </a:lnTo>
                <a:lnTo>
                  <a:pt x="403" y="49"/>
                </a:lnTo>
                <a:lnTo>
                  <a:pt x="394" y="36"/>
                </a:lnTo>
                <a:lnTo>
                  <a:pt x="376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6159600" y="3887640"/>
            <a:ext cx="588960" cy="282600"/>
          </a:xfrm>
          <a:custGeom>
            <a:avLst/>
            <a:gdLst/>
            <a:ahLst/>
            <a:rect l="l" t="t" r="r" b="b"/>
            <a:pathLst>
              <a:path w="371" h="178">
                <a:moveTo>
                  <a:pt x="43" y="0"/>
                </a:moveTo>
                <a:lnTo>
                  <a:pt x="52" y="2"/>
                </a:lnTo>
                <a:lnTo>
                  <a:pt x="78" y="7"/>
                </a:lnTo>
                <a:lnTo>
                  <a:pt x="119" y="13"/>
                </a:lnTo>
                <a:lnTo>
                  <a:pt x="165" y="25"/>
                </a:lnTo>
                <a:lnTo>
                  <a:pt x="214" y="38"/>
                </a:lnTo>
                <a:lnTo>
                  <a:pt x="263" y="56"/>
                </a:lnTo>
                <a:lnTo>
                  <a:pt x="306" y="78"/>
                </a:lnTo>
                <a:lnTo>
                  <a:pt x="339" y="103"/>
                </a:lnTo>
                <a:lnTo>
                  <a:pt x="359" y="127"/>
                </a:lnTo>
                <a:lnTo>
                  <a:pt x="371" y="145"/>
                </a:lnTo>
                <a:lnTo>
                  <a:pt x="371" y="161"/>
                </a:lnTo>
                <a:lnTo>
                  <a:pt x="364" y="172"/>
                </a:lnTo>
                <a:lnTo>
                  <a:pt x="350" y="176"/>
                </a:lnTo>
                <a:lnTo>
                  <a:pt x="330" y="178"/>
                </a:lnTo>
                <a:lnTo>
                  <a:pt x="306" y="174"/>
                </a:lnTo>
                <a:lnTo>
                  <a:pt x="277" y="165"/>
                </a:lnTo>
                <a:lnTo>
                  <a:pt x="248" y="152"/>
                </a:lnTo>
                <a:lnTo>
                  <a:pt x="219" y="140"/>
                </a:lnTo>
                <a:lnTo>
                  <a:pt x="192" y="125"/>
                </a:lnTo>
                <a:lnTo>
                  <a:pt x="165" y="111"/>
                </a:lnTo>
                <a:lnTo>
                  <a:pt x="141" y="100"/>
                </a:lnTo>
                <a:lnTo>
                  <a:pt x="116" y="89"/>
                </a:lnTo>
                <a:lnTo>
                  <a:pt x="92" y="78"/>
                </a:lnTo>
                <a:lnTo>
                  <a:pt x="67" y="71"/>
                </a:lnTo>
                <a:lnTo>
                  <a:pt x="45" y="65"/>
                </a:lnTo>
                <a:lnTo>
                  <a:pt x="27" y="54"/>
                </a:lnTo>
                <a:lnTo>
                  <a:pt x="11" y="42"/>
                </a:lnTo>
                <a:lnTo>
                  <a:pt x="3" y="29"/>
                </a:lnTo>
                <a:lnTo>
                  <a:pt x="0" y="18"/>
                </a:lnTo>
                <a:lnTo>
                  <a:pt x="5" y="9"/>
                </a:lnTo>
                <a:lnTo>
                  <a:pt x="18" y="2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6049800" y="3110040"/>
            <a:ext cx="233640" cy="529920"/>
          </a:xfrm>
          <a:custGeom>
            <a:avLst/>
            <a:gdLst/>
            <a:ahLst/>
            <a:rect l="l" t="t" r="r" b="b"/>
            <a:pathLst>
              <a:path w="147" h="334">
                <a:moveTo>
                  <a:pt x="96" y="0"/>
                </a:moveTo>
                <a:lnTo>
                  <a:pt x="94" y="2"/>
                </a:lnTo>
                <a:lnTo>
                  <a:pt x="85" y="11"/>
                </a:lnTo>
                <a:lnTo>
                  <a:pt x="74" y="24"/>
                </a:lnTo>
                <a:lnTo>
                  <a:pt x="60" y="42"/>
                </a:lnTo>
                <a:lnTo>
                  <a:pt x="47" y="60"/>
                </a:lnTo>
                <a:lnTo>
                  <a:pt x="34" y="82"/>
                </a:lnTo>
                <a:lnTo>
                  <a:pt x="25" y="102"/>
                </a:lnTo>
                <a:lnTo>
                  <a:pt x="18" y="125"/>
                </a:lnTo>
                <a:lnTo>
                  <a:pt x="9" y="178"/>
                </a:lnTo>
                <a:lnTo>
                  <a:pt x="2" y="243"/>
                </a:lnTo>
                <a:lnTo>
                  <a:pt x="0" y="303"/>
                </a:lnTo>
                <a:lnTo>
                  <a:pt x="18" y="334"/>
                </a:lnTo>
                <a:lnTo>
                  <a:pt x="45" y="325"/>
                </a:lnTo>
                <a:lnTo>
                  <a:pt x="63" y="285"/>
                </a:lnTo>
                <a:lnTo>
                  <a:pt x="74" y="232"/>
                </a:lnTo>
                <a:lnTo>
                  <a:pt x="80" y="178"/>
                </a:lnTo>
                <a:lnTo>
                  <a:pt x="89" y="154"/>
                </a:lnTo>
                <a:lnTo>
                  <a:pt x="105" y="127"/>
                </a:lnTo>
                <a:lnTo>
                  <a:pt x="123" y="98"/>
                </a:lnTo>
                <a:lnTo>
                  <a:pt x="138" y="71"/>
                </a:lnTo>
                <a:lnTo>
                  <a:pt x="147" y="47"/>
                </a:lnTo>
                <a:lnTo>
                  <a:pt x="147" y="27"/>
                </a:lnTo>
                <a:lnTo>
                  <a:pt x="132" y="9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6110280" y="4184640"/>
            <a:ext cx="241200" cy="403200"/>
          </a:xfrm>
          <a:custGeom>
            <a:avLst/>
            <a:gdLst/>
            <a:ahLst/>
            <a:rect l="l" t="t" r="r" b="b"/>
            <a:pathLst>
              <a:path w="152" h="254">
                <a:moveTo>
                  <a:pt x="42" y="0"/>
                </a:moveTo>
                <a:lnTo>
                  <a:pt x="49" y="5"/>
                </a:lnTo>
                <a:lnTo>
                  <a:pt x="67" y="16"/>
                </a:lnTo>
                <a:lnTo>
                  <a:pt x="92" y="34"/>
                </a:lnTo>
                <a:lnTo>
                  <a:pt x="116" y="58"/>
                </a:lnTo>
                <a:lnTo>
                  <a:pt x="138" y="87"/>
                </a:lnTo>
                <a:lnTo>
                  <a:pt x="152" y="121"/>
                </a:lnTo>
                <a:lnTo>
                  <a:pt x="152" y="156"/>
                </a:lnTo>
                <a:lnTo>
                  <a:pt x="136" y="196"/>
                </a:lnTo>
                <a:lnTo>
                  <a:pt x="112" y="230"/>
                </a:lnTo>
                <a:lnTo>
                  <a:pt x="92" y="248"/>
                </a:lnTo>
                <a:lnTo>
                  <a:pt x="76" y="254"/>
                </a:lnTo>
                <a:lnTo>
                  <a:pt x="63" y="252"/>
                </a:lnTo>
                <a:lnTo>
                  <a:pt x="56" y="243"/>
                </a:lnTo>
                <a:lnTo>
                  <a:pt x="51" y="230"/>
                </a:lnTo>
                <a:lnTo>
                  <a:pt x="51" y="216"/>
                </a:lnTo>
                <a:lnTo>
                  <a:pt x="58" y="203"/>
                </a:lnTo>
                <a:lnTo>
                  <a:pt x="71" y="174"/>
                </a:lnTo>
                <a:lnTo>
                  <a:pt x="71" y="138"/>
                </a:lnTo>
                <a:lnTo>
                  <a:pt x="63" y="103"/>
                </a:lnTo>
                <a:lnTo>
                  <a:pt x="42" y="78"/>
                </a:lnTo>
                <a:lnTo>
                  <a:pt x="31" y="69"/>
                </a:lnTo>
                <a:lnTo>
                  <a:pt x="18" y="56"/>
                </a:lnTo>
                <a:lnTo>
                  <a:pt x="9" y="43"/>
                </a:lnTo>
                <a:lnTo>
                  <a:pt x="2" y="29"/>
                </a:lnTo>
                <a:lnTo>
                  <a:pt x="0" y="16"/>
                </a:lnTo>
                <a:lnTo>
                  <a:pt x="5" y="7"/>
                </a:lnTo>
                <a:lnTo>
                  <a:pt x="18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3919680" y="2271600"/>
            <a:ext cx="2000160" cy="3292560"/>
          </a:xfrm>
          <a:custGeom>
            <a:avLst/>
            <a:gdLst/>
            <a:ahLst/>
            <a:rect l="l" t="t" r="r" b="b"/>
            <a:pathLst>
              <a:path w="1260" h="2074">
                <a:moveTo>
                  <a:pt x="1233" y="343"/>
                </a:moveTo>
                <a:lnTo>
                  <a:pt x="1228" y="343"/>
                </a:lnTo>
                <a:lnTo>
                  <a:pt x="1217" y="338"/>
                </a:lnTo>
                <a:lnTo>
                  <a:pt x="1197" y="332"/>
                </a:lnTo>
                <a:lnTo>
                  <a:pt x="1173" y="325"/>
                </a:lnTo>
                <a:lnTo>
                  <a:pt x="1141" y="314"/>
                </a:lnTo>
                <a:lnTo>
                  <a:pt x="1108" y="298"/>
                </a:lnTo>
                <a:lnTo>
                  <a:pt x="1072" y="280"/>
                </a:lnTo>
                <a:lnTo>
                  <a:pt x="1034" y="260"/>
                </a:lnTo>
                <a:lnTo>
                  <a:pt x="992" y="236"/>
                </a:lnTo>
                <a:lnTo>
                  <a:pt x="943" y="207"/>
                </a:lnTo>
                <a:lnTo>
                  <a:pt x="894" y="176"/>
                </a:lnTo>
                <a:lnTo>
                  <a:pt x="843" y="142"/>
                </a:lnTo>
                <a:lnTo>
                  <a:pt x="794" y="111"/>
                </a:lnTo>
                <a:lnTo>
                  <a:pt x="749" y="78"/>
                </a:lnTo>
                <a:lnTo>
                  <a:pt x="713" y="49"/>
                </a:lnTo>
                <a:lnTo>
                  <a:pt x="684" y="24"/>
                </a:lnTo>
                <a:lnTo>
                  <a:pt x="664" y="6"/>
                </a:lnTo>
                <a:lnTo>
                  <a:pt x="649" y="0"/>
                </a:lnTo>
                <a:lnTo>
                  <a:pt x="633" y="0"/>
                </a:lnTo>
                <a:lnTo>
                  <a:pt x="622" y="6"/>
                </a:lnTo>
                <a:lnTo>
                  <a:pt x="611" y="22"/>
                </a:lnTo>
                <a:lnTo>
                  <a:pt x="602" y="42"/>
                </a:lnTo>
                <a:lnTo>
                  <a:pt x="593" y="64"/>
                </a:lnTo>
                <a:lnTo>
                  <a:pt x="582" y="91"/>
                </a:lnTo>
                <a:lnTo>
                  <a:pt x="568" y="127"/>
                </a:lnTo>
                <a:lnTo>
                  <a:pt x="548" y="180"/>
                </a:lnTo>
                <a:lnTo>
                  <a:pt x="526" y="245"/>
                </a:lnTo>
                <a:lnTo>
                  <a:pt x="501" y="314"/>
                </a:lnTo>
                <a:lnTo>
                  <a:pt x="477" y="385"/>
                </a:lnTo>
                <a:lnTo>
                  <a:pt x="452" y="452"/>
                </a:lnTo>
                <a:lnTo>
                  <a:pt x="432" y="510"/>
                </a:lnTo>
                <a:lnTo>
                  <a:pt x="417" y="552"/>
                </a:lnTo>
                <a:lnTo>
                  <a:pt x="392" y="550"/>
                </a:lnTo>
                <a:lnTo>
                  <a:pt x="359" y="546"/>
                </a:lnTo>
                <a:lnTo>
                  <a:pt x="318" y="539"/>
                </a:lnTo>
                <a:lnTo>
                  <a:pt x="278" y="526"/>
                </a:lnTo>
                <a:lnTo>
                  <a:pt x="240" y="506"/>
                </a:lnTo>
                <a:lnTo>
                  <a:pt x="207" y="479"/>
                </a:lnTo>
                <a:lnTo>
                  <a:pt x="182" y="443"/>
                </a:lnTo>
                <a:lnTo>
                  <a:pt x="171" y="396"/>
                </a:lnTo>
                <a:lnTo>
                  <a:pt x="169" y="336"/>
                </a:lnTo>
                <a:lnTo>
                  <a:pt x="169" y="278"/>
                </a:lnTo>
                <a:lnTo>
                  <a:pt x="169" y="225"/>
                </a:lnTo>
                <a:lnTo>
                  <a:pt x="169" y="176"/>
                </a:lnTo>
                <a:lnTo>
                  <a:pt x="162" y="133"/>
                </a:lnTo>
                <a:lnTo>
                  <a:pt x="147" y="93"/>
                </a:lnTo>
                <a:lnTo>
                  <a:pt x="122" y="60"/>
                </a:lnTo>
                <a:lnTo>
                  <a:pt x="82" y="31"/>
                </a:lnTo>
                <a:lnTo>
                  <a:pt x="42" y="13"/>
                </a:lnTo>
                <a:lnTo>
                  <a:pt x="17" y="11"/>
                </a:lnTo>
                <a:lnTo>
                  <a:pt x="4" y="22"/>
                </a:lnTo>
                <a:lnTo>
                  <a:pt x="0" y="40"/>
                </a:lnTo>
                <a:lnTo>
                  <a:pt x="6" y="62"/>
                </a:lnTo>
                <a:lnTo>
                  <a:pt x="17" y="89"/>
                </a:lnTo>
                <a:lnTo>
                  <a:pt x="33" y="113"/>
                </a:lnTo>
                <a:lnTo>
                  <a:pt x="53" y="136"/>
                </a:lnTo>
                <a:lnTo>
                  <a:pt x="80" y="171"/>
                </a:lnTo>
                <a:lnTo>
                  <a:pt x="93" y="214"/>
                </a:lnTo>
                <a:lnTo>
                  <a:pt x="98" y="256"/>
                </a:lnTo>
                <a:lnTo>
                  <a:pt x="95" y="303"/>
                </a:lnTo>
                <a:lnTo>
                  <a:pt x="91" y="347"/>
                </a:lnTo>
                <a:lnTo>
                  <a:pt x="91" y="390"/>
                </a:lnTo>
                <a:lnTo>
                  <a:pt x="93" y="430"/>
                </a:lnTo>
                <a:lnTo>
                  <a:pt x="104" y="463"/>
                </a:lnTo>
                <a:lnTo>
                  <a:pt x="122" y="492"/>
                </a:lnTo>
                <a:lnTo>
                  <a:pt x="144" y="521"/>
                </a:lnTo>
                <a:lnTo>
                  <a:pt x="171" y="546"/>
                </a:lnTo>
                <a:lnTo>
                  <a:pt x="205" y="568"/>
                </a:lnTo>
                <a:lnTo>
                  <a:pt x="243" y="586"/>
                </a:lnTo>
                <a:lnTo>
                  <a:pt x="287" y="597"/>
                </a:lnTo>
                <a:lnTo>
                  <a:pt x="339" y="604"/>
                </a:lnTo>
                <a:lnTo>
                  <a:pt x="399" y="604"/>
                </a:lnTo>
                <a:lnTo>
                  <a:pt x="379" y="702"/>
                </a:lnTo>
                <a:lnTo>
                  <a:pt x="365" y="820"/>
                </a:lnTo>
                <a:lnTo>
                  <a:pt x="359" y="936"/>
                </a:lnTo>
                <a:lnTo>
                  <a:pt x="365" y="1025"/>
                </a:lnTo>
                <a:lnTo>
                  <a:pt x="381" y="1129"/>
                </a:lnTo>
                <a:lnTo>
                  <a:pt x="394" y="1268"/>
                </a:lnTo>
                <a:lnTo>
                  <a:pt x="403" y="1395"/>
                </a:lnTo>
                <a:lnTo>
                  <a:pt x="403" y="1477"/>
                </a:lnTo>
                <a:lnTo>
                  <a:pt x="403" y="1513"/>
                </a:lnTo>
                <a:lnTo>
                  <a:pt x="410" y="1573"/>
                </a:lnTo>
                <a:lnTo>
                  <a:pt x="419" y="1649"/>
                </a:lnTo>
                <a:lnTo>
                  <a:pt x="437" y="1733"/>
                </a:lnTo>
                <a:lnTo>
                  <a:pt x="457" y="1820"/>
                </a:lnTo>
                <a:lnTo>
                  <a:pt x="484" y="1903"/>
                </a:lnTo>
                <a:lnTo>
                  <a:pt x="517" y="1972"/>
                </a:lnTo>
                <a:lnTo>
                  <a:pt x="553" y="2023"/>
                </a:lnTo>
                <a:lnTo>
                  <a:pt x="586" y="2054"/>
                </a:lnTo>
                <a:lnTo>
                  <a:pt x="613" y="2070"/>
                </a:lnTo>
                <a:lnTo>
                  <a:pt x="633" y="2074"/>
                </a:lnTo>
                <a:lnTo>
                  <a:pt x="646" y="2072"/>
                </a:lnTo>
                <a:lnTo>
                  <a:pt x="653" y="2061"/>
                </a:lnTo>
                <a:lnTo>
                  <a:pt x="653" y="2045"/>
                </a:lnTo>
                <a:lnTo>
                  <a:pt x="649" y="2030"/>
                </a:lnTo>
                <a:lnTo>
                  <a:pt x="640" y="2014"/>
                </a:lnTo>
                <a:lnTo>
                  <a:pt x="628" y="1999"/>
                </a:lnTo>
                <a:lnTo>
                  <a:pt x="615" y="1974"/>
                </a:lnTo>
                <a:lnTo>
                  <a:pt x="599" y="1947"/>
                </a:lnTo>
                <a:lnTo>
                  <a:pt x="586" y="1914"/>
                </a:lnTo>
                <a:lnTo>
                  <a:pt x="570" y="1880"/>
                </a:lnTo>
                <a:lnTo>
                  <a:pt x="555" y="1845"/>
                </a:lnTo>
                <a:lnTo>
                  <a:pt x="541" y="1809"/>
                </a:lnTo>
                <a:lnTo>
                  <a:pt x="530" y="1774"/>
                </a:lnTo>
                <a:lnTo>
                  <a:pt x="521" y="1749"/>
                </a:lnTo>
                <a:lnTo>
                  <a:pt x="515" y="1720"/>
                </a:lnTo>
                <a:lnTo>
                  <a:pt x="506" y="1687"/>
                </a:lnTo>
                <a:lnTo>
                  <a:pt x="497" y="1649"/>
                </a:lnTo>
                <a:lnTo>
                  <a:pt x="504" y="1633"/>
                </a:lnTo>
                <a:lnTo>
                  <a:pt x="510" y="1615"/>
                </a:lnTo>
                <a:lnTo>
                  <a:pt x="519" y="1597"/>
                </a:lnTo>
                <a:lnTo>
                  <a:pt x="530" y="1580"/>
                </a:lnTo>
                <a:lnTo>
                  <a:pt x="539" y="1564"/>
                </a:lnTo>
                <a:lnTo>
                  <a:pt x="553" y="1546"/>
                </a:lnTo>
                <a:lnTo>
                  <a:pt x="566" y="1533"/>
                </a:lnTo>
                <a:lnTo>
                  <a:pt x="582" y="1522"/>
                </a:lnTo>
                <a:lnTo>
                  <a:pt x="604" y="1506"/>
                </a:lnTo>
                <a:lnTo>
                  <a:pt x="620" y="1488"/>
                </a:lnTo>
                <a:lnTo>
                  <a:pt x="628" y="1475"/>
                </a:lnTo>
                <a:lnTo>
                  <a:pt x="633" y="1462"/>
                </a:lnTo>
                <a:lnTo>
                  <a:pt x="633" y="1453"/>
                </a:lnTo>
                <a:lnTo>
                  <a:pt x="624" y="1446"/>
                </a:lnTo>
                <a:lnTo>
                  <a:pt x="613" y="1444"/>
                </a:lnTo>
                <a:lnTo>
                  <a:pt x="595" y="1446"/>
                </a:lnTo>
                <a:lnTo>
                  <a:pt x="579" y="1450"/>
                </a:lnTo>
                <a:lnTo>
                  <a:pt x="564" y="1457"/>
                </a:lnTo>
                <a:lnTo>
                  <a:pt x="548" y="1466"/>
                </a:lnTo>
                <a:lnTo>
                  <a:pt x="533" y="1477"/>
                </a:lnTo>
                <a:lnTo>
                  <a:pt x="517" y="1488"/>
                </a:lnTo>
                <a:lnTo>
                  <a:pt x="501" y="1502"/>
                </a:lnTo>
                <a:lnTo>
                  <a:pt x="488" y="1515"/>
                </a:lnTo>
                <a:lnTo>
                  <a:pt x="477" y="1528"/>
                </a:lnTo>
                <a:lnTo>
                  <a:pt x="470" y="1473"/>
                </a:lnTo>
                <a:lnTo>
                  <a:pt x="466" y="1424"/>
                </a:lnTo>
                <a:lnTo>
                  <a:pt x="466" y="1381"/>
                </a:lnTo>
                <a:lnTo>
                  <a:pt x="470" y="1350"/>
                </a:lnTo>
                <a:lnTo>
                  <a:pt x="481" y="1323"/>
                </a:lnTo>
                <a:lnTo>
                  <a:pt x="499" y="1299"/>
                </a:lnTo>
                <a:lnTo>
                  <a:pt x="517" y="1277"/>
                </a:lnTo>
                <a:lnTo>
                  <a:pt x="537" y="1254"/>
                </a:lnTo>
                <a:lnTo>
                  <a:pt x="557" y="1234"/>
                </a:lnTo>
                <a:lnTo>
                  <a:pt x="573" y="1216"/>
                </a:lnTo>
                <a:lnTo>
                  <a:pt x="584" y="1199"/>
                </a:lnTo>
                <a:lnTo>
                  <a:pt x="588" y="1181"/>
                </a:lnTo>
                <a:lnTo>
                  <a:pt x="582" y="1163"/>
                </a:lnTo>
                <a:lnTo>
                  <a:pt x="566" y="1143"/>
                </a:lnTo>
                <a:lnTo>
                  <a:pt x="544" y="1121"/>
                </a:lnTo>
                <a:lnTo>
                  <a:pt x="517" y="1101"/>
                </a:lnTo>
                <a:lnTo>
                  <a:pt x="490" y="1080"/>
                </a:lnTo>
                <a:lnTo>
                  <a:pt x="468" y="1060"/>
                </a:lnTo>
                <a:lnTo>
                  <a:pt x="450" y="1045"/>
                </a:lnTo>
                <a:lnTo>
                  <a:pt x="441" y="1031"/>
                </a:lnTo>
                <a:lnTo>
                  <a:pt x="437" y="967"/>
                </a:lnTo>
                <a:lnTo>
                  <a:pt x="439" y="844"/>
                </a:lnTo>
                <a:lnTo>
                  <a:pt x="448" y="711"/>
                </a:lnTo>
                <a:lnTo>
                  <a:pt x="470" y="612"/>
                </a:lnTo>
                <a:lnTo>
                  <a:pt x="472" y="608"/>
                </a:lnTo>
                <a:lnTo>
                  <a:pt x="475" y="604"/>
                </a:lnTo>
                <a:lnTo>
                  <a:pt x="475" y="599"/>
                </a:lnTo>
                <a:lnTo>
                  <a:pt x="477" y="595"/>
                </a:lnTo>
                <a:lnTo>
                  <a:pt x="486" y="590"/>
                </a:lnTo>
                <a:lnTo>
                  <a:pt x="488" y="588"/>
                </a:lnTo>
                <a:lnTo>
                  <a:pt x="488" y="584"/>
                </a:lnTo>
                <a:lnTo>
                  <a:pt x="484" y="581"/>
                </a:lnTo>
                <a:lnTo>
                  <a:pt x="501" y="530"/>
                </a:lnTo>
                <a:lnTo>
                  <a:pt x="521" y="465"/>
                </a:lnTo>
                <a:lnTo>
                  <a:pt x="546" y="399"/>
                </a:lnTo>
                <a:lnTo>
                  <a:pt x="570" y="329"/>
                </a:lnTo>
                <a:lnTo>
                  <a:pt x="593" y="267"/>
                </a:lnTo>
                <a:lnTo>
                  <a:pt x="615" y="214"/>
                </a:lnTo>
                <a:lnTo>
                  <a:pt x="633" y="176"/>
                </a:lnTo>
                <a:lnTo>
                  <a:pt x="649" y="158"/>
                </a:lnTo>
                <a:lnTo>
                  <a:pt x="664" y="153"/>
                </a:lnTo>
                <a:lnTo>
                  <a:pt x="686" y="156"/>
                </a:lnTo>
                <a:lnTo>
                  <a:pt x="711" y="160"/>
                </a:lnTo>
                <a:lnTo>
                  <a:pt x="738" y="167"/>
                </a:lnTo>
                <a:lnTo>
                  <a:pt x="765" y="176"/>
                </a:lnTo>
                <a:lnTo>
                  <a:pt x="791" y="189"/>
                </a:lnTo>
                <a:lnTo>
                  <a:pt x="816" y="202"/>
                </a:lnTo>
                <a:lnTo>
                  <a:pt x="838" y="216"/>
                </a:lnTo>
                <a:lnTo>
                  <a:pt x="852" y="225"/>
                </a:lnTo>
                <a:lnTo>
                  <a:pt x="876" y="238"/>
                </a:lnTo>
                <a:lnTo>
                  <a:pt x="905" y="256"/>
                </a:lnTo>
                <a:lnTo>
                  <a:pt x="941" y="276"/>
                </a:lnTo>
                <a:lnTo>
                  <a:pt x="981" y="296"/>
                </a:lnTo>
                <a:lnTo>
                  <a:pt x="1023" y="318"/>
                </a:lnTo>
                <a:lnTo>
                  <a:pt x="1066" y="341"/>
                </a:lnTo>
                <a:lnTo>
                  <a:pt x="1108" y="358"/>
                </a:lnTo>
                <a:lnTo>
                  <a:pt x="1148" y="376"/>
                </a:lnTo>
                <a:lnTo>
                  <a:pt x="1184" y="390"/>
                </a:lnTo>
                <a:lnTo>
                  <a:pt x="1215" y="399"/>
                </a:lnTo>
                <a:lnTo>
                  <a:pt x="1240" y="403"/>
                </a:lnTo>
                <a:lnTo>
                  <a:pt x="1253" y="401"/>
                </a:lnTo>
                <a:lnTo>
                  <a:pt x="1260" y="390"/>
                </a:lnTo>
                <a:lnTo>
                  <a:pt x="1253" y="372"/>
                </a:lnTo>
                <a:lnTo>
                  <a:pt x="1233" y="3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5126040" y="2819520"/>
            <a:ext cx="3214800" cy="3035160"/>
          </a:xfrm>
          <a:custGeom>
            <a:avLst/>
            <a:gdLst/>
            <a:ahLst/>
            <a:rect l="l" t="t" r="r" b="b"/>
            <a:pathLst>
              <a:path w="2025" h="1912">
                <a:moveTo>
                  <a:pt x="1956" y="952"/>
                </a:moveTo>
                <a:lnTo>
                  <a:pt x="1911" y="918"/>
                </a:lnTo>
                <a:lnTo>
                  <a:pt x="1882" y="887"/>
                </a:lnTo>
                <a:lnTo>
                  <a:pt x="1865" y="854"/>
                </a:lnTo>
                <a:lnTo>
                  <a:pt x="1858" y="820"/>
                </a:lnTo>
                <a:lnTo>
                  <a:pt x="1853" y="780"/>
                </a:lnTo>
                <a:lnTo>
                  <a:pt x="1851" y="738"/>
                </a:lnTo>
                <a:lnTo>
                  <a:pt x="1845" y="686"/>
                </a:lnTo>
                <a:lnTo>
                  <a:pt x="1833" y="628"/>
                </a:lnTo>
                <a:lnTo>
                  <a:pt x="1822" y="600"/>
                </a:lnTo>
                <a:lnTo>
                  <a:pt x="1804" y="573"/>
                </a:lnTo>
                <a:lnTo>
                  <a:pt x="1782" y="550"/>
                </a:lnTo>
                <a:lnTo>
                  <a:pt x="1758" y="530"/>
                </a:lnTo>
                <a:lnTo>
                  <a:pt x="1729" y="515"/>
                </a:lnTo>
                <a:lnTo>
                  <a:pt x="1697" y="501"/>
                </a:lnTo>
                <a:lnTo>
                  <a:pt x="1666" y="490"/>
                </a:lnTo>
                <a:lnTo>
                  <a:pt x="1635" y="479"/>
                </a:lnTo>
                <a:lnTo>
                  <a:pt x="1601" y="473"/>
                </a:lnTo>
                <a:lnTo>
                  <a:pt x="1572" y="468"/>
                </a:lnTo>
                <a:lnTo>
                  <a:pt x="1543" y="464"/>
                </a:lnTo>
                <a:lnTo>
                  <a:pt x="1519" y="459"/>
                </a:lnTo>
                <a:lnTo>
                  <a:pt x="1497" y="459"/>
                </a:lnTo>
                <a:lnTo>
                  <a:pt x="1481" y="457"/>
                </a:lnTo>
                <a:lnTo>
                  <a:pt x="1472" y="457"/>
                </a:lnTo>
                <a:lnTo>
                  <a:pt x="1468" y="457"/>
                </a:lnTo>
                <a:lnTo>
                  <a:pt x="1479" y="415"/>
                </a:lnTo>
                <a:lnTo>
                  <a:pt x="1492" y="366"/>
                </a:lnTo>
                <a:lnTo>
                  <a:pt x="1508" y="312"/>
                </a:lnTo>
                <a:lnTo>
                  <a:pt x="1526" y="256"/>
                </a:lnTo>
                <a:lnTo>
                  <a:pt x="1541" y="201"/>
                </a:lnTo>
                <a:lnTo>
                  <a:pt x="1557" y="145"/>
                </a:lnTo>
                <a:lnTo>
                  <a:pt x="1568" y="94"/>
                </a:lnTo>
                <a:lnTo>
                  <a:pt x="1577" y="49"/>
                </a:lnTo>
                <a:lnTo>
                  <a:pt x="1577" y="31"/>
                </a:lnTo>
                <a:lnTo>
                  <a:pt x="1568" y="18"/>
                </a:lnTo>
                <a:lnTo>
                  <a:pt x="1555" y="7"/>
                </a:lnTo>
                <a:lnTo>
                  <a:pt x="1537" y="2"/>
                </a:lnTo>
                <a:lnTo>
                  <a:pt x="1512" y="0"/>
                </a:lnTo>
                <a:lnTo>
                  <a:pt x="1485" y="0"/>
                </a:lnTo>
                <a:lnTo>
                  <a:pt x="1454" y="5"/>
                </a:lnTo>
                <a:lnTo>
                  <a:pt x="1419" y="9"/>
                </a:lnTo>
                <a:lnTo>
                  <a:pt x="1381" y="16"/>
                </a:lnTo>
                <a:lnTo>
                  <a:pt x="1343" y="22"/>
                </a:lnTo>
                <a:lnTo>
                  <a:pt x="1300" y="29"/>
                </a:lnTo>
                <a:lnTo>
                  <a:pt x="1258" y="38"/>
                </a:lnTo>
                <a:lnTo>
                  <a:pt x="1216" y="45"/>
                </a:lnTo>
                <a:lnTo>
                  <a:pt x="1173" y="51"/>
                </a:lnTo>
                <a:lnTo>
                  <a:pt x="1131" y="56"/>
                </a:lnTo>
                <a:lnTo>
                  <a:pt x="1088" y="58"/>
                </a:lnTo>
                <a:lnTo>
                  <a:pt x="1048" y="58"/>
                </a:lnTo>
                <a:lnTo>
                  <a:pt x="1008" y="58"/>
                </a:lnTo>
                <a:lnTo>
                  <a:pt x="970" y="58"/>
                </a:lnTo>
                <a:lnTo>
                  <a:pt x="932" y="58"/>
                </a:lnTo>
                <a:lnTo>
                  <a:pt x="894" y="56"/>
                </a:lnTo>
                <a:lnTo>
                  <a:pt x="859" y="54"/>
                </a:lnTo>
                <a:lnTo>
                  <a:pt x="825" y="51"/>
                </a:lnTo>
                <a:lnTo>
                  <a:pt x="794" y="49"/>
                </a:lnTo>
                <a:lnTo>
                  <a:pt x="765" y="47"/>
                </a:lnTo>
                <a:lnTo>
                  <a:pt x="738" y="45"/>
                </a:lnTo>
                <a:lnTo>
                  <a:pt x="716" y="42"/>
                </a:lnTo>
                <a:lnTo>
                  <a:pt x="698" y="40"/>
                </a:lnTo>
                <a:lnTo>
                  <a:pt x="680" y="38"/>
                </a:lnTo>
                <a:lnTo>
                  <a:pt x="669" y="38"/>
                </a:lnTo>
                <a:lnTo>
                  <a:pt x="662" y="36"/>
                </a:lnTo>
                <a:lnTo>
                  <a:pt x="660" y="36"/>
                </a:lnTo>
                <a:lnTo>
                  <a:pt x="636" y="56"/>
                </a:lnTo>
                <a:lnTo>
                  <a:pt x="629" y="71"/>
                </a:lnTo>
                <a:lnTo>
                  <a:pt x="638" y="85"/>
                </a:lnTo>
                <a:lnTo>
                  <a:pt x="658" y="96"/>
                </a:lnTo>
                <a:lnTo>
                  <a:pt x="691" y="105"/>
                </a:lnTo>
                <a:lnTo>
                  <a:pt x="734" y="111"/>
                </a:lnTo>
                <a:lnTo>
                  <a:pt x="785" y="116"/>
                </a:lnTo>
                <a:lnTo>
                  <a:pt x="841" y="120"/>
                </a:lnTo>
                <a:lnTo>
                  <a:pt x="899" y="123"/>
                </a:lnTo>
                <a:lnTo>
                  <a:pt x="959" y="123"/>
                </a:lnTo>
                <a:lnTo>
                  <a:pt x="1019" y="123"/>
                </a:lnTo>
                <a:lnTo>
                  <a:pt x="1077" y="123"/>
                </a:lnTo>
                <a:lnTo>
                  <a:pt x="1133" y="120"/>
                </a:lnTo>
                <a:lnTo>
                  <a:pt x="1180" y="118"/>
                </a:lnTo>
                <a:lnTo>
                  <a:pt x="1220" y="114"/>
                </a:lnTo>
                <a:lnTo>
                  <a:pt x="1249" y="111"/>
                </a:lnTo>
                <a:lnTo>
                  <a:pt x="1296" y="107"/>
                </a:lnTo>
                <a:lnTo>
                  <a:pt x="1340" y="103"/>
                </a:lnTo>
                <a:lnTo>
                  <a:pt x="1381" y="98"/>
                </a:lnTo>
                <a:lnTo>
                  <a:pt x="1419" y="96"/>
                </a:lnTo>
                <a:lnTo>
                  <a:pt x="1448" y="96"/>
                </a:lnTo>
                <a:lnTo>
                  <a:pt x="1470" y="98"/>
                </a:lnTo>
                <a:lnTo>
                  <a:pt x="1483" y="103"/>
                </a:lnTo>
                <a:lnTo>
                  <a:pt x="1483" y="109"/>
                </a:lnTo>
                <a:lnTo>
                  <a:pt x="1474" y="129"/>
                </a:lnTo>
                <a:lnTo>
                  <a:pt x="1463" y="172"/>
                </a:lnTo>
                <a:lnTo>
                  <a:pt x="1448" y="227"/>
                </a:lnTo>
                <a:lnTo>
                  <a:pt x="1432" y="294"/>
                </a:lnTo>
                <a:lnTo>
                  <a:pt x="1414" y="363"/>
                </a:lnTo>
                <a:lnTo>
                  <a:pt x="1398" y="428"/>
                </a:lnTo>
                <a:lnTo>
                  <a:pt x="1387" y="484"/>
                </a:lnTo>
                <a:lnTo>
                  <a:pt x="1378" y="524"/>
                </a:lnTo>
                <a:lnTo>
                  <a:pt x="1369" y="606"/>
                </a:lnTo>
                <a:lnTo>
                  <a:pt x="1361" y="713"/>
                </a:lnTo>
                <a:lnTo>
                  <a:pt x="1352" y="813"/>
                </a:lnTo>
                <a:lnTo>
                  <a:pt x="1334" y="876"/>
                </a:lnTo>
                <a:lnTo>
                  <a:pt x="1316" y="889"/>
                </a:lnTo>
                <a:lnTo>
                  <a:pt x="1285" y="896"/>
                </a:lnTo>
                <a:lnTo>
                  <a:pt x="1247" y="900"/>
                </a:lnTo>
                <a:lnTo>
                  <a:pt x="1202" y="905"/>
                </a:lnTo>
                <a:lnTo>
                  <a:pt x="1153" y="909"/>
                </a:lnTo>
                <a:lnTo>
                  <a:pt x="1109" y="916"/>
                </a:lnTo>
                <a:lnTo>
                  <a:pt x="1066" y="932"/>
                </a:lnTo>
                <a:lnTo>
                  <a:pt x="1030" y="954"/>
                </a:lnTo>
                <a:lnTo>
                  <a:pt x="1010" y="985"/>
                </a:lnTo>
                <a:lnTo>
                  <a:pt x="1008" y="1021"/>
                </a:lnTo>
                <a:lnTo>
                  <a:pt x="1022" y="1059"/>
                </a:lnTo>
                <a:lnTo>
                  <a:pt x="1044" y="1096"/>
                </a:lnTo>
                <a:lnTo>
                  <a:pt x="1071" y="1134"/>
                </a:lnTo>
                <a:lnTo>
                  <a:pt x="1097" y="1170"/>
                </a:lnTo>
                <a:lnTo>
                  <a:pt x="1120" y="1197"/>
                </a:lnTo>
                <a:lnTo>
                  <a:pt x="1131" y="1219"/>
                </a:lnTo>
                <a:lnTo>
                  <a:pt x="1129" y="1246"/>
                </a:lnTo>
                <a:lnTo>
                  <a:pt x="1109" y="1288"/>
                </a:lnTo>
                <a:lnTo>
                  <a:pt x="1077" y="1342"/>
                </a:lnTo>
                <a:lnTo>
                  <a:pt x="1039" y="1404"/>
                </a:lnTo>
                <a:lnTo>
                  <a:pt x="995" y="1464"/>
                </a:lnTo>
                <a:lnTo>
                  <a:pt x="950" y="1524"/>
                </a:lnTo>
                <a:lnTo>
                  <a:pt x="910" y="1573"/>
                </a:lnTo>
                <a:lnTo>
                  <a:pt x="874" y="1609"/>
                </a:lnTo>
                <a:lnTo>
                  <a:pt x="859" y="1622"/>
                </a:lnTo>
                <a:lnTo>
                  <a:pt x="845" y="1636"/>
                </a:lnTo>
                <a:lnTo>
                  <a:pt x="832" y="1649"/>
                </a:lnTo>
                <a:lnTo>
                  <a:pt x="819" y="1663"/>
                </a:lnTo>
                <a:lnTo>
                  <a:pt x="823" y="1634"/>
                </a:lnTo>
                <a:lnTo>
                  <a:pt x="827" y="1598"/>
                </a:lnTo>
                <a:lnTo>
                  <a:pt x="830" y="1553"/>
                </a:lnTo>
                <a:lnTo>
                  <a:pt x="830" y="1502"/>
                </a:lnTo>
                <a:lnTo>
                  <a:pt x="825" y="1442"/>
                </a:lnTo>
                <a:lnTo>
                  <a:pt x="816" y="1393"/>
                </a:lnTo>
                <a:lnTo>
                  <a:pt x="801" y="1355"/>
                </a:lnTo>
                <a:lnTo>
                  <a:pt x="785" y="1324"/>
                </a:lnTo>
                <a:lnTo>
                  <a:pt x="770" y="1299"/>
                </a:lnTo>
                <a:lnTo>
                  <a:pt x="754" y="1284"/>
                </a:lnTo>
                <a:lnTo>
                  <a:pt x="745" y="1275"/>
                </a:lnTo>
                <a:lnTo>
                  <a:pt x="741" y="1273"/>
                </a:lnTo>
                <a:lnTo>
                  <a:pt x="705" y="1255"/>
                </a:lnTo>
                <a:lnTo>
                  <a:pt x="687" y="1252"/>
                </a:lnTo>
                <a:lnTo>
                  <a:pt x="683" y="1264"/>
                </a:lnTo>
                <a:lnTo>
                  <a:pt x="689" y="1281"/>
                </a:lnTo>
                <a:lnTo>
                  <a:pt x="700" y="1308"/>
                </a:lnTo>
                <a:lnTo>
                  <a:pt x="718" y="1337"/>
                </a:lnTo>
                <a:lnTo>
                  <a:pt x="734" y="1368"/>
                </a:lnTo>
                <a:lnTo>
                  <a:pt x="747" y="1397"/>
                </a:lnTo>
                <a:lnTo>
                  <a:pt x="765" y="1462"/>
                </a:lnTo>
                <a:lnTo>
                  <a:pt x="770" y="1535"/>
                </a:lnTo>
                <a:lnTo>
                  <a:pt x="765" y="1607"/>
                </a:lnTo>
                <a:lnTo>
                  <a:pt x="756" y="1669"/>
                </a:lnTo>
                <a:lnTo>
                  <a:pt x="754" y="1687"/>
                </a:lnTo>
                <a:lnTo>
                  <a:pt x="752" y="1700"/>
                </a:lnTo>
                <a:lnTo>
                  <a:pt x="752" y="1714"/>
                </a:lnTo>
                <a:lnTo>
                  <a:pt x="752" y="1723"/>
                </a:lnTo>
                <a:lnTo>
                  <a:pt x="729" y="1738"/>
                </a:lnTo>
                <a:lnTo>
                  <a:pt x="705" y="1756"/>
                </a:lnTo>
                <a:lnTo>
                  <a:pt x="678" y="1772"/>
                </a:lnTo>
                <a:lnTo>
                  <a:pt x="649" y="1785"/>
                </a:lnTo>
                <a:lnTo>
                  <a:pt x="616" y="1801"/>
                </a:lnTo>
                <a:lnTo>
                  <a:pt x="580" y="1812"/>
                </a:lnTo>
                <a:lnTo>
                  <a:pt x="540" y="1825"/>
                </a:lnTo>
                <a:lnTo>
                  <a:pt x="495" y="1834"/>
                </a:lnTo>
                <a:lnTo>
                  <a:pt x="453" y="1841"/>
                </a:lnTo>
                <a:lnTo>
                  <a:pt x="413" y="1847"/>
                </a:lnTo>
                <a:lnTo>
                  <a:pt x="375" y="1850"/>
                </a:lnTo>
                <a:lnTo>
                  <a:pt x="339" y="1852"/>
                </a:lnTo>
                <a:lnTo>
                  <a:pt x="306" y="1854"/>
                </a:lnTo>
                <a:lnTo>
                  <a:pt x="274" y="1852"/>
                </a:lnTo>
                <a:lnTo>
                  <a:pt x="243" y="1850"/>
                </a:lnTo>
                <a:lnTo>
                  <a:pt x="216" y="1847"/>
                </a:lnTo>
                <a:lnTo>
                  <a:pt x="190" y="1845"/>
                </a:lnTo>
                <a:lnTo>
                  <a:pt x="165" y="1841"/>
                </a:lnTo>
                <a:lnTo>
                  <a:pt x="143" y="1836"/>
                </a:lnTo>
                <a:lnTo>
                  <a:pt x="123" y="1832"/>
                </a:lnTo>
                <a:lnTo>
                  <a:pt x="103" y="1825"/>
                </a:lnTo>
                <a:lnTo>
                  <a:pt x="87" y="1821"/>
                </a:lnTo>
                <a:lnTo>
                  <a:pt x="71" y="1816"/>
                </a:lnTo>
                <a:lnTo>
                  <a:pt x="58" y="1812"/>
                </a:lnTo>
                <a:lnTo>
                  <a:pt x="36" y="1807"/>
                </a:lnTo>
                <a:lnTo>
                  <a:pt x="18" y="1810"/>
                </a:lnTo>
                <a:lnTo>
                  <a:pt x="5" y="1818"/>
                </a:lnTo>
                <a:lnTo>
                  <a:pt x="0" y="1830"/>
                </a:lnTo>
                <a:lnTo>
                  <a:pt x="2" y="1843"/>
                </a:lnTo>
                <a:lnTo>
                  <a:pt x="13" y="1859"/>
                </a:lnTo>
                <a:lnTo>
                  <a:pt x="36" y="1872"/>
                </a:lnTo>
                <a:lnTo>
                  <a:pt x="67" y="1885"/>
                </a:lnTo>
                <a:lnTo>
                  <a:pt x="87" y="1892"/>
                </a:lnTo>
                <a:lnTo>
                  <a:pt x="105" y="1896"/>
                </a:lnTo>
                <a:lnTo>
                  <a:pt x="120" y="1901"/>
                </a:lnTo>
                <a:lnTo>
                  <a:pt x="136" y="1903"/>
                </a:lnTo>
                <a:lnTo>
                  <a:pt x="147" y="1905"/>
                </a:lnTo>
                <a:lnTo>
                  <a:pt x="161" y="1908"/>
                </a:lnTo>
                <a:lnTo>
                  <a:pt x="176" y="1910"/>
                </a:lnTo>
                <a:lnTo>
                  <a:pt x="190" y="1912"/>
                </a:lnTo>
                <a:lnTo>
                  <a:pt x="207" y="1912"/>
                </a:lnTo>
                <a:lnTo>
                  <a:pt x="228" y="1912"/>
                </a:lnTo>
                <a:lnTo>
                  <a:pt x="252" y="1912"/>
                </a:lnTo>
                <a:lnTo>
                  <a:pt x="281" y="1912"/>
                </a:lnTo>
                <a:lnTo>
                  <a:pt x="315" y="1912"/>
                </a:lnTo>
                <a:lnTo>
                  <a:pt x="352" y="1912"/>
                </a:lnTo>
                <a:lnTo>
                  <a:pt x="399" y="1912"/>
                </a:lnTo>
                <a:lnTo>
                  <a:pt x="453" y="1912"/>
                </a:lnTo>
                <a:lnTo>
                  <a:pt x="511" y="1908"/>
                </a:lnTo>
                <a:lnTo>
                  <a:pt x="567" y="1892"/>
                </a:lnTo>
                <a:lnTo>
                  <a:pt x="625" y="1868"/>
                </a:lnTo>
                <a:lnTo>
                  <a:pt x="680" y="1836"/>
                </a:lnTo>
                <a:lnTo>
                  <a:pt x="734" y="1801"/>
                </a:lnTo>
                <a:lnTo>
                  <a:pt x="787" y="1758"/>
                </a:lnTo>
                <a:lnTo>
                  <a:pt x="839" y="1714"/>
                </a:lnTo>
                <a:lnTo>
                  <a:pt x="888" y="1667"/>
                </a:lnTo>
                <a:lnTo>
                  <a:pt x="932" y="1620"/>
                </a:lnTo>
                <a:lnTo>
                  <a:pt x="975" y="1573"/>
                </a:lnTo>
                <a:lnTo>
                  <a:pt x="1013" y="1529"/>
                </a:lnTo>
                <a:lnTo>
                  <a:pt x="1048" y="1489"/>
                </a:lnTo>
                <a:lnTo>
                  <a:pt x="1077" y="1451"/>
                </a:lnTo>
                <a:lnTo>
                  <a:pt x="1102" y="1422"/>
                </a:lnTo>
                <a:lnTo>
                  <a:pt x="1120" y="1397"/>
                </a:lnTo>
                <a:lnTo>
                  <a:pt x="1133" y="1384"/>
                </a:lnTo>
                <a:lnTo>
                  <a:pt x="1153" y="1357"/>
                </a:lnTo>
                <a:lnTo>
                  <a:pt x="1175" y="1324"/>
                </a:lnTo>
                <a:lnTo>
                  <a:pt x="1195" y="1284"/>
                </a:lnTo>
                <a:lnTo>
                  <a:pt x="1213" y="1241"/>
                </a:lnTo>
                <a:lnTo>
                  <a:pt x="1229" y="1201"/>
                </a:lnTo>
                <a:lnTo>
                  <a:pt x="1242" y="1170"/>
                </a:lnTo>
                <a:lnTo>
                  <a:pt x="1251" y="1148"/>
                </a:lnTo>
                <a:lnTo>
                  <a:pt x="1253" y="1139"/>
                </a:lnTo>
                <a:lnTo>
                  <a:pt x="1303" y="1096"/>
                </a:lnTo>
                <a:lnTo>
                  <a:pt x="1340" y="1056"/>
                </a:lnTo>
                <a:lnTo>
                  <a:pt x="1365" y="1018"/>
                </a:lnTo>
                <a:lnTo>
                  <a:pt x="1381" y="981"/>
                </a:lnTo>
                <a:lnTo>
                  <a:pt x="1392" y="943"/>
                </a:lnTo>
                <a:lnTo>
                  <a:pt x="1398" y="907"/>
                </a:lnTo>
                <a:lnTo>
                  <a:pt x="1407" y="874"/>
                </a:lnTo>
                <a:lnTo>
                  <a:pt x="1416" y="842"/>
                </a:lnTo>
                <a:lnTo>
                  <a:pt x="1430" y="789"/>
                </a:lnTo>
                <a:lnTo>
                  <a:pt x="1439" y="722"/>
                </a:lnTo>
                <a:lnTo>
                  <a:pt x="1445" y="646"/>
                </a:lnTo>
                <a:lnTo>
                  <a:pt x="1452" y="568"/>
                </a:lnTo>
                <a:lnTo>
                  <a:pt x="1456" y="568"/>
                </a:lnTo>
                <a:lnTo>
                  <a:pt x="1463" y="566"/>
                </a:lnTo>
                <a:lnTo>
                  <a:pt x="1470" y="564"/>
                </a:lnTo>
                <a:lnTo>
                  <a:pt x="1479" y="562"/>
                </a:lnTo>
                <a:lnTo>
                  <a:pt x="1508" y="555"/>
                </a:lnTo>
                <a:lnTo>
                  <a:pt x="1546" y="555"/>
                </a:lnTo>
                <a:lnTo>
                  <a:pt x="1588" y="559"/>
                </a:lnTo>
                <a:lnTo>
                  <a:pt x="1633" y="568"/>
                </a:lnTo>
                <a:lnTo>
                  <a:pt x="1673" y="582"/>
                </a:lnTo>
                <a:lnTo>
                  <a:pt x="1706" y="602"/>
                </a:lnTo>
                <a:lnTo>
                  <a:pt x="1733" y="626"/>
                </a:lnTo>
                <a:lnTo>
                  <a:pt x="1744" y="657"/>
                </a:lnTo>
                <a:lnTo>
                  <a:pt x="1749" y="695"/>
                </a:lnTo>
                <a:lnTo>
                  <a:pt x="1753" y="740"/>
                </a:lnTo>
                <a:lnTo>
                  <a:pt x="1762" y="789"/>
                </a:lnTo>
                <a:lnTo>
                  <a:pt x="1773" y="840"/>
                </a:lnTo>
                <a:lnTo>
                  <a:pt x="1789" y="887"/>
                </a:lnTo>
                <a:lnTo>
                  <a:pt x="1811" y="932"/>
                </a:lnTo>
                <a:lnTo>
                  <a:pt x="1840" y="969"/>
                </a:lnTo>
                <a:lnTo>
                  <a:pt x="1878" y="996"/>
                </a:lnTo>
                <a:lnTo>
                  <a:pt x="1920" y="1014"/>
                </a:lnTo>
                <a:lnTo>
                  <a:pt x="1958" y="1025"/>
                </a:lnTo>
                <a:lnTo>
                  <a:pt x="1989" y="1030"/>
                </a:lnTo>
                <a:lnTo>
                  <a:pt x="2014" y="1027"/>
                </a:lnTo>
                <a:lnTo>
                  <a:pt x="2025" y="1018"/>
                </a:lnTo>
                <a:lnTo>
                  <a:pt x="2021" y="1005"/>
                </a:lnTo>
                <a:lnTo>
                  <a:pt x="1998" y="981"/>
                </a:lnTo>
                <a:lnTo>
                  <a:pt x="1956" y="9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6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363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"/>
          <p:cNvSpPr/>
          <p:nvPr/>
        </p:nvSpPr>
        <p:spPr>
          <a:xfrm>
            <a:off x="1355760" y="6122880"/>
            <a:ext cx="6529320" cy="52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 assurent des appuis intermédiaires pour la flexion selon le sens de petite inertie mais ne jouent pas de rôle pour la flexion d’axe f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96720" y="5429160"/>
            <a:ext cx="667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"/>
              </a:rPr>
              <a:t>M</a:t>
            </a:r>
            <a:r>
              <a:rPr b="0" lang="fr-FR" sz="2400" spc="-1" strike="noStrike" baseline="-25000">
                <a:solidFill>
                  <a:srgbClr val="99cc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1" name=""/>
          <p:cNvGrpSpPr/>
          <p:nvPr/>
        </p:nvGrpSpPr>
        <p:grpSpPr>
          <a:xfrm>
            <a:off x="219240" y="4716360"/>
            <a:ext cx="453960" cy="392040"/>
            <a:chOff x="219240" y="4716360"/>
            <a:chExt cx="453960" cy="392040"/>
          </a:xfrm>
        </p:grpSpPr>
        <p:sp>
          <p:nvSpPr>
            <p:cNvPr id="3642" name=""/>
            <p:cNvSpPr/>
            <p:nvPr/>
          </p:nvSpPr>
          <p:spPr>
            <a:xfrm>
              <a:off x="284760" y="471636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19240" y="4979880"/>
              <a:ext cx="453960" cy="12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28960" y="497844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5" name=""/>
          <p:cNvGrpSpPr/>
          <p:nvPr/>
        </p:nvGrpSpPr>
        <p:grpSpPr>
          <a:xfrm>
            <a:off x="457200" y="4397400"/>
            <a:ext cx="3260520" cy="293760"/>
            <a:chOff x="457200" y="4397400"/>
            <a:chExt cx="3260520" cy="293760"/>
          </a:xfrm>
        </p:grpSpPr>
        <p:grpSp>
          <p:nvGrpSpPr>
            <p:cNvPr id="3646" name=""/>
            <p:cNvGrpSpPr/>
            <p:nvPr/>
          </p:nvGrpSpPr>
          <p:grpSpPr>
            <a:xfrm>
              <a:off x="457200" y="4397400"/>
              <a:ext cx="1528200" cy="293760"/>
              <a:chOff x="457200" y="4397400"/>
              <a:chExt cx="1528200" cy="293760"/>
            </a:xfrm>
          </p:grpSpPr>
          <p:grpSp>
            <p:nvGrpSpPr>
              <p:cNvPr id="3647" name=""/>
              <p:cNvGrpSpPr/>
              <p:nvPr/>
            </p:nvGrpSpPr>
            <p:grpSpPr>
              <a:xfrm>
                <a:off x="457200" y="4397400"/>
                <a:ext cx="654840" cy="293760"/>
                <a:chOff x="457200" y="4397400"/>
                <a:chExt cx="654840" cy="293760"/>
              </a:xfrm>
            </p:grpSpPr>
            <p:sp>
              <p:nvSpPr>
                <p:cNvPr id="3648" name=""/>
                <p:cNvSpPr/>
                <p:nvPr/>
              </p:nvSpPr>
              <p:spPr>
                <a:xfrm>
                  <a:off x="45720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68148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88740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>
                  <a:off x="111204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1330560" y="4397400"/>
                <a:ext cx="654840" cy="293760"/>
                <a:chOff x="1330560" y="4397400"/>
                <a:chExt cx="654840" cy="29376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133056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155484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176076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198540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7" name=""/>
            <p:cNvGrpSpPr/>
            <p:nvPr/>
          </p:nvGrpSpPr>
          <p:grpSpPr>
            <a:xfrm>
              <a:off x="2189520" y="4397400"/>
              <a:ext cx="1528200" cy="293760"/>
              <a:chOff x="2189520" y="4397400"/>
              <a:chExt cx="1528200" cy="293760"/>
            </a:xfrm>
          </p:grpSpPr>
          <p:grpSp>
            <p:nvGrpSpPr>
              <p:cNvPr id="3658" name=""/>
              <p:cNvGrpSpPr/>
              <p:nvPr/>
            </p:nvGrpSpPr>
            <p:grpSpPr>
              <a:xfrm>
                <a:off x="2189520" y="4397400"/>
                <a:ext cx="654840" cy="293760"/>
                <a:chOff x="2189520" y="4397400"/>
                <a:chExt cx="654840" cy="293760"/>
              </a:xfrm>
            </p:grpSpPr>
            <p:sp>
              <p:nvSpPr>
                <p:cNvPr id="3659" name=""/>
                <p:cNvSpPr/>
                <p:nvPr/>
              </p:nvSpPr>
              <p:spPr>
                <a:xfrm>
                  <a:off x="218952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241380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261972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284436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3" name=""/>
              <p:cNvGrpSpPr/>
              <p:nvPr/>
            </p:nvGrpSpPr>
            <p:grpSpPr>
              <a:xfrm>
                <a:off x="3062880" y="4397400"/>
                <a:ext cx="654840" cy="293760"/>
                <a:chOff x="3062880" y="4397400"/>
                <a:chExt cx="654840" cy="293760"/>
              </a:xfrm>
            </p:grpSpPr>
            <p:sp>
              <p:nvSpPr>
                <p:cNvPr id="3664" name=""/>
                <p:cNvSpPr/>
                <p:nvPr/>
              </p:nvSpPr>
              <p:spPr>
                <a:xfrm>
                  <a:off x="306288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328716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349308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3717720" y="4397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68" name=""/>
          <p:cNvSpPr/>
          <p:nvPr/>
        </p:nvSpPr>
        <p:spPr>
          <a:xfrm>
            <a:off x="434880" y="4686480"/>
            <a:ext cx="37562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41360" y="4683240"/>
            <a:ext cx="3306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441360" y="4686480"/>
            <a:ext cx="0" cy="928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1" name=""/>
          <p:cNvGrpSpPr/>
          <p:nvPr/>
        </p:nvGrpSpPr>
        <p:grpSpPr>
          <a:xfrm>
            <a:off x="3483000" y="4716360"/>
            <a:ext cx="453960" cy="392040"/>
            <a:chOff x="3483000" y="4716360"/>
            <a:chExt cx="453960" cy="392040"/>
          </a:xfrm>
        </p:grpSpPr>
        <p:sp>
          <p:nvSpPr>
            <p:cNvPr id="3672" name=""/>
            <p:cNvSpPr/>
            <p:nvPr/>
          </p:nvSpPr>
          <p:spPr>
            <a:xfrm>
              <a:off x="3548520" y="471636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483000" y="4979880"/>
              <a:ext cx="453960" cy="128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492720" y="497844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5" name=""/>
          <p:cNvSpPr/>
          <p:nvPr/>
        </p:nvSpPr>
        <p:spPr>
          <a:xfrm>
            <a:off x="482760" y="4662360"/>
            <a:ext cx="3225600" cy="717840"/>
          </a:xfrm>
          <a:custGeom>
            <a:avLst/>
            <a:gdLst/>
            <a:ahLst/>
            <a:rect l="l" t="t" r="r" b="b"/>
            <a:pathLst>
              <a:path w="5080" h="1130">
                <a:moveTo>
                  <a:pt x="0" y="60"/>
                </a:moveTo>
                <a:cubicBezTo>
                  <a:pt x="430" y="237"/>
                  <a:pt x="1733" y="1130"/>
                  <a:pt x="2580" y="1120"/>
                </a:cubicBezTo>
                <a:cubicBezTo>
                  <a:pt x="3427" y="1110"/>
                  <a:pt x="4559" y="233"/>
                  <a:pt x="5080" y="0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3768840" y="4224240"/>
            <a:ext cx="571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1563840" y="4788000"/>
                <a:ext cx="1001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8" name=""/>
          <p:cNvSpPr/>
          <p:nvPr/>
        </p:nvSpPr>
        <p:spPr>
          <a:xfrm>
            <a:off x="1895400" y="3954600"/>
            <a:ext cx="46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fr-FR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4917960" y="4767120"/>
            <a:ext cx="454320" cy="392040"/>
            <a:chOff x="4917960" y="4767120"/>
            <a:chExt cx="454320" cy="392040"/>
          </a:xfrm>
        </p:grpSpPr>
        <p:sp>
          <p:nvSpPr>
            <p:cNvPr id="3680" name=""/>
            <p:cNvSpPr/>
            <p:nvPr/>
          </p:nvSpPr>
          <p:spPr>
            <a:xfrm>
              <a:off x="4983480" y="4767120"/>
              <a:ext cx="318600" cy="260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917960" y="5030640"/>
              <a:ext cx="454320" cy="128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927680" y="5029200"/>
              <a:ext cx="44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5156280" y="4448160"/>
            <a:ext cx="3260160" cy="293760"/>
            <a:chOff x="5156280" y="4448160"/>
            <a:chExt cx="3260160" cy="293760"/>
          </a:xfrm>
        </p:grpSpPr>
        <p:grpSp>
          <p:nvGrpSpPr>
            <p:cNvPr id="3684" name=""/>
            <p:cNvGrpSpPr/>
            <p:nvPr/>
          </p:nvGrpSpPr>
          <p:grpSpPr>
            <a:xfrm>
              <a:off x="5156280" y="4448160"/>
              <a:ext cx="1528200" cy="293760"/>
              <a:chOff x="5156280" y="4448160"/>
              <a:chExt cx="1528200" cy="293760"/>
            </a:xfrm>
          </p:grpSpPr>
          <p:grpSp>
            <p:nvGrpSpPr>
              <p:cNvPr id="3685" name=""/>
              <p:cNvGrpSpPr/>
              <p:nvPr/>
            </p:nvGrpSpPr>
            <p:grpSpPr>
              <a:xfrm>
                <a:off x="5156280" y="4448160"/>
                <a:ext cx="654840" cy="293760"/>
                <a:chOff x="5156280" y="4448160"/>
                <a:chExt cx="654840" cy="29376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515628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38056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558648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581112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6029640" y="4448160"/>
                <a:ext cx="654840" cy="293760"/>
                <a:chOff x="6029640" y="4448160"/>
                <a:chExt cx="654840" cy="293760"/>
              </a:xfrm>
            </p:grpSpPr>
            <p:sp>
              <p:nvSpPr>
                <p:cNvPr id="3691" name=""/>
                <p:cNvSpPr/>
                <p:nvPr/>
              </p:nvSpPr>
              <p:spPr>
                <a:xfrm>
                  <a:off x="602964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625392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645984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668448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5" name=""/>
            <p:cNvGrpSpPr/>
            <p:nvPr/>
          </p:nvGrpSpPr>
          <p:grpSpPr>
            <a:xfrm>
              <a:off x="6888240" y="4448160"/>
              <a:ext cx="1528200" cy="293760"/>
              <a:chOff x="6888240" y="4448160"/>
              <a:chExt cx="1528200" cy="293760"/>
            </a:xfrm>
          </p:grpSpPr>
          <p:grpSp>
            <p:nvGrpSpPr>
              <p:cNvPr id="3696" name=""/>
              <p:cNvGrpSpPr/>
              <p:nvPr/>
            </p:nvGrpSpPr>
            <p:grpSpPr>
              <a:xfrm>
                <a:off x="6888240" y="4448160"/>
                <a:ext cx="654840" cy="293760"/>
                <a:chOff x="6888240" y="4448160"/>
                <a:chExt cx="654840" cy="293760"/>
              </a:xfrm>
            </p:grpSpPr>
            <p:sp>
              <p:nvSpPr>
                <p:cNvPr id="3697" name=""/>
                <p:cNvSpPr/>
                <p:nvPr/>
              </p:nvSpPr>
              <p:spPr>
                <a:xfrm>
                  <a:off x="688824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711252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731844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754308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1" name=""/>
              <p:cNvGrpSpPr/>
              <p:nvPr/>
            </p:nvGrpSpPr>
            <p:grpSpPr>
              <a:xfrm>
                <a:off x="7761600" y="4448160"/>
                <a:ext cx="654840" cy="293760"/>
                <a:chOff x="7761600" y="4448160"/>
                <a:chExt cx="654840" cy="293760"/>
              </a:xfrm>
            </p:grpSpPr>
            <p:sp>
              <p:nvSpPr>
                <p:cNvPr id="3702" name=""/>
                <p:cNvSpPr/>
                <p:nvPr/>
              </p:nvSpPr>
              <p:spPr>
                <a:xfrm>
                  <a:off x="776160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798588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819180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8416440" y="444816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06" name=""/>
          <p:cNvSpPr/>
          <p:nvPr/>
        </p:nvSpPr>
        <p:spPr>
          <a:xfrm>
            <a:off x="5087880" y="4737240"/>
            <a:ext cx="372132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5140440" y="4734000"/>
            <a:ext cx="3306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140440" y="4737240"/>
            <a:ext cx="0" cy="928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9" name=""/>
          <p:cNvGrpSpPr/>
          <p:nvPr/>
        </p:nvGrpSpPr>
        <p:grpSpPr>
          <a:xfrm>
            <a:off x="6556320" y="4767120"/>
            <a:ext cx="453960" cy="392040"/>
            <a:chOff x="6556320" y="4767120"/>
            <a:chExt cx="453960" cy="392040"/>
          </a:xfrm>
        </p:grpSpPr>
        <p:sp>
          <p:nvSpPr>
            <p:cNvPr id="3710" name=""/>
            <p:cNvSpPr/>
            <p:nvPr/>
          </p:nvSpPr>
          <p:spPr>
            <a:xfrm>
              <a:off x="6621840" y="4767120"/>
              <a:ext cx="318240" cy="260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556320" y="5030640"/>
              <a:ext cx="453960" cy="12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566040" y="502920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3" name=""/>
          <p:cNvGrpSpPr/>
          <p:nvPr/>
        </p:nvGrpSpPr>
        <p:grpSpPr>
          <a:xfrm>
            <a:off x="8182080" y="4767120"/>
            <a:ext cx="453960" cy="392040"/>
            <a:chOff x="8182080" y="4767120"/>
            <a:chExt cx="453960" cy="392040"/>
          </a:xfrm>
        </p:grpSpPr>
        <p:sp>
          <p:nvSpPr>
            <p:cNvPr id="3714" name=""/>
            <p:cNvSpPr/>
            <p:nvPr/>
          </p:nvSpPr>
          <p:spPr>
            <a:xfrm>
              <a:off x="8247600" y="4767120"/>
              <a:ext cx="318240" cy="2602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8182080" y="5030640"/>
              <a:ext cx="453960" cy="128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8191800" y="502920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7" name=""/>
          <p:cNvSpPr/>
          <p:nvPr/>
        </p:nvSpPr>
        <p:spPr>
          <a:xfrm>
            <a:off x="5181480" y="4141800"/>
            <a:ext cx="3225960" cy="843120"/>
          </a:xfrm>
          <a:custGeom>
            <a:avLst/>
            <a:gdLst/>
            <a:ahLst/>
            <a:rect l="l" t="t" r="r" b="b"/>
            <a:pathLst>
              <a:path w="5080" h="1327">
                <a:moveTo>
                  <a:pt x="0" y="960"/>
                </a:moveTo>
                <a:cubicBezTo>
                  <a:pt x="97" y="1007"/>
                  <a:pt x="387" y="1180"/>
                  <a:pt x="580" y="1240"/>
                </a:cubicBezTo>
                <a:cubicBezTo>
                  <a:pt x="773" y="1300"/>
                  <a:pt x="987" y="1327"/>
                  <a:pt x="1160" y="1320"/>
                </a:cubicBezTo>
                <a:cubicBezTo>
                  <a:pt x="1333" y="1313"/>
                  <a:pt x="1480" y="1257"/>
                  <a:pt x="1620" y="1200"/>
                </a:cubicBezTo>
                <a:cubicBezTo>
                  <a:pt x="1760" y="1143"/>
                  <a:pt x="1893" y="1070"/>
                  <a:pt x="2000" y="980"/>
                </a:cubicBezTo>
                <a:lnTo>
                  <a:pt x="2260" y="660"/>
                </a:lnTo>
                <a:lnTo>
                  <a:pt x="2420" y="360"/>
                </a:lnTo>
                <a:lnTo>
                  <a:pt x="2580" y="0"/>
                </a:lnTo>
                <a:lnTo>
                  <a:pt x="2760" y="420"/>
                </a:lnTo>
                <a:lnTo>
                  <a:pt x="2960" y="800"/>
                </a:lnTo>
                <a:lnTo>
                  <a:pt x="3180" y="1000"/>
                </a:lnTo>
                <a:lnTo>
                  <a:pt x="3520" y="1240"/>
                </a:lnTo>
                <a:lnTo>
                  <a:pt x="4060" y="1320"/>
                </a:lnTo>
                <a:cubicBezTo>
                  <a:pt x="4240" y="1310"/>
                  <a:pt x="4430" y="1250"/>
                  <a:pt x="4600" y="1180"/>
                </a:cubicBezTo>
                <a:cubicBezTo>
                  <a:pt x="4770" y="1110"/>
                  <a:pt x="4980" y="958"/>
                  <a:pt x="5080" y="900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8494560" y="42768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9" name=""/>
              <p:cNvSpPr txBox="1"/>
              <p:nvPr/>
            </p:nvSpPr>
            <p:spPr>
              <a:xfrm>
                <a:off x="6921360" y="3875040"/>
                <a:ext cx="1105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0" name=""/>
              <p:cNvSpPr txBox="1"/>
              <p:nvPr/>
            </p:nvSpPr>
            <p:spPr>
              <a:xfrm>
                <a:off x="5378400" y="5245200"/>
                <a:ext cx="1079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1" name=""/>
              <p:cNvSpPr txBox="1"/>
              <p:nvPr/>
            </p:nvSpPr>
            <p:spPr>
              <a:xfrm>
                <a:off x="7099200" y="5259240"/>
                <a:ext cx="1079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2" name=""/>
          <p:cNvSpPr/>
          <p:nvPr/>
        </p:nvSpPr>
        <p:spPr>
          <a:xfrm>
            <a:off x="5543640" y="4037040"/>
            <a:ext cx="46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fr-FR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892680" y="484200"/>
            <a:ext cx="132696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i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6" name=""/>
          <p:cNvGrpSpPr/>
          <p:nvPr/>
        </p:nvGrpSpPr>
        <p:grpSpPr>
          <a:xfrm>
            <a:off x="5241960" y="1150920"/>
            <a:ext cx="3322440" cy="2490840"/>
            <a:chOff x="5241960" y="1150920"/>
            <a:chExt cx="3322440" cy="2490840"/>
          </a:xfrm>
        </p:grpSpPr>
        <p:sp>
          <p:nvSpPr>
            <p:cNvPr id="3727" name=""/>
            <p:cNvSpPr/>
            <p:nvPr/>
          </p:nvSpPr>
          <p:spPr>
            <a:xfrm>
              <a:off x="6092640" y="115092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934400" y="169560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041960" y="1230480"/>
              <a:ext cx="0" cy="21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5943600" y="1245240"/>
              <a:ext cx="2194560" cy="2255400"/>
              <a:chOff x="5943600" y="1245240"/>
              <a:chExt cx="2194560" cy="2255400"/>
            </a:xfrm>
          </p:grpSpPr>
          <p:sp>
            <p:nvSpPr>
              <p:cNvPr id="3731" name=""/>
              <p:cNvSpPr/>
              <p:nvPr/>
            </p:nvSpPr>
            <p:spPr>
              <a:xfrm rot="5375400">
                <a:off x="6038280" y="183420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rot="3556800">
                <a:off x="6163560" y="1623600"/>
                <a:ext cx="173340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rot="3556800">
                <a:off x="6293160" y="168012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4" name=""/>
            <p:cNvSpPr/>
            <p:nvPr/>
          </p:nvSpPr>
          <p:spPr>
            <a:xfrm rot="3556800">
              <a:off x="6259320" y="1747440"/>
              <a:ext cx="1619280" cy="124776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647680" y="1837800"/>
              <a:ext cx="2646360" cy="101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400000" y="1954440"/>
              <a:ext cx="1172880" cy="2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207280" y="279396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719680" y="321336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241960" y="197028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6083280" y="1211400"/>
              <a:ext cx="0" cy="2265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1" name=""/>
            <p:cNvGrpSpPr/>
            <p:nvPr/>
          </p:nvGrpSpPr>
          <p:grpSpPr>
            <a:xfrm>
              <a:off x="6300000" y="1343520"/>
              <a:ext cx="1473480" cy="1182240"/>
              <a:chOff x="6300000" y="1343520"/>
              <a:chExt cx="1473480" cy="1182240"/>
            </a:xfrm>
          </p:grpSpPr>
          <p:sp>
            <p:nvSpPr>
              <p:cNvPr id="3742" name=""/>
              <p:cNvSpPr/>
              <p:nvPr/>
            </p:nvSpPr>
            <p:spPr>
              <a:xfrm>
                <a:off x="6300000" y="13435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790680" y="152136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037280" y="160812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281720" y="169704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527240" y="17863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771680" y="187380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547680" y="1427760"/>
                <a:ext cx="1800" cy="651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9" name=""/>
          <p:cNvGrpSpPr/>
          <p:nvPr/>
        </p:nvGrpSpPr>
        <p:grpSpPr>
          <a:xfrm>
            <a:off x="396720" y="998640"/>
            <a:ext cx="3392640" cy="2394000"/>
            <a:chOff x="396720" y="998640"/>
            <a:chExt cx="3392640" cy="2394000"/>
          </a:xfrm>
        </p:grpSpPr>
        <p:sp>
          <p:nvSpPr>
            <p:cNvPr id="3750" name=""/>
            <p:cNvSpPr/>
            <p:nvPr/>
          </p:nvSpPr>
          <p:spPr>
            <a:xfrm>
              <a:off x="1360800" y="1418040"/>
              <a:ext cx="3240" cy="12628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098160" y="1943280"/>
              <a:ext cx="3240" cy="1263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2" name=""/>
            <p:cNvGrpSpPr/>
            <p:nvPr/>
          </p:nvGrpSpPr>
          <p:grpSpPr>
            <a:xfrm>
              <a:off x="1183320" y="998640"/>
              <a:ext cx="2203560" cy="2260440"/>
              <a:chOff x="1183320" y="998640"/>
              <a:chExt cx="2203560" cy="2260440"/>
            </a:xfrm>
          </p:grpSpPr>
          <p:sp>
            <p:nvSpPr>
              <p:cNvPr id="3753" name=""/>
              <p:cNvSpPr/>
              <p:nvPr/>
            </p:nvSpPr>
            <p:spPr>
              <a:xfrm rot="5333400">
                <a:off x="1277280" y="160164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rot="3514800">
                <a:off x="1407600" y="1379520"/>
                <a:ext cx="173340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rot="3514800">
                <a:off x="1536840" y="143460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6" name=""/>
            <p:cNvSpPr/>
            <p:nvPr/>
          </p:nvSpPr>
          <p:spPr>
            <a:xfrm>
              <a:off x="1341360" y="1738440"/>
              <a:ext cx="1906560" cy="758520"/>
            </a:xfrm>
            <a:custGeom>
              <a:avLst/>
              <a:gdLst/>
              <a:ahLst/>
              <a:rect l="l" t="t" r="r" b="b"/>
              <a:pathLst>
                <a:path w="1201" h="478">
                  <a:moveTo>
                    <a:pt x="0" y="0"/>
                  </a:moveTo>
                  <a:cubicBezTo>
                    <a:pt x="53" y="48"/>
                    <a:pt x="210" y="213"/>
                    <a:pt x="318" y="288"/>
                  </a:cubicBezTo>
                  <a:cubicBezTo>
                    <a:pt x="426" y="363"/>
                    <a:pt x="501" y="420"/>
                    <a:pt x="648" y="449"/>
                  </a:cubicBezTo>
                  <a:cubicBezTo>
                    <a:pt x="795" y="478"/>
                    <a:pt x="1086" y="458"/>
                    <a:pt x="1201" y="46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969120" y="1625760"/>
              <a:ext cx="2658960" cy="9792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H="1">
              <a:off x="1337400" y="1650960"/>
              <a:ext cx="9720" cy="158940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432240" y="254484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944640" y="296388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96720" y="1336680"/>
              <a:ext cx="357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1594800" y="1097280"/>
              <a:ext cx="1473480" cy="1182240"/>
              <a:chOff x="1594800" y="1097280"/>
              <a:chExt cx="1473480" cy="1182240"/>
            </a:xfrm>
          </p:grpSpPr>
          <p:sp>
            <p:nvSpPr>
              <p:cNvPr id="3763" name=""/>
              <p:cNvSpPr/>
              <p:nvPr/>
            </p:nvSpPr>
            <p:spPr>
              <a:xfrm>
                <a:off x="1594800" y="109728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2085480" y="12751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2332080" y="136188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2576520" y="145080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2822040" y="154008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066480" y="162756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842480" y="1181520"/>
                <a:ext cx="1800" cy="651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0" name=""/>
            <p:cNvSpPr/>
            <p:nvPr/>
          </p:nvSpPr>
          <p:spPr>
            <a:xfrm flipH="1">
              <a:off x="521280" y="1722960"/>
              <a:ext cx="1173600" cy="208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1" name=""/>
          <p:cNvSpPr/>
          <p:nvPr/>
        </p:nvSpPr>
        <p:spPr>
          <a:xfrm>
            <a:off x="4567320" y="5430960"/>
            <a:ext cx="666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"/>
              </a:rPr>
              <a:t>M</a:t>
            </a:r>
            <a:r>
              <a:rPr b="0" lang="fr-FR" sz="2400" spc="-1" strike="noStrike" baseline="-25000">
                <a:solidFill>
                  <a:srgbClr val="99cc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"/>
          <p:cNvSpPr/>
          <p:nvPr/>
        </p:nvSpPr>
        <p:spPr>
          <a:xfrm>
            <a:off x="3689280" y="3476520"/>
            <a:ext cx="1860480" cy="916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ne jouent un rôle que selon l’axe faibl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890880" y="577800"/>
            <a:ext cx="145584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6" name=""/>
          <p:cNvGrpSpPr/>
          <p:nvPr/>
        </p:nvGrpSpPr>
        <p:grpSpPr>
          <a:xfrm>
            <a:off x="423720" y="852480"/>
            <a:ext cx="3694320" cy="2567160"/>
            <a:chOff x="423720" y="852480"/>
            <a:chExt cx="3694320" cy="2567160"/>
          </a:xfrm>
        </p:grpSpPr>
        <p:sp>
          <p:nvSpPr>
            <p:cNvPr id="3777" name=""/>
            <p:cNvSpPr/>
            <p:nvPr/>
          </p:nvSpPr>
          <p:spPr>
            <a:xfrm>
              <a:off x="1728720" y="932040"/>
              <a:ext cx="0" cy="17539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492360" y="147636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215360" y="1601280"/>
              <a:ext cx="2722320" cy="10026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0" name=""/>
            <p:cNvGrpSpPr/>
            <p:nvPr/>
          </p:nvGrpSpPr>
          <p:grpSpPr>
            <a:xfrm>
              <a:off x="1605600" y="1110960"/>
              <a:ext cx="1967040" cy="2019240"/>
              <a:chOff x="1605600" y="1110960"/>
              <a:chExt cx="1967040" cy="2019240"/>
            </a:xfrm>
          </p:grpSpPr>
          <p:sp>
            <p:nvSpPr>
              <p:cNvPr id="3781" name=""/>
              <p:cNvSpPr/>
              <p:nvPr/>
            </p:nvSpPr>
            <p:spPr>
              <a:xfrm rot="5347200">
                <a:off x="1689840" y="1645560"/>
                <a:ext cx="81000" cy="22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rot="3528600">
                <a:off x="1804320" y="1451160"/>
                <a:ext cx="1550160" cy="13384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rot="3528600">
                <a:off x="1920240" y="1500840"/>
                <a:ext cx="1527480" cy="115308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4" name=""/>
            <p:cNvSpPr/>
            <p:nvPr/>
          </p:nvSpPr>
          <p:spPr>
            <a:xfrm>
              <a:off x="1603440" y="1778040"/>
              <a:ext cx="1834920" cy="708120"/>
            </a:xfrm>
            <a:custGeom>
              <a:avLst/>
              <a:gdLst/>
              <a:ahLst/>
              <a:rect l="l" t="t" r="r" b="b"/>
              <a:pathLst>
                <a:path w="1156" h="446">
                  <a:moveTo>
                    <a:pt x="0" y="0"/>
                  </a:moveTo>
                  <a:cubicBezTo>
                    <a:pt x="53" y="49"/>
                    <a:pt x="214" y="222"/>
                    <a:pt x="324" y="293"/>
                  </a:cubicBezTo>
                  <a:cubicBezTo>
                    <a:pt x="434" y="364"/>
                    <a:pt x="519" y="402"/>
                    <a:pt x="658" y="424"/>
                  </a:cubicBezTo>
                  <a:cubicBezTo>
                    <a:pt x="797" y="446"/>
                    <a:pt x="1052" y="424"/>
                    <a:pt x="1156" y="424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706400" y="852480"/>
              <a:ext cx="0" cy="2265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760920" y="257184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273320" y="299088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23720" y="1352520"/>
              <a:ext cx="357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H="1">
              <a:off x="574200" y="1745640"/>
              <a:ext cx="1598760" cy="284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0" name=""/>
            <p:cNvGrpSpPr/>
            <p:nvPr/>
          </p:nvGrpSpPr>
          <p:grpSpPr>
            <a:xfrm>
              <a:off x="1878480" y="1753200"/>
              <a:ext cx="2137320" cy="592560"/>
              <a:chOff x="1878480" y="1753200"/>
              <a:chExt cx="2137320" cy="592560"/>
            </a:xfrm>
          </p:grpSpPr>
          <p:sp>
            <p:nvSpPr>
              <p:cNvPr id="3791" name=""/>
              <p:cNvSpPr/>
              <p:nvPr/>
            </p:nvSpPr>
            <p:spPr>
              <a:xfrm flipH="1">
                <a:off x="1878480" y="175320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H="1">
                <a:off x="2250000" y="190548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H="1">
                <a:off x="2620080" y="205812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2991240" y="2210400"/>
                <a:ext cx="65412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H="1">
                <a:off x="3361320" y="234072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6" name=""/>
          <p:cNvGrpSpPr/>
          <p:nvPr/>
        </p:nvGrpSpPr>
        <p:grpSpPr>
          <a:xfrm>
            <a:off x="5589720" y="3740040"/>
            <a:ext cx="3322440" cy="2490840"/>
            <a:chOff x="5589720" y="3740040"/>
            <a:chExt cx="3322440" cy="2490840"/>
          </a:xfrm>
        </p:grpSpPr>
        <p:sp>
          <p:nvSpPr>
            <p:cNvPr id="3797" name=""/>
            <p:cNvSpPr/>
            <p:nvPr/>
          </p:nvSpPr>
          <p:spPr>
            <a:xfrm>
              <a:off x="6440400" y="374004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8282160" y="428472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389720" y="3819600"/>
              <a:ext cx="0" cy="21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0" name=""/>
            <p:cNvGrpSpPr/>
            <p:nvPr/>
          </p:nvGrpSpPr>
          <p:grpSpPr>
            <a:xfrm>
              <a:off x="6291360" y="3834360"/>
              <a:ext cx="2194560" cy="2255400"/>
              <a:chOff x="6291360" y="3834360"/>
              <a:chExt cx="2194560" cy="2255400"/>
            </a:xfrm>
          </p:grpSpPr>
          <p:sp>
            <p:nvSpPr>
              <p:cNvPr id="3801" name=""/>
              <p:cNvSpPr/>
              <p:nvPr/>
            </p:nvSpPr>
            <p:spPr>
              <a:xfrm rot="5375400">
                <a:off x="6386040" y="442332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rot="3556800">
                <a:off x="6511320" y="4212720"/>
                <a:ext cx="173340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rot="3556800">
                <a:off x="6640920" y="426924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 rot="3556800">
              <a:off x="6607080" y="4336560"/>
              <a:ext cx="1619280" cy="124776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995440" y="4426920"/>
              <a:ext cx="2646360" cy="101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5747760" y="4543560"/>
              <a:ext cx="1172880" cy="2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8555040" y="538308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067440" y="580248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589720" y="455940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431040" y="3800520"/>
              <a:ext cx="0" cy="2265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1" name=""/>
            <p:cNvGrpSpPr/>
            <p:nvPr/>
          </p:nvGrpSpPr>
          <p:grpSpPr>
            <a:xfrm>
              <a:off x="6647760" y="3932640"/>
              <a:ext cx="1473480" cy="1182240"/>
              <a:chOff x="6647760" y="3932640"/>
              <a:chExt cx="1473480" cy="1182240"/>
            </a:xfrm>
          </p:grpSpPr>
          <p:sp>
            <p:nvSpPr>
              <p:cNvPr id="3812" name=""/>
              <p:cNvSpPr/>
              <p:nvPr/>
            </p:nvSpPr>
            <p:spPr>
              <a:xfrm>
                <a:off x="6647760" y="393264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138440" y="411048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385040" y="419724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629480" y="428616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875000" y="437544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8119440" y="44629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895440" y="4016880"/>
                <a:ext cx="1800" cy="651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9" name=""/>
          <p:cNvGrpSpPr/>
          <p:nvPr/>
        </p:nvGrpSpPr>
        <p:grpSpPr>
          <a:xfrm>
            <a:off x="768240" y="4041720"/>
            <a:ext cx="3392640" cy="2394000"/>
            <a:chOff x="768240" y="4041720"/>
            <a:chExt cx="3392640" cy="2394000"/>
          </a:xfrm>
        </p:grpSpPr>
        <p:sp>
          <p:nvSpPr>
            <p:cNvPr id="3820" name=""/>
            <p:cNvSpPr/>
            <p:nvPr/>
          </p:nvSpPr>
          <p:spPr>
            <a:xfrm>
              <a:off x="1732320" y="4461120"/>
              <a:ext cx="3600" cy="12632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3468960" y="4986720"/>
              <a:ext cx="3240" cy="12628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2" name=""/>
            <p:cNvGrpSpPr/>
            <p:nvPr/>
          </p:nvGrpSpPr>
          <p:grpSpPr>
            <a:xfrm>
              <a:off x="1554480" y="4041720"/>
              <a:ext cx="2203560" cy="2260440"/>
              <a:chOff x="1554480" y="4041720"/>
              <a:chExt cx="2203560" cy="2260440"/>
            </a:xfrm>
          </p:grpSpPr>
          <p:sp>
            <p:nvSpPr>
              <p:cNvPr id="3823" name=""/>
              <p:cNvSpPr/>
              <p:nvPr/>
            </p:nvSpPr>
            <p:spPr>
              <a:xfrm rot="5333400">
                <a:off x="1648440" y="464472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rot="3514800">
                <a:off x="1778760" y="4422600"/>
                <a:ext cx="173340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rot="3514800">
                <a:off x="1908000" y="447768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6" name=""/>
            <p:cNvSpPr/>
            <p:nvPr/>
          </p:nvSpPr>
          <p:spPr>
            <a:xfrm rot="3514800">
              <a:off x="1857240" y="4524120"/>
              <a:ext cx="1617480" cy="1246320"/>
            </a:xfrm>
            <a:custGeom>
              <a:avLst/>
              <a:gdLst/>
              <a:ahLst/>
              <a:rect l="l" t="t" r="r" b="b"/>
              <a:pathLst>
                <a:path w="4764" h="3483">
                  <a:moveTo>
                    <a:pt x="0" y="3483"/>
                  </a:moveTo>
                  <a:cubicBezTo>
                    <a:pt x="1075" y="3198"/>
                    <a:pt x="2151" y="2913"/>
                    <a:pt x="2945" y="2333"/>
                  </a:cubicBezTo>
                  <a:cubicBezTo>
                    <a:pt x="3739" y="1753"/>
                    <a:pt x="4459" y="398"/>
                    <a:pt x="4764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341000" y="4668480"/>
              <a:ext cx="2658600" cy="9788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H="1">
              <a:off x="1708920" y="4694040"/>
              <a:ext cx="9720" cy="158940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803760" y="558792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316160" y="600696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68240" y="437976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2" name=""/>
            <p:cNvGrpSpPr/>
            <p:nvPr/>
          </p:nvGrpSpPr>
          <p:grpSpPr>
            <a:xfrm>
              <a:off x="1966320" y="4140720"/>
              <a:ext cx="1473480" cy="1182240"/>
              <a:chOff x="1966320" y="4140720"/>
              <a:chExt cx="1473480" cy="1182240"/>
            </a:xfrm>
          </p:grpSpPr>
          <p:sp>
            <p:nvSpPr>
              <p:cNvPr id="3833" name=""/>
              <p:cNvSpPr/>
              <p:nvPr/>
            </p:nvSpPr>
            <p:spPr>
              <a:xfrm>
                <a:off x="1966320" y="41407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457000" y="431856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703600" y="440532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948040" y="449424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193560" y="458352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438000" y="467100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14000" y="4224960"/>
                <a:ext cx="1800" cy="651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 flipH="1">
              <a:off x="892440" y="4766400"/>
              <a:ext cx="1173240" cy="208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1" name=""/>
          <p:cNvGrpSpPr/>
          <p:nvPr/>
        </p:nvGrpSpPr>
        <p:grpSpPr>
          <a:xfrm>
            <a:off x="5091120" y="966960"/>
            <a:ext cx="3693960" cy="2566800"/>
            <a:chOff x="5091120" y="966960"/>
            <a:chExt cx="3693960" cy="2566800"/>
          </a:xfrm>
        </p:grpSpPr>
        <p:sp>
          <p:nvSpPr>
            <p:cNvPr id="3842" name=""/>
            <p:cNvSpPr/>
            <p:nvPr/>
          </p:nvSpPr>
          <p:spPr>
            <a:xfrm>
              <a:off x="6396120" y="104616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8159760" y="1590840"/>
              <a:ext cx="0" cy="17539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345440" y="1125360"/>
              <a:ext cx="0" cy="216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882760" y="1715760"/>
              <a:ext cx="2721960" cy="10026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6" name=""/>
            <p:cNvGrpSpPr/>
            <p:nvPr/>
          </p:nvGrpSpPr>
          <p:grpSpPr>
            <a:xfrm>
              <a:off x="6273000" y="1225080"/>
              <a:ext cx="1967040" cy="2018880"/>
              <a:chOff x="6273000" y="1225080"/>
              <a:chExt cx="1967040" cy="2018880"/>
            </a:xfrm>
          </p:grpSpPr>
          <p:sp>
            <p:nvSpPr>
              <p:cNvPr id="3847" name=""/>
              <p:cNvSpPr/>
              <p:nvPr/>
            </p:nvSpPr>
            <p:spPr>
              <a:xfrm rot="5347200">
                <a:off x="6357240" y="1759680"/>
                <a:ext cx="81000" cy="22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rot="3528600">
                <a:off x="6471720" y="1565280"/>
                <a:ext cx="1549800" cy="13384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rot="3528600">
                <a:off x="6587640" y="1614960"/>
                <a:ext cx="1527120" cy="115308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0" name=""/>
            <p:cNvSpPr/>
            <p:nvPr/>
          </p:nvSpPr>
          <p:spPr>
            <a:xfrm>
              <a:off x="6373800" y="966960"/>
              <a:ext cx="0" cy="22651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8427960" y="268596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940360" y="310500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091120" y="146700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flipH="1">
              <a:off x="5241600" y="1859760"/>
              <a:ext cx="1598760" cy="280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5" name=""/>
            <p:cNvGrpSpPr/>
            <p:nvPr/>
          </p:nvGrpSpPr>
          <p:grpSpPr>
            <a:xfrm>
              <a:off x="6515640" y="1837440"/>
              <a:ext cx="2137320" cy="592560"/>
              <a:chOff x="6515640" y="1837440"/>
              <a:chExt cx="2137320" cy="592560"/>
            </a:xfrm>
          </p:grpSpPr>
          <p:sp>
            <p:nvSpPr>
              <p:cNvPr id="3856" name=""/>
              <p:cNvSpPr/>
              <p:nvPr/>
            </p:nvSpPr>
            <p:spPr>
              <a:xfrm flipH="1">
                <a:off x="6515640" y="183744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6887160" y="198972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H="1">
                <a:off x="7257240" y="214236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flipH="1">
                <a:off x="7628400" y="2294640"/>
                <a:ext cx="65412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7998480" y="2424960"/>
                <a:ext cx="654480" cy="5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1" name=""/>
            <p:cNvSpPr/>
            <p:nvPr/>
          </p:nvSpPr>
          <p:spPr>
            <a:xfrm>
              <a:off x="6192720" y="1882800"/>
              <a:ext cx="1835280" cy="708120"/>
            </a:xfrm>
            <a:custGeom>
              <a:avLst/>
              <a:gdLst/>
              <a:ahLst/>
              <a:rect l="l" t="t" r="r" b="b"/>
              <a:pathLst>
                <a:path w="1156" h="446">
                  <a:moveTo>
                    <a:pt x="0" y="0"/>
                  </a:moveTo>
                  <a:cubicBezTo>
                    <a:pt x="53" y="49"/>
                    <a:pt x="214" y="222"/>
                    <a:pt x="324" y="293"/>
                  </a:cubicBezTo>
                  <a:cubicBezTo>
                    <a:pt x="434" y="364"/>
                    <a:pt x="519" y="402"/>
                    <a:pt x="658" y="424"/>
                  </a:cubicBezTo>
                  <a:cubicBezTo>
                    <a:pt x="797" y="446"/>
                    <a:pt x="1052" y="424"/>
                    <a:pt x="1156" y="424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3164040" y="542880"/>
            <a:ext cx="267480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CORREC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4" name=""/>
          <p:cNvGrpSpPr/>
          <p:nvPr/>
        </p:nvGrpSpPr>
        <p:grpSpPr>
          <a:xfrm>
            <a:off x="272880" y="4521240"/>
            <a:ext cx="3884400" cy="1422360"/>
            <a:chOff x="272880" y="4521240"/>
            <a:chExt cx="3884400" cy="1422360"/>
          </a:xfrm>
        </p:grpSpPr>
        <p:grpSp>
          <p:nvGrpSpPr>
            <p:cNvPr id="3865" name=""/>
            <p:cNvGrpSpPr/>
            <p:nvPr/>
          </p:nvGrpSpPr>
          <p:grpSpPr>
            <a:xfrm>
              <a:off x="272880" y="4521240"/>
              <a:ext cx="3884400" cy="1422360"/>
              <a:chOff x="272880" y="4521240"/>
              <a:chExt cx="3884400" cy="1422360"/>
            </a:xfrm>
          </p:grpSpPr>
          <p:sp>
            <p:nvSpPr>
              <p:cNvPr id="3866" name=""/>
              <p:cNvSpPr/>
              <p:nvPr/>
            </p:nvSpPr>
            <p:spPr>
              <a:xfrm flipV="1">
                <a:off x="2212560" y="4922640"/>
                <a:ext cx="0" cy="47808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7" name=""/>
              <p:cNvGrpSpPr/>
              <p:nvPr/>
            </p:nvGrpSpPr>
            <p:grpSpPr>
              <a:xfrm>
                <a:off x="529920" y="4959360"/>
                <a:ext cx="407880" cy="352440"/>
                <a:chOff x="529920" y="4959360"/>
                <a:chExt cx="407880" cy="352440"/>
              </a:xfrm>
            </p:grpSpPr>
            <p:sp>
              <p:nvSpPr>
                <p:cNvPr id="3868" name=""/>
                <p:cNvSpPr/>
                <p:nvPr/>
              </p:nvSpPr>
              <p:spPr>
                <a:xfrm>
                  <a:off x="588600" y="4959360"/>
                  <a:ext cx="286200" cy="233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529920" y="5196240"/>
                  <a:ext cx="407880" cy="1155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538560" y="5194800"/>
                  <a:ext cx="39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1" name=""/>
              <p:cNvGrpSpPr/>
              <p:nvPr/>
            </p:nvGrpSpPr>
            <p:grpSpPr>
              <a:xfrm>
                <a:off x="744120" y="4673520"/>
                <a:ext cx="2924280" cy="263520"/>
                <a:chOff x="744120" y="4673520"/>
                <a:chExt cx="2924280" cy="263520"/>
              </a:xfrm>
            </p:grpSpPr>
            <p:grpSp>
              <p:nvGrpSpPr>
                <p:cNvPr id="3872" name=""/>
                <p:cNvGrpSpPr/>
                <p:nvPr/>
              </p:nvGrpSpPr>
              <p:grpSpPr>
                <a:xfrm>
                  <a:off x="744120" y="4673520"/>
                  <a:ext cx="1370880" cy="263520"/>
                  <a:chOff x="744120" y="4673520"/>
                  <a:chExt cx="1370880" cy="263520"/>
                </a:xfrm>
              </p:grpSpPr>
              <p:grpSp>
                <p:nvGrpSpPr>
                  <p:cNvPr id="3873" name=""/>
                  <p:cNvGrpSpPr/>
                  <p:nvPr/>
                </p:nvGrpSpPr>
                <p:grpSpPr>
                  <a:xfrm>
                    <a:off x="744120" y="4673520"/>
                    <a:ext cx="587520" cy="263520"/>
                    <a:chOff x="744120" y="4673520"/>
                    <a:chExt cx="587520" cy="263520"/>
                  </a:xfrm>
                </p:grpSpPr>
                <p:sp>
                  <p:nvSpPr>
                    <p:cNvPr id="3874" name=""/>
                    <p:cNvSpPr/>
                    <p:nvPr/>
                  </p:nvSpPr>
                  <p:spPr>
                    <a:xfrm>
                      <a:off x="7441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5" name=""/>
                    <p:cNvSpPr/>
                    <p:nvPr/>
                  </p:nvSpPr>
                  <p:spPr>
                    <a:xfrm>
                      <a:off x="94536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6" name=""/>
                    <p:cNvSpPr/>
                    <p:nvPr/>
                  </p:nvSpPr>
                  <p:spPr>
                    <a:xfrm>
                      <a:off x="11300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7" name=""/>
                    <p:cNvSpPr/>
                    <p:nvPr/>
                  </p:nvSpPr>
                  <p:spPr>
                    <a:xfrm>
                      <a:off x="13316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8" name=""/>
                  <p:cNvGrpSpPr/>
                  <p:nvPr/>
                </p:nvGrpSpPr>
                <p:grpSpPr>
                  <a:xfrm>
                    <a:off x="1527480" y="4673520"/>
                    <a:ext cx="587520" cy="263520"/>
                    <a:chOff x="1527480" y="4673520"/>
                    <a:chExt cx="587520" cy="263520"/>
                  </a:xfrm>
                </p:grpSpPr>
                <p:sp>
                  <p:nvSpPr>
                    <p:cNvPr id="3879" name=""/>
                    <p:cNvSpPr/>
                    <p:nvPr/>
                  </p:nvSpPr>
                  <p:spPr>
                    <a:xfrm>
                      <a:off x="152748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0" name=""/>
                    <p:cNvSpPr/>
                    <p:nvPr/>
                  </p:nvSpPr>
                  <p:spPr>
                    <a:xfrm>
                      <a:off x="17287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1" name=""/>
                    <p:cNvSpPr/>
                    <p:nvPr/>
                  </p:nvSpPr>
                  <p:spPr>
                    <a:xfrm>
                      <a:off x="19134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2" name=""/>
                    <p:cNvSpPr/>
                    <p:nvPr/>
                  </p:nvSpPr>
                  <p:spPr>
                    <a:xfrm>
                      <a:off x="21150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83" name=""/>
                <p:cNvGrpSpPr/>
                <p:nvPr/>
              </p:nvGrpSpPr>
              <p:grpSpPr>
                <a:xfrm>
                  <a:off x="2297520" y="4673520"/>
                  <a:ext cx="1370880" cy="263520"/>
                  <a:chOff x="2297520" y="4673520"/>
                  <a:chExt cx="1370880" cy="263520"/>
                </a:xfrm>
              </p:grpSpPr>
              <p:grpSp>
                <p:nvGrpSpPr>
                  <p:cNvPr id="3884" name=""/>
                  <p:cNvGrpSpPr/>
                  <p:nvPr/>
                </p:nvGrpSpPr>
                <p:grpSpPr>
                  <a:xfrm>
                    <a:off x="2297520" y="4673520"/>
                    <a:ext cx="587520" cy="263520"/>
                    <a:chOff x="2297520" y="4673520"/>
                    <a:chExt cx="587520" cy="263520"/>
                  </a:xfrm>
                </p:grpSpPr>
                <p:sp>
                  <p:nvSpPr>
                    <p:cNvPr id="3885" name=""/>
                    <p:cNvSpPr/>
                    <p:nvPr/>
                  </p:nvSpPr>
                  <p:spPr>
                    <a:xfrm>
                      <a:off x="22975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6" name=""/>
                    <p:cNvSpPr/>
                    <p:nvPr/>
                  </p:nvSpPr>
                  <p:spPr>
                    <a:xfrm>
                      <a:off x="249876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7" name=""/>
                    <p:cNvSpPr/>
                    <p:nvPr/>
                  </p:nvSpPr>
                  <p:spPr>
                    <a:xfrm>
                      <a:off x="26834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8" name=""/>
                    <p:cNvSpPr/>
                    <p:nvPr/>
                  </p:nvSpPr>
                  <p:spPr>
                    <a:xfrm>
                      <a:off x="28850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9" name=""/>
                  <p:cNvGrpSpPr/>
                  <p:nvPr/>
                </p:nvGrpSpPr>
                <p:grpSpPr>
                  <a:xfrm>
                    <a:off x="3080880" y="4673520"/>
                    <a:ext cx="587520" cy="263520"/>
                    <a:chOff x="3080880" y="4673520"/>
                    <a:chExt cx="587520" cy="263520"/>
                  </a:xfrm>
                </p:grpSpPr>
                <p:sp>
                  <p:nvSpPr>
                    <p:cNvPr id="3890" name=""/>
                    <p:cNvSpPr/>
                    <p:nvPr/>
                  </p:nvSpPr>
                  <p:spPr>
                    <a:xfrm>
                      <a:off x="308088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1" name=""/>
                    <p:cNvSpPr/>
                    <p:nvPr/>
                  </p:nvSpPr>
                  <p:spPr>
                    <a:xfrm>
                      <a:off x="32821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2" name=""/>
                    <p:cNvSpPr/>
                    <p:nvPr/>
                  </p:nvSpPr>
                  <p:spPr>
                    <a:xfrm>
                      <a:off x="34668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3" name=""/>
                    <p:cNvSpPr/>
                    <p:nvPr/>
                  </p:nvSpPr>
                  <p:spPr>
                    <a:xfrm>
                      <a:off x="36684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94" name=""/>
              <p:cNvSpPr/>
              <p:nvPr/>
            </p:nvSpPr>
            <p:spPr>
              <a:xfrm>
                <a:off x="599760" y="4932360"/>
                <a:ext cx="3451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30080" y="4929120"/>
                <a:ext cx="296532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30080" y="4932360"/>
                <a:ext cx="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72880" y="5379840"/>
                <a:ext cx="51264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3457080" y="4959360"/>
                <a:ext cx="408240" cy="352440"/>
                <a:chOff x="3457080" y="4959360"/>
                <a:chExt cx="408240" cy="35244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3515760" y="4959360"/>
                  <a:ext cx="286200" cy="233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3457080" y="5196240"/>
                  <a:ext cx="408240" cy="115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3465720" y="519480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2" name=""/>
              <p:cNvSpPr/>
              <p:nvPr/>
            </p:nvSpPr>
            <p:spPr>
              <a:xfrm>
                <a:off x="766440" y="4911480"/>
                <a:ext cx="2894040" cy="484200"/>
              </a:xfrm>
              <a:custGeom>
                <a:avLst/>
                <a:gdLst/>
                <a:ahLst/>
                <a:rect l="l" t="t" r="r" b="b"/>
                <a:pathLst>
                  <a:path w="5080" h="1130">
                    <a:moveTo>
                      <a:pt x="0" y="60"/>
                    </a:moveTo>
                    <a:cubicBezTo>
                      <a:pt x="430" y="237"/>
                      <a:pt x="1733" y="1130"/>
                      <a:pt x="2580" y="1120"/>
                    </a:cubicBezTo>
                    <a:cubicBezTo>
                      <a:pt x="3427" y="1110"/>
                      <a:pt x="4559" y="233"/>
                      <a:pt x="5080" y="0"/>
                    </a:cubicBezTo>
                  </a:path>
                </a:pathLst>
              </a:custGeom>
              <a:noFill/>
              <a:ln w="1908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3800160" y="4521240"/>
                <a:ext cx="357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4" name=""/>
                <p:cNvSpPr txBox="1"/>
                <p:nvPr/>
              </p:nvSpPr>
              <p:spPr>
                <a:xfrm>
                  <a:off x="1780920" y="5459400"/>
                  <a:ext cx="9777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84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l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05" name=""/>
          <p:cNvGrpSpPr/>
          <p:nvPr/>
        </p:nvGrpSpPr>
        <p:grpSpPr>
          <a:xfrm>
            <a:off x="4741920" y="4383000"/>
            <a:ext cx="3846600" cy="1332000"/>
            <a:chOff x="4741920" y="4383000"/>
            <a:chExt cx="3846600" cy="1332000"/>
          </a:xfrm>
        </p:grpSpPr>
        <p:grpSp>
          <p:nvGrpSpPr>
            <p:cNvPr id="3906" name=""/>
            <p:cNvGrpSpPr/>
            <p:nvPr/>
          </p:nvGrpSpPr>
          <p:grpSpPr>
            <a:xfrm>
              <a:off x="5843520" y="4784760"/>
              <a:ext cx="1525680" cy="182520"/>
              <a:chOff x="5843520" y="4784760"/>
              <a:chExt cx="1525680" cy="182520"/>
            </a:xfrm>
          </p:grpSpPr>
          <p:sp>
            <p:nvSpPr>
              <p:cNvPr id="3907" name=""/>
              <p:cNvSpPr/>
              <p:nvPr/>
            </p:nvSpPr>
            <p:spPr>
              <a:xfrm flipV="1">
                <a:off x="5843520" y="4784760"/>
                <a:ext cx="0" cy="15984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 flipV="1">
                <a:off x="7369200" y="4807440"/>
                <a:ext cx="0" cy="15984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9" name=""/>
            <p:cNvGrpSpPr/>
            <p:nvPr/>
          </p:nvGrpSpPr>
          <p:grpSpPr>
            <a:xfrm>
              <a:off x="4968720" y="4834080"/>
              <a:ext cx="408240" cy="350640"/>
              <a:chOff x="4968720" y="4834080"/>
              <a:chExt cx="408240" cy="350640"/>
            </a:xfrm>
          </p:grpSpPr>
          <p:sp>
            <p:nvSpPr>
              <p:cNvPr id="3910" name=""/>
              <p:cNvSpPr/>
              <p:nvPr/>
            </p:nvSpPr>
            <p:spPr>
              <a:xfrm>
                <a:off x="5027400" y="4834080"/>
                <a:ext cx="28620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968720" y="5069880"/>
                <a:ext cx="408240" cy="114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977360" y="506844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3" name=""/>
            <p:cNvGrpSpPr/>
            <p:nvPr/>
          </p:nvGrpSpPr>
          <p:grpSpPr>
            <a:xfrm>
              <a:off x="5183280" y="4548240"/>
              <a:ext cx="2923200" cy="263520"/>
              <a:chOff x="5183280" y="4548240"/>
              <a:chExt cx="2923200" cy="263520"/>
            </a:xfrm>
          </p:grpSpPr>
          <p:grpSp>
            <p:nvGrpSpPr>
              <p:cNvPr id="3914" name=""/>
              <p:cNvGrpSpPr/>
              <p:nvPr/>
            </p:nvGrpSpPr>
            <p:grpSpPr>
              <a:xfrm>
                <a:off x="5183280" y="4548240"/>
                <a:ext cx="1370160" cy="263520"/>
                <a:chOff x="5183280" y="4548240"/>
                <a:chExt cx="1370160" cy="263520"/>
              </a:xfrm>
            </p:grpSpPr>
            <p:grpSp>
              <p:nvGrpSpPr>
                <p:cNvPr id="3915" name=""/>
                <p:cNvGrpSpPr/>
                <p:nvPr/>
              </p:nvGrpSpPr>
              <p:grpSpPr>
                <a:xfrm>
                  <a:off x="5183280" y="4548240"/>
                  <a:ext cx="587160" cy="263520"/>
                  <a:chOff x="5183280" y="4548240"/>
                  <a:chExt cx="587160" cy="263520"/>
                </a:xfrm>
              </p:grpSpPr>
              <p:sp>
                <p:nvSpPr>
                  <p:cNvPr id="3916" name=""/>
                  <p:cNvSpPr/>
                  <p:nvPr/>
                </p:nvSpPr>
                <p:spPr>
                  <a:xfrm>
                    <a:off x="51832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53845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>
                    <a:off x="55692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57704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0" name=""/>
                <p:cNvGrpSpPr/>
                <p:nvPr/>
              </p:nvGrpSpPr>
              <p:grpSpPr>
                <a:xfrm>
                  <a:off x="5966280" y="4548240"/>
                  <a:ext cx="587160" cy="263520"/>
                  <a:chOff x="5966280" y="4548240"/>
                  <a:chExt cx="587160" cy="263520"/>
                </a:xfrm>
              </p:grpSpPr>
              <p:sp>
                <p:nvSpPr>
                  <p:cNvPr id="3921" name=""/>
                  <p:cNvSpPr/>
                  <p:nvPr/>
                </p:nvSpPr>
                <p:spPr>
                  <a:xfrm>
                    <a:off x="59662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61675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63522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65534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5" name=""/>
              <p:cNvGrpSpPr/>
              <p:nvPr/>
            </p:nvGrpSpPr>
            <p:grpSpPr>
              <a:xfrm>
                <a:off x="6736320" y="4548240"/>
                <a:ext cx="1370160" cy="263520"/>
                <a:chOff x="6736320" y="4548240"/>
                <a:chExt cx="1370160" cy="263520"/>
              </a:xfrm>
            </p:grpSpPr>
            <p:grpSp>
              <p:nvGrpSpPr>
                <p:cNvPr id="3926" name=""/>
                <p:cNvGrpSpPr/>
                <p:nvPr/>
              </p:nvGrpSpPr>
              <p:grpSpPr>
                <a:xfrm>
                  <a:off x="6736320" y="4548240"/>
                  <a:ext cx="587160" cy="263520"/>
                  <a:chOff x="6736320" y="4548240"/>
                  <a:chExt cx="587160" cy="263520"/>
                </a:xfrm>
              </p:grpSpPr>
              <p:sp>
                <p:nvSpPr>
                  <p:cNvPr id="3927" name=""/>
                  <p:cNvSpPr/>
                  <p:nvPr/>
                </p:nvSpPr>
                <p:spPr>
                  <a:xfrm>
                    <a:off x="67363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69375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71222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73234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1" name=""/>
                <p:cNvGrpSpPr/>
                <p:nvPr/>
              </p:nvGrpSpPr>
              <p:grpSpPr>
                <a:xfrm>
                  <a:off x="7519320" y="4548240"/>
                  <a:ext cx="587160" cy="263520"/>
                  <a:chOff x="7519320" y="4548240"/>
                  <a:chExt cx="587160" cy="263520"/>
                </a:xfrm>
              </p:grpSpPr>
              <p:sp>
                <p:nvSpPr>
                  <p:cNvPr id="3932" name=""/>
                  <p:cNvSpPr/>
                  <p:nvPr/>
                </p:nvSpPr>
                <p:spPr>
                  <a:xfrm>
                    <a:off x="75193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77205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>
                    <a:off x="79052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>
                    <a:off x="81064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36" name=""/>
            <p:cNvSpPr/>
            <p:nvPr/>
          </p:nvSpPr>
          <p:spPr>
            <a:xfrm>
              <a:off x="5068800" y="4807080"/>
              <a:ext cx="3519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168880" y="4803840"/>
              <a:ext cx="296532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168880" y="4807080"/>
              <a:ext cx="0" cy="83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741920" y="528624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0" name=""/>
            <p:cNvGrpSpPr/>
            <p:nvPr/>
          </p:nvGrpSpPr>
          <p:grpSpPr>
            <a:xfrm>
              <a:off x="6438960" y="4834080"/>
              <a:ext cx="406440" cy="350640"/>
              <a:chOff x="6438960" y="4834080"/>
              <a:chExt cx="406440" cy="350640"/>
            </a:xfrm>
          </p:grpSpPr>
          <p:sp>
            <p:nvSpPr>
              <p:cNvPr id="3941" name=""/>
              <p:cNvSpPr/>
              <p:nvPr/>
            </p:nvSpPr>
            <p:spPr>
              <a:xfrm>
                <a:off x="6497640" y="4834080"/>
                <a:ext cx="28512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438960" y="5069880"/>
                <a:ext cx="406440" cy="1148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447600" y="5068440"/>
                <a:ext cx="39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4" name=""/>
            <p:cNvGrpSpPr/>
            <p:nvPr/>
          </p:nvGrpSpPr>
          <p:grpSpPr>
            <a:xfrm>
              <a:off x="7896240" y="4834080"/>
              <a:ext cx="407880" cy="350640"/>
              <a:chOff x="7896240" y="4834080"/>
              <a:chExt cx="407880" cy="350640"/>
            </a:xfrm>
          </p:grpSpPr>
          <p:sp>
            <p:nvSpPr>
              <p:cNvPr id="3945" name=""/>
              <p:cNvSpPr/>
              <p:nvPr/>
            </p:nvSpPr>
            <p:spPr>
              <a:xfrm>
                <a:off x="7954920" y="4834080"/>
                <a:ext cx="28620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896240" y="5069880"/>
                <a:ext cx="407880" cy="114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04880" y="5068440"/>
                <a:ext cx="39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8" name=""/>
            <p:cNvSpPr/>
            <p:nvPr/>
          </p:nvSpPr>
          <p:spPr>
            <a:xfrm>
              <a:off x="5205240" y="4784760"/>
              <a:ext cx="2892600" cy="182520"/>
            </a:xfrm>
            <a:custGeom>
              <a:avLst/>
              <a:gdLst/>
              <a:ahLst/>
              <a:rect l="l" t="t" r="r" b="b"/>
              <a:pathLst>
                <a:path w="2032" h="128">
                  <a:moveTo>
                    <a:pt x="0" y="24"/>
                  </a:moveTo>
                  <a:cubicBezTo>
                    <a:pt x="33" y="35"/>
                    <a:pt x="124" y="72"/>
                    <a:pt x="200" y="88"/>
                  </a:cubicBezTo>
                  <a:cubicBezTo>
                    <a:pt x="276" y="104"/>
                    <a:pt x="379" y="117"/>
                    <a:pt x="456" y="120"/>
                  </a:cubicBezTo>
                  <a:cubicBezTo>
                    <a:pt x="533" y="123"/>
                    <a:pt x="607" y="111"/>
                    <a:pt x="664" y="104"/>
                  </a:cubicBezTo>
                  <a:cubicBezTo>
                    <a:pt x="721" y="97"/>
                    <a:pt x="755" y="90"/>
                    <a:pt x="800" y="80"/>
                  </a:cubicBezTo>
                  <a:lnTo>
                    <a:pt x="933" y="45"/>
                  </a:lnTo>
                  <a:lnTo>
                    <a:pt x="1006" y="38"/>
                  </a:lnTo>
                  <a:lnTo>
                    <a:pt x="1112" y="56"/>
                  </a:lnTo>
                  <a:lnTo>
                    <a:pt x="1216" y="88"/>
                  </a:lnTo>
                  <a:lnTo>
                    <a:pt x="1336" y="112"/>
                  </a:lnTo>
                  <a:lnTo>
                    <a:pt x="1544" y="128"/>
                  </a:lnTo>
                  <a:cubicBezTo>
                    <a:pt x="1629" y="123"/>
                    <a:pt x="1767" y="101"/>
                    <a:pt x="1848" y="80"/>
                  </a:cubicBezTo>
                  <a:cubicBezTo>
                    <a:pt x="1929" y="59"/>
                    <a:pt x="1994" y="17"/>
                    <a:pt x="2032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8231040" y="4383000"/>
              <a:ext cx="357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0" name=""/>
                <p:cNvSpPr txBox="1"/>
                <p:nvPr/>
              </p:nvSpPr>
              <p:spPr>
                <a:xfrm>
                  <a:off x="5443560" y="51166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sSub>
                        <m:e>
                          <m:r>
                            <m:t xml:space="preserve">%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1" name=""/>
                <p:cNvSpPr txBox="1"/>
                <p:nvPr/>
              </p:nvSpPr>
              <p:spPr>
                <a:xfrm>
                  <a:off x="6940440" y="5106960"/>
                  <a:ext cx="889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sSub>
                        <m:e>
                          <m:r>
                            <m:t xml:space="preserve">%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3" name=""/>
          <p:cNvGrpSpPr/>
          <p:nvPr/>
        </p:nvGrpSpPr>
        <p:grpSpPr>
          <a:xfrm>
            <a:off x="5041800" y="1452600"/>
            <a:ext cx="3322440" cy="2490840"/>
            <a:chOff x="5041800" y="1452600"/>
            <a:chExt cx="3322440" cy="2490840"/>
          </a:xfrm>
        </p:grpSpPr>
        <p:sp>
          <p:nvSpPr>
            <p:cNvPr id="3954" name=""/>
            <p:cNvSpPr/>
            <p:nvPr/>
          </p:nvSpPr>
          <p:spPr>
            <a:xfrm>
              <a:off x="5892480" y="145260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7734240" y="1997280"/>
              <a:ext cx="0" cy="175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6841800" y="1532160"/>
              <a:ext cx="0" cy="21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5743440" y="1546920"/>
              <a:ext cx="2194560" cy="2255400"/>
              <a:chOff x="5743440" y="1546920"/>
              <a:chExt cx="2194560" cy="2255400"/>
            </a:xfrm>
          </p:grpSpPr>
          <p:sp>
            <p:nvSpPr>
              <p:cNvPr id="3958" name=""/>
              <p:cNvSpPr/>
              <p:nvPr/>
            </p:nvSpPr>
            <p:spPr>
              <a:xfrm rot="5375400">
                <a:off x="5838120" y="213588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 rot="3556800">
                <a:off x="5963400" y="1925280"/>
                <a:ext cx="173340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 rot="3556800">
                <a:off x="6093000" y="198180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1" name=""/>
            <p:cNvSpPr/>
            <p:nvPr/>
          </p:nvSpPr>
          <p:spPr>
            <a:xfrm rot="3556800">
              <a:off x="6059160" y="2049120"/>
              <a:ext cx="1619280" cy="124776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447520" y="2139480"/>
              <a:ext cx="2646360" cy="101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H="1">
              <a:off x="5199840" y="2256120"/>
              <a:ext cx="1172880" cy="212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8007120" y="309564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519520" y="351504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041800" y="2271960"/>
              <a:ext cx="3571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883120" y="1513080"/>
              <a:ext cx="0" cy="2265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8" name=""/>
            <p:cNvGrpSpPr/>
            <p:nvPr/>
          </p:nvGrpSpPr>
          <p:grpSpPr>
            <a:xfrm>
              <a:off x="6099840" y="1645200"/>
              <a:ext cx="1473480" cy="1182240"/>
              <a:chOff x="6099840" y="1645200"/>
              <a:chExt cx="1473480" cy="1182240"/>
            </a:xfrm>
          </p:grpSpPr>
          <p:sp>
            <p:nvSpPr>
              <p:cNvPr id="3969" name=""/>
              <p:cNvSpPr/>
              <p:nvPr/>
            </p:nvSpPr>
            <p:spPr>
              <a:xfrm>
                <a:off x="6099840" y="164520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590520" y="182304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837120" y="190980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081560" y="1998720"/>
                <a:ext cx="1440" cy="652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327080" y="208800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571520" y="2175480"/>
                <a:ext cx="1800" cy="65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347520" y="1729440"/>
                <a:ext cx="1800" cy="651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6" name=""/>
          <p:cNvGrpSpPr/>
          <p:nvPr/>
        </p:nvGrpSpPr>
        <p:grpSpPr>
          <a:xfrm>
            <a:off x="614520" y="1363680"/>
            <a:ext cx="3136680" cy="2587680"/>
            <a:chOff x="614520" y="1363680"/>
            <a:chExt cx="3136680" cy="2587680"/>
          </a:xfrm>
        </p:grpSpPr>
        <p:sp>
          <p:nvSpPr>
            <p:cNvPr id="3977" name=""/>
            <p:cNvSpPr/>
            <p:nvPr/>
          </p:nvSpPr>
          <p:spPr>
            <a:xfrm>
              <a:off x="849240" y="352260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8" name=""/>
            <p:cNvGrpSpPr/>
            <p:nvPr/>
          </p:nvGrpSpPr>
          <p:grpSpPr>
            <a:xfrm>
              <a:off x="614520" y="1363680"/>
              <a:ext cx="3136680" cy="2377440"/>
              <a:chOff x="614520" y="1363680"/>
              <a:chExt cx="3136680" cy="2377440"/>
            </a:xfrm>
          </p:grpSpPr>
          <p:sp>
            <p:nvSpPr>
              <p:cNvPr id="3979" name=""/>
              <p:cNvSpPr/>
              <p:nvPr/>
            </p:nvSpPr>
            <p:spPr>
              <a:xfrm>
                <a:off x="1362240" y="1442880"/>
                <a:ext cx="0" cy="175392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5880" y="1987200"/>
                <a:ext cx="0" cy="175392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311560" y="1522080"/>
                <a:ext cx="0" cy="2160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848880" y="2113200"/>
                <a:ext cx="2721960" cy="10022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3" name=""/>
              <p:cNvGrpSpPr/>
              <p:nvPr/>
            </p:nvGrpSpPr>
            <p:grpSpPr>
              <a:xfrm>
                <a:off x="1239120" y="1621440"/>
                <a:ext cx="1967040" cy="2018880"/>
                <a:chOff x="1239120" y="1621440"/>
                <a:chExt cx="1967040" cy="2018880"/>
              </a:xfrm>
            </p:grpSpPr>
            <p:sp>
              <p:nvSpPr>
                <p:cNvPr id="3984" name=""/>
                <p:cNvSpPr/>
                <p:nvPr/>
              </p:nvSpPr>
              <p:spPr>
                <a:xfrm rot="5347200">
                  <a:off x="1323360" y="2156040"/>
                  <a:ext cx="81000" cy="2239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3528600">
                  <a:off x="1437840" y="1961640"/>
                  <a:ext cx="1549800" cy="1338480"/>
                </a:xfrm>
                <a:custGeom>
                  <a:avLst/>
                  <a:gdLst/>
                  <a:ahLst/>
                  <a:rect l="l" t="t" r="r" b="b"/>
                  <a:pathLst>
                    <a:path w="2730" h="2360">
                      <a:moveTo>
                        <a:pt x="0" y="2360"/>
                      </a:moveTo>
                      <a:lnTo>
                        <a:pt x="2530" y="350"/>
                      </a:lnTo>
                      <a:lnTo>
                        <a:pt x="2730" y="0"/>
                      </a:lnTo>
                      <a:lnTo>
                        <a:pt x="190" y="2003"/>
                      </a:lnTo>
                      <a:lnTo>
                        <a:pt x="0" y="236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3528600">
                  <a:off x="1553760" y="2011320"/>
                  <a:ext cx="1527120" cy="1153080"/>
                </a:xfrm>
                <a:custGeom>
                  <a:avLst/>
                  <a:gdLst/>
                  <a:ahLst/>
                  <a:rect l="l" t="t" r="r" b="b"/>
                  <a:pathLst>
                    <a:path w="2690" h="2033">
                      <a:moveTo>
                        <a:pt x="0" y="1983"/>
                      </a:moveTo>
                      <a:lnTo>
                        <a:pt x="2547" y="0"/>
                      </a:lnTo>
                      <a:lnTo>
                        <a:pt x="2690" y="43"/>
                      </a:lnTo>
                      <a:lnTo>
                        <a:pt x="150" y="2033"/>
                      </a:lnTo>
                      <a:lnTo>
                        <a:pt x="0" y="1983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7" name=""/>
              <p:cNvSpPr/>
              <p:nvPr/>
            </p:nvSpPr>
            <p:spPr>
              <a:xfrm>
                <a:off x="1339920" y="1363680"/>
                <a:ext cx="0" cy="22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394080" y="3082680"/>
                <a:ext cx="357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14520" y="2315880"/>
                <a:ext cx="357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H="1">
                <a:off x="683640" y="2256480"/>
                <a:ext cx="1121400" cy="20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1" name=""/>
              <p:cNvGrpSpPr/>
              <p:nvPr/>
            </p:nvGrpSpPr>
            <p:grpSpPr>
              <a:xfrm>
                <a:off x="1481760" y="2233080"/>
                <a:ext cx="2136960" cy="591840"/>
                <a:chOff x="1481760" y="2233080"/>
                <a:chExt cx="2136960" cy="591840"/>
              </a:xfrm>
            </p:grpSpPr>
            <p:sp>
              <p:nvSpPr>
                <p:cNvPr id="3992" name=""/>
                <p:cNvSpPr/>
                <p:nvPr/>
              </p:nvSpPr>
              <p:spPr>
                <a:xfrm flipH="1">
                  <a:off x="1481760" y="2233080"/>
                  <a:ext cx="654120" cy="4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 flipH="1">
                  <a:off x="1853280" y="2385720"/>
                  <a:ext cx="654480" cy="50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H="1">
                  <a:off x="2223360" y="2537640"/>
                  <a:ext cx="654120" cy="4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 flipH="1">
                  <a:off x="2595240" y="2689920"/>
                  <a:ext cx="653760" cy="4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 flipH="1">
                  <a:off x="2964600" y="2820240"/>
                  <a:ext cx="654120" cy="4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7" name=""/>
              <p:cNvSpPr/>
              <p:nvPr/>
            </p:nvSpPr>
            <p:spPr>
              <a:xfrm>
                <a:off x="1158840" y="2279520"/>
                <a:ext cx="1835280" cy="707400"/>
              </a:xfrm>
              <a:custGeom>
                <a:avLst/>
                <a:gdLst/>
                <a:ahLst/>
                <a:rect l="l" t="t" r="r" b="b"/>
                <a:pathLst>
                  <a:path w="1156" h="446">
                    <a:moveTo>
                      <a:pt x="0" y="0"/>
                    </a:moveTo>
                    <a:cubicBezTo>
                      <a:pt x="53" y="49"/>
                      <a:pt x="214" y="222"/>
                      <a:pt x="324" y="293"/>
                    </a:cubicBezTo>
                    <a:cubicBezTo>
                      <a:pt x="434" y="364"/>
                      <a:pt x="519" y="402"/>
                      <a:pt x="658" y="424"/>
                    </a:cubicBezTo>
                    <a:cubicBezTo>
                      <a:pt x="797" y="446"/>
                      <a:pt x="1052" y="424"/>
                      <a:pt x="1156" y="424"/>
                    </a:cubicBezTo>
                  </a:path>
                </a:pathLst>
              </a:custGeom>
              <a:noFill/>
              <a:ln w="57240">
                <a:solidFill>
                  <a:srgbClr val="66ff6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69920" y="7365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358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359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365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379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395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399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405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410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421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422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438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440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448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456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1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477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478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484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489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499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504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505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512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530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554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557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569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578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583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597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6993000" y="614520"/>
            <a:ext cx="866880" cy="68580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649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650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655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660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665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666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672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678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686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702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706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712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717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718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723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728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729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737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745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747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755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763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771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784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785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791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796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801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806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10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811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819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861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864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876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885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890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891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896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901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906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928800" y="620640"/>
            <a:ext cx="7254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éléments qui supportent les tendeurs de lis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921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4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7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>
            <a:hlinkClick r:id="" action="ppaction://hlinkshowjump?jump=nextslide"/>
          </p:cNvPr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rId1" action="ppaction://hlinksldjump"/>
          </p:cNvPr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rId2" action="ppaction://hlinksldjump"/>
          </p:cNvPr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rId3" action="ppaction://hlinksldjump"/>
          </p:cNvPr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00760" y="3908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73840" y="397656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00760" y="43401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73840" y="4413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169920" y="7365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964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965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971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977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985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001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005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011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016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017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022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6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027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028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036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3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044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046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054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062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070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078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083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084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089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090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095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100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105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9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110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111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136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160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163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175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184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189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190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195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1200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1205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1219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2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5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800760" y="3908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73840" y="397656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00760" y="43401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73840" y="4413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6550200" y="547560"/>
            <a:ext cx="8474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1262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1264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9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1280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2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1310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1326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4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1375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4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2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1403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1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1412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7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2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7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7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1438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1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6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1448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58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1460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1463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3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1474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4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1485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1486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1490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8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1499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1500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5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1506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8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11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1513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1530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8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1542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1546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>
            <a:hlinkClick r:id="" action="ppaction://hlinkshowjump?jump=nextslide"/>
          </p:cNvPr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4760" y="403236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1570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1574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>
            <a:hlinkClick r:id="" action="ppaction://hlinkshowjump?jump=nextslide"/>
          </p:cNvPr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4760" y="442116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1597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1598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1599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4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2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4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1645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0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1661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9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9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8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7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2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1773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6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1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1783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3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4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1795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1798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8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9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4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1825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7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0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1831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3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1834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0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46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1847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1848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1865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1878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1882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a portée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nextslide"/>
          </p:cNvPr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854760" y="482112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1910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1911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1912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1913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8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1919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7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1928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1929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4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1935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0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5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7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1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2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4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6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1967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8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9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0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1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73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1974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2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2023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2024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1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9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2060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5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2066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5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2076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0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2081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5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2086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9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4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2096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2097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2102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06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7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2108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0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2111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1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2122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2123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2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2134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2135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2138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0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3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2144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6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2147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0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9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2161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2178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338040" y="3201840"/>
            <a:ext cx="38433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s lisses de bardag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rot="4631400">
            <a:off x="4523040" y="1419840"/>
            <a:ext cx="2765520" cy="677880"/>
          </a:xfrm>
          <a:custGeom>
            <a:avLst/>
            <a:gdLst/>
            <a:ahLst/>
            <a:rect l="l" t="t" r="r" b="b"/>
            <a:pathLst>
              <a:path w="5485" h="1345">
                <a:moveTo>
                  <a:pt x="10" y="0"/>
                </a:moveTo>
                <a:lnTo>
                  <a:pt x="5485" y="1280"/>
                </a:lnTo>
                <a:lnTo>
                  <a:pt x="5465" y="1345"/>
                </a:lnTo>
                <a:lnTo>
                  <a:pt x="0" y="6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rot="4631400">
            <a:off x="4683960" y="1260720"/>
            <a:ext cx="2813040" cy="919440"/>
          </a:xfrm>
          <a:custGeom>
            <a:avLst/>
            <a:gdLst/>
            <a:ahLst/>
            <a:rect l="l" t="t" r="r" b="b"/>
            <a:pathLst>
              <a:path w="5580" h="1825">
                <a:moveTo>
                  <a:pt x="0" y="520"/>
                </a:moveTo>
                <a:lnTo>
                  <a:pt x="5485" y="1825"/>
                </a:lnTo>
                <a:lnTo>
                  <a:pt x="5580" y="1290"/>
                </a:lnTo>
                <a:lnTo>
                  <a:pt x="100" y="0"/>
                </a:lnTo>
                <a:lnTo>
                  <a:pt x="0" y="52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rot="4631400">
            <a:off x="4819680" y="1411200"/>
            <a:ext cx="2774880" cy="682560"/>
          </a:xfrm>
          <a:custGeom>
            <a:avLst/>
            <a:gdLst/>
            <a:ahLst/>
            <a:rect l="l" t="t" r="r" b="b"/>
            <a:pathLst>
              <a:path w="5505" h="1355">
                <a:moveTo>
                  <a:pt x="15" y="0"/>
                </a:moveTo>
                <a:lnTo>
                  <a:pt x="5505" y="1270"/>
                </a:lnTo>
                <a:lnTo>
                  <a:pt x="5485" y="1355"/>
                </a:lnTo>
                <a:lnTo>
                  <a:pt x="0" y="6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0" name=""/>
          <p:cNvGrpSpPr/>
          <p:nvPr/>
        </p:nvGrpSpPr>
        <p:grpSpPr>
          <a:xfrm>
            <a:off x="5669640" y="1785600"/>
            <a:ext cx="503640" cy="299160"/>
            <a:chOff x="5669640" y="1785600"/>
            <a:chExt cx="503640" cy="299160"/>
          </a:xfrm>
        </p:grpSpPr>
        <p:sp>
          <p:nvSpPr>
            <p:cNvPr id="2191" name=""/>
            <p:cNvSpPr/>
            <p:nvPr/>
          </p:nvSpPr>
          <p:spPr>
            <a:xfrm rot="4631400">
              <a:off x="5612040" y="187992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4631400">
              <a:off x="5875560" y="1782720"/>
              <a:ext cx="92160" cy="300240"/>
            </a:xfrm>
            <a:custGeom>
              <a:avLst/>
              <a:gdLst/>
              <a:ahLst/>
              <a:rect l="l" t="t" r="r" b="b"/>
              <a:pathLst>
                <a:path w="183" h="597">
                  <a:moveTo>
                    <a:pt x="0" y="585"/>
                  </a:moveTo>
                  <a:lnTo>
                    <a:pt x="48" y="597"/>
                  </a:lnTo>
                  <a:lnTo>
                    <a:pt x="183" y="12"/>
                  </a:lnTo>
                  <a:lnTo>
                    <a:pt x="138" y="0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4631400">
              <a:off x="5954400" y="1887480"/>
              <a:ext cx="275760" cy="102600"/>
            </a:xfrm>
            <a:custGeom>
              <a:avLst/>
              <a:gdLst/>
              <a:ahLst/>
              <a:rect l="l" t="t" r="r" b="b"/>
              <a:pathLst>
                <a:path w="546" h="204">
                  <a:moveTo>
                    <a:pt x="0" y="78"/>
                  </a:moveTo>
                  <a:lnTo>
                    <a:pt x="528" y="204"/>
                  </a:lnTo>
                  <a:lnTo>
                    <a:pt x="546" y="123"/>
                  </a:lnTo>
                  <a:lnTo>
                    <a:pt x="2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6169320" y="635760"/>
            <a:ext cx="846720" cy="1079640"/>
            <a:chOff x="6169320" y="635760"/>
            <a:chExt cx="846720" cy="1079640"/>
          </a:xfrm>
        </p:grpSpPr>
        <p:sp>
          <p:nvSpPr>
            <p:cNvPr id="2195" name=""/>
            <p:cNvSpPr/>
            <p:nvPr/>
          </p:nvSpPr>
          <p:spPr>
            <a:xfrm>
              <a:off x="6375960" y="84960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82600" y="65304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809760" y="635760"/>
              <a:ext cx="0" cy="44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169320" y="1051560"/>
              <a:ext cx="720" cy="66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016040" y="641160"/>
              <a:ext cx="0" cy="231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6253200" y="177624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496200" y="1523880"/>
            <a:ext cx="16826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737400" y="1322280"/>
            <a:ext cx="168444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969240" y="1081080"/>
            <a:ext cx="1684080" cy="0"/>
          </a:xfrm>
          <a:prstGeom prst="line">
            <a:avLst/>
          </a:prstGeom>
          <a:ln w="7632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856640" y="1274760"/>
            <a:ext cx="726840" cy="2890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443640" y="160200"/>
            <a:ext cx="1420920" cy="476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affectent les flèches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réduisent la portée des liss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endeurs de liss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>
            <a:hlinkClick r:id="" action="ppaction://hlinkshowjump?jump=nextslide"/>
          </p:cNvPr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54760" y="522144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571680" y="501480"/>
            <a:ext cx="4084200" cy="2556000"/>
            <a:chOff x="571680" y="501480"/>
            <a:chExt cx="4084200" cy="2556000"/>
          </a:xfrm>
        </p:grpSpPr>
        <p:grpSp>
          <p:nvGrpSpPr>
            <p:cNvPr id="2228" name=""/>
            <p:cNvGrpSpPr/>
            <p:nvPr/>
          </p:nvGrpSpPr>
          <p:grpSpPr>
            <a:xfrm>
              <a:off x="571680" y="501480"/>
              <a:ext cx="4084200" cy="2556000"/>
              <a:chOff x="571680" y="501480"/>
              <a:chExt cx="4084200" cy="2556000"/>
            </a:xfrm>
          </p:grpSpPr>
          <p:grpSp>
            <p:nvGrpSpPr>
              <p:cNvPr id="2229" name=""/>
              <p:cNvGrpSpPr/>
              <p:nvPr/>
            </p:nvGrpSpPr>
            <p:grpSpPr>
              <a:xfrm>
                <a:off x="641160" y="702720"/>
                <a:ext cx="3979440" cy="2219760"/>
                <a:chOff x="641160" y="702720"/>
                <a:chExt cx="3979440" cy="2219760"/>
              </a:xfrm>
            </p:grpSpPr>
            <p:grpSp>
              <p:nvGrpSpPr>
                <p:cNvPr id="2230" name=""/>
                <p:cNvGrpSpPr/>
                <p:nvPr/>
              </p:nvGrpSpPr>
              <p:grpSpPr>
                <a:xfrm>
                  <a:off x="2061360" y="702720"/>
                  <a:ext cx="2559240" cy="831240"/>
                  <a:chOff x="2061360" y="702720"/>
                  <a:chExt cx="2559240" cy="8312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2087280" y="702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2080440" y="94572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2071080" y="1344960"/>
                    <a:ext cx="25452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2081520" y="1145520"/>
                    <a:ext cx="2535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2061360" y="1533960"/>
                    <a:ext cx="25333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6" name=""/>
                <p:cNvGrpSpPr/>
                <p:nvPr/>
              </p:nvGrpSpPr>
              <p:grpSpPr>
                <a:xfrm>
                  <a:off x="641160" y="2078280"/>
                  <a:ext cx="2546640" cy="844200"/>
                  <a:chOff x="641160" y="2078280"/>
                  <a:chExt cx="2546640" cy="844200"/>
                </a:xfrm>
              </p:grpSpPr>
              <p:sp>
                <p:nvSpPr>
                  <p:cNvPr id="2237" name=""/>
                  <p:cNvSpPr/>
                  <p:nvPr/>
                </p:nvSpPr>
                <p:spPr>
                  <a:xfrm>
                    <a:off x="2356200" y="292248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654840" y="2078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648000" y="2321280"/>
                    <a:ext cx="2532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2352240" y="27205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641160" y="25207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2352240" y="2520720"/>
                    <a:ext cx="831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648000" y="2720520"/>
                    <a:ext cx="834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648000" y="2917800"/>
                    <a:ext cx="82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5" name=""/>
              <p:cNvGrpSpPr/>
              <p:nvPr/>
            </p:nvGrpSpPr>
            <p:grpSpPr>
              <a:xfrm>
                <a:off x="571680" y="1552680"/>
                <a:ext cx="4084200" cy="1504800"/>
                <a:chOff x="571680" y="1552680"/>
                <a:chExt cx="4084200" cy="1504800"/>
              </a:xfrm>
            </p:grpSpPr>
            <p:grpSp>
              <p:nvGrpSpPr>
                <p:cNvPr id="2246" name=""/>
                <p:cNvGrpSpPr/>
                <p:nvPr/>
              </p:nvGrpSpPr>
              <p:grpSpPr>
                <a:xfrm>
                  <a:off x="817560" y="1813680"/>
                  <a:ext cx="1072080" cy="1019160"/>
                  <a:chOff x="817560" y="1813680"/>
                  <a:chExt cx="1072080" cy="1019160"/>
                </a:xfrm>
              </p:grpSpPr>
              <p:sp>
                <p:nvSpPr>
                  <p:cNvPr id="2247" name=""/>
                  <p:cNvSpPr/>
                  <p:nvPr/>
                </p:nvSpPr>
                <p:spPr>
                  <a:xfrm>
                    <a:off x="1771920" y="18136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1528200" y="2027520"/>
                    <a:ext cx="117360" cy="11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1294920" y="22492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1054080" y="2480040"/>
                    <a:ext cx="11808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817560" y="271980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2" name=""/>
                <p:cNvGrpSpPr/>
                <p:nvPr/>
              </p:nvGrpSpPr>
              <p:grpSpPr>
                <a:xfrm>
                  <a:off x="3360600" y="1795680"/>
                  <a:ext cx="1054800" cy="1030320"/>
                  <a:chOff x="3360600" y="1795680"/>
                  <a:chExt cx="1054800" cy="1030320"/>
                </a:xfrm>
              </p:grpSpPr>
              <p:sp>
                <p:nvSpPr>
                  <p:cNvPr id="2253" name=""/>
                  <p:cNvSpPr/>
                  <p:nvPr/>
                </p:nvSpPr>
                <p:spPr>
                  <a:xfrm>
                    <a:off x="4298040" y="1795680"/>
                    <a:ext cx="11736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4062600" y="2020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3829320" y="2242080"/>
                    <a:ext cx="11772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3583080" y="2472480"/>
                    <a:ext cx="12060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3360600" y="271260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8" name=""/>
                <p:cNvGrpSpPr/>
                <p:nvPr/>
              </p:nvGrpSpPr>
              <p:grpSpPr>
                <a:xfrm>
                  <a:off x="1998000" y="1552680"/>
                  <a:ext cx="2657880" cy="116280"/>
                  <a:chOff x="1998000" y="1552680"/>
                  <a:chExt cx="2657880" cy="116280"/>
                </a:xfrm>
              </p:grpSpPr>
              <p:sp>
                <p:nvSpPr>
                  <p:cNvPr id="2259" name=""/>
                  <p:cNvSpPr/>
                  <p:nvPr/>
                </p:nvSpPr>
                <p:spPr>
                  <a:xfrm>
                    <a:off x="4538160" y="155556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199800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3708360" y="1552680"/>
                    <a:ext cx="117720" cy="11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242748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2825640" y="15526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324936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4133520" y="15526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6" name=""/>
                <p:cNvGrpSpPr/>
                <p:nvPr/>
              </p:nvGrpSpPr>
              <p:grpSpPr>
                <a:xfrm>
                  <a:off x="571680" y="2944080"/>
                  <a:ext cx="2652480" cy="113400"/>
                  <a:chOff x="571680" y="2944080"/>
                  <a:chExt cx="2652480" cy="113400"/>
                </a:xfrm>
              </p:grpSpPr>
              <p:sp>
                <p:nvSpPr>
                  <p:cNvPr id="2267" name=""/>
                  <p:cNvSpPr/>
                  <p:nvPr/>
                </p:nvSpPr>
                <p:spPr>
                  <a:xfrm>
                    <a:off x="310644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7168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99792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1404720" y="2944080"/>
                    <a:ext cx="11772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228600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2692440" y="2944080"/>
                    <a:ext cx="117360" cy="11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3" name=""/>
              <p:cNvGrpSpPr/>
              <p:nvPr/>
            </p:nvGrpSpPr>
            <p:grpSpPr>
              <a:xfrm>
                <a:off x="639000" y="501480"/>
                <a:ext cx="3970440" cy="2418120"/>
                <a:chOff x="639000" y="501480"/>
                <a:chExt cx="3970440" cy="241812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1915200" y="1898280"/>
                  <a:ext cx="0" cy="4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5" name=""/>
                <p:cNvGrpSpPr/>
                <p:nvPr/>
              </p:nvGrpSpPr>
              <p:grpSpPr>
                <a:xfrm>
                  <a:off x="639000" y="501480"/>
                  <a:ext cx="3970440" cy="2418120"/>
                  <a:chOff x="639000" y="501480"/>
                  <a:chExt cx="3970440" cy="2418120"/>
                </a:xfrm>
              </p:grpSpPr>
              <p:grpSp>
                <p:nvGrpSpPr>
                  <p:cNvPr id="2276" name=""/>
                  <p:cNvGrpSpPr/>
                  <p:nvPr/>
                </p:nvGrpSpPr>
                <p:grpSpPr>
                  <a:xfrm>
                    <a:off x="2076480" y="501480"/>
                    <a:ext cx="2532960" cy="1029600"/>
                    <a:chOff x="2076480" y="501480"/>
                    <a:chExt cx="2532960" cy="1029600"/>
                  </a:xfrm>
                </p:grpSpPr>
                <p:sp>
                  <p:nvSpPr>
                    <p:cNvPr id="2277" name=""/>
                    <p:cNvSpPr/>
                    <p:nvPr/>
                  </p:nvSpPr>
                  <p:spPr>
                    <a:xfrm>
                      <a:off x="4204080" y="628920"/>
                      <a:ext cx="0" cy="902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4609440" y="69696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9" name=""/>
                    <p:cNvSpPr/>
                    <p:nvPr/>
                  </p:nvSpPr>
                  <p:spPr>
                    <a:xfrm>
                      <a:off x="3781440" y="575640"/>
                      <a:ext cx="0" cy="955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0" name=""/>
                    <p:cNvSpPr/>
                    <p:nvPr/>
                  </p:nvSpPr>
                  <p:spPr>
                    <a:xfrm>
                      <a:off x="3343680" y="501480"/>
                      <a:ext cx="0" cy="1029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1" name=""/>
                    <p:cNvSpPr/>
                    <p:nvPr/>
                  </p:nvSpPr>
                  <p:spPr>
                    <a:xfrm>
                      <a:off x="2904480" y="56628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2" name=""/>
                    <p:cNvSpPr/>
                    <p:nvPr/>
                  </p:nvSpPr>
                  <p:spPr>
                    <a:xfrm>
                      <a:off x="2076480" y="692640"/>
                      <a:ext cx="0" cy="83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/>
                    <p:nvPr/>
                  </p:nvSpPr>
                  <p:spPr>
                    <a:xfrm>
                      <a:off x="2499840" y="63540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4" name=""/>
                  <p:cNvGrpSpPr/>
                  <p:nvPr/>
                </p:nvGrpSpPr>
                <p:grpSpPr>
                  <a:xfrm>
                    <a:off x="639000" y="1950840"/>
                    <a:ext cx="2541960" cy="968760"/>
                    <a:chOff x="639000" y="1950840"/>
                    <a:chExt cx="2541960" cy="968760"/>
                  </a:xfrm>
                </p:grpSpPr>
                <p:sp>
                  <p:nvSpPr>
                    <p:cNvPr id="2285" name=""/>
                    <p:cNvSpPr/>
                    <p:nvPr/>
                  </p:nvSpPr>
                  <p:spPr>
                    <a:xfrm>
                      <a:off x="2775600" y="2013480"/>
                      <a:ext cx="0" cy="906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>
                      <a:off x="3180960" y="2077200"/>
                      <a:ext cx="0" cy="834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7" name=""/>
                    <p:cNvSpPr/>
                    <p:nvPr/>
                  </p:nvSpPr>
                  <p:spPr>
                    <a:xfrm>
                      <a:off x="2352960" y="1955880"/>
                      <a:ext cx="0" cy="959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8" name=""/>
                    <p:cNvSpPr/>
                    <p:nvPr/>
                  </p:nvSpPr>
                  <p:spPr>
                    <a:xfrm>
                      <a:off x="1476000" y="1950840"/>
                      <a:ext cx="0" cy="964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9" name=""/>
                    <p:cNvSpPr/>
                    <p:nvPr/>
                  </p:nvSpPr>
                  <p:spPr>
                    <a:xfrm flipH="1">
                      <a:off x="639000" y="2073240"/>
                      <a:ext cx="8280" cy="84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0" name=""/>
                    <p:cNvSpPr/>
                    <p:nvPr/>
                  </p:nvSpPr>
                  <p:spPr>
                    <a:xfrm>
                      <a:off x="1071360" y="2019960"/>
                      <a:ext cx="0" cy="895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91" name=""/>
              <p:cNvGrpSpPr/>
              <p:nvPr/>
            </p:nvGrpSpPr>
            <p:grpSpPr>
              <a:xfrm>
                <a:off x="643320" y="502560"/>
                <a:ext cx="3972240" cy="1569960"/>
                <a:chOff x="643320" y="502560"/>
                <a:chExt cx="3972240" cy="1569960"/>
              </a:xfrm>
            </p:grpSpPr>
            <p:grpSp>
              <p:nvGrpSpPr>
                <p:cNvPr id="2292" name=""/>
                <p:cNvGrpSpPr/>
                <p:nvPr/>
              </p:nvGrpSpPr>
              <p:grpSpPr>
                <a:xfrm>
                  <a:off x="643320" y="1652400"/>
                  <a:ext cx="2771280" cy="420120"/>
                  <a:chOff x="643320" y="1652400"/>
                  <a:chExt cx="2771280" cy="420120"/>
                </a:xfrm>
              </p:grpSpPr>
              <p:sp>
                <p:nvSpPr>
                  <p:cNvPr id="2293" name=""/>
                  <p:cNvSpPr/>
                  <p:nvPr/>
                </p:nvSpPr>
                <p:spPr>
                  <a:xfrm flipH="1" flipV="1">
                    <a:off x="2148480" y="165492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 flipH="1">
                    <a:off x="1462320" y="165492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 flipH="1" flipV="1">
                    <a:off x="2981160" y="176724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 flipV="1">
                    <a:off x="2769840" y="184104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 flipH="1" flipV="1">
                    <a:off x="2573640" y="172332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H="1">
                    <a:off x="2347200" y="177660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 flipH="1">
                    <a:off x="1943640" y="172368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 flipH="1" flipV="1">
                    <a:off x="1702080" y="171036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 flipH="1" flipV="1">
                    <a:off x="1304280" y="177660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 flipH="1">
                    <a:off x="1064520" y="172368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 flipH="1" flipV="1">
                    <a:off x="882000" y="184104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flipH="1">
                    <a:off x="643320" y="177660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flipV="1">
                    <a:off x="3172320" y="18410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flipV="1">
                    <a:off x="1927080" y="16524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flipV="1">
                    <a:off x="23533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 flipV="1">
                    <a:off x="647640" y="1837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flipV="1">
                    <a:off x="1074240" y="17755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1474920" y="171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878040" y="16563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647640" y="188640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1922760" y="188676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2157480" y="16567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 flipV="1">
                    <a:off x="2758680" y="17877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6" name=""/>
                <p:cNvGrpSpPr/>
                <p:nvPr/>
              </p:nvGrpSpPr>
              <p:grpSpPr>
                <a:xfrm>
                  <a:off x="1844280" y="502560"/>
                  <a:ext cx="2771280" cy="420120"/>
                  <a:chOff x="1844280" y="502560"/>
                  <a:chExt cx="2771280" cy="420120"/>
                </a:xfrm>
              </p:grpSpPr>
              <p:sp>
                <p:nvSpPr>
                  <p:cNvPr id="2317" name=""/>
                  <p:cNvSpPr/>
                  <p:nvPr/>
                </p:nvSpPr>
                <p:spPr>
                  <a:xfrm flipH="1" flipV="1">
                    <a:off x="3349440" y="505080"/>
                    <a:ext cx="21528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>
                    <a:off x="2663280" y="505080"/>
                    <a:ext cx="68580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H="1" flipV="1">
                    <a:off x="4182120" y="617400"/>
                    <a:ext cx="194760" cy="305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 flipV="1">
                    <a:off x="3970800" y="691200"/>
                    <a:ext cx="644760" cy="17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flipH="1" flipV="1">
                    <a:off x="3774600" y="573480"/>
                    <a:ext cx="19584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 flipH="1">
                    <a:off x="3548160" y="626760"/>
                    <a:ext cx="667800" cy="17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 flipH="1">
                    <a:off x="3144600" y="573840"/>
                    <a:ext cx="629640" cy="156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 flipH="1" flipV="1">
                    <a:off x="2903040" y="560520"/>
                    <a:ext cx="241560" cy="170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 flipH="1" flipV="1">
                    <a:off x="2505240" y="626760"/>
                    <a:ext cx="166320" cy="17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 flipH="1">
                    <a:off x="2265480" y="573840"/>
                    <a:ext cx="637920" cy="290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 flipH="1" flipV="1">
                    <a:off x="2082960" y="691200"/>
                    <a:ext cx="185040" cy="16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H="1">
                    <a:off x="1844280" y="626760"/>
                    <a:ext cx="660960" cy="295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V="1">
                    <a:off x="4373280" y="69120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V="1">
                    <a:off x="3128040" y="50256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V="1">
                    <a:off x="35542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 flipV="1">
                    <a:off x="1848600" y="68724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 flipV="1">
                    <a:off x="2275200" y="6256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V="1">
                    <a:off x="2675880" y="56808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V="1">
                    <a:off x="2079000" y="50652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 flipV="1">
                    <a:off x="1848600" y="736560"/>
                    <a:ext cx="127476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3123720" y="73692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3358440" y="506880"/>
                    <a:ext cx="1240920" cy="1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 flipV="1">
                    <a:off x="3959640" y="637920"/>
                    <a:ext cx="23436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0" name=""/>
              <p:cNvGrpSpPr/>
              <p:nvPr/>
            </p:nvGrpSpPr>
            <p:grpSpPr>
              <a:xfrm>
                <a:off x="640080" y="687960"/>
                <a:ext cx="3970800" cy="2237760"/>
                <a:chOff x="640080" y="687960"/>
                <a:chExt cx="3970800" cy="2237760"/>
              </a:xfrm>
            </p:grpSpPr>
            <p:grpSp>
              <p:nvGrpSpPr>
                <p:cNvPr id="2341" name=""/>
                <p:cNvGrpSpPr/>
                <p:nvPr/>
              </p:nvGrpSpPr>
              <p:grpSpPr>
                <a:xfrm>
                  <a:off x="3173040" y="1837800"/>
                  <a:ext cx="243720" cy="1079640"/>
                  <a:chOff x="3173040" y="1837800"/>
                  <a:chExt cx="243720" cy="1079640"/>
                </a:xfrm>
              </p:grpSpPr>
              <p:sp>
                <p:nvSpPr>
                  <p:cNvPr id="2342" name=""/>
                  <p:cNvSpPr/>
                  <p:nvPr/>
                </p:nvSpPr>
                <p:spPr>
                  <a:xfrm flipV="1">
                    <a:off x="3177360" y="22885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 flipH="1" flipV="1">
                    <a:off x="3173040" y="20678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 flipH="1" flipV="1">
                    <a:off x="3177360" y="25063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 flipV="1">
                    <a:off x="3177360" y="18417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V="1">
                    <a:off x="3173400" y="18378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3177720" y="20682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 flipV="1">
                    <a:off x="3177720" y="22852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3416760" y="18460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0" name=""/>
                <p:cNvGrpSpPr/>
                <p:nvPr/>
              </p:nvGrpSpPr>
              <p:grpSpPr>
                <a:xfrm>
                  <a:off x="640080" y="1846080"/>
                  <a:ext cx="243720" cy="1079640"/>
                  <a:chOff x="640080" y="1846080"/>
                  <a:chExt cx="243720" cy="107964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 flipV="1">
                    <a:off x="644400" y="229680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 flipH="1" flipV="1">
                    <a:off x="640080" y="207612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 flipH="1" flipV="1">
                    <a:off x="644400" y="251460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V="1">
                    <a:off x="644400" y="185004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640440" y="18460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644760" y="2076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 flipV="1">
                    <a:off x="644760" y="22935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883800" y="1854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9" name=""/>
                <p:cNvGrpSpPr/>
                <p:nvPr/>
              </p:nvGrpSpPr>
              <p:grpSpPr>
                <a:xfrm>
                  <a:off x="4367160" y="687960"/>
                  <a:ext cx="243720" cy="1079640"/>
                  <a:chOff x="4367160" y="687960"/>
                  <a:chExt cx="243720" cy="1079640"/>
                </a:xfrm>
              </p:grpSpPr>
              <p:sp>
                <p:nvSpPr>
                  <p:cNvPr id="2360" name=""/>
                  <p:cNvSpPr/>
                  <p:nvPr/>
                </p:nvSpPr>
                <p:spPr>
                  <a:xfrm flipV="1">
                    <a:off x="4371480" y="113868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 flipH="1" flipV="1">
                    <a:off x="4367160" y="91800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 flipH="1" flipV="1">
                    <a:off x="4371480" y="135648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 flipV="1">
                    <a:off x="4371480" y="69192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 flipV="1">
                    <a:off x="4367520" y="68796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4371840" y="91836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 flipV="1">
                    <a:off x="4371840" y="113544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4610880" y="69624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8" name=""/>
                <p:cNvGrpSpPr/>
                <p:nvPr/>
              </p:nvGrpSpPr>
              <p:grpSpPr>
                <a:xfrm>
                  <a:off x="1833840" y="700200"/>
                  <a:ext cx="243720" cy="1079640"/>
                  <a:chOff x="1833840" y="700200"/>
                  <a:chExt cx="243720" cy="1079640"/>
                </a:xfrm>
              </p:grpSpPr>
              <p:sp>
                <p:nvSpPr>
                  <p:cNvPr id="2369" name=""/>
                  <p:cNvSpPr/>
                  <p:nvPr/>
                </p:nvSpPr>
                <p:spPr>
                  <a:xfrm flipV="1">
                    <a:off x="1838160" y="1150920"/>
                    <a:ext cx="23904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 flipH="1" flipV="1">
                    <a:off x="1833840" y="930240"/>
                    <a:ext cx="243000" cy="221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 flipH="1" flipV="1">
                    <a:off x="1838160" y="1368720"/>
                    <a:ext cx="239040" cy="181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V="1">
                    <a:off x="1838160" y="704160"/>
                    <a:ext cx="239040" cy="66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1834200" y="70020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1838520" y="93060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 flipV="1">
                    <a:off x="1838520" y="1147680"/>
                    <a:ext cx="234720" cy="225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2077560" y="708480"/>
                    <a:ext cx="0" cy="84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7" name=""/>
              <p:cNvGrpSpPr/>
              <p:nvPr/>
            </p:nvGrpSpPr>
            <p:grpSpPr>
              <a:xfrm>
                <a:off x="883080" y="735120"/>
                <a:ext cx="3488040" cy="1952280"/>
                <a:chOff x="883080" y="735120"/>
                <a:chExt cx="3488040" cy="1952280"/>
              </a:xfrm>
            </p:grpSpPr>
            <p:grpSp>
              <p:nvGrpSpPr>
                <p:cNvPr id="2378" name=""/>
                <p:cNvGrpSpPr/>
                <p:nvPr/>
              </p:nvGrpSpPr>
              <p:grpSpPr>
                <a:xfrm>
                  <a:off x="883080" y="1654920"/>
                  <a:ext cx="2532960" cy="1032480"/>
                  <a:chOff x="883080" y="1654920"/>
                  <a:chExt cx="2532960" cy="1032480"/>
                </a:xfrm>
              </p:grpSpPr>
              <p:sp>
                <p:nvSpPr>
                  <p:cNvPr id="2379" name=""/>
                  <p:cNvSpPr/>
                  <p:nvPr/>
                </p:nvSpPr>
                <p:spPr>
                  <a:xfrm flipV="1">
                    <a:off x="88308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 flipV="1">
                    <a:off x="88308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 flipV="1">
                    <a:off x="3416040" y="18428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H="1" flipV="1">
                    <a:off x="2149560" y="16549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"/>
                <p:cNvGrpSpPr/>
                <p:nvPr/>
              </p:nvGrpSpPr>
              <p:grpSpPr>
                <a:xfrm>
                  <a:off x="1121760" y="1424880"/>
                  <a:ext cx="2532960" cy="1032480"/>
                  <a:chOff x="1121760" y="1424880"/>
                  <a:chExt cx="2532960" cy="1032480"/>
                </a:xfrm>
              </p:grpSpPr>
              <p:sp>
                <p:nvSpPr>
                  <p:cNvPr id="2384" name=""/>
                  <p:cNvSpPr/>
                  <p:nvPr/>
                </p:nvSpPr>
                <p:spPr>
                  <a:xfrm flipV="1">
                    <a:off x="112176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flipV="1">
                    <a:off x="112176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 flipV="1">
                    <a:off x="3654720" y="16128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flipH="1" flipV="1">
                    <a:off x="2388240" y="142488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1360440" y="1194840"/>
                  <a:ext cx="2532960" cy="1032480"/>
                  <a:chOff x="1360440" y="1194840"/>
                  <a:chExt cx="2532960" cy="103248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flipV="1">
                    <a:off x="136044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flipV="1">
                    <a:off x="136044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 flipV="1">
                    <a:off x="3893400" y="138276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 flipH="1" flipV="1">
                    <a:off x="2626920" y="119484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"/>
                <p:cNvGrpSpPr/>
                <p:nvPr/>
              </p:nvGrpSpPr>
              <p:grpSpPr>
                <a:xfrm>
                  <a:off x="1599120" y="964800"/>
                  <a:ext cx="2532960" cy="1032480"/>
                  <a:chOff x="1599120" y="964800"/>
                  <a:chExt cx="2532960" cy="103248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flipV="1">
                    <a:off x="159912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 flipV="1">
                    <a:off x="159912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flipV="1">
                    <a:off x="4132080" y="115272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 flipH="1" flipV="1">
                    <a:off x="2865600" y="96480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8" name=""/>
                <p:cNvGrpSpPr/>
                <p:nvPr/>
              </p:nvGrpSpPr>
              <p:grpSpPr>
                <a:xfrm>
                  <a:off x="1838160" y="735120"/>
                  <a:ext cx="2532960" cy="1032480"/>
                  <a:chOff x="1838160" y="735120"/>
                  <a:chExt cx="2532960" cy="1032480"/>
                </a:xfrm>
              </p:grpSpPr>
              <p:sp>
                <p:nvSpPr>
                  <p:cNvPr id="2399" name=""/>
                  <p:cNvSpPr/>
                  <p:nvPr/>
                </p:nvSpPr>
                <p:spPr>
                  <a:xfrm flipV="1">
                    <a:off x="183816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 flipV="1">
                    <a:off x="183816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 flipV="1">
                    <a:off x="4371120" y="9230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flipH="1" flipV="1">
                    <a:off x="3104640" y="735120"/>
                    <a:ext cx="1266480" cy="187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3" name=""/>
              <p:cNvGrpSpPr/>
              <p:nvPr/>
            </p:nvGrpSpPr>
            <p:grpSpPr>
              <a:xfrm>
                <a:off x="644400" y="505080"/>
                <a:ext cx="3965400" cy="2412720"/>
                <a:chOff x="644400" y="505080"/>
                <a:chExt cx="3965400" cy="2412720"/>
              </a:xfrm>
            </p:grpSpPr>
            <p:sp>
              <p:nvSpPr>
                <p:cNvPr id="2404" name=""/>
                <p:cNvSpPr/>
                <p:nvPr/>
              </p:nvSpPr>
              <p:spPr>
                <a:xfrm flipV="1">
                  <a:off x="64440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 flipV="1">
                  <a:off x="1910880" y="188496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V="1">
                  <a:off x="207684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7" name=""/>
                <p:cNvGrpSpPr/>
                <p:nvPr/>
              </p:nvGrpSpPr>
              <p:grpSpPr>
                <a:xfrm>
                  <a:off x="644400" y="693000"/>
                  <a:ext cx="3965400" cy="2224800"/>
                  <a:chOff x="644400" y="693000"/>
                  <a:chExt cx="3965400" cy="2224800"/>
                </a:xfrm>
              </p:grpSpPr>
              <p:sp>
                <p:nvSpPr>
                  <p:cNvPr id="2408" name=""/>
                  <p:cNvSpPr/>
                  <p:nvPr/>
                </p:nvSpPr>
                <p:spPr>
                  <a:xfrm flipV="1">
                    <a:off x="64440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 flipV="1">
                    <a:off x="3177360" y="207324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 flipV="1">
                    <a:off x="207684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V="1">
                    <a:off x="4609800" y="693000"/>
                    <a:ext cx="0" cy="844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2" name=""/>
                <p:cNvSpPr/>
                <p:nvPr/>
              </p:nvSpPr>
              <p:spPr>
                <a:xfrm flipH="1" flipV="1">
                  <a:off x="3343320" y="505080"/>
                  <a:ext cx="1266480" cy="187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644400" y="927720"/>
                <a:ext cx="3965400" cy="1994040"/>
                <a:chOff x="644400" y="927720"/>
                <a:chExt cx="3965400" cy="1994040"/>
              </a:xfrm>
            </p:grpSpPr>
            <p:grpSp>
              <p:nvGrpSpPr>
                <p:cNvPr id="2414" name=""/>
                <p:cNvGrpSpPr/>
                <p:nvPr/>
              </p:nvGrpSpPr>
              <p:grpSpPr>
                <a:xfrm>
                  <a:off x="644400" y="940320"/>
                  <a:ext cx="1432440" cy="1981080"/>
                  <a:chOff x="644400" y="940320"/>
                  <a:chExt cx="1432440" cy="1981080"/>
                </a:xfrm>
              </p:grpSpPr>
              <p:sp>
                <p:nvSpPr>
                  <p:cNvPr id="2415" name=""/>
                  <p:cNvSpPr/>
                  <p:nvPr/>
                </p:nvSpPr>
                <p:spPr>
                  <a:xfrm flipV="1">
                    <a:off x="644400" y="9403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 flipV="1">
                    <a:off x="644400" y="115164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V="1">
                    <a:off x="644400" y="133920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 flipV="1">
                    <a:off x="644400" y="1541520"/>
                    <a:ext cx="1432440" cy="137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9" name=""/>
                <p:cNvGrpSpPr/>
                <p:nvPr/>
              </p:nvGrpSpPr>
              <p:grpSpPr>
                <a:xfrm>
                  <a:off x="3177360" y="927720"/>
                  <a:ext cx="1432440" cy="1994040"/>
                  <a:chOff x="3177360" y="927720"/>
                  <a:chExt cx="1432440" cy="1994040"/>
                </a:xfrm>
              </p:grpSpPr>
              <p:sp>
                <p:nvSpPr>
                  <p:cNvPr id="2420" name=""/>
                  <p:cNvSpPr/>
                  <p:nvPr/>
                </p:nvSpPr>
                <p:spPr>
                  <a:xfrm flipV="1">
                    <a:off x="3177360" y="15422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 flipV="1">
                    <a:off x="3177360" y="92772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 flipV="1">
                    <a:off x="3177360" y="113904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V="1">
                    <a:off x="3177360" y="1341360"/>
                    <a:ext cx="1432440" cy="1379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24" name=""/>
              <p:cNvSpPr/>
              <p:nvPr/>
            </p:nvSpPr>
            <p:spPr>
              <a:xfrm flipV="1">
                <a:off x="1914120" y="513000"/>
                <a:ext cx="1436400" cy="137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5" name=""/>
              <p:cNvGrpSpPr/>
              <p:nvPr/>
            </p:nvGrpSpPr>
            <p:grpSpPr>
              <a:xfrm>
                <a:off x="644400" y="693720"/>
                <a:ext cx="3962880" cy="1379520"/>
                <a:chOff x="644400" y="693720"/>
                <a:chExt cx="3962880" cy="1379520"/>
              </a:xfrm>
            </p:grpSpPr>
            <p:sp>
              <p:nvSpPr>
                <p:cNvPr id="2426" name=""/>
                <p:cNvSpPr/>
                <p:nvPr/>
              </p:nvSpPr>
              <p:spPr>
                <a:xfrm flipV="1">
                  <a:off x="3170520" y="693720"/>
                  <a:ext cx="143676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V="1">
                  <a:off x="644400" y="693720"/>
                  <a:ext cx="1432440" cy="1379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832680" y="535320"/>
                <a:ext cx="3574080" cy="1512000"/>
                <a:chOff x="832680" y="535320"/>
                <a:chExt cx="3574080" cy="1512000"/>
              </a:xfrm>
            </p:grpSpPr>
            <p:sp>
              <p:nvSpPr>
                <p:cNvPr id="2429" name=""/>
                <p:cNvSpPr/>
                <p:nvPr/>
              </p:nvSpPr>
              <p:spPr>
                <a:xfrm flipV="1">
                  <a:off x="2149920" y="541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V="1">
                  <a:off x="2365200" y="55944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V="1">
                  <a:off x="2771640" y="62712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V="1">
                  <a:off x="2970360" y="667080"/>
                  <a:ext cx="143640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V="1">
                  <a:off x="832680" y="66672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V="1">
                  <a:off x="1068480" y="63504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1472040" y="57276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V="1">
                  <a:off x="1689480" y="535320"/>
                  <a:ext cx="142236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V="1">
                  <a:off x="1264320" y="604800"/>
                  <a:ext cx="1417320" cy="138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V="1">
                  <a:off x="2544480" y="597600"/>
                  <a:ext cx="1436400" cy="13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9" name=""/>
            <p:cNvGrpSpPr/>
            <p:nvPr/>
          </p:nvGrpSpPr>
          <p:grpSpPr>
            <a:xfrm>
              <a:off x="1003320" y="1265400"/>
              <a:ext cx="3251160" cy="1315800"/>
              <a:chOff x="1003320" y="1265400"/>
              <a:chExt cx="3251160" cy="1315800"/>
            </a:xfrm>
          </p:grpSpPr>
          <p:grpSp>
            <p:nvGrpSpPr>
              <p:cNvPr id="2440" name=""/>
              <p:cNvGrpSpPr/>
              <p:nvPr/>
            </p:nvGrpSpPr>
            <p:grpSpPr>
              <a:xfrm>
                <a:off x="3540960" y="1265400"/>
                <a:ext cx="713520" cy="1307520"/>
                <a:chOff x="3540960" y="1265400"/>
                <a:chExt cx="713520" cy="130752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3540960" y="19519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3780000" y="172584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4015080" y="149148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4254480" y="1265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1003320" y="1273320"/>
                <a:ext cx="713160" cy="1307880"/>
                <a:chOff x="1003320" y="1273320"/>
                <a:chExt cx="713160" cy="13078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1003320" y="19602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1242360" y="173376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1477440" y="149940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1716480" y="1273320"/>
                  <a:ext cx="0" cy="6210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0" name=""/>
            <p:cNvGrpSpPr/>
            <p:nvPr/>
          </p:nvGrpSpPr>
          <p:grpSpPr>
            <a:xfrm>
              <a:off x="876240" y="927000"/>
              <a:ext cx="3484800" cy="1037880"/>
              <a:chOff x="876240" y="927000"/>
              <a:chExt cx="3484800" cy="1037880"/>
            </a:xfrm>
          </p:grpSpPr>
          <p:grpSp>
            <p:nvGrpSpPr>
              <p:cNvPr id="2451" name=""/>
              <p:cNvGrpSpPr/>
              <p:nvPr/>
            </p:nvGrpSpPr>
            <p:grpSpPr>
              <a:xfrm>
                <a:off x="3413160" y="927000"/>
                <a:ext cx="947880" cy="1029960"/>
                <a:chOff x="3413160" y="927000"/>
                <a:chExt cx="947880" cy="1029960"/>
              </a:xfrm>
            </p:grpSpPr>
            <p:grpSp>
              <p:nvGrpSpPr>
                <p:cNvPr id="2452" name=""/>
                <p:cNvGrpSpPr/>
                <p:nvPr/>
              </p:nvGrpSpPr>
              <p:grpSpPr>
                <a:xfrm>
                  <a:off x="3413160" y="1614960"/>
                  <a:ext cx="234720" cy="342000"/>
                  <a:chOff x="3413160" y="1614960"/>
                  <a:chExt cx="234720" cy="342000"/>
                </a:xfrm>
              </p:grpSpPr>
              <p:sp>
                <p:nvSpPr>
                  <p:cNvPr id="2453" name=""/>
                  <p:cNvSpPr/>
                  <p:nvPr/>
                </p:nvSpPr>
                <p:spPr>
                  <a:xfrm>
                    <a:off x="3413160" y="18417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 flipH="1">
                    <a:off x="3541320" y="16149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5" name=""/>
                <p:cNvGrpSpPr/>
                <p:nvPr/>
              </p:nvGrpSpPr>
              <p:grpSpPr>
                <a:xfrm>
                  <a:off x="3652200" y="1388520"/>
                  <a:ext cx="234720" cy="342000"/>
                  <a:chOff x="3652200" y="1388520"/>
                  <a:chExt cx="234720" cy="34200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3652200" y="16153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 flipH="1">
                    <a:off x="3780360" y="13885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8" name=""/>
                <p:cNvGrpSpPr/>
                <p:nvPr/>
              </p:nvGrpSpPr>
              <p:grpSpPr>
                <a:xfrm>
                  <a:off x="3886920" y="1153440"/>
                  <a:ext cx="234720" cy="342000"/>
                  <a:chOff x="3886920" y="1153440"/>
                  <a:chExt cx="234720" cy="34200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>
                    <a:off x="3886920" y="1380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 flipH="1">
                    <a:off x="4015080" y="1153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1" name=""/>
                <p:cNvGrpSpPr/>
                <p:nvPr/>
              </p:nvGrpSpPr>
              <p:grpSpPr>
                <a:xfrm>
                  <a:off x="4126320" y="927000"/>
                  <a:ext cx="234720" cy="342000"/>
                  <a:chOff x="4126320" y="927000"/>
                  <a:chExt cx="234720" cy="342000"/>
                </a:xfrm>
              </p:grpSpPr>
              <p:sp>
                <p:nvSpPr>
                  <p:cNvPr id="2462" name=""/>
                  <p:cNvSpPr/>
                  <p:nvPr/>
                </p:nvSpPr>
                <p:spPr>
                  <a:xfrm>
                    <a:off x="4126320" y="115380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 flipH="1">
                    <a:off x="4254480" y="92700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64" name=""/>
              <p:cNvGrpSpPr/>
              <p:nvPr/>
            </p:nvGrpSpPr>
            <p:grpSpPr>
              <a:xfrm>
                <a:off x="876240" y="934920"/>
                <a:ext cx="947880" cy="1029960"/>
                <a:chOff x="876240" y="934920"/>
                <a:chExt cx="947880" cy="1029960"/>
              </a:xfrm>
            </p:grpSpPr>
            <p:grpSp>
              <p:nvGrpSpPr>
                <p:cNvPr id="2465" name=""/>
                <p:cNvGrpSpPr/>
                <p:nvPr/>
              </p:nvGrpSpPr>
              <p:grpSpPr>
                <a:xfrm>
                  <a:off x="876240" y="1622880"/>
                  <a:ext cx="234720" cy="342000"/>
                  <a:chOff x="876240" y="1622880"/>
                  <a:chExt cx="234720" cy="34200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876240" y="184968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>
                    <a:off x="1004400" y="162288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1115280" y="1396440"/>
                  <a:ext cx="234720" cy="342000"/>
                  <a:chOff x="1115280" y="1396440"/>
                  <a:chExt cx="234720" cy="3420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>
                    <a:off x="1115280" y="162324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flipH="1">
                    <a:off x="1243440" y="139644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1350000" y="1161360"/>
                  <a:ext cx="234720" cy="342000"/>
                  <a:chOff x="1350000" y="1161360"/>
                  <a:chExt cx="234720" cy="3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>
                    <a:off x="1350000" y="138816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>
                    <a:off x="1478160" y="116136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1589400" y="934920"/>
                  <a:ext cx="234720" cy="342000"/>
                  <a:chOff x="1589400" y="934920"/>
                  <a:chExt cx="234720" cy="34200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>
                    <a:off x="1589400" y="1161720"/>
                    <a:ext cx="123840" cy="111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flipH="1">
                    <a:off x="1717560" y="934920"/>
                    <a:ext cx="106560" cy="342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7" name=""/>
            <p:cNvGrpSpPr/>
            <p:nvPr/>
          </p:nvGrpSpPr>
          <p:grpSpPr>
            <a:xfrm>
              <a:off x="1000080" y="741240"/>
              <a:ext cx="3246480" cy="995400"/>
              <a:chOff x="1000080" y="741240"/>
              <a:chExt cx="3246480" cy="995400"/>
            </a:xfrm>
          </p:grpSpPr>
          <p:grpSp>
            <p:nvGrpSpPr>
              <p:cNvPr id="2478" name=""/>
              <p:cNvGrpSpPr/>
              <p:nvPr/>
            </p:nvGrpSpPr>
            <p:grpSpPr>
              <a:xfrm>
                <a:off x="2033280" y="741240"/>
                <a:ext cx="1194480" cy="929880"/>
                <a:chOff x="2033280" y="741240"/>
                <a:chExt cx="1194480" cy="929880"/>
              </a:xfrm>
            </p:grpSpPr>
            <p:sp>
              <p:nvSpPr>
                <p:cNvPr id="2479" name=""/>
                <p:cNvSpPr/>
                <p:nvPr/>
              </p:nvSpPr>
              <p:spPr>
                <a:xfrm flipH="1" flipV="1">
                  <a:off x="2383560" y="14320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>
                  <a:off x="2144520" y="15789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V="1">
                  <a:off x="2511000" y="9712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2511000" y="11156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V="1">
                  <a:off x="2243160" y="120168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243160" y="1346040"/>
                  <a:ext cx="111240" cy="8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V="1">
                  <a:off x="2750040" y="741240"/>
                  <a:ext cx="34992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750040" y="885240"/>
                  <a:ext cx="11088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V="1">
                  <a:off x="2033280" y="1441440"/>
                  <a:ext cx="350280" cy="144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033280" y="1585440"/>
                  <a:ext cx="111240" cy="85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 flipV="1">
                  <a:off x="2869560" y="9712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>
                  <a:off x="2630520" y="11181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flipV="1">
                  <a:off x="2622240" y="120168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>
                  <a:off x="2383560" y="134856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 flipV="1">
                  <a:off x="3100320" y="741240"/>
                  <a:ext cx="127440" cy="146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>
                  <a:off x="2861280" y="888120"/>
                  <a:ext cx="366480" cy="83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5" name=""/>
              <p:cNvGrpSpPr/>
              <p:nvPr/>
            </p:nvGrpSpPr>
            <p:grpSpPr>
              <a:xfrm>
                <a:off x="1000080" y="889560"/>
                <a:ext cx="3246480" cy="847080"/>
                <a:chOff x="1000080" y="889560"/>
                <a:chExt cx="3246480" cy="847080"/>
              </a:xfrm>
            </p:grpSpPr>
            <p:sp>
              <p:nvSpPr>
                <p:cNvPr id="2496" name=""/>
                <p:cNvSpPr/>
                <p:nvPr/>
              </p:nvSpPr>
              <p:spPr>
                <a:xfrm flipH="1" flipV="1">
                  <a:off x="2511360" y="15832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V="1">
                  <a:off x="1498680" y="111960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V="1">
                  <a:off x="1240920" y="1350000"/>
                  <a:ext cx="100620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V="1">
                  <a:off x="1737720" y="889560"/>
                  <a:ext cx="101664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1000080" y="1589760"/>
                  <a:ext cx="1037160" cy="145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 flipV="1">
                  <a:off x="2997720" y="11224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flipV="1">
                  <a:off x="2750400" y="13528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flipV="1">
                  <a:off x="3228480" y="892080"/>
                  <a:ext cx="1018080" cy="153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03:07Z</dcterms:created>
  <dc:creator>Jean-Pierre Muzeau et Annelise Chopin</dc:creator>
  <dc:description/>
  <dc:language>en-US</dc:language>
  <cp:lastModifiedBy>Muzeau Jean-Pierre</cp:lastModifiedBy>
  <dcterms:modified xsi:type="dcterms:W3CDTF">2003-10-23T07:17:21Z</dcterms:modified>
  <cp:revision>59</cp:revision>
  <dc:subject/>
  <dc:title>Leçon sur les tendeurs de lisse</dc:title>
</cp:coreProperties>
</file>