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3.wmf" ContentType="image/x-wmf"/>
  <Override PartName="/ppt/media/image5.png" ContentType="image/png"/>
  <Override PartName="/ppt/media/image15.wmf" ContentType="image/x-wmf"/>
  <Override PartName="/ppt/media/image7.gif" ContentType="image/gif"/>
  <Override PartName="/ppt/media/image14.png" ContentType="image/png"/>
  <Override PartName="/ppt/media/image1.wmf" ContentType="image/x-wmf"/>
  <Override PartName="/ppt/media/image2.jpeg" ContentType="image/jpeg"/>
  <Override PartName="/ppt/media/image3.gif" ContentType="image/gif"/>
  <Override PartName="/ppt/media/image10.png" ContentType="image/png"/>
  <Override PartName="/ppt/media/image6.gif" ContentType="image/gif"/>
  <Override PartName="/ppt/media/image8.gif" ContentType="image/gif"/>
  <Override PartName="/ppt/media/image9.gif" ContentType="image/gif"/>
  <Override PartName="/ppt/media/image11.png" ContentType="image/png"/>
  <Override PartName="/ppt/media/image4.png" ContentType="image/png"/>
  <Override PartName="/ppt/media/image1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Panne faîtière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Steel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C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" Target="slide24.xml"/><Relationship Id="rId5" Type="http://schemas.openxmlformats.org/officeDocument/2006/relationships/slide" Target="slide25.xml"/><Relationship Id="rId6" Type="http://schemas.openxmlformats.org/officeDocument/2006/relationships/slide" Target="slide26.xml"/><Relationship Id="rId7" Type="http://schemas.openxmlformats.org/officeDocument/2006/relationships/slide" Target="slide27.xml"/><Relationship Id="rId8" Type="http://schemas.openxmlformats.org/officeDocument/2006/relationships/slide" Target="slide28.xml"/><Relationship Id="rId9" Type="http://schemas.openxmlformats.org/officeDocument/2006/relationships/slide" Target="slide19.xml"/><Relationship Id="rId10" Type="http://schemas.openxmlformats.org/officeDocument/2006/relationships/slide" Target="slide3.xml"/><Relationship Id="rId11" Type="http://schemas.openxmlformats.org/officeDocument/2006/relationships/slide" Target="slide29.xml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" Target="slide24.xml"/><Relationship Id="rId5" Type="http://schemas.openxmlformats.org/officeDocument/2006/relationships/slide" Target="slide25.xml"/><Relationship Id="rId6" Type="http://schemas.openxmlformats.org/officeDocument/2006/relationships/slide" Target="slide26.xml"/><Relationship Id="rId7" Type="http://schemas.openxmlformats.org/officeDocument/2006/relationships/slide" Target="slide27.xml"/><Relationship Id="rId8" Type="http://schemas.openxmlformats.org/officeDocument/2006/relationships/slide" Target="slide28.xml"/><Relationship Id="rId9" Type="http://schemas.openxmlformats.org/officeDocument/2006/relationships/slide" Target="slide19.xml"/><Relationship Id="rId10" Type="http://schemas.openxmlformats.org/officeDocument/2006/relationships/slide" Target="slide29.xml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" Target="slide24.xml"/><Relationship Id="rId5" Type="http://schemas.openxmlformats.org/officeDocument/2006/relationships/slide" Target="slide25.xml"/><Relationship Id="rId6" Type="http://schemas.openxmlformats.org/officeDocument/2006/relationships/slide" Target="slide26.xml"/><Relationship Id="rId7" Type="http://schemas.openxmlformats.org/officeDocument/2006/relationships/slide" Target="slide27.xml"/><Relationship Id="rId8" Type="http://schemas.openxmlformats.org/officeDocument/2006/relationships/slide" Target="slide28.xml"/><Relationship Id="rId9" Type="http://schemas.openxmlformats.org/officeDocument/2006/relationships/slide" Target="slide19.xml"/><Relationship Id="rId10" Type="http://schemas.openxmlformats.org/officeDocument/2006/relationships/slide" Target="slide5.xml"/><Relationship Id="rId11" Type="http://schemas.openxmlformats.org/officeDocument/2006/relationships/slide" Target="slide29.xml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slide" Target="slide23.xml"/><Relationship Id="rId4" Type="http://schemas.openxmlformats.org/officeDocument/2006/relationships/slide" Target="slide24.xml"/><Relationship Id="rId5" Type="http://schemas.openxmlformats.org/officeDocument/2006/relationships/slide" Target="slide25.xml"/><Relationship Id="rId6" Type="http://schemas.openxmlformats.org/officeDocument/2006/relationships/slide" Target="slide26.xml"/><Relationship Id="rId7" Type="http://schemas.openxmlformats.org/officeDocument/2006/relationships/slide" Target="slide27.xml"/><Relationship Id="rId8" Type="http://schemas.openxmlformats.org/officeDocument/2006/relationships/slide" Target="slide28.xml"/><Relationship Id="rId9" Type="http://schemas.openxmlformats.org/officeDocument/2006/relationships/slide" Target="slide19.xml"/><Relationship Id="rId10" Type="http://schemas.openxmlformats.org/officeDocument/2006/relationships/slide" Target="slide20.xml"/><Relationship Id="rId11" Type="http://schemas.openxmlformats.org/officeDocument/2006/relationships/slide" Target="slide7.xml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3438360"/>
            <a:ext cx="9144000" cy="6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PANNE FAÎTI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" name=""/>
          <p:cNvGraphicFramePr/>
          <p:nvPr/>
        </p:nvGraphicFramePr>
        <p:xfrm>
          <a:off x="3751200" y="4998960"/>
          <a:ext cx="1559160" cy="8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51200" y="4998960"/>
                    <a:ext cx="1559160" cy="817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40" name=""/>
          <p:cNvSpPr/>
          <p:nvPr/>
        </p:nvSpPr>
        <p:spPr>
          <a:xfrm>
            <a:off x="0" y="6651720"/>
            <a:ext cx="9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Scénario </a:t>
            </a: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: Jean-Pierre Muzeau</a:t>
            </a:r>
            <a:r>
              <a:rPr b="1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                                                     Mise sous forme PowerPoint </a:t>
            </a: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: Cédric Brassier  (CUST - Promo 2003) et Jean-Pierre Muzea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8659800" y="61228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9200" y="615636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Dé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784600" y="987480"/>
            <a:ext cx="3574800" cy="2230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6350040" y="0"/>
            <a:ext cx="279396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fr-FR" sz="3600" spc="-1" strike="noStrike">
                <a:solidFill>
                  <a:srgbClr val="3333cc"/>
                </a:solidFill>
                <a:latin typeface="Comic Sans MS"/>
              </a:rPr>
              <a:t>Steel</a:t>
            </a:r>
            <a:r>
              <a:rPr b="0" lang="fr-FR" sz="4800" spc="-1" strike="noStrike" baseline="-25000">
                <a:solidFill>
                  <a:srgbClr val="3333cc"/>
                </a:solidFill>
                <a:latin typeface="Comic Sans MS"/>
              </a:rPr>
              <a:t>CU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0" y="6566040"/>
            <a:ext cx="914400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"/>
          <p:cNvSpPr/>
          <p:nvPr/>
        </p:nvSpPr>
        <p:spPr>
          <a:xfrm>
            <a:off x="1149480" y="38736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e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95468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983120" y="340848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4954680" y="39639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>
            <a:hlinkClick r:id="" action="ppaction://hlinkshowjump?jump=nextslide"/>
          </p:cNvPr>
          <p:cNvSpPr/>
          <p:nvPr/>
        </p:nvSpPr>
        <p:spPr>
          <a:xfrm>
            <a:off x="4983120" y="40291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590400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932440" y="340848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5904000" y="39639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5932440" y="40291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495468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4983120" y="27874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590400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5932440" y="27874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1149480" y="3240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163440" y="75708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s sont, en général, les catégories d’actions reprises par la panne faîtiè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1149480" y="2637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Équilibre du por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694400" y="442440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"/>
          <p:cNvSpPr/>
          <p:nvPr/>
        </p:nvSpPr>
        <p:spPr>
          <a:xfrm>
            <a:off x="1149480" y="451476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harges perma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1149480" y="38736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e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954680" y="39639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983120" y="402912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954680" y="45864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>
            <a:hlinkClick r:id="" action="ppaction://hlinkshowjump?jump=nextslide"/>
          </p:cNvPr>
          <p:cNvSpPr/>
          <p:nvPr/>
        </p:nvSpPr>
        <p:spPr>
          <a:xfrm>
            <a:off x="4983120" y="465120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5904000" y="39639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5932440" y="402912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5904000" y="45864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5932440" y="465120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495468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4983120" y="340848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90400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932440" y="340848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495468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4983120" y="27874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90400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5932440" y="27874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1149480" y="3240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63440" y="75708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s sont, en général, les catégories d’actions reprises par la panne faîtiè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149480" y="2637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Équilibre du por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4694400" y="504684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"/>
          <p:cNvSpPr/>
          <p:nvPr/>
        </p:nvSpPr>
        <p:spPr>
          <a:xfrm>
            <a:off x="1149480" y="451476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harges perma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1149480" y="38736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e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4954680" y="45831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4983120" y="464832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954680" y="39639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4983120" y="402912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1149480" y="3240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440000" y="757080"/>
            <a:ext cx="63849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tégories d’actions reprises par la panne faîtièr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495468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4983120" y="340848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9" name=""/>
          <p:cNvGrpSpPr/>
          <p:nvPr/>
        </p:nvGrpSpPr>
        <p:grpSpPr>
          <a:xfrm>
            <a:off x="279360" y="1432080"/>
            <a:ext cx="1423440" cy="2267280"/>
            <a:chOff x="279360" y="1432080"/>
            <a:chExt cx="1423440" cy="2267280"/>
          </a:xfrm>
        </p:grpSpPr>
        <p:grpSp>
          <p:nvGrpSpPr>
            <p:cNvPr id="1690" name=""/>
            <p:cNvGrpSpPr/>
            <p:nvPr/>
          </p:nvGrpSpPr>
          <p:grpSpPr>
            <a:xfrm>
              <a:off x="810720" y="1434600"/>
              <a:ext cx="865440" cy="948600"/>
              <a:chOff x="810720" y="1434600"/>
              <a:chExt cx="865440" cy="948600"/>
            </a:xfrm>
          </p:grpSpPr>
          <p:sp>
            <p:nvSpPr>
              <p:cNvPr id="1691" name=""/>
              <p:cNvSpPr/>
              <p:nvPr/>
            </p:nvSpPr>
            <p:spPr>
              <a:xfrm>
                <a:off x="1325160" y="1504800"/>
                <a:ext cx="231120" cy="513720"/>
              </a:xfrm>
              <a:custGeom>
                <a:avLst/>
                <a:gdLst/>
                <a:ahLst/>
                <a:rect l="l" t="t" r="r" b="b"/>
                <a:pathLst>
                  <a:path w="242" h="548">
                    <a:moveTo>
                      <a:pt x="0" y="149"/>
                    </a:moveTo>
                    <a:lnTo>
                      <a:pt x="77" y="41"/>
                    </a:lnTo>
                    <a:lnTo>
                      <a:pt x="143" y="2"/>
                    </a:lnTo>
                    <a:lnTo>
                      <a:pt x="185" y="0"/>
                    </a:lnTo>
                    <a:lnTo>
                      <a:pt x="224" y="88"/>
                    </a:lnTo>
                    <a:lnTo>
                      <a:pt x="242" y="227"/>
                    </a:lnTo>
                    <a:lnTo>
                      <a:pt x="239" y="346"/>
                    </a:lnTo>
                    <a:lnTo>
                      <a:pt x="216" y="454"/>
                    </a:lnTo>
                    <a:lnTo>
                      <a:pt x="145" y="548"/>
                    </a:lnTo>
                    <a:lnTo>
                      <a:pt x="128" y="479"/>
                    </a:lnTo>
                    <a:lnTo>
                      <a:pt x="176" y="424"/>
                    </a:lnTo>
                    <a:lnTo>
                      <a:pt x="193" y="316"/>
                    </a:lnTo>
                    <a:lnTo>
                      <a:pt x="199" y="257"/>
                    </a:lnTo>
                    <a:lnTo>
                      <a:pt x="174" y="119"/>
                    </a:lnTo>
                    <a:lnTo>
                      <a:pt x="147" y="53"/>
                    </a:lnTo>
                    <a:lnTo>
                      <a:pt x="89" y="100"/>
                    </a:lnTo>
                    <a:lnTo>
                      <a:pt x="23" y="177"/>
                    </a:lnTo>
                    <a:lnTo>
                      <a:pt x="0" y="1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005e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810720" y="1827000"/>
                <a:ext cx="491760" cy="304560"/>
              </a:xfrm>
              <a:custGeom>
                <a:avLst/>
                <a:gdLst/>
                <a:ahLst/>
                <a:rect l="l" t="t" r="r" b="b"/>
                <a:pathLst>
                  <a:path w="514" h="326">
                    <a:moveTo>
                      <a:pt x="213" y="0"/>
                    </a:moveTo>
                    <a:lnTo>
                      <a:pt x="84" y="18"/>
                    </a:lnTo>
                    <a:lnTo>
                      <a:pt x="19" y="59"/>
                    </a:lnTo>
                    <a:lnTo>
                      <a:pt x="0" y="98"/>
                    </a:lnTo>
                    <a:lnTo>
                      <a:pt x="61" y="168"/>
                    </a:lnTo>
                    <a:lnTo>
                      <a:pt x="180" y="250"/>
                    </a:lnTo>
                    <a:lnTo>
                      <a:pt x="286" y="300"/>
                    </a:lnTo>
                    <a:lnTo>
                      <a:pt x="400" y="326"/>
                    </a:lnTo>
                    <a:lnTo>
                      <a:pt x="514" y="303"/>
                    </a:lnTo>
                    <a:lnTo>
                      <a:pt x="456" y="258"/>
                    </a:lnTo>
                    <a:lnTo>
                      <a:pt x="383" y="275"/>
                    </a:lnTo>
                    <a:lnTo>
                      <a:pt x="281" y="242"/>
                    </a:lnTo>
                    <a:lnTo>
                      <a:pt x="228" y="222"/>
                    </a:lnTo>
                    <a:lnTo>
                      <a:pt x="111" y="138"/>
                    </a:lnTo>
                    <a:lnTo>
                      <a:pt x="61" y="82"/>
                    </a:lnTo>
                    <a:lnTo>
                      <a:pt x="131" y="57"/>
                    </a:lnTo>
                    <a:lnTo>
                      <a:pt x="225" y="31"/>
                    </a:lnTo>
                    <a:lnTo>
                      <a:pt x="2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005e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947880" y="1434600"/>
                <a:ext cx="728280" cy="948600"/>
              </a:xfrm>
              <a:custGeom>
                <a:avLst/>
                <a:gdLst/>
                <a:ahLst/>
                <a:rect l="l" t="t" r="r" b="b"/>
                <a:pathLst>
                  <a:path w="765" h="1008">
                    <a:moveTo>
                      <a:pt x="114" y="212"/>
                    </a:moveTo>
                    <a:lnTo>
                      <a:pt x="77" y="179"/>
                    </a:lnTo>
                    <a:lnTo>
                      <a:pt x="34" y="135"/>
                    </a:lnTo>
                    <a:lnTo>
                      <a:pt x="6" y="94"/>
                    </a:lnTo>
                    <a:lnTo>
                      <a:pt x="3" y="38"/>
                    </a:lnTo>
                    <a:lnTo>
                      <a:pt x="16" y="14"/>
                    </a:lnTo>
                    <a:lnTo>
                      <a:pt x="39" y="0"/>
                    </a:lnTo>
                    <a:lnTo>
                      <a:pt x="61" y="14"/>
                    </a:lnTo>
                    <a:lnTo>
                      <a:pt x="100" y="38"/>
                    </a:lnTo>
                    <a:lnTo>
                      <a:pt x="130" y="94"/>
                    </a:lnTo>
                    <a:lnTo>
                      <a:pt x="150" y="165"/>
                    </a:lnTo>
                    <a:lnTo>
                      <a:pt x="163" y="190"/>
                    </a:lnTo>
                    <a:lnTo>
                      <a:pt x="235" y="179"/>
                    </a:lnTo>
                    <a:lnTo>
                      <a:pt x="303" y="168"/>
                    </a:lnTo>
                    <a:lnTo>
                      <a:pt x="364" y="154"/>
                    </a:lnTo>
                    <a:lnTo>
                      <a:pt x="409" y="170"/>
                    </a:lnTo>
                    <a:lnTo>
                      <a:pt x="439" y="220"/>
                    </a:lnTo>
                    <a:lnTo>
                      <a:pt x="486" y="305"/>
                    </a:lnTo>
                    <a:lnTo>
                      <a:pt x="519" y="393"/>
                    </a:lnTo>
                    <a:lnTo>
                      <a:pt x="545" y="484"/>
                    </a:lnTo>
                    <a:lnTo>
                      <a:pt x="566" y="530"/>
                    </a:lnTo>
                    <a:lnTo>
                      <a:pt x="582" y="593"/>
                    </a:lnTo>
                    <a:lnTo>
                      <a:pt x="580" y="692"/>
                    </a:lnTo>
                    <a:lnTo>
                      <a:pt x="578" y="783"/>
                    </a:lnTo>
                    <a:lnTo>
                      <a:pt x="763" y="775"/>
                    </a:lnTo>
                    <a:lnTo>
                      <a:pt x="765" y="830"/>
                    </a:lnTo>
                    <a:lnTo>
                      <a:pt x="708" y="887"/>
                    </a:lnTo>
                    <a:lnTo>
                      <a:pt x="608" y="947"/>
                    </a:lnTo>
                    <a:lnTo>
                      <a:pt x="503" y="986"/>
                    </a:lnTo>
                    <a:lnTo>
                      <a:pt x="442" y="1008"/>
                    </a:lnTo>
                    <a:lnTo>
                      <a:pt x="411" y="986"/>
                    </a:lnTo>
                    <a:lnTo>
                      <a:pt x="448" y="904"/>
                    </a:lnTo>
                    <a:lnTo>
                      <a:pt x="498" y="822"/>
                    </a:lnTo>
                    <a:lnTo>
                      <a:pt x="415" y="794"/>
                    </a:lnTo>
                    <a:lnTo>
                      <a:pt x="317" y="739"/>
                    </a:lnTo>
                    <a:lnTo>
                      <a:pt x="235" y="684"/>
                    </a:lnTo>
                    <a:lnTo>
                      <a:pt x="146" y="593"/>
                    </a:lnTo>
                    <a:lnTo>
                      <a:pt x="75" y="524"/>
                    </a:lnTo>
                    <a:lnTo>
                      <a:pt x="0" y="388"/>
                    </a:lnTo>
                    <a:lnTo>
                      <a:pt x="30" y="330"/>
                    </a:lnTo>
                    <a:lnTo>
                      <a:pt x="114" y="2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cc99"/>
                  </a:gs>
                  <a:gs pos="100000">
                    <a:srgbClr val="005e4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4" name=""/>
            <p:cNvSpPr/>
            <p:nvPr/>
          </p:nvSpPr>
          <p:spPr>
            <a:xfrm>
              <a:off x="1100160" y="1539000"/>
              <a:ext cx="420120" cy="403920"/>
            </a:xfrm>
            <a:custGeom>
              <a:avLst/>
              <a:gdLst/>
              <a:ahLst/>
              <a:rect l="l" t="t" r="r" b="b"/>
              <a:pathLst>
                <a:path w="441" h="430">
                  <a:moveTo>
                    <a:pt x="193" y="35"/>
                  </a:moveTo>
                  <a:lnTo>
                    <a:pt x="120" y="50"/>
                  </a:lnTo>
                  <a:lnTo>
                    <a:pt x="56" y="58"/>
                  </a:lnTo>
                  <a:lnTo>
                    <a:pt x="0" y="64"/>
                  </a:lnTo>
                  <a:lnTo>
                    <a:pt x="0" y="83"/>
                  </a:lnTo>
                  <a:lnTo>
                    <a:pt x="31" y="86"/>
                  </a:lnTo>
                  <a:lnTo>
                    <a:pt x="92" y="74"/>
                  </a:lnTo>
                  <a:lnTo>
                    <a:pt x="167" y="55"/>
                  </a:lnTo>
                  <a:lnTo>
                    <a:pt x="228" y="55"/>
                  </a:lnTo>
                  <a:lnTo>
                    <a:pt x="246" y="78"/>
                  </a:lnTo>
                  <a:lnTo>
                    <a:pt x="285" y="131"/>
                  </a:lnTo>
                  <a:lnTo>
                    <a:pt x="324" y="205"/>
                  </a:lnTo>
                  <a:lnTo>
                    <a:pt x="368" y="319"/>
                  </a:lnTo>
                  <a:lnTo>
                    <a:pt x="394" y="411"/>
                  </a:lnTo>
                  <a:lnTo>
                    <a:pt x="402" y="430"/>
                  </a:lnTo>
                  <a:lnTo>
                    <a:pt x="415" y="411"/>
                  </a:lnTo>
                  <a:lnTo>
                    <a:pt x="433" y="317"/>
                  </a:lnTo>
                  <a:lnTo>
                    <a:pt x="441" y="241"/>
                  </a:lnTo>
                  <a:lnTo>
                    <a:pt x="427" y="144"/>
                  </a:lnTo>
                  <a:lnTo>
                    <a:pt x="415" y="60"/>
                  </a:lnTo>
                  <a:lnTo>
                    <a:pt x="394" y="8"/>
                  </a:lnTo>
                  <a:lnTo>
                    <a:pt x="384" y="0"/>
                  </a:lnTo>
                  <a:lnTo>
                    <a:pt x="332" y="39"/>
                  </a:lnTo>
                  <a:lnTo>
                    <a:pt x="298" y="74"/>
                  </a:lnTo>
                  <a:lnTo>
                    <a:pt x="281" y="111"/>
                  </a:lnTo>
                  <a:lnTo>
                    <a:pt x="310" y="86"/>
                  </a:lnTo>
                  <a:lnTo>
                    <a:pt x="360" y="47"/>
                  </a:lnTo>
                  <a:lnTo>
                    <a:pt x="384" y="33"/>
                  </a:lnTo>
                  <a:lnTo>
                    <a:pt x="404" y="94"/>
                  </a:lnTo>
                  <a:lnTo>
                    <a:pt x="419" y="164"/>
                  </a:lnTo>
                  <a:lnTo>
                    <a:pt x="423" y="227"/>
                  </a:lnTo>
                  <a:lnTo>
                    <a:pt x="423" y="280"/>
                  </a:lnTo>
                  <a:lnTo>
                    <a:pt x="413" y="333"/>
                  </a:lnTo>
                  <a:lnTo>
                    <a:pt x="402" y="391"/>
                  </a:lnTo>
                  <a:lnTo>
                    <a:pt x="382" y="311"/>
                  </a:lnTo>
                  <a:lnTo>
                    <a:pt x="351" y="223"/>
                  </a:lnTo>
                  <a:lnTo>
                    <a:pt x="304" y="133"/>
                  </a:lnTo>
                  <a:lnTo>
                    <a:pt x="257" y="55"/>
                  </a:lnTo>
                  <a:lnTo>
                    <a:pt x="246" y="39"/>
                  </a:lnTo>
                  <a:lnTo>
                    <a:pt x="19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343160" y="1485720"/>
              <a:ext cx="359640" cy="883800"/>
            </a:xfrm>
            <a:custGeom>
              <a:avLst/>
              <a:gdLst/>
              <a:ahLst/>
              <a:rect l="l" t="t" r="r" b="b"/>
              <a:pathLst>
                <a:path w="377" h="938">
                  <a:moveTo>
                    <a:pt x="13" y="127"/>
                  </a:moveTo>
                  <a:lnTo>
                    <a:pt x="52" y="75"/>
                  </a:lnTo>
                  <a:lnTo>
                    <a:pt x="111" y="42"/>
                  </a:lnTo>
                  <a:lnTo>
                    <a:pt x="153" y="30"/>
                  </a:lnTo>
                  <a:lnTo>
                    <a:pt x="173" y="64"/>
                  </a:lnTo>
                  <a:lnTo>
                    <a:pt x="192" y="127"/>
                  </a:lnTo>
                  <a:lnTo>
                    <a:pt x="210" y="206"/>
                  </a:lnTo>
                  <a:lnTo>
                    <a:pt x="212" y="279"/>
                  </a:lnTo>
                  <a:lnTo>
                    <a:pt x="204" y="350"/>
                  </a:lnTo>
                  <a:lnTo>
                    <a:pt x="198" y="407"/>
                  </a:lnTo>
                  <a:lnTo>
                    <a:pt x="171" y="492"/>
                  </a:lnTo>
                  <a:lnTo>
                    <a:pt x="151" y="506"/>
                  </a:lnTo>
                  <a:lnTo>
                    <a:pt x="142" y="537"/>
                  </a:lnTo>
                  <a:lnTo>
                    <a:pt x="153" y="553"/>
                  </a:lnTo>
                  <a:lnTo>
                    <a:pt x="161" y="628"/>
                  </a:lnTo>
                  <a:lnTo>
                    <a:pt x="151" y="691"/>
                  </a:lnTo>
                  <a:lnTo>
                    <a:pt x="151" y="715"/>
                  </a:lnTo>
                  <a:lnTo>
                    <a:pt x="161" y="735"/>
                  </a:lnTo>
                  <a:lnTo>
                    <a:pt x="307" y="727"/>
                  </a:lnTo>
                  <a:lnTo>
                    <a:pt x="327" y="729"/>
                  </a:lnTo>
                  <a:lnTo>
                    <a:pt x="338" y="756"/>
                  </a:lnTo>
                  <a:lnTo>
                    <a:pt x="299" y="809"/>
                  </a:lnTo>
                  <a:lnTo>
                    <a:pt x="206" y="875"/>
                  </a:lnTo>
                  <a:lnTo>
                    <a:pt x="126" y="910"/>
                  </a:lnTo>
                  <a:lnTo>
                    <a:pt x="70" y="927"/>
                  </a:lnTo>
                  <a:lnTo>
                    <a:pt x="78" y="938"/>
                  </a:lnTo>
                  <a:lnTo>
                    <a:pt x="165" y="910"/>
                  </a:lnTo>
                  <a:lnTo>
                    <a:pt x="237" y="875"/>
                  </a:lnTo>
                  <a:lnTo>
                    <a:pt x="307" y="831"/>
                  </a:lnTo>
                  <a:lnTo>
                    <a:pt x="364" y="768"/>
                  </a:lnTo>
                  <a:lnTo>
                    <a:pt x="377" y="723"/>
                  </a:lnTo>
                  <a:lnTo>
                    <a:pt x="360" y="707"/>
                  </a:lnTo>
                  <a:lnTo>
                    <a:pt x="335" y="699"/>
                  </a:lnTo>
                  <a:lnTo>
                    <a:pt x="181" y="713"/>
                  </a:lnTo>
                  <a:lnTo>
                    <a:pt x="171" y="705"/>
                  </a:lnTo>
                  <a:lnTo>
                    <a:pt x="179" y="650"/>
                  </a:lnTo>
                  <a:lnTo>
                    <a:pt x="176" y="597"/>
                  </a:lnTo>
                  <a:lnTo>
                    <a:pt x="173" y="542"/>
                  </a:lnTo>
                  <a:lnTo>
                    <a:pt x="165" y="517"/>
                  </a:lnTo>
                  <a:lnTo>
                    <a:pt x="204" y="462"/>
                  </a:lnTo>
                  <a:lnTo>
                    <a:pt x="223" y="383"/>
                  </a:lnTo>
                  <a:lnTo>
                    <a:pt x="229" y="314"/>
                  </a:lnTo>
                  <a:lnTo>
                    <a:pt x="226" y="234"/>
                  </a:lnTo>
                  <a:lnTo>
                    <a:pt x="215" y="162"/>
                  </a:lnTo>
                  <a:lnTo>
                    <a:pt x="200" y="91"/>
                  </a:lnTo>
                  <a:lnTo>
                    <a:pt x="176" y="26"/>
                  </a:lnTo>
                  <a:lnTo>
                    <a:pt x="161" y="0"/>
                  </a:lnTo>
                  <a:lnTo>
                    <a:pt x="132" y="8"/>
                  </a:lnTo>
                  <a:lnTo>
                    <a:pt x="72" y="42"/>
                  </a:lnTo>
                  <a:lnTo>
                    <a:pt x="42" y="64"/>
                  </a:lnTo>
                  <a:lnTo>
                    <a:pt x="0" y="129"/>
                  </a:lnTo>
                  <a:lnTo>
                    <a:pt x="13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804960" y="1827000"/>
              <a:ext cx="632160" cy="570600"/>
            </a:xfrm>
            <a:custGeom>
              <a:avLst/>
              <a:gdLst/>
              <a:ahLst/>
              <a:rect l="l" t="t" r="r" b="b"/>
              <a:pathLst>
                <a:path w="662" h="606">
                  <a:moveTo>
                    <a:pt x="179" y="14"/>
                  </a:moveTo>
                  <a:lnTo>
                    <a:pt x="113" y="26"/>
                  </a:lnTo>
                  <a:lnTo>
                    <a:pt x="55" y="59"/>
                  </a:lnTo>
                  <a:lnTo>
                    <a:pt x="27" y="91"/>
                  </a:lnTo>
                  <a:lnTo>
                    <a:pt x="49" y="124"/>
                  </a:lnTo>
                  <a:lnTo>
                    <a:pt x="100" y="172"/>
                  </a:lnTo>
                  <a:lnTo>
                    <a:pt x="163" y="219"/>
                  </a:lnTo>
                  <a:lnTo>
                    <a:pt x="226" y="258"/>
                  </a:lnTo>
                  <a:lnTo>
                    <a:pt x="295" y="280"/>
                  </a:lnTo>
                  <a:lnTo>
                    <a:pt x="350" y="299"/>
                  </a:lnTo>
                  <a:lnTo>
                    <a:pt x="442" y="311"/>
                  </a:lnTo>
                  <a:lnTo>
                    <a:pt x="458" y="299"/>
                  </a:lnTo>
                  <a:lnTo>
                    <a:pt x="489" y="307"/>
                  </a:lnTo>
                  <a:lnTo>
                    <a:pt x="503" y="327"/>
                  </a:lnTo>
                  <a:lnTo>
                    <a:pt x="566" y="362"/>
                  </a:lnTo>
                  <a:lnTo>
                    <a:pt x="629" y="382"/>
                  </a:lnTo>
                  <a:lnTo>
                    <a:pt x="651" y="390"/>
                  </a:lnTo>
                  <a:lnTo>
                    <a:pt x="662" y="409"/>
                  </a:lnTo>
                  <a:lnTo>
                    <a:pt x="590" y="537"/>
                  </a:lnTo>
                  <a:lnTo>
                    <a:pt x="585" y="556"/>
                  </a:lnTo>
                  <a:lnTo>
                    <a:pt x="607" y="576"/>
                  </a:lnTo>
                  <a:lnTo>
                    <a:pt x="601" y="606"/>
                  </a:lnTo>
                  <a:lnTo>
                    <a:pt x="558" y="594"/>
                  </a:lnTo>
                  <a:lnTo>
                    <a:pt x="549" y="576"/>
                  </a:lnTo>
                  <a:lnTo>
                    <a:pt x="552" y="551"/>
                  </a:lnTo>
                  <a:lnTo>
                    <a:pt x="635" y="417"/>
                  </a:lnTo>
                  <a:lnTo>
                    <a:pt x="629" y="404"/>
                  </a:lnTo>
                  <a:lnTo>
                    <a:pt x="576" y="388"/>
                  </a:lnTo>
                  <a:lnTo>
                    <a:pt x="530" y="362"/>
                  </a:lnTo>
                  <a:lnTo>
                    <a:pt x="483" y="338"/>
                  </a:lnTo>
                  <a:lnTo>
                    <a:pt x="466" y="319"/>
                  </a:lnTo>
                  <a:lnTo>
                    <a:pt x="395" y="327"/>
                  </a:lnTo>
                  <a:lnTo>
                    <a:pt x="314" y="313"/>
                  </a:lnTo>
                  <a:lnTo>
                    <a:pt x="251" y="288"/>
                  </a:lnTo>
                  <a:lnTo>
                    <a:pt x="182" y="250"/>
                  </a:lnTo>
                  <a:lnTo>
                    <a:pt x="122" y="207"/>
                  </a:lnTo>
                  <a:lnTo>
                    <a:pt x="63" y="164"/>
                  </a:lnTo>
                  <a:lnTo>
                    <a:pt x="16" y="116"/>
                  </a:lnTo>
                  <a:lnTo>
                    <a:pt x="0" y="89"/>
                  </a:lnTo>
                  <a:lnTo>
                    <a:pt x="16" y="64"/>
                  </a:lnTo>
                  <a:lnTo>
                    <a:pt x="74" y="30"/>
                  </a:lnTo>
                  <a:lnTo>
                    <a:pt x="104" y="8"/>
                  </a:lnTo>
                  <a:lnTo>
                    <a:pt x="185" y="0"/>
                  </a:lnTo>
                  <a:lnTo>
                    <a:pt x="17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848520" y="1609920"/>
              <a:ext cx="368280" cy="496800"/>
            </a:xfrm>
            <a:custGeom>
              <a:avLst/>
              <a:gdLst/>
              <a:ahLst/>
              <a:rect l="l" t="t" r="r" b="b"/>
              <a:pathLst>
                <a:path w="386" h="528">
                  <a:moveTo>
                    <a:pt x="115" y="161"/>
                  </a:moveTo>
                  <a:lnTo>
                    <a:pt x="162" y="103"/>
                  </a:lnTo>
                  <a:lnTo>
                    <a:pt x="198" y="48"/>
                  </a:lnTo>
                  <a:lnTo>
                    <a:pt x="226" y="0"/>
                  </a:lnTo>
                  <a:lnTo>
                    <a:pt x="243" y="12"/>
                  </a:lnTo>
                  <a:lnTo>
                    <a:pt x="232" y="36"/>
                  </a:lnTo>
                  <a:lnTo>
                    <a:pt x="195" y="89"/>
                  </a:lnTo>
                  <a:lnTo>
                    <a:pt x="148" y="148"/>
                  </a:lnTo>
                  <a:lnTo>
                    <a:pt x="117" y="203"/>
                  </a:lnTo>
                  <a:lnTo>
                    <a:pt x="134" y="231"/>
                  </a:lnTo>
                  <a:lnTo>
                    <a:pt x="162" y="283"/>
                  </a:lnTo>
                  <a:lnTo>
                    <a:pt x="212" y="353"/>
                  </a:lnTo>
                  <a:lnTo>
                    <a:pt x="299" y="442"/>
                  </a:lnTo>
                  <a:lnTo>
                    <a:pt x="372" y="508"/>
                  </a:lnTo>
                  <a:lnTo>
                    <a:pt x="386" y="526"/>
                  </a:lnTo>
                  <a:lnTo>
                    <a:pt x="360" y="528"/>
                  </a:lnTo>
                  <a:lnTo>
                    <a:pt x="265" y="500"/>
                  </a:lnTo>
                  <a:lnTo>
                    <a:pt x="193" y="473"/>
                  </a:lnTo>
                  <a:lnTo>
                    <a:pt x="115" y="420"/>
                  </a:lnTo>
                  <a:lnTo>
                    <a:pt x="45" y="373"/>
                  </a:lnTo>
                  <a:lnTo>
                    <a:pt x="2" y="330"/>
                  </a:lnTo>
                  <a:lnTo>
                    <a:pt x="0" y="320"/>
                  </a:lnTo>
                  <a:lnTo>
                    <a:pt x="62" y="289"/>
                  </a:lnTo>
                  <a:lnTo>
                    <a:pt x="107" y="269"/>
                  </a:lnTo>
                  <a:lnTo>
                    <a:pt x="142" y="275"/>
                  </a:lnTo>
                  <a:lnTo>
                    <a:pt x="111" y="292"/>
                  </a:lnTo>
                  <a:lnTo>
                    <a:pt x="56" y="316"/>
                  </a:lnTo>
                  <a:lnTo>
                    <a:pt x="31" y="330"/>
                  </a:lnTo>
                  <a:lnTo>
                    <a:pt x="76" y="378"/>
                  </a:lnTo>
                  <a:lnTo>
                    <a:pt x="136" y="422"/>
                  </a:lnTo>
                  <a:lnTo>
                    <a:pt x="190" y="453"/>
                  </a:lnTo>
                  <a:lnTo>
                    <a:pt x="237" y="475"/>
                  </a:lnTo>
                  <a:lnTo>
                    <a:pt x="294" y="492"/>
                  </a:lnTo>
                  <a:lnTo>
                    <a:pt x="349" y="506"/>
                  </a:lnTo>
                  <a:lnTo>
                    <a:pt x="284" y="450"/>
                  </a:lnTo>
                  <a:lnTo>
                    <a:pt x="214" y="383"/>
                  </a:lnTo>
                  <a:lnTo>
                    <a:pt x="156" y="303"/>
                  </a:lnTo>
                  <a:lnTo>
                    <a:pt x="109" y="228"/>
                  </a:lnTo>
                  <a:lnTo>
                    <a:pt x="97" y="212"/>
                  </a:lnTo>
                  <a:lnTo>
                    <a:pt x="115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939960" y="1432080"/>
              <a:ext cx="191160" cy="217080"/>
            </a:xfrm>
            <a:custGeom>
              <a:avLst/>
              <a:gdLst/>
              <a:ahLst/>
              <a:rect l="l" t="t" r="r" b="b"/>
              <a:pathLst>
                <a:path w="201" h="230">
                  <a:moveTo>
                    <a:pt x="124" y="224"/>
                  </a:moveTo>
                  <a:lnTo>
                    <a:pt x="90" y="190"/>
                  </a:lnTo>
                  <a:lnTo>
                    <a:pt x="38" y="139"/>
                  </a:lnTo>
                  <a:lnTo>
                    <a:pt x="0" y="83"/>
                  </a:lnTo>
                  <a:lnTo>
                    <a:pt x="6" y="35"/>
                  </a:lnTo>
                  <a:lnTo>
                    <a:pt x="38" y="0"/>
                  </a:lnTo>
                  <a:lnTo>
                    <a:pt x="72" y="6"/>
                  </a:lnTo>
                  <a:lnTo>
                    <a:pt x="113" y="37"/>
                  </a:lnTo>
                  <a:lnTo>
                    <a:pt x="149" y="97"/>
                  </a:lnTo>
                  <a:lnTo>
                    <a:pt x="176" y="162"/>
                  </a:lnTo>
                  <a:lnTo>
                    <a:pt x="181" y="195"/>
                  </a:lnTo>
                  <a:lnTo>
                    <a:pt x="201" y="230"/>
                  </a:lnTo>
                  <a:lnTo>
                    <a:pt x="158" y="193"/>
                  </a:lnTo>
                  <a:lnTo>
                    <a:pt x="149" y="128"/>
                  </a:lnTo>
                  <a:lnTo>
                    <a:pt x="124" y="74"/>
                  </a:lnTo>
                  <a:lnTo>
                    <a:pt x="92" y="35"/>
                  </a:lnTo>
                  <a:lnTo>
                    <a:pt x="52" y="20"/>
                  </a:lnTo>
                  <a:lnTo>
                    <a:pt x="32" y="31"/>
                  </a:lnTo>
                  <a:lnTo>
                    <a:pt x="23" y="68"/>
                  </a:lnTo>
                  <a:lnTo>
                    <a:pt x="32" y="105"/>
                  </a:lnTo>
                  <a:lnTo>
                    <a:pt x="63" y="145"/>
                  </a:lnTo>
                  <a:lnTo>
                    <a:pt x="98" y="174"/>
                  </a:lnTo>
                  <a:lnTo>
                    <a:pt x="144" y="213"/>
                  </a:lnTo>
                  <a:lnTo>
                    <a:pt x="124" y="2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954000" y="1609920"/>
              <a:ext cx="362880" cy="254160"/>
            </a:xfrm>
            <a:custGeom>
              <a:avLst/>
              <a:gdLst/>
              <a:ahLst/>
              <a:rect l="l" t="t" r="r" b="b"/>
              <a:pathLst>
                <a:path w="382" h="272">
                  <a:moveTo>
                    <a:pt x="0" y="212"/>
                  </a:moveTo>
                  <a:lnTo>
                    <a:pt x="25" y="272"/>
                  </a:lnTo>
                  <a:lnTo>
                    <a:pt x="50" y="235"/>
                  </a:lnTo>
                  <a:lnTo>
                    <a:pt x="78" y="229"/>
                  </a:lnTo>
                  <a:lnTo>
                    <a:pt x="156" y="198"/>
                  </a:lnTo>
                  <a:lnTo>
                    <a:pt x="248" y="142"/>
                  </a:lnTo>
                  <a:lnTo>
                    <a:pt x="329" y="71"/>
                  </a:lnTo>
                  <a:lnTo>
                    <a:pt x="382" y="6"/>
                  </a:lnTo>
                  <a:lnTo>
                    <a:pt x="360" y="0"/>
                  </a:lnTo>
                  <a:lnTo>
                    <a:pt x="326" y="54"/>
                  </a:lnTo>
                  <a:lnTo>
                    <a:pt x="285" y="97"/>
                  </a:lnTo>
                  <a:lnTo>
                    <a:pt x="237" y="134"/>
                  </a:lnTo>
                  <a:lnTo>
                    <a:pt x="170" y="173"/>
                  </a:lnTo>
                  <a:lnTo>
                    <a:pt x="97" y="202"/>
                  </a:lnTo>
                  <a:lnTo>
                    <a:pt x="37" y="210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0" name=""/>
            <p:cNvGrpSpPr/>
            <p:nvPr/>
          </p:nvGrpSpPr>
          <p:grpSpPr>
            <a:xfrm>
              <a:off x="279360" y="1864080"/>
              <a:ext cx="908280" cy="1835280"/>
              <a:chOff x="279360" y="1864080"/>
              <a:chExt cx="908280" cy="1835280"/>
            </a:xfrm>
          </p:grpSpPr>
          <p:sp>
            <p:nvSpPr>
              <p:cNvPr id="1701" name=""/>
              <p:cNvSpPr/>
              <p:nvPr/>
            </p:nvSpPr>
            <p:spPr>
              <a:xfrm>
                <a:off x="279360" y="1864080"/>
                <a:ext cx="434160" cy="411480"/>
              </a:xfrm>
              <a:custGeom>
                <a:avLst/>
                <a:gdLst/>
                <a:ahLst/>
                <a:rect l="l" t="t" r="r" b="b"/>
                <a:pathLst>
                  <a:path w="456" h="439">
                    <a:moveTo>
                      <a:pt x="289" y="100"/>
                    </a:moveTo>
                    <a:lnTo>
                      <a:pt x="244" y="45"/>
                    </a:lnTo>
                    <a:lnTo>
                      <a:pt x="199" y="12"/>
                    </a:lnTo>
                    <a:lnTo>
                      <a:pt x="144" y="0"/>
                    </a:lnTo>
                    <a:lnTo>
                      <a:pt x="94" y="12"/>
                    </a:lnTo>
                    <a:lnTo>
                      <a:pt x="44" y="40"/>
                    </a:lnTo>
                    <a:lnTo>
                      <a:pt x="17" y="95"/>
                    </a:lnTo>
                    <a:lnTo>
                      <a:pt x="0" y="184"/>
                    </a:lnTo>
                    <a:lnTo>
                      <a:pt x="17" y="261"/>
                    </a:lnTo>
                    <a:lnTo>
                      <a:pt x="50" y="322"/>
                    </a:lnTo>
                    <a:lnTo>
                      <a:pt x="94" y="378"/>
                    </a:lnTo>
                    <a:lnTo>
                      <a:pt x="156" y="422"/>
                    </a:lnTo>
                    <a:lnTo>
                      <a:pt x="211" y="439"/>
                    </a:lnTo>
                    <a:lnTo>
                      <a:pt x="261" y="434"/>
                    </a:lnTo>
                    <a:lnTo>
                      <a:pt x="317" y="406"/>
                    </a:lnTo>
                    <a:lnTo>
                      <a:pt x="328" y="367"/>
                    </a:lnTo>
                    <a:lnTo>
                      <a:pt x="328" y="295"/>
                    </a:lnTo>
                    <a:lnTo>
                      <a:pt x="328" y="222"/>
                    </a:lnTo>
                    <a:lnTo>
                      <a:pt x="311" y="145"/>
                    </a:lnTo>
                    <a:lnTo>
                      <a:pt x="372" y="122"/>
                    </a:lnTo>
                    <a:lnTo>
                      <a:pt x="434" y="79"/>
                    </a:lnTo>
                    <a:lnTo>
                      <a:pt x="456" y="56"/>
                    </a:lnTo>
                    <a:lnTo>
                      <a:pt x="450" y="45"/>
                    </a:lnTo>
                    <a:lnTo>
                      <a:pt x="416" y="45"/>
                    </a:lnTo>
                    <a:lnTo>
                      <a:pt x="356" y="84"/>
                    </a:lnTo>
                    <a:lnTo>
                      <a:pt x="289" y="10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456840" y="2318040"/>
                <a:ext cx="357120" cy="658080"/>
              </a:xfrm>
              <a:custGeom>
                <a:avLst/>
                <a:gdLst/>
                <a:ahLst/>
                <a:rect l="l" t="t" r="r" b="b"/>
                <a:pathLst>
                  <a:path w="374" h="700">
                    <a:moveTo>
                      <a:pt x="72" y="12"/>
                    </a:moveTo>
                    <a:lnTo>
                      <a:pt x="123" y="0"/>
                    </a:lnTo>
                    <a:lnTo>
                      <a:pt x="185" y="6"/>
                    </a:lnTo>
                    <a:lnTo>
                      <a:pt x="240" y="39"/>
                    </a:lnTo>
                    <a:lnTo>
                      <a:pt x="290" y="105"/>
                    </a:lnTo>
                    <a:lnTo>
                      <a:pt x="335" y="204"/>
                    </a:lnTo>
                    <a:lnTo>
                      <a:pt x="357" y="292"/>
                    </a:lnTo>
                    <a:lnTo>
                      <a:pt x="374" y="375"/>
                    </a:lnTo>
                    <a:lnTo>
                      <a:pt x="374" y="469"/>
                    </a:lnTo>
                    <a:lnTo>
                      <a:pt x="346" y="556"/>
                    </a:lnTo>
                    <a:lnTo>
                      <a:pt x="318" y="606"/>
                    </a:lnTo>
                    <a:lnTo>
                      <a:pt x="273" y="656"/>
                    </a:lnTo>
                    <a:lnTo>
                      <a:pt x="224" y="688"/>
                    </a:lnTo>
                    <a:lnTo>
                      <a:pt x="150" y="700"/>
                    </a:lnTo>
                    <a:lnTo>
                      <a:pt x="105" y="672"/>
                    </a:lnTo>
                    <a:lnTo>
                      <a:pt x="72" y="623"/>
                    </a:lnTo>
                    <a:lnTo>
                      <a:pt x="66" y="556"/>
                    </a:lnTo>
                    <a:lnTo>
                      <a:pt x="89" y="501"/>
                    </a:lnTo>
                    <a:lnTo>
                      <a:pt x="111" y="457"/>
                    </a:lnTo>
                    <a:lnTo>
                      <a:pt x="128" y="397"/>
                    </a:lnTo>
                    <a:lnTo>
                      <a:pt x="117" y="347"/>
                    </a:lnTo>
                    <a:lnTo>
                      <a:pt x="95" y="298"/>
                    </a:lnTo>
                    <a:lnTo>
                      <a:pt x="39" y="237"/>
                    </a:lnTo>
                    <a:lnTo>
                      <a:pt x="11" y="176"/>
                    </a:lnTo>
                    <a:lnTo>
                      <a:pt x="0" y="99"/>
                    </a:lnTo>
                    <a:lnTo>
                      <a:pt x="22" y="50"/>
                    </a:lnTo>
                    <a:lnTo>
                      <a:pt x="72" y="12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85120" y="2374920"/>
                <a:ext cx="268200" cy="617760"/>
              </a:xfrm>
              <a:custGeom>
                <a:avLst/>
                <a:gdLst/>
                <a:ahLst/>
                <a:rect l="l" t="t" r="r" b="b"/>
                <a:pathLst>
                  <a:path w="283" h="657">
                    <a:moveTo>
                      <a:pt x="142" y="83"/>
                    </a:moveTo>
                    <a:lnTo>
                      <a:pt x="186" y="16"/>
                    </a:lnTo>
                    <a:lnTo>
                      <a:pt x="244" y="0"/>
                    </a:lnTo>
                    <a:lnTo>
                      <a:pt x="260" y="39"/>
                    </a:lnTo>
                    <a:lnTo>
                      <a:pt x="254" y="132"/>
                    </a:lnTo>
                    <a:lnTo>
                      <a:pt x="209" y="144"/>
                    </a:lnTo>
                    <a:lnTo>
                      <a:pt x="159" y="183"/>
                    </a:lnTo>
                    <a:lnTo>
                      <a:pt x="103" y="260"/>
                    </a:lnTo>
                    <a:lnTo>
                      <a:pt x="74" y="315"/>
                    </a:lnTo>
                    <a:lnTo>
                      <a:pt x="119" y="337"/>
                    </a:lnTo>
                    <a:lnTo>
                      <a:pt x="198" y="376"/>
                    </a:lnTo>
                    <a:lnTo>
                      <a:pt x="238" y="403"/>
                    </a:lnTo>
                    <a:lnTo>
                      <a:pt x="283" y="458"/>
                    </a:lnTo>
                    <a:lnTo>
                      <a:pt x="266" y="497"/>
                    </a:lnTo>
                    <a:lnTo>
                      <a:pt x="232" y="508"/>
                    </a:lnTo>
                    <a:lnTo>
                      <a:pt x="204" y="530"/>
                    </a:lnTo>
                    <a:lnTo>
                      <a:pt x="170" y="569"/>
                    </a:lnTo>
                    <a:lnTo>
                      <a:pt x="165" y="630"/>
                    </a:lnTo>
                    <a:lnTo>
                      <a:pt x="136" y="657"/>
                    </a:lnTo>
                    <a:lnTo>
                      <a:pt x="119" y="635"/>
                    </a:lnTo>
                    <a:lnTo>
                      <a:pt x="124" y="580"/>
                    </a:lnTo>
                    <a:lnTo>
                      <a:pt x="153" y="519"/>
                    </a:lnTo>
                    <a:lnTo>
                      <a:pt x="198" y="492"/>
                    </a:lnTo>
                    <a:lnTo>
                      <a:pt x="232" y="464"/>
                    </a:lnTo>
                    <a:lnTo>
                      <a:pt x="215" y="437"/>
                    </a:lnTo>
                    <a:lnTo>
                      <a:pt x="181" y="409"/>
                    </a:lnTo>
                    <a:lnTo>
                      <a:pt x="130" y="381"/>
                    </a:lnTo>
                    <a:lnTo>
                      <a:pt x="62" y="364"/>
                    </a:lnTo>
                    <a:lnTo>
                      <a:pt x="12" y="354"/>
                    </a:lnTo>
                    <a:lnTo>
                      <a:pt x="0" y="331"/>
                    </a:lnTo>
                    <a:lnTo>
                      <a:pt x="12" y="293"/>
                    </a:lnTo>
                    <a:lnTo>
                      <a:pt x="45" y="260"/>
                    </a:lnTo>
                    <a:lnTo>
                      <a:pt x="80" y="215"/>
                    </a:lnTo>
                    <a:lnTo>
                      <a:pt x="113" y="149"/>
                    </a:lnTo>
                    <a:lnTo>
                      <a:pt x="142" y="83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585000" y="2046960"/>
                <a:ext cx="602640" cy="417960"/>
              </a:xfrm>
              <a:custGeom>
                <a:avLst/>
                <a:gdLst/>
                <a:ahLst/>
                <a:rect l="l" t="t" r="r" b="b"/>
                <a:pathLst>
                  <a:path w="631" h="444">
                    <a:moveTo>
                      <a:pt x="0" y="327"/>
                    </a:moveTo>
                    <a:lnTo>
                      <a:pt x="6" y="300"/>
                    </a:lnTo>
                    <a:lnTo>
                      <a:pt x="73" y="289"/>
                    </a:lnTo>
                    <a:lnTo>
                      <a:pt x="144" y="305"/>
                    </a:lnTo>
                    <a:lnTo>
                      <a:pt x="216" y="333"/>
                    </a:lnTo>
                    <a:lnTo>
                      <a:pt x="304" y="356"/>
                    </a:lnTo>
                    <a:lnTo>
                      <a:pt x="343" y="361"/>
                    </a:lnTo>
                    <a:lnTo>
                      <a:pt x="381" y="323"/>
                    </a:lnTo>
                    <a:lnTo>
                      <a:pt x="426" y="250"/>
                    </a:lnTo>
                    <a:lnTo>
                      <a:pt x="487" y="150"/>
                    </a:lnTo>
                    <a:lnTo>
                      <a:pt x="515" y="88"/>
                    </a:lnTo>
                    <a:lnTo>
                      <a:pt x="509" y="55"/>
                    </a:lnTo>
                    <a:lnTo>
                      <a:pt x="476" y="6"/>
                    </a:lnTo>
                    <a:lnTo>
                      <a:pt x="509" y="0"/>
                    </a:lnTo>
                    <a:lnTo>
                      <a:pt x="536" y="50"/>
                    </a:lnTo>
                    <a:lnTo>
                      <a:pt x="581" y="66"/>
                    </a:lnTo>
                    <a:lnTo>
                      <a:pt x="631" y="84"/>
                    </a:lnTo>
                    <a:lnTo>
                      <a:pt x="591" y="117"/>
                    </a:lnTo>
                    <a:lnTo>
                      <a:pt x="554" y="133"/>
                    </a:lnTo>
                    <a:lnTo>
                      <a:pt x="509" y="200"/>
                    </a:lnTo>
                    <a:lnTo>
                      <a:pt x="470" y="256"/>
                    </a:lnTo>
                    <a:lnTo>
                      <a:pt x="432" y="339"/>
                    </a:lnTo>
                    <a:lnTo>
                      <a:pt x="393" y="400"/>
                    </a:lnTo>
                    <a:lnTo>
                      <a:pt x="354" y="444"/>
                    </a:lnTo>
                    <a:lnTo>
                      <a:pt x="321" y="444"/>
                    </a:lnTo>
                    <a:lnTo>
                      <a:pt x="283" y="411"/>
                    </a:lnTo>
                    <a:lnTo>
                      <a:pt x="226" y="389"/>
                    </a:lnTo>
                    <a:lnTo>
                      <a:pt x="166" y="378"/>
                    </a:lnTo>
                    <a:lnTo>
                      <a:pt x="77" y="366"/>
                    </a:lnTo>
                    <a:lnTo>
                      <a:pt x="0" y="327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627840" y="2877480"/>
                <a:ext cx="294120" cy="815760"/>
              </a:xfrm>
              <a:custGeom>
                <a:avLst/>
                <a:gdLst/>
                <a:ahLst/>
                <a:rect l="l" t="t" r="r" b="b"/>
                <a:pathLst>
                  <a:path w="310" h="869">
                    <a:moveTo>
                      <a:pt x="29" y="0"/>
                    </a:moveTo>
                    <a:lnTo>
                      <a:pt x="85" y="16"/>
                    </a:lnTo>
                    <a:lnTo>
                      <a:pt x="130" y="71"/>
                    </a:lnTo>
                    <a:lnTo>
                      <a:pt x="163" y="187"/>
                    </a:lnTo>
                    <a:lnTo>
                      <a:pt x="186" y="330"/>
                    </a:lnTo>
                    <a:lnTo>
                      <a:pt x="180" y="462"/>
                    </a:lnTo>
                    <a:lnTo>
                      <a:pt x="157" y="572"/>
                    </a:lnTo>
                    <a:lnTo>
                      <a:pt x="130" y="687"/>
                    </a:lnTo>
                    <a:lnTo>
                      <a:pt x="124" y="726"/>
                    </a:lnTo>
                    <a:lnTo>
                      <a:pt x="147" y="748"/>
                    </a:lnTo>
                    <a:lnTo>
                      <a:pt x="231" y="770"/>
                    </a:lnTo>
                    <a:lnTo>
                      <a:pt x="310" y="803"/>
                    </a:lnTo>
                    <a:lnTo>
                      <a:pt x="310" y="825"/>
                    </a:lnTo>
                    <a:lnTo>
                      <a:pt x="248" y="869"/>
                    </a:lnTo>
                    <a:lnTo>
                      <a:pt x="209" y="853"/>
                    </a:lnTo>
                    <a:lnTo>
                      <a:pt x="180" y="819"/>
                    </a:lnTo>
                    <a:lnTo>
                      <a:pt x="124" y="786"/>
                    </a:lnTo>
                    <a:lnTo>
                      <a:pt x="68" y="780"/>
                    </a:lnTo>
                    <a:lnTo>
                      <a:pt x="45" y="758"/>
                    </a:lnTo>
                    <a:lnTo>
                      <a:pt x="56" y="720"/>
                    </a:lnTo>
                    <a:lnTo>
                      <a:pt x="73" y="693"/>
                    </a:lnTo>
                    <a:lnTo>
                      <a:pt x="101" y="632"/>
                    </a:lnTo>
                    <a:lnTo>
                      <a:pt x="130" y="517"/>
                    </a:lnTo>
                    <a:lnTo>
                      <a:pt x="130" y="396"/>
                    </a:lnTo>
                    <a:lnTo>
                      <a:pt x="118" y="286"/>
                    </a:lnTo>
                    <a:lnTo>
                      <a:pt x="85" y="176"/>
                    </a:lnTo>
                    <a:lnTo>
                      <a:pt x="39" y="105"/>
                    </a:lnTo>
                    <a:lnTo>
                      <a:pt x="0" y="66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410760" y="2888640"/>
                <a:ext cx="225360" cy="810720"/>
              </a:xfrm>
              <a:custGeom>
                <a:avLst/>
                <a:gdLst/>
                <a:ahLst/>
                <a:rect l="l" t="t" r="r" b="b"/>
                <a:pathLst>
                  <a:path w="238" h="862">
                    <a:moveTo>
                      <a:pt x="97" y="114"/>
                    </a:moveTo>
                    <a:lnTo>
                      <a:pt x="142" y="21"/>
                    </a:lnTo>
                    <a:lnTo>
                      <a:pt x="209" y="0"/>
                    </a:lnTo>
                    <a:lnTo>
                      <a:pt x="238" y="33"/>
                    </a:lnTo>
                    <a:lnTo>
                      <a:pt x="215" y="88"/>
                    </a:lnTo>
                    <a:lnTo>
                      <a:pt x="187" y="132"/>
                    </a:lnTo>
                    <a:lnTo>
                      <a:pt x="165" y="209"/>
                    </a:lnTo>
                    <a:lnTo>
                      <a:pt x="147" y="324"/>
                    </a:lnTo>
                    <a:lnTo>
                      <a:pt x="147" y="444"/>
                    </a:lnTo>
                    <a:lnTo>
                      <a:pt x="165" y="576"/>
                    </a:lnTo>
                    <a:lnTo>
                      <a:pt x="165" y="703"/>
                    </a:lnTo>
                    <a:lnTo>
                      <a:pt x="176" y="752"/>
                    </a:lnTo>
                    <a:lnTo>
                      <a:pt x="153" y="785"/>
                    </a:lnTo>
                    <a:lnTo>
                      <a:pt x="120" y="813"/>
                    </a:lnTo>
                    <a:lnTo>
                      <a:pt x="85" y="851"/>
                    </a:lnTo>
                    <a:lnTo>
                      <a:pt x="41" y="862"/>
                    </a:lnTo>
                    <a:lnTo>
                      <a:pt x="6" y="825"/>
                    </a:lnTo>
                    <a:lnTo>
                      <a:pt x="0" y="791"/>
                    </a:lnTo>
                    <a:lnTo>
                      <a:pt x="41" y="769"/>
                    </a:lnTo>
                    <a:lnTo>
                      <a:pt x="97" y="748"/>
                    </a:lnTo>
                    <a:lnTo>
                      <a:pt x="120" y="714"/>
                    </a:lnTo>
                    <a:lnTo>
                      <a:pt x="124" y="659"/>
                    </a:lnTo>
                    <a:lnTo>
                      <a:pt x="114" y="566"/>
                    </a:lnTo>
                    <a:lnTo>
                      <a:pt x="97" y="472"/>
                    </a:lnTo>
                    <a:lnTo>
                      <a:pt x="97" y="390"/>
                    </a:lnTo>
                    <a:lnTo>
                      <a:pt x="91" y="280"/>
                    </a:lnTo>
                    <a:lnTo>
                      <a:pt x="91" y="197"/>
                    </a:lnTo>
                    <a:lnTo>
                      <a:pt x="97" y="114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"/>
          <p:cNvSpPr/>
          <p:nvPr/>
        </p:nvSpPr>
        <p:spPr>
          <a:xfrm>
            <a:off x="4567320" y="3443400"/>
            <a:ext cx="3149640" cy="1795320"/>
          </a:xfrm>
          <a:custGeom>
            <a:avLst/>
            <a:gdLst/>
            <a:ahLst/>
            <a:rect l="l" t="t" r="r" b="b"/>
            <a:pathLst>
              <a:path w="1984" h="1131">
                <a:moveTo>
                  <a:pt x="477" y="1054"/>
                </a:moveTo>
                <a:lnTo>
                  <a:pt x="946" y="1115"/>
                </a:lnTo>
                <a:lnTo>
                  <a:pt x="1984" y="77"/>
                </a:lnTo>
                <a:lnTo>
                  <a:pt x="1530" y="0"/>
                </a:lnTo>
                <a:lnTo>
                  <a:pt x="1046" y="77"/>
                </a:lnTo>
                <a:lnTo>
                  <a:pt x="0" y="1131"/>
                </a:lnTo>
                <a:lnTo>
                  <a:pt x="477" y="1054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1697040" y="1892160"/>
            <a:ext cx="1967040" cy="1686240"/>
          </a:xfrm>
          <a:custGeom>
            <a:avLst/>
            <a:gdLst/>
            <a:ahLst/>
            <a:rect l="l" t="t" r="r" b="b"/>
            <a:pathLst>
              <a:path w="1239" h="1062">
                <a:moveTo>
                  <a:pt x="192" y="1062"/>
                </a:moveTo>
                <a:lnTo>
                  <a:pt x="1239" y="23"/>
                </a:lnTo>
                <a:lnTo>
                  <a:pt x="1154" y="0"/>
                </a:lnTo>
                <a:lnTo>
                  <a:pt x="1031" y="23"/>
                </a:lnTo>
                <a:lnTo>
                  <a:pt x="0" y="1062"/>
                </a:lnTo>
                <a:lnTo>
                  <a:pt x="100" y="1054"/>
                </a:lnTo>
                <a:lnTo>
                  <a:pt x="192" y="1062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1355760" y="3565440"/>
            <a:ext cx="1012680" cy="513000"/>
          </a:xfrm>
          <a:custGeom>
            <a:avLst/>
            <a:gdLst/>
            <a:ahLst/>
            <a:rect l="l" t="t" r="r" b="b"/>
            <a:pathLst>
              <a:path w="638" h="323">
                <a:moveTo>
                  <a:pt x="0" y="323"/>
                </a:moveTo>
                <a:lnTo>
                  <a:pt x="638" y="323"/>
                </a:lnTo>
                <a:lnTo>
                  <a:pt x="638" y="46"/>
                </a:lnTo>
                <a:lnTo>
                  <a:pt x="315" y="0"/>
                </a:lnTo>
                <a:lnTo>
                  <a:pt x="0" y="46"/>
                </a:lnTo>
                <a:lnTo>
                  <a:pt x="0" y="323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1344600" y="355680"/>
            <a:ext cx="63658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 est la zone d’action d’une panne faîtiè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1" name=""/>
          <p:cNvGrpSpPr/>
          <p:nvPr/>
        </p:nvGrpSpPr>
        <p:grpSpPr>
          <a:xfrm>
            <a:off x="311040" y="3159000"/>
            <a:ext cx="4708800" cy="1800360"/>
            <a:chOff x="311040" y="3159000"/>
            <a:chExt cx="4708800" cy="1800360"/>
          </a:xfrm>
        </p:grpSpPr>
        <p:grpSp>
          <p:nvGrpSpPr>
            <p:cNvPr id="1712" name=""/>
            <p:cNvGrpSpPr/>
            <p:nvPr/>
          </p:nvGrpSpPr>
          <p:grpSpPr>
            <a:xfrm>
              <a:off x="594360" y="3471480"/>
              <a:ext cx="1236240" cy="1219680"/>
              <a:chOff x="594360" y="3471480"/>
              <a:chExt cx="1236240" cy="1219680"/>
            </a:xfrm>
          </p:grpSpPr>
          <p:sp>
            <p:nvSpPr>
              <p:cNvPr id="1713" name=""/>
              <p:cNvSpPr/>
              <p:nvPr/>
            </p:nvSpPr>
            <p:spPr>
              <a:xfrm>
                <a:off x="1694880" y="3471480"/>
                <a:ext cx="135720" cy="135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1413720" y="3727440"/>
                <a:ext cx="135360" cy="13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1144800" y="3992760"/>
                <a:ext cx="13536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867240" y="4268520"/>
                <a:ext cx="13608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594360" y="4555800"/>
                <a:ext cx="13572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8" name=""/>
            <p:cNvGrpSpPr/>
            <p:nvPr/>
          </p:nvGrpSpPr>
          <p:grpSpPr>
            <a:xfrm>
              <a:off x="3526200" y="3449880"/>
              <a:ext cx="1216080" cy="1232280"/>
              <a:chOff x="3526200" y="3449880"/>
              <a:chExt cx="1216080" cy="1232280"/>
            </a:xfrm>
          </p:grpSpPr>
          <p:sp>
            <p:nvSpPr>
              <p:cNvPr id="1719" name=""/>
              <p:cNvSpPr/>
              <p:nvPr/>
            </p:nvSpPr>
            <p:spPr>
              <a:xfrm>
                <a:off x="4606920" y="3449880"/>
                <a:ext cx="135360" cy="135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335480" y="3719160"/>
                <a:ext cx="135720" cy="13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066560" y="3984120"/>
                <a:ext cx="135720" cy="135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3782520" y="4259520"/>
                <a:ext cx="138960" cy="13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3526200" y="4546800"/>
                <a:ext cx="13536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4" name=""/>
            <p:cNvGrpSpPr/>
            <p:nvPr/>
          </p:nvGrpSpPr>
          <p:grpSpPr>
            <a:xfrm>
              <a:off x="1955520" y="3159000"/>
              <a:ext cx="3064320" cy="138960"/>
              <a:chOff x="1955520" y="3159000"/>
              <a:chExt cx="3064320" cy="138960"/>
            </a:xfrm>
          </p:grpSpPr>
          <p:sp>
            <p:nvSpPr>
              <p:cNvPr id="1725" name=""/>
              <p:cNvSpPr/>
              <p:nvPr/>
            </p:nvSpPr>
            <p:spPr>
              <a:xfrm>
                <a:off x="4884120" y="3162600"/>
                <a:ext cx="13572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955520" y="3159000"/>
                <a:ext cx="135720" cy="13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3927600" y="3159000"/>
                <a:ext cx="135720" cy="13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2450880" y="3159360"/>
                <a:ext cx="13572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909880" y="3159360"/>
                <a:ext cx="13572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3398040" y="3159360"/>
                <a:ext cx="13536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417560" y="3159360"/>
                <a:ext cx="13536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2" name=""/>
            <p:cNvGrpSpPr/>
            <p:nvPr/>
          </p:nvGrpSpPr>
          <p:grpSpPr>
            <a:xfrm>
              <a:off x="311040" y="4823640"/>
              <a:ext cx="3057480" cy="135720"/>
              <a:chOff x="311040" y="4823640"/>
              <a:chExt cx="3057480" cy="135720"/>
            </a:xfrm>
          </p:grpSpPr>
          <p:sp>
            <p:nvSpPr>
              <p:cNvPr id="1733" name=""/>
              <p:cNvSpPr/>
              <p:nvPr/>
            </p:nvSpPr>
            <p:spPr>
              <a:xfrm>
                <a:off x="3232800" y="4823640"/>
                <a:ext cx="135720" cy="13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311040" y="4823640"/>
                <a:ext cx="13572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802440" y="4823640"/>
                <a:ext cx="13536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1271160" y="4823640"/>
                <a:ext cx="13572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2287440" y="4823640"/>
                <a:ext cx="13536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2756160" y="4823640"/>
                <a:ext cx="13536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39" name=""/>
          <p:cNvGrpSpPr/>
          <p:nvPr/>
        </p:nvGrpSpPr>
        <p:grpSpPr>
          <a:xfrm>
            <a:off x="392040" y="2141640"/>
            <a:ext cx="4586400" cy="2657160"/>
            <a:chOff x="392040" y="2141640"/>
            <a:chExt cx="4586400" cy="2657160"/>
          </a:xfrm>
        </p:grpSpPr>
        <p:grpSp>
          <p:nvGrpSpPr>
            <p:cNvPr id="1740" name=""/>
            <p:cNvGrpSpPr/>
            <p:nvPr/>
          </p:nvGrpSpPr>
          <p:grpSpPr>
            <a:xfrm>
              <a:off x="2028600" y="2141640"/>
              <a:ext cx="2949840" cy="994680"/>
              <a:chOff x="2028600" y="2141640"/>
              <a:chExt cx="2949840" cy="994680"/>
            </a:xfrm>
          </p:grpSpPr>
          <p:sp>
            <p:nvSpPr>
              <p:cNvPr id="1741" name=""/>
              <p:cNvSpPr/>
              <p:nvPr/>
            </p:nvSpPr>
            <p:spPr>
              <a:xfrm>
                <a:off x="2058480" y="2141640"/>
                <a:ext cx="291996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2050560" y="2432520"/>
                <a:ext cx="291996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2039760" y="2910240"/>
                <a:ext cx="293364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2051640" y="2671200"/>
                <a:ext cx="292212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2028600" y="3136320"/>
                <a:ext cx="291996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6" name=""/>
            <p:cNvGrpSpPr/>
            <p:nvPr/>
          </p:nvGrpSpPr>
          <p:grpSpPr>
            <a:xfrm>
              <a:off x="392040" y="3788280"/>
              <a:ext cx="2934720" cy="1010520"/>
              <a:chOff x="392040" y="3788280"/>
              <a:chExt cx="2934720" cy="1010520"/>
            </a:xfrm>
          </p:grpSpPr>
          <p:sp>
            <p:nvSpPr>
              <p:cNvPr id="1747" name=""/>
              <p:cNvSpPr/>
              <p:nvPr/>
            </p:nvSpPr>
            <p:spPr>
              <a:xfrm>
                <a:off x="2368800" y="4798800"/>
                <a:ext cx="9504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07520" y="3788280"/>
                <a:ext cx="291924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399600" y="4079160"/>
                <a:ext cx="291924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2364120" y="4556880"/>
                <a:ext cx="95832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92040" y="4318200"/>
                <a:ext cx="96156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2364120" y="4318200"/>
                <a:ext cx="95832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99600" y="4556880"/>
                <a:ext cx="96156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99600" y="4793040"/>
                <a:ext cx="9504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55" name=""/>
          <p:cNvGrpSpPr/>
          <p:nvPr/>
        </p:nvGrpSpPr>
        <p:grpSpPr>
          <a:xfrm>
            <a:off x="390240" y="1900080"/>
            <a:ext cx="4575600" cy="2894040"/>
            <a:chOff x="390240" y="1900080"/>
            <a:chExt cx="4575600" cy="2894040"/>
          </a:xfrm>
        </p:grpSpPr>
        <p:sp>
          <p:nvSpPr>
            <p:cNvPr id="1756" name=""/>
            <p:cNvSpPr/>
            <p:nvPr/>
          </p:nvSpPr>
          <p:spPr>
            <a:xfrm>
              <a:off x="1860840" y="3571560"/>
              <a:ext cx="0" cy="504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7" name=""/>
            <p:cNvGrpSpPr/>
            <p:nvPr/>
          </p:nvGrpSpPr>
          <p:grpSpPr>
            <a:xfrm>
              <a:off x="390240" y="1900080"/>
              <a:ext cx="4575600" cy="2894040"/>
              <a:chOff x="390240" y="1900080"/>
              <a:chExt cx="4575600" cy="2894040"/>
            </a:xfrm>
          </p:grpSpPr>
          <p:grpSp>
            <p:nvGrpSpPr>
              <p:cNvPr id="1758" name=""/>
              <p:cNvGrpSpPr/>
              <p:nvPr/>
            </p:nvGrpSpPr>
            <p:grpSpPr>
              <a:xfrm>
                <a:off x="2046600" y="1900080"/>
                <a:ext cx="2919240" cy="1232280"/>
                <a:chOff x="2046600" y="1900080"/>
                <a:chExt cx="2919240" cy="1232280"/>
              </a:xfrm>
            </p:grpSpPr>
            <p:sp>
              <p:nvSpPr>
                <p:cNvPr id="1759" name=""/>
                <p:cNvSpPr/>
                <p:nvPr/>
              </p:nvSpPr>
              <p:spPr>
                <a:xfrm>
                  <a:off x="4498560" y="2052720"/>
                  <a:ext cx="0" cy="1079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4965840" y="2134080"/>
                  <a:ext cx="0" cy="99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4011480" y="1988640"/>
                  <a:ext cx="0" cy="11437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3507120" y="1900080"/>
                  <a:ext cx="0" cy="1232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3000960" y="1977480"/>
                  <a:ext cx="0" cy="1154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2046600" y="2129040"/>
                  <a:ext cx="0" cy="1003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2534760" y="2060640"/>
                  <a:ext cx="0" cy="10717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6" name=""/>
              <p:cNvGrpSpPr/>
              <p:nvPr/>
            </p:nvGrpSpPr>
            <p:grpSpPr>
              <a:xfrm>
                <a:off x="390240" y="3634560"/>
                <a:ext cx="2929320" cy="1159560"/>
                <a:chOff x="390240" y="3634560"/>
                <a:chExt cx="2929320" cy="1159560"/>
              </a:xfrm>
            </p:grpSpPr>
            <p:sp>
              <p:nvSpPr>
                <p:cNvPr id="1767" name=""/>
                <p:cNvSpPr/>
                <p:nvPr/>
              </p:nvSpPr>
              <p:spPr>
                <a:xfrm>
                  <a:off x="2852280" y="3709440"/>
                  <a:ext cx="0" cy="108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>
                  <a:off x="3319560" y="3785760"/>
                  <a:ext cx="0" cy="99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"/>
                <p:cNvSpPr/>
                <p:nvPr/>
              </p:nvSpPr>
              <p:spPr>
                <a:xfrm>
                  <a:off x="2365200" y="3640680"/>
                  <a:ext cx="0" cy="1148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>
                  <a:off x="1354680" y="3634560"/>
                  <a:ext cx="0" cy="1154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 flipH="1">
                  <a:off x="390240" y="3781080"/>
                  <a:ext cx="9720" cy="1013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>
                  <a:off x="888480" y="3717360"/>
                  <a:ext cx="0" cy="10717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73" name=""/>
          <p:cNvGrpSpPr/>
          <p:nvPr/>
        </p:nvGrpSpPr>
        <p:grpSpPr>
          <a:xfrm>
            <a:off x="395280" y="1901520"/>
            <a:ext cx="4578480" cy="1879920"/>
            <a:chOff x="395280" y="1901520"/>
            <a:chExt cx="4578480" cy="1879920"/>
          </a:xfrm>
        </p:grpSpPr>
        <p:grpSp>
          <p:nvGrpSpPr>
            <p:cNvPr id="1774" name=""/>
            <p:cNvGrpSpPr/>
            <p:nvPr/>
          </p:nvGrpSpPr>
          <p:grpSpPr>
            <a:xfrm>
              <a:off x="395280" y="3278160"/>
              <a:ext cx="3194280" cy="503280"/>
              <a:chOff x="395280" y="3278160"/>
              <a:chExt cx="3194280" cy="503280"/>
            </a:xfrm>
          </p:grpSpPr>
          <p:sp>
            <p:nvSpPr>
              <p:cNvPr id="1775" name=""/>
              <p:cNvSpPr/>
              <p:nvPr/>
            </p:nvSpPr>
            <p:spPr>
              <a:xfrm flipH="1" flipV="1">
                <a:off x="2129760" y="3281400"/>
                <a:ext cx="248040" cy="351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flipH="1">
                <a:off x="1339560" y="3281400"/>
                <a:ext cx="790560" cy="351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flipH="1" flipV="1">
                <a:off x="3089520" y="3415680"/>
                <a:ext cx="224280" cy="365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flipV="1">
                <a:off x="2846160" y="3504240"/>
                <a:ext cx="743400" cy="207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flipH="1" flipV="1">
                <a:off x="2620080" y="3363120"/>
                <a:ext cx="226080" cy="34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flipH="1">
                <a:off x="2359440" y="3426840"/>
                <a:ext cx="769680" cy="2055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flipH="1">
                <a:off x="1893960" y="3363480"/>
                <a:ext cx="725400" cy="188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 flipH="1" flipV="1">
                <a:off x="1615680" y="3348000"/>
                <a:ext cx="278280" cy="203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 flipH="1" flipV="1">
                <a:off x="1157040" y="3426480"/>
                <a:ext cx="191520" cy="210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flipH="1">
                <a:off x="880560" y="3363480"/>
                <a:ext cx="735120" cy="34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 flipH="1" flipV="1">
                <a:off x="670320" y="3504240"/>
                <a:ext cx="213120" cy="198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flipH="1">
                <a:off x="395280" y="3426840"/>
                <a:ext cx="761760" cy="354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 flipV="1">
                <a:off x="3309840" y="3504240"/>
                <a:ext cx="27000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V="1">
                <a:off x="1874880" y="3278160"/>
                <a:ext cx="27000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 flipV="1">
                <a:off x="2366280" y="3356640"/>
                <a:ext cx="27000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flipV="1">
                <a:off x="400320" y="3499200"/>
                <a:ext cx="27000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 flipV="1">
                <a:off x="891720" y="3425400"/>
                <a:ext cx="27000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 flipV="1">
                <a:off x="1353960" y="3356640"/>
                <a:ext cx="27000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 flipV="1">
                <a:off x="665640" y="3283200"/>
                <a:ext cx="1469520" cy="221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V="1">
                <a:off x="400320" y="3558600"/>
                <a:ext cx="1469520" cy="221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1869840" y="3558960"/>
                <a:ext cx="1429920" cy="221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140200" y="3283200"/>
                <a:ext cx="1429920" cy="221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flipV="1">
                <a:off x="2833200" y="3440520"/>
                <a:ext cx="27000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8" name=""/>
            <p:cNvGrpSpPr/>
            <p:nvPr/>
          </p:nvGrpSpPr>
          <p:grpSpPr>
            <a:xfrm>
              <a:off x="1779480" y="1901520"/>
              <a:ext cx="3194280" cy="503280"/>
              <a:chOff x="1779480" y="1901520"/>
              <a:chExt cx="3194280" cy="503280"/>
            </a:xfrm>
          </p:grpSpPr>
          <p:sp>
            <p:nvSpPr>
              <p:cNvPr id="1799" name=""/>
              <p:cNvSpPr/>
              <p:nvPr/>
            </p:nvSpPr>
            <p:spPr>
              <a:xfrm flipH="1" flipV="1">
                <a:off x="3513960" y="1904760"/>
                <a:ext cx="248040" cy="351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 flipH="1">
                <a:off x="2723760" y="1904760"/>
                <a:ext cx="790560" cy="351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flipH="1" flipV="1">
                <a:off x="4473720" y="2039040"/>
                <a:ext cx="224280" cy="365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flipV="1">
                <a:off x="4230360" y="2127600"/>
                <a:ext cx="743400" cy="207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flipH="1" flipV="1">
                <a:off x="4004280" y="1986480"/>
                <a:ext cx="226080" cy="34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flipH="1">
                <a:off x="3743640" y="2050200"/>
                <a:ext cx="769680" cy="2055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 flipH="1">
                <a:off x="3278160" y="1986840"/>
                <a:ext cx="725400" cy="188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flipH="1" flipV="1">
                <a:off x="2999880" y="1971360"/>
                <a:ext cx="278280" cy="203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 flipH="1" flipV="1">
                <a:off x="2541240" y="2049840"/>
                <a:ext cx="191520" cy="210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flipH="1">
                <a:off x="2264760" y="1986840"/>
                <a:ext cx="735120" cy="3481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flipH="1" flipV="1">
                <a:off x="2054520" y="2127600"/>
                <a:ext cx="213120" cy="198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flipH="1">
                <a:off x="1779480" y="2050200"/>
                <a:ext cx="761760" cy="354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V="1">
                <a:off x="4694040" y="2127600"/>
                <a:ext cx="27000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flipV="1">
                <a:off x="3259080" y="1901520"/>
                <a:ext cx="27000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flipV="1">
                <a:off x="3750480" y="1980000"/>
                <a:ext cx="27000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V="1">
                <a:off x="1784520" y="2122560"/>
                <a:ext cx="27000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flipV="1">
                <a:off x="2275920" y="2048760"/>
                <a:ext cx="27000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flipV="1">
                <a:off x="2738160" y="1980000"/>
                <a:ext cx="27000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flipV="1">
                <a:off x="2049840" y="1906560"/>
                <a:ext cx="1469520" cy="221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 flipV="1">
                <a:off x="1784520" y="2181960"/>
                <a:ext cx="1469520" cy="221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3254040" y="2182320"/>
                <a:ext cx="1429920" cy="221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3524400" y="1906560"/>
                <a:ext cx="1429920" cy="221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4217400" y="2063880"/>
                <a:ext cx="27000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2" name=""/>
          <p:cNvGrpSpPr/>
          <p:nvPr/>
        </p:nvGrpSpPr>
        <p:grpSpPr>
          <a:xfrm>
            <a:off x="390600" y="2123640"/>
            <a:ext cx="4576680" cy="2678040"/>
            <a:chOff x="390600" y="2123640"/>
            <a:chExt cx="4576680" cy="2678040"/>
          </a:xfrm>
        </p:grpSpPr>
        <p:grpSp>
          <p:nvGrpSpPr>
            <p:cNvPr id="1823" name=""/>
            <p:cNvGrpSpPr/>
            <p:nvPr/>
          </p:nvGrpSpPr>
          <p:grpSpPr>
            <a:xfrm>
              <a:off x="3310560" y="3499920"/>
              <a:ext cx="280440" cy="1292040"/>
              <a:chOff x="3310560" y="3499920"/>
              <a:chExt cx="280440" cy="1292040"/>
            </a:xfrm>
          </p:grpSpPr>
          <p:sp>
            <p:nvSpPr>
              <p:cNvPr id="1824" name=""/>
              <p:cNvSpPr/>
              <p:nvPr/>
            </p:nvSpPr>
            <p:spPr>
              <a:xfrm flipV="1">
                <a:off x="3315240" y="4039200"/>
                <a:ext cx="275400" cy="75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H="1" flipV="1">
                <a:off x="3310560" y="3774960"/>
                <a:ext cx="280080" cy="264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H="1" flipV="1">
                <a:off x="3314880" y="4300200"/>
                <a:ext cx="275400" cy="2167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flipV="1">
                <a:off x="3315240" y="3504600"/>
                <a:ext cx="275400" cy="797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flipV="1">
                <a:off x="3310560" y="3499920"/>
                <a:ext cx="27036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3315600" y="3775320"/>
                <a:ext cx="0" cy="1012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flipV="1">
                <a:off x="3315600" y="4035600"/>
                <a:ext cx="27036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3591000" y="3510000"/>
                <a:ext cx="0" cy="1012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2" name=""/>
            <p:cNvGrpSpPr/>
            <p:nvPr/>
          </p:nvGrpSpPr>
          <p:grpSpPr>
            <a:xfrm>
              <a:off x="390600" y="3509640"/>
              <a:ext cx="280440" cy="1292040"/>
              <a:chOff x="390600" y="3509640"/>
              <a:chExt cx="280440" cy="1292040"/>
            </a:xfrm>
          </p:grpSpPr>
          <p:sp>
            <p:nvSpPr>
              <p:cNvPr id="1833" name=""/>
              <p:cNvSpPr/>
              <p:nvPr/>
            </p:nvSpPr>
            <p:spPr>
              <a:xfrm flipV="1">
                <a:off x="395280" y="4048920"/>
                <a:ext cx="275400" cy="75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flipH="1" flipV="1">
                <a:off x="390600" y="3784680"/>
                <a:ext cx="280080" cy="264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 flipH="1" flipV="1">
                <a:off x="394920" y="4309920"/>
                <a:ext cx="275400" cy="2167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 flipV="1">
                <a:off x="395280" y="3514320"/>
                <a:ext cx="275400" cy="797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V="1">
                <a:off x="390600" y="3509640"/>
                <a:ext cx="27036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395640" y="3785040"/>
                <a:ext cx="0" cy="1012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V="1">
                <a:off x="395640" y="4045320"/>
                <a:ext cx="27036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71040" y="3519720"/>
                <a:ext cx="0" cy="1012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1" name=""/>
            <p:cNvGrpSpPr/>
            <p:nvPr/>
          </p:nvGrpSpPr>
          <p:grpSpPr>
            <a:xfrm>
              <a:off x="4686840" y="2123640"/>
              <a:ext cx="280440" cy="1292040"/>
              <a:chOff x="4686840" y="2123640"/>
              <a:chExt cx="280440" cy="1292040"/>
            </a:xfrm>
          </p:grpSpPr>
          <p:sp>
            <p:nvSpPr>
              <p:cNvPr id="1842" name=""/>
              <p:cNvSpPr/>
              <p:nvPr/>
            </p:nvSpPr>
            <p:spPr>
              <a:xfrm flipV="1">
                <a:off x="4691520" y="2662920"/>
                <a:ext cx="275400" cy="75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H="1" flipV="1">
                <a:off x="4686840" y="2398680"/>
                <a:ext cx="280080" cy="264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flipH="1" flipV="1">
                <a:off x="4691160" y="2923920"/>
                <a:ext cx="275400" cy="2167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V="1">
                <a:off x="4691520" y="2128320"/>
                <a:ext cx="275400" cy="797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V="1">
                <a:off x="4686840" y="2123640"/>
                <a:ext cx="27036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691880" y="2399040"/>
                <a:ext cx="0" cy="1012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V="1">
                <a:off x="4691880" y="2659320"/>
                <a:ext cx="27036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4967280" y="2133720"/>
                <a:ext cx="0" cy="1012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0" name=""/>
            <p:cNvGrpSpPr/>
            <p:nvPr/>
          </p:nvGrpSpPr>
          <p:grpSpPr>
            <a:xfrm>
              <a:off x="1766880" y="2138040"/>
              <a:ext cx="280440" cy="1292040"/>
              <a:chOff x="1766880" y="2138040"/>
              <a:chExt cx="280440" cy="1292040"/>
            </a:xfrm>
          </p:grpSpPr>
          <p:sp>
            <p:nvSpPr>
              <p:cNvPr id="1851" name=""/>
              <p:cNvSpPr/>
              <p:nvPr/>
            </p:nvSpPr>
            <p:spPr>
              <a:xfrm flipV="1">
                <a:off x="1771560" y="2677320"/>
                <a:ext cx="275400" cy="75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H="1" flipV="1">
                <a:off x="1766880" y="2413080"/>
                <a:ext cx="280080" cy="264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flipH="1" flipV="1">
                <a:off x="1771200" y="2938320"/>
                <a:ext cx="275400" cy="2167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flipV="1">
                <a:off x="1771560" y="2142720"/>
                <a:ext cx="275400" cy="797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V="1">
                <a:off x="1766880" y="2138040"/>
                <a:ext cx="27036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1771920" y="2413440"/>
                <a:ext cx="0" cy="1012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flipV="1">
                <a:off x="1771920" y="2673720"/>
                <a:ext cx="27036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2047320" y="2148120"/>
                <a:ext cx="0" cy="1012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59" name=""/>
          <p:cNvGrpSpPr/>
          <p:nvPr/>
        </p:nvGrpSpPr>
        <p:grpSpPr>
          <a:xfrm>
            <a:off x="669960" y="2180880"/>
            <a:ext cx="4021200" cy="2335320"/>
            <a:chOff x="669960" y="2180880"/>
            <a:chExt cx="4021200" cy="2335320"/>
          </a:xfrm>
        </p:grpSpPr>
        <p:grpSp>
          <p:nvGrpSpPr>
            <p:cNvPr id="1860" name=""/>
            <p:cNvGrpSpPr/>
            <p:nvPr/>
          </p:nvGrpSpPr>
          <p:grpSpPr>
            <a:xfrm>
              <a:off x="669960" y="3281400"/>
              <a:ext cx="2920320" cy="1234800"/>
              <a:chOff x="669960" y="3281400"/>
              <a:chExt cx="2920320" cy="1234800"/>
            </a:xfrm>
          </p:grpSpPr>
          <p:sp>
            <p:nvSpPr>
              <p:cNvPr id="1861" name=""/>
              <p:cNvSpPr/>
              <p:nvPr/>
            </p:nvSpPr>
            <p:spPr>
              <a:xfrm flipV="1">
                <a:off x="669960" y="3506040"/>
                <a:ext cx="0" cy="1010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flipV="1">
                <a:off x="669960" y="3281400"/>
                <a:ext cx="1460160" cy="224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flipV="1">
                <a:off x="3590280" y="3506040"/>
                <a:ext cx="0" cy="1010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flipH="1" flipV="1">
                <a:off x="2130120" y="3281400"/>
                <a:ext cx="1460160" cy="224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5" name=""/>
            <p:cNvGrpSpPr/>
            <p:nvPr/>
          </p:nvGrpSpPr>
          <p:grpSpPr>
            <a:xfrm>
              <a:off x="945000" y="3006000"/>
              <a:ext cx="2920320" cy="1234800"/>
              <a:chOff x="945000" y="3006000"/>
              <a:chExt cx="2920320" cy="1234800"/>
            </a:xfrm>
          </p:grpSpPr>
          <p:sp>
            <p:nvSpPr>
              <p:cNvPr id="1866" name=""/>
              <p:cNvSpPr/>
              <p:nvPr/>
            </p:nvSpPr>
            <p:spPr>
              <a:xfrm flipV="1">
                <a:off x="945000" y="3230640"/>
                <a:ext cx="0" cy="1010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 flipV="1">
                <a:off x="945000" y="3006000"/>
                <a:ext cx="1460160" cy="224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flipV="1">
                <a:off x="3865320" y="3230640"/>
                <a:ext cx="0" cy="1010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 flipH="1" flipV="1">
                <a:off x="2405160" y="3006000"/>
                <a:ext cx="1460160" cy="224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0" name=""/>
            <p:cNvGrpSpPr/>
            <p:nvPr/>
          </p:nvGrpSpPr>
          <p:grpSpPr>
            <a:xfrm>
              <a:off x="1220400" y="2730960"/>
              <a:ext cx="2920320" cy="1234800"/>
              <a:chOff x="1220400" y="2730960"/>
              <a:chExt cx="2920320" cy="1234800"/>
            </a:xfrm>
          </p:grpSpPr>
          <p:sp>
            <p:nvSpPr>
              <p:cNvPr id="1871" name=""/>
              <p:cNvSpPr/>
              <p:nvPr/>
            </p:nvSpPr>
            <p:spPr>
              <a:xfrm flipV="1">
                <a:off x="1220400" y="2955240"/>
                <a:ext cx="0" cy="1010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flipV="1">
                <a:off x="1220400" y="2730960"/>
                <a:ext cx="1460160" cy="224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V="1">
                <a:off x="4140720" y="2955240"/>
                <a:ext cx="0" cy="1010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flipH="1" flipV="1">
                <a:off x="2680560" y="2730960"/>
                <a:ext cx="1460160" cy="224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5" name=""/>
            <p:cNvGrpSpPr/>
            <p:nvPr/>
          </p:nvGrpSpPr>
          <p:grpSpPr>
            <a:xfrm>
              <a:off x="1495800" y="2455920"/>
              <a:ext cx="2920320" cy="1234800"/>
              <a:chOff x="1495800" y="2455920"/>
              <a:chExt cx="2920320" cy="1234800"/>
            </a:xfrm>
          </p:grpSpPr>
          <p:sp>
            <p:nvSpPr>
              <p:cNvPr id="1876" name=""/>
              <p:cNvSpPr/>
              <p:nvPr/>
            </p:nvSpPr>
            <p:spPr>
              <a:xfrm flipV="1">
                <a:off x="1495800" y="2680560"/>
                <a:ext cx="0" cy="1010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 flipV="1">
                <a:off x="1495800" y="2455920"/>
                <a:ext cx="1460160" cy="224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flipV="1">
                <a:off x="4416120" y="2680560"/>
                <a:ext cx="0" cy="1010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flipH="1" flipV="1">
                <a:off x="2955960" y="2455920"/>
                <a:ext cx="1460160" cy="224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0" name=""/>
            <p:cNvGrpSpPr/>
            <p:nvPr/>
          </p:nvGrpSpPr>
          <p:grpSpPr>
            <a:xfrm>
              <a:off x="1770840" y="2180880"/>
              <a:ext cx="2920320" cy="1234800"/>
              <a:chOff x="1770840" y="2180880"/>
              <a:chExt cx="2920320" cy="1234800"/>
            </a:xfrm>
          </p:grpSpPr>
          <p:sp>
            <p:nvSpPr>
              <p:cNvPr id="1881" name=""/>
              <p:cNvSpPr/>
              <p:nvPr/>
            </p:nvSpPr>
            <p:spPr>
              <a:xfrm flipV="1">
                <a:off x="1770840" y="2405520"/>
                <a:ext cx="0" cy="1010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flipV="1">
                <a:off x="1770840" y="2180880"/>
                <a:ext cx="1460160" cy="224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 flipV="1">
                <a:off x="4691160" y="2405520"/>
                <a:ext cx="0" cy="1010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 flipH="1" flipV="1">
                <a:off x="3231000" y="2180880"/>
                <a:ext cx="1460160" cy="2242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5" name=""/>
          <p:cNvGrpSpPr/>
          <p:nvPr/>
        </p:nvGrpSpPr>
        <p:grpSpPr>
          <a:xfrm>
            <a:off x="395280" y="2411280"/>
            <a:ext cx="4572000" cy="2386080"/>
            <a:chOff x="395280" y="2411280"/>
            <a:chExt cx="4572000" cy="2386080"/>
          </a:xfrm>
        </p:grpSpPr>
        <p:grpSp>
          <p:nvGrpSpPr>
            <p:cNvPr id="1886" name=""/>
            <p:cNvGrpSpPr/>
            <p:nvPr/>
          </p:nvGrpSpPr>
          <p:grpSpPr>
            <a:xfrm>
              <a:off x="395280" y="2426400"/>
              <a:ext cx="1651680" cy="2369880"/>
              <a:chOff x="395280" y="2426400"/>
              <a:chExt cx="1651680" cy="2369880"/>
            </a:xfrm>
          </p:grpSpPr>
          <p:sp>
            <p:nvSpPr>
              <p:cNvPr id="1887" name=""/>
              <p:cNvSpPr/>
              <p:nvPr/>
            </p:nvSpPr>
            <p:spPr>
              <a:xfrm flipV="1">
                <a:off x="395280" y="2426400"/>
                <a:ext cx="1651680" cy="1650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flipV="1">
                <a:off x="395280" y="2679480"/>
                <a:ext cx="1651680" cy="1650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flipV="1">
                <a:off x="395280" y="2903760"/>
                <a:ext cx="1651680" cy="1650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flipV="1">
                <a:off x="395280" y="3145680"/>
                <a:ext cx="1651680" cy="1650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1" name=""/>
            <p:cNvGrpSpPr/>
            <p:nvPr/>
          </p:nvGrpSpPr>
          <p:grpSpPr>
            <a:xfrm>
              <a:off x="3315600" y="2411280"/>
              <a:ext cx="1651680" cy="2386080"/>
              <a:chOff x="3315600" y="2411280"/>
              <a:chExt cx="1651680" cy="2386080"/>
            </a:xfrm>
          </p:grpSpPr>
          <p:sp>
            <p:nvSpPr>
              <p:cNvPr id="1892" name=""/>
              <p:cNvSpPr/>
              <p:nvPr/>
            </p:nvSpPr>
            <p:spPr>
              <a:xfrm flipV="1">
                <a:off x="3315600" y="3146400"/>
                <a:ext cx="1651680" cy="1650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 flipV="1">
                <a:off x="3315600" y="2411280"/>
                <a:ext cx="1651680" cy="1650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 flipV="1">
                <a:off x="3315600" y="2664000"/>
                <a:ext cx="1651680" cy="1650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 flipV="1">
                <a:off x="3315600" y="2906280"/>
                <a:ext cx="1651680" cy="1650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6" name=""/>
          <p:cNvSpPr/>
          <p:nvPr/>
        </p:nvSpPr>
        <p:spPr>
          <a:xfrm flipV="1">
            <a:off x="1859040" y="1914480"/>
            <a:ext cx="1655640" cy="1650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7" name=""/>
          <p:cNvGrpSpPr/>
          <p:nvPr/>
        </p:nvGrpSpPr>
        <p:grpSpPr>
          <a:xfrm>
            <a:off x="395280" y="2130480"/>
            <a:ext cx="4568760" cy="1650960"/>
            <a:chOff x="395280" y="2130480"/>
            <a:chExt cx="4568760" cy="1650960"/>
          </a:xfrm>
        </p:grpSpPr>
        <p:sp>
          <p:nvSpPr>
            <p:cNvPr id="1898" name=""/>
            <p:cNvSpPr/>
            <p:nvPr/>
          </p:nvSpPr>
          <p:spPr>
            <a:xfrm flipV="1">
              <a:off x="3307680" y="2130480"/>
              <a:ext cx="1656360" cy="16509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395280" y="2130480"/>
              <a:ext cx="1651680" cy="16509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0" name=""/>
          <p:cNvGrpSpPr/>
          <p:nvPr/>
        </p:nvGrpSpPr>
        <p:grpSpPr>
          <a:xfrm>
            <a:off x="612720" y="1941120"/>
            <a:ext cx="4119480" cy="1809720"/>
            <a:chOff x="612720" y="1941120"/>
            <a:chExt cx="4119480" cy="1809720"/>
          </a:xfrm>
        </p:grpSpPr>
        <p:sp>
          <p:nvSpPr>
            <p:cNvPr id="1901" name=""/>
            <p:cNvSpPr/>
            <p:nvPr/>
          </p:nvSpPr>
          <p:spPr>
            <a:xfrm flipV="1">
              <a:off x="2130840" y="1947960"/>
              <a:ext cx="1655640" cy="1652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V="1">
              <a:off x="2378880" y="1970280"/>
              <a:ext cx="1655640" cy="1652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 flipV="1">
              <a:off x="2847240" y="2050920"/>
              <a:ext cx="1655640" cy="1652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V="1">
              <a:off x="3076560" y="2098800"/>
              <a:ext cx="1655640" cy="1652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 flipV="1">
              <a:off x="612720" y="2098440"/>
              <a:ext cx="1633320" cy="1652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V="1">
              <a:off x="884520" y="2060280"/>
              <a:ext cx="1633320" cy="1652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V="1">
              <a:off x="1349640" y="1986120"/>
              <a:ext cx="1633320" cy="1652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V="1">
              <a:off x="1600200" y="1941120"/>
              <a:ext cx="1639440" cy="1652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V="1">
              <a:off x="1110240" y="2024280"/>
              <a:ext cx="1633320" cy="1652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V="1">
              <a:off x="2585520" y="2016000"/>
              <a:ext cx="1655640" cy="1663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1" name=""/>
          <p:cNvGrpSpPr/>
          <p:nvPr/>
        </p:nvGrpSpPr>
        <p:grpSpPr>
          <a:xfrm>
            <a:off x="395280" y="1905120"/>
            <a:ext cx="4572000" cy="2887560"/>
            <a:chOff x="395280" y="1905120"/>
            <a:chExt cx="4572000" cy="2887560"/>
          </a:xfrm>
        </p:grpSpPr>
        <p:sp>
          <p:nvSpPr>
            <p:cNvPr id="1912" name=""/>
            <p:cNvSpPr/>
            <p:nvPr/>
          </p:nvSpPr>
          <p:spPr>
            <a:xfrm flipV="1">
              <a:off x="395280" y="3556800"/>
              <a:ext cx="1460160" cy="224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H="1" flipV="1">
              <a:off x="1855440" y="3556800"/>
              <a:ext cx="1460160" cy="224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2046960" y="1905120"/>
              <a:ext cx="1460160" cy="224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5" name=""/>
            <p:cNvGrpSpPr/>
            <p:nvPr/>
          </p:nvGrpSpPr>
          <p:grpSpPr>
            <a:xfrm>
              <a:off x="395280" y="2129760"/>
              <a:ext cx="4572000" cy="2662920"/>
              <a:chOff x="395280" y="2129760"/>
              <a:chExt cx="4572000" cy="2662920"/>
            </a:xfrm>
          </p:grpSpPr>
          <p:sp>
            <p:nvSpPr>
              <p:cNvPr id="1916" name=""/>
              <p:cNvSpPr/>
              <p:nvPr/>
            </p:nvSpPr>
            <p:spPr>
              <a:xfrm flipV="1">
                <a:off x="395280" y="3781800"/>
                <a:ext cx="0" cy="10108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 flipV="1">
                <a:off x="3315600" y="3781800"/>
                <a:ext cx="0" cy="10108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flipV="1">
                <a:off x="2046960" y="2129760"/>
                <a:ext cx="0" cy="10108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flipV="1">
                <a:off x="4967280" y="2129760"/>
                <a:ext cx="0" cy="10108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0" name=""/>
            <p:cNvSpPr/>
            <p:nvPr/>
          </p:nvSpPr>
          <p:spPr>
            <a:xfrm flipH="1" flipV="1">
              <a:off x="3507120" y="1905120"/>
              <a:ext cx="1460160" cy="2246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1" name=""/>
          <p:cNvSpPr/>
          <p:nvPr/>
        </p:nvSpPr>
        <p:spPr>
          <a:xfrm>
            <a:off x="1579680" y="1595520"/>
            <a:ext cx="525240" cy="566640"/>
          </a:xfrm>
          <a:prstGeom prst="wedgeEllipseCallout">
            <a:avLst>
              <a:gd name="adj1" fmla="val 115203"/>
              <a:gd name="adj2" fmla="val 1685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2" name=""/>
          <p:cNvGrpSpPr/>
          <p:nvPr/>
        </p:nvGrpSpPr>
        <p:grpSpPr>
          <a:xfrm>
            <a:off x="3778200" y="4710240"/>
            <a:ext cx="4708080" cy="1800000"/>
            <a:chOff x="3778200" y="4710240"/>
            <a:chExt cx="4708080" cy="1800000"/>
          </a:xfrm>
        </p:grpSpPr>
        <p:grpSp>
          <p:nvGrpSpPr>
            <p:cNvPr id="1923" name=""/>
            <p:cNvGrpSpPr/>
            <p:nvPr/>
          </p:nvGrpSpPr>
          <p:grpSpPr>
            <a:xfrm>
              <a:off x="4061520" y="5022720"/>
              <a:ext cx="1235520" cy="1219320"/>
              <a:chOff x="4061520" y="5022720"/>
              <a:chExt cx="1235520" cy="1219320"/>
            </a:xfrm>
          </p:grpSpPr>
          <p:sp>
            <p:nvSpPr>
              <p:cNvPr id="1924" name=""/>
              <p:cNvSpPr/>
              <p:nvPr/>
            </p:nvSpPr>
            <p:spPr>
              <a:xfrm>
                <a:off x="5161680" y="5022720"/>
                <a:ext cx="135360" cy="135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4880520" y="5278680"/>
                <a:ext cx="135360" cy="13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4611960" y="5543640"/>
                <a:ext cx="13536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4334400" y="5819760"/>
                <a:ext cx="13608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4061520" y="6106680"/>
                <a:ext cx="13536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9" name=""/>
            <p:cNvGrpSpPr/>
            <p:nvPr/>
          </p:nvGrpSpPr>
          <p:grpSpPr>
            <a:xfrm>
              <a:off x="6993000" y="5001120"/>
              <a:ext cx="1216080" cy="1232280"/>
              <a:chOff x="6993000" y="5001120"/>
              <a:chExt cx="1216080" cy="1232280"/>
            </a:xfrm>
          </p:grpSpPr>
          <p:sp>
            <p:nvSpPr>
              <p:cNvPr id="1930" name=""/>
              <p:cNvSpPr/>
              <p:nvPr/>
            </p:nvSpPr>
            <p:spPr>
              <a:xfrm>
                <a:off x="8073720" y="5001120"/>
                <a:ext cx="135360" cy="135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7802280" y="5270040"/>
                <a:ext cx="135720" cy="13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7533360" y="5535000"/>
                <a:ext cx="135720" cy="135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7249320" y="5810760"/>
                <a:ext cx="138960" cy="13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993000" y="6098040"/>
                <a:ext cx="13536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5" name=""/>
            <p:cNvGrpSpPr/>
            <p:nvPr/>
          </p:nvGrpSpPr>
          <p:grpSpPr>
            <a:xfrm>
              <a:off x="5422680" y="4710240"/>
              <a:ext cx="3063600" cy="138960"/>
              <a:chOff x="5422680" y="4710240"/>
              <a:chExt cx="3063600" cy="138960"/>
            </a:xfrm>
          </p:grpSpPr>
          <p:sp>
            <p:nvSpPr>
              <p:cNvPr id="1936" name=""/>
              <p:cNvSpPr/>
              <p:nvPr/>
            </p:nvSpPr>
            <p:spPr>
              <a:xfrm>
                <a:off x="8350920" y="4713840"/>
                <a:ext cx="13536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5422680" y="4710240"/>
                <a:ext cx="135720" cy="13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394400" y="4710240"/>
                <a:ext cx="135720" cy="13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5918040" y="4710600"/>
                <a:ext cx="13536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6376680" y="4710600"/>
                <a:ext cx="13536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6865200" y="4710600"/>
                <a:ext cx="13536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7884360" y="4710600"/>
                <a:ext cx="13536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3" name=""/>
            <p:cNvGrpSpPr/>
            <p:nvPr/>
          </p:nvGrpSpPr>
          <p:grpSpPr>
            <a:xfrm>
              <a:off x="3778200" y="6374520"/>
              <a:ext cx="3057120" cy="135720"/>
              <a:chOff x="3778200" y="6374520"/>
              <a:chExt cx="3057120" cy="135720"/>
            </a:xfrm>
          </p:grpSpPr>
          <p:sp>
            <p:nvSpPr>
              <p:cNvPr id="1944" name=""/>
              <p:cNvSpPr/>
              <p:nvPr/>
            </p:nvSpPr>
            <p:spPr>
              <a:xfrm>
                <a:off x="6699600" y="6374520"/>
                <a:ext cx="135720" cy="135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3778200" y="6374520"/>
                <a:ext cx="13536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4269600" y="6374520"/>
                <a:ext cx="13536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4738320" y="6374520"/>
                <a:ext cx="13536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5754240" y="6374520"/>
                <a:ext cx="13536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6222960" y="6374520"/>
                <a:ext cx="135360" cy="135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50" name=""/>
          <p:cNvSpPr/>
          <p:nvPr/>
        </p:nvSpPr>
        <p:spPr>
          <a:xfrm>
            <a:off x="5195880" y="5788080"/>
            <a:ext cx="523800" cy="566640"/>
          </a:xfrm>
          <a:prstGeom prst="wedgeEllipseCallout">
            <a:avLst>
              <a:gd name="adj1" fmla="val 66962"/>
              <a:gd name="adj2" fmla="val -284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1" name=""/>
          <p:cNvGrpSpPr/>
          <p:nvPr/>
        </p:nvGrpSpPr>
        <p:grpSpPr>
          <a:xfrm>
            <a:off x="3859200" y="3692520"/>
            <a:ext cx="4586400" cy="2657160"/>
            <a:chOff x="3859200" y="3692520"/>
            <a:chExt cx="4586400" cy="2657160"/>
          </a:xfrm>
        </p:grpSpPr>
        <p:grpSp>
          <p:nvGrpSpPr>
            <p:cNvPr id="1952" name=""/>
            <p:cNvGrpSpPr/>
            <p:nvPr/>
          </p:nvGrpSpPr>
          <p:grpSpPr>
            <a:xfrm>
              <a:off x="5495760" y="3692520"/>
              <a:ext cx="2949840" cy="994680"/>
              <a:chOff x="5495760" y="3692520"/>
              <a:chExt cx="2949840" cy="994680"/>
            </a:xfrm>
          </p:grpSpPr>
          <p:sp>
            <p:nvSpPr>
              <p:cNvPr id="1953" name=""/>
              <p:cNvSpPr/>
              <p:nvPr/>
            </p:nvSpPr>
            <p:spPr>
              <a:xfrm>
                <a:off x="5525640" y="3692520"/>
                <a:ext cx="291996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5517720" y="3983400"/>
                <a:ext cx="291996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506920" y="4461120"/>
                <a:ext cx="293364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518800" y="4222080"/>
                <a:ext cx="292212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5495760" y="4687200"/>
                <a:ext cx="291996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8" name=""/>
            <p:cNvGrpSpPr/>
            <p:nvPr/>
          </p:nvGrpSpPr>
          <p:grpSpPr>
            <a:xfrm>
              <a:off x="3859200" y="5339160"/>
              <a:ext cx="2934720" cy="1010520"/>
              <a:chOff x="3859200" y="5339160"/>
              <a:chExt cx="2934720" cy="1010520"/>
            </a:xfrm>
          </p:grpSpPr>
          <p:sp>
            <p:nvSpPr>
              <p:cNvPr id="1959" name=""/>
              <p:cNvSpPr/>
              <p:nvPr/>
            </p:nvSpPr>
            <p:spPr>
              <a:xfrm>
                <a:off x="5835960" y="6349680"/>
                <a:ext cx="9504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3874680" y="5339160"/>
                <a:ext cx="291924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866760" y="5630040"/>
                <a:ext cx="291924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5831280" y="6107760"/>
                <a:ext cx="95832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859200" y="5869080"/>
                <a:ext cx="96156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5831280" y="5869080"/>
                <a:ext cx="95832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3866760" y="6107760"/>
                <a:ext cx="96156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3866760" y="6343920"/>
                <a:ext cx="950400" cy="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7" name=""/>
          <p:cNvGrpSpPr/>
          <p:nvPr/>
        </p:nvGrpSpPr>
        <p:grpSpPr>
          <a:xfrm>
            <a:off x="3855600" y="3451320"/>
            <a:ext cx="4577040" cy="2894040"/>
            <a:chOff x="3855600" y="3451320"/>
            <a:chExt cx="4577040" cy="2894040"/>
          </a:xfrm>
        </p:grpSpPr>
        <p:sp>
          <p:nvSpPr>
            <p:cNvPr id="1968" name=""/>
            <p:cNvSpPr/>
            <p:nvPr/>
          </p:nvSpPr>
          <p:spPr>
            <a:xfrm>
              <a:off x="5326560" y="5122800"/>
              <a:ext cx="0" cy="504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9" name=""/>
            <p:cNvGrpSpPr/>
            <p:nvPr/>
          </p:nvGrpSpPr>
          <p:grpSpPr>
            <a:xfrm>
              <a:off x="3855600" y="3451320"/>
              <a:ext cx="4577040" cy="2894040"/>
              <a:chOff x="3855600" y="3451320"/>
              <a:chExt cx="4577040" cy="2894040"/>
            </a:xfrm>
          </p:grpSpPr>
          <p:grpSp>
            <p:nvGrpSpPr>
              <p:cNvPr id="1970" name=""/>
              <p:cNvGrpSpPr/>
              <p:nvPr/>
            </p:nvGrpSpPr>
            <p:grpSpPr>
              <a:xfrm>
                <a:off x="5512680" y="3451320"/>
                <a:ext cx="2919960" cy="1232280"/>
                <a:chOff x="5512680" y="3451320"/>
                <a:chExt cx="2919960" cy="1232280"/>
              </a:xfrm>
            </p:grpSpPr>
            <p:sp>
              <p:nvSpPr>
                <p:cNvPr id="1971" name=""/>
                <p:cNvSpPr/>
                <p:nvPr/>
              </p:nvSpPr>
              <p:spPr>
                <a:xfrm>
                  <a:off x="7965360" y="3603960"/>
                  <a:ext cx="0" cy="1079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8432640" y="3685320"/>
                  <a:ext cx="0" cy="99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7477920" y="3539880"/>
                  <a:ext cx="0" cy="11437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6973560" y="3451320"/>
                  <a:ext cx="0" cy="1232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6467040" y="3528720"/>
                  <a:ext cx="0" cy="1154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5512680" y="3680280"/>
                  <a:ext cx="0" cy="10033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6000840" y="3611880"/>
                  <a:ext cx="0" cy="10717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8" name=""/>
              <p:cNvGrpSpPr/>
              <p:nvPr/>
            </p:nvGrpSpPr>
            <p:grpSpPr>
              <a:xfrm>
                <a:off x="3855600" y="5185800"/>
                <a:ext cx="2930040" cy="1159560"/>
                <a:chOff x="3855600" y="5185800"/>
                <a:chExt cx="2930040" cy="1159560"/>
              </a:xfrm>
            </p:grpSpPr>
            <p:sp>
              <p:nvSpPr>
                <p:cNvPr id="1979" name=""/>
                <p:cNvSpPr/>
                <p:nvPr/>
              </p:nvSpPr>
              <p:spPr>
                <a:xfrm>
                  <a:off x="6318360" y="5260680"/>
                  <a:ext cx="0" cy="1084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>
                  <a:off x="6785640" y="5337000"/>
                  <a:ext cx="0" cy="99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>
                  <a:off x="5830920" y="5191920"/>
                  <a:ext cx="0" cy="1148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4820400" y="5185800"/>
                  <a:ext cx="0" cy="1154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 flipH="1">
                  <a:off x="3855600" y="5332320"/>
                  <a:ext cx="9720" cy="1013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4353840" y="5268600"/>
                  <a:ext cx="0" cy="10717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85" name=""/>
          <p:cNvGrpSpPr/>
          <p:nvPr/>
        </p:nvGrpSpPr>
        <p:grpSpPr>
          <a:xfrm>
            <a:off x="3860280" y="3454560"/>
            <a:ext cx="4579920" cy="1877760"/>
            <a:chOff x="3860280" y="3454560"/>
            <a:chExt cx="4579920" cy="1877760"/>
          </a:xfrm>
        </p:grpSpPr>
        <p:grpSp>
          <p:nvGrpSpPr>
            <p:cNvPr id="1986" name=""/>
            <p:cNvGrpSpPr/>
            <p:nvPr/>
          </p:nvGrpSpPr>
          <p:grpSpPr>
            <a:xfrm>
              <a:off x="3860280" y="4830120"/>
              <a:ext cx="3195360" cy="502200"/>
              <a:chOff x="3860280" y="4830120"/>
              <a:chExt cx="3195360" cy="502200"/>
            </a:xfrm>
          </p:grpSpPr>
          <p:sp>
            <p:nvSpPr>
              <p:cNvPr id="1987" name=""/>
              <p:cNvSpPr/>
              <p:nvPr/>
            </p:nvSpPr>
            <p:spPr>
              <a:xfrm flipH="1" flipV="1">
                <a:off x="5595840" y="4833000"/>
                <a:ext cx="248400" cy="350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H="1">
                <a:off x="4804920" y="4833000"/>
                <a:ext cx="790560" cy="350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flipH="1" flipV="1">
                <a:off x="6555960" y="4967280"/>
                <a:ext cx="224280" cy="36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flipV="1">
                <a:off x="6312240" y="5055120"/>
                <a:ext cx="743400" cy="20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 flipH="1" flipV="1">
                <a:off x="6086160" y="4915080"/>
                <a:ext cx="226080" cy="347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flipH="1">
                <a:off x="5825160" y="4978440"/>
                <a:ext cx="770040" cy="2052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 flipH="1">
                <a:off x="5360400" y="4915080"/>
                <a:ext cx="725760" cy="187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flipH="1" flipV="1">
                <a:off x="5081400" y="4898880"/>
                <a:ext cx="278280" cy="203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flipH="1" flipV="1">
                <a:off x="4622760" y="4978440"/>
                <a:ext cx="191520" cy="210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 flipH="1">
                <a:off x="4345920" y="4915080"/>
                <a:ext cx="735480" cy="347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flipH="1" flipV="1">
                <a:off x="4135680" y="5055120"/>
                <a:ext cx="213120" cy="197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 flipH="1">
                <a:off x="3860280" y="4978440"/>
                <a:ext cx="762120" cy="3538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flipV="1">
                <a:off x="6776280" y="5055840"/>
                <a:ext cx="270360" cy="270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flipV="1">
                <a:off x="5340600" y="4830120"/>
                <a:ext cx="270360" cy="270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flipV="1">
                <a:off x="5832360" y="4908600"/>
                <a:ext cx="270360" cy="270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flipV="1">
                <a:off x="3865680" y="5051160"/>
                <a:ext cx="270360" cy="270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 flipV="1">
                <a:off x="4357440" y="4977360"/>
                <a:ext cx="270360" cy="270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 flipV="1">
                <a:off x="4819320" y="4908600"/>
                <a:ext cx="270360" cy="270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flipV="1">
                <a:off x="4131000" y="4834800"/>
                <a:ext cx="1469880" cy="221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flipV="1">
                <a:off x="3865680" y="5109840"/>
                <a:ext cx="1469880" cy="221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5335560" y="5109840"/>
                <a:ext cx="1430280" cy="221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605920" y="4834800"/>
                <a:ext cx="1430640" cy="221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V="1">
                <a:off x="6299280" y="4992120"/>
                <a:ext cx="270360" cy="270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0" name=""/>
            <p:cNvGrpSpPr/>
            <p:nvPr/>
          </p:nvGrpSpPr>
          <p:grpSpPr>
            <a:xfrm>
              <a:off x="5244840" y="3454560"/>
              <a:ext cx="3195360" cy="502200"/>
              <a:chOff x="5244840" y="3454560"/>
              <a:chExt cx="3195360" cy="502200"/>
            </a:xfrm>
          </p:grpSpPr>
          <p:sp>
            <p:nvSpPr>
              <p:cNvPr id="2011" name=""/>
              <p:cNvSpPr/>
              <p:nvPr/>
            </p:nvSpPr>
            <p:spPr>
              <a:xfrm flipH="1" flipV="1">
                <a:off x="6980400" y="3457440"/>
                <a:ext cx="248400" cy="350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flipH="1">
                <a:off x="6189480" y="3457440"/>
                <a:ext cx="790560" cy="350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flipH="1" flipV="1">
                <a:off x="7940520" y="3591720"/>
                <a:ext cx="224280" cy="365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 flipV="1">
                <a:off x="7696800" y="3679560"/>
                <a:ext cx="743400" cy="207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 flipH="1" flipV="1">
                <a:off x="7470720" y="3539520"/>
                <a:ext cx="226080" cy="347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 flipH="1">
                <a:off x="7209720" y="3602880"/>
                <a:ext cx="770040" cy="2052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flipH="1">
                <a:off x="6744960" y="3539520"/>
                <a:ext cx="725760" cy="187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flipH="1" flipV="1">
                <a:off x="6465960" y="3523320"/>
                <a:ext cx="278280" cy="203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flipH="1" flipV="1">
                <a:off x="6007320" y="3602880"/>
                <a:ext cx="191520" cy="210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flipH="1">
                <a:off x="5730480" y="3539520"/>
                <a:ext cx="735480" cy="347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flipH="1" flipV="1">
                <a:off x="5520240" y="3679560"/>
                <a:ext cx="213120" cy="197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flipH="1">
                <a:off x="5244840" y="3602880"/>
                <a:ext cx="762120" cy="3538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flipV="1">
                <a:off x="8160840" y="3680280"/>
                <a:ext cx="270360" cy="270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flipV="1">
                <a:off x="6725160" y="3454560"/>
                <a:ext cx="270360" cy="270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flipV="1">
                <a:off x="7216920" y="3533040"/>
                <a:ext cx="270360" cy="270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 flipV="1">
                <a:off x="5250240" y="3675600"/>
                <a:ext cx="270360" cy="270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flipV="1">
                <a:off x="5742000" y="3601800"/>
                <a:ext cx="270360" cy="270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V="1">
                <a:off x="6203880" y="3533040"/>
                <a:ext cx="270360" cy="270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 flipV="1">
                <a:off x="5515560" y="3459240"/>
                <a:ext cx="1469880" cy="221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 flipV="1">
                <a:off x="5250240" y="3734280"/>
                <a:ext cx="1469880" cy="221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6720120" y="3734280"/>
                <a:ext cx="1430280" cy="221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6990480" y="3459240"/>
                <a:ext cx="1430640" cy="221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flipV="1">
                <a:off x="7683840" y="3616560"/>
                <a:ext cx="270360" cy="2700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34" name=""/>
          <p:cNvGrpSpPr/>
          <p:nvPr/>
        </p:nvGrpSpPr>
        <p:grpSpPr>
          <a:xfrm>
            <a:off x="3857760" y="3674880"/>
            <a:ext cx="4576680" cy="2678040"/>
            <a:chOff x="3857760" y="3674880"/>
            <a:chExt cx="4576680" cy="2678040"/>
          </a:xfrm>
        </p:grpSpPr>
        <p:grpSp>
          <p:nvGrpSpPr>
            <p:cNvPr id="2035" name=""/>
            <p:cNvGrpSpPr/>
            <p:nvPr/>
          </p:nvGrpSpPr>
          <p:grpSpPr>
            <a:xfrm>
              <a:off x="6777720" y="5051160"/>
              <a:ext cx="280440" cy="1292040"/>
              <a:chOff x="6777720" y="5051160"/>
              <a:chExt cx="280440" cy="1292040"/>
            </a:xfrm>
          </p:grpSpPr>
          <p:sp>
            <p:nvSpPr>
              <p:cNvPr id="2036" name=""/>
              <p:cNvSpPr/>
              <p:nvPr/>
            </p:nvSpPr>
            <p:spPr>
              <a:xfrm flipV="1">
                <a:off x="6782400" y="5590440"/>
                <a:ext cx="275400" cy="75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 flipH="1" flipV="1">
                <a:off x="6777720" y="5326200"/>
                <a:ext cx="280080" cy="264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 flipH="1" flipV="1">
                <a:off x="6782040" y="5851440"/>
                <a:ext cx="275400" cy="2167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 flipV="1">
                <a:off x="6782400" y="5055840"/>
                <a:ext cx="275400" cy="797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flipV="1">
                <a:off x="6777720" y="5051160"/>
                <a:ext cx="27036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6782760" y="5326560"/>
                <a:ext cx="0" cy="1012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 flipV="1">
                <a:off x="6782760" y="5586840"/>
                <a:ext cx="27036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7058160" y="5061240"/>
                <a:ext cx="0" cy="1012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4" name=""/>
            <p:cNvGrpSpPr/>
            <p:nvPr/>
          </p:nvGrpSpPr>
          <p:grpSpPr>
            <a:xfrm>
              <a:off x="3857760" y="5060880"/>
              <a:ext cx="280440" cy="1292040"/>
              <a:chOff x="3857760" y="5060880"/>
              <a:chExt cx="280440" cy="1292040"/>
            </a:xfrm>
          </p:grpSpPr>
          <p:sp>
            <p:nvSpPr>
              <p:cNvPr id="2045" name=""/>
              <p:cNvSpPr/>
              <p:nvPr/>
            </p:nvSpPr>
            <p:spPr>
              <a:xfrm flipV="1">
                <a:off x="3862440" y="5600160"/>
                <a:ext cx="275400" cy="75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 flipH="1" flipV="1">
                <a:off x="3857760" y="5335920"/>
                <a:ext cx="280080" cy="264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 flipH="1" flipV="1">
                <a:off x="3862080" y="5861160"/>
                <a:ext cx="275400" cy="2167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 flipV="1">
                <a:off x="3862440" y="5065560"/>
                <a:ext cx="275400" cy="797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flipV="1">
                <a:off x="3857760" y="5060880"/>
                <a:ext cx="27036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3862800" y="5336280"/>
                <a:ext cx="0" cy="1012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 flipV="1">
                <a:off x="3862800" y="5596560"/>
                <a:ext cx="27036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4138200" y="5070960"/>
                <a:ext cx="0" cy="1012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3" name=""/>
            <p:cNvGrpSpPr/>
            <p:nvPr/>
          </p:nvGrpSpPr>
          <p:grpSpPr>
            <a:xfrm>
              <a:off x="8154000" y="3674880"/>
              <a:ext cx="280440" cy="1292040"/>
              <a:chOff x="8154000" y="3674880"/>
              <a:chExt cx="280440" cy="1292040"/>
            </a:xfrm>
          </p:grpSpPr>
          <p:sp>
            <p:nvSpPr>
              <p:cNvPr id="2054" name=""/>
              <p:cNvSpPr/>
              <p:nvPr/>
            </p:nvSpPr>
            <p:spPr>
              <a:xfrm flipV="1">
                <a:off x="8158680" y="4214160"/>
                <a:ext cx="275400" cy="75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 flipH="1" flipV="1">
                <a:off x="8154000" y="3949920"/>
                <a:ext cx="280080" cy="264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 flipH="1" flipV="1">
                <a:off x="8158320" y="4475160"/>
                <a:ext cx="275400" cy="2167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 flipV="1">
                <a:off x="8158680" y="3679560"/>
                <a:ext cx="275400" cy="797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flipV="1">
                <a:off x="8154000" y="3674880"/>
                <a:ext cx="27036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8159040" y="3950280"/>
                <a:ext cx="0" cy="1012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 flipV="1">
                <a:off x="8159040" y="4210560"/>
                <a:ext cx="27036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8434440" y="3684960"/>
                <a:ext cx="0" cy="1012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2" name=""/>
            <p:cNvGrpSpPr/>
            <p:nvPr/>
          </p:nvGrpSpPr>
          <p:grpSpPr>
            <a:xfrm>
              <a:off x="5234040" y="3689280"/>
              <a:ext cx="280440" cy="1292040"/>
              <a:chOff x="5234040" y="3689280"/>
              <a:chExt cx="280440" cy="1292040"/>
            </a:xfrm>
          </p:grpSpPr>
          <p:sp>
            <p:nvSpPr>
              <p:cNvPr id="2063" name=""/>
              <p:cNvSpPr/>
              <p:nvPr/>
            </p:nvSpPr>
            <p:spPr>
              <a:xfrm flipV="1">
                <a:off x="5238720" y="4228560"/>
                <a:ext cx="275400" cy="752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 flipH="1" flipV="1">
                <a:off x="5234040" y="3964320"/>
                <a:ext cx="280080" cy="264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 flipH="1" flipV="1">
                <a:off x="5238360" y="4489560"/>
                <a:ext cx="275400" cy="2167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 flipV="1">
                <a:off x="5238720" y="3693960"/>
                <a:ext cx="275400" cy="797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flipV="1">
                <a:off x="5234040" y="3689280"/>
                <a:ext cx="27036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5239080" y="3964680"/>
                <a:ext cx="0" cy="1012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 flipV="1">
                <a:off x="5239080" y="4224960"/>
                <a:ext cx="270360" cy="270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514480" y="3699360"/>
                <a:ext cx="0" cy="1012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71" name=""/>
          <p:cNvGrpSpPr/>
          <p:nvPr/>
        </p:nvGrpSpPr>
        <p:grpSpPr>
          <a:xfrm>
            <a:off x="4137120" y="3730680"/>
            <a:ext cx="4022640" cy="2338200"/>
            <a:chOff x="4137120" y="3730680"/>
            <a:chExt cx="4022640" cy="2338200"/>
          </a:xfrm>
        </p:grpSpPr>
        <p:grpSp>
          <p:nvGrpSpPr>
            <p:cNvPr id="2072" name=""/>
            <p:cNvGrpSpPr/>
            <p:nvPr/>
          </p:nvGrpSpPr>
          <p:grpSpPr>
            <a:xfrm>
              <a:off x="4137120" y="4832640"/>
              <a:ext cx="2921400" cy="1236240"/>
              <a:chOff x="4137120" y="4832640"/>
              <a:chExt cx="2921400" cy="1236240"/>
            </a:xfrm>
          </p:grpSpPr>
          <p:sp>
            <p:nvSpPr>
              <p:cNvPr id="2073" name=""/>
              <p:cNvSpPr/>
              <p:nvPr/>
            </p:nvSpPr>
            <p:spPr>
              <a:xfrm flipV="1">
                <a:off x="4137120" y="5057280"/>
                <a:ext cx="0" cy="1011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 flipV="1">
                <a:off x="4137120" y="4832640"/>
                <a:ext cx="1460880" cy="224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flipV="1">
                <a:off x="7058520" y="5057280"/>
                <a:ext cx="0" cy="1011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 flipH="1" flipV="1">
                <a:off x="5597640" y="4832640"/>
                <a:ext cx="1460520" cy="224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7" name=""/>
            <p:cNvGrpSpPr/>
            <p:nvPr/>
          </p:nvGrpSpPr>
          <p:grpSpPr>
            <a:xfrm>
              <a:off x="4412160" y="4556880"/>
              <a:ext cx="2921400" cy="1236240"/>
              <a:chOff x="4412160" y="4556880"/>
              <a:chExt cx="2921400" cy="1236240"/>
            </a:xfrm>
          </p:grpSpPr>
          <p:sp>
            <p:nvSpPr>
              <p:cNvPr id="2078" name=""/>
              <p:cNvSpPr/>
              <p:nvPr/>
            </p:nvSpPr>
            <p:spPr>
              <a:xfrm flipV="1">
                <a:off x="4412160" y="4781520"/>
                <a:ext cx="0" cy="1011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flipV="1">
                <a:off x="4412160" y="4556880"/>
                <a:ext cx="1460520" cy="224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flipV="1">
                <a:off x="7333560" y="4781520"/>
                <a:ext cx="0" cy="1011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 flipH="1" flipV="1">
                <a:off x="5872320" y="4556880"/>
                <a:ext cx="1460520" cy="224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2" name=""/>
            <p:cNvGrpSpPr/>
            <p:nvPr/>
          </p:nvGrpSpPr>
          <p:grpSpPr>
            <a:xfrm>
              <a:off x="4687560" y="4281480"/>
              <a:ext cx="2921400" cy="1236240"/>
              <a:chOff x="4687560" y="4281480"/>
              <a:chExt cx="2921400" cy="1236240"/>
            </a:xfrm>
          </p:grpSpPr>
          <p:sp>
            <p:nvSpPr>
              <p:cNvPr id="2083" name=""/>
              <p:cNvSpPr/>
              <p:nvPr/>
            </p:nvSpPr>
            <p:spPr>
              <a:xfrm flipV="1">
                <a:off x="4687560" y="4506120"/>
                <a:ext cx="0" cy="1011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 flipV="1">
                <a:off x="4687560" y="4281480"/>
                <a:ext cx="1460520" cy="224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flipV="1">
                <a:off x="7608960" y="4506120"/>
                <a:ext cx="0" cy="1011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 flipH="1" flipV="1">
                <a:off x="6147720" y="4281480"/>
                <a:ext cx="1460520" cy="224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7" name=""/>
            <p:cNvGrpSpPr/>
            <p:nvPr/>
          </p:nvGrpSpPr>
          <p:grpSpPr>
            <a:xfrm>
              <a:off x="4962960" y="4006080"/>
              <a:ext cx="2921400" cy="1236240"/>
              <a:chOff x="4962960" y="4006080"/>
              <a:chExt cx="2921400" cy="1236240"/>
            </a:xfrm>
          </p:grpSpPr>
          <p:sp>
            <p:nvSpPr>
              <p:cNvPr id="2088" name=""/>
              <p:cNvSpPr/>
              <p:nvPr/>
            </p:nvSpPr>
            <p:spPr>
              <a:xfrm flipV="1">
                <a:off x="4962960" y="4230720"/>
                <a:ext cx="0" cy="1011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flipV="1">
                <a:off x="4962960" y="4006080"/>
                <a:ext cx="1460520" cy="224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flipV="1">
                <a:off x="7884360" y="4230720"/>
                <a:ext cx="0" cy="1011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 flipH="1" flipV="1">
                <a:off x="6423480" y="4006080"/>
                <a:ext cx="1460880" cy="224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2" name=""/>
            <p:cNvGrpSpPr/>
            <p:nvPr/>
          </p:nvGrpSpPr>
          <p:grpSpPr>
            <a:xfrm>
              <a:off x="5238360" y="3730680"/>
              <a:ext cx="2921400" cy="1236240"/>
              <a:chOff x="5238360" y="3730680"/>
              <a:chExt cx="2921400" cy="1236240"/>
            </a:xfrm>
          </p:grpSpPr>
          <p:sp>
            <p:nvSpPr>
              <p:cNvPr id="2093" name=""/>
              <p:cNvSpPr/>
              <p:nvPr/>
            </p:nvSpPr>
            <p:spPr>
              <a:xfrm flipV="1">
                <a:off x="5238360" y="3955320"/>
                <a:ext cx="0" cy="1011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flipV="1">
                <a:off x="5238360" y="3730680"/>
                <a:ext cx="1460520" cy="224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flipV="1">
                <a:off x="8159760" y="3955320"/>
                <a:ext cx="0" cy="10116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 flipH="1" flipV="1">
                <a:off x="6698880" y="3730680"/>
                <a:ext cx="1460880" cy="224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7" name=""/>
          <p:cNvGrpSpPr/>
          <p:nvPr/>
        </p:nvGrpSpPr>
        <p:grpSpPr>
          <a:xfrm>
            <a:off x="3862440" y="3960720"/>
            <a:ext cx="4570200" cy="2387160"/>
            <a:chOff x="3862440" y="3960720"/>
            <a:chExt cx="4570200" cy="2387160"/>
          </a:xfrm>
        </p:grpSpPr>
        <p:grpSp>
          <p:nvGrpSpPr>
            <p:cNvPr id="2098" name=""/>
            <p:cNvGrpSpPr/>
            <p:nvPr/>
          </p:nvGrpSpPr>
          <p:grpSpPr>
            <a:xfrm>
              <a:off x="3862440" y="3976200"/>
              <a:ext cx="1650960" cy="2371320"/>
              <a:chOff x="3862440" y="3976200"/>
              <a:chExt cx="1650960" cy="2371320"/>
            </a:xfrm>
          </p:grpSpPr>
          <p:sp>
            <p:nvSpPr>
              <p:cNvPr id="2099" name=""/>
              <p:cNvSpPr/>
              <p:nvPr/>
            </p:nvSpPr>
            <p:spPr>
              <a:xfrm flipV="1">
                <a:off x="3862440" y="3976200"/>
                <a:ext cx="1650960" cy="1651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flipV="1">
                <a:off x="3862440" y="4229280"/>
                <a:ext cx="1650960" cy="1651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flipV="1">
                <a:off x="3862440" y="4453920"/>
                <a:ext cx="1650960" cy="1651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flipV="1">
                <a:off x="3862440" y="4695840"/>
                <a:ext cx="1650960" cy="1651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3" name=""/>
            <p:cNvGrpSpPr/>
            <p:nvPr/>
          </p:nvGrpSpPr>
          <p:grpSpPr>
            <a:xfrm>
              <a:off x="6781680" y="3960720"/>
              <a:ext cx="1650960" cy="2387160"/>
              <a:chOff x="6781680" y="3960720"/>
              <a:chExt cx="1650960" cy="2387160"/>
            </a:xfrm>
          </p:grpSpPr>
          <p:sp>
            <p:nvSpPr>
              <p:cNvPr id="2104" name=""/>
              <p:cNvSpPr/>
              <p:nvPr/>
            </p:nvSpPr>
            <p:spPr>
              <a:xfrm flipV="1">
                <a:off x="6781680" y="4696200"/>
                <a:ext cx="1650960" cy="1651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flipV="1">
                <a:off x="6781680" y="3960720"/>
                <a:ext cx="1650960" cy="1651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 flipV="1">
                <a:off x="6781680" y="4213800"/>
                <a:ext cx="1650960" cy="1651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flipV="1">
                <a:off x="6781680" y="4456080"/>
                <a:ext cx="1650960" cy="165168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08" name=""/>
          <p:cNvSpPr/>
          <p:nvPr/>
        </p:nvSpPr>
        <p:spPr>
          <a:xfrm flipV="1">
            <a:off x="5326200" y="3463560"/>
            <a:ext cx="1655640" cy="1652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9" name=""/>
          <p:cNvGrpSpPr/>
          <p:nvPr/>
        </p:nvGrpSpPr>
        <p:grpSpPr>
          <a:xfrm>
            <a:off x="3862440" y="3681360"/>
            <a:ext cx="4568760" cy="1650960"/>
            <a:chOff x="3862440" y="3681360"/>
            <a:chExt cx="4568760" cy="1650960"/>
          </a:xfrm>
        </p:grpSpPr>
        <p:sp>
          <p:nvSpPr>
            <p:cNvPr id="2110" name=""/>
            <p:cNvSpPr/>
            <p:nvPr/>
          </p:nvSpPr>
          <p:spPr>
            <a:xfrm flipV="1">
              <a:off x="6774840" y="3681360"/>
              <a:ext cx="1656360" cy="16509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V="1">
              <a:off x="3862440" y="3681360"/>
              <a:ext cx="1651680" cy="16509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2" name=""/>
          <p:cNvGrpSpPr/>
          <p:nvPr/>
        </p:nvGrpSpPr>
        <p:grpSpPr>
          <a:xfrm>
            <a:off x="4079880" y="3490560"/>
            <a:ext cx="4121280" cy="1809720"/>
            <a:chOff x="4079880" y="3490560"/>
            <a:chExt cx="4121280" cy="1809720"/>
          </a:xfrm>
        </p:grpSpPr>
        <p:sp>
          <p:nvSpPr>
            <p:cNvPr id="2113" name=""/>
            <p:cNvSpPr/>
            <p:nvPr/>
          </p:nvSpPr>
          <p:spPr>
            <a:xfrm flipV="1">
              <a:off x="5598720" y="3497400"/>
              <a:ext cx="1656360" cy="1652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V="1">
              <a:off x="5847120" y="3519720"/>
              <a:ext cx="1656360" cy="1652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V="1">
              <a:off x="6315120" y="3600360"/>
              <a:ext cx="1656360" cy="1652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V="1">
              <a:off x="6544800" y="3648240"/>
              <a:ext cx="1656360" cy="1652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 flipV="1">
              <a:off x="4079880" y="3647880"/>
              <a:ext cx="1634040" cy="1652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 flipV="1">
              <a:off x="4351680" y="3609720"/>
              <a:ext cx="1634040" cy="1652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V="1">
              <a:off x="4817160" y="3535560"/>
              <a:ext cx="1634040" cy="1652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V="1">
              <a:off x="5067720" y="3490560"/>
              <a:ext cx="1640160" cy="1652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V="1">
              <a:off x="4577760" y="3573720"/>
              <a:ext cx="1634040" cy="1652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6053400" y="3565440"/>
              <a:ext cx="1656360" cy="16639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3" name=""/>
          <p:cNvGrpSpPr/>
          <p:nvPr/>
        </p:nvGrpSpPr>
        <p:grpSpPr>
          <a:xfrm>
            <a:off x="3862440" y="3681000"/>
            <a:ext cx="4570200" cy="2661840"/>
            <a:chOff x="3862440" y="3681000"/>
            <a:chExt cx="4570200" cy="2661840"/>
          </a:xfrm>
        </p:grpSpPr>
        <p:sp>
          <p:nvSpPr>
            <p:cNvPr id="2124" name=""/>
            <p:cNvSpPr/>
            <p:nvPr/>
          </p:nvSpPr>
          <p:spPr>
            <a:xfrm flipV="1">
              <a:off x="3862440" y="5332320"/>
              <a:ext cx="0" cy="10105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V="1">
              <a:off x="6781680" y="5332320"/>
              <a:ext cx="0" cy="10105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 flipV="1">
              <a:off x="5513400" y="3681000"/>
              <a:ext cx="0" cy="10105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 flipV="1">
              <a:off x="8432640" y="3681000"/>
              <a:ext cx="0" cy="10105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8" name=""/>
          <p:cNvGrpSpPr/>
          <p:nvPr/>
        </p:nvGrpSpPr>
        <p:grpSpPr>
          <a:xfrm>
            <a:off x="3862440" y="3456000"/>
            <a:ext cx="4569840" cy="1875600"/>
            <a:chOff x="3862440" y="3456000"/>
            <a:chExt cx="4569840" cy="1875600"/>
          </a:xfrm>
        </p:grpSpPr>
        <p:sp>
          <p:nvSpPr>
            <p:cNvPr id="2129" name=""/>
            <p:cNvSpPr/>
            <p:nvPr/>
          </p:nvSpPr>
          <p:spPr>
            <a:xfrm flipV="1">
              <a:off x="3862440" y="5108040"/>
              <a:ext cx="1460160" cy="2235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 flipH="1" flipV="1">
              <a:off x="5322600" y="5108040"/>
              <a:ext cx="1458720" cy="2235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V="1">
              <a:off x="5513040" y="3456000"/>
              <a:ext cx="1460160" cy="225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 flipH="1" flipV="1">
              <a:off x="6973560" y="3456000"/>
              <a:ext cx="1458720" cy="225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3" name=""/>
          <p:cNvSpPr/>
          <p:nvPr/>
        </p:nvSpPr>
        <p:spPr>
          <a:xfrm>
            <a:off x="6205680" y="229068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7794720" y="1778040"/>
            <a:ext cx="420480" cy="345960"/>
          </a:xfrm>
          <a:custGeom>
            <a:avLst/>
            <a:gdLst>
              <a:gd name="textAreaLeft" fmla="*/ 22320 w 420480"/>
              <a:gd name="textAreaRight" fmla="*/ 398160 w 42048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48" h="21600">
                <a:moveTo>
                  <a:pt x="0" y="0"/>
                </a:moveTo>
                <a:lnTo>
                  <a:pt x="26248" y="0"/>
                </a:lnTo>
                <a:lnTo>
                  <a:pt x="26248" y="21600"/>
                </a:lnTo>
                <a:lnTo>
                  <a:pt x="0" y="21600"/>
                </a:lnTo>
                <a:close/>
              </a:path>
              <a:path fill="lightenLess" w="26248" h="21600">
                <a:moveTo>
                  <a:pt x="0" y="0"/>
                </a:moveTo>
                <a:lnTo>
                  <a:pt x="26248" y="0"/>
                </a:lnTo>
                <a:lnTo>
                  <a:pt x="24848" y="1400"/>
                </a:lnTo>
                <a:lnTo>
                  <a:pt x="1400" y="1400"/>
                </a:lnTo>
                <a:close/>
              </a:path>
              <a:path fill="darken" w="26248" h="21600">
                <a:moveTo>
                  <a:pt x="26248" y="0"/>
                </a:moveTo>
                <a:lnTo>
                  <a:pt x="26248" y="21600"/>
                </a:lnTo>
                <a:lnTo>
                  <a:pt x="24848" y="20200"/>
                </a:lnTo>
                <a:lnTo>
                  <a:pt x="24848" y="1400"/>
                </a:lnTo>
                <a:close/>
              </a:path>
              <a:path fill="darkenLess" w="26248" h="21600">
                <a:moveTo>
                  <a:pt x="26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8" y="20200"/>
                </a:lnTo>
                <a:close/>
              </a:path>
              <a:path fill="lighten" w="26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7810560" y="1843200"/>
            <a:ext cx="38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6399360" y="1778040"/>
            <a:ext cx="420480" cy="345960"/>
          </a:xfrm>
          <a:custGeom>
            <a:avLst/>
            <a:gdLst>
              <a:gd name="textAreaLeft" fmla="*/ 22320 w 420480"/>
              <a:gd name="textAreaRight" fmla="*/ 398160 w 42048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48" h="21600">
                <a:moveTo>
                  <a:pt x="0" y="0"/>
                </a:moveTo>
                <a:lnTo>
                  <a:pt x="26248" y="0"/>
                </a:lnTo>
                <a:lnTo>
                  <a:pt x="26248" y="21600"/>
                </a:lnTo>
                <a:lnTo>
                  <a:pt x="0" y="21600"/>
                </a:lnTo>
                <a:close/>
              </a:path>
              <a:path fill="lightenLess" w="26248" h="21600">
                <a:moveTo>
                  <a:pt x="0" y="0"/>
                </a:moveTo>
                <a:lnTo>
                  <a:pt x="26248" y="0"/>
                </a:lnTo>
                <a:lnTo>
                  <a:pt x="24848" y="1400"/>
                </a:lnTo>
                <a:lnTo>
                  <a:pt x="1400" y="1400"/>
                </a:lnTo>
                <a:close/>
              </a:path>
              <a:path fill="darken" w="26248" h="21600">
                <a:moveTo>
                  <a:pt x="26248" y="0"/>
                </a:moveTo>
                <a:lnTo>
                  <a:pt x="26248" y="21600"/>
                </a:lnTo>
                <a:lnTo>
                  <a:pt x="24848" y="20200"/>
                </a:lnTo>
                <a:lnTo>
                  <a:pt x="24848" y="1400"/>
                </a:lnTo>
                <a:close/>
              </a:path>
              <a:path fill="darkenLess" w="26248" h="21600">
                <a:moveTo>
                  <a:pt x="26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8" y="20200"/>
                </a:lnTo>
                <a:close/>
              </a:path>
              <a:path fill="lighten" w="26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6415200" y="1843200"/>
            <a:ext cx="38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7095960" y="1778040"/>
            <a:ext cx="420840" cy="34596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70" h="21600">
                <a:moveTo>
                  <a:pt x="0" y="0"/>
                </a:moveTo>
                <a:lnTo>
                  <a:pt x="26270" y="0"/>
                </a:lnTo>
                <a:lnTo>
                  <a:pt x="26270" y="21600"/>
                </a:lnTo>
                <a:lnTo>
                  <a:pt x="0" y="21600"/>
                </a:lnTo>
                <a:close/>
              </a:path>
              <a:path fill="lightenLess" w="26270" h="21600">
                <a:moveTo>
                  <a:pt x="0" y="0"/>
                </a:moveTo>
                <a:lnTo>
                  <a:pt x="26270" y="0"/>
                </a:lnTo>
                <a:lnTo>
                  <a:pt x="24870" y="1400"/>
                </a:lnTo>
                <a:lnTo>
                  <a:pt x="1400" y="1400"/>
                </a:lnTo>
                <a:close/>
              </a:path>
              <a:path fill="darken" w="26270" h="21600">
                <a:moveTo>
                  <a:pt x="26270" y="0"/>
                </a:moveTo>
                <a:lnTo>
                  <a:pt x="26270" y="21600"/>
                </a:lnTo>
                <a:lnTo>
                  <a:pt x="24870" y="20200"/>
                </a:lnTo>
                <a:lnTo>
                  <a:pt x="24870" y="1400"/>
                </a:lnTo>
                <a:close/>
              </a:path>
              <a:path fill="darkenLess" w="26270" h="21600">
                <a:moveTo>
                  <a:pt x="26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70" y="20200"/>
                </a:lnTo>
                <a:close/>
              </a:path>
              <a:path fill="lighten" w="26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7112160" y="1843200"/>
            <a:ext cx="38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1422360" y="4195800"/>
            <a:ext cx="527040" cy="566640"/>
          </a:xfrm>
          <a:prstGeom prst="wedgeEllipseCallout">
            <a:avLst>
              <a:gd name="adj1" fmla="val 82555"/>
              <a:gd name="adj2" fmla="val -1145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"/>
          <p:cNvSpPr/>
          <p:nvPr/>
        </p:nvSpPr>
        <p:spPr>
          <a:xfrm>
            <a:off x="2027160" y="1903320"/>
            <a:ext cx="2357640" cy="2014560"/>
          </a:xfrm>
          <a:custGeom>
            <a:avLst/>
            <a:gdLst/>
            <a:ahLst/>
            <a:rect l="l" t="t" r="r" b="b"/>
            <a:pathLst>
              <a:path w="1239" h="1062">
                <a:moveTo>
                  <a:pt x="192" y="1062"/>
                </a:moveTo>
                <a:lnTo>
                  <a:pt x="1239" y="23"/>
                </a:lnTo>
                <a:lnTo>
                  <a:pt x="1154" y="0"/>
                </a:lnTo>
                <a:lnTo>
                  <a:pt x="1031" y="23"/>
                </a:lnTo>
                <a:lnTo>
                  <a:pt x="0" y="1062"/>
                </a:lnTo>
                <a:lnTo>
                  <a:pt x="100" y="1054"/>
                </a:lnTo>
                <a:lnTo>
                  <a:pt x="192" y="1062"/>
                </a:lnTo>
                <a:close/>
              </a:path>
            </a:pathLst>
          </a:cu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2" name=""/>
          <p:cNvGrpSpPr/>
          <p:nvPr/>
        </p:nvGrpSpPr>
        <p:grpSpPr>
          <a:xfrm>
            <a:off x="681120" y="3789360"/>
            <a:ext cx="1485720" cy="1467000"/>
            <a:chOff x="681120" y="3789360"/>
            <a:chExt cx="1485720" cy="1467000"/>
          </a:xfrm>
        </p:grpSpPr>
        <p:sp>
          <p:nvSpPr>
            <p:cNvPr id="2143" name=""/>
            <p:cNvSpPr/>
            <p:nvPr/>
          </p:nvSpPr>
          <p:spPr>
            <a:xfrm>
              <a:off x="2003760" y="3789360"/>
              <a:ext cx="163080" cy="16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1665720" y="4097520"/>
              <a:ext cx="162720" cy="16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1342800" y="4416120"/>
              <a:ext cx="162720" cy="16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1009080" y="4748040"/>
              <a:ext cx="163800" cy="16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81120" y="5093280"/>
              <a:ext cx="163080" cy="16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8" name=""/>
          <p:cNvGrpSpPr/>
          <p:nvPr/>
        </p:nvGrpSpPr>
        <p:grpSpPr>
          <a:xfrm>
            <a:off x="4205160" y="3762360"/>
            <a:ext cx="1463760" cy="1482840"/>
            <a:chOff x="4205160" y="3762360"/>
            <a:chExt cx="1463760" cy="1482840"/>
          </a:xfrm>
        </p:grpSpPr>
        <p:sp>
          <p:nvSpPr>
            <p:cNvPr id="2149" name=""/>
            <p:cNvSpPr/>
            <p:nvPr/>
          </p:nvSpPr>
          <p:spPr>
            <a:xfrm>
              <a:off x="5505840" y="3762360"/>
              <a:ext cx="163080" cy="16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5179320" y="4086000"/>
              <a:ext cx="163440" cy="16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4855320" y="4404960"/>
              <a:ext cx="163080" cy="16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4513680" y="4736520"/>
              <a:ext cx="167400" cy="16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4205160" y="5082120"/>
              <a:ext cx="162720" cy="16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4" name=""/>
          <p:cNvGrpSpPr/>
          <p:nvPr/>
        </p:nvGrpSpPr>
        <p:grpSpPr>
          <a:xfrm>
            <a:off x="2317680" y="3413160"/>
            <a:ext cx="3684600" cy="166680"/>
            <a:chOff x="2317680" y="3413160"/>
            <a:chExt cx="3684600" cy="166680"/>
          </a:xfrm>
        </p:grpSpPr>
        <p:sp>
          <p:nvSpPr>
            <p:cNvPr id="2155" name=""/>
            <p:cNvSpPr/>
            <p:nvPr/>
          </p:nvSpPr>
          <p:spPr>
            <a:xfrm>
              <a:off x="5839200" y="3417480"/>
              <a:ext cx="163080" cy="16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317680" y="3413160"/>
              <a:ext cx="163440" cy="16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688640" y="3413160"/>
              <a:ext cx="163440" cy="16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913480" y="3413520"/>
              <a:ext cx="163080" cy="16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3465000" y="3413520"/>
              <a:ext cx="163080" cy="16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4052520" y="3413520"/>
              <a:ext cx="163080" cy="16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277960" y="3413520"/>
              <a:ext cx="163080" cy="16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2" name=""/>
          <p:cNvGrpSpPr/>
          <p:nvPr/>
        </p:nvGrpSpPr>
        <p:grpSpPr>
          <a:xfrm>
            <a:off x="339840" y="5415120"/>
            <a:ext cx="3676680" cy="163440"/>
            <a:chOff x="339840" y="5415120"/>
            <a:chExt cx="3676680" cy="163440"/>
          </a:xfrm>
        </p:grpSpPr>
        <p:sp>
          <p:nvSpPr>
            <p:cNvPr id="2163" name=""/>
            <p:cNvSpPr/>
            <p:nvPr/>
          </p:nvSpPr>
          <p:spPr>
            <a:xfrm>
              <a:off x="3853080" y="5415120"/>
              <a:ext cx="163440" cy="163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39840" y="5415120"/>
              <a:ext cx="163080" cy="16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930960" y="5415120"/>
              <a:ext cx="163080" cy="16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494360" y="5415120"/>
              <a:ext cx="163080" cy="16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2716200" y="5415120"/>
              <a:ext cx="163080" cy="16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279600" y="5415120"/>
              <a:ext cx="163080" cy="16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9" name=""/>
          <p:cNvGrpSpPr/>
          <p:nvPr/>
        </p:nvGrpSpPr>
        <p:grpSpPr>
          <a:xfrm>
            <a:off x="2405160" y="2190600"/>
            <a:ext cx="3546360" cy="1197000"/>
            <a:chOff x="2405160" y="2190600"/>
            <a:chExt cx="3546360" cy="1197000"/>
          </a:xfrm>
        </p:grpSpPr>
        <p:sp>
          <p:nvSpPr>
            <p:cNvPr id="2170" name=""/>
            <p:cNvSpPr/>
            <p:nvPr/>
          </p:nvSpPr>
          <p:spPr>
            <a:xfrm>
              <a:off x="2441160" y="2190600"/>
              <a:ext cx="35103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2431440" y="2540520"/>
              <a:ext cx="35103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2418840" y="3115440"/>
              <a:ext cx="352692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2432880" y="2828160"/>
              <a:ext cx="351288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405160" y="3387600"/>
              <a:ext cx="35103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5" name=""/>
          <p:cNvGrpSpPr/>
          <p:nvPr/>
        </p:nvGrpSpPr>
        <p:grpSpPr>
          <a:xfrm>
            <a:off x="438120" y="4170240"/>
            <a:ext cx="3528720" cy="1216080"/>
            <a:chOff x="438120" y="4170240"/>
            <a:chExt cx="3528720" cy="1216080"/>
          </a:xfrm>
        </p:grpSpPr>
        <p:sp>
          <p:nvSpPr>
            <p:cNvPr id="2176" name=""/>
            <p:cNvSpPr/>
            <p:nvPr/>
          </p:nvSpPr>
          <p:spPr>
            <a:xfrm>
              <a:off x="2814840" y="5386320"/>
              <a:ext cx="11426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56840" y="4170240"/>
              <a:ext cx="351000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447480" y="4520160"/>
              <a:ext cx="351000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809080" y="5095080"/>
              <a:ext cx="11523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38120" y="4807800"/>
              <a:ext cx="11559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2809080" y="4807800"/>
              <a:ext cx="11523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447480" y="5095080"/>
              <a:ext cx="115596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47480" y="5379120"/>
              <a:ext cx="1142640" cy="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4" name=""/>
          <p:cNvSpPr/>
          <p:nvPr/>
        </p:nvSpPr>
        <p:spPr>
          <a:xfrm>
            <a:off x="2205000" y="3909960"/>
            <a:ext cx="0" cy="6066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5" name=""/>
          <p:cNvGrpSpPr/>
          <p:nvPr/>
        </p:nvGrpSpPr>
        <p:grpSpPr>
          <a:xfrm>
            <a:off x="436680" y="1900080"/>
            <a:ext cx="5500080" cy="3479760"/>
            <a:chOff x="436680" y="1900080"/>
            <a:chExt cx="5500080" cy="3479760"/>
          </a:xfrm>
        </p:grpSpPr>
        <p:grpSp>
          <p:nvGrpSpPr>
            <p:cNvPr id="2186" name=""/>
            <p:cNvGrpSpPr/>
            <p:nvPr/>
          </p:nvGrpSpPr>
          <p:grpSpPr>
            <a:xfrm>
              <a:off x="2427480" y="1900080"/>
              <a:ext cx="3509280" cy="1481760"/>
              <a:chOff x="2427480" y="1900080"/>
              <a:chExt cx="3509280" cy="1481760"/>
            </a:xfrm>
          </p:grpSpPr>
          <p:sp>
            <p:nvSpPr>
              <p:cNvPr id="2187" name=""/>
              <p:cNvSpPr/>
              <p:nvPr/>
            </p:nvSpPr>
            <p:spPr>
              <a:xfrm>
                <a:off x="5375160" y="2083680"/>
                <a:ext cx="0" cy="12981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5936760" y="2181240"/>
                <a:ext cx="0" cy="1200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4789440" y="2006640"/>
                <a:ext cx="0" cy="13752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4183200" y="1900080"/>
                <a:ext cx="0" cy="14817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3574800" y="1993320"/>
                <a:ext cx="0" cy="1388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2427480" y="2175480"/>
                <a:ext cx="0" cy="12063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3014280" y="2093040"/>
                <a:ext cx="0" cy="1288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4" name=""/>
            <p:cNvGrpSpPr/>
            <p:nvPr/>
          </p:nvGrpSpPr>
          <p:grpSpPr>
            <a:xfrm>
              <a:off x="436680" y="3985560"/>
              <a:ext cx="3521160" cy="1394280"/>
              <a:chOff x="436680" y="3985560"/>
              <a:chExt cx="3521160" cy="1394280"/>
            </a:xfrm>
          </p:grpSpPr>
          <p:sp>
            <p:nvSpPr>
              <p:cNvPr id="2195" name=""/>
              <p:cNvSpPr/>
              <p:nvPr/>
            </p:nvSpPr>
            <p:spPr>
              <a:xfrm>
                <a:off x="3396240" y="4075560"/>
                <a:ext cx="0" cy="1303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3957840" y="4167720"/>
                <a:ext cx="0" cy="1200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2810520" y="3992760"/>
                <a:ext cx="0" cy="1380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1595880" y="3985560"/>
                <a:ext cx="0" cy="1388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flipH="1">
                <a:off x="436680" y="4161600"/>
                <a:ext cx="11520" cy="12182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1035360" y="4085280"/>
                <a:ext cx="0" cy="12888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01" name=""/>
          <p:cNvGrpSpPr/>
          <p:nvPr/>
        </p:nvGrpSpPr>
        <p:grpSpPr>
          <a:xfrm>
            <a:off x="441000" y="3557160"/>
            <a:ext cx="3841920" cy="605160"/>
            <a:chOff x="441000" y="3557160"/>
            <a:chExt cx="3841920" cy="605160"/>
          </a:xfrm>
        </p:grpSpPr>
        <p:sp>
          <p:nvSpPr>
            <p:cNvPr id="2202" name=""/>
            <p:cNvSpPr/>
            <p:nvPr/>
          </p:nvSpPr>
          <p:spPr>
            <a:xfrm flipH="1" flipV="1">
              <a:off x="2527200" y="3560400"/>
              <a:ext cx="298440" cy="4222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 flipH="1">
              <a:off x="1576800" y="3560760"/>
              <a:ext cx="950400" cy="4222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H="1" flipV="1">
              <a:off x="3681720" y="3722040"/>
              <a:ext cx="269640" cy="4395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 flipV="1">
              <a:off x="3389040" y="3828600"/>
              <a:ext cx="893880" cy="249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H="1" flipV="1">
              <a:off x="3116520" y="3659400"/>
              <a:ext cx="271800" cy="418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 flipH="1">
              <a:off x="2803320" y="3736080"/>
              <a:ext cx="925920" cy="2473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 flipH="1">
              <a:off x="2244240" y="3659760"/>
              <a:ext cx="872640" cy="226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 flipH="1" flipV="1">
              <a:off x="1909440" y="3640680"/>
              <a:ext cx="334800" cy="2451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 flipH="1" flipV="1">
              <a:off x="1357560" y="3735720"/>
              <a:ext cx="230400" cy="253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 flipH="1">
              <a:off x="1025280" y="3659760"/>
              <a:ext cx="884160" cy="418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 flipH="1" flipV="1">
              <a:off x="772200" y="3828600"/>
              <a:ext cx="256320" cy="2379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 flipH="1">
              <a:off x="441000" y="3736080"/>
              <a:ext cx="916200" cy="426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 flipV="1">
              <a:off x="3946320" y="3828960"/>
              <a:ext cx="324720" cy="325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flipV="1">
              <a:off x="2220480" y="3557160"/>
              <a:ext cx="324720" cy="325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 flipV="1">
              <a:off x="2811600" y="3651480"/>
              <a:ext cx="324720" cy="325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 flipV="1">
              <a:off x="447480" y="3823200"/>
              <a:ext cx="324720" cy="325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V="1">
              <a:off x="1038600" y="3734280"/>
              <a:ext cx="324720" cy="325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 flipV="1">
              <a:off x="1594080" y="3651480"/>
              <a:ext cx="324720" cy="325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 flipV="1">
              <a:off x="766440" y="3562920"/>
              <a:ext cx="1767240" cy="266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V="1">
              <a:off x="447480" y="3894120"/>
              <a:ext cx="1767240" cy="266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214720" y="3894480"/>
              <a:ext cx="1719720" cy="266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539800" y="3563280"/>
              <a:ext cx="1719720" cy="266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 flipV="1">
              <a:off x="3373200" y="3752280"/>
              <a:ext cx="324720" cy="325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5" name=""/>
          <p:cNvGrpSpPr/>
          <p:nvPr/>
        </p:nvGrpSpPr>
        <p:grpSpPr>
          <a:xfrm>
            <a:off x="2104920" y="1901520"/>
            <a:ext cx="3841560" cy="605160"/>
            <a:chOff x="2104920" y="1901520"/>
            <a:chExt cx="3841560" cy="605160"/>
          </a:xfrm>
        </p:grpSpPr>
        <p:sp>
          <p:nvSpPr>
            <p:cNvPr id="2226" name=""/>
            <p:cNvSpPr/>
            <p:nvPr/>
          </p:nvSpPr>
          <p:spPr>
            <a:xfrm flipH="1" flipV="1">
              <a:off x="4190760" y="1904760"/>
              <a:ext cx="298440" cy="4222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 flipH="1">
              <a:off x="3240000" y="1905120"/>
              <a:ext cx="950760" cy="4222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H="1" flipV="1">
              <a:off x="5345640" y="2066400"/>
              <a:ext cx="269640" cy="4395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 flipV="1">
              <a:off x="5052600" y="2172960"/>
              <a:ext cx="893880" cy="2494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H="1" flipV="1">
              <a:off x="4780440" y="2003760"/>
              <a:ext cx="271800" cy="418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H="1">
              <a:off x="4467240" y="2080440"/>
              <a:ext cx="925920" cy="2473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H="1">
              <a:off x="3908160" y="2004120"/>
              <a:ext cx="872640" cy="226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 flipH="1" flipV="1">
              <a:off x="3573000" y="1985040"/>
              <a:ext cx="334800" cy="2451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H="1" flipV="1">
              <a:off x="3021480" y="2080080"/>
              <a:ext cx="230400" cy="253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H="1">
              <a:off x="2688840" y="2004120"/>
              <a:ext cx="884160" cy="418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H="1" flipV="1">
              <a:off x="2435760" y="2172960"/>
              <a:ext cx="256320" cy="2379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 flipH="1">
              <a:off x="2104920" y="2080440"/>
              <a:ext cx="916560" cy="4262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V="1">
              <a:off x="5610240" y="2173320"/>
              <a:ext cx="325080" cy="325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 flipV="1">
              <a:off x="3884400" y="1901520"/>
              <a:ext cx="325080" cy="325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 flipV="1">
              <a:off x="4475520" y="1995840"/>
              <a:ext cx="325080" cy="325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V="1">
              <a:off x="2111040" y="2167560"/>
              <a:ext cx="325080" cy="325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V="1">
              <a:off x="2702160" y="2078640"/>
              <a:ext cx="325080" cy="325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 flipV="1">
              <a:off x="3257640" y="1995840"/>
              <a:ext cx="325080" cy="325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2430360" y="1907280"/>
              <a:ext cx="1767240" cy="266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2111040" y="2238480"/>
              <a:ext cx="1767240" cy="266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3878280" y="2238840"/>
              <a:ext cx="1719720" cy="266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203360" y="1907640"/>
              <a:ext cx="1720080" cy="2660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V="1">
              <a:off x="5037120" y="2096640"/>
              <a:ext cx="325080" cy="325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9" name=""/>
          <p:cNvGrpSpPr/>
          <p:nvPr/>
        </p:nvGrpSpPr>
        <p:grpSpPr>
          <a:xfrm>
            <a:off x="3946680" y="3823920"/>
            <a:ext cx="338040" cy="1554120"/>
            <a:chOff x="3946680" y="3823920"/>
            <a:chExt cx="338040" cy="1554120"/>
          </a:xfrm>
        </p:grpSpPr>
        <p:sp>
          <p:nvSpPr>
            <p:cNvPr id="2250" name=""/>
            <p:cNvSpPr/>
            <p:nvPr/>
          </p:nvSpPr>
          <p:spPr>
            <a:xfrm flipV="1">
              <a:off x="3952440" y="4472640"/>
              <a:ext cx="331920" cy="905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flipV="1">
              <a:off x="3946680" y="4154400"/>
              <a:ext cx="337680" cy="317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H="1" flipV="1">
              <a:off x="3952440" y="4786560"/>
              <a:ext cx="331920" cy="2606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 flipV="1">
              <a:off x="3952440" y="3829680"/>
              <a:ext cx="331920" cy="9597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 flipV="1">
              <a:off x="3946680" y="3823920"/>
              <a:ext cx="325800" cy="325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3952800" y="4155480"/>
              <a:ext cx="0" cy="1217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V="1">
              <a:off x="3952800" y="4468320"/>
              <a:ext cx="325800" cy="325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4284720" y="3836160"/>
              <a:ext cx="0" cy="1217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8" name=""/>
          <p:cNvGrpSpPr/>
          <p:nvPr/>
        </p:nvGrpSpPr>
        <p:grpSpPr>
          <a:xfrm>
            <a:off x="436680" y="3836880"/>
            <a:ext cx="336600" cy="1552320"/>
            <a:chOff x="436680" y="3836880"/>
            <a:chExt cx="336600" cy="1552320"/>
          </a:xfrm>
        </p:grpSpPr>
        <p:sp>
          <p:nvSpPr>
            <p:cNvPr id="2259" name=""/>
            <p:cNvSpPr/>
            <p:nvPr/>
          </p:nvSpPr>
          <p:spPr>
            <a:xfrm flipV="1">
              <a:off x="442440" y="4484880"/>
              <a:ext cx="330480" cy="9043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 flipH="1" flipV="1">
              <a:off x="436680" y="4167000"/>
              <a:ext cx="336240" cy="3175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 flipH="1" flipV="1">
              <a:off x="442440" y="4798080"/>
              <a:ext cx="330480" cy="2606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 flipV="1">
              <a:off x="442440" y="3841920"/>
              <a:ext cx="330480" cy="958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 flipV="1">
              <a:off x="436680" y="3836880"/>
              <a:ext cx="324720" cy="324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42800" y="4167720"/>
              <a:ext cx="0" cy="1216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 flipV="1">
              <a:off x="442800" y="4480560"/>
              <a:ext cx="324360" cy="324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773280" y="3848400"/>
              <a:ext cx="0" cy="1216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7" name=""/>
          <p:cNvGrpSpPr/>
          <p:nvPr/>
        </p:nvGrpSpPr>
        <p:grpSpPr>
          <a:xfrm>
            <a:off x="5602320" y="2170080"/>
            <a:ext cx="336600" cy="1552320"/>
            <a:chOff x="5602320" y="2170080"/>
            <a:chExt cx="336600" cy="1552320"/>
          </a:xfrm>
        </p:grpSpPr>
        <p:sp>
          <p:nvSpPr>
            <p:cNvPr id="2268" name=""/>
            <p:cNvSpPr/>
            <p:nvPr/>
          </p:nvSpPr>
          <p:spPr>
            <a:xfrm flipV="1">
              <a:off x="5608080" y="2818080"/>
              <a:ext cx="330480" cy="9043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 flipH="1" flipV="1">
              <a:off x="5602320" y="2500200"/>
              <a:ext cx="336240" cy="3175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 flipH="1" flipV="1">
              <a:off x="5608080" y="3131280"/>
              <a:ext cx="330480" cy="2606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 flipV="1">
              <a:off x="5608080" y="2175120"/>
              <a:ext cx="330480" cy="958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 flipV="1">
              <a:off x="5602320" y="2170080"/>
              <a:ext cx="324720" cy="324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608440" y="2500920"/>
              <a:ext cx="0" cy="1216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 flipV="1">
              <a:off x="5608440" y="2813760"/>
              <a:ext cx="324360" cy="324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938920" y="2181600"/>
              <a:ext cx="0" cy="12168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6" name=""/>
          <p:cNvGrpSpPr/>
          <p:nvPr/>
        </p:nvGrpSpPr>
        <p:grpSpPr>
          <a:xfrm>
            <a:off x="2090880" y="2187360"/>
            <a:ext cx="338040" cy="1554120"/>
            <a:chOff x="2090880" y="2187360"/>
            <a:chExt cx="338040" cy="1554120"/>
          </a:xfrm>
        </p:grpSpPr>
        <p:sp>
          <p:nvSpPr>
            <p:cNvPr id="2277" name=""/>
            <p:cNvSpPr/>
            <p:nvPr/>
          </p:nvSpPr>
          <p:spPr>
            <a:xfrm flipV="1">
              <a:off x="2096640" y="2836080"/>
              <a:ext cx="331920" cy="9054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 flipH="1" flipV="1">
              <a:off x="2090880" y="2517840"/>
              <a:ext cx="337680" cy="317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 flipH="1" flipV="1">
              <a:off x="2096640" y="3150000"/>
              <a:ext cx="331920" cy="2606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 flipV="1">
              <a:off x="2096640" y="2193120"/>
              <a:ext cx="331920" cy="95976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 flipV="1">
              <a:off x="2090880" y="2187360"/>
              <a:ext cx="325800" cy="325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2097000" y="2518920"/>
              <a:ext cx="0" cy="1217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 flipV="1">
              <a:off x="2097000" y="2831760"/>
              <a:ext cx="325800" cy="3250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2428920" y="2199600"/>
              <a:ext cx="0" cy="1217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5" name=""/>
          <p:cNvGrpSpPr/>
          <p:nvPr/>
        </p:nvGrpSpPr>
        <p:grpSpPr>
          <a:xfrm>
            <a:off x="771480" y="3562200"/>
            <a:ext cx="3511440" cy="1484640"/>
            <a:chOff x="771480" y="3562200"/>
            <a:chExt cx="3511440" cy="1484640"/>
          </a:xfrm>
        </p:grpSpPr>
        <p:sp>
          <p:nvSpPr>
            <p:cNvPr id="2286" name=""/>
            <p:cNvSpPr/>
            <p:nvPr/>
          </p:nvSpPr>
          <p:spPr>
            <a:xfrm flipV="1">
              <a:off x="771480" y="3832200"/>
              <a:ext cx="0" cy="12146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 flipV="1">
              <a:off x="771480" y="3562200"/>
              <a:ext cx="1755720" cy="2700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 flipV="1">
              <a:off x="4282920" y="3832200"/>
              <a:ext cx="0" cy="12146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 flipH="1" flipV="1">
              <a:off x="2526840" y="3562200"/>
              <a:ext cx="1755720" cy="2700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0" name=""/>
          <p:cNvGrpSpPr/>
          <p:nvPr/>
        </p:nvGrpSpPr>
        <p:grpSpPr>
          <a:xfrm>
            <a:off x="1101600" y="3230640"/>
            <a:ext cx="3513240" cy="1485360"/>
            <a:chOff x="1101600" y="3230640"/>
            <a:chExt cx="3513240" cy="1485360"/>
          </a:xfrm>
        </p:grpSpPr>
        <p:sp>
          <p:nvSpPr>
            <p:cNvPr id="2291" name=""/>
            <p:cNvSpPr/>
            <p:nvPr/>
          </p:nvSpPr>
          <p:spPr>
            <a:xfrm flipV="1">
              <a:off x="1101600" y="3500280"/>
              <a:ext cx="0" cy="1215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 flipV="1">
              <a:off x="1101600" y="3230640"/>
              <a:ext cx="1756440" cy="2700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 flipV="1">
              <a:off x="4614840" y="3500280"/>
              <a:ext cx="0" cy="1215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 flipH="1" flipV="1">
              <a:off x="2857680" y="3230640"/>
              <a:ext cx="1756440" cy="2700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5" name=""/>
          <p:cNvGrpSpPr/>
          <p:nvPr/>
        </p:nvGrpSpPr>
        <p:grpSpPr>
          <a:xfrm>
            <a:off x="1433520" y="2900160"/>
            <a:ext cx="3511440" cy="1484640"/>
            <a:chOff x="1433520" y="2900160"/>
            <a:chExt cx="3511440" cy="1484640"/>
          </a:xfrm>
        </p:grpSpPr>
        <p:sp>
          <p:nvSpPr>
            <p:cNvPr id="2296" name=""/>
            <p:cNvSpPr/>
            <p:nvPr/>
          </p:nvSpPr>
          <p:spPr>
            <a:xfrm flipV="1">
              <a:off x="1433520" y="3170160"/>
              <a:ext cx="0" cy="12146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 flipV="1">
              <a:off x="1433520" y="2900160"/>
              <a:ext cx="1755720" cy="2696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 flipV="1">
              <a:off x="4944960" y="3170160"/>
              <a:ext cx="0" cy="12146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flipH="1" flipV="1">
              <a:off x="3188880" y="2900160"/>
              <a:ext cx="1755720" cy="2696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0" name=""/>
          <p:cNvGrpSpPr/>
          <p:nvPr/>
        </p:nvGrpSpPr>
        <p:grpSpPr>
          <a:xfrm>
            <a:off x="1763640" y="2568600"/>
            <a:ext cx="3513240" cy="1485360"/>
            <a:chOff x="1763640" y="2568600"/>
            <a:chExt cx="3513240" cy="1485360"/>
          </a:xfrm>
        </p:grpSpPr>
        <p:sp>
          <p:nvSpPr>
            <p:cNvPr id="2301" name=""/>
            <p:cNvSpPr/>
            <p:nvPr/>
          </p:nvSpPr>
          <p:spPr>
            <a:xfrm flipV="1">
              <a:off x="1763640" y="2838240"/>
              <a:ext cx="0" cy="1215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 flipV="1">
              <a:off x="1763640" y="2568600"/>
              <a:ext cx="1756440" cy="2700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 flipV="1">
              <a:off x="5276880" y="2838240"/>
              <a:ext cx="0" cy="12157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 flipH="1" flipV="1">
              <a:off x="3520080" y="2568600"/>
              <a:ext cx="1756800" cy="27000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5" name=""/>
          <p:cNvGrpSpPr/>
          <p:nvPr/>
        </p:nvGrpSpPr>
        <p:grpSpPr>
          <a:xfrm>
            <a:off x="2095560" y="2238120"/>
            <a:ext cx="3511440" cy="1483920"/>
            <a:chOff x="2095560" y="2238120"/>
            <a:chExt cx="3511440" cy="1483920"/>
          </a:xfrm>
        </p:grpSpPr>
        <p:sp>
          <p:nvSpPr>
            <p:cNvPr id="2306" name=""/>
            <p:cNvSpPr/>
            <p:nvPr/>
          </p:nvSpPr>
          <p:spPr>
            <a:xfrm flipV="1">
              <a:off x="2095560" y="2507760"/>
              <a:ext cx="0" cy="12142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V="1">
              <a:off x="2095560" y="2238120"/>
              <a:ext cx="1755720" cy="2696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V="1">
              <a:off x="5607000" y="2507760"/>
              <a:ext cx="0" cy="12142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 flipH="1" flipV="1">
              <a:off x="3850920" y="2238120"/>
              <a:ext cx="1755720" cy="2696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0" name=""/>
          <p:cNvGrpSpPr/>
          <p:nvPr/>
        </p:nvGrpSpPr>
        <p:grpSpPr>
          <a:xfrm>
            <a:off x="441360" y="2533680"/>
            <a:ext cx="1985760" cy="2849040"/>
            <a:chOff x="441360" y="2533680"/>
            <a:chExt cx="1985760" cy="2849040"/>
          </a:xfrm>
        </p:grpSpPr>
        <p:sp>
          <p:nvSpPr>
            <p:cNvPr id="2311" name=""/>
            <p:cNvSpPr/>
            <p:nvPr/>
          </p:nvSpPr>
          <p:spPr>
            <a:xfrm flipV="1">
              <a:off x="441360" y="2533680"/>
              <a:ext cx="1985760" cy="19843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 flipV="1">
              <a:off x="441360" y="2837880"/>
              <a:ext cx="1985760" cy="19843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flipV="1">
              <a:off x="441360" y="3107520"/>
              <a:ext cx="1985760" cy="19843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flipV="1">
              <a:off x="441360" y="3398400"/>
              <a:ext cx="1985760" cy="198432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5" name=""/>
          <p:cNvGrpSpPr/>
          <p:nvPr/>
        </p:nvGrpSpPr>
        <p:grpSpPr>
          <a:xfrm>
            <a:off x="3952800" y="2514240"/>
            <a:ext cx="1986120" cy="2868480"/>
            <a:chOff x="3952800" y="2514240"/>
            <a:chExt cx="1986120" cy="2868480"/>
          </a:xfrm>
        </p:grpSpPr>
        <p:sp>
          <p:nvSpPr>
            <p:cNvPr id="2316" name=""/>
            <p:cNvSpPr/>
            <p:nvPr/>
          </p:nvSpPr>
          <p:spPr>
            <a:xfrm flipV="1">
              <a:off x="3952800" y="3398040"/>
              <a:ext cx="1986120" cy="1984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 flipV="1">
              <a:off x="3952800" y="2514240"/>
              <a:ext cx="1986120" cy="1984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V="1">
              <a:off x="3952800" y="2818080"/>
              <a:ext cx="1986120" cy="1984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 flipV="1">
              <a:off x="3952800" y="3109680"/>
              <a:ext cx="1986120" cy="19846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0" name=""/>
          <p:cNvSpPr/>
          <p:nvPr/>
        </p:nvSpPr>
        <p:spPr>
          <a:xfrm flipV="1">
            <a:off x="2201760" y="1917720"/>
            <a:ext cx="1990800" cy="1984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 flipV="1">
            <a:off x="3943440" y="2176560"/>
            <a:ext cx="1992240" cy="19857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 flipV="1">
            <a:off x="441360" y="2176560"/>
            <a:ext cx="1985760" cy="19857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 flipV="1">
            <a:off x="2529000" y="1956960"/>
            <a:ext cx="1990440" cy="19875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 flipV="1">
            <a:off x="2827440" y="1983960"/>
            <a:ext cx="1990800" cy="19875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 flipV="1">
            <a:off x="3389400" y="2080800"/>
            <a:ext cx="1990800" cy="19875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 flipV="1">
            <a:off x="3665520" y="2139480"/>
            <a:ext cx="1990800" cy="198612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 flipV="1">
            <a:off x="703440" y="2138040"/>
            <a:ext cx="1963440" cy="19875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 flipV="1">
            <a:off x="1030320" y="2093400"/>
            <a:ext cx="1963800" cy="198612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 flipV="1">
            <a:off x="1589040" y="2003040"/>
            <a:ext cx="1963800" cy="19875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 flipV="1">
            <a:off x="1890720" y="1949040"/>
            <a:ext cx="1971720" cy="198612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 flipV="1">
            <a:off x="1301760" y="2049120"/>
            <a:ext cx="1963800" cy="198756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 flipV="1">
            <a:off x="3075120" y="2039400"/>
            <a:ext cx="1990440" cy="200052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 flipV="1">
            <a:off x="441360" y="3892320"/>
            <a:ext cx="1755720" cy="26964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 flipH="1" flipV="1">
            <a:off x="2196720" y="3892320"/>
            <a:ext cx="1755720" cy="26964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 flipV="1">
            <a:off x="2427120" y="1906560"/>
            <a:ext cx="1756080" cy="270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441360" y="2176200"/>
            <a:ext cx="5497560" cy="3201840"/>
            <a:chOff x="441360" y="2176200"/>
            <a:chExt cx="5497560" cy="3201840"/>
          </a:xfrm>
        </p:grpSpPr>
        <p:sp>
          <p:nvSpPr>
            <p:cNvPr id="2337" name=""/>
            <p:cNvSpPr/>
            <p:nvPr/>
          </p:nvSpPr>
          <p:spPr>
            <a:xfrm flipV="1">
              <a:off x="441360" y="4162320"/>
              <a:ext cx="0" cy="12157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V="1">
              <a:off x="3952800" y="4162320"/>
              <a:ext cx="0" cy="12157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 flipV="1">
              <a:off x="2427120" y="2176200"/>
              <a:ext cx="0" cy="12157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 flipV="1">
              <a:off x="5938920" y="2176200"/>
              <a:ext cx="0" cy="12157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1" name=""/>
          <p:cNvSpPr/>
          <p:nvPr/>
        </p:nvSpPr>
        <p:spPr>
          <a:xfrm flipH="1" flipV="1">
            <a:off x="4182840" y="1906560"/>
            <a:ext cx="1755720" cy="270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0" y="425520"/>
            <a:ext cx="914400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00"/>
                </a:solidFill>
                <a:latin typeface="Arial"/>
              </a:rPr>
              <a:t>BONNE RÉ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1941480" y="4827600"/>
            <a:ext cx="525600" cy="566640"/>
          </a:xfrm>
          <a:prstGeom prst="wedgeEllipseCallout">
            <a:avLst>
              <a:gd name="adj1" fmla="val 97976"/>
              <a:gd name="adj2" fmla="val -283393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6205680" y="229068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7794720" y="1778040"/>
            <a:ext cx="420480" cy="345960"/>
          </a:xfrm>
          <a:custGeom>
            <a:avLst/>
            <a:gdLst>
              <a:gd name="textAreaLeft" fmla="*/ 22320 w 420480"/>
              <a:gd name="textAreaRight" fmla="*/ 398160 w 42048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48" h="21600">
                <a:moveTo>
                  <a:pt x="0" y="0"/>
                </a:moveTo>
                <a:lnTo>
                  <a:pt x="26248" y="0"/>
                </a:lnTo>
                <a:lnTo>
                  <a:pt x="26248" y="21600"/>
                </a:lnTo>
                <a:lnTo>
                  <a:pt x="0" y="21600"/>
                </a:lnTo>
                <a:close/>
              </a:path>
              <a:path fill="lightenLess" w="26248" h="21600">
                <a:moveTo>
                  <a:pt x="0" y="0"/>
                </a:moveTo>
                <a:lnTo>
                  <a:pt x="26248" y="0"/>
                </a:lnTo>
                <a:lnTo>
                  <a:pt x="24848" y="1400"/>
                </a:lnTo>
                <a:lnTo>
                  <a:pt x="1400" y="1400"/>
                </a:lnTo>
                <a:close/>
              </a:path>
              <a:path fill="darken" w="26248" h="21600">
                <a:moveTo>
                  <a:pt x="26248" y="0"/>
                </a:moveTo>
                <a:lnTo>
                  <a:pt x="26248" y="21600"/>
                </a:lnTo>
                <a:lnTo>
                  <a:pt x="24848" y="20200"/>
                </a:lnTo>
                <a:lnTo>
                  <a:pt x="24848" y="1400"/>
                </a:lnTo>
                <a:close/>
              </a:path>
              <a:path fill="darkenLess" w="26248" h="21600">
                <a:moveTo>
                  <a:pt x="26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8" y="20200"/>
                </a:lnTo>
                <a:close/>
              </a:path>
              <a:path fill="lighten" w="26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7810560" y="1843200"/>
            <a:ext cx="38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6399360" y="1778040"/>
            <a:ext cx="420480" cy="345960"/>
          </a:xfrm>
          <a:custGeom>
            <a:avLst/>
            <a:gdLst>
              <a:gd name="textAreaLeft" fmla="*/ 22320 w 420480"/>
              <a:gd name="textAreaRight" fmla="*/ 398160 w 42048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48" h="21600">
                <a:moveTo>
                  <a:pt x="0" y="0"/>
                </a:moveTo>
                <a:lnTo>
                  <a:pt x="26248" y="0"/>
                </a:lnTo>
                <a:lnTo>
                  <a:pt x="26248" y="21600"/>
                </a:lnTo>
                <a:lnTo>
                  <a:pt x="0" y="21600"/>
                </a:lnTo>
                <a:close/>
              </a:path>
              <a:path fill="lightenLess" w="26248" h="21600">
                <a:moveTo>
                  <a:pt x="0" y="0"/>
                </a:moveTo>
                <a:lnTo>
                  <a:pt x="26248" y="0"/>
                </a:lnTo>
                <a:lnTo>
                  <a:pt x="24848" y="1400"/>
                </a:lnTo>
                <a:lnTo>
                  <a:pt x="1400" y="1400"/>
                </a:lnTo>
                <a:close/>
              </a:path>
              <a:path fill="darken" w="26248" h="21600">
                <a:moveTo>
                  <a:pt x="26248" y="0"/>
                </a:moveTo>
                <a:lnTo>
                  <a:pt x="26248" y="21600"/>
                </a:lnTo>
                <a:lnTo>
                  <a:pt x="24848" y="20200"/>
                </a:lnTo>
                <a:lnTo>
                  <a:pt x="24848" y="1400"/>
                </a:lnTo>
                <a:close/>
              </a:path>
              <a:path fill="darkenLess" w="26248" h="21600">
                <a:moveTo>
                  <a:pt x="26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8" y="20200"/>
                </a:lnTo>
                <a:close/>
              </a:path>
              <a:path fill="lighten" w="26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6415200" y="1843200"/>
            <a:ext cx="38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7095960" y="1778040"/>
            <a:ext cx="420840" cy="34596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70" h="21600">
                <a:moveTo>
                  <a:pt x="0" y="0"/>
                </a:moveTo>
                <a:lnTo>
                  <a:pt x="26270" y="0"/>
                </a:lnTo>
                <a:lnTo>
                  <a:pt x="26270" y="21600"/>
                </a:lnTo>
                <a:lnTo>
                  <a:pt x="0" y="21600"/>
                </a:lnTo>
                <a:close/>
              </a:path>
              <a:path fill="lightenLess" w="26270" h="21600">
                <a:moveTo>
                  <a:pt x="0" y="0"/>
                </a:moveTo>
                <a:lnTo>
                  <a:pt x="26270" y="0"/>
                </a:lnTo>
                <a:lnTo>
                  <a:pt x="24870" y="1400"/>
                </a:lnTo>
                <a:lnTo>
                  <a:pt x="1400" y="1400"/>
                </a:lnTo>
                <a:close/>
              </a:path>
              <a:path fill="darken" w="26270" h="21600">
                <a:moveTo>
                  <a:pt x="26270" y="0"/>
                </a:moveTo>
                <a:lnTo>
                  <a:pt x="26270" y="21600"/>
                </a:lnTo>
                <a:lnTo>
                  <a:pt x="24870" y="20200"/>
                </a:lnTo>
                <a:lnTo>
                  <a:pt x="24870" y="1400"/>
                </a:lnTo>
                <a:close/>
              </a:path>
              <a:path fill="darkenLess" w="26270" h="21600">
                <a:moveTo>
                  <a:pt x="26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70" y="20200"/>
                </a:lnTo>
                <a:close/>
              </a:path>
              <a:path fill="lighten" w="26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7112160" y="1843200"/>
            <a:ext cx="38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"/>
          <p:cNvSpPr/>
          <p:nvPr/>
        </p:nvSpPr>
        <p:spPr>
          <a:xfrm>
            <a:off x="173160" y="608040"/>
            <a:ext cx="8753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odélisation d’une panne faîtiè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4" name=""/>
          <p:cNvGrpSpPr/>
          <p:nvPr/>
        </p:nvGrpSpPr>
        <p:grpSpPr>
          <a:xfrm>
            <a:off x="7799400" y="2901960"/>
            <a:ext cx="1128600" cy="501480"/>
            <a:chOff x="7799400" y="2901960"/>
            <a:chExt cx="1128600" cy="501480"/>
          </a:xfrm>
        </p:grpSpPr>
        <p:sp>
          <p:nvSpPr>
            <p:cNvPr id="2355" name=""/>
            <p:cNvSpPr/>
            <p:nvPr/>
          </p:nvSpPr>
          <p:spPr>
            <a:xfrm>
              <a:off x="7894800" y="3211560"/>
              <a:ext cx="942840" cy="0"/>
            </a:xfrm>
            <a:prstGeom prst="line">
              <a:avLst/>
            </a:prstGeom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6" name=""/>
            <p:cNvGrpSpPr/>
            <p:nvPr/>
          </p:nvGrpSpPr>
          <p:grpSpPr>
            <a:xfrm>
              <a:off x="7897680" y="2901960"/>
              <a:ext cx="925560" cy="290520"/>
              <a:chOff x="7897680" y="2901960"/>
              <a:chExt cx="925560" cy="290520"/>
            </a:xfrm>
          </p:grpSpPr>
          <p:grpSp>
            <p:nvGrpSpPr>
              <p:cNvPr id="2357" name=""/>
              <p:cNvGrpSpPr/>
              <p:nvPr/>
            </p:nvGrpSpPr>
            <p:grpSpPr>
              <a:xfrm>
                <a:off x="7897680" y="2901960"/>
                <a:ext cx="551880" cy="290520"/>
                <a:chOff x="7897680" y="2901960"/>
                <a:chExt cx="551880" cy="290520"/>
              </a:xfrm>
            </p:grpSpPr>
            <p:sp>
              <p:nvSpPr>
                <p:cNvPr id="2358" name=""/>
                <p:cNvSpPr/>
                <p:nvPr/>
              </p:nvSpPr>
              <p:spPr>
                <a:xfrm>
                  <a:off x="7897680" y="2901960"/>
                  <a:ext cx="0" cy="2905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9" name=""/>
                <p:cNvSpPr/>
                <p:nvPr/>
              </p:nvSpPr>
              <p:spPr>
                <a:xfrm>
                  <a:off x="8086680" y="2901960"/>
                  <a:ext cx="0" cy="2905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8260200" y="2901960"/>
                  <a:ext cx="0" cy="2905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1" name=""/>
                <p:cNvSpPr/>
                <p:nvPr/>
              </p:nvSpPr>
              <p:spPr>
                <a:xfrm>
                  <a:off x="8449560" y="2901960"/>
                  <a:ext cx="0" cy="29052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2" name=""/>
              <p:cNvSpPr/>
              <p:nvPr/>
            </p:nvSpPr>
            <p:spPr>
              <a:xfrm>
                <a:off x="8633880" y="2901960"/>
                <a:ext cx="0" cy="2905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8823240" y="2901960"/>
                <a:ext cx="0" cy="2905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4" name=""/>
            <p:cNvGrpSpPr/>
            <p:nvPr/>
          </p:nvGrpSpPr>
          <p:grpSpPr>
            <a:xfrm>
              <a:off x="7799400" y="3251160"/>
              <a:ext cx="198360" cy="152280"/>
              <a:chOff x="7799400" y="3251160"/>
              <a:chExt cx="198360" cy="152280"/>
            </a:xfrm>
          </p:grpSpPr>
          <p:sp>
            <p:nvSpPr>
              <p:cNvPr id="2365" name=""/>
              <p:cNvSpPr/>
              <p:nvPr/>
            </p:nvSpPr>
            <p:spPr>
              <a:xfrm>
                <a:off x="7827840" y="3251160"/>
                <a:ext cx="138960" cy="10116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7799400" y="3353400"/>
                <a:ext cx="198360" cy="5004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7803360" y="3353040"/>
                <a:ext cx="194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8" name=""/>
            <p:cNvGrpSpPr/>
            <p:nvPr/>
          </p:nvGrpSpPr>
          <p:grpSpPr>
            <a:xfrm>
              <a:off x="8729640" y="3251160"/>
              <a:ext cx="198360" cy="152280"/>
              <a:chOff x="8729640" y="3251160"/>
              <a:chExt cx="198360" cy="152280"/>
            </a:xfrm>
          </p:grpSpPr>
          <p:sp>
            <p:nvSpPr>
              <p:cNvPr id="2369" name=""/>
              <p:cNvSpPr/>
              <p:nvPr/>
            </p:nvSpPr>
            <p:spPr>
              <a:xfrm>
                <a:off x="8758080" y="3251160"/>
                <a:ext cx="138960" cy="10116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8729640" y="3353400"/>
                <a:ext cx="198360" cy="500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8733600" y="3353040"/>
                <a:ext cx="194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72" name=""/>
          <p:cNvGrpSpPr/>
          <p:nvPr/>
        </p:nvGrpSpPr>
        <p:grpSpPr>
          <a:xfrm>
            <a:off x="195120" y="4962600"/>
            <a:ext cx="3111480" cy="517320"/>
            <a:chOff x="195120" y="4962600"/>
            <a:chExt cx="3111480" cy="517320"/>
          </a:xfrm>
        </p:grpSpPr>
        <p:sp>
          <p:nvSpPr>
            <p:cNvPr id="2373" name=""/>
            <p:cNvSpPr/>
            <p:nvPr/>
          </p:nvSpPr>
          <p:spPr>
            <a:xfrm>
              <a:off x="195120" y="5237280"/>
              <a:ext cx="3111480" cy="12600"/>
            </a:xfrm>
            <a:prstGeom prst="line">
              <a:avLst/>
            </a:prstGeom>
            <a:ln w="2844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26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01760" y="5246640"/>
              <a:ext cx="2697120" cy="0"/>
            </a:xfrm>
            <a:prstGeom prst="line">
              <a:avLst/>
            </a:prstGeom>
            <a:ln w="572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5" name=""/>
            <p:cNvGrpSpPr/>
            <p:nvPr/>
          </p:nvGrpSpPr>
          <p:grpSpPr>
            <a:xfrm>
              <a:off x="390600" y="4962600"/>
              <a:ext cx="2682720" cy="264960"/>
              <a:chOff x="390600" y="4962600"/>
              <a:chExt cx="2682720" cy="264960"/>
            </a:xfrm>
          </p:grpSpPr>
          <p:grpSp>
            <p:nvGrpSpPr>
              <p:cNvPr id="2376" name=""/>
              <p:cNvGrpSpPr/>
              <p:nvPr/>
            </p:nvGrpSpPr>
            <p:grpSpPr>
              <a:xfrm>
                <a:off x="390600" y="4962600"/>
                <a:ext cx="1257480" cy="264960"/>
                <a:chOff x="390600" y="4962600"/>
                <a:chExt cx="1257480" cy="264960"/>
              </a:xfrm>
            </p:grpSpPr>
            <p:grpSp>
              <p:nvGrpSpPr>
                <p:cNvPr id="2377" name=""/>
                <p:cNvGrpSpPr/>
                <p:nvPr/>
              </p:nvGrpSpPr>
              <p:grpSpPr>
                <a:xfrm>
                  <a:off x="390600" y="4962600"/>
                  <a:ext cx="538920" cy="264960"/>
                  <a:chOff x="390600" y="4962600"/>
                  <a:chExt cx="538920" cy="264960"/>
                </a:xfrm>
              </p:grpSpPr>
              <p:sp>
                <p:nvSpPr>
                  <p:cNvPr id="2378" name=""/>
                  <p:cNvSpPr/>
                  <p:nvPr/>
                </p:nvSpPr>
                <p:spPr>
                  <a:xfrm>
                    <a:off x="390600" y="4962600"/>
                    <a:ext cx="0" cy="26496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9" name=""/>
                  <p:cNvSpPr/>
                  <p:nvPr/>
                </p:nvSpPr>
                <p:spPr>
                  <a:xfrm>
                    <a:off x="575280" y="4962600"/>
                    <a:ext cx="0" cy="26496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0" name=""/>
                  <p:cNvSpPr/>
                  <p:nvPr/>
                </p:nvSpPr>
                <p:spPr>
                  <a:xfrm>
                    <a:off x="744840" y="4962600"/>
                    <a:ext cx="0" cy="26496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1" name=""/>
                  <p:cNvSpPr/>
                  <p:nvPr/>
                </p:nvSpPr>
                <p:spPr>
                  <a:xfrm>
                    <a:off x="929520" y="4962600"/>
                    <a:ext cx="0" cy="26496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82" name=""/>
                <p:cNvGrpSpPr/>
                <p:nvPr/>
              </p:nvGrpSpPr>
              <p:grpSpPr>
                <a:xfrm>
                  <a:off x="1109160" y="4962600"/>
                  <a:ext cx="538920" cy="264960"/>
                  <a:chOff x="1109160" y="4962600"/>
                  <a:chExt cx="538920" cy="264960"/>
                </a:xfrm>
              </p:grpSpPr>
              <p:sp>
                <p:nvSpPr>
                  <p:cNvPr id="2383" name=""/>
                  <p:cNvSpPr/>
                  <p:nvPr/>
                </p:nvSpPr>
                <p:spPr>
                  <a:xfrm>
                    <a:off x="1109160" y="4962600"/>
                    <a:ext cx="0" cy="26496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4" name=""/>
                  <p:cNvSpPr/>
                  <p:nvPr/>
                </p:nvSpPr>
                <p:spPr>
                  <a:xfrm>
                    <a:off x="1293840" y="4962600"/>
                    <a:ext cx="0" cy="26496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5" name=""/>
                  <p:cNvSpPr/>
                  <p:nvPr/>
                </p:nvSpPr>
                <p:spPr>
                  <a:xfrm>
                    <a:off x="1463400" y="4962600"/>
                    <a:ext cx="0" cy="26496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6" name=""/>
                  <p:cNvSpPr/>
                  <p:nvPr/>
                </p:nvSpPr>
                <p:spPr>
                  <a:xfrm>
                    <a:off x="1648080" y="4962600"/>
                    <a:ext cx="0" cy="26496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87" name=""/>
              <p:cNvGrpSpPr/>
              <p:nvPr/>
            </p:nvGrpSpPr>
            <p:grpSpPr>
              <a:xfrm>
                <a:off x="1815840" y="4962600"/>
                <a:ext cx="1257480" cy="264960"/>
                <a:chOff x="1815840" y="4962600"/>
                <a:chExt cx="1257480" cy="264960"/>
              </a:xfrm>
            </p:grpSpPr>
            <p:grpSp>
              <p:nvGrpSpPr>
                <p:cNvPr id="2388" name=""/>
                <p:cNvGrpSpPr/>
                <p:nvPr/>
              </p:nvGrpSpPr>
              <p:grpSpPr>
                <a:xfrm>
                  <a:off x="1815840" y="4962600"/>
                  <a:ext cx="538920" cy="264960"/>
                  <a:chOff x="1815840" y="4962600"/>
                  <a:chExt cx="538920" cy="264960"/>
                </a:xfrm>
              </p:grpSpPr>
              <p:sp>
                <p:nvSpPr>
                  <p:cNvPr id="2389" name=""/>
                  <p:cNvSpPr/>
                  <p:nvPr/>
                </p:nvSpPr>
                <p:spPr>
                  <a:xfrm>
                    <a:off x="1815840" y="4962600"/>
                    <a:ext cx="0" cy="26496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0" name=""/>
                  <p:cNvSpPr/>
                  <p:nvPr/>
                </p:nvSpPr>
                <p:spPr>
                  <a:xfrm>
                    <a:off x="2000520" y="4962600"/>
                    <a:ext cx="0" cy="26496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1" name=""/>
                  <p:cNvSpPr/>
                  <p:nvPr/>
                </p:nvSpPr>
                <p:spPr>
                  <a:xfrm>
                    <a:off x="2170080" y="4962600"/>
                    <a:ext cx="0" cy="26496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2" name=""/>
                  <p:cNvSpPr/>
                  <p:nvPr/>
                </p:nvSpPr>
                <p:spPr>
                  <a:xfrm>
                    <a:off x="2354760" y="4962600"/>
                    <a:ext cx="0" cy="26496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93" name=""/>
                <p:cNvGrpSpPr/>
                <p:nvPr/>
              </p:nvGrpSpPr>
              <p:grpSpPr>
                <a:xfrm>
                  <a:off x="2534400" y="4962600"/>
                  <a:ext cx="538920" cy="264960"/>
                  <a:chOff x="2534400" y="4962600"/>
                  <a:chExt cx="538920" cy="264960"/>
                </a:xfrm>
              </p:grpSpPr>
              <p:sp>
                <p:nvSpPr>
                  <p:cNvPr id="2394" name=""/>
                  <p:cNvSpPr/>
                  <p:nvPr/>
                </p:nvSpPr>
                <p:spPr>
                  <a:xfrm>
                    <a:off x="2534400" y="4962600"/>
                    <a:ext cx="0" cy="26496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5" name=""/>
                  <p:cNvSpPr/>
                  <p:nvPr/>
                </p:nvSpPr>
                <p:spPr>
                  <a:xfrm>
                    <a:off x="2719080" y="4962600"/>
                    <a:ext cx="0" cy="26496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6" name=""/>
                  <p:cNvSpPr/>
                  <p:nvPr/>
                </p:nvSpPr>
                <p:spPr>
                  <a:xfrm>
                    <a:off x="2888640" y="4962600"/>
                    <a:ext cx="0" cy="26496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7" name=""/>
                  <p:cNvSpPr/>
                  <p:nvPr/>
                </p:nvSpPr>
                <p:spPr>
                  <a:xfrm>
                    <a:off x="3073320" y="4962600"/>
                    <a:ext cx="0" cy="264960"/>
                  </a:xfrm>
                  <a:prstGeom prst="line">
                    <a:avLst/>
                  </a:prstGeom>
                  <a:ln w="1908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398" name=""/>
            <p:cNvGrpSpPr/>
            <p:nvPr/>
          </p:nvGrpSpPr>
          <p:grpSpPr>
            <a:xfrm>
              <a:off x="382680" y="5300640"/>
              <a:ext cx="280800" cy="179280"/>
              <a:chOff x="382680" y="5300640"/>
              <a:chExt cx="280800" cy="179280"/>
            </a:xfrm>
          </p:grpSpPr>
          <p:sp>
            <p:nvSpPr>
              <p:cNvPr id="2399" name=""/>
              <p:cNvSpPr/>
              <p:nvPr/>
            </p:nvSpPr>
            <p:spPr>
              <a:xfrm>
                <a:off x="423000" y="5300640"/>
                <a:ext cx="196920" cy="11880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382680" y="5421240"/>
                <a:ext cx="280800" cy="586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388440" y="5420520"/>
                <a:ext cx="27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2" name=""/>
            <p:cNvGrpSpPr/>
            <p:nvPr/>
          </p:nvGrpSpPr>
          <p:grpSpPr>
            <a:xfrm>
              <a:off x="1198440" y="5300640"/>
              <a:ext cx="281160" cy="179280"/>
              <a:chOff x="1198440" y="5300640"/>
              <a:chExt cx="281160" cy="179280"/>
            </a:xfrm>
          </p:grpSpPr>
          <p:sp>
            <p:nvSpPr>
              <p:cNvPr id="2403" name=""/>
              <p:cNvSpPr/>
              <p:nvPr/>
            </p:nvSpPr>
            <p:spPr>
              <a:xfrm>
                <a:off x="1238760" y="5300640"/>
                <a:ext cx="197280" cy="11880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1198440" y="5421240"/>
                <a:ext cx="281160" cy="586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1204200" y="5420520"/>
                <a:ext cx="275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6" name=""/>
            <p:cNvGrpSpPr/>
            <p:nvPr/>
          </p:nvGrpSpPr>
          <p:grpSpPr>
            <a:xfrm>
              <a:off x="2013120" y="5300640"/>
              <a:ext cx="280800" cy="179280"/>
              <a:chOff x="2013120" y="5300640"/>
              <a:chExt cx="280800" cy="179280"/>
            </a:xfrm>
          </p:grpSpPr>
          <p:sp>
            <p:nvSpPr>
              <p:cNvPr id="2407" name=""/>
              <p:cNvSpPr/>
              <p:nvPr/>
            </p:nvSpPr>
            <p:spPr>
              <a:xfrm>
                <a:off x="2053440" y="5300640"/>
                <a:ext cx="196920" cy="11880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2013120" y="5421240"/>
                <a:ext cx="280800" cy="5868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2018880" y="5420520"/>
                <a:ext cx="27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0" name=""/>
            <p:cNvGrpSpPr/>
            <p:nvPr/>
          </p:nvGrpSpPr>
          <p:grpSpPr>
            <a:xfrm>
              <a:off x="2846520" y="5300640"/>
              <a:ext cx="280800" cy="179280"/>
              <a:chOff x="2846520" y="5300640"/>
              <a:chExt cx="280800" cy="179280"/>
            </a:xfrm>
          </p:grpSpPr>
          <p:sp>
            <p:nvSpPr>
              <p:cNvPr id="2411" name=""/>
              <p:cNvSpPr/>
              <p:nvPr/>
            </p:nvSpPr>
            <p:spPr>
              <a:xfrm>
                <a:off x="2886840" y="5300640"/>
                <a:ext cx="196920" cy="118800"/>
              </a:xfrm>
              <a:prstGeom prst="triangle">
                <a:avLst>
                  <a:gd name="adj" fmla="val 50000"/>
                </a:avLst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2846520" y="5421240"/>
                <a:ext cx="280800" cy="586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2852280" y="5420520"/>
                <a:ext cx="274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4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8" name=""/>
          <p:cNvGrpSpPr/>
          <p:nvPr/>
        </p:nvGrpSpPr>
        <p:grpSpPr>
          <a:xfrm>
            <a:off x="4181400" y="3473280"/>
            <a:ext cx="4853160" cy="3059280"/>
            <a:chOff x="4181400" y="3473280"/>
            <a:chExt cx="4853160" cy="3059280"/>
          </a:xfrm>
        </p:grpSpPr>
        <p:sp>
          <p:nvSpPr>
            <p:cNvPr id="2419" name=""/>
            <p:cNvSpPr/>
            <p:nvPr/>
          </p:nvSpPr>
          <p:spPr>
            <a:xfrm>
              <a:off x="6386400" y="4027320"/>
              <a:ext cx="611280" cy="304920"/>
            </a:xfrm>
            <a:custGeom>
              <a:avLst/>
              <a:gdLst/>
              <a:ahLst/>
              <a:rect l="l" t="t" r="r" b="b"/>
              <a:pathLst>
                <a:path w="385" h="192">
                  <a:moveTo>
                    <a:pt x="108" y="177"/>
                  </a:moveTo>
                  <a:lnTo>
                    <a:pt x="200" y="192"/>
                  </a:lnTo>
                  <a:lnTo>
                    <a:pt x="385" y="15"/>
                  </a:lnTo>
                  <a:lnTo>
                    <a:pt x="292" y="0"/>
                  </a:lnTo>
                  <a:lnTo>
                    <a:pt x="177" y="15"/>
                  </a:lnTo>
                  <a:lnTo>
                    <a:pt x="0" y="192"/>
                  </a:lnTo>
                  <a:lnTo>
                    <a:pt x="108" y="177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0" name=""/>
            <p:cNvGrpSpPr/>
            <p:nvPr/>
          </p:nvGrpSpPr>
          <p:grpSpPr>
            <a:xfrm>
              <a:off x="4181400" y="4732200"/>
              <a:ext cx="4708080" cy="1800360"/>
              <a:chOff x="4181400" y="4732200"/>
              <a:chExt cx="4708080" cy="1800360"/>
            </a:xfrm>
          </p:grpSpPr>
          <p:grpSp>
            <p:nvGrpSpPr>
              <p:cNvPr id="2421" name=""/>
              <p:cNvGrpSpPr/>
              <p:nvPr/>
            </p:nvGrpSpPr>
            <p:grpSpPr>
              <a:xfrm>
                <a:off x="4464720" y="5044680"/>
                <a:ext cx="1235520" cy="1219680"/>
                <a:chOff x="4464720" y="5044680"/>
                <a:chExt cx="1235520" cy="1219680"/>
              </a:xfrm>
            </p:grpSpPr>
            <p:sp>
              <p:nvSpPr>
                <p:cNvPr id="2422" name=""/>
                <p:cNvSpPr/>
                <p:nvPr/>
              </p:nvSpPr>
              <p:spPr>
                <a:xfrm>
                  <a:off x="5564880" y="5044680"/>
                  <a:ext cx="135360" cy="135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>
                  <a:off x="5283720" y="5300640"/>
                  <a:ext cx="135360" cy="136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>
                  <a:off x="5015160" y="556596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>
                  <a:off x="4737600" y="5841720"/>
                  <a:ext cx="13608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4464720" y="612900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7" name=""/>
              <p:cNvGrpSpPr/>
              <p:nvPr/>
            </p:nvGrpSpPr>
            <p:grpSpPr>
              <a:xfrm>
                <a:off x="7396200" y="5023080"/>
                <a:ext cx="1216080" cy="1232280"/>
                <a:chOff x="7396200" y="5023080"/>
                <a:chExt cx="1216080" cy="1232280"/>
              </a:xfrm>
            </p:grpSpPr>
            <p:sp>
              <p:nvSpPr>
                <p:cNvPr id="2428" name=""/>
                <p:cNvSpPr/>
                <p:nvPr/>
              </p:nvSpPr>
              <p:spPr>
                <a:xfrm>
                  <a:off x="8476920" y="5023080"/>
                  <a:ext cx="135360" cy="135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8205480" y="5292360"/>
                  <a:ext cx="135720" cy="136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>
                  <a:off x="7936560" y="5557320"/>
                  <a:ext cx="135720" cy="135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>
                  <a:off x="7652520" y="5832720"/>
                  <a:ext cx="138960" cy="135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7396200" y="612000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3" name=""/>
              <p:cNvGrpSpPr/>
              <p:nvPr/>
            </p:nvGrpSpPr>
            <p:grpSpPr>
              <a:xfrm>
                <a:off x="5825880" y="4732200"/>
                <a:ext cx="3063600" cy="138960"/>
                <a:chOff x="5825880" y="4732200"/>
                <a:chExt cx="3063600" cy="138960"/>
              </a:xfrm>
            </p:grpSpPr>
            <p:sp>
              <p:nvSpPr>
                <p:cNvPr id="2434" name=""/>
                <p:cNvSpPr/>
                <p:nvPr/>
              </p:nvSpPr>
              <p:spPr>
                <a:xfrm>
                  <a:off x="8754120" y="473580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5825880" y="4732200"/>
                  <a:ext cx="135720" cy="135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7797600" y="4732200"/>
                  <a:ext cx="135720" cy="135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7" name=""/>
                <p:cNvSpPr/>
                <p:nvPr/>
              </p:nvSpPr>
              <p:spPr>
                <a:xfrm>
                  <a:off x="6321240" y="473256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6779880" y="473256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>
                  <a:off x="7268400" y="473256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8287560" y="473256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1" name=""/>
              <p:cNvGrpSpPr/>
              <p:nvPr/>
            </p:nvGrpSpPr>
            <p:grpSpPr>
              <a:xfrm>
                <a:off x="4181400" y="6396840"/>
                <a:ext cx="3057120" cy="135720"/>
                <a:chOff x="4181400" y="6396840"/>
                <a:chExt cx="3057120" cy="135720"/>
              </a:xfrm>
            </p:grpSpPr>
            <p:sp>
              <p:nvSpPr>
                <p:cNvPr id="2442" name=""/>
                <p:cNvSpPr/>
                <p:nvPr/>
              </p:nvSpPr>
              <p:spPr>
                <a:xfrm>
                  <a:off x="7102800" y="6396840"/>
                  <a:ext cx="135720" cy="135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>
                  <a:off x="4181400" y="639684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4672800" y="639684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5141520" y="639684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6" name=""/>
                <p:cNvSpPr/>
                <p:nvPr/>
              </p:nvSpPr>
              <p:spPr>
                <a:xfrm>
                  <a:off x="6157440" y="639684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6626160" y="639684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48" name=""/>
            <p:cNvGrpSpPr/>
            <p:nvPr/>
          </p:nvGrpSpPr>
          <p:grpSpPr>
            <a:xfrm>
              <a:off x="4262400" y="3714840"/>
              <a:ext cx="4586400" cy="2657160"/>
              <a:chOff x="4262400" y="3714840"/>
              <a:chExt cx="4586400" cy="2657160"/>
            </a:xfrm>
          </p:grpSpPr>
          <p:grpSp>
            <p:nvGrpSpPr>
              <p:cNvPr id="2449" name=""/>
              <p:cNvGrpSpPr/>
              <p:nvPr/>
            </p:nvGrpSpPr>
            <p:grpSpPr>
              <a:xfrm>
                <a:off x="5898960" y="3714840"/>
                <a:ext cx="2949840" cy="994680"/>
                <a:chOff x="5898960" y="3714840"/>
                <a:chExt cx="2949840" cy="994680"/>
              </a:xfrm>
            </p:grpSpPr>
            <p:sp>
              <p:nvSpPr>
                <p:cNvPr id="2450" name=""/>
                <p:cNvSpPr/>
                <p:nvPr/>
              </p:nvSpPr>
              <p:spPr>
                <a:xfrm>
                  <a:off x="5928840" y="3714840"/>
                  <a:ext cx="2919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1" name=""/>
                <p:cNvSpPr/>
                <p:nvPr/>
              </p:nvSpPr>
              <p:spPr>
                <a:xfrm>
                  <a:off x="5920920" y="4005720"/>
                  <a:ext cx="2919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2" name=""/>
                <p:cNvSpPr/>
                <p:nvPr/>
              </p:nvSpPr>
              <p:spPr>
                <a:xfrm>
                  <a:off x="5910120" y="4483440"/>
                  <a:ext cx="29336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5922000" y="4244400"/>
                  <a:ext cx="29221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5898960" y="4709520"/>
                  <a:ext cx="29199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5" name=""/>
              <p:cNvGrpSpPr/>
              <p:nvPr/>
            </p:nvGrpSpPr>
            <p:grpSpPr>
              <a:xfrm>
                <a:off x="4262400" y="5361480"/>
                <a:ext cx="2934720" cy="1010520"/>
                <a:chOff x="4262400" y="5361480"/>
                <a:chExt cx="2934720" cy="1010520"/>
              </a:xfrm>
            </p:grpSpPr>
            <p:sp>
              <p:nvSpPr>
                <p:cNvPr id="2456" name=""/>
                <p:cNvSpPr/>
                <p:nvPr/>
              </p:nvSpPr>
              <p:spPr>
                <a:xfrm>
                  <a:off x="6239160" y="6372000"/>
                  <a:ext cx="950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7" name=""/>
                <p:cNvSpPr/>
                <p:nvPr/>
              </p:nvSpPr>
              <p:spPr>
                <a:xfrm>
                  <a:off x="4277880" y="5361480"/>
                  <a:ext cx="29192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8" name=""/>
                <p:cNvSpPr/>
                <p:nvPr/>
              </p:nvSpPr>
              <p:spPr>
                <a:xfrm>
                  <a:off x="4269960" y="5652360"/>
                  <a:ext cx="29192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6234480" y="6130080"/>
                  <a:ext cx="958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4262400" y="5891400"/>
                  <a:ext cx="961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6234480" y="5891400"/>
                  <a:ext cx="958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>
                  <a:off x="4269960" y="6130080"/>
                  <a:ext cx="961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3" name=""/>
                <p:cNvSpPr/>
                <p:nvPr/>
              </p:nvSpPr>
              <p:spPr>
                <a:xfrm>
                  <a:off x="4269960" y="6366240"/>
                  <a:ext cx="950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64" name=""/>
            <p:cNvGrpSpPr/>
            <p:nvPr/>
          </p:nvGrpSpPr>
          <p:grpSpPr>
            <a:xfrm>
              <a:off x="4258800" y="3473280"/>
              <a:ext cx="4577400" cy="2894040"/>
              <a:chOff x="4258800" y="3473280"/>
              <a:chExt cx="4577400" cy="2894040"/>
            </a:xfrm>
          </p:grpSpPr>
          <p:sp>
            <p:nvSpPr>
              <p:cNvPr id="2465" name=""/>
              <p:cNvSpPr/>
              <p:nvPr/>
            </p:nvSpPr>
            <p:spPr>
              <a:xfrm>
                <a:off x="5730120" y="5144760"/>
                <a:ext cx="0" cy="5047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6" name=""/>
              <p:cNvGrpSpPr/>
              <p:nvPr/>
            </p:nvGrpSpPr>
            <p:grpSpPr>
              <a:xfrm>
                <a:off x="4258800" y="3473280"/>
                <a:ext cx="4577400" cy="2894040"/>
                <a:chOff x="4258800" y="3473280"/>
                <a:chExt cx="4577400" cy="2894040"/>
              </a:xfrm>
            </p:grpSpPr>
            <p:grpSp>
              <p:nvGrpSpPr>
                <p:cNvPr id="2467" name=""/>
                <p:cNvGrpSpPr/>
                <p:nvPr/>
              </p:nvGrpSpPr>
              <p:grpSpPr>
                <a:xfrm>
                  <a:off x="5915880" y="3473280"/>
                  <a:ext cx="2920320" cy="1232280"/>
                  <a:chOff x="5915880" y="3473280"/>
                  <a:chExt cx="2920320" cy="1232280"/>
                </a:xfrm>
              </p:grpSpPr>
              <p:sp>
                <p:nvSpPr>
                  <p:cNvPr id="2468" name=""/>
                  <p:cNvSpPr/>
                  <p:nvPr/>
                </p:nvSpPr>
                <p:spPr>
                  <a:xfrm>
                    <a:off x="8368920" y="3625920"/>
                    <a:ext cx="0" cy="1079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9" name=""/>
                  <p:cNvSpPr/>
                  <p:nvPr/>
                </p:nvSpPr>
                <p:spPr>
                  <a:xfrm>
                    <a:off x="8836200" y="3707280"/>
                    <a:ext cx="0" cy="998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0" name=""/>
                  <p:cNvSpPr/>
                  <p:nvPr/>
                </p:nvSpPr>
                <p:spPr>
                  <a:xfrm>
                    <a:off x="7881480" y="3561840"/>
                    <a:ext cx="0" cy="1143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1" name=""/>
                  <p:cNvSpPr/>
                  <p:nvPr/>
                </p:nvSpPr>
                <p:spPr>
                  <a:xfrm>
                    <a:off x="7376760" y="3473280"/>
                    <a:ext cx="0" cy="1232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2" name=""/>
                  <p:cNvSpPr/>
                  <p:nvPr/>
                </p:nvSpPr>
                <p:spPr>
                  <a:xfrm>
                    <a:off x="6870600" y="3550680"/>
                    <a:ext cx="0" cy="1154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3" name=""/>
                  <p:cNvSpPr/>
                  <p:nvPr/>
                </p:nvSpPr>
                <p:spPr>
                  <a:xfrm>
                    <a:off x="5915880" y="3702240"/>
                    <a:ext cx="0" cy="1003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4" name=""/>
                  <p:cNvSpPr/>
                  <p:nvPr/>
                </p:nvSpPr>
                <p:spPr>
                  <a:xfrm>
                    <a:off x="6404040" y="3633840"/>
                    <a:ext cx="0" cy="1071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5" name=""/>
                <p:cNvGrpSpPr/>
                <p:nvPr/>
              </p:nvGrpSpPr>
              <p:grpSpPr>
                <a:xfrm>
                  <a:off x="4258800" y="5207760"/>
                  <a:ext cx="2930400" cy="1159560"/>
                  <a:chOff x="4258800" y="5207760"/>
                  <a:chExt cx="2930400" cy="1159560"/>
                </a:xfrm>
              </p:grpSpPr>
              <p:sp>
                <p:nvSpPr>
                  <p:cNvPr id="2476" name=""/>
                  <p:cNvSpPr/>
                  <p:nvPr/>
                </p:nvSpPr>
                <p:spPr>
                  <a:xfrm>
                    <a:off x="6721920" y="5282640"/>
                    <a:ext cx="0" cy="10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7" name=""/>
                  <p:cNvSpPr/>
                  <p:nvPr/>
                </p:nvSpPr>
                <p:spPr>
                  <a:xfrm>
                    <a:off x="7189200" y="5358960"/>
                    <a:ext cx="0" cy="998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8" name=""/>
                  <p:cNvSpPr/>
                  <p:nvPr/>
                </p:nvSpPr>
                <p:spPr>
                  <a:xfrm>
                    <a:off x="6234480" y="5213880"/>
                    <a:ext cx="0" cy="1148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9" name=""/>
                  <p:cNvSpPr/>
                  <p:nvPr/>
                </p:nvSpPr>
                <p:spPr>
                  <a:xfrm>
                    <a:off x="5223600" y="5207760"/>
                    <a:ext cx="0" cy="1154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0" name=""/>
                  <p:cNvSpPr/>
                  <p:nvPr/>
                </p:nvSpPr>
                <p:spPr>
                  <a:xfrm flipH="1">
                    <a:off x="4258800" y="5354280"/>
                    <a:ext cx="9720" cy="101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1" name=""/>
                  <p:cNvSpPr/>
                  <p:nvPr/>
                </p:nvSpPr>
                <p:spPr>
                  <a:xfrm>
                    <a:off x="4757040" y="5290560"/>
                    <a:ext cx="0" cy="1071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482" name=""/>
            <p:cNvGrpSpPr/>
            <p:nvPr/>
          </p:nvGrpSpPr>
          <p:grpSpPr>
            <a:xfrm>
              <a:off x="4263840" y="3476520"/>
              <a:ext cx="4579920" cy="1877760"/>
              <a:chOff x="4263840" y="3476520"/>
              <a:chExt cx="4579920" cy="1877760"/>
            </a:xfrm>
          </p:grpSpPr>
          <p:grpSp>
            <p:nvGrpSpPr>
              <p:cNvPr id="2483" name=""/>
              <p:cNvGrpSpPr/>
              <p:nvPr/>
            </p:nvGrpSpPr>
            <p:grpSpPr>
              <a:xfrm>
                <a:off x="4263840" y="4852080"/>
                <a:ext cx="3195360" cy="502200"/>
                <a:chOff x="4263840" y="4852080"/>
                <a:chExt cx="3195360" cy="502200"/>
              </a:xfrm>
            </p:grpSpPr>
            <p:sp>
              <p:nvSpPr>
                <p:cNvPr id="2484" name=""/>
                <p:cNvSpPr/>
                <p:nvPr/>
              </p:nvSpPr>
              <p:spPr>
                <a:xfrm flipH="1" flipV="1">
                  <a:off x="5999400" y="4854960"/>
                  <a:ext cx="248400" cy="350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 flipH="1">
                  <a:off x="5208480" y="4854960"/>
                  <a:ext cx="790560" cy="350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 flipH="1" flipV="1">
                  <a:off x="6959520" y="4989240"/>
                  <a:ext cx="224280" cy="36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 flipV="1">
                  <a:off x="6715800" y="5077080"/>
                  <a:ext cx="743400" cy="207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 flipH="1" flipV="1">
                  <a:off x="6489720" y="4937040"/>
                  <a:ext cx="226080" cy="34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 flipH="1">
                  <a:off x="6228720" y="5000400"/>
                  <a:ext cx="770040" cy="20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 flipH="1">
                  <a:off x="5763960" y="4937040"/>
                  <a:ext cx="725760" cy="187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 flipH="1" flipV="1">
                  <a:off x="5484960" y="4920840"/>
                  <a:ext cx="278280" cy="203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 flipH="1" flipV="1">
                  <a:off x="5026320" y="5000400"/>
                  <a:ext cx="191520" cy="21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 flipH="1">
                  <a:off x="4749480" y="4937040"/>
                  <a:ext cx="735480" cy="34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 flipH="1" flipV="1">
                  <a:off x="4539240" y="5077080"/>
                  <a:ext cx="213120" cy="197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 flipH="1">
                  <a:off x="4263840" y="5000400"/>
                  <a:ext cx="762120" cy="353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 flipV="1">
                  <a:off x="7179840" y="5077800"/>
                  <a:ext cx="270360" cy="27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 flipV="1">
                  <a:off x="5744160" y="4852080"/>
                  <a:ext cx="270360" cy="27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 flipV="1">
                  <a:off x="6235920" y="4930560"/>
                  <a:ext cx="270360" cy="27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 flipV="1">
                  <a:off x="4269240" y="5073120"/>
                  <a:ext cx="270360" cy="27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 flipV="1">
                  <a:off x="4761000" y="4999320"/>
                  <a:ext cx="270360" cy="27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 flipV="1">
                  <a:off x="5222880" y="4930560"/>
                  <a:ext cx="270360" cy="27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 flipV="1">
                  <a:off x="4534560" y="4856760"/>
                  <a:ext cx="1469880" cy="221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 flipV="1">
                  <a:off x="4269240" y="5131800"/>
                  <a:ext cx="1469880" cy="221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>
                  <a:off x="5739120" y="5131800"/>
                  <a:ext cx="1430280" cy="221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>
                  <a:off x="6009480" y="4856760"/>
                  <a:ext cx="1430640" cy="221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 flipV="1">
                  <a:off x="6702840" y="5014080"/>
                  <a:ext cx="270360" cy="27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7" name=""/>
              <p:cNvGrpSpPr/>
              <p:nvPr/>
            </p:nvGrpSpPr>
            <p:grpSpPr>
              <a:xfrm>
                <a:off x="5648400" y="3476520"/>
                <a:ext cx="3195360" cy="502200"/>
                <a:chOff x="5648400" y="3476520"/>
                <a:chExt cx="3195360" cy="502200"/>
              </a:xfrm>
            </p:grpSpPr>
            <p:sp>
              <p:nvSpPr>
                <p:cNvPr id="2508" name=""/>
                <p:cNvSpPr/>
                <p:nvPr/>
              </p:nvSpPr>
              <p:spPr>
                <a:xfrm flipH="1" flipV="1">
                  <a:off x="7383960" y="3479400"/>
                  <a:ext cx="248400" cy="350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9" name=""/>
                <p:cNvSpPr/>
                <p:nvPr/>
              </p:nvSpPr>
              <p:spPr>
                <a:xfrm flipH="1">
                  <a:off x="6593040" y="3479400"/>
                  <a:ext cx="790560" cy="350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 flipH="1" flipV="1">
                  <a:off x="8344080" y="3613680"/>
                  <a:ext cx="224280" cy="365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 flipV="1">
                  <a:off x="8100360" y="3701520"/>
                  <a:ext cx="743400" cy="207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 flipH="1" flipV="1">
                  <a:off x="7874280" y="3561480"/>
                  <a:ext cx="226080" cy="34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 flipH="1">
                  <a:off x="7613280" y="3624840"/>
                  <a:ext cx="770040" cy="2052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 flipH="1">
                  <a:off x="7148520" y="3561480"/>
                  <a:ext cx="725760" cy="1879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 flipH="1" flipV="1">
                  <a:off x="6869520" y="3545280"/>
                  <a:ext cx="278280" cy="203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 flipH="1" flipV="1">
                  <a:off x="6410880" y="3624840"/>
                  <a:ext cx="191520" cy="210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 flipH="1">
                  <a:off x="6134040" y="3561480"/>
                  <a:ext cx="735480" cy="34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8" name=""/>
                <p:cNvSpPr/>
                <p:nvPr/>
              </p:nvSpPr>
              <p:spPr>
                <a:xfrm flipH="1" flipV="1">
                  <a:off x="5923800" y="3701520"/>
                  <a:ext cx="213120" cy="1976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 flipH="1">
                  <a:off x="5648400" y="3624840"/>
                  <a:ext cx="762120" cy="3538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 flipV="1">
                  <a:off x="8564400" y="3702240"/>
                  <a:ext cx="270360" cy="27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 flipV="1">
                  <a:off x="7128720" y="3476520"/>
                  <a:ext cx="270360" cy="27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 flipV="1">
                  <a:off x="7620480" y="3555000"/>
                  <a:ext cx="270360" cy="27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 flipV="1">
                  <a:off x="5653800" y="3697560"/>
                  <a:ext cx="270360" cy="27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 flipV="1">
                  <a:off x="6145560" y="3623760"/>
                  <a:ext cx="270360" cy="27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 flipV="1">
                  <a:off x="6607440" y="3555000"/>
                  <a:ext cx="270360" cy="27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 flipV="1">
                  <a:off x="5919120" y="3481200"/>
                  <a:ext cx="1469880" cy="221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7" name=""/>
                <p:cNvSpPr/>
                <p:nvPr/>
              </p:nvSpPr>
              <p:spPr>
                <a:xfrm flipV="1">
                  <a:off x="5653800" y="3756240"/>
                  <a:ext cx="1469880" cy="221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>
                  <a:off x="7123680" y="3756240"/>
                  <a:ext cx="1430280" cy="221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>
                  <a:off x="7394040" y="3481200"/>
                  <a:ext cx="1430640" cy="221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 flipV="1">
                  <a:off x="8087400" y="3638520"/>
                  <a:ext cx="270360" cy="270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31" name=""/>
            <p:cNvGrpSpPr/>
            <p:nvPr/>
          </p:nvGrpSpPr>
          <p:grpSpPr>
            <a:xfrm>
              <a:off x="4260960" y="3696840"/>
              <a:ext cx="4576680" cy="2678040"/>
              <a:chOff x="4260960" y="3696840"/>
              <a:chExt cx="4576680" cy="2678040"/>
            </a:xfrm>
          </p:grpSpPr>
          <p:grpSp>
            <p:nvGrpSpPr>
              <p:cNvPr id="2532" name=""/>
              <p:cNvGrpSpPr/>
              <p:nvPr/>
            </p:nvGrpSpPr>
            <p:grpSpPr>
              <a:xfrm>
                <a:off x="7180920" y="5073120"/>
                <a:ext cx="280440" cy="1292040"/>
                <a:chOff x="7180920" y="5073120"/>
                <a:chExt cx="280440" cy="1292040"/>
              </a:xfrm>
            </p:grpSpPr>
            <p:sp>
              <p:nvSpPr>
                <p:cNvPr id="2533" name=""/>
                <p:cNvSpPr/>
                <p:nvPr/>
              </p:nvSpPr>
              <p:spPr>
                <a:xfrm flipV="1">
                  <a:off x="7185600" y="5612400"/>
                  <a:ext cx="275400" cy="75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 flipH="1" flipV="1">
                  <a:off x="7180920" y="5348160"/>
                  <a:ext cx="280080" cy="264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 flipH="1" flipV="1">
                  <a:off x="7185240" y="5873400"/>
                  <a:ext cx="275400" cy="2167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 flipV="1">
                  <a:off x="7185600" y="5077800"/>
                  <a:ext cx="275400" cy="79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 flipV="1">
                  <a:off x="7180920" y="5073120"/>
                  <a:ext cx="27036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>
                  <a:off x="7185960" y="5348520"/>
                  <a:ext cx="0" cy="101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 flipV="1">
                  <a:off x="7185960" y="5608800"/>
                  <a:ext cx="27036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>
                  <a:off x="7461360" y="5083200"/>
                  <a:ext cx="0" cy="101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1" name=""/>
              <p:cNvGrpSpPr/>
              <p:nvPr/>
            </p:nvGrpSpPr>
            <p:grpSpPr>
              <a:xfrm>
                <a:off x="4260960" y="5082840"/>
                <a:ext cx="280440" cy="1292040"/>
                <a:chOff x="4260960" y="5082840"/>
                <a:chExt cx="280440" cy="1292040"/>
              </a:xfrm>
            </p:grpSpPr>
            <p:sp>
              <p:nvSpPr>
                <p:cNvPr id="2542" name=""/>
                <p:cNvSpPr/>
                <p:nvPr/>
              </p:nvSpPr>
              <p:spPr>
                <a:xfrm flipV="1">
                  <a:off x="4265640" y="5622120"/>
                  <a:ext cx="275400" cy="75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 flipH="1" flipV="1">
                  <a:off x="4260960" y="5357880"/>
                  <a:ext cx="280080" cy="264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 flipH="1" flipV="1">
                  <a:off x="4265280" y="5883120"/>
                  <a:ext cx="275400" cy="2167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 flipV="1">
                  <a:off x="4265640" y="5087520"/>
                  <a:ext cx="275400" cy="79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 flipV="1">
                  <a:off x="4260960" y="5082840"/>
                  <a:ext cx="27036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>
                  <a:off x="4266000" y="5358240"/>
                  <a:ext cx="0" cy="101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 flipV="1">
                  <a:off x="4266000" y="5618520"/>
                  <a:ext cx="27036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>
                  <a:off x="4541400" y="5092920"/>
                  <a:ext cx="0" cy="101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0" name=""/>
              <p:cNvGrpSpPr/>
              <p:nvPr/>
            </p:nvGrpSpPr>
            <p:grpSpPr>
              <a:xfrm>
                <a:off x="8557200" y="3696840"/>
                <a:ext cx="280440" cy="1292040"/>
                <a:chOff x="8557200" y="3696840"/>
                <a:chExt cx="280440" cy="1292040"/>
              </a:xfrm>
            </p:grpSpPr>
            <p:sp>
              <p:nvSpPr>
                <p:cNvPr id="2551" name=""/>
                <p:cNvSpPr/>
                <p:nvPr/>
              </p:nvSpPr>
              <p:spPr>
                <a:xfrm flipV="1">
                  <a:off x="8561880" y="4236120"/>
                  <a:ext cx="275400" cy="75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 flipH="1" flipV="1">
                  <a:off x="8557200" y="3971880"/>
                  <a:ext cx="280080" cy="264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 flipH="1" flipV="1">
                  <a:off x="8561520" y="4497120"/>
                  <a:ext cx="275400" cy="2167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4" name=""/>
                <p:cNvSpPr/>
                <p:nvPr/>
              </p:nvSpPr>
              <p:spPr>
                <a:xfrm flipV="1">
                  <a:off x="8561880" y="3701520"/>
                  <a:ext cx="275400" cy="79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 flipV="1">
                  <a:off x="8557200" y="3696840"/>
                  <a:ext cx="27036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>
                  <a:off x="8562240" y="3972240"/>
                  <a:ext cx="0" cy="101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7" name=""/>
                <p:cNvSpPr/>
                <p:nvPr/>
              </p:nvSpPr>
              <p:spPr>
                <a:xfrm flipV="1">
                  <a:off x="8562240" y="4232520"/>
                  <a:ext cx="27036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>
                  <a:off x="8837640" y="3706920"/>
                  <a:ext cx="0" cy="101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9" name=""/>
              <p:cNvGrpSpPr/>
              <p:nvPr/>
            </p:nvGrpSpPr>
            <p:grpSpPr>
              <a:xfrm>
                <a:off x="5637240" y="3711240"/>
                <a:ext cx="280440" cy="1292040"/>
                <a:chOff x="5637240" y="3711240"/>
                <a:chExt cx="280440" cy="1292040"/>
              </a:xfrm>
            </p:grpSpPr>
            <p:sp>
              <p:nvSpPr>
                <p:cNvPr id="2560" name=""/>
                <p:cNvSpPr/>
                <p:nvPr/>
              </p:nvSpPr>
              <p:spPr>
                <a:xfrm flipV="1">
                  <a:off x="5641920" y="4250520"/>
                  <a:ext cx="275400" cy="75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 flipH="1" flipV="1">
                  <a:off x="5637240" y="3986280"/>
                  <a:ext cx="280080" cy="264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 flipH="1" flipV="1">
                  <a:off x="5641560" y="4511520"/>
                  <a:ext cx="275400" cy="2167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 flipV="1">
                  <a:off x="5641920" y="3715920"/>
                  <a:ext cx="275400" cy="79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 flipV="1">
                  <a:off x="5637240" y="3711240"/>
                  <a:ext cx="27036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>
                  <a:off x="5642280" y="3986640"/>
                  <a:ext cx="0" cy="101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6" name=""/>
                <p:cNvSpPr/>
                <p:nvPr/>
              </p:nvSpPr>
              <p:spPr>
                <a:xfrm flipV="1">
                  <a:off x="5642280" y="4246920"/>
                  <a:ext cx="27036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>
                  <a:off x="5917680" y="3721320"/>
                  <a:ext cx="0" cy="101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68" name=""/>
            <p:cNvGrpSpPr/>
            <p:nvPr/>
          </p:nvGrpSpPr>
          <p:grpSpPr>
            <a:xfrm>
              <a:off x="4540320" y="4854600"/>
              <a:ext cx="2921040" cy="1236240"/>
              <a:chOff x="4540320" y="4854600"/>
              <a:chExt cx="2921040" cy="1236240"/>
            </a:xfrm>
          </p:grpSpPr>
          <p:sp>
            <p:nvSpPr>
              <p:cNvPr id="2569" name=""/>
              <p:cNvSpPr/>
              <p:nvPr/>
            </p:nvSpPr>
            <p:spPr>
              <a:xfrm flipV="1">
                <a:off x="4540320" y="5078880"/>
                <a:ext cx="0" cy="1011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 flipV="1">
                <a:off x="4540320" y="4854600"/>
                <a:ext cx="1460520" cy="224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V="1">
                <a:off x="7461360" y="5078880"/>
                <a:ext cx="0" cy="1011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 flipH="1" flipV="1">
                <a:off x="6000480" y="4854600"/>
                <a:ext cx="1460520" cy="224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3" name=""/>
            <p:cNvGrpSpPr/>
            <p:nvPr/>
          </p:nvGrpSpPr>
          <p:grpSpPr>
            <a:xfrm>
              <a:off x="4815000" y="4579920"/>
              <a:ext cx="2922480" cy="1234800"/>
              <a:chOff x="4815000" y="4579920"/>
              <a:chExt cx="2922480" cy="1234800"/>
            </a:xfrm>
          </p:grpSpPr>
          <p:sp>
            <p:nvSpPr>
              <p:cNvPr id="2574" name=""/>
              <p:cNvSpPr/>
              <p:nvPr/>
            </p:nvSpPr>
            <p:spPr>
              <a:xfrm flipV="1">
                <a:off x="4815000" y="4804200"/>
                <a:ext cx="0" cy="1010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 flipV="1">
                <a:off x="4815000" y="4579920"/>
                <a:ext cx="1461240" cy="224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V="1">
                <a:off x="7737480" y="4804200"/>
                <a:ext cx="0" cy="10105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 flipH="1" flipV="1">
                <a:off x="6275880" y="4579920"/>
                <a:ext cx="1461240" cy="224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8" name=""/>
            <p:cNvGrpSpPr/>
            <p:nvPr/>
          </p:nvGrpSpPr>
          <p:grpSpPr>
            <a:xfrm>
              <a:off x="5091120" y="4303800"/>
              <a:ext cx="2921040" cy="1236240"/>
              <a:chOff x="5091120" y="4303800"/>
              <a:chExt cx="2921040" cy="1236240"/>
            </a:xfrm>
          </p:grpSpPr>
          <p:sp>
            <p:nvSpPr>
              <p:cNvPr id="2579" name=""/>
              <p:cNvSpPr/>
              <p:nvPr/>
            </p:nvSpPr>
            <p:spPr>
              <a:xfrm flipV="1">
                <a:off x="5091120" y="4528080"/>
                <a:ext cx="0" cy="1011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 flipV="1">
                <a:off x="5091120" y="4303800"/>
                <a:ext cx="1460520" cy="224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V="1">
                <a:off x="8012160" y="4528080"/>
                <a:ext cx="0" cy="1011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 flipH="1" flipV="1">
                <a:off x="6551280" y="4303800"/>
                <a:ext cx="1460520" cy="224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3" name=""/>
            <p:cNvGrpSpPr/>
            <p:nvPr/>
          </p:nvGrpSpPr>
          <p:grpSpPr>
            <a:xfrm>
              <a:off x="5365800" y="4029120"/>
              <a:ext cx="2922480" cy="1234800"/>
              <a:chOff x="5365800" y="4029120"/>
              <a:chExt cx="2922480" cy="1234800"/>
            </a:xfrm>
          </p:grpSpPr>
          <p:sp>
            <p:nvSpPr>
              <p:cNvPr id="2584" name=""/>
              <p:cNvSpPr/>
              <p:nvPr/>
            </p:nvSpPr>
            <p:spPr>
              <a:xfrm flipV="1">
                <a:off x="5365800" y="4253400"/>
                <a:ext cx="0" cy="1010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 flipV="1">
                <a:off x="5365800" y="4029120"/>
                <a:ext cx="1461240" cy="224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V="1">
                <a:off x="8288280" y="4253400"/>
                <a:ext cx="0" cy="1010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 flipH="1" flipV="1">
                <a:off x="6826680" y="4029120"/>
                <a:ext cx="1461240" cy="224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8" name=""/>
            <p:cNvGrpSpPr/>
            <p:nvPr/>
          </p:nvGrpSpPr>
          <p:grpSpPr>
            <a:xfrm>
              <a:off x="5641920" y="3753000"/>
              <a:ext cx="2921040" cy="1236240"/>
              <a:chOff x="5641920" y="3753000"/>
              <a:chExt cx="2921040" cy="1236240"/>
            </a:xfrm>
          </p:grpSpPr>
          <p:sp>
            <p:nvSpPr>
              <p:cNvPr id="2589" name=""/>
              <p:cNvSpPr/>
              <p:nvPr/>
            </p:nvSpPr>
            <p:spPr>
              <a:xfrm flipV="1">
                <a:off x="5641920" y="3977280"/>
                <a:ext cx="0" cy="1011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 flipV="1">
                <a:off x="5641920" y="3753000"/>
                <a:ext cx="1460520" cy="224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V="1">
                <a:off x="8562960" y="3977280"/>
                <a:ext cx="0" cy="1011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 flipH="1" flipV="1">
                <a:off x="7102080" y="3753000"/>
                <a:ext cx="1460520" cy="2246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3" name=""/>
            <p:cNvGrpSpPr/>
            <p:nvPr/>
          </p:nvGrpSpPr>
          <p:grpSpPr>
            <a:xfrm>
              <a:off x="4265640" y="3983040"/>
              <a:ext cx="4570560" cy="2387160"/>
              <a:chOff x="4265640" y="3983040"/>
              <a:chExt cx="4570560" cy="2387160"/>
            </a:xfrm>
          </p:grpSpPr>
          <p:grpSp>
            <p:nvGrpSpPr>
              <p:cNvPr id="2594" name=""/>
              <p:cNvGrpSpPr/>
              <p:nvPr/>
            </p:nvGrpSpPr>
            <p:grpSpPr>
              <a:xfrm>
                <a:off x="4265640" y="3998520"/>
                <a:ext cx="1650960" cy="2371320"/>
                <a:chOff x="4265640" y="3998520"/>
                <a:chExt cx="1650960" cy="2371320"/>
              </a:xfrm>
            </p:grpSpPr>
            <p:sp>
              <p:nvSpPr>
                <p:cNvPr id="2595" name=""/>
                <p:cNvSpPr/>
                <p:nvPr/>
              </p:nvSpPr>
              <p:spPr>
                <a:xfrm flipV="1">
                  <a:off x="4265640" y="3998520"/>
                  <a:ext cx="1650960" cy="1651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 flipV="1">
                  <a:off x="4265640" y="4251600"/>
                  <a:ext cx="1650960" cy="1651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 flipV="1">
                  <a:off x="4265640" y="4476240"/>
                  <a:ext cx="1650960" cy="1651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8" name=""/>
                <p:cNvSpPr/>
                <p:nvPr/>
              </p:nvSpPr>
              <p:spPr>
                <a:xfrm flipV="1">
                  <a:off x="4265640" y="4718160"/>
                  <a:ext cx="1650960" cy="1651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9" name=""/>
              <p:cNvGrpSpPr/>
              <p:nvPr/>
            </p:nvGrpSpPr>
            <p:grpSpPr>
              <a:xfrm>
                <a:off x="7185240" y="3983040"/>
                <a:ext cx="1650960" cy="2387160"/>
                <a:chOff x="7185240" y="3983040"/>
                <a:chExt cx="1650960" cy="2387160"/>
              </a:xfrm>
            </p:grpSpPr>
            <p:sp>
              <p:nvSpPr>
                <p:cNvPr id="2600" name=""/>
                <p:cNvSpPr/>
                <p:nvPr/>
              </p:nvSpPr>
              <p:spPr>
                <a:xfrm flipV="1">
                  <a:off x="7185240" y="4718520"/>
                  <a:ext cx="1650960" cy="1651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1" name=""/>
                <p:cNvSpPr/>
                <p:nvPr/>
              </p:nvSpPr>
              <p:spPr>
                <a:xfrm flipV="1">
                  <a:off x="7185240" y="3983040"/>
                  <a:ext cx="1650960" cy="1651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2" name=""/>
                <p:cNvSpPr/>
                <p:nvPr/>
              </p:nvSpPr>
              <p:spPr>
                <a:xfrm flipV="1">
                  <a:off x="7185240" y="4236120"/>
                  <a:ext cx="1650960" cy="1651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 flipV="1">
                  <a:off x="7185240" y="4478400"/>
                  <a:ext cx="1650960" cy="1651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04" name=""/>
            <p:cNvSpPr/>
            <p:nvPr/>
          </p:nvSpPr>
          <p:spPr>
            <a:xfrm flipV="1">
              <a:off x="5729400" y="3486240"/>
              <a:ext cx="1655640" cy="1652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5" name=""/>
            <p:cNvGrpSpPr/>
            <p:nvPr/>
          </p:nvGrpSpPr>
          <p:grpSpPr>
            <a:xfrm>
              <a:off x="4265640" y="3703680"/>
              <a:ext cx="4568760" cy="1650960"/>
              <a:chOff x="4265640" y="3703680"/>
              <a:chExt cx="4568760" cy="1650960"/>
            </a:xfrm>
          </p:grpSpPr>
          <p:sp>
            <p:nvSpPr>
              <p:cNvPr id="2606" name=""/>
              <p:cNvSpPr/>
              <p:nvPr/>
            </p:nvSpPr>
            <p:spPr>
              <a:xfrm flipV="1">
                <a:off x="7178040" y="3703680"/>
                <a:ext cx="1656360" cy="1650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 flipV="1">
                <a:off x="4265640" y="3703680"/>
                <a:ext cx="1651680" cy="1650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8" name=""/>
            <p:cNvGrpSpPr/>
            <p:nvPr/>
          </p:nvGrpSpPr>
          <p:grpSpPr>
            <a:xfrm>
              <a:off x="4483080" y="3512880"/>
              <a:ext cx="4121280" cy="1809720"/>
              <a:chOff x="4483080" y="3512880"/>
              <a:chExt cx="4121280" cy="1809720"/>
            </a:xfrm>
          </p:grpSpPr>
          <p:sp>
            <p:nvSpPr>
              <p:cNvPr id="2609" name=""/>
              <p:cNvSpPr/>
              <p:nvPr/>
            </p:nvSpPr>
            <p:spPr>
              <a:xfrm flipV="1">
                <a:off x="6001920" y="3519720"/>
                <a:ext cx="1656360" cy="1652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 flipV="1">
                <a:off x="6250320" y="3542040"/>
                <a:ext cx="1656360" cy="1652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 flipV="1">
                <a:off x="6718320" y="3622680"/>
                <a:ext cx="1656360" cy="1652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 flipV="1">
                <a:off x="6948000" y="3670560"/>
                <a:ext cx="1656360" cy="1652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 flipV="1">
                <a:off x="4483080" y="3670200"/>
                <a:ext cx="1634040" cy="1652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V="1">
                <a:off x="4754880" y="3632040"/>
                <a:ext cx="1634040" cy="1652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 flipV="1">
                <a:off x="5220360" y="3557880"/>
                <a:ext cx="1634040" cy="1652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 flipV="1">
                <a:off x="5470920" y="3512880"/>
                <a:ext cx="1640160" cy="1652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 flipV="1">
                <a:off x="4980960" y="3596040"/>
                <a:ext cx="1634040" cy="1652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 flipV="1">
                <a:off x="6456600" y="3587760"/>
                <a:ext cx="1656360" cy="1663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9" name=""/>
            <p:cNvGrpSpPr/>
            <p:nvPr/>
          </p:nvGrpSpPr>
          <p:grpSpPr>
            <a:xfrm>
              <a:off x="4265640" y="3703320"/>
              <a:ext cx="4570560" cy="2661840"/>
              <a:chOff x="4265640" y="3703320"/>
              <a:chExt cx="4570560" cy="2661840"/>
            </a:xfrm>
          </p:grpSpPr>
          <p:sp>
            <p:nvSpPr>
              <p:cNvPr id="2620" name=""/>
              <p:cNvSpPr/>
              <p:nvPr/>
            </p:nvSpPr>
            <p:spPr>
              <a:xfrm flipV="1">
                <a:off x="4265640" y="5354640"/>
                <a:ext cx="0" cy="10105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 flipV="1">
                <a:off x="7185240" y="5354640"/>
                <a:ext cx="0" cy="10105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 flipV="1">
                <a:off x="5916600" y="3703320"/>
                <a:ext cx="0" cy="10105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 flipV="1">
                <a:off x="8836200" y="3703320"/>
                <a:ext cx="0" cy="10105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4" name=""/>
            <p:cNvGrpSpPr/>
            <p:nvPr/>
          </p:nvGrpSpPr>
          <p:grpSpPr>
            <a:xfrm>
              <a:off x="4265640" y="3478320"/>
              <a:ext cx="4570200" cy="1875600"/>
              <a:chOff x="4265640" y="3478320"/>
              <a:chExt cx="4570200" cy="1875600"/>
            </a:xfrm>
          </p:grpSpPr>
          <p:sp>
            <p:nvSpPr>
              <p:cNvPr id="2625" name=""/>
              <p:cNvSpPr/>
              <p:nvPr/>
            </p:nvSpPr>
            <p:spPr>
              <a:xfrm flipV="1">
                <a:off x="4265640" y="5130360"/>
                <a:ext cx="1460520" cy="2235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 flipH="1" flipV="1">
                <a:off x="5725800" y="5130360"/>
                <a:ext cx="1459080" cy="2235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V="1">
                <a:off x="5916600" y="3478320"/>
                <a:ext cx="1460520" cy="2253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 flipH="1" flipV="1">
                <a:off x="7376760" y="3478320"/>
                <a:ext cx="1459080" cy="2253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9" name=""/>
            <p:cNvGrpSpPr/>
            <p:nvPr/>
          </p:nvGrpSpPr>
          <p:grpSpPr>
            <a:xfrm>
              <a:off x="6558120" y="3689280"/>
              <a:ext cx="291960" cy="657360"/>
              <a:chOff x="6558120" y="3689280"/>
              <a:chExt cx="291960" cy="657360"/>
            </a:xfrm>
          </p:grpSpPr>
          <p:sp>
            <p:nvSpPr>
              <p:cNvPr id="2630" name=""/>
              <p:cNvSpPr/>
              <p:nvPr/>
            </p:nvSpPr>
            <p:spPr>
              <a:xfrm>
                <a:off x="6850080" y="3689280"/>
                <a:ext cx="0" cy="3650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691320" y="3833640"/>
                <a:ext cx="0" cy="3654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6558120" y="3981600"/>
                <a:ext cx="0" cy="3650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3" name=""/>
            <p:cNvSpPr/>
            <p:nvPr/>
          </p:nvSpPr>
          <p:spPr>
            <a:xfrm>
              <a:off x="7765920" y="6013440"/>
              <a:ext cx="126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6ffff"/>
                  </a:solidFill>
                  <a:latin typeface="Arial"/>
                </a:rPr>
                <a:t>Isostat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4" name=""/>
          <p:cNvGrpSpPr/>
          <p:nvPr/>
        </p:nvGrpSpPr>
        <p:grpSpPr>
          <a:xfrm>
            <a:off x="274680" y="1308240"/>
            <a:ext cx="4708080" cy="3357360"/>
            <a:chOff x="274680" y="1308240"/>
            <a:chExt cx="4708080" cy="3357360"/>
          </a:xfrm>
        </p:grpSpPr>
        <p:sp>
          <p:nvSpPr>
            <p:cNvPr id="2635" name=""/>
            <p:cNvSpPr/>
            <p:nvPr/>
          </p:nvSpPr>
          <p:spPr>
            <a:xfrm>
              <a:off x="1660680" y="1598760"/>
              <a:ext cx="1966680" cy="1685880"/>
            </a:xfrm>
            <a:custGeom>
              <a:avLst/>
              <a:gdLst/>
              <a:ahLst/>
              <a:rect l="l" t="t" r="r" b="b"/>
              <a:pathLst>
                <a:path w="1239" h="1062">
                  <a:moveTo>
                    <a:pt x="192" y="1062"/>
                  </a:moveTo>
                  <a:lnTo>
                    <a:pt x="1239" y="23"/>
                  </a:lnTo>
                  <a:lnTo>
                    <a:pt x="1154" y="0"/>
                  </a:lnTo>
                  <a:lnTo>
                    <a:pt x="1031" y="23"/>
                  </a:lnTo>
                  <a:lnTo>
                    <a:pt x="0" y="1062"/>
                  </a:lnTo>
                  <a:lnTo>
                    <a:pt x="100" y="1054"/>
                  </a:lnTo>
                  <a:lnTo>
                    <a:pt x="192" y="1062"/>
                  </a:lnTo>
                  <a:close/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6" name=""/>
            <p:cNvGrpSpPr/>
            <p:nvPr/>
          </p:nvGrpSpPr>
          <p:grpSpPr>
            <a:xfrm>
              <a:off x="274680" y="2865600"/>
              <a:ext cx="4708080" cy="1800000"/>
              <a:chOff x="274680" y="2865600"/>
              <a:chExt cx="4708080" cy="1800000"/>
            </a:xfrm>
          </p:grpSpPr>
          <p:grpSp>
            <p:nvGrpSpPr>
              <p:cNvPr id="2637" name=""/>
              <p:cNvGrpSpPr/>
              <p:nvPr/>
            </p:nvGrpSpPr>
            <p:grpSpPr>
              <a:xfrm>
                <a:off x="558000" y="3178080"/>
                <a:ext cx="1235520" cy="1219320"/>
                <a:chOff x="558000" y="3178080"/>
                <a:chExt cx="1235520" cy="1219320"/>
              </a:xfrm>
            </p:grpSpPr>
            <p:sp>
              <p:nvSpPr>
                <p:cNvPr id="2638" name=""/>
                <p:cNvSpPr/>
                <p:nvPr/>
              </p:nvSpPr>
              <p:spPr>
                <a:xfrm>
                  <a:off x="1658160" y="3178080"/>
                  <a:ext cx="135360" cy="135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>
                  <a:off x="1377000" y="3434040"/>
                  <a:ext cx="135360" cy="1364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0" name=""/>
                <p:cNvSpPr/>
                <p:nvPr/>
              </p:nvSpPr>
              <p:spPr>
                <a:xfrm>
                  <a:off x="1108440" y="369900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1" name=""/>
                <p:cNvSpPr/>
                <p:nvPr/>
              </p:nvSpPr>
              <p:spPr>
                <a:xfrm>
                  <a:off x="830880" y="3975120"/>
                  <a:ext cx="13608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>
                  <a:off x="558000" y="426204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3" name=""/>
              <p:cNvGrpSpPr/>
              <p:nvPr/>
            </p:nvGrpSpPr>
            <p:grpSpPr>
              <a:xfrm>
                <a:off x="3489480" y="3156480"/>
                <a:ext cx="1216080" cy="1232280"/>
                <a:chOff x="3489480" y="3156480"/>
                <a:chExt cx="1216080" cy="1232280"/>
              </a:xfrm>
            </p:grpSpPr>
            <p:sp>
              <p:nvSpPr>
                <p:cNvPr id="2644" name=""/>
                <p:cNvSpPr/>
                <p:nvPr/>
              </p:nvSpPr>
              <p:spPr>
                <a:xfrm>
                  <a:off x="4570200" y="3156480"/>
                  <a:ext cx="135360" cy="135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>
                  <a:off x="4298760" y="3425400"/>
                  <a:ext cx="135720" cy="136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6" name=""/>
                <p:cNvSpPr/>
                <p:nvPr/>
              </p:nvSpPr>
              <p:spPr>
                <a:xfrm>
                  <a:off x="4029840" y="3690360"/>
                  <a:ext cx="135720" cy="135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7" name=""/>
                <p:cNvSpPr/>
                <p:nvPr/>
              </p:nvSpPr>
              <p:spPr>
                <a:xfrm>
                  <a:off x="3745800" y="3966120"/>
                  <a:ext cx="138960" cy="135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>
                  <a:off x="3489480" y="425340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9" name=""/>
              <p:cNvGrpSpPr/>
              <p:nvPr/>
            </p:nvGrpSpPr>
            <p:grpSpPr>
              <a:xfrm>
                <a:off x="1919160" y="2865600"/>
                <a:ext cx="3063600" cy="138960"/>
                <a:chOff x="1919160" y="2865600"/>
                <a:chExt cx="3063600" cy="138960"/>
              </a:xfrm>
            </p:grpSpPr>
            <p:sp>
              <p:nvSpPr>
                <p:cNvPr id="2650" name=""/>
                <p:cNvSpPr/>
                <p:nvPr/>
              </p:nvSpPr>
              <p:spPr>
                <a:xfrm>
                  <a:off x="4847400" y="286920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>
                  <a:off x="1919160" y="2865600"/>
                  <a:ext cx="135720" cy="135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2" name=""/>
                <p:cNvSpPr/>
                <p:nvPr/>
              </p:nvSpPr>
              <p:spPr>
                <a:xfrm>
                  <a:off x="3890880" y="2865600"/>
                  <a:ext cx="135720" cy="135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3" name=""/>
                <p:cNvSpPr/>
                <p:nvPr/>
              </p:nvSpPr>
              <p:spPr>
                <a:xfrm>
                  <a:off x="2414520" y="286596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4" name=""/>
                <p:cNvSpPr/>
                <p:nvPr/>
              </p:nvSpPr>
              <p:spPr>
                <a:xfrm>
                  <a:off x="2873160" y="286596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5" name=""/>
                <p:cNvSpPr/>
                <p:nvPr/>
              </p:nvSpPr>
              <p:spPr>
                <a:xfrm>
                  <a:off x="3361680" y="286596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6" name=""/>
                <p:cNvSpPr/>
                <p:nvPr/>
              </p:nvSpPr>
              <p:spPr>
                <a:xfrm>
                  <a:off x="4380840" y="286596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7" name=""/>
              <p:cNvGrpSpPr/>
              <p:nvPr/>
            </p:nvGrpSpPr>
            <p:grpSpPr>
              <a:xfrm>
                <a:off x="274680" y="4529880"/>
                <a:ext cx="3057120" cy="135720"/>
                <a:chOff x="274680" y="4529880"/>
                <a:chExt cx="3057120" cy="135720"/>
              </a:xfrm>
            </p:grpSpPr>
            <p:sp>
              <p:nvSpPr>
                <p:cNvPr id="2658" name=""/>
                <p:cNvSpPr/>
                <p:nvPr/>
              </p:nvSpPr>
              <p:spPr>
                <a:xfrm>
                  <a:off x="3196080" y="4529880"/>
                  <a:ext cx="135720" cy="135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>
                  <a:off x="274680" y="452988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>
                  <a:off x="766080" y="452988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1" name=""/>
                <p:cNvSpPr/>
                <p:nvPr/>
              </p:nvSpPr>
              <p:spPr>
                <a:xfrm>
                  <a:off x="1234800" y="452988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2" name=""/>
                <p:cNvSpPr/>
                <p:nvPr/>
              </p:nvSpPr>
              <p:spPr>
                <a:xfrm>
                  <a:off x="2250720" y="452988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>
                  <a:off x="2719440" y="4529880"/>
                  <a:ext cx="135360" cy="135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64" name=""/>
            <p:cNvGrpSpPr/>
            <p:nvPr/>
          </p:nvGrpSpPr>
          <p:grpSpPr>
            <a:xfrm>
              <a:off x="355680" y="1847880"/>
              <a:ext cx="4586040" cy="2657160"/>
              <a:chOff x="355680" y="1847880"/>
              <a:chExt cx="4586040" cy="2657160"/>
            </a:xfrm>
          </p:grpSpPr>
          <p:grpSp>
            <p:nvGrpSpPr>
              <p:cNvPr id="2665" name=""/>
              <p:cNvGrpSpPr/>
              <p:nvPr/>
            </p:nvGrpSpPr>
            <p:grpSpPr>
              <a:xfrm>
                <a:off x="1992240" y="1847880"/>
                <a:ext cx="2949480" cy="994680"/>
                <a:chOff x="1992240" y="1847880"/>
                <a:chExt cx="2949480" cy="994680"/>
              </a:xfrm>
            </p:grpSpPr>
            <p:sp>
              <p:nvSpPr>
                <p:cNvPr id="2666" name=""/>
                <p:cNvSpPr/>
                <p:nvPr/>
              </p:nvSpPr>
              <p:spPr>
                <a:xfrm>
                  <a:off x="2022120" y="1847880"/>
                  <a:ext cx="29196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7" name=""/>
                <p:cNvSpPr/>
                <p:nvPr/>
              </p:nvSpPr>
              <p:spPr>
                <a:xfrm>
                  <a:off x="2014200" y="2138760"/>
                  <a:ext cx="29196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8" name=""/>
                <p:cNvSpPr/>
                <p:nvPr/>
              </p:nvSpPr>
              <p:spPr>
                <a:xfrm>
                  <a:off x="2003400" y="2616480"/>
                  <a:ext cx="293328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>
                  <a:off x="2015280" y="2377440"/>
                  <a:ext cx="29217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0" name=""/>
                <p:cNvSpPr/>
                <p:nvPr/>
              </p:nvSpPr>
              <p:spPr>
                <a:xfrm>
                  <a:off x="1992240" y="2842560"/>
                  <a:ext cx="29196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1" name=""/>
              <p:cNvGrpSpPr/>
              <p:nvPr/>
            </p:nvGrpSpPr>
            <p:grpSpPr>
              <a:xfrm>
                <a:off x="355680" y="3494520"/>
                <a:ext cx="2934720" cy="1010520"/>
                <a:chOff x="355680" y="3494520"/>
                <a:chExt cx="2934720" cy="1010520"/>
              </a:xfrm>
            </p:grpSpPr>
            <p:sp>
              <p:nvSpPr>
                <p:cNvPr id="2672" name=""/>
                <p:cNvSpPr/>
                <p:nvPr/>
              </p:nvSpPr>
              <p:spPr>
                <a:xfrm>
                  <a:off x="2332440" y="4505040"/>
                  <a:ext cx="950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>
                  <a:off x="371160" y="3494520"/>
                  <a:ext cx="29192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>
                  <a:off x="363240" y="3785400"/>
                  <a:ext cx="291924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>
                  <a:off x="2327760" y="4263120"/>
                  <a:ext cx="958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>
                  <a:off x="355680" y="4024440"/>
                  <a:ext cx="961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7" name=""/>
                <p:cNvSpPr/>
                <p:nvPr/>
              </p:nvSpPr>
              <p:spPr>
                <a:xfrm>
                  <a:off x="2327760" y="4024440"/>
                  <a:ext cx="95832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>
                  <a:off x="363240" y="4263120"/>
                  <a:ext cx="96156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9" name=""/>
                <p:cNvSpPr/>
                <p:nvPr/>
              </p:nvSpPr>
              <p:spPr>
                <a:xfrm>
                  <a:off x="363240" y="4499280"/>
                  <a:ext cx="950400" cy="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80" name=""/>
            <p:cNvGrpSpPr/>
            <p:nvPr/>
          </p:nvGrpSpPr>
          <p:grpSpPr>
            <a:xfrm>
              <a:off x="353520" y="1606680"/>
              <a:ext cx="4575600" cy="2894040"/>
              <a:chOff x="353520" y="1606680"/>
              <a:chExt cx="4575600" cy="2894040"/>
            </a:xfrm>
          </p:grpSpPr>
          <p:sp>
            <p:nvSpPr>
              <p:cNvPr id="2681" name=""/>
              <p:cNvSpPr/>
              <p:nvPr/>
            </p:nvSpPr>
            <p:spPr>
              <a:xfrm>
                <a:off x="1824120" y="3278160"/>
                <a:ext cx="0" cy="5047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82" name=""/>
              <p:cNvGrpSpPr/>
              <p:nvPr/>
            </p:nvGrpSpPr>
            <p:grpSpPr>
              <a:xfrm>
                <a:off x="353520" y="1606680"/>
                <a:ext cx="4575600" cy="2894040"/>
                <a:chOff x="353520" y="1606680"/>
                <a:chExt cx="4575600" cy="2894040"/>
              </a:xfrm>
            </p:grpSpPr>
            <p:grpSp>
              <p:nvGrpSpPr>
                <p:cNvPr id="2683" name=""/>
                <p:cNvGrpSpPr/>
                <p:nvPr/>
              </p:nvGrpSpPr>
              <p:grpSpPr>
                <a:xfrm>
                  <a:off x="2009880" y="1606680"/>
                  <a:ext cx="2919240" cy="1232280"/>
                  <a:chOff x="2009880" y="1606680"/>
                  <a:chExt cx="2919240" cy="1232280"/>
                </a:xfrm>
              </p:grpSpPr>
              <p:sp>
                <p:nvSpPr>
                  <p:cNvPr id="2684" name=""/>
                  <p:cNvSpPr/>
                  <p:nvPr/>
                </p:nvSpPr>
                <p:spPr>
                  <a:xfrm>
                    <a:off x="4461840" y="1759320"/>
                    <a:ext cx="0" cy="10796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5" name=""/>
                  <p:cNvSpPr/>
                  <p:nvPr/>
                </p:nvSpPr>
                <p:spPr>
                  <a:xfrm>
                    <a:off x="4929120" y="1840680"/>
                    <a:ext cx="0" cy="998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6" name=""/>
                  <p:cNvSpPr/>
                  <p:nvPr/>
                </p:nvSpPr>
                <p:spPr>
                  <a:xfrm>
                    <a:off x="3974760" y="1695240"/>
                    <a:ext cx="0" cy="1143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7" name=""/>
                  <p:cNvSpPr/>
                  <p:nvPr/>
                </p:nvSpPr>
                <p:spPr>
                  <a:xfrm>
                    <a:off x="3470400" y="1606680"/>
                    <a:ext cx="0" cy="1232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8" name=""/>
                  <p:cNvSpPr/>
                  <p:nvPr/>
                </p:nvSpPr>
                <p:spPr>
                  <a:xfrm>
                    <a:off x="2964240" y="1684080"/>
                    <a:ext cx="0" cy="1154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9" name=""/>
                  <p:cNvSpPr/>
                  <p:nvPr/>
                </p:nvSpPr>
                <p:spPr>
                  <a:xfrm>
                    <a:off x="2009880" y="1835640"/>
                    <a:ext cx="0" cy="10033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0" name=""/>
                  <p:cNvSpPr/>
                  <p:nvPr/>
                </p:nvSpPr>
                <p:spPr>
                  <a:xfrm>
                    <a:off x="2498040" y="1767240"/>
                    <a:ext cx="0" cy="1071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91" name=""/>
                <p:cNvGrpSpPr/>
                <p:nvPr/>
              </p:nvGrpSpPr>
              <p:grpSpPr>
                <a:xfrm>
                  <a:off x="353520" y="3341160"/>
                  <a:ext cx="2929320" cy="1159560"/>
                  <a:chOff x="353520" y="3341160"/>
                  <a:chExt cx="2929320" cy="1159560"/>
                </a:xfrm>
              </p:grpSpPr>
              <p:sp>
                <p:nvSpPr>
                  <p:cNvPr id="2692" name=""/>
                  <p:cNvSpPr/>
                  <p:nvPr/>
                </p:nvSpPr>
                <p:spPr>
                  <a:xfrm>
                    <a:off x="2815560" y="3416040"/>
                    <a:ext cx="0" cy="10846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3" name=""/>
                  <p:cNvSpPr/>
                  <p:nvPr/>
                </p:nvSpPr>
                <p:spPr>
                  <a:xfrm>
                    <a:off x="3282840" y="3492360"/>
                    <a:ext cx="0" cy="9982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4" name=""/>
                  <p:cNvSpPr/>
                  <p:nvPr/>
                </p:nvSpPr>
                <p:spPr>
                  <a:xfrm>
                    <a:off x="2328480" y="3347280"/>
                    <a:ext cx="0" cy="114840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5" name=""/>
                  <p:cNvSpPr/>
                  <p:nvPr/>
                </p:nvSpPr>
                <p:spPr>
                  <a:xfrm>
                    <a:off x="1317960" y="3341160"/>
                    <a:ext cx="0" cy="115488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6" name=""/>
                  <p:cNvSpPr/>
                  <p:nvPr/>
                </p:nvSpPr>
                <p:spPr>
                  <a:xfrm flipH="1">
                    <a:off x="353520" y="3487680"/>
                    <a:ext cx="9720" cy="101304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7" name=""/>
                  <p:cNvSpPr/>
                  <p:nvPr/>
                </p:nvSpPr>
                <p:spPr>
                  <a:xfrm>
                    <a:off x="851760" y="3423960"/>
                    <a:ext cx="0" cy="1071720"/>
                  </a:xfrm>
                  <a:prstGeom prst="line">
                    <a:avLst/>
                  </a:prstGeom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698" name=""/>
            <p:cNvGrpSpPr/>
            <p:nvPr/>
          </p:nvGrpSpPr>
          <p:grpSpPr>
            <a:xfrm>
              <a:off x="358920" y="1607760"/>
              <a:ext cx="4577400" cy="1879920"/>
              <a:chOff x="358920" y="1607760"/>
              <a:chExt cx="4577400" cy="1879920"/>
            </a:xfrm>
          </p:grpSpPr>
          <p:grpSp>
            <p:nvGrpSpPr>
              <p:cNvPr id="2699" name=""/>
              <p:cNvGrpSpPr/>
              <p:nvPr/>
            </p:nvGrpSpPr>
            <p:grpSpPr>
              <a:xfrm>
                <a:off x="358920" y="2984400"/>
                <a:ext cx="3193560" cy="503280"/>
                <a:chOff x="358920" y="2984400"/>
                <a:chExt cx="3193560" cy="503280"/>
              </a:xfrm>
            </p:grpSpPr>
            <p:sp>
              <p:nvSpPr>
                <p:cNvPr id="2700" name=""/>
                <p:cNvSpPr/>
                <p:nvPr/>
              </p:nvSpPr>
              <p:spPr>
                <a:xfrm flipH="1" flipV="1">
                  <a:off x="2093040" y="2987640"/>
                  <a:ext cx="248040" cy="351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 flipH="1">
                  <a:off x="1302480" y="2987640"/>
                  <a:ext cx="790200" cy="351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 flipH="1" flipV="1">
                  <a:off x="3052800" y="3121920"/>
                  <a:ext cx="224280" cy="365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 flipV="1">
                  <a:off x="2809440" y="3210480"/>
                  <a:ext cx="743040" cy="207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 flipH="1" flipV="1">
                  <a:off x="2583000" y="3069360"/>
                  <a:ext cx="225720" cy="348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 flipH="1">
                  <a:off x="2322720" y="3133080"/>
                  <a:ext cx="769680" cy="205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6" name=""/>
                <p:cNvSpPr/>
                <p:nvPr/>
              </p:nvSpPr>
              <p:spPr>
                <a:xfrm flipH="1">
                  <a:off x="1857600" y="3069720"/>
                  <a:ext cx="72540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7" name=""/>
                <p:cNvSpPr/>
                <p:nvPr/>
              </p:nvSpPr>
              <p:spPr>
                <a:xfrm flipH="1" flipV="1">
                  <a:off x="1578960" y="3054240"/>
                  <a:ext cx="278280" cy="20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 flipH="1" flipV="1">
                  <a:off x="1120680" y="3132720"/>
                  <a:ext cx="191520" cy="21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9" name=""/>
                <p:cNvSpPr/>
                <p:nvPr/>
              </p:nvSpPr>
              <p:spPr>
                <a:xfrm flipH="1">
                  <a:off x="844200" y="3069720"/>
                  <a:ext cx="735120" cy="348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 flipH="1" flipV="1">
                  <a:off x="633960" y="3210480"/>
                  <a:ext cx="213120" cy="198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 flipH="1">
                  <a:off x="358920" y="3133080"/>
                  <a:ext cx="761760" cy="354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 flipV="1">
                  <a:off x="3273120" y="3210480"/>
                  <a:ext cx="27000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 flipV="1">
                  <a:off x="1838160" y="2984400"/>
                  <a:ext cx="27000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 flipV="1">
                  <a:off x="2329560" y="3062880"/>
                  <a:ext cx="27000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5" name=""/>
                <p:cNvSpPr/>
                <p:nvPr/>
              </p:nvSpPr>
              <p:spPr>
                <a:xfrm flipV="1">
                  <a:off x="363960" y="3205440"/>
                  <a:ext cx="27000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6" name=""/>
                <p:cNvSpPr/>
                <p:nvPr/>
              </p:nvSpPr>
              <p:spPr>
                <a:xfrm flipV="1">
                  <a:off x="855360" y="3131640"/>
                  <a:ext cx="27000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 flipV="1">
                  <a:off x="1317240" y="3062880"/>
                  <a:ext cx="27000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8" name=""/>
                <p:cNvSpPr/>
                <p:nvPr/>
              </p:nvSpPr>
              <p:spPr>
                <a:xfrm flipV="1">
                  <a:off x="629280" y="2989440"/>
                  <a:ext cx="1469160" cy="221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 flipV="1">
                  <a:off x="363960" y="3264840"/>
                  <a:ext cx="1469160" cy="221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>
                  <a:off x="1833120" y="3265200"/>
                  <a:ext cx="1429920" cy="221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1" name=""/>
                <p:cNvSpPr/>
                <p:nvPr/>
              </p:nvSpPr>
              <p:spPr>
                <a:xfrm>
                  <a:off x="2103480" y="2989440"/>
                  <a:ext cx="1429920" cy="221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 flipV="1">
                  <a:off x="2796480" y="3146760"/>
                  <a:ext cx="27000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3" name=""/>
              <p:cNvGrpSpPr/>
              <p:nvPr/>
            </p:nvGrpSpPr>
            <p:grpSpPr>
              <a:xfrm>
                <a:off x="1742760" y="1607760"/>
                <a:ext cx="3193560" cy="503280"/>
                <a:chOff x="1742760" y="1607760"/>
                <a:chExt cx="3193560" cy="503280"/>
              </a:xfrm>
            </p:grpSpPr>
            <p:sp>
              <p:nvSpPr>
                <p:cNvPr id="2724" name=""/>
                <p:cNvSpPr/>
                <p:nvPr/>
              </p:nvSpPr>
              <p:spPr>
                <a:xfrm flipH="1" flipV="1">
                  <a:off x="3476880" y="1611000"/>
                  <a:ext cx="248040" cy="351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 flipH="1">
                  <a:off x="2686320" y="1611000"/>
                  <a:ext cx="790200" cy="351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 flipH="1" flipV="1">
                  <a:off x="4436640" y="1745280"/>
                  <a:ext cx="224280" cy="365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7" name=""/>
                <p:cNvSpPr/>
                <p:nvPr/>
              </p:nvSpPr>
              <p:spPr>
                <a:xfrm flipV="1">
                  <a:off x="4193280" y="1833840"/>
                  <a:ext cx="743040" cy="207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 flipH="1" flipV="1">
                  <a:off x="3966840" y="1692720"/>
                  <a:ext cx="225720" cy="348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9" name=""/>
                <p:cNvSpPr/>
                <p:nvPr/>
              </p:nvSpPr>
              <p:spPr>
                <a:xfrm flipH="1">
                  <a:off x="3706560" y="1756440"/>
                  <a:ext cx="769680" cy="2055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 flipH="1">
                  <a:off x="3241440" y="1693080"/>
                  <a:ext cx="725400" cy="1882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 flipH="1" flipV="1">
                  <a:off x="2962800" y="1677600"/>
                  <a:ext cx="278280" cy="203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2" name=""/>
                <p:cNvSpPr/>
                <p:nvPr/>
              </p:nvSpPr>
              <p:spPr>
                <a:xfrm flipH="1" flipV="1">
                  <a:off x="2504520" y="1756080"/>
                  <a:ext cx="191520" cy="21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 flipH="1">
                  <a:off x="2228040" y="1693080"/>
                  <a:ext cx="735120" cy="3481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 flipH="1" flipV="1">
                  <a:off x="2017800" y="1833840"/>
                  <a:ext cx="213120" cy="1980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 flipH="1">
                  <a:off x="1742760" y="1756440"/>
                  <a:ext cx="761760" cy="354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 flipV="1">
                  <a:off x="4656960" y="1833840"/>
                  <a:ext cx="27000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7" name=""/>
                <p:cNvSpPr/>
                <p:nvPr/>
              </p:nvSpPr>
              <p:spPr>
                <a:xfrm flipV="1">
                  <a:off x="3222000" y="1607760"/>
                  <a:ext cx="27000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 flipV="1">
                  <a:off x="3713400" y="1686240"/>
                  <a:ext cx="27000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 flipV="1">
                  <a:off x="1747800" y="1828800"/>
                  <a:ext cx="27000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 flipV="1">
                  <a:off x="2239200" y="1755000"/>
                  <a:ext cx="27000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1" name=""/>
                <p:cNvSpPr/>
                <p:nvPr/>
              </p:nvSpPr>
              <p:spPr>
                <a:xfrm flipV="1">
                  <a:off x="2701080" y="1686240"/>
                  <a:ext cx="27000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 flipV="1">
                  <a:off x="2013120" y="1612800"/>
                  <a:ext cx="1469160" cy="221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 flipV="1">
                  <a:off x="1747800" y="1888200"/>
                  <a:ext cx="1469160" cy="221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4" name=""/>
                <p:cNvSpPr/>
                <p:nvPr/>
              </p:nvSpPr>
              <p:spPr>
                <a:xfrm>
                  <a:off x="3216960" y="1888560"/>
                  <a:ext cx="1429920" cy="2214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>
                  <a:off x="3487320" y="1612800"/>
                  <a:ext cx="1429920" cy="2210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 flipV="1">
                  <a:off x="4180320" y="1770120"/>
                  <a:ext cx="27000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47" name=""/>
            <p:cNvGrpSpPr/>
            <p:nvPr/>
          </p:nvGrpSpPr>
          <p:grpSpPr>
            <a:xfrm>
              <a:off x="353880" y="1829880"/>
              <a:ext cx="4577040" cy="2678400"/>
              <a:chOff x="353880" y="1829880"/>
              <a:chExt cx="4577040" cy="2678400"/>
            </a:xfrm>
          </p:grpSpPr>
          <p:grpSp>
            <p:nvGrpSpPr>
              <p:cNvPr id="2748" name=""/>
              <p:cNvGrpSpPr/>
              <p:nvPr/>
            </p:nvGrpSpPr>
            <p:grpSpPr>
              <a:xfrm>
                <a:off x="3273840" y="3206160"/>
                <a:ext cx="280440" cy="1292040"/>
                <a:chOff x="3273840" y="3206160"/>
                <a:chExt cx="280440" cy="1292040"/>
              </a:xfrm>
            </p:grpSpPr>
            <p:sp>
              <p:nvSpPr>
                <p:cNvPr id="2749" name=""/>
                <p:cNvSpPr/>
                <p:nvPr/>
              </p:nvSpPr>
              <p:spPr>
                <a:xfrm flipV="1">
                  <a:off x="3278520" y="3745440"/>
                  <a:ext cx="275400" cy="75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 flipH="1" flipV="1">
                  <a:off x="3273840" y="3481200"/>
                  <a:ext cx="280080" cy="264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 flipH="1" flipV="1">
                  <a:off x="3278160" y="4006440"/>
                  <a:ext cx="275400" cy="2167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2" name=""/>
                <p:cNvSpPr/>
                <p:nvPr/>
              </p:nvSpPr>
              <p:spPr>
                <a:xfrm flipV="1">
                  <a:off x="3278520" y="3210840"/>
                  <a:ext cx="275400" cy="79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 flipV="1">
                  <a:off x="3273840" y="3206160"/>
                  <a:ext cx="27036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4" name=""/>
                <p:cNvSpPr/>
                <p:nvPr/>
              </p:nvSpPr>
              <p:spPr>
                <a:xfrm>
                  <a:off x="3278880" y="3481560"/>
                  <a:ext cx="0" cy="101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5" name=""/>
                <p:cNvSpPr/>
                <p:nvPr/>
              </p:nvSpPr>
              <p:spPr>
                <a:xfrm flipV="1">
                  <a:off x="3278880" y="3741840"/>
                  <a:ext cx="27036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6" name=""/>
                <p:cNvSpPr/>
                <p:nvPr/>
              </p:nvSpPr>
              <p:spPr>
                <a:xfrm>
                  <a:off x="3554280" y="3216240"/>
                  <a:ext cx="0" cy="101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7" name=""/>
              <p:cNvGrpSpPr/>
              <p:nvPr/>
            </p:nvGrpSpPr>
            <p:grpSpPr>
              <a:xfrm>
                <a:off x="353880" y="3216240"/>
                <a:ext cx="280440" cy="1292040"/>
                <a:chOff x="353880" y="3216240"/>
                <a:chExt cx="280440" cy="1292040"/>
              </a:xfrm>
            </p:grpSpPr>
            <p:sp>
              <p:nvSpPr>
                <p:cNvPr id="2758" name=""/>
                <p:cNvSpPr/>
                <p:nvPr/>
              </p:nvSpPr>
              <p:spPr>
                <a:xfrm flipV="1">
                  <a:off x="358560" y="3755520"/>
                  <a:ext cx="275400" cy="75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 flipH="1" flipV="1">
                  <a:off x="353880" y="3491280"/>
                  <a:ext cx="280080" cy="264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0" name=""/>
                <p:cNvSpPr/>
                <p:nvPr/>
              </p:nvSpPr>
              <p:spPr>
                <a:xfrm flipH="1" flipV="1">
                  <a:off x="358200" y="4016520"/>
                  <a:ext cx="275400" cy="2167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1" name=""/>
                <p:cNvSpPr/>
                <p:nvPr/>
              </p:nvSpPr>
              <p:spPr>
                <a:xfrm flipV="1">
                  <a:off x="358560" y="3220920"/>
                  <a:ext cx="275400" cy="79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 flipV="1">
                  <a:off x="353880" y="3216240"/>
                  <a:ext cx="27036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3" name=""/>
                <p:cNvSpPr/>
                <p:nvPr/>
              </p:nvSpPr>
              <p:spPr>
                <a:xfrm>
                  <a:off x="358920" y="3491640"/>
                  <a:ext cx="0" cy="101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 flipV="1">
                  <a:off x="358920" y="3751920"/>
                  <a:ext cx="27036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>
                  <a:off x="634320" y="3226320"/>
                  <a:ext cx="0" cy="101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6" name=""/>
              <p:cNvGrpSpPr/>
              <p:nvPr/>
            </p:nvGrpSpPr>
            <p:grpSpPr>
              <a:xfrm>
                <a:off x="4650480" y="1829880"/>
                <a:ext cx="280440" cy="1292040"/>
                <a:chOff x="4650480" y="1829880"/>
                <a:chExt cx="280440" cy="1292040"/>
              </a:xfrm>
            </p:grpSpPr>
            <p:sp>
              <p:nvSpPr>
                <p:cNvPr id="2767" name=""/>
                <p:cNvSpPr/>
                <p:nvPr/>
              </p:nvSpPr>
              <p:spPr>
                <a:xfrm flipV="1">
                  <a:off x="4655160" y="2369160"/>
                  <a:ext cx="275400" cy="75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 flipH="1" flipV="1">
                  <a:off x="4650480" y="2104920"/>
                  <a:ext cx="280080" cy="264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 flipH="1" flipV="1">
                  <a:off x="4654800" y="2630160"/>
                  <a:ext cx="275400" cy="2167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 flipV="1">
                  <a:off x="4655160" y="1834560"/>
                  <a:ext cx="275400" cy="79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 flipV="1">
                  <a:off x="4650480" y="1829880"/>
                  <a:ext cx="27036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>
                  <a:off x="4655520" y="2105280"/>
                  <a:ext cx="0" cy="101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 flipV="1">
                  <a:off x="4655520" y="2365560"/>
                  <a:ext cx="27036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>
                  <a:off x="4930920" y="1839960"/>
                  <a:ext cx="0" cy="101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5" name=""/>
              <p:cNvGrpSpPr/>
              <p:nvPr/>
            </p:nvGrpSpPr>
            <p:grpSpPr>
              <a:xfrm>
                <a:off x="1730160" y="1844280"/>
                <a:ext cx="280440" cy="1292040"/>
                <a:chOff x="1730160" y="1844280"/>
                <a:chExt cx="280440" cy="1292040"/>
              </a:xfrm>
            </p:grpSpPr>
            <p:sp>
              <p:nvSpPr>
                <p:cNvPr id="2776" name=""/>
                <p:cNvSpPr/>
                <p:nvPr/>
              </p:nvSpPr>
              <p:spPr>
                <a:xfrm flipV="1">
                  <a:off x="1734840" y="2383560"/>
                  <a:ext cx="275400" cy="752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 flipH="1" flipV="1">
                  <a:off x="1730160" y="2119320"/>
                  <a:ext cx="280080" cy="26424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 flipH="1" flipV="1">
                  <a:off x="1734480" y="2644560"/>
                  <a:ext cx="275400" cy="21672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 flipV="1">
                  <a:off x="1734840" y="1848960"/>
                  <a:ext cx="275400" cy="7977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 flipV="1">
                  <a:off x="1730160" y="1844280"/>
                  <a:ext cx="27036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>
                  <a:off x="1735200" y="2119680"/>
                  <a:ext cx="0" cy="101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2" name=""/>
                <p:cNvSpPr/>
                <p:nvPr/>
              </p:nvSpPr>
              <p:spPr>
                <a:xfrm flipV="1">
                  <a:off x="1735200" y="2379960"/>
                  <a:ext cx="270360" cy="27036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>
                  <a:off x="2010600" y="1854360"/>
                  <a:ext cx="0" cy="101268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84" name=""/>
            <p:cNvGrpSpPr/>
            <p:nvPr/>
          </p:nvGrpSpPr>
          <p:grpSpPr>
            <a:xfrm>
              <a:off x="633240" y="1887120"/>
              <a:ext cx="4021200" cy="2335320"/>
              <a:chOff x="633240" y="1887120"/>
              <a:chExt cx="4021200" cy="2335320"/>
            </a:xfrm>
          </p:grpSpPr>
          <p:grpSp>
            <p:nvGrpSpPr>
              <p:cNvPr id="2785" name=""/>
              <p:cNvGrpSpPr/>
              <p:nvPr/>
            </p:nvGrpSpPr>
            <p:grpSpPr>
              <a:xfrm>
                <a:off x="633240" y="2987640"/>
                <a:ext cx="2920320" cy="1234800"/>
                <a:chOff x="633240" y="2987640"/>
                <a:chExt cx="2920320" cy="1234800"/>
              </a:xfrm>
            </p:grpSpPr>
            <p:sp>
              <p:nvSpPr>
                <p:cNvPr id="2786" name=""/>
                <p:cNvSpPr/>
                <p:nvPr/>
              </p:nvSpPr>
              <p:spPr>
                <a:xfrm flipV="1">
                  <a:off x="633240" y="3212280"/>
                  <a:ext cx="0" cy="10101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7" name=""/>
                <p:cNvSpPr/>
                <p:nvPr/>
              </p:nvSpPr>
              <p:spPr>
                <a:xfrm flipV="1">
                  <a:off x="633240" y="2987640"/>
                  <a:ext cx="1460160" cy="224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 flipV="1">
                  <a:off x="3553560" y="3212280"/>
                  <a:ext cx="0" cy="10101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 flipH="1" flipV="1">
                  <a:off x="2093400" y="2987640"/>
                  <a:ext cx="1460160" cy="224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0" name=""/>
              <p:cNvGrpSpPr/>
              <p:nvPr/>
            </p:nvGrpSpPr>
            <p:grpSpPr>
              <a:xfrm>
                <a:off x="908280" y="2712240"/>
                <a:ext cx="2920320" cy="1234800"/>
                <a:chOff x="908280" y="2712240"/>
                <a:chExt cx="2920320" cy="1234800"/>
              </a:xfrm>
            </p:grpSpPr>
            <p:sp>
              <p:nvSpPr>
                <p:cNvPr id="2791" name=""/>
                <p:cNvSpPr/>
                <p:nvPr/>
              </p:nvSpPr>
              <p:spPr>
                <a:xfrm flipV="1">
                  <a:off x="908280" y="2936880"/>
                  <a:ext cx="0" cy="10101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 flipV="1">
                  <a:off x="908280" y="2712240"/>
                  <a:ext cx="1460160" cy="224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3" name=""/>
                <p:cNvSpPr/>
                <p:nvPr/>
              </p:nvSpPr>
              <p:spPr>
                <a:xfrm flipV="1">
                  <a:off x="3828600" y="2936880"/>
                  <a:ext cx="0" cy="10101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4" name=""/>
                <p:cNvSpPr/>
                <p:nvPr/>
              </p:nvSpPr>
              <p:spPr>
                <a:xfrm flipH="1" flipV="1">
                  <a:off x="2368440" y="2712240"/>
                  <a:ext cx="1460160" cy="224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5" name=""/>
              <p:cNvGrpSpPr/>
              <p:nvPr/>
            </p:nvGrpSpPr>
            <p:grpSpPr>
              <a:xfrm>
                <a:off x="1183680" y="2437200"/>
                <a:ext cx="2920320" cy="1234800"/>
                <a:chOff x="1183680" y="2437200"/>
                <a:chExt cx="2920320" cy="1234800"/>
              </a:xfrm>
            </p:grpSpPr>
            <p:sp>
              <p:nvSpPr>
                <p:cNvPr id="2796" name=""/>
                <p:cNvSpPr/>
                <p:nvPr/>
              </p:nvSpPr>
              <p:spPr>
                <a:xfrm flipV="1">
                  <a:off x="1183680" y="2661480"/>
                  <a:ext cx="0" cy="1010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 flipV="1">
                  <a:off x="1183680" y="2437200"/>
                  <a:ext cx="1460160" cy="224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 flipV="1">
                  <a:off x="4104000" y="2661480"/>
                  <a:ext cx="0" cy="1010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 flipH="1" flipV="1">
                  <a:off x="2643840" y="2437200"/>
                  <a:ext cx="1460160" cy="224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0" name=""/>
              <p:cNvGrpSpPr/>
              <p:nvPr/>
            </p:nvGrpSpPr>
            <p:grpSpPr>
              <a:xfrm>
                <a:off x="1459080" y="2162160"/>
                <a:ext cx="2920320" cy="1234800"/>
                <a:chOff x="1459080" y="2162160"/>
                <a:chExt cx="2920320" cy="1234800"/>
              </a:xfrm>
            </p:grpSpPr>
            <p:sp>
              <p:nvSpPr>
                <p:cNvPr id="2801" name=""/>
                <p:cNvSpPr/>
                <p:nvPr/>
              </p:nvSpPr>
              <p:spPr>
                <a:xfrm flipV="1">
                  <a:off x="1459080" y="2386800"/>
                  <a:ext cx="0" cy="10101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 flipV="1">
                  <a:off x="1459080" y="2162160"/>
                  <a:ext cx="1460160" cy="224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 flipV="1">
                  <a:off x="4379400" y="2386800"/>
                  <a:ext cx="0" cy="10101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 flipH="1" flipV="1">
                  <a:off x="2919240" y="2162160"/>
                  <a:ext cx="1460160" cy="224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5" name=""/>
              <p:cNvGrpSpPr/>
              <p:nvPr/>
            </p:nvGrpSpPr>
            <p:grpSpPr>
              <a:xfrm>
                <a:off x="1734120" y="1887120"/>
                <a:ext cx="2920320" cy="1234800"/>
                <a:chOff x="1734120" y="1887120"/>
                <a:chExt cx="2920320" cy="1234800"/>
              </a:xfrm>
            </p:grpSpPr>
            <p:sp>
              <p:nvSpPr>
                <p:cNvPr id="2806" name=""/>
                <p:cNvSpPr/>
                <p:nvPr/>
              </p:nvSpPr>
              <p:spPr>
                <a:xfrm flipV="1">
                  <a:off x="1734120" y="2111760"/>
                  <a:ext cx="0" cy="10101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 flipV="1">
                  <a:off x="1734120" y="1887120"/>
                  <a:ext cx="1460160" cy="224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 flipV="1">
                  <a:off x="4654440" y="2111760"/>
                  <a:ext cx="0" cy="101016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 flipH="1" flipV="1">
                  <a:off x="3194280" y="1887120"/>
                  <a:ext cx="1460160" cy="224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10" name=""/>
            <p:cNvGrpSpPr/>
            <p:nvPr/>
          </p:nvGrpSpPr>
          <p:grpSpPr>
            <a:xfrm>
              <a:off x="358920" y="2117520"/>
              <a:ext cx="4572000" cy="2385720"/>
              <a:chOff x="358920" y="2117520"/>
              <a:chExt cx="4572000" cy="2385720"/>
            </a:xfrm>
          </p:grpSpPr>
          <p:grpSp>
            <p:nvGrpSpPr>
              <p:cNvPr id="2811" name=""/>
              <p:cNvGrpSpPr/>
              <p:nvPr/>
            </p:nvGrpSpPr>
            <p:grpSpPr>
              <a:xfrm>
                <a:off x="358920" y="2133000"/>
                <a:ext cx="1651680" cy="2369880"/>
                <a:chOff x="358920" y="2133000"/>
                <a:chExt cx="1651680" cy="2369880"/>
              </a:xfrm>
            </p:grpSpPr>
            <p:sp>
              <p:nvSpPr>
                <p:cNvPr id="2812" name=""/>
                <p:cNvSpPr/>
                <p:nvPr/>
              </p:nvSpPr>
              <p:spPr>
                <a:xfrm flipV="1">
                  <a:off x="358920" y="2133000"/>
                  <a:ext cx="1651680" cy="165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 flipV="1">
                  <a:off x="358920" y="2385720"/>
                  <a:ext cx="1651680" cy="165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 flipV="1">
                  <a:off x="358920" y="2610360"/>
                  <a:ext cx="1651680" cy="165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 flipV="1">
                  <a:off x="358920" y="2852280"/>
                  <a:ext cx="1651680" cy="165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6" name=""/>
              <p:cNvGrpSpPr/>
              <p:nvPr/>
            </p:nvGrpSpPr>
            <p:grpSpPr>
              <a:xfrm>
                <a:off x="3279240" y="2117520"/>
                <a:ext cx="1651680" cy="2385720"/>
                <a:chOff x="3279240" y="2117520"/>
                <a:chExt cx="1651680" cy="2385720"/>
              </a:xfrm>
            </p:grpSpPr>
            <p:sp>
              <p:nvSpPr>
                <p:cNvPr id="2817" name=""/>
                <p:cNvSpPr/>
                <p:nvPr/>
              </p:nvSpPr>
              <p:spPr>
                <a:xfrm flipV="1">
                  <a:off x="3279240" y="2852640"/>
                  <a:ext cx="1651680" cy="165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 flipV="1">
                  <a:off x="3279240" y="2117520"/>
                  <a:ext cx="1651680" cy="165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 flipV="1">
                  <a:off x="3279240" y="2370240"/>
                  <a:ext cx="1651680" cy="165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0" name=""/>
                <p:cNvSpPr/>
                <p:nvPr/>
              </p:nvSpPr>
              <p:spPr>
                <a:xfrm flipV="1">
                  <a:off x="3279240" y="2612520"/>
                  <a:ext cx="1651680" cy="1650600"/>
                </a:xfrm>
                <a:prstGeom prst="line">
                  <a:avLst/>
                </a:prstGeom>
                <a:ln w="936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21" name=""/>
            <p:cNvSpPr/>
            <p:nvPr/>
          </p:nvSpPr>
          <p:spPr>
            <a:xfrm flipV="1">
              <a:off x="1822320" y="1620720"/>
              <a:ext cx="1656000" cy="1650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2" name=""/>
            <p:cNvGrpSpPr/>
            <p:nvPr/>
          </p:nvGrpSpPr>
          <p:grpSpPr>
            <a:xfrm>
              <a:off x="358920" y="1836720"/>
              <a:ext cx="4568760" cy="1650960"/>
              <a:chOff x="358920" y="1836720"/>
              <a:chExt cx="4568760" cy="1650960"/>
            </a:xfrm>
          </p:grpSpPr>
          <p:sp>
            <p:nvSpPr>
              <p:cNvPr id="2823" name=""/>
              <p:cNvSpPr/>
              <p:nvPr/>
            </p:nvSpPr>
            <p:spPr>
              <a:xfrm flipV="1">
                <a:off x="3271320" y="1836720"/>
                <a:ext cx="1656360" cy="1650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 flipV="1">
                <a:off x="358920" y="1836720"/>
                <a:ext cx="1651680" cy="165096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5" name=""/>
            <p:cNvGrpSpPr/>
            <p:nvPr/>
          </p:nvGrpSpPr>
          <p:grpSpPr>
            <a:xfrm>
              <a:off x="576360" y="1647360"/>
              <a:ext cx="4119480" cy="1809720"/>
              <a:chOff x="576360" y="1647360"/>
              <a:chExt cx="4119480" cy="1809720"/>
            </a:xfrm>
          </p:grpSpPr>
          <p:sp>
            <p:nvSpPr>
              <p:cNvPr id="2826" name=""/>
              <p:cNvSpPr/>
              <p:nvPr/>
            </p:nvSpPr>
            <p:spPr>
              <a:xfrm flipV="1">
                <a:off x="2094480" y="1654200"/>
                <a:ext cx="1655640" cy="1652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 flipV="1">
                <a:off x="2342520" y="1676520"/>
                <a:ext cx="1655640" cy="1652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 flipV="1">
                <a:off x="2810880" y="1757160"/>
                <a:ext cx="1655640" cy="1652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 flipV="1">
                <a:off x="3040200" y="1805040"/>
                <a:ext cx="1655640" cy="1652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 flipV="1">
                <a:off x="576360" y="1804680"/>
                <a:ext cx="1633320" cy="1652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 flipV="1">
                <a:off x="848160" y="1766520"/>
                <a:ext cx="1633320" cy="1652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 flipV="1">
                <a:off x="1313280" y="1692360"/>
                <a:ext cx="1633320" cy="1652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 flipV="1">
                <a:off x="1563840" y="1647360"/>
                <a:ext cx="1639440" cy="1652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 flipV="1">
                <a:off x="1073880" y="1730520"/>
                <a:ext cx="1633320" cy="165204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 flipV="1">
                <a:off x="2549160" y="1722240"/>
                <a:ext cx="1655640" cy="166392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6" name=""/>
            <p:cNvGrpSpPr/>
            <p:nvPr/>
          </p:nvGrpSpPr>
          <p:grpSpPr>
            <a:xfrm>
              <a:off x="358920" y="1611360"/>
              <a:ext cx="4572000" cy="2887560"/>
              <a:chOff x="358920" y="1611360"/>
              <a:chExt cx="4572000" cy="2887560"/>
            </a:xfrm>
          </p:grpSpPr>
          <p:sp>
            <p:nvSpPr>
              <p:cNvPr id="2837" name=""/>
              <p:cNvSpPr/>
              <p:nvPr/>
            </p:nvSpPr>
            <p:spPr>
              <a:xfrm flipV="1">
                <a:off x="358920" y="3263040"/>
                <a:ext cx="1460160" cy="224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 flipH="1" flipV="1">
                <a:off x="1819080" y="3263040"/>
                <a:ext cx="1460160" cy="224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 flipV="1">
                <a:off x="2010600" y="1611360"/>
                <a:ext cx="1460160" cy="224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40" name=""/>
              <p:cNvGrpSpPr/>
              <p:nvPr/>
            </p:nvGrpSpPr>
            <p:grpSpPr>
              <a:xfrm>
                <a:off x="358920" y="1836000"/>
                <a:ext cx="4572000" cy="2662920"/>
                <a:chOff x="358920" y="1836000"/>
                <a:chExt cx="4572000" cy="2662920"/>
              </a:xfrm>
            </p:grpSpPr>
            <p:sp>
              <p:nvSpPr>
                <p:cNvPr id="2841" name=""/>
                <p:cNvSpPr/>
                <p:nvPr/>
              </p:nvSpPr>
              <p:spPr>
                <a:xfrm flipV="1">
                  <a:off x="358920" y="3488040"/>
                  <a:ext cx="0" cy="1010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 flipV="1">
                  <a:off x="3279240" y="3488040"/>
                  <a:ext cx="0" cy="1010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3" name=""/>
                <p:cNvSpPr/>
                <p:nvPr/>
              </p:nvSpPr>
              <p:spPr>
                <a:xfrm flipV="1">
                  <a:off x="2010600" y="1836000"/>
                  <a:ext cx="0" cy="1010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4" name=""/>
                <p:cNvSpPr/>
                <p:nvPr/>
              </p:nvSpPr>
              <p:spPr>
                <a:xfrm flipV="1">
                  <a:off x="4930920" y="1836000"/>
                  <a:ext cx="0" cy="1010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45" name=""/>
              <p:cNvSpPr/>
              <p:nvPr/>
            </p:nvSpPr>
            <p:spPr>
              <a:xfrm flipH="1" flipV="1">
                <a:off x="3470760" y="1611360"/>
                <a:ext cx="1460160" cy="224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6" name=""/>
            <p:cNvGrpSpPr/>
            <p:nvPr/>
          </p:nvGrpSpPr>
          <p:grpSpPr>
            <a:xfrm>
              <a:off x="1814400" y="1308240"/>
              <a:ext cx="1652760" cy="1946160"/>
              <a:chOff x="1814400" y="1308240"/>
              <a:chExt cx="1652760" cy="1946160"/>
            </a:xfrm>
          </p:grpSpPr>
          <p:sp>
            <p:nvSpPr>
              <p:cNvPr id="2847" name=""/>
              <p:cNvSpPr/>
              <p:nvPr/>
            </p:nvSpPr>
            <p:spPr>
              <a:xfrm>
                <a:off x="1954080" y="2773440"/>
                <a:ext cx="0" cy="3650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1814400" y="2889360"/>
                <a:ext cx="0" cy="3650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2087640" y="2625840"/>
                <a:ext cx="0" cy="3650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2222640" y="2529000"/>
                <a:ext cx="0" cy="3650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2357280" y="2395440"/>
                <a:ext cx="0" cy="3654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2503440" y="2247840"/>
                <a:ext cx="0" cy="3650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2638440" y="2112840"/>
                <a:ext cx="0" cy="3654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2771640" y="1979640"/>
                <a:ext cx="0" cy="3650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2917800" y="1833480"/>
                <a:ext cx="0" cy="3650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3052800" y="1685880"/>
                <a:ext cx="0" cy="3650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3198960" y="1550880"/>
                <a:ext cx="0" cy="36540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3321000" y="1441440"/>
                <a:ext cx="0" cy="3650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3467160" y="1308240"/>
                <a:ext cx="0" cy="36504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0" name=""/>
            <p:cNvSpPr/>
            <p:nvPr/>
          </p:nvSpPr>
          <p:spPr>
            <a:xfrm>
              <a:off x="276120" y="2131920"/>
              <a:ext cx="101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6ffff"/>
                  </a:solidFill>
                  <a:latin typeface="Arial"/>
                </a:rPr>
                <a:t>Contin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"/>
          <p:cNvSpPr/>
          <p:nvPr/>
        </p:nvSpPr>
        <p:spPr>
          <a:xfrm>
            <a:off x="179280" y="485640"/>
            <a:ext cx="87537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as de pannes faîtières dédoublé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2" name=""/>
          <p:cNvGrpSpPr/>
          <p:nvPr/>
        </p:nvGrpSpPr>
        <p:grpSpPr>
          <a:xfrm>
            <a:off x="1026000" y="1241640"/>
            <a:ext cx="6315840" cy="2722320"/>
            <a:chOff x="1026000" y="1241640"/>
            <a:chExt cx="6315840" cy="2722320"/>
          </a:xfrm>
        </p:grpSpPr>
        <p:grpSp>
          <p:nvGrpSpPr>
            <p:cNvPr id="2863" name=""/>
            <p:cNvGrpSpPr/>
            <p:nvPr/>
          </p:nvGrpSpPr>
          <p:grpSpPr>
            <a:xfrm>
              <a:off x="1026000" y="2852640"/>
              <a:ext cx="6315840" cy="1111320"/>
              <a:chOff x="1026000" y="2852640"/>
              <a:chExt cx="6315840" cy="1111320"/>
            </a:xfrm>
          </p:grpSpPr>
          <p:grpSp>
            <p:nvGrpSpPr>
              <p:cNvPr id="2864" name=""/>
              <p:cNvGrpSpPr/>
              <p:nvPr/>
            </p:nvGrpSpPr>
            <p:grpSpPr>
              <a:xfrm>
                <a:off x="1026000" y="2895840"/>
                <a:ext cx="3256920" cy="1068120"/>
                <a:chOff x="1026000" y="2895840"/>
                <a:chExt cx="3256920" cy="1068120"/>
              </a:xfrm>
            </p:grpSpPr>
            <p:sp>
              <p:nvSpPr>
                <p:cNvPr id="2865" name=""/>
                <p:cNvSpPr/>
                <p:nvPr/>
              </p:nvSpPr>
              <p:spPr>
                <a:xfrm flipH="1">
                  <a:off x="1128600" y="3234600"/>
                  <a:ext cx="3153960" cy="729360"/>
                </a:xfrm>
                <a:custGeom>
                  <a:avLst/>
                  <a:gdLst/>
                  <a:ahLst/>
                  <a:rect l="l" t="t" r="r" b="b"/>
                  <a:pathLst>
                    <a:path w="5485" h="1345">
                      <a:moveTo>
                        <a:pt x="10" y="0"/>
                      </a:moveTo>
                      <a:lnTo>
                        <a:pt x="5485" y="1280"/>
                      </a:lnTo>
                      <a:lnTo>
                        <a:pt x="5465" y="1345"/>
                      </a:lnTo>
                      <a:lnTo>
                        <a:pt x="0" y="6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339966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6" name=""/>
                <p:cNvSpPr/>
                <p:nvPr/>
              </p:nvSpPr>
              <p:spPr>
                <a:xfrm flipH="1">
                  <a:off x="1026000" y="2895840"/>
                  <a:ext cx="3208320" cy="989640"/>
                </a:xfrm>
                <a:custGeom>
                  <a:avLst/>
                  <a:gdLst/>
                  <a:ahLst/>
                  <a:rect l="l" t="t" r="r" b="b"/>
                  <a:pathLst>
                    <a:path w="5580" h="1825">
                      <a:moveTo>
                        <a:pt x="0" y="520"/>
                      </a:moveTo>
                      <a:lnTo>
                        <a:pt x="5485" y="1825"/>
                      </a:lnTo>
                      <a:lnTo>
                        <a:pt x="5580" y="1290"/>
                      </a:lnTo>
                      <a:lnTo>
                        <a:pt x="100" y="0"/>
                      </a:lnTo>
                      <a:lnTo>
                        <a:pt x="0" y="520"/>
                      </a:lnTo>
                      <a:close/>
                    </a:path>
                  </a:pathLst>
                </a:custGeom>
                <a:solidFill>
                  <a:srgbClr val="339966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 flipH="1">
                  <a:off x="1054800" y="2914560"/>
                  <a:ext cx="3165120" cy="734760"/>
                </a:xfrm>
                <a:custGeom>
                  <a:avLst/>
                  <a:gdLst/>
                  <a:ahLst/>
                  <a:rect l="l" t="t" r="r" b="b"/>
                  <a:pathLst>
                    <a:path w="5505" h="1355">
                      <a:moveTo>
                        <a:pt x="15" y="0"/>
                      </a:moveTo>
                      <a:lnTo>
                        <a:pt x="5505" y="1270"/>
                      </a:lnTo>
                      <a:lnTo>
                        <a:pt x="5485" y="1355"/>
                      </a:lnTo>
                      <a:lnTo>
                        <a:pt x="0" y="65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339966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68" name=""/>
              <p:cNvSpPr/>
              <p:nvPr/>
            </p:nvSpPr>
            <p:spPr>
              <a:xfrm>
                <a:off x="4012560" y="2852640"/>
                <a:ext cx="101160" cy="65052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5400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69" name=""/>
              <p:cNvGrpSpPr/>
              <p:nvPr/>
            </p:nvGrpSpPr>
            <p:grpSpPr>
              <a:xfrm>
                <a:off x="4084560" y="2895840"/>
                <a:ext cx="3257280" cy="1068120"/>
                <a:chOff x="4084560" y="2895840"/>
                <a:chExt cx="3257280" cy="1068120"/>
              </a:xfrm>
            </p:grpSpPr>
            <p:sp>
              <p:nvSpPr>
                <p:cNvPr id="2870" name=""/>
                <p:cNvSpPr/>
                <p:nvPr/>
              </p:nvSpPr>
              <p:spPr>
                <a:xfrm>
                  <a:off x="4084560" y="3234600"/>
                  <a:ext cx="3154320" cy="729360"/>
                </a:xfrm>
                <a:custGeom>
                  <a:avLst/>
                  <a:gdLst/>
                  <a:ahLst/>
                  <a:rect l="l" t="t" r="r" b="b"/>
                  <a:pathLst>
                    <a:path w="5485" h="1345">
                      <a:moveTo>
                        <a:pt x="10" y="0"/>
                      </a:moveTo>
                      <a:lnTo>
                        <a:pt x="5485" y="1280"/>
                      </a:lnTo>
                      <a:lnTo>
                        <a:pt x="5465" y="1345"/>
                      </a:lnTo>
                      <a:lnTo>
                        <a:pt x="0" y="60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339966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1" name=""/>
                <p:cNvSpPr/>
                <p:nvPr/>
              </p:nvSpPr>
              <p:spPr>
                <a:xfrm>
                  <a:off x="4133160" y="2895840"/>
                  <a:ext cx="3208680" cy="989640"/>
                </a:xfrm>
                <a:custGeom>
                  <a:avLst/>
                  <a:gdLst/>
                  <a:ahLst/>
                  <a:rect l="l" t="t" r="r" b="b"/>
                  <a:pathLst>
                    <a:path w="5580" h="1825">
                      <a:moveTo>
                        <a:pt x="0" y="520"/>
                      </a:moveTo>
                      <a:lnTo>
                        <a:pt x="5485" y="1825"/>
                      </a:lnTo>
                      <a:lnTo>
                        <a:pt x="5580" y="1290"/>
                      </a:lnTo>
                      <a:lnTo>
                        <a:pt x="100" y="0"/>
                      </a:lnTo>
                      <a:lnTo>
                        <a:pt x="0" y="520"/>
                      </a:lnTo>
                      <a:close/>
                    </a:path>
                  </a:pathLst>
                </a:custGeom>
                <a:solidFill>
                  <a:srgbClr val="339966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2" name=""/>
                <p:cNvSpPr/>
                <p:nvPr/>
              </p:nvSpPr>
              <p:spPr>
                <a:xfrm>
                  <a:off x="4147560" y="2914560"/>
                  <a:ext cx="3165480" cy="734760"/>
                </a:xfrm>
                <a:custGeom>
                  <a:avLst/>
                  <a:gdLst/>
                  <a:ahLst/>
                  <a:rect l="l" t="t" r="r" b="b"/>
                  <a:pathLst>
                    <a:path w="5505" h="1355">
                      <a:moveTo>
                        <a:pt x="15" y="0"/>
                      </a:moveTo>
                      <a:lnTo>
                        <a:pt x="5505" y="1270"/>
                      </a:lnTo>
                      <a:lnTo>
                        <a:pt x="5485" y="1355"/>
                      </a:lnTo>
                      <a:lnTo>
                        <a:pt x="0" y="65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339966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73" name=""/>
            <p:cNvGrpSpPr/>
            <p:nvPr/>
          </p:nvGrpSpPr>
          <p:grpSpPr>
            <a:xfrm>
              <a:off x="2949120" y="1278000"/>
              <a:ext cx="1180800" cy="2088360"/>
              <a:chOff x="2949120" y="1278000"/>
              <a:chExt cx="1180800" cy="2088360"/>
            </a:xfrm>
          </p:grpSpPr>
          <p:grpSp>
            <p:nvGrpSpPr>
              <p:cNvPr id="2874" name=""/>
              <p:cNvGrpSpPr/>
              <p:nvPr/>
            </p:nvGrpSpPr>
            <p:grpSpPr>
              <a:xfrm>
                <a:off x="2949120" y="2898720"/>
                <a:ext cx="408600" cy="467640"/>
                <a:chOff x="2949120" y="2898720"/>
                <a:chExt cx="408600" cy="467640"/>
              </a:xfrm>
            </p:grpSpPr>
            <p:sp>
              <p:nvSpPr>
                <p:cNvPr id="2875" name=""/>
                <p:cNvSpPr/>
                <p:nvPr/>
              </p:nvSpPr>
              <p:spPr>
                <a:xfrm flipH="1">
                  <a:off x="3043800" y="3256200"/>
                  <a:ext cx="313560" cy="110160"/>
                </a:xfrm>
                <a:custGeom>
                  <a:avLst/>
                  <a:gdLst/>
                  <a:ahLst/>
                  <a:rect l="l" t="t" r="r" b="b"/>
                  <a:pathLst>
                    <a:path w="546" h="204">
                      <a:moveTo>
                        <a:pt x="0" y="78"/>
                      </a:moveTo>
                      <a:lnTo>
                        <a:pt x="528" y="204"/>
                      </a:lnTo>
                      <a:lnTo>
                        <a:pt x="546" y="123"/>
                      </a:lnTo>
                      <a:lnTo>
                        <a:pt x="21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3240">
                  <a:solidFill>
                    <a:srgbClr val="00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 flipH="1">
                  <a:off x="3102840" y="2970360"/>
                  <a:ext cx="105120" cy="323280"/>
                </a:xfrm>
                <a:custGeom>
                  <a:avLst/>
                  <a:gdLst/>
                  <a:ahLst/>
                  <a:rect l="l" t="t" r="r" b="b"/>
                  <a:pathLst>
                    <a:path w="183" h="597">
                      <a:moveTo>
                        <a:pt x="0" y="585"/>
                      </a:moveTo>
                      <a:lnTo>
                        <a:pt x="48" y="597"/>
                      </a:lnTo>
                      <a:lnTo>
                        <a:pt x="183" y="12"/>
                      </a:lnTo>
                      <a:lnTo>
                        <a:pt x="138" y="0"/>
                      </a:lnTo>
                      <a:lnTo>
                        <a:pt x="0" y="585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3240">
                  <a:solidFill>
                    <a:srgbClr val="00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7" name=""/>
                <p:cNvSpPr/>
                <p:nvPr/>
              </p:nvSpPr>
              <p:spPr>
                <a:xfrm flipH="1">
                  <a:off x="2949120" y="2898720"/>
                  <a:ext cx="313920" cy="110520"/>
                </a:xfrm>
                <a:custGeom>
                  <a:avLst/>
                  <a:gdLst/>
                  <a:ahLst/>
                  <a:rect l="l" t="t" r="r" b="b"/>
                  <a:pathLst>
                    <a:path w="546" h="204">
                      <a:moveTo>
                        <a:pt x="0" y="78"/>
                      </a:moveTo>
                      <a:lnTo>
                        <a:pt x="528" y="204"/>
                      </a:lnTo>
                      <a:lnTo>
                        <a:pt x="546" y="123"/>
                      </a:lnTo>
                      <a:lnTo>
                        <a:pt x="21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3240">
                  <a:solidFill>
                    <a:srgbClr val="00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8" name=""/>
              <p:cNvGrpSpPr/>
              <p:nvPr/>
            </p:nvGrpSpPr>
            <p:grpSpPr>
              <a:xfrm>
                <a:off x="3142080" y="1278000"/>
                <a:ext cx="987840" cy="1600200"/>
                <a:chOff x="3142080" y="1278000"/>
                <a:chExt cx="987840" cy="1600200"/>
              </a:xfrm>
            </p:grpSpPr>
            <p:grpSp>
              <p:nvGrpSpPr>
                <p:cNvPr id="2879" name=""/>
                <p:cNvGrpSpPr/>
                <p:nvPr/>
              </p:nvGrpSpPr>
              <p:grpSpPr>
                <a:xfrm>
                  <a:off x="3142080" y="1733400"/>
                  <a:ext cx="482400" cy="1144800"/>
                  <a:chOff x="3142080" y="1733400"/>
                  <a:chExt cx="482400" cy="1144800"/>
                </a:xfrm>
              </p:grpSpPr>
              <p:sp>
                <p:nvSpPr>
                  <p:cNvPr id="2880" name=""/>
                  <p:cNvSpPr/>
                  <p:nvPr/>
                </p:nvSpPr>
                <p:spPr>
                  <a:xfrm>
                    <a:off x="3377520" y="1944720"/>
                    <a:ext cx="11160" cy="716760"/>
                  </a:xfrm>
                  <a:prstGeom prst="line">
                    <a:avLst/>
                  </a:prstGeom>
                  <a:ln w="57240">
                    <a:solidFill>
                      <a:srgbClr val="00cc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1" name=""/>
                  <p:cNvSpPr/>
                  <p:nvPr/>
                </p:nvSpPr>
                <p:spPr>
                  <a:xfrm>
                    <a:off x="3613320" y="1733400"/>
                    <a:ext cx="11160" cy="716400"/>
                  </a:xfrm>
                  <a:prstGeom prst="line">
                    <a:avLst/>
                  </a:prstGeom>
                  <a:ln w="57240">
                    <a:solidFill>
                      <a:srgbClr val="00cc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2" name=""/>
                  <p:cNvSpPr/>
                  <p:nvPr/>
                </p:nvSpPr>
                <p:spPr>
                  <a:xfrm>
                    <a:off x="3142080" y="2161440"/>
                    <a:ext cx="11160" cy="716760"/>
                  </a:xfrm>
                  <a:prstGeom prst="line">
                    <a:avLst/>
                  </a:prstGeom>
                  <a:ln w="57240">
                    <a:solidFill>
                      <a:srgbClr val="00cc99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3" name=""/>
                <p:cNvSpPr/>
                <p:nvPr/>
              </p:nvSpPr>
              <p:spPr>
                <a:xfrm>
                  <a:off x="4119120" y="1278000"/>
                  <a:ext cx="10800" cy="716400"/>
                </a:xfrm>
                <a:prstGeom prst="line">
                  <a:avLst/>
                </a:prstGeom>
                <a:ln w="57240">
                  <a:solidFill>
                    <a:srgbClr val="00cc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4" name=""/>
                <p:cNvSpPr/>
                <p:nvPr/>
              </p:nvSpPr>
              <p:spPr>
                <a:xfrm>
                  <a:off x="3866400" y="1505520"/>
                  <a:ext cx="10800" cy="716040"/>
                </a:xfrm>
                <a:prstGeom prst="line">
                  <a:avLst/>
                </a:prstGeom>
                <a:ln w="57240">
                  <a:solidFill>
                    <a:srgbClr val="00cc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5" name=""/>
            <p:cNvGrpSpPr/>
            <p:nvPr/>
          </p:nvGrpSpPr>
          <p:grpSpPr>
            <a:xfrm>
              <a:off x="4305240" y="1241640"/>
              <a:ext cx="1261800" cy="2153160"/>
              <a:chOff x="4305240" y="1241640"/>
              <a:chExt cx="1261800" cy="2153160"/>
            </a:xfrm>
          </p:grpSpPr>
          <p:grpSp>
            <p:nvGrpSpPr>
              <p:cNvPr id="2886" name=""/>
              <p:cNvGrpSpPr/>
              <p:nvPr/>
            </p:nvGrpSpPr>
            <p:grpSpPr>
              <a:xfrm>
                <a:off x="4305240" y="2927160"/>
                <a:ext cx="408600" cy="467640"/>
                <a:chOff x="4305240" y="2927160"/>
                <a:chExt cx="408600" cy="467640"/>
              </a:xfrm>
            </p:grpSpPr>
            <p:sp>
              <p:nvSpPr>
                <p:cNvPr id="2887" name=""/>
                <p:cNvSpPr/>
                <p:nvPr/>
              </p:nvSpPr>
              <p:spPr>
                <a:xfrm>
                  <a:off x="4305240" y="3284640"/>
                  <a:ext cx="313560" cy="110160"/>
                </a:xfrm>
                <a:custGeom>
                  <a:avLst/>
                  <a:gdLst/>
                  <a:ahLst/>
                  <a:rect l="l" t="t" r="r" b="b"/>
                  <a:pathLst>
                    <a:path w="546" h="204">
                      <a:moveTo>
                        <a:pt x="0" y="78"/>
                      </a:moveTo>
                      <a:lnTo>
                        <a:pt x="528" y="204"/>
                      </a:lnTo>
                      <a:lnTo>
                        <a:pt x="546" y="123"/>
                      </a:lnTo>
                      <a:lnTo>
                        <a:pt x="21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3240">
                  <a:solidFill>
                    <a:srgbClr val="00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>
                  <a:off x="4455000" y="2998800"/>
                  <a:ext cx="105120" cy="323280"/>
                </a:xfrm>
                <a:custGeom>
                  <a:avLst/>
                  <a:gdLst/>
                  <a:ahLst/>
                  <a:rect l="l" t="t" r="r" b="b"/>
                  <a:pathLst>
                    <a:path w="183" h="597">
                      <a:moveTo>
                        <a:pt x="0" y="585"/>
                      </a:moveTo>
                      <a:lnTo>
                        <a:pt x="48" y="597"/>
                      </a:lnTo>
                      <a:lnTo>
                        <a:pt x="183" y="12"/>
                      </a:lnTo>
                      <a:lnTo>
                        <a:pt x="138" y="0"/>
                      </a:lnTo>
                      <a:lnTo>
                        <a:pt x="0" y="585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3240">
                  <a:solidFill>
                    <a:srgbClr val="00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9" name=""/>
                <p:cNvSpPr/>
                <p:nvPr/>
              </p:nvSpPr>
              <p:spPr>
                <a:xfrm>
                  <a:off x="4399920" y="2927160"/>
                  <a:ext cx="313920" cy="110520"/>
                </a:xfrm>
                <a:custGeom>
                  <a:avLst/>
                  <a:gdLst/>
                  <a:ahLst/>
                  <a:rect l="l" t="t" r="r" b="b"/>
                  <a:pathLst>
                    <a:path w="546" h="204">
                      <a:moveTo>
                        <a:pt x="0" y="78"/>
                      </a:moveTo>
                      <a:lnTo>
                        <a:pt x="528" y="204"/>
                      </a:lnTo>
                      <a:lnTo>
                        <a:pt x="546" y="123"/>
                      </a:lnTo>
                      <a:lnTo>
                        <a:pt x="21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cc99ff"/>
                </a:solidFill>
                <a:ln w="3240">
                  <a:solidFill>
                    <a:srgbClr val="00cc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0" name=""/>
              <p:cNvGrpSpPr/>
              <p:nvPr/>
            </p:nvGrpSpPr>
            <p:grpSpPr>
              <a:xfrm>
                <a:off x="4578480" y="1241640"/>
                <a:ext cx="988560" cy="1719360"/>
                <a:chOff x="4578480" y="1241640"/>
                <a:chExt cx="988560" cy="1719360"/>
              </a:xfrm>
            </p:grpSpPr>
            <p:sp>
              <p:nvSpPr>
                <p:cNvPr id="2891" name=""/>
                <p:cNvSpPr/>
                <p:nvPr/>
              </p:nvSpPr>
              <p:spPr>
                <a:xfrm>
                  <a:off x="4813920" y="2027520"/>
                  <a:ext cx="11160" cy="716760"/>
                </a:xfrm>
                <a:prstGeom prst="line">
                  <a:avLst/>
                </a:prstGeom>
                <a:ln w="57240">
                  <a:solidFill>
                    <a:srgbClr val="00cc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2" name=""/>
                <p:cNvSpPr/>
                <p:nvPr/>
              </p:nvSpPr>
              <p:spPr>
                <a:xfrm>
                  <a:off x="5049720" y="1816200"/>
                  <a:ext cx="11160" cy="716400"/>
                </a:xfrm>
                <a:prstGeom prst="line">
                  <a:avLst/>
                </a:prstGeom>
                <a:ln w="57240">
                  <a:solidFill>
                    <a:srgbClr val="00cc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>
                  <a:off x="4578480" y="2244240"/>
                  <a:ext cx="11160" cy="716760"/>
                </a:xfrm>
                <a:prstGeom prst="line">
                  <a:avLst/>
                </a:prstGeom>
                <a:ln w="57240">
                  <a:solidFill>
                    <a:srgbClr val="00cc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4" name=""/>
                <p:cNvSpPr/>
                <p:nvPr/>
              </p:nvSpPr>
              <p:spPr>
                <a:xfrm>
                  <a:off x="5555880" y="1241640"/>
                  <a:ext cx="11160" cy="716760"/>
                </a:xfrm>
                <a:prstGeom prst="line">
                  <a:avLst/>
                </a:prstGeom>
                <a:ln w="57240">
                  <a:solidFill>
                    <a:srgbClr val="00cc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5" name=""/>
                <p:cNvSpPr/>
                <p:nvPr/>
              </p:nvSpPr>
              <p:spPr>
                <a:xfrm>
                  <a:off x="5291640" y="1534320"/>
                  <a:ext cx="11160" cy="716400"/>
                </a:xfrm>
                <a:prstGeom prst="line">
                  <a:avLst/>
                </a:prstGeom>
                <a:ln w="57240">
                  <a:solidFill>
                    <a:srgbClr val="00cc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96" name=""/>
          <p:cNvSpPr/>
          <p:nvPr/>
        </p:nvSpPr>
        <p:spPr>
          <a:xfrm>
            <a:off x="5289480" y="4273560"/>
            <a:ext cx="3465720" cy="2309760"/>
          </a:xfrm>
          <a:prstGeom prst="rect">
            <a:avLst/>
          </a:prstGeom>
          <a:solidFill>
            <a:srgbClr val="ffff00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Si une platine existe en clé de portique, on peut doubler la panne faîtière pour pouvoir l’installer correctem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Les deux pannes sont toutefois reliées entre elles par des  entretoises et l’ensemble fonctionne comme une panne uniq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9" name=""/>
          <p:cNvGrpSpPr/>
          <p:nvPr/>
        </p:nvGrpSpPr>
        <p:grpSpPr>
          <a:xfrm>
            <a:off x="290880" y="4334400"/>
            <a:ext cx="4577400" cy="1513080"/>
            <a:chOff x="290880" y="4334400"/>
            <a:chExt cx="4577400" cy="1513080"/>
          </a:xfrm>
        </p:grpSpPr>
        <p:sp>
          <p:nvSpPr>
            <p:cNvPr id="2900" name=""/>
            <p:cNvSpPr/>
            <p:nvPr/>
          </p:nvSpPr>
          <p:spPr>
            <a:xfrm>
              <a:off x="2176560" y="4395960"/>
              <a:ext cx="809640" cy="110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 flipH="1" rot="20651400">
              <a:off x="2032920" y="4365720"/>
              <a:ext cx="293760" cy="452520"/>
            </a:xfrm>
            <a:custGeom>
              <a:avLst/>
              <a:gdLst/>
              <a:ahLst/>
              <a:rect l="l" t="t" r="r" b="b"/>
              <a:pathLst>
                <a:path w="463" h="712">
                  <a:moveTo>
                    <a:pt x="0" y="712"/>
                  </a:moveTo>
                  <a:lnTo>
                    <a:pt x="463" y="711"/>
                  </a:lnTo>
                  <a:lnTo>
                    <a:pt x="460" y="660"/>
                  </a:lnTo>
                  <a:lnTo>
                    <a:pt x="250" y="657"/>
                  </a:lnTo>
                  <a:lnTo>
                    <a:pt x="250" y="57"/>
                  </a:lnTo>
                  <a:lnTo>
                    <a:pt x="445" y="57"/>
                  </a:lnTo>
                  <a:lnTo>
                    <a:pt x="445" y="0"/>
                  </a:lnTo>
                  <a:lnTo>
                    <a:pt x="10" y="1"/>
                  </a:lnTo>
                  <a:lnTo>
                    <a:pt x="10" y="57"/>
                  </a:lnTo>
                  <a:lnTo>
                    <a:pt x="211" y="57"/>
                  </a:lnTo>
                  <a:lnTo>
                    <a:pt x="210" y="656"/>
                  </a:lnTo>
                  <a:lnTo>
                    <a:pt x="1" y="660"/>
                  </a:lnTo>
                  <a:lnTo>
                    <a:pt x="0" y="712"/>
                  </a:lnTo>
                  <a:close/>
                </a:path>
              </a:pathLst>
            </a:custGeom>
            <a:solidFill>
              <a:srgbClr val="ff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2" name=""/>
            <p:cNvGrpSpPr/>
            <p:nvPr/>
          </p:nvGrpSpPr>
          <p:grpSpPr>
            <a:xfrm>
              <a:off x="290880" y="4739760"/>
              <a:ext cx="2364840" cy="1107720"/>
              <a:chOff x="290880" y="4739760"/>
              <a:chExt cx="2364840" cy="1107720"/>
            </a:xfrm>
          </p:grpSpPr>
          <p:sp>
            <p:nvSpPr>
              <p:cNvPr id="2903" name=""/>
              <p:cNvSpPr/>
              <p:nvPr/>
            </p:nvSpPr>
            <p:spPr>
              <a:xfrm flipH="1" rot="20651400">
                <a:off x="313920" y="5046120"/>
                <a:ext cx="2317680" cy="49500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H="1" rot="20651400">
                <a:off x="307440" y="5090400"/>
                <a:ext cx="2324160" cy="40752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5" name=""/>
            <p:cNvGrpSpPr/>
            <p:nvPr/>
          </p:nvGrpSpPr>
          <p:grpSpPr>
            <a:xfrm>
              <a:off x="2503440" y="4334400"/>
              <a:ext cx="2364840" cy="1513080"/>
              <a:chOff x="2503440" y="4334400"/>
              <a:chExt cx="2364840" cy="1513080"/>
            </a:xfrm>
          </p:grpSpPr>
          <p:grpSp>
            <p:nvGrpSpPr>
              <p:cNvPr id="2906" name=""/>
              <p:cNvGrpSpPr/>
              <p:nvPr/>
            </p:nvGrpSpPr>
            <p:grpSpPr>
              <a:xfrm>
                <a:off x="2503440" y="4739760"/>
                <a:ext cx="2364840" cy="1107720"/>
                <a:chOff x="2503440" y="4739760"/>
                <a:chExt cx="2364840" cy="1107720"/>
              </a:xfrm>
            </p:grpSpPr>
            <p:sp>
              <p:nvSpPr>
                <p:cNvPr id="2907" name=""/>
                <p:cNvSpPr/>
                <p:nvPr/>
              </p:nvSpPr>
              <p:spPr>
                <a:xfrm rot="948600">
                  <a:off x="2526840" y="5046120"/>
                  <a:ext cx="2317680" cy="495000"/>
                </a:xfrm>
                <a:prstGeom prst="rect">
                  <a:avLst/>
                </a:prstGeom>
                <a:solidFill>
                  <a:srgbClr val="0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 rot="948600">
                  <a:off x="2526840" y="5090400"/>
                  <a:ext cx="2324160" cy="407520"/>
                </a:xfrm>
                <a:prstGeom prst="rect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09" name=""/>
              <p:cNvSpPr/>
              <p:nvPr/>
            </p:nvSpPr>
            <p:spPr>
              <a:xfrm rot="948600">
                <a:off x="2832120" y="4365720"/>
                <a:ext cx="293760" cy="452520"/>
              </a:xfrm>
              <a:custGeom>
                <a:avLst/>
                <a:gdLst/>
                <a:ahLst/>
                <a:rect l="l" t="t" r="r" b="b"/>
                <a:pathLst>
                  <a:path w="463" h="712">
                    <a:moveTo>
                      <a:pt x="0" y="712"/>
                    </a:moveTo>
                    <a:lnTo>
                      <a:pt x="463" y="711"/>
                    </a:lnTo>
                    <a:lnTo>
                      <a:pt x="460" y="660"/>
                    </a:lnTo>
                    <a:lnTo>
                      <a:pt x="250" y="657"/>
                    </a:lnTo>
                    <a:lnTo>
                      <a:pt x="250" y="57"/>
                    </a:lnTo>
                    <a:lnTo>
                      <a:pt x="445" y="57"/>
                    </a:lnTo>
                    <a:lnTo>
                      <a:pt x="445" y="0"/>
                    </a:lnTo>
                    <a:lnTo>
                      <a:pt x="10" y="1"/>
                    </a:lnTo>
                    <a:lnTo>
                      <a:pt x="10" y="57"/>
                    </a:lnTo>
                    <a:lnTo>
                      <a:pt x="211" y="57"/>
                    </a:lnTo>
                    <a:lnTo>
                      <a:pt x="210" y="656"/>
                    </a:lnTo>
                    <a:lnTo>
                      <a:pt x="1" y="660"/>
                    </a:lnTo>
                    <a:lnTo>
                      <a:pt x="0" y="712"/>
                    </a:lnTo>
                    <a:close/>
                  </a:path>
                </a:pathLst>
              </a:custGeom>
              <a:solidFill>
                <a:srgbClr val="ff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H="1">
                <a:off x="2574360" y="4622760"/>
                <a:ext cx="75960" cy="685800"/>
              </a:xfrm>
              <a:prstGeom prst="rect">
                <a:avLst/>
              </a:prstGeom>
              <a:solidFill>
                <a:srgbClr val="0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1" name=""/>
            <p:cNvSpPr/>
            <p:nvPr/>
          </p:nvSpPr>
          <p:spPr>
            <a:xfrm>
              <a:off x="2508120" y="4622760"/>
              <a:ext cx="76320" cy="68580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2" name=""/>
          <p:cNvSpPr/>
          <p:nvPr/>
        </p:nvSpPr>
        <p:spPr>
          <a:xfrm>
            <a:off x="2986200" y="3884760"/>
            <a:ext cx="118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  <a:ea typeface="Arial"/>
              </a:rPr>
              <a:t>Entreto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 flipH="1">
            <a:off x="2635200" y="4119480"/>
            <a:ext cx="579600" cy="32544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1425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1306440" y="6613560"/>
            <a:ext cx="59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Im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>
            <a:hlinkClick r:id="" action="ppaction://hlinkshowjump?jump=previousslide"/>
          </p:cNvPr>
          <p:cNvSpPr/>
          <p:nvPr/>
        </p:nvSpPr>
        <p:spPr>
          <a:xfrm>
            <a:off x="243000" y="6272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128520" y="661032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">
            <a:hlinkClick r:id="" action="ppaction://hlinkshowjump?jump=endshow"/>
          </p:cNvPr>
          <p:cNvSpPr/>
          <p:nvPr/>
        </p:nvSpPr>
        <p:spPr>
          <a:xfrm>
            <a:off x="518652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128520" y="660888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5557680" y="6219720"/>
            <a:ext cx="108936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cc99"/>
                </a:solidFill>
                <a:latin typeface="Arial"/>
              </a:rPr>
              <a:t>Arrêt de Steel</a:t>
            </a:r>
            <a:r>
              <a:rPr b="1" lang="fr-FR" sz="1600" spc="-1" strike="noStrike" baseline="-25000">
                <a:solidFill>
                  <a:srgbClr val="00cc99"/>
                </a:solidFill>
                <a:latin typeface="Arial"/>
              </a:rPr>
              <a:t>CU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2" name=""/>
          <p:cNvSpPr/>
          <p:nvPr/>
        </p:nvSpPr>
        <p:spPr>
          <a:xfrm>
            <a:off x="3749760" y="6224760"/>
            <a:ext cx="133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Retour au menu géné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3" name=""/>
          <p:cNvSpPr/>
          <p:nvPr/>
        </p:nvSpPr>
        <p:spPr>
          <a:xfrm>
            <a:off x="339876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4" name=""/>
          <p:cNvSpPr/>
          <p:nvPr/>
        </p:nvSpPr>
        <p:spPr>
          <a:xfrm>
            <a:off x="1763640" y="4503600"/>
            <a:ext cx="5600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00"/>
                </a:solidFill>
                <a:latin typeface="Arial"/>
              </a:rPr>
              <a:t>Fin de ce mod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5" name=""/>
          <p:cNvGrpSpPr/>
          <p:nvPr/>
        </p:nvGrpSpPr>
        <p:grpSpPr>
          <a:xfrm>
            <a:off x="2817720" y="789120"/>
            <a:ext cx="3044520" cy="3582360"/>
            <a:chOff x="2817720" y="789120"/>
            <a:chExt cx="3044520" cy="3582360"/>
          </a:xfrm>
        </p:grpSpPr>
        <p:sp>
          <p:nvSpPr>
            <p:cNvPr id="2926" name=""/>
            <p:cNvSpPr/>
            <p:nvPr/>
          </p:nvSpPr>
          <p:spPr>
            <a:xfrm>
              <a:off x="2817720" y="1329120"/>
              <a:ext cx="3044520" cy="3042360"/>
            </a:xfrm>
            <a:custGeom>
              <a:avLst/>
              <a:gdLst/>
              <a:ahLst/>
              <a:rect l="l" t="t" r="r" b="b"/>
              <a:pathLst>
                <a:path w="2886" h="2884">
                  <a:moveTo>
                    <a:pt x="1444" y="2884"/>
                  </a:moveTo>
                  <a:lnTo>
                    <a:pt x="1518" y="2883"/>
                  </a:lnTo>
                  <a:lnTo>
                    <a:pt x="1591" y="2877"/>
                  </a:lnTo>
                  <a:lnTo>
                    <a:pt x="1663" y="2868"/>
                  </a:lnTo>
                  <a:lnTo>
                    <a:pt x="1735" y="2855"/>
                  </a:lnTo>
                  <a:lnTo>
                    <a:pt x="1804" y="2840"/>
                  </a:lnTo>
                  <a:lnTo>
                    <a:pt x="1873" y="2820"/>
                  </a:lnTo>
                  <a:lnTo>
                    <a:pt x="1939" y="2797"/>
                  </a:lnTo>
                  <a:lnTo>
                    <a:pt x="2004" y="2771"/>
                  </a:lnTo>
                  <a:lnTo>
                    <a:pt x="2069" y="2742"/>
                  </a:lnTo>
                  <a:lnTo>
                    <a:pt x="2131" y="2710"/>
                  </a:lnTo>
                  <a:lnTo>
                    <a:pt x="2192" y="2675"/>
                  </a:lnTo>
                  <a:lnTo>
                    <a:pt x="2249" y="2638"/>
                  </a:lnTo>
                  <a:lnTo>
                    <a:pt x="2307" y="2599"/>
                  </a:lnTo>
                  <a:lnTo>
                    <a:pt x="2361" y="2556"/>
                  </a:lnTo>
                  <a:lnTo>
                    <a:pt x="2413" y="2510"/>
                  </a:lnTo>
                  <a:lnTo>
                    <a:pt x="2463" y="2462"/>
                  </a:lnTo>
                  <a:lnTo>
                    <a:pt x="2511" y="2411"/>
                  </a:lnTo>
                  <a:lnTo>
                    <a:pt x="2557" y="2360"/>
                  </a:lnTo>
                  <a:lnTo>
                    <a:pt x="2600" y="2306"/>
                  </a:lnTo>
                  <a:lnTo>
                    <a:pt x="2639" y="2248"/>
                  </a:lnTo>
                  <a:lnTo>
                    <a:pt x="2676" y="2191"/>
                  </a:lnTo>
                  <a:lnTo>
                    <a:pt x="2712" y="2129"/>
                  </a:lnTo>
                  <a:lnTo>
                    <a:pt x="2743" y="2068"/>
                  </a:lnTo>
                  <a:lnTo>
                    <a:pt x="2773" y="2003"/>
                  </a:lnTo>
                  <a:lnTo>
                    <a:pt x="2799" y="1938"/>
                  </a:lnTo>
                  <a:lnTo>
                    <a:pt x="2821" y="1872"/>
                  </a:lnTo>
                  <a:lnTo>
                    <a:pt x="2841" y="1803"/>
                  </a:lnTo>
                  <a:lnTo>
                    <a:pt x="2856" y="1734"/>
                  </a:lnTo>
                  <a:lnTo>
                    <a:pt x="2869" y="1662"/>
                  </a:lnTo>
                  <a:lnTo>
                    <a:pt x="2879" y="1590"/>
                  </a:lnTo>
                  <a:lnTo>
                    <a:pt x="2884" y="1517"/>
                  </a:lnTo>
                  <a:lnTo>
                    <a:pt x="2886" y="1443"/>
                  </a:lnTo>
                  <a:lnTo>
                    <a:pt x="2884" y="1369"/>
                  </a:lnTo>
                  <a:lnTo>
                    <a:pt x="2879" y="1297"/>
                  </a:lnTo>
                  <a:lnTo>
                    <a:pt x="2869" y="1224"/>
                  </a:lnTo>
                  <a:lnTo>
                    <a:pt x="2856" y="1152"/>
                  </a:lnTo>
                  <a:lnTo>
                    <a:pt x="2841" y="1083"/>
                  </a:lnTo>
                  <a:lnTo>
                    <a:pt x="2821" y="1015"/>
                  </a:lnTo>
                  <a:lnTo>
                    <a:pt x="2799" y="948"/>
                  </a:lnTo>
                  <a:lnTo>
                    <a:pt x="2773" y="881"/>
                  </a:lnTo>
                  <a:lnTo>
                    <a:pt x="2743" y="818"/>
                  </a:lnTo>
                  <a:lnTo>
                    <a:pt x="2712" y="755"/>
                  </a:lnTo>
                  <a:lnTo>
                    <a:pt x="2676" y="696"/>
                  </a:lnTo>
                  <a:lnTo>
                    <a:pt x="2639" y="636"/>
                  </a:lnTo>
                  <a:lnTo>
                    <a:pt x="2600" y="581"/>
                  </a:lnTo>
                  <a:lnTo>
                    <a:pt x="2557" y="525"/>
                  </a:lnTo>
                  <a:lnTo>
                    <a:pt x="2511" y="473"/>
                  </a:lnTo>
                  <a:lnTo>
                    <a:pt x="2463" y="423"/>
                  </a:lnTo>
                  <a:lnTo>
                    <a:pt x="2413" y="375"/>
                  </a:lnTo>
                  <a:lnTo>
                    <a:pt x="2361" y="330"/>
                  </a:lnTo>
                  <a:lnTo>
                    <a:pt x="2307" y="287"/>
                  </a:lnTo>
                  <a:lnTo>
                    <a:pt x="2249" y="247"/>
                  </a:lnTo>
                  <a:lnTo>
                    <a:pt x="2192" y="210"/>
                  </a:lnTo>
                  <a:lnTo>
                    <a:pt x="2131" y="174"/>
                  </a:lnTo>
                  <a:lnTo>
                    <a:pt x="2069" y="143"/>
                  </a:lnTo>
                  <a:lnTo>
                    <a:pt x="2004" y="113"/>
                  </a:lnTo>
                  <a:lnTo>
                    <a:pt x="1939" y="87"/>
                  </a:lnTo>
                  <a:lnTo>
                    <a:pt x="1873" y="65"/>
                  </a:lnTo>
                  <a:lnTo>
                    <a:pt x="1804" y="46"/>
                  </a:lnTo>
                  <a:lnTo>
                    <a:pt x="1735" y="30"/>
                  </a:lnTo>
                  <a:lnTo>
                    <a:pt x="1663" y="17"/>
                  </a:lnTo>
                  <a:lnTo>
                    <a:pt x="1591" y="7"/>
                  </a:lnTo>
                  <a:lnTo>
                    <a:pt x="1518" y="2"/>
                  </a:lnTo>
                  <a:lnTo>
                    <a:pt x="1444" y="0"/>
                  </a:lnTo>
                  <a:lnTo>
                    <a:pt x="1370" y="2"/>
                  </a:lnTo>
                  <a:lnTo>
                    <a:pt x="1295" y="7"/>
                  </a:lnTo>
                  <a:lnTo>
                    <a:pt x="1223" y="17"/>
                  </a:lnTo>
                  <a:lnTo>
                    <a:pt x="1153" y="30"/>
                  </a:lnTo>
                  <a:lnTo>
                    <a:pt x="1082" y="46"/>
                  </a:lnTo>
                  <a:lnTo>
                    <a:pt x="1015" y="65"/>
                  </a:lnTo>
                  <a:lnTo>
                    <a:pt x="947" y="87"/>
                  </a:lnTo>
                  <a:lnTo>
                    <a:pt x="882" y="113"/>
                  </a:lnTo>
                  <a:lnTo>
                    <a:pt x="818" y="143"/>
                  </a:lnTo>
                  <a:lnTo>
                    <a:pt x="755" y="174"/>
                  </a:lnTo>
                  <a:lnTo>
                    <a:pt x="694" y="210"/>
                  </a:lnTo>
                  <a:lnTo>
                    <a:pt x="637" y="247"/>
                  </a:lnTo>
                  <a:lnTo>
                    <a:pt x="579" y="287"/>
                  </a:lnTo>
                  <a:lnTo>
                    <a:pt x="525" y="330"/>
                  </a:lnTo>
                  <a:lnTo>
                    <a:pt x="473" y="375"/>
                  </a:lnTo>
                  <a:lnTo>
                    <a:pt x="423" y="423"/>
                  </a:lnTo>
                  <a:lnTo>
                    <a:pt x="375" y="473"/>
                  </a:lnTo>
                  <a:lnTo>
                    <a:pt x="330" y="525"/>
                  </a:lnTo>
                  <a:lnTo>
                    <a:pt x="286" y="581"/>
                  </a:lnTo>
                  <a:lnTo>
                    <a:pt x="247" y="636"/>
                  </a:lnTo>
                  <a:lnTo>
                    <a:pt x="210" y="696"/>
                  </a:lnTo>
                  <a:lnTo>
                    <a:pt x="174" y="755"/>
                  </a:lnTo>
                  <a:lnTo>
                    <a:pt x="143" y="818"/>
                  </a:lnTo>
                  <a:lnTo>
                    <a:pt x="113" y="881"/>
                  </a:lnTo>
                  <a:lnTo>
                    <a:pt x="87" y="948"/>
                  </a:lnTo>
                  <a:lnTo>
                    <a:pt x="65" y="1015"/>
                  </a:lnTo>
                  <a:lnTo>
                    <a:pt x="45" y="1083"/>
                  </a:lnTo>
                  <a:lnTo>
                    <a:pt x="30" y="1152"/>
                  </a:lnTo>
                  <a:lnTo>
                    <a:pt x="17" y="1224"/>
                  </a:lnTo>
                  <a:lnTo>
                    <a:pt x="7" y="1297"/>
                  </a:lnTo>
                  <a:lnTo>
                    <a:pt x="2" y="1369"/>
                  </a:lnTo>
                  <a:lnTo>
                    <a:pt x="0" y="1443"/>
                  </a:lnTo>
                  <a:lnTo>
                    <a:pt x="2" y="1517"/>
                  </a:lnTo>
                  <a:lnTo>
                    <a:pt x="7" y="1590"/>
                  </a:lnTo>
                  <a:lnTo>
                    <a:pt x="17" y="1662"/>
                  </a:lnTo>
                  <a:lnTo>
                    <a:pt x="30" y="1734"/>
                  </a:lnTo>
                  <a:lnTo>
                    <a:pt x="45" y="1803"/>
                  </a:lnTo>
                  <a:lnTo>
                    <a:pt x="65" y="1872"/>
                  </a:lnTo>
                  <a:lnTo>
                    <a:pt x="87" y="1938"/>
                  </a:lnTo>
                  <a:lnTo>
                    <a:pt x="113" y="2003"/>
                  </a:lnTo>
                  <a:lnTo>
                    <a:pt x="143" y="2068"/>
                  </a:lnTo>
                  <a:lnTo>
                    <a:pt x="174" y="2129"/>
                  </a:lnTo>
                  <a:lnTo>
                    <a:pt x="210" y="2191"/>
                  </a:lnTo>
                  <a:lnTo>
                    <a:pt x="247" y="2248"/>
                  </a:lnTo>
                  <a:lnTo>
                    <a:pt x="286" y="2306"/>
                  </a:lnTo>
                  <a:lnTo>
                    <a:pt x="330" y="2360"/>
                  </a:lnTo>
                  <a:lnTo>
                    <a:pt x="375" y="2411"/>
                  </a:lnTo>
                  <a:lnTo>
                    <a:pt x="423" y="2462"/>
                  </a:lnTo>
                  <a:lnTo>
                    <a:pt x="473" y="2510"/>
                  </a:lnTo>
                  <a:lnTo>
                    <a:pt x="525" y="2556"/>
                  </a:lnTo>
                  <a:lnTo>
                    <a:pt x="579" y="2599"/>
                  </a:lnTo>
                  <a:lnTo>
                    <a:pt x="637" y="2638"/>
                  </a:lnTo>
                  <a:lnTo>
                    <a:pt x="694" y="2675"/>
                  </a:lnTo>
                  <a:lnTo>
                    <a:pt x="755" y="2710"/>
                  </a:lnTo>
                  <a:lnTo>
                    <a:pt x="818" y="2742"/>
                  </a:lnTo>
                  <a:lnTo>
                    <a:pt x="882" y="2771"/>
                  </a:lnTo>
                  <a:lnTo>
                    <a:pt x="947" y="2797"/>
                  </a:lnTo>
                  <a:lnTo>
                    <a:pt x="1015" y="2820"/>
                  </a:lnTo>
                  <a:lnTo>
                    <a:pt x="1082" y="2840"/>
                  </a:lnTo>
                  <a:lnTo>
                    <a:pt x="1153" y="2855"/>
                  </a:lnTo>
                  <a:lnTo>
                    <a:pt x="1223" y="2868"/>
                  </a:lnTo>
                  <a:lnTo>
                    <a:pt x="1295" y="2877"/>
                  </a:lnTo>
                  <a:lnTo>
                    <a:pt x="1370" y="2883"/>
                  </a:lnTo>
                  <a:lnTo>
                    <a:pt x="1444" y="288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302640" y="789120"/>
              <a:ext cx="2529720" cy="1763280"/>
            </a:xfrm>
            <a:custGeom>
              <a:avLst/>
              <a:gdLst/>
              <a:ahLst/>
              <a:rect l="l" t="t" r="r" b="b"/>
              <a:pathLst>
                <a:path w="2398" h="1671">
                  <a:moveTo>
                    <a:pt x="145" y="762"/>
                  </a:moveTo>
                  <a:lnTo>
                    <a:pt x="763" y="145"/>
                  </a:lnTo>
                  <a:lnTo>
                    <a:pt x="1635" y="145"/>
                  </a:lnTo>
                  <a:lnTo>
                    <a:pt x="2253" y="762"/>
                  </a:lnTo>
                  <a:lnTo>
                    <a:pt x="2253" y="1271"/>
                  </a:lnTo>
                  <a:lnTo>
                    <a:pt x="2278" y="1317"/>
                  </a:lnTo>
                  <a:lnTo>
                    <a:pt x="2300" y="1365"/>
                  </a:lnTo>
                  <a:lnTo>
                    <a:pt x="2320" y="1413"/>
                  </a:lnTo>
                  <a:lnTo>
                    <a:pt x="2341" y="1464"/>
                  </a:lnTo>
                  <a:lnTo>
                    <a:pt x="2357" y="1514"/>
                  </a:lnTo>
                  <a:lnTo>
                    <a:pt x="2372" y="1566"/>
                  </a:lnTo>
                  <a:lnTo>
                    <a:pt x="2387" y="1618"/>
                  </a:lnTo>
                  <a:lnTo>
                    <a:pt x="2398" y="1671"/>
                  </a:lnTo>
                  <a:lnTo>
                    <a:pt x="2398" y="703"/>
                  </a:lnTo>
                  <a:lnTo>
                    <a:pt x="1695" y="0"/>
                  </a:lnTo>
                  <a:lnTo>
                    <a:pt x="704" y="0"/>
                  </a:lnTo>
                  <a:lnTo>
                    <a:pt x="0" y="703"/>
                  </a:lnTo>
                  <a:lnTo>
                    <a:pt x="0" y="900"/>
                  </a:lnTo>
                  <a:lnTo>
                    <a:pt x="17" y="883"/>
                  </a:lnTo>
                  <a:lnTo>
                    <a:pt x="36" y="868"/>
                  </a:lnTo>
                  <a:lnTo>
                    <a:pt x="54" y="853"/>
                  </a:lnTo>
                  <a:lnTo>
                    <a:pt x="71" y="838"/>
                  </a:lnTo>
                  <a:lnTo>
                    <a:pt x="89" y="824"/>
                  </a:lnTo>
                  <a:lnTo>
                    <a:pt x="108" y="809"/>
                  </a:lnTo>
                  <a:lnTo>
                    <a:pt x="126" y="796"/>
                  </a:lnTo>
                  <a:lnTo>
                    <a:pt x="145" y="781"/>
                  </a:lnTo>
                  <a:lnTo>
                    <a:pt x="145" y="762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3302640" y="1611720"/>
              <a:ext cx="2529720" cy="1704600"/>
            </a:xfrm>
            <a:custGeom>
              <a:avLst/>
              <a:gdLst/>
              <a:ahLst/>
              <a:rect l="l" t="t" r="r" b="b"/>
              <a:pathLst>
                <a:path w="2398" h="1616">
                  <a:moveTo>
                    <a:pt x="704" y="1616"/>
                  </a:moveTo>
                  <a:lnTo>
                    <a:pt x="1695" y="1616"/>
                  </a:lnTo>
                  <a:lnTo>
                    <a:pt x="2398" y="914"/>
                  </a:lnTo>
                  <a:lnTo>
                    <a:pt x="2398" y="890"/>
                  </a:lnTo>
                  <a:lnTo>
                    <a:pt x="2387" y="837"/>
                  </a:lnTo>
                  <a:lnTo>
                    <a:pt x="2372" y="785"/>
                  </a:lnTo>
                  <a:lnTo>
                    <a:pt x="2357" y="733"/>
                  </a:lnTo>
                  <a:lnTo>
                    <a:pt x="2341" y="683"/>
                  </a:lnTo>
                  <a:lnTo>
                    <a:pt x="2320" y="632"/>
                  </a:lnTo>
                  <a:lnTo>
                    <a:pt x="2300" y="584"/>
                  </a:lnTo>
                  <a:lnTo>
                    <a:pt x="2278" y="536"/>
                  </a:lnTo>
                  <a:lnTo>
                    <a:pt x="2253" y="490"/>
                  </a:lnTo>
                  <a:lnTo>
                    <a:pt x="2253" y="855"/>
                  </a:lnTo>
                  <a:lnTo>
                    <a:pt x="1635" y="1471"/>
                  </a:lnTo>
                  <a:lnTo>
                    <a:pt x="763" y="1471"/>
                  </a:lnTo>
                  <a:lnTo>
                    <a:pt x="145" y="855"/>
                  </a:lnTo>
                  <a:lnTo>
                    <a:pt x="145" y="0"/>
                  </a:lnTo>
                  <a:lnTo>
                    <a:pt x="126" y="15"/>
                  </a:lnTo>
                  <a:lnTo>
                    <a:pt x="108" y="28"/>
                  </a:lnTo>
                  <a:lnTo>
                    <a:pt x="89" y="43"/>
                  </a:lnTo>
                  <a:lnTo>
                    <a:pt x="71" y="57"/>
                  </a:lnTo>
                  <a:lnTo>
                    <a:pt x="54" y="72"/>
                  </a:lnTo>
                  <a:lnTo>
                    <a:pt x="36" y="87"/>
                  </a:lnTo>
                  <a:lnTo>
                    <a:pt x="17" y="102"/>
                  </a:lnTo>
                  <a:lnTo>
                    <a:pt x="0" y="119"/>
                  </a:lnTo>
                  <a:lnTo>
                    <a:pt x="0" y="914"/>
                  </a:lnTo>
                  <a:lnTo>
                    <a:pt x="704" y="161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3456720" y="940680"/>
              <a:ext cx="2224080" cy="1187640"/>
            </a:xfrm>
            <a:custGeom>
              <a:avLst/>
              <a:gdLst/>
              <a:ahLst/>
              <a:rect l="l" t="t" r="r" b="b"/>
              <a:pathLst>
                <a:path w="2108" h="1126">
                  <a:moveTo>
                    <a:pt x="1490" y="0"/>
                  </a:moveTo>
                  <a:lnTo>
                    <a:pt x="618" y="0"/>
                  </a:lnTo>
                  <a:lnTo>
                    <a:pt x="0" y="617"/>
                  </a:lnTo>
                  <a:lnTo>
                    <a:pt x="0" y="636"/>
                  </a:lnTo>
                  <a:lnTo>
                    <a:pt x="32" y="616"/>
                  </a:lnTo>
                  <a:lnTo>
                    <a:pt x="63" y="595"/>
                  </a:lnTo>
                  <a:lnTo>
                    <a:pt x="95" y="575"/>
                  </a:lnTo>
                  <a:lnTo>
                    <a:pt x="126" y="556"/>
                  </a:lnTo>
                  <a:lnTo>
                    <a:pt x="160" y="538"/>
                  </a:lnTo>
                  <a:lnTo>
                    <a:pt x="193" y="519"/>
                  </a:lnTo>
                  <a:lnTo>
                    <a:pt x="226" y="502"/>
                  </a:lnTo>
                  <a:lnTo>
                    <a:pt x="260" y="488"/>
                  </a:lnTo>
                  <a:lnTo>
                    <a:pt x="657" y="92"/>
                  </a:lnTo>
                  <a:lnTo>
                    <a:pt x="1451" y="92"/>
                  </a:lnTo>
                  <a:lnTo>
                    <a:pt x="2016" y="656"/>
                  </a:lnTo>
                  <a:lnTo>
                    <a:pt x="2016" y="977"/>
                  </a:lnTo>
                  <a:lnTo>
                    <a:pt x="2029" y="996"/>
                  </a:lnTo>
                  <a:lnTo>
                    <a:pt x="2040" y="1014"/>
                  </a:lnTo>
                  <a:lnTo>
                    <a:pt x="2053" y="1031"/>
                  </a:lnTo>
                  <a:lnTo>
                    <a:pt x="2064" y="1050"/>
                  </a:lnTo>
                  <a:lnTo>
                    <a:pt x="2075" y="1068"/>
                  </a:lnTo>
                  <a:lnTo>
                    <a:pt x="2086" y="1087"/>
                  </a:lnTo>
                  <a:lnTo>
                    <a:pt x="2097" y="1107"/>
                  </a:lnTo>
                  <a:lnTo>
                    <a:pt x="2108" y="1126"/>
                  </a:lnTo>
                  <a:lnTo>
                    <a:pt x="2108" y="617"/>
                  </a:lnTo>
                  <a:lnTo>
                    <a:pt x="149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3456720" y="1455480"/>
              <a:ext cx="2224080" cy="1708920"/>
            </a:xfrm>
            <a:custGeom>
              <a:avLst/>
              <a:gdLst/>
              <a:ahLst/>
              <a:rect l="l" t="t" r="r" b="b"/>
              <a:pathLst>
                <a:path w="2108" h="1619">
                  <a:moveTo>
                    <a:pt x="2016" y="964"/>
                  </a:moveTo>
                  <a:lnTo>
                    <a:pt x="1451" y="1526"/>
                  </a:lnTo>
                  <a:lnTo>
                    <a:pt x="657" y="1526"/>
                  </a:lnTo>
                  <a:lnTo>
                    <a:pt x="93" y="964"/>
                  </a:lnTo>
                  <a:lnTo>
                    <a:pt x="93" y="168"/>
                  </a:lnTo>
                  <a:lnTo>
                    <a:pt x="260" y="0"/>
                  </a:lnTo>
                  <a:lnTo>
                    <a:pt x="226" y="14"/>
                  </a:lnTo>
                  <a:lnTo>
                    <a:pt x="193" y="31"/>
                  </a:lnTo>
                  <a:lnTo>
                    <a:pt x="160" y="50"/>
                  </a:lnTo>
                  <a:lnTo>
                    <a:pt x="126" y="68"/>
                  </a:lnTo>
                  <a:lnTo>
                    <a:pt x="95" y="87"/>
                  </a:lnTo>
                  <a:lnTo>
                    <a:pt x="63" y="107"/>
                  </a:lnTo>
                  <a:lnTo>
                    <a:pt x="32" y="128"/>
                  </a:lnTo>
                  <a:lnTo>
                    <a:pt x="0" y="148"/>
                  </a:lnTo>
                  <a:lnTo>
                    <a:pt x="0" y="1003"/>
                  </a:lnTo>
                  <a:lnTo>
                    <a:pt x="618" y="1619"/>
                  </a:lnTo>
                  <a:lnTo>
                    <a:pt x="1490" y="1619"/>
                  </a:lnTo>
                  <a:lnTo>
                    <a:pt x="2108" y="1003"/>
                  </a:lnTo>
                  <a:lnTo>
                    <a:pt x="2108" y="638"/>
                  </a:lnTo>
                  <a:lnTo>
                    <a:pt x="2097" y="619"/>
                  </a:lnTo>
                  <a:lnTo>
                    <a:pt x="2086" y="599"/>
                  </a:lnTo>
                  <a:lnTo>
                    <a:pt x="2075" y="580"/>
                  </a:lnTo>
                  <a:lnTo>
                    <a:pt x="2064" y="562"/>
                  </a:lnTo>
                  <a:lnTo>
                    <a:pt x="2053" y="543"/>
                  </a:lnTo>
                  <a:lnTo>
                    <a:pt x="2040" y="526"/>
                  </a:lnTo>
                  <a:lnTo>
                    <a:pt x="2029" y="508"/>
                  </a:lnTo>
                  <a:lnTo>
                    <a:pt x="2016" y="489"/>
                  </a:lnTo>
                  <a:lnTo>
                    <a:pt x="2016" y="96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3729240" y="1040040"/>
              <a:ext cx="1852200" cy="932400"/>
            </a:xfrm>
            <a:custGeom>
              <a:avLst/>
              <a:gdLst/>
              <a:ahLst/>
              <a:rect l="l" t="t" r="r" b="b"/>
              <a:pathLst>
                <a:path w="1756" h="885">
                  <a:moveTo>
                    <a:pt x="1756" y="885"/>
                  </a:moveTo>
                  <a:lnTo>
                    <a:pt x="1756" y="564"/>
                  </a:lnTo>
                  <a:lnTo>
                    <a:pt x="1191" y="0"/>
                  </a:lnTo>
                  <a:lnTo>
                    <a:pt x="397" y="0"/>
                  </a:lnTo>
                  <a:lnTo>
                    <a:pt x="0" y="396"/>
                  </a:lnTo>
                  <a:lnTo>
                    <a:pt x="33" y="383"/>
                  </a:lnTo>
                  <a:lnTo>
                    <a:pt x="67" y="368"/>
                  </a:lnTo>
                  <a:lnTo>
                    <a:pt x="102" y="357"/>
                  </a:lnTo>
                  <a:lnTo>
                    <a:pt x="137" y="345"/>
                  </a:lnTo>
                  <a:lnTo>
                    <a:pt x="172" y="334"/>
                  </a:lnTo>
                  <a:lnTo>
                    <a:pt x="208" y="323"/>
                  </a:lnTo>
                  <a:lnTo>
                    <a:pt x="243" y="316"/>
                  </a:lnTo>
                  <a:lnTo>
                    <a:pt x="278" y="307"/>
                  </a:lnTo>
                  <a:lnTo>
                    <a:pt x="315" y="299"/>
                  </a:lnTo>
                  <a:lnTo>
                    <a:pt x="353" y="294"/>
                  </a:lnTo>
                  <a:lnTo>
                    <a:pt x="390" y="288"/>
                  </a:lnTo>
                  <a:lnTo>
                    <a:pt x="427" y="282"/>
                  </a:lnTo>
                  <a:lnTo>
                    <a:pt x="464" y="279"/>
                  </a:lnTo>
                  <a:lnTo>
                    <a:pt x="503" y="277"/>
                  </a:lnTo>
                  <a:lnTo>
                    <a:pt x="540" y="275"/>
                  </a:lnTo>
                  <a:lnTo>
                    <a:pt x="579" y="275"/>
                  </a:lnTo>
                  <a:lnTo>
                    <a:pt x="670" y="279"/>
                  </a:lnTo>
                  <a:lnTo>
                    <a:pt x="757" y="286"/>
                  </a:lnTo>
                  <a:lnTo>
                    <a:pt x="844" y="299"/>
                  </a:lnTo>
                  <a:lnTo>
                    <a:pt x="930" y="318"/>
                  </a:lnTo>
                  <a:lnTo>
                    <a:pt x="1013" y="342"/>
                  </a:lnTo>
                  <a:lnTo>
                    <a:pt x="1095" y="371"/>
                  </a:lnTo>
                  <a:lnTo>
                    <a:pt x="1175" y="405"/>
                  </a:lnTo>
                  <a:lnTo>
                    <a:pt x="1251" y="442"/>
                  </a:lnTo>
                  <a:lnTo>
                    <a:pt x="1325" y="485"/>
                  </a:lnTo>
                  <a:lnTo>
                    <a:pt x="1396" y="529"/>
                  </a:lnTo>
                  <a:lnTo>
                    <a:pt x="1464" y="581"/>
                  </a:lnTo>
                  <a:lnTo>
                    <a:pt x="1529" y="635"/>
                  </a:lnTo>
                  <a:lnTo>
                    <a:pt x="1590" y="692"/>
                  </a:lnTo>
                  <a:lnTo>
                    <a:pt x="1650" y="754"/>
                  </a:lnTo>
                  <a:lnTo>
                    <a:pt x="1705" y="818"/>
                  </a:lnTo>
                  <a:lnTo>
                    <a:pt x="1756" y="885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3553920" y="1329120"/>
              <a:ext cx="2027160" cy="1738080"/>
            </a:xfrm>
            <a:custGeom>
              <a:avLst/>
              <a:gdLst/>
              <a:ahLst/>
              <a:rect l="l" t="t" r="r" b="b"/>
              <a:pathLst>
                <a:path w="1923" h="1647">
                  <a:moveTo>
                    <a:pt x="0" y="1085"/>
                  </a:moveTo>
                  <a:lnTo>
                    <a:pt x="564" y="1647"/>
                  </a:lnTo>
                  <a:lnTo>
                    <a:pt x="1358" y="1647"/>
                  </a:lnTo>
                  <a:lnTo>
                    <a:pt x="1923" y="1085"/>
                  </a:lnTo>
                  <a:lnTo>
                    <a:pt x="1923" y="610"/>
                  </a:lnTo>
                  <a:lnTo>
                    <a:pt x="1872" y="543"/>
                  </a:lnTo>
                  <a:lnTo>
                    <a:pt x="1817" y="479"/>
                  </a:lnTo>
                  <a:lnTo>
                    <a:pt x="1757" y="417"/>
                  </a:lnTo>
                  <a:lnTo>
                    <a:pt x="1696" y="360"/>
                  </a:lnTo>
                  <a:lnTo>
                    <a:pt x="1631" y="306"/>
                  </a:lnTo>
                  <a:lnTo>
                    <a:pt x="1563" y="254"/>
                  </a:lnTo>
                  <a:lnTo>
                    <a:pt x="1492" y="210"/>
                  </a:lnTo>
                  <a:lnTo>
                    <a:pt x="1418" y="167"/>
                  </a:lnTo>
                  <a:lnTo>
                    <a:pt x="1342" y="130"/>
                  </a:lnTo>
                  <a:lnTo>
                    <a:pt x="1262" y="96"/>
                  </a:lnTo>
                  <a:lnTo>
                    <a:pt x="1180" y="67"/>
                  </a:lnTo>
                  <a:lnTo>
                    <a:pt x="1097" y="43"/>
                  </a:lnTo>
                  <a:lnTo>
                    <a:pt x="1011" y="24"/>
                  </a:lnTo>
                  <a:lnTo>
                    <a:pt x="924" y="11"/>
                  </a:lnTo>
                  <a:lnTo>
                    <a:pt x="837" y="4"/>
                  </a:lnTo>
                  <a:lnTo>
                    <a:pt x="746" y="0"/>
                  </a:lnTo>
                  <a:lnTo>
                    <a:pt x="707" y="0"/>
                  </a:lnTo>
                  <a:lnTo>
                    <a:pt x="670" y="2"/>
                  </a:lnTo>
                  <a:lnTo>
                    <a:pt x="631" y="4"/>
                  </a:lnTo>
                  <a:lnTo>
                    <a:pt x="594" y="7"/>
                  </a:lnTo>
                  <a:lnTo>
                    <a:pt x="557" y="13"/>
                  </a:lnTo>
                  <a:lnTo>
                    <a:pt x="520" y="19"/>
                  </a:lnTo>
                  <a:lnTo>
                    <a:pt x="482" y="24"/>
                  </a:lnTo>
                  <a:lnTo>
                    <a:pt x="445" y="32"/>
                  </a:lnTo>
                  <a:lnTo>
                    <a:pt x="410" y="41"/>
                  </a:lnTo>
                  <a:lnTo>
                    <a:pt x="375" y="48"/>
                  </a:lnTo>
                  <a:lnTo>
                    <a:pt x="339" y="59"/>
                  </a:lnTo>
                  <a:lnTo>
                    <a:pt x="304" y="70"/>
                  </a:lnTo>
                  <a:lnTo>
                    <a:pt x="269" y="82"/>
                  </a:lnTo>
                  <a:lnTo>
                    <a:pt x="234" y="93"/>
                  </a:lnTo>
                  <a:lnTo>
                    <a:pt x="200" y="108"/>
                  </a:lnTo>
                  <a:lnTo>
                    <a:pt x="167" y="121"/>
                  </a:lnTo>
                  <a:lnTo>
                    <a:pt x="0" y="289"/>
                  </a:lnTo>
                  <a:lnTo>
                    <a:pt x="0" y="108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4435920" y="3278160"/>
              <a:ext cx="301680" cy="1090800"/>
            </a:xfrm>
            <a:custGeom>
              <a:avLst/>
              <a:gdLst/>
              <a:ahLst/>
              <a:rect l="l" t="t" r="r" b="b"/>
              <a:pathLst>
                <a:path w="286" h="1035">
                  <a:moveTo>
                    <a:pt x="0" y="0"/>
                  </a:moveTo>
                  <a:lnTo>
                    <a:pt x="0" y="1035"/>
                  </a:lnTo>
                  <a:lnTo>
                    <a:pt x="35" y="1031"/>
                  </a:lnTo>
                  <a:lnTo>
                    <a:pt x="72" y="1027"/>
                  </a:lnTo>
                  <a:lnTo>
                    <a:pt x="108" y="1023"/>
                  </a:lnTo>
                  <a:lnTo>
                    <a:pt x="145" y="1018"/>
                  </a:lnTo>
                  <a:lnTo>
                    <a:pt x="180" y="1011"/>
                  </a:lnTo>
                  <a:lnTo>
                    <a:pt x="215" y="1003"/>
                  </a:lnTo>
                  <a:lnTo>
                    <a:pt x="250" y="996"/>
                  </a:lnTo>
                  <a:lnTo>
                    <a:pt x="286" y="986"/>
                  </a:lnTo>
                  <a:lnTo>
                    <a:pt x="28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3663720" y="1793160"/>
              <a:ext cx="381600" cy="544320"/>
            </a:xfrm>
            <a:custGeom>
              <a:avLst/>
              <a:gdLst/>
              <a:ahLst/>
              <a:rect l="l" t="t" r="r" b="b"/>
              <a:pathLst>
                <a:path w="362" h="515">
                  <a:moveTo>
                    <a:pt x="291" y="139"/>
                  </a:moveTo>
                  <a:lnTo>
                    <a:pt x="282" y="131"/>
                  </a:lnTo>
                  <a:lnTo>
                    <a:pt x="273" y="126"/>
                  </a:lnTo>
                  <a:lnTo>
                    <a:pt x="261" y="120"/>
                  </a:lnTo>
                  <a:lnTo>
                    <a:pt x="252" y="116"/>
                  </a:lnTo>
                  <a:lnTo>
                    <a:pt x="241" y="113"/>
                  </a:lnTo>
                  <a:lnTo>
                    <a:pt x="230" y="109"/>
                  </a:lnTo>
                  <a:lnTo>
                    <a:pt x="217" y="107"/>
                  </a:lnTo>
                  <a:lnTo>
                    <a:pt x="206" y="107"/>
                  </a:lnTo>
                  <a:lnTo>
                    <a:pt x="187" y="109"/>
                  </a:lnTo>
                  <a:lnTo>
                    <a:pt x="171" y="116"/>
                  </a:lnTo>
                  <a:lnTo>
                    <a:pt x="158" y="129"/>
                  </a:lnTo>
                  <a:lnTo>
                    <a:pt x="152" y="148"/>
                  </a:lnTo>
                  <a:lnTo>
                    <a:pt x="154" y="157"/>
                  </a:lnTo>
                  <a:lnTo>
                    <a:pt x="158" y="167"/>
                  </a:lnTo>
                  <a:lnTo>
                    <a:pt x="163" y="172"/>
                  </a:lnTo>
                  <a:lnTo>
                    <a:pt x="172" y="180"/>
                  </a:lnTo>
                  <a:lnTo>
                    <a:pt x="180" y="183"/>
                  </a:lnTo>
                  <a:lnTo>
                    <a:pt x="189" y="189"/>
                  </a:lnTo>
                  <a:lnTo>
                    <a:pt x="198" y="191"/>
                  </a:lnTo>
                  <a:lnTo>
                    <a:pt x="208" y="194"/>
                  </a:lnTo>
                  <a:lnTo>
                    <a:pt x="241" y="204"/>
                  </a:lnTo>
                  <a:lnTo>
                    <a:pt x="265" y="211"/>
                  </a:lnTo>
                  <a:lnTo>
                    <a:pt x="287" y="222"/>
                  </a:lnTo>
                  <a:lnTo>
                    <a:pt x="308" y="233"/>
                  </a:lnTo>
                  <a:lnTo>
                    <a:pt x="326" y="248"/>
                  </a:lnTo>
                  <a:lnTo>
                    <a:pt x="341" y="265"/>
                  </a:lnTo>
                  <a:lnTo>
                    <a:pt x="352" y="285"/>
                  </a:lnTo>
                  <a:lnTo>
                    <a:pt x="360" y="309"/>
                  </a:lnTo>
                  <a:lnTo>
                    <a:pt x="362" y="337"/>
                  </a:lnTo>
                  <a:lnTo>
                    <a:pt x="360" y="374"/>
                  </a:lnTo>
                  <a:lnTo>
                    <a:pt x="351" y="408"/>
                  </a:lnTo>
                  <a:lnTo>
                    <a:pt x="334" y="441"/>
                  </a:lnTo>
                  <a:lnTo>
                    <a:pt x="310" y="469"/>
                  </a:lnTo>
                  <a:lnTo>
                    <a:pt x="295" y="480"/>
                  </a:lnTo>
                  <a:lnTo>
                    <a:pt x="280" y="489"/>
                  </a:lnTo>
                  <a:lnTo>
                    <a:pt x="263" y="499"/>
                  </a:lnTo>
                  <a:lnTo>
                    <a:pt x="245" y="504"/>
                  </a:lnTo>
                  <a:lnTo>
                    <a:pt x="228" y="510"/>
                  </a:lnTo>
                  <a:lnTo>
                    <a:pt x="209" y="513"/>
                  </a:lnTo>
                  <a:lnTo>
                    <a:pt x="191" y="515"/>
                  </a:lnTo>
                  <a:lnTo>
                    <a:pt x="172" y="515"/>
                  </a:lnTo>
                  <a:lnTo>
                    <a:pt x="148" y="513"/>
                  </a:lnTo>
                  <a:lnTo>
                    <a:pt x="126" y="512"/>
                  </a:lnTo>
                  <a:lnTo>
                    <a:pt x="104" y="508"/>
                  </a:lnTo>
                  <a:lnTo>
                    <a:pt x="81" y="500"/>
                  </a:lnTo>
                  <a:lnTo>
                    <a:pt x="59" y="493"/>
                  </a:lnTo>
                  <a:lnTo>
                    <a:pt x="39" y="484"/>
                  </a:lnTo>
                  <a:lnTo>
                    <a:pt x="18" y="473"/>
                  </a:lnTo>
                  <a:lnTo>
                    <a:pt x="0" y="460"/>
                  </a:lnTo>
                  <a:lnTo>
                    <a:pt x="54" y="358"/>
                  </a:lnTo>
                  <a:lnTo>
                    <a:pt x="67" y="367"/>
                  </a:lnTo>
                  <a:lnTo>
                    <a:pt x="78" y="378"/>
                  </a:lnTo>
                  <a:lnTo>
                    <a:pt x="93" y="385"/>
                  </a:lnTo>
                  <a:lnTo>
                    <a:pt x="106" y="393"/>
                  </a:lnTo>
                  <a:lnTo>
                    <a:pt x="120" y="398"/>
                  </a:lnTo>
                  <a:lnTo>
                    <a:pt x="135" y="404"/>
                  </a:lnTo>
                  <a:lnTo>
                    <a:pt x="150" y="406"/>
                  </a:lnTo>
                  <a:lnTo>
                    <a:pt x="167" y="408"/>
                  </a:lnTo>
                  <a:lnTo>
                    <a:pt x="178" y="408"/>
                  </a:lnTo>
                  <a:lnTo>
                    <a:pt x="189" y="404"/>
                  </a:lnTo>
                  <a:lnTo>
                    <a:pt x="198" y="400"/>
                  </a:lnTo>
                  <a:lnTo>
                    <a:pt x="209" y="397"/>
                  </a:lnTo>
                  <a:lnTo>
                    <a:pt x="217" y="389"/>
                  </a:lnTo>
                  <a:lnTo>
                    <a:pt x="222" y="380"/>
                  </a:lnTo>
                  <a:lnTo>
                    <a:pt x="226" y="371"/>
                  </a:lnTo>
                  <a:lnTo>
                    <a:pt x="228" y="358"/>
                  </a:lnTo>
                  <a:lnTo>
                    <a:pt x="226" y="345"/>
                  </a:lnTo>
                  <a:lnTo>
                    <a:pt x="221" y="335"/>
                  </a:lnTo>
                  <a:lnTo>
                    <a:pt x="211" y="326"/>
                  </a:lnTo>
                  <a:lnTo>
                    <a:pt x="200" y="319"/>
                  </a:lnTo>
                  <a:lnTo>
                    <a:pt x="187" y="313"/>
                  </a:lnTo>
                  <a:lnTo>
                    <a:pt x="174" y="309"/>
                  </a:lnTo>
                  <a:lnTo>
                    <a:pt x="163" y="306"/>
                  </a:lnTo>
                  <a:lnTo>
                    <a:pt x="152" y="302"/>
                  </a:lnTo>
                  <a:lnTo>
                    <a:pt x="124" y="293"/>
                  </a:lnTo>
                  <a:lnTo>
                    <a:pt x="98" y="285"/>
                  </a:lnTo>
                  <a:lnTo>
                    <a:pt x="74" y="274"/>
                  </a:lnTo>
                  <a:lnTo>
                    <a:pt x="55" y="261"/>
                  </a:lnTo>
                  <a:lnTo>
                    <a:pt x="39" y="244"/>
                  </a:lnTo>
                  <a:lnTo>
                    <a:pt x="28" y="222"/>
                  </a:lnTo>
                  <a:lnTo>
                    <a:pt x="20" y="196"/>
                  </a:lnTo>
                  <a:lnTo>
                    <a:pt x="18" y="165"/>
                  </a:lnTo>
                  <a:lnTo>
                    <a:pt x="22" y="129"/>
                  </a:lnTo>
                  <a:lnTo>
                    <a:pt x="31" y="96"/>
                  </a:lnTo>
                  <a:lnTo>
                    <a:pt x="46" y="68"/>
                  </a:lnTo>
                  <a:lnTo>
                    <a:pt x="67" y="44"/>
                  </a:lnTo>
                  <a:lnTo>
                    <a:pt x="91" y="26"/>
                  </a:lnTo>
                  <a:lnTo>
                    <a:pt x="120" y="11"/>
                  </a:lnTo>
                  <a:lnTo>
                    <a:pt x="152" y="3"/>
                  </a:lnTo>
                  <a:lnTo>
                    <a:pt x="187" y="0"/>
                  </a:lnTo>
                  <a:lnTo>
                    <a:pt x="206" y="0"/>
                  </a:lnTo>
                  <a:lnTo>
                    <a:pt x="226" y="3"/>
                  </a:lnTo>
                  <a:lnTo>
                    <a:pt x="247" y="7"/>
                  </a:lnTo>
                  <a:lnTo>
                    <a:pt x="267" y="11"/>
                  </a:lnTo>
                  <a:lnTo>
                    <a:pt x="286" y="16"/>
                  </a:lnTo>
                  <a:lnTo>
                    <a:pt x="306" y="24"/>
                  </a:lnTo>
                  <a:lnTo>
                    <a:pt x="325" y="31"/>
                  </a:lnTo>
                  <a:lnTo>
                    <a:pt x="341" y="40"/>
                  </a:lnTo>
                  <a:lnTo>
                    <a:pt x="291" y="1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4068720" y="1805760"/>
              <a:ext cx="356400" cy="516960"/>
            </a:xfrm>
            <a:custGeom>
              <a:avLst/>
              <a:gdLst/>
              <a:ahLst/>
              <a:rect l="l" t="t" r="r" b="b"/>
              <a:pathLst>
                <a:path w="338" h="489">
                  <a:moveTo>
                    <a:pt x="232" y="489"/>
                  </a:moveTo>
                  <a:lnTo>
                    <a:pt x="106" y="489"/>
                  </a:lnTo>
                  <a:lnTo>
                    <a:pt x="106" y="107"/>
                  </a:lnTo>
                  <a:lnTo>
                    <a:pt x="0" y="107"/>
                  </a:lnTo>
                  <a:lnTo>
                    <a:pt x="0" y="0"/>
                  </a:lnTo>
                  <a:lnTo>
                    <a:pt x="338" y="0"/>
                  </a:lnTo>
                  <a:lnTo>
                    <a:pt x="338" y="107"/>
                  </a:lnTo>
                  <a:lnTo>
                    <a:pt x="232" y="107"/>
                  </a:lnTo>
                  <a:lnTo>
                    <a:pt x="232" y="4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4459320" y="2004120"/>
              <a:ext cx="556920" cy="336960"/>
            </a:xfrm>
            <a:custGeom>
              <a:avLst/>
              <a:gdLst/>
              <a:ahLst/>
              <a:rect l="l" t="t" r="r" b="b"/>
              <a:pathLst>
                <a:path w="529" h="319">
                  <a:moveTo>
                    <a:pt x="397" y="48"/>
                  </a:moveTo>
                  <a:lnTo>
                    <a:pt x="394" y="80"/>
                  </a:lnTo>
                  <a:lnTo>
                    <a:pt x="386" y="108"/>
                  </a:lnTo>
                  <a:lnTo>
                    <a:pt x="373" y="132"/>
                  </a:lnTo>
                  <a:lnTo>
                    <a:pt x="357" y="154"/>
                  </a:lnTo>
                  <a:lnTo>
                    <a:pt x="336" y="171"/>
                  </a:lnTo>
                  <a:lnTo>
                    <a:pt x="312" y="184"/>
                  </a:lnTo>
                  <a:lnTo>
                    <a:pt x="286" y="191"/>
                  </a:lnTo>
                  <a:lnTo>
                    <a:pt x="258" y="195"/>
                  </a:lnTo>
                  <a:lnTo>
                    <a:pt x="236" y="193"/>
                  </a:lnTo>
                  <a:lnTo>
                    <a:pt x="214" y="187"/>
                  </a:lnTo>
                  <a:lnTo>
                    <a:pt x="195" y="180"/>
                  </a:lnTo>
                  <a:lnTo>
                    <a:pt x="177" y="167"/>
                  </a:lnTo>
                  <a:lnTo>
                    <a:pt x="160" y="154"/>
                  </a:lnTo>
                  <a:lnTo>
                    <a:pt x="147" y="137"/>
                  </a:lnTo>
                  <a:lnTo>
                    <a:pt x="136" y="117"/>
                  </a:lnTo>
                  <a:lnTo>
                    <a:pt x="126" y="96"/>
                  </a:lnTo>
                  <a:lnTo>
                    <a:pt x="0" y="126"/>
                  </a:lnTo>
                  <a:lnTo>
                    <a:pt x="13" y="169"/>
                  </a:lnTo>
                  <a:lnTo>
                    <a:pt x="34" y="206"/>
                  </a:lnTo>
                  <a:lnTo>
                    <a:pt x="60" y="239"/>
                  </a:lnTo>
                  <a:lnTo>
                    <a:pt x="91" y="267"/>
                  </a:lnTo>
                  <a:lnTo>
                    <a:pt x="126" y="289"/>
                  </a:lnTo>
                  <a:lnTo>
                    <a:pt x="167" y="306"/>
                  </a:lnTo>
                  <a:lnTo>
                    <a:pt x="212" y="315"/>
                  </a:lnTo>
                  <a:lnTo>
                    <a:pt x="258" y="319"/>
                  </a:lnTo>
                  <a:lnTo>
                    <a:pt x="316" y="313"/>
                  </a:lnTo>
                  <a:lnTo>
                    <a:pt x="368" y="299"/>
                  </a:lnTo>
                  <a:lnTo>
                    <a:pt x="414" y="274"/>
                  </a:lnTo>
                  <a:lnTo>
                    <a:pt x="453" y="243"/>
                  </a:lnTo>
                  <a:lnTo>
                    <a:pt x="485" y="204"/>
                  </a:lnTo>
                  <a:lnTo>
                    <a:pt x="509" y="158"/>
                  </a:lnTo>
                  <a:lnTo>
                    <a:pt x="524" y="106"/>
                  </a:lnTo>
                  <a:lnTo>
                    <a:pt x="529" y="48"/>
                  </a:lnTo>
                  <a:lnTo>
                    <a:pt x="529" y="35"/>
                  </a:lnTo>
                  <a:lnTo>
                    <a:pt x="527" y="24"/>
                  </a:lnTo>
                  <a:lnTo>
                    <a:pt x="526" y="13"/>
                  </a:lnTo>
                  <a:lnTo>
                    <a:pt x="524" y="0"/>
                  </a:lnTo>
                  <a:lnTo>
                    <a:pt x="396" y="31"/>
                  </a:lnTo>
                  <a:lnTo>
                    <a:pt x="396" y="35"/>
                  </a:lnTo>
                  <a:lnTo>
                    <a:pt x="397" y="39"/>
                  </a:lnTo>
                  <a:lnTo>
                    <a:pt x="397" y="44"/>
                  </a:lnTo>
                  <a:lnTo>
                    <a:pt x="397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4446360" y="1788840"/>
              <a:ext cx="563040" cy="348120"/>
            </a:xfrm>
            <a:custGeom>
              <a:avLst/>
              <a:gdLst/>
              <a:ahLst/>
              <a:rect l="l" t="t" r="r" b="b"/>
              <a:pathLst>
                <a:path w="535" h="330">
                  <a:moveTo>
                    <a:pt x="269" y="0"/>
                  </a:moveTo>
                  <a:lnTo>
                    <a:pt x="217" y="5"/>
                  </a:lnTo>
                  <a:lnTo>
                    <a:pt x="167" y="18"/>
                  </a:lnTo>
                  <a:lnTo>
                    <a:pt x="123" y="41"/>
                  </a:lnTo>
                  <a:lnTo>
                    <a:pt x="82" y="70"/>
                  </a:lnTo>
                  <a:lnTo>
                    <a:pt x="48" y="107"/>
                  </a:lnTo>
                  <a:lnTo>
                    <a:pt x="22" y="150"/>
                  </a:lnTo>
                  <a:lnTo>
                    <a:pt x="6" y="198"/>
                  </a:lnTo>
                  <a:lnTo>
                    <a:pt x="0" y="252"/>
                  </a:lnTo>
                  <a:lnTo>
                    <a:pt x="0" y="273"/>
                  </a:lnTo>
                  <a:lnTo>
                    <a:pt x="4" y="293"/>
                  </a:lnTo>
                  <a:lnTo>
                    <a:pt x="6" y="312"/>
                  </a:lnTo>
                  <a:lnTo>
                    <a:pt x="11" y="330"/>
                  </a:lnTo>
                  <a:lnTo>
                    <a:pt x="137" y="300"/>
                  </a:lnTo>
                  <a:lnTo>
                    <a:pt x="136" y="289"/>
                  </a:lnTo>
                  <a:lnTo>
                    <a:pt x="134" y="276"/>
                  </a:lnTo>
                  <a:lnTo>
                    <a:pt x="132" y="265"/>
                  </a:lnTo>
                  <a:lnTo>
                    <a:pt x="132" y="252"/>
                  </a:lnTo>
                  <a:lnTo>
                    <a:pt x="134" y="228"/>
                  </a:lnTo>
                  <a:lnTo>
                    <a:pt x="143" y="204"/>
                  </a:lnTo>
                  <a:lnTo>
                    <a:pt x="156" y="182"/>
                  </a:lnTo>
                  <a:lnTo>
                    <a:pt x="173" y="163"/>
                  </a:lnTo>
                  <a:lnTo>
                    <a:pt x="193" y="146"/>
                  </a:lnTo>
                  <a:lnTo>
                    <a:pt x="215" y="135"/>
                  </a:lnTo>
                  <a:lnTo>
                    <a:pt x="241" y="126"/>
                  </a:lnTo>
                  <a:lnTo>
                    <a:pt x="269" y="124"/>
                  </a:lnTo>
                  <a:lnTo>
                    <a:pt x="295" y="126"/>
                  </a:lnTo>
                  <a:lnTo>
                    <a:pt x="318" y="133"/>
                  </a:lnTo>
                  <a:lnTo>
                    <a:pt x="340" y="145"/>
                  </a:lnTo>
                  <a:lnTo>
                    <a:pt x="360" y="158"/>
                  </a:lnTo>
                  <a:lnTo>
                    <a:pt x="377" y="174"/>
                  </a:lnTo>
                  <a:lnTo>
                    <a:pt x="392" y="193"/>
                  </a:lnTo>
                  <a:lnTo>
                    <a:pt x="401" y="213"/>
                  </a:lnTo>
                  <a:lnTo>
                    <a:pt x="407" y="235"/>
                  </a:lnTo>
                  <a:lnTo>
                    <a:pt x="535" y="204"/>
                  </a:lnTo>
                  <a:lnTo>
                    <a:pt x="522" y="161"/>
                  </a:lnTo>
                  <a:lnTo>
                    <a:pt x="501" y="120"/>
                  </a:lnTo>
                  <a:lnTo>
                    <a:pt x="473" y="87"/>
                  </a:lnTo>
                  <a:lnTo>
                    <a:pt x="440" y="57"/>
                  </a:lnTo>
                  <a:lnTo>
                    <a:pt x="403" y="33"/>
                  </a:lnTo>
                  <a:lnTo>
                    <a:pt x="360" y="15"/>
                  </a:lnTo>
                  <a:lnTo>
                    <a:pt x="316" y="4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5079600" y="1898280"/>
              <a:ext cx="392040" cy="424080"/>
            </a:xfrm>
            <a:custGeom>
              <a:avLst/>
              <a:gdLst/>
              <a:ahLst/>
              <a:rect l="l" t="t" r="r" b="b"/>
              <a:pathLst>
                <a:path w="373" h="402">
                  <a:moveTo>
                    <a:pt x="224" y="31"/>
                  </a:moveTo>
                  <a:lnTo>
                    <a:pt x="230" y="39"/>
                  </a:lnTo>
                  <a:lnTo>
                    <a:pt x="235" y="50"/>
                  </a:lnTo>
                  <a:lnTo>
                    <a:pt x="237" y="63"/>
                  </a:lnTo>
                  <a:lnTo>
                    <a:pt x="239" y="78"/>
                  </a:lnTo>
                  <a:lnTo>
                    <a:pt x="237" y="98"/>
                  </a:lnTo>
                  <a:lnTo>
                    <a:pt x="232" y="111"/>
                  </a:lnTo>
                  <a:lnTo>
                    <a:pt x="222" y="122"/>
                  </a:lnTo>
                  <a:lnTo>
                    <a:pt x="211" y="130"/>
                  </a:lnTo>
                  <a:lnTo>
                    <a:pt x="196" y="133"/>
                  </a:lnTo>
                  <a:lnTo>
                    <a:pt x="182" y="135"/>
                  </a:lnTo>
                  <a:lnTo>
                    <a:pt x="165" y="137"/>
                  </a:lnTo>
                  <a:lnTo>
                    <a:pt x="148" y="137"/>
                  </a:lnTo>
                  <a:lnTo>
                    <a:pt x="126" y="137"/>
                  </a:lnTo>
                  <a:lnTo>
                    <a:pt x="126" y="55"/>
                  </a:lnTo>
                  <a:lnTo>
                    <a:pt x="0" y="85"/>
                  </a:lnTo>
                  <a:lnTo>
                    <a:pt x="0" y="402"/>
                  </a:lnTo>
                  <a:lnTo>
                    <a:pt x="126" y="402"/>
                  </a:lnTo>
                  <a:lnTo>
                    <a:pt x="126" y="239"/>
                  </a:lnTo>
                  <a:lnTo>
                    <a:pt x="198" y="239"/>
                  </a:lnTo>
                  <a:lnTo>
                    <a:pt x="237" y="237"/>
                  </a:lnTo>
                  <a:lnTo>
                    <a:pt x="272" y="230"/>
                  </a:lnTo>
                  <a:lnTo>
                    <a:pt x="302" y="217"/>
                  </a:lnTo>
                  <a:lnTo>
                    <a:pt x="328" y="200"/>
                  </a:lnTo>
                  <a:lnTo>
                    <a:pt x="347" y="176"/>
                  </a:lnTo>
                  <a:lnTo>
                    <a:pt x="362" y="148"/>
                  </a:lnTo>
                  <a:lnTo>
                    <a:pt x="369" y="115"/>
                  </a:lnTo>
                  <a:lnTo>
                    <a:pt x="373" y="74"/>
                  </a:lnTo>
                  <a:lnTo>
                    <a:pt x="371" y="54"/>
                  </a:lnTo>
                  <a:lnTo>
                    <a:pt x="369" y="33"/>
                  </a:lnTo>
                  <a:lnTo>
                    <a:pt x="363" y="16"/>
                  </a:lnTo>
                  <a:lnTo>
                    <a:pt x="358" y="0"/>
                  </a:lnTo>
                  <a:lnTo>
                    <a:pt x="224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5079600" y="1805760"/>
              <a:ext cx="377280" cy="183600"/>
            </a:xfrm>
            <a:custGeom>
              <a:avLst/>
              <a:gdLst/>
              <a:ahLst/>
              <a:rect l="l" t="t" r="r" b="b"/>
              <a:pathLst>
                <a:path w="358" h="172">
                  <a:moveTo>
                    <a:pt x="126" y="102"/>
                  </a:moveTo>
                  <a:lnTo>
                    <a:pt x="148" y="102"/>
                  </a:lnTo>
                  <a:lnTo>
                    <a:pt x="159" y="102"/>
                  </a:lnTo>
                  <a:lnTo>
                    <a:pt x="170" y="102"/>
                  </a:lnTo>
                  <a:lnTo>
                    <a:pt x="182" y="103"/>
                  </a:lnTo>
                  <a:lnTo>
                    <a:pt x="193" y="103"/>
                  </a:lnTo>
                  <a:lnTo>
                    <a:pt x="202" y="107"/>
                  </a:lnTo>
                  <a:lnTo>
                    <a:pt x="209" y="109"/>
                  </a:lnTo>
                  <a:lnTo>
                    <a:pt x="217" y="113"/>
                  </a:lnTo>
                  <a:lnTo>
                    <a:pt x="224" y="118"/>
                  </a:lnTo>
                  <a:lnTo>
                    <a:pt x="358" y="87"/>
                  </a:lnTo>
                  <a:lnTo>
                    <a:pt x="347" y="66"/>
                  </a:lnTo>
                  <a:lnTo>
                    <a:pt x="332" y="48"/>
                  </a:lnTo>
                  <a:lnTo>
                    <a:pt x="315" y="33"/>
                  </a:lnTo>
                  <a:lnTo>
                    <a:pt x="297" y="20"/>
                  </a:lnTo>
                  <a:lnTo>
                    <a:pt x="274" y="11"/>
                  </a:lnTo>
                  <a:lnTo>
                    <a:pt x="250" y="5"/>
                  </a:lnTo>
                  <a:lnTo>
                    <a:pt x="222" y="1"/>
                  </a:lnTo>
                  <a:lnTo>
                    <a:pt x="194" y="0"/>
                  </a:lnTo>
                  <a:lnTo>
                    <a:pt x="0" y="0"/>
                  </a:lnTo>
                  <a:lnTo>
                    <a:pt x="0" y="172"/>
                  </a:lnTo>
                  <a:lnTo>
                    <a:pt x="126" y="142"/>
                  </a:lnTo>
                  <a:lnTo>
                    <a:pt x="126" y="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"/>
          <p:cNvSpPr/>
          <p:nvPr/>
        </p:nvSpPr>
        <p:spPr>
          <a:xfrm>
            <a:off x="971640" y="1844640"/>
            <a:ext cx="70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crans d’appréciation ou d’infor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"/>
          <p:cNvSpPr/>
          <p:nvPr/>
        </p:nvSpPr>
        <p:spPr>
          <a:xfrm>
            <a:off x="3500280" y="4286160"/>
            <a:ext cx="2427480" cy="100836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NON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3" name="" descr=""/>
          <p:cNvPicPr/>
          <p:nvPr/>
        </p:nvPicPr>
        <p:blipFill>
          <a:blip r:embed="rId1"/>
          <a:stretch/>
        </p:blipFill>
        <p:spPr>
          <a:xfrm>
            <a:off x="3295800" y="1260360"/>
            <a:ext cx="2757240" cy="2757600"/>
          </a:xfrm>
          <a:prstGeom prst="rect">
            <a:avLst/>
          </a:prstGeom>
          <a:ln w="0">
            <a:noFill/>
          </a:ln>
        </p:spPr>
      </p:pic>
      <p:sp>
        <p:nvSpPr>
          <p:cNvPr id="2944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 flipV="1">
            <a:off x="2241720" y="2155320"/>
            <a:ext cx="1944360" cy="19386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31640" y="2158560"/>
            <a:ext cx="5532120" cy="3599280"/>
            <a:chOff x="431640" y="2158560"/>
            <a:chExt cx="5532120" cy="3599280"/>
          </a:xfrm>
        </p:grpSpPr>
        <p:sp>
          <p:nvSpPr>
            <p:cNvPr id="49" name=""/>
            <p:cNvSpPr/>
            <p:nvPr/>
          </p:nvSpPr>
          <p:spPr>
            <a:xfrm flipV="1">
              <a:off x="2470320" y="2419200"/>
              <a:ext cx="0" cy="1190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533520" y="2418840"/>
              <a:ext cx="5375160" cy="3144960"/>
              <a:chOff x="533520" y="2418840"/>
              <a:chExt cx="5375160" cy="3144960"/>
            </a:xfrm>
          </p:grpSpPr>
          <p:grpSp>
            <p:nvGrpSpPr>
              <p:cNvPr id="51" name=""/>
              <p:cNvGrpSpPr/>
              <p:nvPr/>
            </p:nvGrpSpPr>
            <p:grpSpPr>
              <a:xfrm>
                <a:off x="533520" y="2418840"/>
                <a:ext cx="5372640" cy="3144960"/>
                <a:chOff x="533520" y="2418840"/>
                <a:chExt cx="5372640" cy="3144960"/>
              </a:xfrm>
            </p:grpSpPr>
            <p:grpSp>
              <p:nvGrpSpPr>
                <p:cNvPr id="52" name=""/>
                <p:cNvGrpSpPr/>
                <p:nvPr/>
              </p:nvGrpSpPr>
              <p:grpSpPr>
                <a:xfrm>
                  <a:off x="3951720" y="4039920"/>
                  <a:ext cx="337680" cy="1517760"/>
                  <a:chOff x="3951720" y="4039920"/>
                  <a:chExt cx="337680" cy="1517760"/>
                </a:xfrm>
              </p:grpSpPr>
              <p:sp>
                <p:nvSpPr>
                  <p:cNvPr id="53" name=""/>
                  <p:cNvSpPr/>
                  <p:nvPr/>
                </p:nvSpPr>
                <p:spPr>
                  <a:xfrm flipV="1">
                    <a:off x="3965760" y="4670640"/>
                    <a:ext cx="322920" cy="887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 flipH="1" flipV="1">
                    <a:off x="3959640" y="4358520"/>
                    <a:ext cx="328680" cy="311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 flipH="1" flipV="1">
                    <a:off x="3965400" y="4987440"/>
                    <a:ext cx="322920" cy="245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V="1">
                    <a:off x="3965760" y="4039920"/>
                    <a:ext cx="322920" cy="940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 flipV="1">
                    <a:off x="3951720" y="4052520"/>
                    <a:ext cx="323280" cy="32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3966120" y="4359600"/>
                    <a:ext cx="0" cy="1193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4289400" y="4046400"/>
                    <a:ext cx="0" cy="1193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533520" y="4047480"/>
                  <a:ext cx="325080" cy="1516320"/>
                  <a:chOff x="533520" y="4047480"/>
                  <a:chExt cx="325080" cy="15163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V="1">
                    <a:off x="534600" y="4673520"/>
                    <a:ext cx="323280" cy="88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flipV="1">
                    <a:off x="534600" y="4370760"/>
                    <a:ext cx="320400" cy="29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 flipH="1" flipV="1">
                    <a:off x="533520" y="4997880"/>
                    <a:ext cx="323280" cy="241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flipV="1">
                    <a:off x="534600" y="4047480"/>
                    <a:ext cx="321840" cy="944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V="1">
                    <a:off x="536760" y="4047840"/>
                    <a:ext cx="31752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" name=""/>
                  <p:cNvSpPr/>
                  <p:nvPr/>
                </p:nvSpPr>
                <p:spPr>
                  <a:xfrm>
                    <a:off x="535320" y="437112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flipH="1">
                    <a:off x="857160" y="4057920"/>
                    <a:ext cx="1440" cy="117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" name=""/>
                <p:cNvGrpSpPr/>
                <p:nvPr/>
              </p:nvGrpSpPr>
              <p:grpSpPr>
                <a:xfrm>
                  <a:off x="5580360" y="2418840"/>
                  <a:ext cx="325800" cy="1538640"/>
                  <a:chOff x="5580360" y="2418840"/>
                  <a:chExt cx="325800" cy="153864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 flipV="1">
                    <a:off x="5582880" y="3071160"/>
                    <a:ext cx="320400" cy="880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flipH="1" flipV="1">
                    <a:off x="5580360" y="2744280"/>
                    <a:ext cx="321840" cy="332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flipV="1">
                    <a:off x="5582880" y="3388320"/>
                    <a:ext cx="320400" cy="242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 flipV="1">
                    <a:off x="5581440" y="2421360"/>
                    <a:ext cx="31752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flipV="1">
                    <a:off x="5580720" y="2418840"/>
                    <a:ext cx="324720" cy="33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5585040" y="2739240"/>
                    <a:ext cx="0" cy="1218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 flipH="1">
                    <a:off x="5905080" y="2424600"/>
                    <a:ext cx="1080" cy="120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" name=""/>
                <p:cNvGrpSpPr/>
                <p:nvPr/>
              </p:nvGrpSpPr>
              <p:grpSpPr>
                <a:xfrm>
                  <a:off x="2152080" y="2421000"/>
                  <a:ext cx="323280" cy="1531440"/>
                  <a:chOff x="2152080" y="2421000"/>
                  <a:chExt cx="323280" cy="1531440"/>
                </a:xfrm>
              </p:grpSpPr>
              <p:sp>
                <p:nvSpPr>
                  <p:cNvPr id="77" name=""/>
                  <p:cNvSpPr/>
                  <p:nvPr/>
                </p:nvSpPr>
                <p:spPr>
                  <a:xfrm flipV="1">
                    <a:off x="2152080" y="3075840"/>
                    <a:ext cx="321840" cy="876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 flipH="1" flipV="1">
                    <a:off x="2153160" y="2748600"/>
                    <a:ext cx="318960" cy="32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 flipV="1">
                    <a:off x="2152080" y="3394800"/>
                    <a:ext cx="323280" cy="234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 flipV="1">
                    <a:off x="2152080" y="2421720"/>
                    <a:ext cx="32328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 flipV="1">
                    <a:off x="2153880" y="2422080"/>
                    <a:ext cx="31788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2152440" y="275508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2473200" y="2421000"/>
                    <a:ext cx="1080" cy="1208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4" name=""/>
              <p:cNvGrpSpPr/>
              <p:nvPr/>
            </p:nvGrpSpPr>
            <p:grpSpPr>
              <a:xfrm>
                <a:off x="537120" y="3070800"/>
                <a:ext cx="5371560" cy="1926000"/>
                <a:chOff x="537120" y="3070800"/>
                <a:chExt cx="5371560" cy="1926000"/>
              </a:xfrm>
            </p:grpSpPr>
            <p:sp>
              <p:nvSpPr>
                <p:cNvPr id="85" name=""/>
                <p:cNvSpPr/>
                <p:nvPr/>
              </p:nvSpPr>
              <p:spPr>
                <a:xfrm flipV="1">
                  <a:off x="3969360" y="466776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flipV="1">
                  <a:off x="537120" y="4675680"/>
                  <a:ext cx="32328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flipV="1">
                  <a:off x="5591160" y="3070800"/>
                  <a:ext cx="31752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flipV="1">
                  <a:off x="2157120" y="3076560"/>
                  <a:ext cx="32040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" name=""/>
            <p:cNvGrpSpPr/>
            <p:nvPr/>
          </p:nvGrpSpPr>
          <p:grpSpPr>
            <a:xfrm>
              <a:off x="431640" y="3668760"/>
              <a:ext cx="5532120" cy="2089080"/>
              <a:chOff x="431640" y="3668760"/>
              <a:chExt cx="5532120" cy="2089080"/>
            </a:xfrm>
          </p:grpSpPr>
          <p:grpSp>
            <p:nvGrpSpPr>
              <p:cNvPr id="90" name=""/>
              <p:cNvGrpSpPr/>
              <p:nvPr/>
            </p:nvGrpSpPr>
            <p:grpSpPr>
              <a:xfrm>
                <a:off x="4189320" y="3987000"/>
                <a:ext cx="1452240" cy="1449360"/>
                <a:chOff x="4189320" y="3987000"/>
                <a:chExt cx="1452240" cy="14493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482440" y="398700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5163480" y="4302720"/>
                  <a:ext cx="159840" cy="160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835880" y="4627080"/>
                  <a:ext cx="15984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13680" y="4947840"/>
                  <a:ext cx="1634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189320" y="5276880"/>
                  <a:ext cx="15876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761760" y="3985920"/>
                <a:ext cx="1447920" cy="1442160"/>
                <a:chOff x="761760" y="3985920"/>
                <a:chExt cx="1447920" cy="14421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050560" y="398592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1729800" y="4304520"/>
                  <a:ext cx="159120" cy="1612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1408320" y="462708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080720" y="4948920"/>
                  <a:ext cx="16020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61760" y="526860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2367720" y="3668760"/>
                <a:ext cx="3596040" cy="162000"/>
                <a:chOff x="2367720" y="3668760"/>
                <a:chExt cx="3596040" cy="16200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5804640" y="366912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367720" y="366912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676400" y="366876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938680" y="367092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48804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087080" y="36687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24268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431640" y="5596200"/>
                <a:ext cx="3595320" cy="161640"/>
                <a:chOff x="431640" y="5596200"/>
                <a:chExt cx="3595320" cy="16164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43164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867480" y="5596200"/>
                  <a:ext cx="15948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9993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55160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741040" y="559800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3159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2473200" y="2424240"/>
              <a:ext cx="3434040" cy="1209600"/>
              <a:chOff x="2473200" y="2424240"/>
              <a:chExt cx="3434040" cy="1209600"/>
            </a:xfrm>
          </p:grpSpPr>
          <p:sp>
            <p:nvSpPr>
              <p:cNvPr id="118" name=""/>
              <p:cNvSpPr/>
              <p:nvPr/>
            </p:nvSpPr>
            <p:spPr>
              <a:xfrm>
                <a:off x="2473200" y="24242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473560" y="275256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2473920" y="3332880"/>
                <a:ext cx="3427560" cy="14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2475000" y="3075840"/>
                <a:ext cx="342216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76080" y="36338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31720" y="2749680"/>
              <a:ext cx="1941120" cy="2812680"/>
              <a:chOff x="531720" y="2749680"/>
              <a:chExt cx="1941120" cy="2812680"/>
            </a:xfrm>
          </p:grpSpPr>
          <p:sp>
            <p:nvSpPr>
              <p:cNvPr id="124" name=""/>
              <p:cNvSpPr/>
              <p:nvPr/>
            </p:nvSpPr>
            <p:spPr>
              <a:xfrm flipV="1">
                <a:off x="535680" y="2749680"/>
                <a:ext cx="1935720" cy="192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531720" y="3080160"/>
                <a:ext cx="1940040" cy="191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>
                <a:off x="532800" y="3346200"/>
                <a:ext cx="1940040" cy="1935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532800" y="3632760"/>
                <a:ext cx="1937160" cy="1929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531720" y="2158920"/>
              <a:ext cx="5372280" cy="3412800"/>
              <a:chOff x="531720" y="2158920"/>
              <a:chExt cx="5372280" cy="3412800"/>
            </a:xfrm>
          </p:grpSpPr>
          <p:grpSp>
            <p:nvGrpSpPr>
              <p:cNvPr id="129" name=""/>
              <p:cNvGrpSpPr/>
              <p:nvPr/>
            </p:nvGrpSpPr>
            <p:grpSpPr>
              <a:xfrm>
                <a:off x="2473200" y="2158920"/>
                <a:ext cx="3430800" cy="1476720"/>
                <a:chOff x="2473200" y="2158920"/>
                <a:chExt cx="3430800" cy="147672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5355000" y="2341800"/>
                  <a:ext cx="0" cy="129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904000" y="2439000"/>
                  <a:ext cx="0" cy="1196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782240" y="2248200"/>
                  <a:ext cx="0" cy="138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189680" y="2158920"/>
                  <a:ext cx="0" cy="147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3594960" y="2251800"/>
                  <a:ext cx="0" cy="138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73200" y="2433600"/>
                  <a:ext cx="0" cy="120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046680" y="2336760"/>
                  <a:ext cx="0" cy="1298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31720" y="4102200"/>
                <a:ext cx="3433320" cy="1469520"/>
                <a:chOff x="531720" y="4102200"/>
                <a:chExt cx="3433320" cy="1469520"/>
              </a:xfrm>
            </p:grpSpPr>
            <p:sp>
              <p:nvSpPr>
                <p:cNvPr id="138" name=""/>
                <p:cNvSpPr/>
                <p:nvPr/>
              </p:nvSpPr>
              <p:spPr>
                <a:xfrm flipH="1">
                  <a:off x="2248920" y="4102200"/>
                  <a:ext cx="1440" cy="57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415680" y="4284720"/>
                  <a:ext cx="0" cy="128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5040" y="43657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842920" y="4197960"/>
                  <a:ext cx="0" cy="1368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655280" y="4190400"/>
                  <a:ext cx="0" cy="137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31720" y="4368600"/>
                  <a:ext cx="72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107000" y="4280400"/>
                  <a:ext cx="0" cy="128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5" name=""/>
            <p:cNvGrpSpPr/>
            <p:nvPr/>
          </p:nvGrpSpPr>
          <p:grpSpPr>
            <a:xfrm>
              <a:off x="857160" y="2484360"/>
              <a:ext cx="4724640" cy="2750400"/>
              <a:chOff x="857160" y="2484360"/>
              <a:chExt cx="4724640" cy="275040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857160" y="3781080"/>
                <a:ext cx="3430800" cy="1453680"/>
                <a:chOff x="857160" y="3781080"/>
                <a:chExt cx="3430800" cy="1453680"/>
              </a:xfrm>
            </p:grpSpPr>
            <p:sp>
              <p:nvSpPr>
                <p:cNvPr id="147" name=""/>
                <p:cNvSpPr/>
                <p:nvPr/>
              </p:nvSpPr>
              <p:spPr>
                <a:xfrm flipV="1">
                  <a:off x="857160" y="4044960"/>
                  <a:ext cx="0" cy="1189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857160" y="3781080"/>
                  <a:ext cx="1715400" cy="264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V="1">
                  <a:off x="4287960" y="4044960"/>
                  <a:ext cx="0" cy="1189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 flipV="1">
                  <a:off x="2572200" y="3781080"/>
                  <a:ext cx="1715400" cy="264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1180440" y="2484360"/>
                <a:ext cx="4401360" cy="2437920"/>
                <a:chOff x="1180440" y="2484360"/>
                <a:chExt cx="4401360" cy="2437920"/>
              </a:xfrm>
            </p:grpSpPr>
            <p:grpSp>
              <p:nvGrpSpPr>
                <p:cNvPr id="152" name=""/>
                <p:cNvGrpSpPr/>
                <p:nvPr/>
              </p:nvGrpSpPr>
              <p:grpSpPr>
                <a:xfrm>
                  <a:off x="1180440" y="3456360"/>
                  <a:ext cx="3431520" cy="1465920"/>
                  <a:chOff x="1180440" y="3456360"/>
                  <a:chExt cx="3431520" cy="1465920"/>
                </a:xfrm>
              </p:grpSpPr>
              <p:sp>
                <p:nvSpPr>
                  <p:cNvPr id="153" name=""/>
                  <p:cNvSpPr/>
                  <p:nvPr/>
                </p:nvSpPr>
                <p:spPr>
                  <a:xfrm flipV="1">
                    <a:off x="1180440" y="3722040"/>
                    <a:ext cx="0" cy="1195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flipV="1">
                    <a:off x="1180440" y="3456360"/>
                    <a:ext cx="1716120" cy="2653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flipV="1">
                    <a:off x="4611960" y="3721680"/>
                    <a:ext cx="0" cy="1200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flipH="1" flipV="1">
                    <a:off x="2896200" y="3456360"/>
                    <a:ext cx="1715400" cy="2653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1502280" y="3132000"/>
                  <a:ext cx="3432960" cy="1463760"/>
                  <a:chOff x="1502280" y="3132000"/>
                  <a:chExt cx="3432960" cy="146376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 flipV="1">
                    <a:off x="1502280" y="3398400"/>
                    <a:ext cx="0" cy="1197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flipV="1">
                    <a:off x="1502280" y="3132000"/>
                    <a:ext cx="171648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 flipV="1">
                    <a:off x="4935240" y="3398400"/>
                    <a:ext cx="0" cy="1197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 flipH="1" flipV="1">
                    <a:off x="3218760" y="3132000"/>
                    <a:ext cx="171648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" name=""/>
                <p:cNvGrpSpPr/>
                <p:nvPr/>
              </p:nvGrpSpPr>
              <p:grpSpPr>
                <a:xfrm>
                  <a:off x="1827000" y="2808000"/>
                  <a:ext cx="3431520" cy="1464480"/>
                  <a:chOff x="1827000" y="2808000"/>
                  <a:chExt cx="3431520" cy="146448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 flipV="1">
                    <a:off x="1827000" y="3074400"/>
                    <a:ext cx="0" cy="1198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 flipV="1">
                    <a:off x="1827000" y="2808000"/>
                    <a:ext cx="171576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V="1">
                    <a:off x="5258520" y="3074400"/>
                    <a:ext cx="0" cy="1198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 flipH="1" flipV="1">
                    <a:off x="3542760" y="2808000"/>
                    <a:ext cx="171576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7" name=""/>
                <p:cNvGrpSpPr/>
                <p:nvPr/>
              </p:nvGrpSpPr>
              <p:grpSpPr>
                <a:xfrm>
                  <a:off x="2151000" y="2484360"/>
                  <a:ext cx="3430800" cy="1472400"/>
                  <a:chOff x="2151000" y="2484360"/>
                  <a:chExt cx="3430800" cy="147240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flipV="1">
                    <a:off x="2151000" y="2751840"/>
                    <a:ext cx="0" cy="1204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flipV="1">
                    <a:off x="2151000" y="2484360"/>
                    <a:ext cx="1715400" cy="267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V="1">
                    <a:off x="5581800" y="2751840"/>
                    <a:ext cx="0" cy="1204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flipH="1" flipV="1">
                    <a:off x="3866040" y="2484360"/>
                    <a:ext cx="1715400" cy="267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72" name=""/>
            <p:cNvGrpSpPr/>
            <p:nvPr/>
          </p:nvGrpSpPr>
          <p:grpSpPr>
            <a:xfrm>
              <a:off x="525600" y="2160720"/>
              <a:ext cx="5378400" cy="2209320"/>
              <a:chOff x="525600" y="2160720"/>
              <a:chExt cx="5378400" cy="220932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2151720" y="2160720"/>
                <a:ext cx="3752280" cy="588960"/>
                <a:chOff x="2151720" y="2160720"/>
                <a:chExt cx="3752280" cy="588960"/>
              </a:xfrm>
            </p:grpSpPr>
            <p:sp>
              <p:nvSpPr>
                <p:cNvPr id="174" name=""/>
                <p:cNvSpPr/>
                <p:nvPr/>
              </p:nvSpPr>
              <p:spPr>
                <a:xfrm flipV="1">
                  <a:off x="5586480" y="24210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V="1">
                  <a:off x="3869280" y="2160720"/>
                  <a:ext cx="321840" cy="32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>
                  <a:off x="4461840" y="22514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V="1">
                  <a:off x="2152080" y="2424960"/>
                  <a:ext cx="32436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V="1">
                  <a:off x="2724120" y="23382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V="1">
                  <a:off x="3274920" y="225432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2151720" y="2160720"/>
                  <a:ext cx="3748320" cy="588960"/>
                  <a:chOff x="2151720" y="2160720"/>
                  <a:chExt cx="3748320" cy="58896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 flipH="1" flipV="1">
                    <a:off x="4188960" y="2160720"/>
                    <a:ext cx="26640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 flipH="1">
                    <a:off x="3274200" y="2161080"/>
                    <a:ext cx="912960" cy="413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flipH="1" flipV="1">
                    <a:off x="5353920" y="2337480"/>
                    <a:ext cx="22536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 flipV="1">
                    <a:off x="5025240" y="2422080"/>
                    <a:ext cx="874800" cy="24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 flipH="1" flipV="1">
                    <a:off x="4782240" y="2251800"/>
                    <a:ext cx="242640" cy="411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flipH="1">
                    <a:off x="4458240" y="2335320"/>
                    <a:ext cx="896400" cy="240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H="1">
                    <a:off x="3871800" y="2247840"/>
                    <a:ext cx="909720" cy="23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 flipH="1" flipV="1">
                    <a:off x="3593160" y="2254680"/>
                    <a:ext cx="28584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flipH="1" flipV="1">
                    <a:off x="3045960" y="2335320"/>
                    <a:ext cx="236160" cy="241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 flipH="1">
                    <a:off x="2720520" y="2256480"/>
                    <a:ext cx="873720" cy="406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 flipH="1" flipV="1">
                    <a:off x="2478600" y="2426400"/>
                    <a:ext cx="23940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H="1">
                    <a:off x="2151720" y="2336760"/>
                    <a:ext cx="894240" cy="410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 flipV="1">
                    <a:off x="2479680" y="2162880"/>
                    <a:ext cx="1708200" cy="25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 flipV="1">
                    <a:off x="2167560" y="2481840"/>
                    <a:ext cx="1705320" cy="263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3870360" y="2480400"/>
                    <a:ext cx="1710360" cy="269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4195080" y="2160720"/>
                    <a:ext cx="169776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7" name=""/>
                <p:cNvSpPr/>
                <p:nvPr/>
              </p:nvSpPr>
              <p:spPr>
                <a:xfrm flipV="1">
                  <a:off x="5026320" y="2337480"/>
                  <a:ext cx="326160" cy="326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25600" y="3780000"/>
                <a:ext cx="3754440" cy="590040"/>
                <a:chOff x="525600" y="3780000"/>
                <a:chExt cx="3754440" cy="590040"/>
              </a:xfrm>
            </p:grpSpPr>
            <p:sp>
              <p:nvSpPr>
                <p:cNvPr id="199" name=""/>
                <p:cNvSpPr/>
                <p:nvPr/>
              </p:nvSpPr>
              <p:spPr>
                <a:xfrm flipV="1">
                  <a:off x="3956760" y="4044600"/>
                  <a:ext cx="32184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V="1">
                  <a:off x="2839320" y="3871800"/>
                  <a:ext cx="320400" cy="320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V="1">
                  <a:off x="2243880" y="3784680"/>
                  <a:ext cx="316080" cy="315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240640" y="4100760"/>
                  <a:ext cx="171612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 flipV="1">
                  <a:off x="2565000" y="3782160"/>
                  <a:ext cx="26784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H="1" flipV="1">
                  <a:off x="3731400" y="3960720"/>
                  <a:ext cx="228240" cy="40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V="1">
                  <a:off x="3408120" y="4045320"/>
                  <a:ext cx="866160" cy="238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 flipV="1">
                  <a:off x="3160800" y="3873960"/>
                  <a:ext cx="24840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>
                  <a:off x="2832840" y="3960000"/>
                  <a:ext cx="896400" cy="236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>
                  <a:off x="2242440" y="3872520"/>
                  <a:ext cx="91944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569680" y="3780720"/>
                  <a:ext cx="1710360" cy="264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V="1">
                  <a:off x="3409560" y="3960000"/>
                  <a:ext cx="32040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V="1">
                  <a:off x="1652760" y="3868920"/>
                  <a:ext cx="32040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V="1">
                  <a:off x="1101600" y="3952800"/>
                  <a:ext cx="322920" cy="325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V="1">
                  <a:off x="535320" y="4100760"/>
                  <a:ext cx="170496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V="1">
                  <a:off x="851400" y="3780720"/>
                  <a:ext cx="1722240" cy="262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flipH="1">
                  <a:off x="1650240" y="3780000"/>
                  <a:ext cx="9172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 flipH="1" flipV="1">
                  <a:off x="1970640" y="3872160"/>
                  <a:ext cx="26856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flipV="1">
                  <a:off x="1422000" y="3952800"/>
                  <a:ext cx="227520" cy="239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1104120" y="3876840"/>
                  <a:ext cx="859680" cy="403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 flipV="1">
                  <a:off x="852120" y="4042440"/>
                  <a:ext cx="246600" cy="235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529200" y="3955680"/>
                  <a:ext cx="88992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V="1">
                  <a:off x="525600" y="4044240"/>
                  <a:ext cx="325800" cy="325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2" name=""/>
            <p:cNvGrpSpPr/>
            <p:nvPr/>
          </p:nvGrpSpPr>
          <p:grpSpPr>
            <a:xfrm>
              <a:off x="533520" y="2422440"/>
              <a:ext cx="5368320" cy="1944720"/>
              <a:chOff x="533520" y="2422440"/>
              <a:chExt cx="5368320" cy="1944720"/>
            </a:xfrm>
          </p:grpSpPr>
          <p:sp>
            <p:nvSpPr>
              <p:cNvPr id="223" name=""/>
              <p:cNvSpPr/>
              <p:nvPr/>
            </p:nvSpPr>
            <p:spPr>
              <a:xfrm flipV="1">
                <a:off x="3955680" y="2422440"/>
                <a:ext cx="1946160" cy="1944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533520" y="2422440"/>
                <a:ext cx="1940760" cy="1944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779400" y="2204640"/>
              <a:ext cx="4847760" cy="2130480"/>
              <a:chOff x="779400" y="2204640"/>
              <a:chExt cx="4847760" cy="2130480"/>
            </a:xfrm>
          </p:grpSpPr>
          <p:sp>
            <p:nvSpPr>
              <p:cNvPr id="226" name=""/>
              <p:cNvSpPr/>
              <p:nvPr/>
            </p:nvSpPr>
            <p:spPr>
              <a:xfrm flipV="1">
                <a:off x="2548440" y="2204640"/>
                <a:ext cx="19350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2841480" y="2248920"/>
                <a:ext cx="19407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V="1">
                <a:off x="3413160" y="2341080"/>
                <a:ext cx="193212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3681000" y="2384640"/>
                <a:ext cx="19461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V="1">
                <a:off x="779400" y="2381400"/>
                <a:ext cx="1985400" cy="1953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1103040" y="2338560"/>
                <a:ext cx="1938600" cy="194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1655280" y="2247480"/>
                <a:ext cx="194292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1934640" y="2204640"/>
                <a:ext cx="1973520" cy="1950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V="1">
                <a:off x="1371600" y="2298600"/>
                <a:ext cx="194796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3124440" y="2290680"/>
                <a:ext cx="1940760" cy="1947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"/>
            <p:cNvGrpSpPr/>
            <p:nvPr/>
          </p:nvGrpSpPr>
          <p:grpSpPr>
            <a:xfrm>
              <a:off x="531720" y="4368600"/>
              <a:ext cx="3430800" cy="1198080"/>
              <a:chOff x="531720" y="4368600"/>
              <a:chExt cx="3430800" cy="1198080"/>
            </a:xfrm>
          </p:grpSpPr>
          <p:sp>
            <p:nvSpPr>
              <p:cNvPr id="237" name=""/>
              <p:cNvSpPr/>
              <p:nvPr/>
            </p:nvSpPr>
            <p:spPr>
              <a:xfrm flipV="1">
                <a:off x="2842200" y="5565600"/>
                <a:ext cx="11178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532080" y="4368600"/>
                <a:ext cx="3430440" cy="3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31720" y="4678920"/>
                <a:ext cx="343008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839320" y="5276880"/>
                <a:ext cx="11217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532080" y="4999320"/>
                <a:ext cx="112284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842200" y="4991400"/>
                <a:ext cx="11203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32800" y="5281200"/>
                <a:ext cx="11196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34240" y="5564520"/>
                <a:ext cx="1116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3960720" y="2754360"/>
              <a:ext cx="1943280" cy="2809800"/>
              <a:chOff x="3960720" y="2754360"/>
              <a:chExt cx="1943280" cy="2809800"/>
            </a:xfrm>
          </p:grpSpPr>
          <p:sp>
            <p:nvSpPr>
              <p:cNvPr id="246" name=""/>
              <p:cNvSpPr/>
              <p:nvPr/>
            </p:nvSpPr>
            <p:spPr>
              <a:xfrm flipV="1">
                <a:off x="3960720" y="3636000"/>
                <a:ext cx="1943280" cy="1928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3964680" y="2754360"/>
                <a:ext cx="1937520" cy="1925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3963240" y="3076200"/>
                <a:ext cx="1939320" cy="1913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3961800" y="3332880"/>
                <a:ext cx="19404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 flipV="1">
              <a:off x="531720" y="4101840"/>
              <a:ext cx="1714680" cy="2667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flipV="1">
              <a:off x="2249640" y="4103280"/>
              <a:ext cx="1715760" cy="2667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530280" y="4363920"/>
              <a:ext cx="0" cy="1190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3960720" y="4363920"/>
              <a:ext cx="0" cy="1190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5900760" y="2419200"/>
              <a:ext cx="0" cy="1190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2479680" y="2158560"/>
              <a:ext cx="1714320" cy="2653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4193640" y="2158560"/>
              <a:ext cx="1714680" cy="2653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62000" y="528480"/>
            <a:ext cx="87818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ux éléments supportent la panne faîtière. Lesquel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rId1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rId2" action="ppaction://hlinksldjump"/>
          </p:cNvPr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rId3" action="ppaction://hlinksldjump"/>
          </p:cNvPr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rId4" action="ppaction://hlinksldjump"/>
          </p:cNvPr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rId5" action="ppaction://hlinksldjump"/>
          </p:cNvPr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rId6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rId7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rId8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rId9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rId10" action="ppaction://hlinksldjump"/>
          </p:cNvPr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>
            <a:hlinkClick r:id="rId11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es bonnes répo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2247840" y="2157480"/>
            <a:ext cx="1944720" cy="193824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5" name="" descr=""/>
          <p:cNvPicPr/>
          <p:nvPr/>
        </p:nvPicPr>
        <p:blipFill>
          <a:blip r:embed="rId1"/>
          <a:stretch/>
        </p:blipFill>
        <p:spPr>
          <a:xfrm>
            <a:off x="3508200" y="1957320"/>
            <a:ext cx="2106720" cy="2106720"/>
          </a:xfrm>
          <a:prstGeom prst="rect">
            <a:avLst/>
          </a:prstGeom>
          <a:ln w="0">
            <a:noFill/>
          </a:ln>
        </p:spPr>
      </p:pic>
      <p:sp>
        <p:nvSpPr>
          <p:cNvPr id="2946" name=""/>
          <p:cNvSpPr/>
          <p:nvPr/>
        </p:nvSpPr>
        <p:spPr>
          <a:xfrm>
            <a:off x="2898720" y="4165560"/>
            <a:ext cx="3343320" cy="8251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ERREUR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"/>
          <p:cNvSpPr/>
          <p:nvPr/>
        </p:nvSpPr>
        <p:spPr>
          <a:xfrm>
            <a:off x="0" y="3787920"/>
            <a:ext cx="9144000" cy="10994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FAUX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1" name="" descr=""/>
          <p:cNvPicPr/>
          <p:nvPr/>
        </p:nvPicPr>
        <p:blipFill>
          <a:blip r:embed="rId1"/>
          <a:stretch/>
        </p:blipFill>
        <p:spPr>
          <a:xfrm>
            <a:off x="3417840" y="1333440"/>
            <a:ext cx="2330640" cy="2330640"/>
          </a:xfrm>
          <a:prstGeom prst="rect">
            <a:avLst/>
          </a:prstGeom>
          <a:ln w="0">
            <a:noFill/>
          </a:ln>
        </p:spPr>
      </p:pic>
      <p:sp>
        <p:nvSpPr>
          <p:cNvPr id="2952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3" name=""/>
          <p:cNvSpPr/>
          <p:nvPr/>
        </p:nvSpPr>
        <p:spPr>
          <a:xfrm>
            <a:off x="0" y="4122720"/>
            <a:ext cx="9144000" cy="10994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NON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5" name="" descr=""/>
          <p:cNvPicPr/>
          <p:nvPr/>
        </p:nvPicPr>
        <p:blipFill>
          <a:blip r:embed="rId1"/>
          <a:stretch/>
        </p:blipFill>
        <p:spPr>
          <a:xfrm>
            <a:off x="3111480" y="1225440"/>
            <a:ext cx="2757600" cy="2757600"/>
          </a:xfrm>
          <a:prstGeom prst="rect">
            <a:avLst/>
          </a:prstGeom>
          <a:ln w="0">
            <a:noFill/>
          </a:ln>
        </p:spPr>
      </p:pic>
      <p:sp>
        <p:nvSpPr>
          <p:cNvPr id="2956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"/>
          <p:cNvSpPr/>
          <p:nvPr/>
        </p:nvSpPr>
        <p:spPr>
          <a:xfrm>
            <a:off x="0" y="4780080"/>
            <a:ext cx="9144000" cy="10994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FAUX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1954080" y="496800"/>
            <a:ext cx="52372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1" name=""/>
          <p:cNvSpPr/>
          <p:nvPr/>
        </p:nvSpPr>
        <p:spPr>
          <a:xfrm>
            <a:off x="2738520" y="5446800"/>
            <a:ext cx="40464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ERREUR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4" name=""/>
          <p:cNvGrpSpPr/>
          <p:nvPr/>
        </p:nvGrpSpPr>
        <p:grpSpPr>
          <a:xfrm>
            <a:off x="2297160" y="631800"/>
            <a:ext cx="4686840" cy="4613400"/>
            <a:chOff x="2297160" y="631800"/>
            <a:chExt cx="4686840" cy="4613400"/>
          </a:xfrm>
        </p:grpSpPr>
        <p:sp>
          <p:nvSpPr>
            <p:cNvPr id="2965" name=""/>
            <p:cNvSpPr/>
            <p:nvPr/>
          </p:nvSpPr>
          <p:spPr>
            <a:xfrm>
              <a:off x="4146480" y="2506680"/>
              <a:ext cx="1204920" cy="1365120"/>
            </a:xfrm>
            <a:custGeom>
              <a:avLst/>
              <a:gdLst/>
              <a:ahLst/>
              <a:rect l="l" t="t" r="r" b="b"/>
              <a:pathLst>
                <a:path w="274" h="310">
                  <a:moveTo>
                    <a:pt x="20" y="23"/>
                  </a:moveTo>
                  <a:lnTo>
                    <a:pt x="34" y="14"/>
                  </a:lnTo>
                  <a:lnTo>
                    <a:pt x="59" y="5"/>
                  </a:lnTo>
                  <a:lnTo>
                    <a:pt x="76" y="0"/>
                  </a:lnTo>
                  <a:lnTo>
                    <a:pt x="102" y="3"/>
                  </a:lnTo>
                  <a:lnTo>
                    <a:pt x="131" y="8"/>
                  </a:lnTo>
                  <a:lnTo>
                    <a:pt x="151" y="16"/>
                  </a:lnTo>
                  <a:lnTo>
                    <a:pt x="170" y="33"/>
                  </a:lnTo>
                  <a:lnTo>
                    <a:pt x="188" y="53"/>
                  </a:lnTo>
                  <a:lnTo>
                    <a:pt x="197" y="83"/>
                  </a:lnTo>
                  <a:lnTo>
                    <a:pt x="205" y="107"/>
                  </a:lnTo>
                  <a:lnTo>
                    <a:pt x="218" y="127"/>
                  </a:lnTo>
                  <a:lnTo>
                    <a:pt x="232" y="143"/>
                  </a:lnTo>
                  <a:lnTo>
                    <a:pt x="248" y="163"/>
                  </a:lnTo>
                  <a:lnTo>
                    <a:pt x="259" y="180"/>
                  </a:lnTo>
                  <a:lnTo>
                    <a:pt x="270" y="201"/>
                  </a:lnTo>
                  <a:lnTo>
                    <a:pt x="274" y="221"/>
                  </a:lnTo>
                  <a:lnTo>
                    <a:pt x="274" y="242"/>
                  </a:lnTo>
                  <a:lnTo>
                    <a:pt x="271" y="258"/>
                  </a:lnTo>
                  <a:lnTo>
                    <a:pt x="264" y="276"/>
                  </a:lnTo>
                  <a:lnTo>
                    <a:pt x="255" y="286"/>
                  </a:lnTo>
                  <a:lnTo>
                    <a:pt x="244" y="297"/>
                  </a:lnTo>
                  <a:lnTo>
                    <a:pt x="231" y="305"/>
                  </a:lnTo>
                  <a:lnTo>
                    <a:pt x="212" y="310"/>
                  </a:lnTo>
                  <a:lnTo>
                    <a:pt x="192" y="310"/>
                  </a:lnTo>
                  <a:lnTo>
                    <a:pt x="173" y="305"/>
                  </a:lnTo>
                  <a:lnTo>
                    <a:pt x="158" y="294"/>
                  </a:lnTo>
                  <a:lnTo>
                    <a:pt x="146" y="280"/>
                  </a:lnTo>
                  <a:lnTo>
                    <a:pt x="133" y="258"/>
                  </a:lnTo>
                  <a:lnTo>
                    <a:pt x="125" y="234"/>
                  </a:lnTo>
                  <a:lnTo>
                    <a:pt x="119" y="208"/>
                  </a:lnTo>
                  <a:lnTo>
                    <a:pt x="114" y="182"/>
                  </a:lnTo>
                  <a:lnTo>
                    <a:pt x="105" y="159"/>
                  </a:lnTo>
                  <a:lnTo>
                    <a:pt x="95" y="143"/>
                  </a:lnTo>
                  <a:lnTo>
                    <a:pt x="83" y="135"/>
                  </a:lnTo>
                  <a:lnTo>
                    <a:pt x="57" y="128"/>
                  </a:lnTo>
                  <a:lnTo>
                    <a:pt x="37" y="118"/>
                  </a:lnTo>
                  <a:lnTo>
                    <a:pt x="22" y="105"/>
                  </a:lnTo>
                  <a:lnTo>
                    <a:pt x="9" y="85"/>
                  </a:lnTo>
                  <a:lnTo>
                    <a:pt x="2" y="63"/>
                  </a:lnTo>
                  <a:lnTo>
                    <a:pt x="0" y="44"/>
                  </a:lnTo>
                  <a:lnTo>
                    <a:pt x="9" y="31"/>
                  </a:lnTo>
                  <a:lnTo>
                    <a:pt x="20" y="23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5105520" y="3355920"/>
              <a:ext cx="1461960" cy="990720"/>
            </a:xfrm>
            <a:custGeom>
              <a:avLst/>
              <a:gdLst/>
              <a:ahLst/>
              <a:rect l="l" t="t" r="r" b="b"/>
              <a:pathLst>
                <a:path w="332" h="225">
                  <a:moveTo>
                    <a:pt x="11" y="26"/>
                  </a:moveTo>
                  <a:lnTo>
                    <a:pt x="72" y="13"/>
                  </a:lnTo>
                  <a:lnTo>
                    <a:pt x="144" y="2"/>
                  </a:lnTo>
                  <a:lnTo>
                    <a:pt x="186" y="0"/>
                  </a:lnTo>
                  <a:lnTo>
                    <a:pt x="207" y="4"/>
                  </a:lnTo>
                  <a:lnTo>
                    <a:pt x="219" y="9"/>
                  </a:lnTo>
                  <a:lnTo>
                    <a:pt x="225" y="18"/>
                  </a:lnTo>
                  <a:lnTo>
                    <a:pt x="228" y="30"/>
                  </a:lnTo>
                  <a:lnTo>
                    <a:pt x="229" y="43"/>
                  </a:lnTo>
                  <a:lnTo>
                    <a:pt x="222" y="63"/>
                  </a:lnTo>
                  <a:lnTo>
                    <a:pt x="214" y="93"/>
                  </a:lnTo>
                  <a:lnTo>
                    <a:pt x="209" y="118"/>
                  </a:lnTo>
                  <a:lnTo>
                    <a:pt x="210" y="140"/>
                  </a:lnTo>
                  <a:lnTo>
                    <a:pt x="216" y="161"/>
                  </a:lnTo>
                  <a:lnTo>
                    <a:pt x="229" y="179"/>
                  </a:lnTo>
                  <a:lnTo>
                    <a:pt x="234" y="175"/>
                  </a:lnTo>
                  <a:lnTo>
                    <a:pt x="238" y="165"/>
                  </a:lnTo>
                  <a:lnTo>
                    <a:pt x="249" y="145"/>
                  </a:lnTo>
                  <a:lnTo>
                    <a:pt x="259" y="132"/>
                  </a:lnTo>
                  <a:lnTo>
                    <a:pt x="271" y="121"/>
                  </a:lnTo>
                  <a:lnTo>
                    <a:pt x="288" y="113"/>
                  </a:lnTo>
                  <a:lnTo>
                    <a:pt x="304" y="111"/>
                  </a:lnTo>
                  <a:lnTo>
                    <a:pt x="314" y="109"/>
                  </a:lnTo>
                  <a:lnTo>
                    <a:pt x="325" y="113"/>
                  </a:lnTo>
                  <a:lnTo>
                    <a:pt x="332" y="124"/>
                  </a:lnTo>
                  <a:lnTo>
                    <a:pt x="329" y="135"/>
                  </a:lnTo>
                  <a:lnTo>
                    <a:pt x="318" y="154"/>
                  </a:lnTo>
                  <a:lnTo>
                    <a:pt x="307" y="158"/>
                  </a:lnTo>
                  <a:lnTo>
                    <a:pt x="290" y="158"/>
                  </a:lnTo>
                  <a:lnTo>
                    <a:pt x="267" y="170"/>
                  </a:lnTo>
                  <a:lnTo>
                    <a:pt x="257" y="188"/>
                  </a:lnTo>
                  <a:lnTo>
                    <a:pt x="257" y="199"/>
                  </a:lnTo>
                  <a:lnTo>
                    <a:pt x="259" y="214"/>
                  </a:lnTo>
                  <a:lnTo>
                    <a:pt x="253" y="221"/>
                  </a:lnTo>
                  <a:lnTo>
                    <a:pt x="244" y="223"/>
                  </a:lnTo>
                  <a:lnTo>
                    <a:pt x="241" y="225"/>
                  </a:lnTo>
                  <a:lnTo>
                    <a:pt x="229" y="222"/>
                  </a:lnTo>
                  <a:lnTo>
                    <a:pt x="216" y="217"/>
                  </a:lnTo>
                  <a:lnTo>
                    <a:pt x="207" y="203"/>
                  </a:lnTo>
                  <a:lnTo>
                    <a:pt x="203" y="183"/>
                  </a:lnTo>
                  <a:lnTo>
                    <a:pt x="193" y="163"/>
                  </a:lnTo>
                  <a:lnTo>
                    <a:pt x="183" y="140"/>
                  </a:lnTo>
                  <a:lnTo>
                    <a:pt x="178" y="121"/>
                  </a:lnTo>
                  <a:lnTo>
                    <a:pt x="175" y="102"/>
                  </a:lnTo>
                  <a:lnTo>
                    <a:pt x="177" y="82"/>
                  </a:lnTo>
                  <a:lnTo>
                    <a:pt x="179" y="63"/>
                  </a:lnTo>
                  <a:lnTo>
                    <a:pt x="177" y="53"/>
                  </a:lnTo>
                  <a:lnTo>
                    <a:pt x="170" y="50"/>
                  </a:lnTo>
                  <a:lnTo>
                    <a:pt x="153" y="50"/>
                  </a:lnTo>
                  <a:lnTo>
                    <a:pt x="130" y="55"/>
                  </a:lnTo>
                  <a:lnTo>
                    <a:pt x="104" y="63"/>
                  </a:lnTo>
                  <a:lnTo>
                    <a:pt x="78" y="70"/>
                  </a:lnTo>
                  <a:lnTo>
                    <a:pt x="52" y="78"/>
                  </a:lnTo>
                  <a:lnTo>
                    <a:pt x="30" y="84"/>
                  </a:lnTo>
                  <a:lnTo>
                    <a:pt x="13" y="80"/>
                  </a:lnTo>
                  <a:lnTo>
                    <a:pt x="4" y="71"/>
                  </a:lnTo>
                  <a:lnTo>
                    <a:pt x="0" y="59"/>
                  </a:lnTo>
                  <a:lnTo>
                    <a:pt x="2" y="48"/>
                  </a:lnTo>
                  <a:lnTo>
                    <a:pt x="3" y="41"/>
                  </a:lnTo>
                  <a:lnTo>
                    <a:pt x="3" y="33"/>
                  </a:lnTo>
                  <a:lnTo>
                    <a:pt x="11" y="26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4255920" y="3564000"/>
              <a:ext cx="906480" cy="1681200"/>
            </a:xfrm>
            <a:custGeom>
              <a:avLst/>
              <a:gdLst/>
              <a:ahLst/>
              <a:rect l="l" t="t" r="r" b="b"/>
              <a:pathLst>
                <a:path w="206" h="382">
                  <a:moveTo>
                    <a:pt x="91" y="43"/>
                  </a:moveTo>
                  <a:lnTo>
                    <a:pt x="124" y="17"/>
                  </a:lnTo>
                  <a:lnTo>
                    <a:pt x="144" y="2"/>
                  </a:lnTo>
                  <a:lnTo>
                    <a:pt x="167" y="0"/>
                  </a:lnTo>
                  <a:lnTo>
                    <a:pt x="189" y="8"/>
                  </a:lnTo>
                  <a:lnTo>
                    <a:pt x="202" y="27"/>
                  </a:lnTo>
                  <a:lnTo>
                    <a:pt x="206" y="49"/>
                  </a:lnTo>
                  <a:lnTo>
                    <a:pt x="200" y="62"/>
                  </a:lnTo>
                  <a:lnTo>
                    <a:pt x="184" y="71"/>
                  </a:lnTo>
                  <a:lnTo>
                    <a:pt x="158" y="84"/>
                  </a:lnTo>
                  <a:lnTo>
                    <a:pt x="133" y="93"/>
                  </a:lnTo>
                  <a:lnTo>
                    <a:pt x="104" y="100"/>
                  </a:lnTo>
                  <a:lnTo>
                    <a:pt x="65" y="109"/>
                  </a:lnTo>
                  <a:lnTo>
                    <a:pt x="46" y="117"/>
                  </a:lnTo>
                  <a:lnTo>
                    <a:pt x="42" y="124"/>
                  </a:lnTo>
                  <a:lnTo>
                    <a:pt x="44" y="133"/>
                  </a:lnTo>
                  <a:lnTo>
                    <a:pt x="53" y="147"/>
                  </a:lnTo>
                  <a:lnTo>
                    <a:pt x="75" y="166"/>
                  </a:lnTo>
                  <a:lnTo>
                    <a:pt x="107" y="196"/>
                  </a:lnTo>
                  <a:lnTo>
                    <a:pt x="130" y="227"/>
                  </a:lnTo>
                  <a:lnTo>
                    <a:pt x="145" y="256"/>
                  </a:lnTo>
                  <a:lnTo>
                    <a:pt x="152" y="285"/>
                  </a:lnTo>
                  <a:lnTo>
                    <a:pt x="160" y="306"/>
                  </a:lnTo>
                  <a:lnTo>
                    <a:pt x="165" y="317"/>
                  </a:lnTo>
                  <a:lnTo>
                    <a:pt x="165" y="329"/>
                  </a:lnTo>
                  <a:lnTo>
                    <a:pt x="159" y="338"/>
                  </a:lnTo>
                  <a:lnTo>
                    <a:pt x="156" y="338"/>
                  </a:lnTo>
                  <a:lnTo>
                    <a:pt x="144" y="342"/>
                  </a:lnTo>
                  <a:lnTo>
                    <a:pt x="123" y="351"/>
                  </a:lnTo>
                  <a:lnTo>
                    <a:pt x="108" y="370"/>
                  </a:lnTo>
                  <a:lnTo>
                    <a:pt x="99" y="380"/>
                  </a:lnTo>
                  <a:lnTo>
                    <a:pt x="88" y="382"/>
                  </a:lnTo>
                  <a:lnTo>
                    <a:pt x="69" y="378"/>
                  </a:lnTo>
                  <a:lnTo>
                    <a:pt x="49" y="356"/>
                  </a:lnTo>
                  <a:lnTo>
                    <a:pt x="49" y="347"/>
                  </a:lnTo>
                  <a:lnTo>
                    <a:pt x="54" y="338"/>
                  </a:lnTo>
                  <a:lnTo>
                    <a:pt x="84" y="323"/>
                  </a:lnTo>
                  <a:lnTo>
                    <a:pt x="120" y="312"/>
                  </a:lnTo>
                  <a:lnTo>
                    <a:pt x="126" y="305"/>
                  </a:lnTo>
                  <a:lnTo>
                    <a:pt x="128" y="293"/>
                  </a:lnTo>
                  <a:lnTo>
                    <a:pt x="119" y="272"/>
                  </a:lnTo>
                  <a:lnTo>
                    <a:pt x="108" y="255"/>
                  </a:lnTo>
                  <a:lnTo>
                    <a:pt x="91" y="233"/>
                  </a:lnTo>
                  <a:lnTo>
                    <a:pt x="72" y="214"/>
                  </a:lnTo>
                  <a:lnTo>
                    <a:pt x="51" y="197"/>
                  </a:lnTo>
                  <a:lnTo>
                    <a:pt x="29" y="179"/>
                  </a:lnTo>
                  <a:lnTo>
                    <a:pt x="14" y="163"/>
                  </a:lnTo>
                  <a:lnTo>
                    <a:pt x="5" y="150"/>
                  </a:lnTo>
                  <a:lnTo>
                    <a:pt x="0" y="134"/>
                  </a:lnTo>
                  <a:lnTo>
                    <a:pt x="0" y="122"/>
                  </a:lnTo>
                  <a:lnTo>
                    <a:pt x="5" y="107"/>
                  </a:lnTo>
                  <a:lnTo>
                    <a:pt x="14" y="96"/>
                  </a:lnTo>
                  <a:lnTo>
                    <a:pt x="26" y="86"/>
                  </a:lnTo>
                  <a:lnTo>
                    <a:pt x="46" y="74"/>
                  </a:lnTo>
                  <a:lnTo>
                    <a:pt x="67" y="62"/>
                  </a:lnTo>
                  <a:lnTo>
                    <a:pt x="91" y="43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4414680" y="961920"/>
              <a:ext cx="1144800" cy="1782720"/>
            </a:xfrm>
            <a:custGeom>
              <a:avLst/>
              <a:gdLst/>
              <a:ahLst/>
              <a:rect l="l" t="t" r="r" b="b"/>
              <a:pathLst>
                <a:path w="260" h="405">
                  <a:moveTo>
                    <a:pt x="4" y="363"/>
                  </a:moveTo>
                  <a:lnTo>
                    <a:pt x="0" y="379"/>
                  </a:lnTo>
                  <a:lnTo>
                    <a:pt x="8" y="394"/>
                  </a:lnTo>
                  <a:lnTo>
                    <a:pt x="24" y="405"/>
                  </a:lnTo>
                  <a:lnTo>
                    <a:pt x="47" y="405"/>
                  </a:lnTo>
                  <a:lnTo>
                    <a:pt x="68" y="401"/>
                  </a:lnTo>
                  <a:lnTo>
                    <a:pt x="79" y="394"/>
                  </a:lnTo>
                  <a:lnTo>
                    <a:pt x="91" y="379"/>
                  </a:lnTo>
                  <a:lnTo>
                    <a:pt x="102" y="350"/>
                  </a:lnTo>
                  <a:lnTo>
                    <a:pt x="113" y="318"/>
                  </a:lnTo>
                  <a:lnTo>
                    <a:pt x="119" y="280"/>
                  </a:lnTo>
                  <a:lnTo>
                    <a:pt x="126" y="242"/>
                  </a:lnTo>
                  <a:lnTo>
                    <a:pt x="141" y="189"/>
                  </a:lnTo>
                  <a:lnTo>
                    <a:pt x="153" y="149"/>
                  </a:lnTo>
                  <a:lnTo>
                    <a:pt x="165" y="120"/>
                  </a:lnTo>
                  <a:lnTo>
                    <a:pt x="179" y="92"/>
                  </a:lnTo>
                  <a:lnTo>
                    <a:pt x="186" y="79"/>
                  </a:lnTo>
                  <a:lnTo>
                    <a:pt x="190" y="77"/>
                  </a:lnTo>
                  <a:lnTo>
                    <a:pt x="193" y="75"/>
                  </a:lnTo>
                  <a:lnTo>
                    <a:pt x="197" y="74"/>
                  </a:lnTo>
                  <a:lnTo>
                    <a:pt x="200" y="75"/>
                  </a:lnTo>
                  <a:lnTo>
                    <a:pt x="203" y="76"/>
                  </a:lnTo>
                  <a:lnTo>
                    <a:pt x="206" y="77"/>
                  </a:lnTo>
                  <a:lnTo>
                    <a:pt x="210" y="78"/>
                  </a:lnTo>
                  <a:lnTo>
                    <a:pt x="213" y="81"/>
                  </a:lnTo>
                  <a:lnTo>
                    <a:pt x="216" y="83"/>
                  </a:lnTo>
                  <a:lnTo>
                    <a:pt x="219" y="86"/>
                  </a:lnTo>
                  <a:lnTo>
                    <a:pt x="223" y="87"/>
                  </a:lnTo>
                  <a:lnTo>
                    <a:pt x="228" y="89"/>
                  </a:lnTo>
                  <a:lnTo>
                    <a:pt x="231" y="90"/>
                  </a:lnTo>
                  <a:lnTo>
                    <a:pt x="234" y="90"/>
                  </a:lnTo>
                  <a:lnTo>
                    <a:pt x="238" y="91"/>
                  </a:lnTo>
                  <a:lnTo>
                    <a:pt x="242" y="91"/>
                  </a:lnTo>
                  <a:lnTo>
                    <a:pt x="245" y="91"/>
                  </a:lnTo>
                  <a:lnTo>
                    <a:pt x="249" y="91"/>
                  </a:lnTo>
                  <a:lnTo>
                    <a:pt x="252" y="90"/>
                  </a:lnTo>
                  <a:lnTo>
                    <a:pt x="255" y="89"/>
                  </a:lnTo>
                  <a:lnTo>
                    <a:pt x="260" y="86"/>
                  </a:lnTo>
                  <a:lnTo>
                    <a:pt x="260" y="83"/>
                  </a:lnTo>
                  <a:lnTo>
                    <a:pt x="260" y="79"/>
                  </a:lnTo>
                  <a:lnTo>
                    <a:pt x="260" y="76"/>
                  </a:lnTo>
                  <a:lnTo>
                    <a:pt x="260" y="73"/>
                  </a:lnTo>
                  <a:lnTo>
                    <a:pt x="260" y="70"/>
                  </a:lnTo>
                  <a:lnTo>
                    <a:pt x="257" y="68"/>
                  </a:lnTo>
                  <a:lnTo>
                    <a:pt x="252" y="64"/>
                  </a:lnTo>
                  <a:lnTo>
                    <a:pt x="249" y="63"/>
                  </a:lnTo>
                  <a:lnTo>
                    <a:pt x="244" y="61"/>
                  </a:lnTo>
                  <a:lnTo>
                    <a:pt x="240" y="61"/>
                  </a:lnTo>
                  <a:lnTo>
                    <a:pt x="236" y="61"/>
                  </a:lnTo>
                  <a:lnTo>
                    <a:pt x="232" y="61"/>
                  </a:lnTo>
                  <a:lnTo>
                    <a:pt x="229" y="61"/>
                  </a:lnTo>
                  <a:lnTo>
                    <a:pt x="226" y="61"/>
                  </a:lnTo>
                  <a:lnTo>
                    <a:pt x="223" y="61"/>
                  </a:lnTo>
                  <a:lnTo>
                    <a:pt x="219" y="61"/>
                  </a:lnTo>
                  <a:lnTo>
                    <a:pt x="216" y="60"/>
                  </a:lnTo>
                  <a:lnTo>
                    <a:pt x="212" y="59"/>
                  </a:lnTo>
                  <a:lnTo>
                    <a:pt x="210" y="55"/>
                  </a:lnTo>
                  <a:lnTo>
                    <a:pt x="210" y="52"/>
                  </a:lnTo>
                  <a:lnTo>
                    <a:pt x="210" y="49"/>
                  </a:lnTo>
                  <a:lnTo>
                    <a:pt x="213" y="46"/>
                  </a:lnTo>
                  <a:lnTo>
                    <a:pt x="216" y="44"/>
                  </a:lnTo>
                  <a:lnTo>
                    <a:pt x="219" y="42"/>
                  </a:lnTo>
                  <a:lnTo>
                    <a:pt x="221" y="38"/>
                  </a:lnTo>
                  <a:lnTo>
                    <a:pt x="225" y="35"/>
                  </a:lnTo>
                  <a:lnTo>
                    <a:pt x="228" y="33"/>
                  </a:lnTo>
                  <a:lnTo>
                    <a:pt x="231" y="29"/>
                  </a:lnTo>
                  <a:lnTo>
                    <a:pt x="234" y="26"/>
                  </a:lnTo>
                  <a:lnTo>
                    <a:pt x="236" y="23"/>
                  </a:lnTo>
                  <a:lnTo>
                    <a:pt x="239" y="20"/>
                  </a:lnTo>
                  <a:lnTo>
                    <a:pt x="239" y="16"/>
                  </a:lnTo>
                  <a:lnTo>
                    <a:pt x="239" y="13"/>
                  </a:lnTo>
                  <a:lnTo>
                    <a:pt x="239" y="10"/>
                  </a:lnTo>
                  <a:lnTo>
                    <a:pt x="236" y="7"/>
                  </a:lnTo>
                  <a:lnTo>
                    <a:pt x="234" y="3"/>
                  </a:lnTo>
                  <a:lnTo>
                    <a:pt x="229" y="3"/>
                  </a:lnTo>
                  <a:lnTo>
                    <a:pt x="225" y="0"/>
                  </a:lnTo>
                  <a:lnTo>
                    <a:pt x="221" y="0"/>
                  </a:lnTo>
                  <a:lnTo>
                    <a:pt x="218" y="0"/>
                  </a:lnTo>
                  <a:lnTo>
                    <a:pt x="215" y="1"/>
                  </a:lnTo>
                  <a:lnTo>
                    <a:pt x="212" y="3"/>
                  </a:lnTo>
                  <a:lnTo>
                    <a:pt x="208" y="5"/>
                  </a:lnTo>
                  <a:lnTo>
                    <a:pt x="206" y="9"/>
                  </a:lnTo>
                  <a:lnTo>
                    <a:pt x="203" y="11"/>
                  </a:lnTo>
                  <a:lnTo>
                    <a:pt x="201" y="14"/>
                  </a:lnTo>
                  <a:lnTo>
                    <a:pt x="199" y="18"/>
                  </a:lnTo>
                  <a:lnTo>
                    <a:pt x="199" y="21"/>
                  </a:lnTo>
                  <a:lnTo>
                    <a:pt x="197" y="24"/>
                  </a:lnTo>
                  <a:lnTo>
                    <a:pt x="197" y="27"/>
                  </a:lnTo>
                  <a:lnTo>
                    <a:pt x="197" y="31"/>
                  </a:lnTo>
                  <a:lnTo>
                    <a:pt x="194" y="34"/>
                  </a:lnTo>
                  <a:lnTo>
                    <a:pt x="193" y="37"/>
                  </a:lnTo>
                  <a:lnTo>
                    <a:pt x="192" y="40"/>
                  </a:lnTo>
                  <a:lnTo>
                    <a:pt x="191" y="44"/>
                  </a:lnTo>
                  <a:lnTo>
                    <a:pt x="190" y="47"/>
                  </a:lnTo>
                  <a:lnTo>
                    <a:pt x="186" y="49"/>
                  </a:lnTo>
                  <a:lnTo>
                    <a:pt x="181" y="51"/>
                  </a:lnTo>
                  <a:lnTo>
                    <a:pt x="178" y="53"/>
                  </a:lnTo>
                  <a:lnTo>
                    <a:pt x="175" y="55"/>
                  </a:lnTo>
                  <a:lnTo>
                    <a:pt x="171" y="55"/>
                  </a:lnTo>
                  <a:lnTo>
                    <a:pt x="168" y="57"/>
                  </a:lnTo>
                  <a:lnTo>
                    <a:pt x="164" y="55"/>
                  </a:lnTo>
                  <a:lnTo>
                    <a:pt x="160" y="52"/>
                  </a:lnTo>
                  <a:lnTo>
                    <a:pt x="156" y="51"/>
                  </a:lnTo>
                  <a:lnTo>
                    <a:pt x="153" y="49"/>
                  </a:lnTo>
                  <a:lnTo>
                    <a:pt x="149" y="47"/>
                  </a:lnTo>
                  <a:lnTo>
                    <a:pt x="144" y="46"/>
                  </a:lnTo>
                  <a:lnTo>
                    <a:pt x="141" y="44"/>
                  </a:lnTo>
                  <a:lnTo>
                    <a:pt x="138" y="44"/>
                  </a:lnTo>
                  <a:lnTo>
                    <a:pt x="134" y="44"/>
                  </a:lnTo>
                  <a:lnTo>
                    <a:pt x="131" y="46"/>
                  </a:lnTo>
                  <a:lnTo>
                    <a:pt x="128" y="48"/>
                  </a:lnTo>
                  <a:lnTo>
                    <a:pt x="125" y="51"/>
                  </a:lnTo>
                  <a:lnTo>
                    <a:pt x="121" y="55"/>
                  </a:lnTo>
                  <a:lnTo>
                    <a:pt x="119" y="57"/>
                  </a:lnTo>
                  <a:lnTo>
                    <a:pt x="118" y="61"/>
                  </a:lnTo>
                  <a:lnTo>
                    <a:pt x="118" y="64"/>
                  </a:lnTo>
                  <a:lnTo>
                    <a:pt x="118" y="68"/>
                  </a:lnTo>
                  <a:lnTo>
                    <a:pt x="121" y="68"/>
                  </a:lnTo>
                  <a:lnTo>
                    <a:pt x="125" y="70"/>
                  </a:lnTo>
                  <a:lnTo>
                    <a:pt x="128" y="70"/>
                  </a:lnTo>
                  <a:lnTo>
                    <a:pt x="131" y="70"/>
                  </a:lnTo>
                  <a:lnTo>
                    <a:pt x="134" y="70"/>
                  </a:lnTo>
                  <a:lnTo>
                    <a:pt x="138" y="70"/>
                  </a:lnTo>
                  <a:lnTo>
                    <a:pt x="142" y="72"/>
                  </a:lnTo>
                  <a:lnTo>
                    <a:pt x="145" y="72"/>
                  </a:lnTo>
                  <a:lnTo>
                    <a:pt x="149" y="73"/>
                  </a:lnTo>
                  <a:lnTo>
                    <a:pt x="153" y="74"/>
                  </a:lnTo>
                  <a:lnTo>
                    <a:pt x="156" y="76"/>
                  </a:lnTo>
                  <a:lnTo>
                    <a:pt x="158" y="89"/>
                  </a:lnTo>
                  <a:lnTo>
                    <a:pt x="145" y="117"/>
                  </a:lnTo>
                  <a:lnTo>
                    <a:pt x="128" y="156"/>
                  </a:lnTo>
                  <a:lnTo>
                    <a:pt x="110" y="199"/>
                  </a:lnTo>
                  <a:lnTo>
                    <a:pt x="89" y="251"/>
                  </a:lnTo>
                  <a:lnTo>
                    <a:pt x="73" y="282"/>
                  </a:lnTo>
                  <a:lnTo>
                    <a:pt x="58" y="310"/>
                  </a:lnTo>
                  <a:lnTo>
                    <a:pt x="42" y="333"/>
                  </a:lnTo>
                  <a:lnTo>
                    <a:pt x="26" y="349"/>
                  </a:lnTo>
                  <a:lnTo>
                    <a:pt x="11" y="358"/>
                  </a:lnTo>
                  <a:lnTo>
                    <a:pt x="4" y="363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3419640" y="1684440"/>
              <a:ext cx="814320" cy="849240"/>
            </a:xfrm>
            <a:custGeom>
              <a:avLst/>
              <a:gdLst/>
              <a:ahLst/>
              <a:rect l="l" t="t" r="r" b="b"/>
              <a:pathLst>
                <a:path w="185" h="193">
                  <a:moveTo>
                    <a:pt x="40" y="92"/>
                  </a:moveTo>
                  <a:lnTo>
                    <a:pt x="40" y="66"/>
                  </a:lnTo>
                  <a:lnTo>
                    <a:pt x="49" y="36"/>
                  </a:lnTo>
                  <a:lnTo>
                    <a:pt x="58" y="21"/>
                  </a:lnTo>
                  <a:lnTo>
                    <a:pt x="72" y="9"/>
                  </a:lnTo>
                  <a:lnTo>
                    <a:pt x="88" y="3"/>
                  </a:lnTo>
                  <a:lnTo>
                    <a:pt x="107" y="0"/>
                  </a:lnTo>
                  <a:lnTo>
                    <a:pt x="125" y="3"/>
                  </a:lnTo>
                  <a:lnTo>
                    <a:pt x="138" y="9"/>
                  </a:lnTo>
                  <a:lnTo>
                    <a:pt x="152" y="22"/>
                  </a:lnTo>
                  <a:lnTo>
                    <a:pt x="162" y="38"/>
                  </a:lnTo>
                  <a:lnTo>
                    <a:pt x="170" y="58"/>
                  </a:lnTo>
                  <a:lnTo>
                    <a:pt x="181" y="83"/>
                  </a:lnTo>
                  <a:lnTo>
                    <a:pt x="185" y="112"/>
                  </a:lnTo>
                  <a:lnTo>
                    <a:pt x="185" y="138"/>
                  </a:lnTo>
                  <a:lnTo>
                    <a:pt x="181" y="157"/>
                  </a:lnTo>
                  <a:lnTo>
                    <a:pt x="175" y="173"/>
                  </a:lnTo>
                  <a:lnTo>
                    <a:pt x="164" y="182"/>
                  </a:lnTo>
                  <a:lnTo>
                    <a:pt x="146" y="190"/>
                  </a:lnTo>
                  <a:lnTo>
                    <a:pt x="131" y="193"/>
                  </a:lnTo>
                  <a:lnTo>
                    <a:pt x="116" y="192"/>
                  </a:lnTo>
                  <a:lnTo>
                    <a:pt x="103" y="185"/>
                  </a:lnTo>
                  <a:lnTo>
                    <a:pt x="89" y="177"/>
                  </a:lnTo>
                  <a:lnTo>
                    <a:pt x="76" y="162"/>
                  </a:lnTo>
                  <a:lnTo>
                    <a:pt x="64" y="143"/>
                  </a:lnTo>
                  <a:lnTo>
                    <a:pt x="57" y="138"/>
                  </a:lnTo>
                  <a:lnTo>
                    <a:pt x="47" y="140"/>
                  </a:lnTo>
                  <a:lnTo>
                    <a:pt x="36" y="151"/>
                  </a:lnTo>
                  <a:lnTo>
                    <a:pt x="24" y="164"/>
                  </a:lnTo>
                  <a:lnTo>
                    <a:pt x="14" y="166"/>
                  </a:lnTo>
                  <a:lnTo>
                    <a:pt x="4" y="160"/>
                  </a:lnTo>
                  <a:lnTo>
                    <a:pt x="0" y="149"/>
                  </a:lnTo>
                  <a:lnTo>
                    <a:pt x="4" y="138"/>
                  </a:lnTo>
                  <a:lnTo>
                    <a:pt x="16" y="129"/>
                  </a:lnTo>
                  <a:lnTo>
                    <a:pt x="31" y="119"/>
                  </a:lnTo>
                  <a:lnTo>
                    <a:pt x="42" y="107"/>
                  </a:lnTo>
                  <a:lnTo>
                    <a:pt x="40" y="92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3605040" y="2327400"/>
              <a:ext cx="290520" cy="377640"/>
            </a:xfrm>
            <a:custGeom>
              <a:avLst/>
              <a:gdLst/>
              <a:ahLst/>
              <a:rect l="l" t="t" r="r" b="b"/>
              <a:pathLst>
                <a:path w="66" h="86">
                  <a:moveTo>
                    <a:pt x="37" y="2"/>
                  </a:moveTo>
                  <a:lnTo>
                    <a:pt x="0" y="50"/>
                  </a:lnTo>
                  <a:lnTo>
                    <a:pt x="2" y="63"/>
                  </a:lnTo>
                  <a:lnTo>
                    <a:pt x="9" y="74"/>
                  </a:lnTo>
                  <a:lnTo>
                    <a:pt x="24" y="83"/>
                  </a:lnTo>
                  <a:lnTo>
                    <a:pt x="44" y="86"/>
                  </a:lnTo>
                  <a:lnTo>
                    <a:pt x="59" y="81"/>
                  </a:lnTo>
                  <a:lnTo>
                    <a:pt x="65" y="71"/>
                  </a:lnTo>
                  <a:lnTo>
                    <a:pt x="66" y="58"/>
                  </a:lnTo>
                  <a:lnTo>
                    <a:pt x="59" y="47"/>
                  </a:lnTo>
                  <a:lnTo>
                    <a:pt x="48" y="39"/>
                  </a:lnTo>
                  <a:lnTo>
                    <a:pt x="42" y="36"/>
                  </a:lnTo>
                  <a:lnTo>
                    <a:pt x="63" y="15"/>
                  </a:lnTo>
                  <a:lnTo>
                    <a:pt x="59" y="0"/>
                  </a:lnTo>
                  <a:lnTo>
                    <a:pt x="37" y="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3639960" y="2347920"/>
              <a:ext cx="184320" cy="322200"/>
            </a:xfrm>
            <a:custGeom>
              <a:avLst/>
              <a:gdLst/>
              <a:ahLst/>
              <a:rect l="l" t="t" r="r" b="b"/>
              <a:pathLst>
                <a:path w="42" h="73">
                  <a:moveTo>
                    <a:pt x="30" y="1"/>
                  </a:moveTo>
                  <a:lnTo>
                    <a:pt x="42" y="0"/>
                  </a:lnTo>
                  <a:lnTo>
                    <a:pt x="14" y="38"/>
                  </a:lnTo>
                  <a:lnTo>
                    <a:pt x="12" y="53"/>
                  </a:lnTo>
                  <a:lnTo>
                    <a:pt x="15" y="65"/>
                  </a:lnTo>
                  <a:lnTo>
                    <a:pt x="22" y="73"/>
                  </a:lnTo>
                  <a:lnTo>
                    <a:pt x="7" y="66"/>
                  </a:lnTo>
                  <a:lnTo>
                    <a:pt x="1" y="55"/>
                  </a:lnTo>
                  <a:lnTo>
                    <a:pt x="0" y="44"/>
                  </a:lnTo>
                  <a:lnTo>
                    <a:pt x="3" y="36"/>
                  </a:lnTo>
                  <a:lnTo>
                    <a:pt x="30" y="1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3722760" y="2511360"/>
              <a:ext cx="136440" cy="1540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7" y="0"/>
                  </a:moveTo>
                  <a:lnTo>
                    <a:pt x="20" y="3"/>
                  </a:lnTo>
                  <a:lnTo>
                    <a:pt x="27" y="11"/>
                  </a:lnTo>
                  <a:lnTo>
                    <a:pt x="31" y="18"/>
                  </a:lnTo>
                  <a:lnTo>
                    <a:pt x="29" y="27"/>
                  </a:lnTo>
                  <a:lnTo>
                    <a:pt x="22" y="33"/>
                  </a:lnTo>
                  <a:lnTo>
                    <a:pt x="12" y="35"/>
                  </a:lnTo>
                  <a:lnTo>
                    <a:pt x="5" y="30"/>
                  </a:lnTo>
                  <a:lnTo>
                    <a:pt x="0" y="21"/>
                  </a:lnTo>
                  <a:lnTo>
                    <a:pt x="0" y="1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2908440" y="2387520"/>
              <a:ext cx="1645920" cy="811440"/>
            </a:xfrm>
            <a:custGeom>
              <a:avLst/>
              <a:gdLst/>
              <a:ahLst/>
              <a:rect l="l" t="t" r="r" b="b"/>
              <a:pathLst>
                <a:path w="374" h="184">
                  <a:moveTo>
                    <a:pt x="142" y="35"/>
                  </a:moveTo>
                  <a:lnTo>
                    <a:pt x="147" y="30"/>
                  </a:lnTo>
                  <a:lnTo>
                    <a:pt x="149" y="27"/>
                  </a:lnTo>
                  <a:lnTo>
                    <a:pt x="150" y="24"/>
                  </a:lnTo>
                  <a:lnTo>
                    <a:pt x="151" y="20"/>
                  </a:lnTo>
                  <a:lnTo>
                    <a:pt x="151" y="17"/>
                  </a:lnTo>
                  <a:lnTo>
                    <a:pt x="153" y="13"/>
                  </a:lnTo>
                  <a:lnTo>
                    <a:pt x="155" y="11"/>
                  </a:lnTo>
                  <a:lnTo>
                    <a:pt x="158" y="7"/>
                  </a:lnTo>
                  <a:lnTo>
                    <a:pt x="160" y="4"/>
                  </a:lnTo>
                  <a:lnTo>
                    <a:pt x="163" y="3"/>
                  </a:lnTo>
                  <a:lnTo>
                    <a:pt x="166" y="2"/>
                  </a:lnTo>
                  <a:lnTo>
                    <a:pt x="170" y="0"/>
                  </a:lnTo>
                  <a:lnTo>
                    <a:pt x="173" y="0"/>
                  </a:lnTo>
                  <a:lnTo>
                    <a:pt x="177" y="3"/>
                  </a:lnTo>
                  <a:lnTo>
                    <a:pt x="179" y="6"/>
                  </a:lnTo>
                  <a:lnTo>
                    <a:pt x="181" y="9"/>
                  </a:lnTo>
                  <a:lnTo>
                    <a:pt x="181" y="13"/>
                  </a:lnTo>
                  <a:lnTo>
                    <a:pt x="179" y="16"/>
                  </a:lnTo>
                  <a:lnTo>
                    <a:pt x="177" y="19"/>
                  </a:lnTo>
                  <a:lnTo>
                    <a:pt x="177" y="22"/>
                  </a:lnTo>
                  <a:lnTo>
                    <a:pt x="175" y="26"/>
                  </a:lnTo>
                  <a:lnTo>
                    <a:pt x="172" y="28"/>
                  </a:lnTo>
                  <a:lnTo>
                    <a:pt x="171" y="31"/>
                  </a:lnTo>
                  <a:lnTo>
                    <a:pt x="168" y="32"/>
                  </a:lnTo>
                  <a:lnTo>
                    <a:pt x="166" y="35"/>
                  </a:lnTo>
                  <a:lnTo>
                    <a:pt x="163" y="39"/>
                  </a:lnTo>
                  <a:lnTo>
                    <a:pt x="162" y="42"/>
                  </a:lnTo>
                  <a:lnTo>
                    <a:pt x="162" y="45"/>
                  </a:lnTo>
                  <a:lnTo>
                    <a:pt x="162" y="48"/>
                  </a:lnTo>
                  <a:lnTo>
                    <a:pt x="164" y="52"/>
                  </a:lnTo>
                  <a:lnTo>
                    <a:pt x="168" y="55"/>
                  </a:lnTo>
                  <a:lnTo>
                    <a:pt x="171" y="56"/>
                  </a:lnTo>
                  <a:lnTo>
                    <a:pt x="175" y="59"/>
                  </a:lnTo>
                  <a:lnTo>
                    <a:pt x="179" y="59"/>
                  </a:lnTo>
                  <a:lnTo>
                    <a:pt x="183" y="61"/>
                  </a:lnTo>
                  <a:lnTo>
                    <a:pt x="186" y="61"/>
                  </a:lnTo>
                  <a:lnTo>
                    <a:pt x="189" y="61"/>
                  </a:lnTo>
                  <a:lnTo>
                    <a:pt x="192" y="61"/>
                  </a:lnTo>
                  <a:lnTo>
                    <a:pt x="196" y="57"/>
                  </a:lnTo>
                  <a:lnTo>
                    <a:pt x="198" y="54"/>
                  </a:lnTo>
                  <a:lnTo>
                    <a:pt x="199" y="51"/>
                  </a:lnTo>
                  <a:lnTo>
                    <a:pt x="202" y="48"/>
                  </a:lnTo>
                  <a:lnTo>
                    <a:pt x="205" y="44"/>
                  </a:lnTo>
                  <a:lnTo>
                    <a:pt x="209" y="44"/>
                  </a:lnTo>
                  <a:lnTo>
                    <a:pt x="212" y="43"/>
                  </a:lnTo>
                  <a:lnTo>
                    <a:pt x="215" y="43"/>
                  </a:lnTo>
                  <a:lnTo>
                    <a:pt x="218" y="45"/>
                  </a:lnTo>
                  <a:lnTo>
                    <a:pt x="222" y="48"/>
                  </a:lnTo>
                  <a:lnTo>
                    <a:pt x="224" y="51"/>
                  </a:lnTo>
                  <a:lnTo>
                    <a:pt x="226" y="55"/>
                  </a:lnTo>
                  <a:lnTo>
                    <a:pt x="227" y="59"/>
                  </a:lnTo>
                  <a:lnTo>
                    <a:pt x="227" y="61"/>
                  </a:lnTo>
                  <a:lnTo>
                    <a:pt x="225" y="65"/>
                  </a:lnTo>
                  <a:lnTo>
                    <a:pt x="222" y="67"/>
                  </a:lnTo>
                  <a:lnTo>
                    <a:pt x="218" y="68"/>
                  </a:lnTo>
                  <a:lnTo>
                    <a:pt x="215" y="69"/>
                  </a:lnTo>
                  <a:lnTo>
                    <a:pt x="216" y="72"/>
                  </a:lnTo>
                  <a:lnTo>
                    <a:pt x="221" y="75"/>
                  </a:lnTo>
                  <a:lnTo>
                    <a:pt x="222" y="78"/>
                  </a:lnTo>
                  <a:lnTo>
                    <a:pt x="222" y="81"/>
                  </a:lnTo>
                  <a:lnTo>
                    <a:pt x="222" y="85"/>
                  </a:lnTo>
                  <a:lnTo>
                    <a:pt x="221" y="88"/>
                  </a:lnTo>
                  <a:lnTo>
                    <a:pt x="218" y="90"/>
                  </a:lnTo>
                  <a:lnTo>
                    <a:pt x="214" y="92"/>
                  </a:lnTo>
                  <a:lnTo>
                    <a:pt x="211" y="93"/>
                  </a:lnTo>
                  <a:lnTo>
                    <a:pt x="208" y="94"/>
                  </a:lnTo>
                  <a:lnTo>
                    <a:pt x="205" y="94"/>
                  </a:lnTo>
                  <a:lnTo>
                    <a:pt x="201" y="94"/>
                  </a:lnTo>
                  <a:lnTo>
                    <a:pt x="198" y="94"/>
                  </a:lnTo>
                  <a:lnTo>
                    <a:pt x="195" y="94"/>
                  </a:lnTo>
                  <a:lnTo>
                    <a:pt x="189" y="94"/>
                  </a:lnTo>
                  <a:lnTo>
                    <a:pt x="185" y="94"/>
                  </a:lnTo>
                  <a:lnTo>
                    <a:pt x="181" y="94"/>
                  </a:lnTo>
                  <a:lnTo>
                    <a:pt x="177" y="92"/>
                  </a:lnTo>
                  <a:lnTo>
                    <a:pt x="174" y="91"/>
                  </a:lnTo>
                  <a:lnTo>
                    <a:pt x="171" y="90"/>
                  </a:lnTo>
                  <a:lnTo>
                    <a:pt x="166" y="88"/>
                  </a:lnTo>
                  <a:lnTo>
                    <a:pt x="164" y="85"/>
                  </a:lnTo>
                  <a:lnTo>
                    <a:pt x="140" y="78"/>
                  </a:lnTo>
                  <a:lnTo>
                    <a:pt x="110" y="75"/>
                  </a:lnTo>
                  <a:lnTo>
                    <a:pt x="76" y="80"/>
                  </a:lnTo>
                  <a:lnTo>
                    <a:pt x="74" y="83"/>
                  </a:lnTo>
                  <a:lnTo>
                    <a:pt x="54" y="93"/>
                  </a:lnTo>
                  <a:lnTo>
                    <a:pt x="40" y="105"/>
                  </a:lnTo>
                  <a:lnTo>
                    <a:pt x="33" y="116"/>
                  </a:lnTo>
                  <a:lnTo>
                    <a:pt x="33" y="124"/>
                  </a:lnTo>
                  <a:lnTo>
                    <a:pt x="33" y="127"/>
                  </a:lnTo>
                  <a:lnTo>
                    <a:pt x="42" y="136"/>
                  </a:lnTo>
                  <a:lnTo>
                    <a:pt x="63" y="146"/>
                  </a:lnTo>
                  <a:lnTo>
                    <a:pt x="87" y="152"/>
                  </a:lnTo>
                  <a:lnTo>
                    <a:pt x="115" y="157"/>
                  </a:lnTo>
                  <a:lnTo>
                    <a:pt x="145" y="157"/>
                  </a:lnTo>
                  <a:lnTo>
                    <a:pt x="179" y="155"/>
                  </a:lnTo>
                  <a:lnTo>
                    <a:pt x="212" y="148"/>
                  </a:lnTo>
                  <a:lnTo>
                    <a:pt x="235" y="139"/>
                  </a:lnTo>
                  <a:lnTo>
                    <a:pt x="262" y="125"/>
                  </a:lnTo>
                  <a:lnTo>
                    <a:pt x="290" y="104"/>
                  </a:lnTo>
                  <a:lnTo>
                    <a:pt x="314" y="89"/>
                  </a:lnTo>
                  <a:lnTo>
                    <a:pt x="331" y="77"/>
                  </a:lnTo>
                  <a:lnTo>
                    <a:pt x="346" y="77"/>
                  </a:lnTo>
                  <a:lnTo>
                    <a:pt x="366" y="83"/>
                  </a:lnTo>
                  <a:lnTo>
                    <a:pt x="374" y="96"/>
                  </a:lnTo>
                  <a:lnTo>
                    <a:pt x="374" y="113"/>
                  </a:lnTo>
                  <a:lnTo>
                    <a:pt x="361" y="128"/>
                  </a:lnTo>
                  <a:lnTo>
                    <a:pt x="326" y="142"/>
                  </a:lnTo>
                  <a:lnTo>
                    <a:pt x="272" y="163"/>
                  </a:lnTo>
                  <a:lnTo>
                    <a:pt x="221" y="176"/>
                  </a:lnTo>
                  <a:lnTo>
                    <a:pt x="170" y="184"/>
                  </a:lnTo>
                  <a:lnTo>
                    <a:pt x="140" y="184"/>
                  </a:lnTo>
                  <a:lnTo>
                    <a:pt x="102" y="181"/>
                  </a:lnTo>
                  <a:lnTo>
                    <a:pt x="63" y="173"/>
                  </a:lnTo>
                  <a:lnTo>
                    <a:pt x="33" y="162"/>
                  </a:lnTo>
                  <a:lnTo>
                    <a:pt x="13" y="148"/>
                  </a:lnTo>
                  <a:lnTo>
                    <a:pt x="3" y="131"/>
                  </a:lnTo>
                  <a:lnTo>
                    <a:pt x="0" y="117"/>
                  </a:lnTo>
                  <a:lnTo>
                    <a:pt x="3" y="109"/>
                  </a:lnTo>
                  <a:lnTo>
                    <a:pt x="21" y="93"/>
                  </a:lnTo>
                  <a:lnTo>
                    <a:pt x="46" y="76"/>
                  </a:lnTo>
                  <a:lnTo>
                    <a:pt x="72" y="64"/>
                  </a:lnTo>
                  <a:lnTo>
                    <a:pt x="100" y="54"/>
                  </a:lnTo>
                  <a:lnTo>
                    <a:pt x="126" y="46"/>
                  </a:lnTo>
                  <a:lnTo>
                    <a:pt x="142" y="35"/>
                  </a:lnTo>
                  <a:close/>
                </a:path>
              </a:pathLst>
            </a:custGeom>
            <a:solidFill>
              <a:srgbClr val="ff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3759120" y="2678040"/>
              <a:ext cx="628560" cy="615960"/>
            </a:xfrm>
            <a:custGeom>
              <a:avLst/>
              <a:gdLst/>
              <a:ahLst/>
              <a:rect l="l" t="t" r="r" b="b"/>
              <a:pathLst>
                <a:path w="143" h="140">
                  <a:moveTo>
                    <a:pt x="90" y="0"/>
                  </a:moveTo>
                  <a:lnTo>
                    <a:pt x="110" y="13"/>
                  </a:lnTo>
                  <a:lnTo>
                    <a:pt x="123" y="29"/>
                  </a:lnTo>
                  <a:lnTo>
                    <a:pt x="133" y="50"/>
                  </a:lnTo>
                  <a:lnTo>
                    <a:pt x="140" y="74"/>
                  </a:lnTo>
                  <a:lnTo>
                    <a:pt x="143" y="87"/>
                  </a:lnTo>
                  <a:lnTo>
                    <a:pt x="103" y="114"/>
                  </a:lnTo>
                  <a:lnTo>
                    <a:pt x="58" y="132"/>
                  </a:lnTo>
                  <a:lnTo>
                    <a:pt x="55" y="134"/>
                  </a:lnTo>
                  <a:lnTo>
                    <a:pt x="29" y="140"/>
                  </a:lnTo>
                  <a:lnTo>
                    <a:pt x="23" y="117"/>
                  </a:lnTo>
                  <a:lnTo>
                    <a:pt x="16" y="92"/>
                  </a:lnTo>
                  <a:lnTo>
                    <a:pt x="7" y="74"/>
                  </a:lnTo>
                  <a:lnTo>
                    <a:pt x="0" y="68"/>
                  </a:lnTo>
                  <a:lnTo>
                    <a:pt x="34" y="46"/>
                  </a:lnTo>
                  <a:lnTo>
                    <a:pt x="62" y="28"/>
                  </a:lnTo>
                  <a:lnTo>
                    <a:pt x="79" y="11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4459320" y="1957320"/>
              <a:ext cx="606240" cy="66060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126"/>
                  </a:moveTo>
                  <a:lnTo>
                    <a:pt x="23" y="134"/>
                  </a:lnTo>
                  <a:lnTo>
                    <a:pt x="51" y="141"/>
                  </a:lnTo>
                  <a:lnTo>
                    <a:pt x="77" y="144"/>
                  </a:lnTo>
                  <a:lnTo>
                    <a:pt x="92" y="150"/>
                  </a:lnTo>
                  <a:lnTo>
                    <a:pt x="107" y="121"/>
                  </a:lnTo>
                  <a:lnTo>
                    <a:pt x="121" y="87"/>
                  </a:lnTo>
                  <a:lnTo>
                    <a:pt x="129" y="65"/>
                  </a:lnTo>
                  <a:lnTo>
                    <a:pt x="138" y="28"/>
                  </a:lnTo>
                  <a:lnTo>
                    <a:pt x="114" y="26"/>
                  </a:lnTo>
                  <a:lnTo>
                    <a:pt x="99" y="19"/>
                  </a:lnTo>
                  <a:lnTo>
                    <a:pt x="86" y="8"/>
                  </a:lnTo>
                  <a:lnTo>
                    <a:pt x="79" y="0"/>
                  </a:lnTo>
                  <a:lnTo>
                    <a:pt x="64" y="18"/>
                  </a:lnTo>
                  <a:lnTo>
                    <a:pt x="45" y="54"/>
                  </a:lnTo>
                  <a:lnTo>
                    <a:pt x="29" y="87"/>
                  </a:lnTo>
                  <a:lnTo>
                    <a:pt x="16" y="110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4119480" y="2489040"/>
              <a:ext cx="1368360" cy="1197000"/>
            </a:xfrm>
            <a:custGeom>
              <a:avLst/>
              <a:gdLst/>
              <a:ahLst/>
              <a:rect l="l" t="t" r="r" b="b"/>
              <a:pathLst>
                <a:path w="311" h="272">
                  <a:moveTo>
                    <a:pt x="83" y="0"/>
                  </a:moveTo>
                  <a:lnTo>
                    <a:pt x="60" y="3"/>
                  </a:lnTo>
                  <a:lnTo>
                    <a:pt x="82" y="51"/>
                  </a:lnTo>
                  <a:lnTo>
                    <a:pt x="15" y="29"/>
                  </a:lnTo>
                  <a:lnTo>
                    <a:pt x="0" y="53"/>
                  </a:lnTo>
                  <a:lnTo>
                    <a:pt x="5" y="79"/>
                  </a:lnTo>
                  <a:lnTo>
                    <a:pt x="17" y="101"/>
                  </a:lnTo>
                  <a:lnTo>
                    <a:pt x="34" y="124"/>
                  </a:lnTo>
                  <a:lnTo>
                    <a:pt x="58" y="164"/>
                  </a:lnTo>
                  <a:lnTo>
                    <a:pt x="78" y="211"/>
                  </a:lnTo>
                  <a:lnTo>
                    <a:pt x="100" y="263"/>
                  </a:lnTo>
                  <a:lnTo>
                    <a:pt x="107" y="272"/>
                  </a:lnTo>
                  <a:lnTo>
                    <a:pt x="126" y="272"/>
                  </a:lnTo>
                  <a:lnTo>
                    <a:pt x="169" y="255"/>
                  </a:lnTo>
                  <a:lnTo>
                    <a:pt x="218" y="235"/>
                  </a:lnTo>
                  <a:lnTo>
                    <a:pt x="256" y="214"/>
                  </a:lnTo>
                  <a:lnTo>
                    <a:pt x="282" y="191"/>
                  </a:lnTo>
                  <a:lnTo>
                    <a:pt x="311" y="157"/>
                  </a:lnTo>
                  <a:lnTo>
                    <a:pt x="311" y="146"/>
                  </a:lnTo>
                  <a:lnTo>
                    <a:pt x="302" y="132"/>
                  </a:lnTo>
                  <a:lnTo>
                    <a:pt x="267" y="96"/>
                  </a:lnTo>
                  <a:lnTo>
                    <a:pt x="224" y="53"/>
                  </a:lnTo>
                  <a:lnTo>
                    <a:pt x="185" y="27"/>
                  </a:lnTo>
                  <a:lnTo>
                    <a:pt x="167" y="19"/>
                  </a:lnTo>
                  <a:lnTo>
                    <a:pt x="125" y="1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7" name=""/>
            <p:cNvGrpSpPr/>
            <p:nvPr/>
          </p:nvGrpSpPr>
          <p:grpSpPr>
            <a:xfrm>
              <a:off x="3828960" y="2735280"/>
              <a:ext cx="505440" cy="523080"/>
              <a:chOff x="3828960" y="2735280"/>
              <a:chExt cx="505440" cy="523080"/>
            </a:xfrm>
          </p:grpSpPr>
          <p:sp>
            <p:nvSpPr>
              <p:cNvPr id="2978" name=""/>
              <p:cNvSpPr/>
              <p:nvPr/>
            </p:nvSpPr>
            <p:spPr>
              <a:xfrm>
                <a:off x="3828960" y="2735280"/>
                <a:ext cx="395280" cy="294480"/>
              </a:xfrm>
              <a:custGeom>
                <a:avLst/>
                <a:gdLst/>
                <a:ahLst/>
                <a:rect l="l" t="t" r="r" b="b"/>
                <a:pathLst>
                  <a:path w="90" h="67">
                    <a:moveTo>
                      <a:pt x="0" y="55"/>
                    </a:moveTo>
                    <a:lnTo>
                      <a:pt x="36" y="34"/>
                    </a:lnTo>
                    <a:lnTo>
                      <a:pt x="54" y="21"/>
                    </a:lnTo>
                    <a:lnTo>
                      <a:pt x="78" y="0"/>
                    </a:lnTo>
                    <a:lnTo>
                      <a:pt x="90" y="11"/>
                    </a:lnTo>
                    <a:lnTo>
                      <a:pt x="65" y="31"/>
                    </a:lnTo>
                    <a:lnTo>
                      <a:pt x="36" y="50"/>
                    </a:lnTo>
                    <a:lnTo>
                      <a:pt x="4" y="67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3868560" y="2845080"/>
                <a:ext cx="421200" cy="299520"/>
              </a:xfrm>
              <a:custGeom>
                <a:avLst/>
                <a:gdLst/>
                <a:ahLst/>
                <a:rect l="l" t="t" r="r" b="b"/>
                <a:pathLst>
                  <a:path w="96" h="68">
                    <a:moveTo>
                      <a:pt x="0" y="54"/>
                    </a:moveTo>
                    <a:lnTo>
                      <a:pt x="41" y="35"/>
                    </a:lnTo>
                    <a:lnTo>
                      <a:pt x="63" y="19"/>
                    </a:lnTo>
                    <a:lnTo>
                      <a:pt x="89" y="0"/>
                    </a:lnTo>
                    <a:lnTo>
                      <a:pt x="96" y="16"/>
                    </a:lnTo>
                    <a:lnTo>
                      <a:pt x="61" y="40"/>
                    </a:lnTo>
                    <a:lnTo>
                      <a:pt x="25" y="57"/>
                    </a:lnTo>
                    <a:lnTo>
                      <a:pt x="4" y="68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3899520" y="2976840"/>
                <a:ext cx="434880" cy="281520"/>
              </a:xfrm>
              <a:custGeom>
                <a:avLst/>
                <a:gdLst/>
                <a:ahLst/>
                <a:rect l="l" t="t" r="r" b="b"/>
                <a:pathLst>
                  <a:path w="99" h="64">
                    <a:moveTo>
                      <a:pt x="0" y="52"/>
                    </a:moveTo>
                    <a:lnTo>
                      <a:pt x="49" y="31"/>
                    </a:lnTo>
                    <a:lnTo>
                      <a:pt x="73" y="15"/>
                    </a:lnTo>
                    <a:lnTo>
                      <a:pt x="97" y="0"/>
                    </a:lnTo>
                    <a:lnTo>
                      <a:pt x="99" y="13"/>
                    </a:lnTo>
                    <a:lnTo>
                      <a:pt x="66" y="38"/>
                    </a:lnTo>
                    <a:lnTo>
                      <a:pt x="38" y="52"/>
                    </a:lnTo>
                    <a:lnTo>
                      <a:pt x="3" y="64"/>
                    </a:lnTo>
                    <a:lnTo>
                      <a:pt x="0" y="5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1" name=""/>
            <p:cNvGrpSpPr/>
            <p:nvPr/>
          </p:nvGrpSpPr>
          <p:grpSpPr>
            <a:xfrm>
              <a:off x="4529160" y="2009880"/>
              <a:ext cx="491400" cy="570240"/>
              <a:chOff x="4529160" y="2009880"/>
              <a:chExt cx="491400" cy="570240"/>
            </a:xfrm>
          </p:grpSpPr>
          <p:sp>
            <p:nvSpPr>
              <p:cNvPr id="2982" name=""/>
              <p:cNvSpPr/>
              <p:nvPr/>
            </p:nvSpPr>
            <p:spPr>
              <a:xfrm>
                <a:off x="4529160" y="2009880"/>
                <a:ext cx="306720" cy="513720"/>
              </a:xfrm>
              <a:custGeom>
                <a:avLst/>
                <a:gdLst/>
                <a:ahLst/>
                <a:rect l="l" t="t" r="r" b="b"/>
                <a:pathLst>
                  <a:path w="70" h="117">
                    <a:moveTo>
                      <a:pt x="0" y="113"/>
                    </a:moveTo>
                    <a:lnTo>
                      <a:pt x="21" y="84"/>
                    </a:lnTo>
                    <a:lnTo>
                      <a:pt x="36" y="51"/>
                    </a:lnTo>
                    <a:lnTo>
                      <a:pt x="49" y="21"/>
                    </a:lnTo>
                    <a:lnTo>
                      <a:pt x="64" y="0"/>
                    </a:lnTo>
                    <a:lnTo>
                      <a:pt x="70" y="11"/>
                    </a:lnTo>
                    <a:lnTo>
                      <a:pt x="54" y="36"/>
                    </a:lnTo>
                    <a:lnTo>
                      <a:pt x="40" y="65"/>
                    </a:lnTo>
                    <a:lnTo>
                      <a:pt x="26" y="95"/>
                    </a:lnTo>
                    <a:lnTo>
                      <a:pt x="13" y="117"/>
                    </a:lnTo>
                    <a:lnTo>
                      <a:pt x="0" y="11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4651560" y="2075400"/>
                <a:ext cx="272160" cy="473760"/>
              </a:xfrm>
              <a:custGeom>
                <a:avLst/>
                <a:gdLst/>
                <a:ahLst/>
                <a:rect l="l" t="t" r="r" b="b"/>
                <a:pathLst>
                  <a:path w="62" h="108">
                    <a:moveTo>
                      <a:pt x="0" y="102"/>
                    </a:moveTo>
                    <a:lnTo>
                      <a:pt x="23" y="57"/>
                    </a:lnTo>
                    <a:lnTo>
                      <a:pt x="37" y="24"/>
                    </a:lnTo>
                    <a:lnTo>
                      <a:pt x="51" y="0"/>
                    </a:lnTo>
                    <a:lnTo>
                      <a:pt x="62" y="5"/>
                    </a:lnTo>
                    <a:lnTo>
                      <a:pt x="43" y="42"/>
                    </a:lnTo>
                    <a:lnTo>
                      <a:pt x="25" y="81"/>
                    </a:lnTo>
                    <a:lnTo>
                      <a:pt x="13" y="108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4788360" y="2106360"/>
                <a:ext cx="232200" cy="473760"/>
              </a:xfrm>
              <a:custGeom>
                <a:avLst/>
                <a:gdLst/>
                <a:ahLst/>
                <a:rect l="l" t="t" r="r" b="b"/>
                <a:pathLst>
                  <a:path w="53" h="108">
                    <a:moveTo>
                      <a:pt x="0" y="102"/>
                    </a:moveTo>
                    <a:lnTo>
                      <a:pt x="18" y="58"/>
                    </a:lnTo>
                    <a:lnTo>
                      <a:pt x="33" y="20"/>
                    </a:lnTo>
                    <a:lnTo>
                      <a:pt x="40" y="0"/>
                    </a:lnTo>
                    <a:lnTo>
                      <a:pt x="53" y="1"/>
                    </a:lnTo>
                    <a:lnTo>
                      <a:pt x="41" y="40"/>
                    </a:lnTo>
                    <a:lnTo>
                      <a:pt x="26" y="78"/>
                    </a:lnTo>
                    <a:lnTo>
                      <a:pt x="11" y="108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85" name=""/>
            <p:cNvGrpSpPr/>
            <p:nvPr/>
          </p:nvGrpSpPr>
          <p:grpSpPr>
            <a:xfrm>
              <a:off x="4251240" y="2523960"/>
              <a:ext cx="1188000" cy="1121400"/>
              <a:chOff x="4251240" y="2523960"/>
              <a:chExt cx="1188000" cy="1121400"/>
            </a:xfrm>
          </p:grpSpPr>
          <p:sp>
            <p:nvSpPr>
              <p:cNvPr id="2986" name=""/>
              <p:cNvSpPr/>
              <p:nvPr/>
            </p:nvSpPr>
            <p:spPr>
              <a:xfrm>
                <a:off x="4779360" y="2611440"/>
                <a:ext cx="659880" cy="620640"/>
              </a:xfrm>
              <a:custGeom>
                <a:avLst/>
                <a:gdLst/>
                <a:ahLst/>
                <a:rect l="l" t="t" r="r" b="b"/>
                <a:pathLst>
                  <a:path w="150" h="141">
                    <a:moveTo>
                      <a:pt x="0" y="0"/>
                    </a:moveTo>
                    <a:lnTo>
                      <a:pt x="35" y="15"/>
                    </a:lnTo>
                    <a:lnTo>
                      <a:pt x="64" y="32"/>
                    </a:lnTo>
                    <a:lnTo>
                      <a:pt x="89" y="56"/>
                    </a:lnTo>
                    <a:lnTo>
                      <a:pt x="123" y="93"/>
                    </a:lnTo>
                    <a:lnTo>
                      <a:pt x="150" y="126"/>
                    </a:lnTo>
                    <a:lnTo>
                      <a:pt x="136" y="141"/>
                    </a:lnTo>
                    <a:lnTo>
                      <a:pt x="111" y="107"/>
                    </a:lnTo>
                    <a:lnTo>
                      <a:pt x="79" y="68"/>
                    </a:lnTo>
                    <a:lnTo>
                      <a:pt x="49" y="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4611600" y="2554560"/>
                <a:ext cx="691920" cy="805320"/>
              </a:xfrm>
              <a:custGeom>
                <a:avLst/>
                <a:gdLst/>
                <a:ahLst/>
                <a:rect l="l" t="t" r="r" b="b"/>
                <a:pathLst>
                  <a:path w="157" h="183">
                    <a:moveTo>
                      <a:pt x="157" y="168"/>
                    </a:moveTo>
                    <a:lnTo>
                      <a:pt x="120" y="113"/>
                    </a:lnTo>
                    <a:lnTo>
                      <a:pt x="88" y="73"/>
                    </a:lnTo>
                    <a:lnTo>
                      <a:pt x="58" y="43"/>
                    </a:lnTo>
                    <a:lnTo>
                      <a:pt x="27" y="17"/>
                    </a:lnTo>
                    <a:lnTo>
                      <a:pt x="0" y="0"/>
                    </a:lnTo>
                    <a:lnTo>
                      <a:pt x="24" y="30"/>
                    </a:lnTo>
                    <a:lnTo>
                      <a:pt x="57" y="63"/>
                    </a:lnTo>
                    <a:lnTo>
                      <a:pt x="82" y="95"/>
                    </a:lnTo>
                    <a:lnTo>
                      <a:pt x="114" y="137"/>
                    </a:lnTo>
                    <a:lnTo>
                      <a:pt x="142" y="183"/>
                    </a:lnTo>
                    <a:lnTo>
                      <a:pt x="157" y="16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4453920" y="2523960"/>
                <a:ext cx="708840" cy="924120"/>
              </a:xfrm>
              <a:custGeom>
                <a:avLst/>
                <a:gdLst/>
                <a:ahLst/>
                <a:rect l="l" t="t" r="r" b="b"/>
                <a:pathLst>
                  <a:path w="161" h="210">
                    <a:moveTo>
                      <a:pt x="0" y="0"/>
                    </a:moveTo>
                    <a:lnTo>
                      <a:pt x="13" y="2"/>
                    </a:lnTo>
                    <a:lnTo>
                      <a:pt x="27" y="7"/>
                    </a:lnTo>
                    <a:lnTo>
                      <a:pt x="45" y="35"/>
                    </a:lnTo>
                    <a:lnTo>
                      <a:pt x="64" y="59"/>
                    </a:lnTo>
                    <a:lnTo>
                      <a:pt x="92" y="88"/>
                    </a:lnTo>
                    <a:lnTo>
                      <a:pt x="116" y="126"/>
                    </a:lnTo>
                    <a:lnTo>
                      <a:pt x="138" y="159"/>
                    </a:lnTo>
                    <a:lnTo>
                      <a:pt x="161" y="198"/>
                    </a:lnTo>
                    <a:lnTo>
                      <a:pt x="142" y="210"/>
                    </a:lnTo>
                    <a:lnTo>
                      <a:pt x="120" y="162"/>
                    </a:lnTo>
                    <a:lnTo>
                      <a:pt x="89" y="115"/>
                    </a:lnTo>
                    <a:lnTo>
                      <a:pt x="55" y="72"/>
                    </a:lnTo>
                    <a:lnTo>
                      <a:pt x="24" y="3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4426920" y="2699280"/>
                <a:ext cx="590040" cy="827280"/>
              </a:xfrm>
              <a:custGeom>
                <a:avLst/>
                <a:gdLst/>
                <a:ahLst/>
                <a:rect l="l" t="t" r="r" b="b"/>
                <a:pathLst>
                  <a:path w="134" h="188">
                    <a:moveTo>
                      <a:pt x="16" y="0"/>
                    </a:moveTo>
                    <a:lnTo>
                      <a:pt x="20" y="11"/>
                    </a:lnTo>
                    <a:lnTo>
                      <a:pt x="0" y="9"/>
                    </a:lnTo>
                    <a:lnTo>
                      <a:pt x="18" y="27"/>
                    </a:lnTo>
                    <a:lnTo>
                      <a:pt x="44" y="61"/>
                    </a:lnTo>
                    <a:lnTo>
                      <a:pt x="70" y="101"/>
                    </a:lnTo>
                    <a:lnTo>
                      <a:pt x="94" y="140"/>
                    </a:lnTo>
                    <a:lnTo>
                      <a:pt x="117" y="188"/>
                    </a:lnTo>
                    <a:lnTo>
                      <a:pt x="134" y="178"/>
                    </a:lnTo>
                    <a:lnTo>
                      <a:pt x="109" y="124"/>
                    </a:lnTo>
                    <a:lnTo>
                      <a:pt x="82" y="82"/>
                    </a:lnTo>
                    <a:lnTo>
                      <a:pt x="52" y="45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4251240" y="2682360"/>
                <a:ext cx="633960" cy="906120"/>
              </a:xfrm>
              <a:custGeom>
                <a:avLst/>
                <a:gdLst/>
                <a:ahLst/>
                <a:rect l="l" t="t" r="r" b="b"/>
                <a:pathLst>
                  <a:path w="144" h="206">
                    <a:moveTo>
                      <a:pt x="141" y="193"/>
                    </a:moveTo>
                    <a:lnTo>
                      <a:pt x="117" y="143"/>
                    </a:lnTo>
                    <a:lnTo>
                      <a:pt x="89" y="102"/>
                    </a:lnTo>
                    <a:lnTo>
                      <a:pt x="58" y="58"/>
                    </a:lnTo>
                    <a:lnTo>
                      <a:pt x="34" y="24"/>
                    </a:lnTo>
                    <a:lnTo>
                      <a:pt x="24" y="9"/>
                    </a:lnTo>
                    <a:lnTo>
                      <a:pt x="0" y="0"/>
                    </a:lnTo>
                    <a:lnTo>
                      <a:pt x="17" y="24"/>
                    </a:lnTo>
                    <a:lnTo>
                      <a:pt x="43" y="63"/>
                    </a:lnTo>
                    <a:lnTo>
                      <a:pt x="75" y="108"/>
                    </a:lnTo>
                    <a:lnTo>
                      <a:pt x="101" y="147"/>
                    </a:lnTo>
                    <a:lnTo>
                      <a:pt x="120" y="186"/>
                    </a:lnTo>
                    <a:lnTo>
                      <a:pt x="128" y="206"/>
                    </a:lnTo>
                    <a:lnTo>
                      <a:pt x="144" y="197"/>
                    </a:lnTo>
                    <a:lnTo>
                      <a:pt x="141" y="19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4352040" y="3056760"/>
                <a:ext cx="334440" cy="588600"/>
              </a:xfrm>
              <a:custGeom>
                <a:avLst/>
                <a:gdLst/>
                <a:ahLst/>
                <a:rect l="l" t="t" r="r" b="b"/>
                <a:pathLst>
                  <a:path w="76" h="134">
                    <a:moveTo>
                      <a:pt x="0" y="13"/>
                    </a:moveTo>
                    <a:lnTo>
                      <a:pt x="25" y="59"/>
                    </a:lnTo>
                    <a:lnTo>
                      <a:pt x="40" y="95"/>
                    </a:lnTo>
                    <a:lnTo>
                      <a:pt x="58" y="134"/>
                    </a:lnTo>
                    <a:lnTo>
                      <a:pt x="76" y="131"/>
                    </a:lnTo>
                    <a:lnTo>
                      <a:pt x="54" y="83"/>
                    </a:lnTo>
                    <a:lnTo>
                      <a:pt x="34" y="45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4299120" y="2814120"/>
                <a:ext cx="476280" cy="801360"/>
              </a:xfrm>
              <a:custGeom>
                <a:avLst/>
                <a:gdLst/>
                <a:ahLst/>
                <a:rect l="l" t="t" r="r" b="b"/>
                <a:pathLst>
                  <a:path w="108" h="182">
                    <a:moveTo>
                      <a:pt x="97" y="182"/>
                    </a:moveTo>
                    <a:lnTo>
                      <a:pt x="108" y="178"/>
                    </a:lnTo>
                    <a:lnTo>
                      <a:pt x="84" y="129"/>
                    </a:lnTo>
                    <a:lnTo>
                      <a:pt x="60" y="92"/>
                    </a:lnTo>
                    <a:lnTo>
                      <a:pt x="26" y="41"/>
                    </a:lnTo>
                    <a:lnTo>
                      <a:pt x="0" y="0"/>
                    </a:lnTo>
                    <a:lnTo>
                      <a:pt x="15" y="35"/>
                    </a:lnTo>
                    <a:lnTo>
                      <a:pt x="16" y="48"/>
                    </a:lnTo>
                    <a:lnTo>
                      <a:pt x="44" y="84"/>
                    </a:lnTo>
                    <a:lnTo>
                      <a:pt x="66" y="117"/>
                    </a:lnTo>
                    <a:lnTo>
                      <a:pt x="84" y="152"/>
                    </a:lnTo>
                    <a:lnTo>
                      <a:pt x="97" y="18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3" name=""/>
            <p:cNvGrpSpPr/>
            <p:nvPr/>
          </p:nvGrpSpPr>
          <p:grpSpPr>
            <a:xfrm>
              <a:off x="2297160" y="631800"/>
              <a:ext cx="4686840" cy="3850200"/>
              <a:chOff x="2297160" y="631800"/>
              <a:chExt cx="4686840" cy="3850200"/>
            </a:xfrm>
          </p:grpSpPr>
          <p:sp>
            <p:nvSpPr>
              <p:cNvPr id="2994" name=""/>
              <p:cNvSpPr/>
              <p:nvPr/>
            </p:nvSpPr>
            <p:spPr>
              <a:xfrm>
                <a:off x="2754000" y="1485000"/>
                <a:ext cx="435960" cy="387000"/>
              </a:xfrm>
              <a:custGeom>
                <a:avLst/>
                <a:gdLst/>
                <a:ahLst/>
                <a:rect l="l" t="t" r="r" b="b"/>
                <a:pathLst>
                  <a:path w="99" h="88">
                    <a:moveTo>
                      <a:pt x="99" y="88"/>
                    </a:moveTo>
                    <a:lnTo>
                      <a:pt x="35" y="6"/>
                    </a:lnTo>
                    <a:lnTo>
                      <a:pt x="21" y="0"/>
                    </a:lnTo>
                    <a:lnTo>
                      <a:pt x="3" y="3"/>
                    </a:lnTo>
                    <a:lnTo>
                      <a:pt x="0" y="24"/>
                    </a:lnTo>
                    <a:lnTo>
                      <a:pt x="99" y="88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2297160" y="2189520"/>
                <a:ext cx="620640" cy="127440"/>
              </a:xfrm>
              <a:custGeom>
                <a:avLst/>
                <a:gdLst/>
                <a:ahLst/>
                <a:rect l="l" t="t" r="r" b="b"/>
                <a:pathLst>
                  <a:path w="141" h="29">
                    <a:moveTo>
                      <a:pt x="141" y="29"/>
                    </a:moveTo>
                    <a:lnTo>
                      <a:pt x="24" y="0"/>
                    </a:lnTo>
                    <a:lnTo>
                      <a:pt x="6" y="9"/>
                    </a:lnTo>
                    <a:lnTo>
                      <a:pt x="9" y="24"/>
                    </a:lnTo>
                    <a:lnTo>
                      <a:pt x="0" y="29"/>
                    </a:lnTo>
                    <a:lnTo>
                      <a:pt x="24" y="29"/>
                    </a:lnTo>
                    <a:lnTo>
                      <a:pt x="141" y="29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4330080" y="631800"/>
                <a:ext cx="114480" cy="523800"/>
              </a:xfrm>
              <a:custGeom>
                <a:avLst/>
                <a:gdLst/>
                <a:ahLst/>
                <a:rect l="l" t="t" r="r" b="b"/>
                <a:pathLst>
                  <a:path w="26" h="119">
                    <a:moveTo>
                      <a:pt x="9" y="119"/>
                    </a:moveTo>
                    <a:lnTo>
                      <a:pt x="0" y="15"/>
                    </a:lnTo>
                    <a:lnTo>
                      <a:pt x="6" y="0"/>
                    </a:lnTo>
                    <a:lnTo>
                      <a:pt x="17" y="0"/>
                    </a:lnTo>
                    <a:lnTo>
                      <a:pt x="26" y="15"/>
                    </a:lnTo>
                    <a:lnTo>
                      <a:pt x="9" y="119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6042960" y="1908360"/>
                <a:ext cx="650520" cy="408960"/>
              </a:xfrm>
              <a:custGeom>
                <a:avLst/>
                <a:gdLst/>
                <a:ahLst/>
                <a:rect l="l" t="t" r="r" b="b"/>
                <a:pathLst>
                  <a:path w="148" h="93">
                    <a:moveTo>
                      <a:pt x="26" y="59"/>
                    </a:moveTo>
                    <a:lnTo>
                      <a:pt x="96" y="12"/>
                    </a:lnTo>
                    <a:lnTo>
                      <a:pt x="136" y="0"/>
                    </a:lnTo>
                    <a:lnTo>
                      <a:pt x="148" y="12"/>
                    </a:lnTo>
                    <a:lnTo>
                      <a:pt x="125" y="35"/>
                    </a:lnTo>
                    <a:lnTo>
                      <a:pt x="61" y="56"/>
                    </a:lnTo>
                    <a:lnTo>
                      <a:pt x="0" y="93"/>
                    </a:lnTo>
                    <a:lnTo>
                      <a:pt x="26" y="59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6319440" y="2713680"/>
                <a:ext cx="664560" cy="126720"/>
              </a:xfrm>
              <a:custGeom>
                <a:avLst/>
                <a:gdLst/>
                <a:ahLst/>
                <a:rect l="l" t="t" r="r" b="b"/>
                <a:pathLst>
                  <a:path w="151" h="29">
                    <a:moveTo>
                      <a:pt x="0" y="24"/>
                    </a:moveTo>
                    <a:lnTo>
                      <a:pt x="72" y="0"/>
                    </a:lnTo>
                    <a:lnTo>
                      <a:pt x="136" y="3"/>
                    </a:lnTo>
                    <a:lnTo>
                      <a:pt x="151" y="18"/>
                    </a:lnTo>
                    <a:lnTo>
                      <a:pt x="139" y="29"/>
                    </a:lnTo>
                    <a:lnTo>
                      <a:pt x="110" y="21"/>
                    </a:lnTo>
                    <a:lnTo>
                      <a:pt x="60" y="21"/>
                    </a:lnTo>
                    <a:lnTo>
                      <a:pt x="49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3199320" y="3994200"/>
                <a:ext cx="387000" cy="487800"/>
              </a:xfrm>
              <a:custGeom>
                <a:avLst/>
                <a:gdLst/>
                <a:ahLst/>
                <a:rect l="l" t="t" r="r" b="b"/>
                <a:pathLst>
                  <a:path w="88" h="111">
                    <a:moveTo>
                      <a:pt x="88" y="0"/>
                    </a:moveTo>
                    <a:lnTo>
                      <a:pt x="41" y="33"/>
                    </a:lnTo>
                    <a:lnTo>
                      <a:pt x="12" y="65"/>
                    </a:lnTo>
                    <a:lnTo>
                      <a:pt x="0" y="102"/>
                    </a:lnTo>
                    <a:lnTo>
                      <a:pt x="12" y="111"/>
                    </a:lnTo>
                    <a:lnTo>
                      <a:pt x="24" y="111"/>
                    </a:lnTo>
                    <a:lnTo>
                      <a:pt x="35" y="99"/>
                    </a:lnTo>
                    <a:lnTo>
                      <a:pt x="38" y="70"/>
                    </a:lnTo>
                    <a:lnTo>
                      <a:pt x="56" y="39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"/>
          <p:cNvSpPr/>
          <p:nvPr/>
        </p:nvSpPr>
        <p:spPr>
          <a:xfrm>
            <a:off x="750960" y="4206960"/>
            <a:ext cx="3724200" cy="916920"/>
          </a:xfrm>
          <a:prstGeom prst="rect">
            <a:avLst/>
          </a:prstGeom>
          <a:noFill/>
          <a:ln w="0">
            <a:noFill/>
          </a:ln>
          <a:effectLst>
            <a:outerShdw dist="99192" dir="301805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ERREUR 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4579920" y="2935440"/>
            <a:ext cx="2403360" cy="2971800"/>
          </a:xfrm>
          <a:custGeom>
            <a:avLst/>
            <a:gdLst/>
            <a:ahLst/>
            <a:rect l="l" t="t" r="r" b="b"/>
            <a:pathLst>
              <a:path w="1514" h="1872">
                <a:moveTo>
                  <a:pt x="1141" y="1662"/>
                </a:moveTo>
                <a:lnTo>
                  <a:pt x="1156" y="1630"/>
                </a:lnTo>
                <a:lnTo>
                  <a:pt x="1178" y="1579"/>
                </a:lnTo>
                <a:lnTo>
                  <a:pt x="1207" y="1512"/>
                </a:lnTo>
                <a:lnTo>
                  <a:pt x="1241" y="1429"/>
                </a:lnTo>
                <a:lnTo>
                  <a:pt x="1279" y="1333"/>
                </a:lnTo>
                <a:lnTo>
                  <a:pt x="1319" y="1227"/>
                </a:lnTo>
                <a:lnTo>
                  <a:pt x="1360" y="1114"/>
                </a:lnTo>
                <a:lnTo>
                  <a:pt x="1398" y="996"/>
                </a:lnTo>
                <a:lnTo>
                  <a:pt x="1433" y="875"/>
                </a:lnTo>
                <a:lnTo>
                  <a:pt x="1464" y="753"/>
                </a:lnTo>
                <a:lnTo>
                  <a:pt x="1489" y="631"/>
                </a:lnTo>
                <a:lnTo>
                  <a:pt x="1506" y="516"/>
                </a:lnTo>
                <a:lnTo>
                  <a:pt x="1514" y="405"/>
                </a:lnTo>
                <a:lnTo>
                  <a:pt x="1510" y="304"/>
                </a:lnTo>
                <a:lnTo>
                  <a:pt x="1494" y="213"/>
                </a:lnTo>
                <a:lnTo>
                  <a:pt x="1464" y="137"/>
                </a:lnTo>
                <a:lnTo>
                  <a:pt x="1447" y="111"/>
                </a:lnTo>
                <a:lnTo>
                  <a:pt x="1428" y="87"/>
                </a:lnTo>
                <a:lnTo>
                  <a:pt x="1406" y="66"/>
                </a:lnTo>
                <a:lnTo>
                  <a:pt x="1383" y="47"/>
                </a:lnTo>
                <a:lnTo>
                  <a:pt x="1357" y="33"/>
                </a:lnTo>
                <a:lnTo>
                  <a:pt x="1329" y="21"/>
                </a:lnTo>
                <a:lnTo>
                  <a:pt x="1299" y="12"/>
                </a:lnTo>
                <a:lnTo>
                  <a:pt x="1268" y="7"/>
                </a:lnTo>
                <a:lnTo>
                  <a:pt x="1220" y="1"/>
                </a:lnTo>
                <a:lnTo>
                  <a:pt x="1173" y="0"/>
                </a:lnTo>
                <a:lnTo>
                  <a:pt x="1124" y="1"/>
                </a:lnTo>
                <a:lnTo>
                  <a:pt x="1076" y="4"/>
                </a:lnTo>
                <a:lnTo>
                  <a:pt x="1026" y="11"/>
                </a:lnTo>
                <a:lnTo>
                  <a:pt x="977" y="18"/>
                </a:lnTo>
                <a:lnTo>
                  <a:pt x="927" y="29"/>
                </a:lnTo>
                <a:lnTo>
                  <a:pt x="877" y="41"/>
                </a:lnTo>
                <a:lnTo>
                  <a:pt x="827" y="54"/>
                </a:lnTo>
                <a:lnTo>
                  <a:pt x="777" y="71"/>
                </a:lnTo>
                <a:lnTo>
                  <a:pt x="728" y="88"/>
                </a:lnTo>
                <a:lnTo>
                  <a:pt x="679" y="107"/>
                </a:lnTo>
                <a:lnTo>
                  <a:pt x="631" y="128"/>
                </a:lnTo>
                <a:lnTo>
                  <a:pt x="583" y="149"/>
                </a:lnTo>
                <a:lnTo>
                  <a:pt x="537" y="171"/>
                </a:lnTo>
                <a:lnTo>
                  <a:pt x="493" y="195"/>
                </a:lnTo>
                <a:lnTo>
                  <a:pt x="448" y="220"/>
                </a:lnTo>
                <a:lnTo>
                  <a:pt x="404" y="245"/>
                </a:lnTo>
                <a:lnTo>
                  <a:pt x="364" y="271"/>
                </a:lnTo>
                <a:lnTo>
                  <a:pt x="324" y="297"/>
                </a:lnTo>
                <a:lnTo>
                  <a:pt x="285" y="324"/>
                </a:lnTo>
                <a:lnTo>
                  <a:pt x="249" y="351"/>
                </a:lnTo>
                <a:lnTo>
                  <a:pt x="215" y="378"/>
                </a:lnTo>
                <a:lnTo>
                  <a:pt x="182" y="405"/>
                </a:lnTo>
                <a:lnTo>
                  <a:pt x="152" y="432"/>
                </a:lnTo>
                <a:lnTo>
                  <a:pt x="124" y="458"/>
                </a:lnTo>
                <a:lnTo>
                  <a:pt x="99" y="484"/>
                </a:lnTo>
                <a:lnTo>
                  <a:pt x="75" y="510"/>
                </a:lnTo>
                <a:lnTo>
                  <a:pt x="56" y="534"/>
                </a:lnTo>
                <a:lnTo>
                  <a:pt x="39" y="559"/>
                </a:lnTo>
                <a:lnTo>
                  <a:pt x="24" y="582"/>
                </a:lnTo>
                <a:lnTo>
                  <a:pt x="14" y="604"/>
                </a:lnTo>
                <a:lnTo>
                  <a:pt x="4" y="629"/>
                </a:lnTo>
                <a:lnTo>
                  <a:pt x="0" y="653"/>
                </a:lnTo>
                <a:lnTo>
                  <a:pt x="0" y="671"/>
                </a:lnTo>
                <a:lnTo>
                  <a:pt x="3" y="688"/>
                </a:lnTo>
                <a:lnTo>
                  <a:pt x="8" y="703"/>
                </a:lnTo>
                <a:lnTo>
                  <a:pt x="15" y="714"/>
                </a:lnTo>
                <a:lnTo>
                  <a:pt x="23" y="724"/>
                </a:lnTo>
                <a:lnTo>
                  <a:pt x="31" y="731"/>
                </a:lnTo>
                <a:lnTo>
                  <a:pt x="57" y="751"/>
                </a:lnTo>
                <a:lnTo>
                  <a:pt x="86" y="770"/>
                </a:lnTo>
                <a:lnTo>
                  <a:pt x="116" y="788"/>
                </a:lnTo>
                <a:lnTo>
                  <a:pt x="148" y="804"/>
                </a:lnTo>
                <a:lnTo>
                  <a:pt x="182" y="820"/>
                </a:lnTo>
                <a:lnTo>
                  <a:pt x="216" y="834"/>
                </a:lnTo>
                <a:lnTo>
                  <a:pt x="252" y="847"/>
                </a:lnTo>
                <a:lnTo>
                  <a:pt x="286" y="859"/>
                </a:lnTo>
                <a:lnTo>
                  <a:pt x="320" y="871"/>
                </a:lnTo>
                <a:lnTo>
                  <a:pt x="354" y="881"/>
                </a:lnTo>
                <a:lnTo>
                  <a:pt x="386" y="891"/>
                </a:lnTo>
                <a:lnTo>
                  <a:pt x="418" y="899"/>
                </a:lnTo>
                <a:lnTo>
                  <a:pt x="447" y="905"/>
                </a:lnTo>
                <a:lnTo>
                  <a:pt x="472" y="912"/>
                </a:lnTo>
                <a:lnTo>
                  <a:pt x="495" y="917"/>
                </a:lnTo>
                <a:lnTo>
                  <a:pt x="515" y="921"/>
                </a:lnTo>
                <a:lnTo>
                  <a:pt x="462" y="1084"/>
                </a:lnTo>
                <a:lnTo>
                  <a:pt x="491" y="1095"/>
                </a:lnTo>
                <a:lnTo>
                  <a:pt x="520" y="1109"/>
                </a:lnTo>
                <a:lnTo>
                  <a:pt x="545" y="1127"/>
                </a:lnTo>
                <a:lnTo>
                  <a:pt x="566" y="1151"/>
                </a:lnTo>
                <a:lnTo>
                  <a:pt x="581" y="1177"/>
                </a:lnTo>
                <a:lnTo>
                  <a:pt x="591" y="1206"/>
                </a:lnTo>
                <a:lnTo>
                  <a:pt x="595" y="1237"/>
                </a:lnTo>
                <a:lnTo>
                  <a:pt x="594" y="1267"/>
                </a:lnTo>
                <a:lnTo>
                  <a:pt x="586" y="1298"/>
                </a:lnTo>
                <a:lnTo>
                  <a:pt x="573" y="1326"/>
                </a:lnTo>
                <a:lnTo>
                  <a:pt x="556" y="1351"/>
                </a:lnTo>
                <a:lnTo>
                  <a:pt x="533" y="1371"/>
                </a:lnTo>
                <a:lnTo>
                  <a:pt x="510" y="1387"/>
                </a:lnTo>
                <a:lnTo>
                  <a:pt x="482" y="1397"/>
                </a:lnTo>
                <a:lnTo>
                  <a:pt x="453" y="1402"/>
                </a:lnTo>
                <a:lnTo>
                  <a:pt x="423" y="1402"/>
                </a:lnTo>
                <a:lnTo>
                  <a:pt x="393" y="1397"/>
                </a:lnTo>
                <a:lnTo>
                  <a:pt x="362" y="1389"/>
                </a:lnTo>
                <a:lnTo>
                  <a:pt x="312" y="1540"/>
                </a:lnTo>
                <a:lnTo>
                  <a:pt x="73" y="1786"/>
                </a:lnTo>
                <a:lnTo>
                  <a:pt x="337" y="1737"/>
                </a:lnTo>
                <a:lnTo>
                  <a:pt x="277" y="1872"/>
                </a:lnTo>
                <a:lnTo>
                  <a:pt x="1154" y="1797"/>
                </a:lnTo>
                <a:lnTo>
                  <a:pt x="1141" y="16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4998960" y="5494320"/>
            <a:ext cx="1300320" cy="295200"/>
          </a:xfrm>
          <a:custGeom>
            <a:avLst/>
            <a:gdLst/>
            <a:ahLst/>
            <a:rect l="l" t="t" r="r" b="b"/>
            <a:pathLst>
              <a:path w="819" h="186">
                <a:moveTo>
                  <a:pt x="0" y="72"/>
                </a:moveTo>
                <a:lnTo>
                  <a:pt x="69" y="0"/>
                </a:lnTo>
                <a:lnTo>
                  <a:pt x="814" y="73"/>
                </a:lnTo>
                <a:lnTo>
                  <a:pt x="819" y="126"/>
                </a:lnTo>
                <a:lnTo>
                  <a:pt x="117" y="186"/>
                </a:lnTo>
                <a:lnTo>
                  <a:pt x="181" y="38"/>
                </a:lnTo>
                <a:lnTo>
                  <a:pt x="0" y="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4683240" y="3040200"/>
            <a:ext cx="2197080" cy="2468520"/>
          </a:xfrm>
          <a:custGeom>
            <a:avLst/>
            <a:gdLst/>
            <a:ahLst/>
            <a:rect l="l" t="t" r="r" b="b"/>
            <a:pathLst>
              <a:path w="1384" h="1555">
                <a:moveTo>
                  <a:pt x="583" y="1255"/>
                </a:moveTo>
                <a:lnTo>
                  <a:pt x="593" y="1215"/>
                </a:lnTo>
                <a:lnTo>
                  <a:pt x="596" y="1175"/>
                </a:lnTo>
                <a:lnTo>
                  <a:pt x="591" y="1135"/>
                </a:lnTo>
                <a:lnTo>
                  <a:pt x="580" y="1098"/>
                </a:lnTo>
                <a:lnTo>
                  <a:pt x="563" y="1063"/>
                </a:lnTo>
                <a:lnTo>
                  <a:pt x="539" y="1031"/>
                </a:lnTo>
                <a:lnTo>
                  <a:pt x="512" y="1004"/>
                </a:lnTo>
                <a:lnTo>
                  <a:pt x="478" y="981"/>
                </a:lnTo>
                <a:lnTo>
                  <a:pt x="535" y="804"/>
                </a:lnTo>
                <a:lnTo>
                  <a:pt x="499" y="798"/>
                </a:lnTo>
                <a:lnTo>
                  <a:pt x="495" y="797"/>
                </a:lnTo>
                <a:lnTo>
                  <a:pt x="483" y="796"/>
                </a:lnTo>
                <a:lnTo>
                  <a:pt x="464" y="792"/>
                </a:lnTo>
                <a:lnTo>
                  <a:pt x="441" y="786"/>
                </a:lnTo>
                <a:lnTo>
                  <a:pt x="413" y="780"/>
                </a:lnTo>
                <a:lnTo>
                  <a:pt x="380" y="772"/>
                </a:lnTo>
                <a:lnTo>
                  <a:pt x="345" y="763"/>
                </a:lnTo>
                <a:lnTo>
                  <a:pt x="307" y="752"/>
                </a:lnTo>
                <a:lnTo>
                  <a:pt x="267" y="739"/>
                </a:lnTo>
                <a:lnTo>
                  <a:pt x="226" y="726"/>
                </a:lnTo>
                <a:lnTo>
                  <a:pt x="185" y="712"/>
                </a:lnTo>
                <a:lnTo>
                  <a:pt x="146" y="694"/>
                </a:lnTo>
                <a:lnTo>
                  <a:pt x="107" y="677"/>
                </a:lnTo>
                <a:lnTo>
                  <a:pt x="71" y="658"/>
                </a:lnTo>
                <a:lnTo>
                  <a:pt x="37" y="638"/>
                </a:lnTo>
                <a:lnTo>
                  <a:pt x="8" y="615"/>
                </a:lnTo>
                <a:lnTo>
                  <a:pt x="4" y="612"/>
                </a:lnTo>
                <a:lnTo>
                  <a:pt x="0" y="602"/>
                </a:lnTo>
                <a:lnTo>
                  <a:pt x="1" y="588"/>
                </a:lnTo>
                <a:lnTo>
                  <a:pt x="8" y="564"/>
                </a:lnTo>
                <a:lnTo>
                  <a:pt x="18" y="544"/>
                </a:lnTo>
                <a:lnTo>
                  <a:pt x="32" y="523"/>
                </a:lnTo>
                <a:lnTo>
                  <a:pt x="47" y="501"/>
                </a:lnTo>
                <a:lnTo>
                  <a:pt x="66" y="477"/>
                </a:lnTo>
                <a:lnTo>
                  <a:pt x="88" y="454"/>
                </a:lnTo>
                <a:lnTo>
                  <a:pt x="112" y="430"/>
                </a:lnTo>
                <a:lnTo>
                  <a:pt x="138" y="405"/>
                </a:lnTo>
                <a:lnTo>
                  <a:pt x="167" y="380"/>
                </a:lnTo>
                <a:lnTo>
                  <a:pt x="199" y="355"/>
                </a:lnTo>
                <a:lnTo>
                  <a:pt x="232" y="330"/>
                </a:lnTo>
                <a:lnTo>
                  <a:pt x="266" y="305"/>
                </a:lnTo>
                <a:lnTo>
                  <a:pt x="303" y="280"/>
                </a:lnTo>
                <a:lnTo>
                  <a:pt x="341" y="255"/>
                </a:lnTo>
                <a:lnTo>
                  <a:pt x="380" y="231"/>
                </a:lnTo>
                <a:lnTo>
                  <a:pt x="421" y="208"/>
                </a:lnTo>
                <a:lnTo>
                  <a:pt x="463" y="184"/>
                </a:lnTo>
                <a:lnTo>
                  <a:pt x="505" y="162"/>
                </a:lnTo>
                <a:lnTo>
                  <a:pt x="550" y="141"/>
                </a:lnTo>
                <a:lnTo>
                  <a:pt x="595" y="120"/>
                </a:lnTo>
                <a:lnTo>
                  <a:pt x="641" y="101"/>
                </a:lnTo>
                <a:lnTo>
                  <a:pt x="687" y="83"/>
                </a:lnTo>
                <a:lnTo>
                  <a:pt x="733" y="67"/>
                </a:lnTo>
                <a:lnTo>
                  <a:pt x="780" y="51"/>
                </a:lnTo>
                <a:lnTo>
                  <a:pt x="828" y="38"/>
                </a:lnTo>
                <a:lnTo>
                  <a:pt x="875" y="26"/>
                </a:lnTo>
                <a:lnTo>
                  <a:pt x="921" y="17"/>
                </a:lnTo>
                <a:lnTo>
                  <a:pt x="968" y="9"/>
                </a:lnTo>
                <a:lnTo>
                  <a:pt x="1014" y="4"/>
                </a:lnTo>
                <a:lnTo>
                  <a:pt x="1061" y="0"/>
                </a:lnTo>
                <a:lnTo>
                  <a:pt x="1107" y="0"/>
                </a:lnTo>
                <a:lnTo>
                  <a:pt x="1151" y="1"/>
                </a:lnTo>
                <a:lnTo>
                  <a:pt x="1195" y="5"/>
                </a:lnTo>
                <a:lnTo>
                  <a:pt x="1218" y="9"/>
                </a:lnTo>
                <a:lnTo>
                  <a:pt x="1242" y="16"/>
                </a:lnTo>
                <a:lnTo>
                  <a:pt x="1262" y="25"/>
                </a:lnTo>
                <a:lnTo>
                  <a:pt x="1282" y="35"/>
                </a:lnTo>
                <a:lnTo>
                  <a:pt x="1299" y="49"/>
                </a:lnTo>
                <a:lnTo>
                  <a:pt x="1314" y="64"/>
                </a:lnTo>
                <a:lnTo>
                  <a:pt x="1329" y="83"/>
                </a:lnTo>
                <a:lnTo>
                  <a:pt x="1341" y="102"/>
                </a:lnTo>
                <a:lnTo>
                  <a:pt x="1367" y="171"/>
                </a:lnTo>
                <a:lnTo>
                  <a:pt x="1382" y="252"/>
                </a:lnTo>
                <a:lnTo>
                  <a:pt x="1384" y="344"/>
                </a:lnTo>
                <a:lnTo>
                  <a:pt x="1378" y="446"/>
                </a:lnTo>
                <a:lnTo>
                  <a:pt x="1361" y="552"/>
                </a:lnTo>
                <a:lnTo>
                  <a:pt x="1338" y="664"/>
                </a:lnTo>
                <a:lnTo>
                  <a:pt x="1309" y="779"/>
                </a:lnTo>
                <a:lnTo>
                  <a:pt x="1276" y="893"/>
                </a:lnTo>
                <a:lnTo>
                  <a:pt x="1239" y="1005"/>
                </a:lnTo>
                <a:lnTo>
                  <a:pt x="1203" y="1113"/>
                </a:lnTo>
                <a:lnTo>
                  <a:pt x="1164" y="1215"/>
                </a:lnTo>
                <a:lnTo>
                  <a:pt x="1128" y="1309"/>
                </a:lnTo>
                <a:lnTo>
                  <a:pt x="1095" y="1392"/>
                </a:lnTo>
                <a:lnTo>
                  <a:pt x="1064" y="1461"/>
                </a:lnTo>
                <a:lnTo>
                  <a:pt x="1041" y="1517"/>
                </a:lnTo>
                <a:lnTo>
                  <a:pt x="1024" y="1555"/>
                </a:lnTo>
                <a:lnTo>
                  <a:pt x="313" y="1485"/>
                </a:lnTo>
                <a:lnTo>
                  <a:pt x="341" y="1401"/>
                </a:lnTo>
                <a:lnTo>
                  <a:pt x="360" y="1402"/>
                </a:lnTo>
                <a:lnTo>
                  <a:pt x="379" y="1402"/>
                </a:lnTo>
                <a:lnTo>
                  <a:pt x="399" y="1401"/>
                </a:lnTo>
                <a:lnTo>
                  <a:pt x="417" y="1398"/>
                </a:lnTo>
                <a:lnTo>
                  <a:pt x="435" y="1393"/>
                </a:lnTo>
                <a:lnTo>
                  <a:pt x="453" y="1386"/>
                </a:lnTo>
                <a:lnTo>
                  <a:pt x="470" y="1380"/>
                </a:lnTo>
                <a:lnTo>
                  <a:pt x="487" y="1371"/>
                </a:lnTo>
                <a:lnTo>
                  <a:pt x="503" y="1360"/>
                </a:lnTo>
                <a:lnTo>
                  <a:pt x="517" y="1348"/>
                </a:lnTo>
                <a:lnTo>
                  <a:pt x="532" y="1335"/>
                </a:lnTo>
                <a:lnTo>
                  <a:pt x="543" y="1322"/>
                </a:lnTo>
                <a:lnTo>
                  <a:pt x="555" y="1306"/>
                </a:lnTo>
                <a:lnTo>
                  <a:pt x="566" y="1290"/>
                </a:lnTo>
                <a:lnTo>
                  <a:pt x="575" y="1273"/>
                </a:lnTo>
                <a:lnTo>
                  <a:pt x="583" y="12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5721480" y="3720960"/>
            <a:ext cx="112680" cy="135000"/>
          </a:xfrm>
          <a:custGeom>
            <a:avLst/>
            <a:gdLst/>
            <a:ahLst/>
            <a:rect l="l" t="t" r="r" b="b"/>
            <a:pathLst>
              <a:path w="71" h="85">
                <a:moveTo>
                  <a:pt x="68" y="54"/>
                </a:moveTo>
                <a:lnTo>
                  <a:pt x="71" y="37"/>
                </a:lnTo>
                <a:lnTo>
                  <a:pt x="70" y="21"/>
                </a:lnTo>
                <a:lnTo>
                  <a:pt x="62" y="9"/>
                </a:lnTo>
                <a:lnTo>
                  <a:pt x="51" y="1"/>
                </a:lnTo>
                <a:lnTo>
                  <a:pt x="45" y="0"/>
                </a:lnTo>
                <a:lnTo>
                  <a:pt x="37" y="0"/>
                </a:lnTo>
                <a:lnTo>
                  <a:pt x="30" y="1"/>
                </a:lnTo>
                <a:lnTo>
                  <a:pt x="24" y="5"/>
                </a:lnTo>
                <a:lnTo>
                  <a:pt x="17" y="9"/>
                </a:lnTo>
                <a:lnTo>
                  <a:pt x="12" y="15"/>
                </a:lnTo>
                <a:lnTo>
                  <a:pt x="8" y="23"/>
                </a:lnTo>
                <a:lnTo>
                  <a:pt x="4" y="31"/>
                </a:lnTo>
                <a:lnTo>
                  <a:pt x="0" y="48"/>
                </a:lnTo>
                <a:lnTo>
                  <a:pt x="3" y="63"/>
                </a:lnTo>
                <a:lnTo>
                  <a:pt x="9" y="76"/>
                </a:lnTo>
                <a:lnTo>
                  <a:pt x="21" y="84"/>
                </a:lnTo>
                <a:lnTo>
                  <a:pt x="28" y="85"/>
                </a:lnTo>
                <a:lnTo>
                  <a:pt x="34" y="85"/>
                </a:lnTo>
                <a:lnTo>
                  <a:pt x="41" y="84"/>
                </a:lnTo>
                <a:lnTo>
                  <a:pt x="47" y="80"/>
                </a:lnTo>
                <a:lnTo>
                  <a:pt x="54" y="76"/>
                </a:lnTo>
                <a:lnTo>
                  <a:pt x="59" y="69"/>
                </a:lnTo>
                <a:lnTo>
                  <a:pt x="64" y="62"/>
                </a:lnTo>
                <a:lnTo>
                  <a:pt x="68" y="54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5167440" y="3517920"/>
            <a:ext cx="112680" cy="136440"/>
          </a:xfrm>
          <a:custGeom>
            <a:avLst/>
            <a:gdLst/>
            <a:ahLst/>
            <a:rect l="l" t="t" r="r" b="b"/>
            <a:pathLst>
              <a:path w="71" h="86">
                <a:moveTo>
                  <a:pt x="52" y="1"/>
                </a:moveTo>
                <a:lnTo>
                  <a:pt x="45" y="0"/>
                </a:lnTo>
                <a:lnTo>
                  <a:pt x="37" y="0"/>
                </a:lnTo>
                <a:lnTo>
                  <a:pt x="30" y="1"/>
                </a:lnTo>
                <a:lnTo>
                  <a:pt x="24" y="5"/>
                </a:lnTo>
                <a:lnTo>
                  <a:pt x="17" y="9"/>
                </a:lnTo>
                <a:lnTo>
                  <a:pt x="12" y="16"/>
                </a:lnTo>
                <a:lnTo>
                  <a:pt x="8" y="24"/>
                </a:lnTo>
                <a:lnTo>
                  <a:pt x="4" y="32"/>
                </a:lnTo>
                <a:lnTo>
                  <a:pt x="0" y="49"/>
                </a:lnTo>
                <a:lnTo>
                  <a:pt x="3" y="63"/>
                </a:lnTo>
                <a:lnTo>
                  <a:pt x="9" y="76"/>
                </a:lnTo>
                <a:lnTo>
                  <a:pt x="21" y="84"/>
                </a:lnTo>
                <a:lnTo>
                  <a:pt x="28" y="86"/>
                </a:lnTo>
                <a:lnTo>
                  <a:pt x="34" y="86"/>
                </a:lnTo>
                <a:lnTo>
                  <a:pt x="41" y="84"/>
                </a:lnTo>
                <a:lnTo>
                  <a:pt x="48" y="80"/>
                </a:lnTo>
                <a:lnTo>
                  <a:pt x="54" y="76"/>
                </a:lnTo>
                <a:lnTo>
                  <a:pt x="59" y="70"/>
                </a:lnTo>
                <a:lnTo>
                  <a:pt x="65" y="62"/>
                </a:lnTo>
                <a:lnTo>
                  <a:pt x="69" y="54"/>
                </a:lnTo>
                <a:lnTo>
                  <a:pt x="71" y="37"/>
                </a:lnTo>
                <a:lnTo>
                  <a:pt x="70" y="21"/>
                </a:lnTo>
                <a:lnTo>
                  <a:pt x="62" y="9"/>
                </a:lnTo>
                <a:lnTo>
                  <a:pt x="52" y="1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4854600" y="3235320"/>
            <a:ext cx="644400" cy="646200"/>
          </a:xfrm>
          <a:custGeom>
            <a:avLst/>
            <a:gdLst/>
            <a:ahLst/>
            <a:rect l="l" t="t" r="r" b="b"/>
            <a:pathLst>
              <a:path w="406" h="407">
                <a:moveTo>
                  <a:pt x="339" y="271"/>
                </a:moveTo>
                <a:lnTo>
                  <a:pt x="325" y="295"/>
                </a:lnTo>
                <a:lnTo>
                  <a:pt x="306" y="316"/>
                </a:lnTo>
                <a:lnTo>
                  <a:pt x="284" y="332"/>
                </a:lnTo>
                <a:lnTo>
                  <a:pt x="260" y="345"/>
                </a:lnTo>
                <a:lnTo>
                  <a:pt x="234" y="353"/>
                </a:lnTo>
                <a:lnTo>
                  <a:pt x="206" y="357"/>
                </a:lnTo>
                <a:lnTo>
                  <a:pt x="179" y="354"/>
                </a:lnTo>
                <a:lnTo>
                  <a:pt x="151" y="348"/>
                </a:lnTo>
                <a:lnTo>
                  <a:pt x="124" y="335"/>
                </a:lnTo>
                <a:lnTo>
                  <a:pt x="100" y="316"/>
                </a:lnTo>
                <a:lnTo>
                  <a:pt x="80" y="294"/>
                </a:lnTo>
                <a:lnTo>
                  <a:pt x="66" y="269"/>
                </a:lnTo>
                <a:lnTo>
                  <a:pt x="55" y="241"/>
                </a:lnTo>
                <a:lnTo>
                  <a:pt x="51" y="211"/>
                </a:lnTo>
                <a:lnTo>
                  <a:pt x="52" y="182"/>
                </a:lnTo>
                <a:lnTo>
                  <a:pt x="60" y="152"/>
                </a:lnTo>
                <a:lnTo>
                  <a:pt x="74" y="124"/>
                </a:lnTo>
                <a:lnTo>
                  <a:pt x="92" y="100"/>
                </a:lnTo>
                <a:lnTo>
                  <a:pt x="114" y="81"/>
                </a:lnTo>
                <a:lnTo>
                  <a:pt x="139" y="66"/>
                </a:lnTo>
                <a:lnTo>
                  <a:pt x="167" y="56"/>
                </a:lnTo>
                <a:lnTo>
                  <a:pt x="196" y="52"/>
                </a:lnTo>
                <a:lnTo>
                  <a:pt x="225" y="53"/>
                </a:lnTo>
                <a:lnTo>
                  <a:pt x="255" y="61"/>
                </a:lnTo>
                <a:lnTo>
                  <a:pt x="281" y="74"/>
                </a:lnTo>
                <a:lnTo>
                  <a:pt x="304" y="90"/>
                </a:lnTo>
                <a:lnTo>
                  <a:pt x="322" y="110"/>
                </a:lnTo>
                <a:lnTo>
                  <a:pt x="338" y="133"/>
                </a:lnTo>
                <a:lnTo>
                  <a:pt x="349" y="158"/>
                </a:lnTo>
                <a:lnTo>
                  <a:pt x="354" y="185"/>
                </a:lnTo>
                <a:lnTo>
                  <a:pt x="355" y="212"/>
                </a:lnTo>
                <a:lnTo>
                  <a:pt x="351" y="240"/>
                </a:lnTo>
                <a:lnTo>
                  <a:pt x="400" y="258"/>
                </a:lnTo>
                <a:lnTo>
                  <a:pt x="406" y="220"/>
                </a:lnTo>
                <a:lnTo>
                  <a:pt x="406" y="182"/>
                </a:lnTo>
                <a:lnTo>
                  <a:pt x="399" y="145"/>
                </a:lnTo>
                <a:lnTo>
                  <a:pt x="384" y="111"/>
                </a:lnTo>
                <a:lnTo>
                  <a:pt x="364" y="79"/>
                </a:lnTo>
                <a:lnTo>
                  <a:pt x="339" y="52"/>
                </a:lnTo>
                <a:lnTo>
                  <a:pt x="309" y="29"/>
                </a:lnTo>
                <a:lnTo>
                  <a:pt x="274" y="12"/>
                </a:lnTo>
                <a:lnTo>
                  <a:pt x="254" y="6"/>
                </a:lnTo>
                <a:lnTo>
                  <a:pt x="234" y="2"/>
                </a:lnTo>
                <a:lnTo>
                  <a:pt x="213" y="0"/>
                </a:lnTo>
                <a:lnTo>
                  <a:pt x="193" y="0"/>
                </a:lnTo>
                <a:lnTo>
                  <a:pt x="174" y="3"/>
                </a:lnTo>
                <a:lnTo>
                  <a:pt x="155" y="7"/>
                </a:lnTo>
                <a:lnTo>
                  <a:pt x="137" y="12"/>
                </a:lnTo>
                <a:lnTo>
                  <a:pt x="118" y="20"/>
                </a:lnTo>
                <a:lnTo>
                  <a:pt x="101" y="29"/>
                </a:lnTo>
                <a:lnTo>
                  <a:pt x="84" y="40"/>
                </a:lnTo>
                <a:lnTo>
                  <a:pt x="68" y="52"/>
                </a:lnTo>
                <a:lnTo>
                  <a:pt x="55" y="66"/>
                </a:lnTo>
                <a:lnTo>
                  <a:pt x="42" y="81"/>
                </a:lnTo>
                <a:lnTo>
                  <a:pt x="30" y="98"/>
                </a:lnTo>
                <a:lnTo>
                  <a:pt x="20" y="115"/>
                </a:lnTo>
                <a:lnTo>
                  <a:pt x="12" y="135"/>
                </a:lnTo>
                <a:lnTo>
                  <a:pt x="1" y="174"/>
                </a:lnTo>
                <a:lnTo>
                  <a:pt x="0" y="215"/>
                </a:lnTo>
                <a:lnTo>
                  <a:pt x="5" y="253"/>
                </a:lnTo>
                <a:lnTo>
                  <a:pt x="18" y="290"/>
                </a:lnTo>
                <a:lnTo>
                  <a:pt x="38" y="324"/>
                </a:lnTo>
                <a:lnTo>
                  <a:pt x="64" y="353"/>
                </a:lnTo>
                <a:lnTo>
                  <a:pt x="97" y="377"/>
                </a:lnTo>
                <a:lnTo>
                  <a:pt x="134" y="395"/>
                </a:lnTo>
                <a:lnTo>
                  <a:pt x="152" y="400"/>
                </a:lnTo>
                <a:lnTo>
                  <a:pt x="172" y="404"/>
                </a:lnTo>
                <a:lnTo>
                  <a:pt x="191" y="407"/>
                </a:lnTo>
                <a:lnTo>
                  <a:pt x="210" y="407"/>
                </a:lnTo>
                <a:lnTo>
                  <a:pt x="229" y="406"/>
                </a:lnTo>
                <a:lnTo>
                  <a:pt x="247" y="403"/>
                </a:lnTo>
                <a:lnTo>
                  <a:pt x="264" y="398"/>
                </a:lnTo>
                <a:lnTo>
                  <a:pt x="283" y="391"/>
                </a:lnTo>
                <a:lnTo>
                  <a:pt x="299" y="383"/>
                </a:lnTo>
                <a:lnTo>
                  <a:pt x="314" y="374"/>
                </a:lnTo>
                <a:lnTo>
                  <a:pt x="330" y="364"/>
                </a:lnTo>
                <a:lnTo>
                  <a:pt x="345" y="352"/>
                </a:lnTo>
                <a:lnTo>
                  <a:pt x="356" y="337"/>
                </a:lnTo>
                <a:lnTo>
                  <a:pt x="368" y="323"/>
                </a:lnTo>
                <a:lnTo>
                  <a:pt x="379" y="307"/>
                </a:lnTo>
                <a:lnTo>
                  <a:pt x="388" y="290"/>
                </a:lnTo>
                <a:lnTo>
                  <a:pt x="339" y="271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5383080" y="3611520"/>
            <a:ext cx="244440" cy="133560"/>
          </a:xfrm>
          <a:custGeom>
            <a:avLst/>
            <a:gdLst/>
            <a:ahLst/>
            <a:rect l="l" t="t" r="r" b="b"/>
            <a:pathLst>
              <a:path w="154" h="84">
                <a:moveTo>
                  <a:pt x="30" y="2"/>
                </a:moveTo>
                <a:lnTo>
                  <a:pt x="21" y="0"/>
                </a:lnTo>
                <a:lnTo>
                  <a:pt x="13" y="2"/>
                </a:lnTo>
                <a:lnTo>
                  <a:pt x="5" y="7"/>
                </a:lnTo>
                <a:lnTo>
                  <a:pt x="1" y="15"/>
                </a:lnTo>
                <a:lnTo>
                  <a:pt x="1" y="15"/>
                </a:lnTo>
                <a:lnTo>
                  <a:pt x="0" y="24"/>
                </a:lnTo>
                <a:lnTo>
                  <a:pt x="2" y="32"/>
                </a:lnTo>
                <a:lnTo>
                  <a:pt x="6" y="40"/>
                </a:lnTo>
                <a:lnTo>
                  <a:pt x="14" y="45"/>
                </a:lnTo>
                <a:lnTo>
                  <a:pt x="122" y="83"/>
                </a:lnTo>
                <a:lnTo>
                  <a:pt x="131" y="84"/>
                </a:lnTo>
                <a:lnTo>
                  <a:pt x="139" y="83"/>
                </a:lnTo>
                <a:lnTo>
                  <a:pt x="147" y="78"/>
                </a:lnTo>
                <a:lnTo>
                  <a:pt x="152" y="70"/>
                </a:lnTo>
                <a:lnTo>
                  <a:pt x="152" y="70"/>
                </a:lnTo>
                <a:lnTo>
                  <a:pt x="154" y="61"/>
                </a:lnTo>
                <a:lnTo>
                  <a:pt x="151" y="53"/>
                </a:lnTo>
                <a:lnTo>
                  <a:pt x="146" y="45"/>
                </a:lnTo>
                <a:lnTo>
                  <a:pt x="138" y="41"/>
                </a:lnTo>
                <a:lnTo>
                  <a:pt x="30" y="2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5508720" y="3476520"/>
            <a:ext cx="1295280" cy="814320"/>
          </a:xfrm>
          <a:custGeom>
            <a:avLst/>
            <a:gdLst/>
            <a:ahLst/>
            <a:rect l="l" t="t" r="r" b="b"/>
            <a:pathLst>
              <a:path w="816" h="513">
                <a:moveTo>
                  <a:pt x="816" y="369"/>
                </a:moveTo>
                <a:lnTo>
                  <a:pt x="401" y="244"/>
                </a:lnTo>
                <a:lnTo>
                  <a:pt x="405" y="208"/>
                </a:lnTo>
                <a:lnTo>
                  <a:pt x="404" y="172"/>
                </a:lnTo>
                <a:lnTo>
                  <a:pt x="394" y="137"/>
                </a:lnTo>
                <a:lnTo>
                  <a:pt x="380" y="104"/>
                </a:lnTo>
                <a:lnTo>
                  <a:pt x="360" y="75"/>
                </a:lnTo>
                <a:lnTo>
                  <a:pt x="335" y="48"/>
                </a:lnTo>
                <a:lnTo>
                  <a:pt x="306" y="27"/>
                </a:lnTo>
                <a:lnTo>
                  <a:pt x="272" y="12"/>
                </a:lnTo>
                <a:lnTo>
                  <a:pt x="254" y="5"/>
                </a:lnTo>
                <a:lnTo>
                  <a:pt x="234" y="1"/>
                </a:lnTo>
                <a:lnTo>
                  <a:pt x="215" y="0"/>
                </a:lnTo>
                <a:lnTo>
                  <a:pt x="196" y="0"/>
                </a:lnTo>
                <a:lnTo>
                  <a:pt x="177" y="1"/>
                </a:lnTo>
                <a:lnTo>
                  <a:pt x="159" y="4"/>
                </a:lnTo>
                <a:lnTo>
                  <a:pt x="142" y="9"/>
                </a:lnTo>
                <a:lnTo>
                  <a:pt x="123" y="14"/>
                </a:lnTo>
                <a:lnTo>
                  <a:pt x="108" y="23"/>
                </a:lnTo>
                <a:lnTo>
                  <a:pt x="92" y="33"/>
                </a:lnTo>
                <a:lnTo>
                  <a:pt x="76" y="43"/>
                </a:lnTo>
                <a:lnTo>
                  <a:pt x="63" y="55"/>
                </a:lnTo>
                <a:lnTo>
                  <a:pt x="50" y="68"/>
                </a:lnTo>
                <a:lnTo>
                  <a:pt x="38" y="84"/>
                </a:lnTo>
                <a:lnTo>
                  <a:pt x="27" y="100"/>
                </a:lnTo>
                <a:lnTo>
                  <a:pt x="18" y="117"/>
                </a:lnTo>
                <a:lnTo>
                  <a:pt x="67" y="135"/>
                </a:lnTo>
                <a:lnTo>
                  <a:pt x="81" y="110"/>
                </a:lnTo>
                <a:lnTo>
                  <a:pt x="100" y="91"/>
                </a:lnTo>
                <a:lnTo>
                  <a:pt x="121" y="73"/>
                </a:lnTo>
                <a:lnTo>
                  <a:pt x="144" y="62"/>
                </a:lnTo>
                <a:lnTo>
                  <a:pt x="171" y="54"/>
                </a:lnTo>
                <a:lnTo>
                  <a:pt x="198" y="50"/>
                </a:lnTo>
                <a:lnTo>
                  <a:pt x="226" y="52"/>
                </a:lnTo>
                <a:lnTo>
                  <a:pt x="254" y="59"/>
                </a:lnTo>
                <a:lnTo>
                  <a:pt x="281" y="72"/>
                </a:lnTo>
                <a:lnTo>
                  <a:pt x="305" y="91"/>
                </a:lnTo>
                <a:lnTo>
                  <a:pt x="325" y="113"/>
                </a:lnTo>
                <a:lnTo>
                  <a:pt x="339" y="138"/>
                </a:lnTo>
                <a:lnTo>
                  <a:pt x="350" y="166"/>
                </a:lnTo>
                <a:lnTo>
                  <a:pt x="354" y="194"/>
                </a:lnTo>
                <a:lnTo>
                  <a:pt x="352" y="225"/>
                </a:lnTo>
                <a:lnTo>
                  <a:pt x="344" y="255"/>
                </a:lnTo>
                <a:lnTo>
                  <a:pt x="331" y="283"/>
                </a:lnTo>
                <a:lnTo>
                  <a:pt x="313" y="306"/>
                </a:lnTo>
                <a:lnTo>
                  <a:pt x="291" y="325"/>
                </a:lnTo>
                <a:lnTo>
                  <a:pt x="266" y="339"/>
                </a:lnTo>
                <a:lnTo>
                  <a:pt x="238" y="350"/>
                </a:lnTo>
                <a:lnTo>
                  <a:pt x="209" y="354"/>
                </a:lnTo>
                <a:lnTo>
                  <a:pt x="180" y="352"/>
                </a:lnTo>
                <a:lnTo>
                  <a:pt x="150" y="344"/>
                </a:lnTo>
                <a:lnTo>
                  <a:pt x="125" y="331"/>
                </a:lnTo>
                <a:lnTo>
                  <a:pt x="102" y="315"/>
                </a:lnTo>
                <a:lnTo>
                  <a:pt x="83" y="296"/>
                </a:lnTo>
                <a:lnTo>
                  <a:pt x="68" y="273"/>
                </a:lnTo>
                <a:lnTo>
                  <a:pt x="58" y="248"/>
                </a:lnTo>
                <a:lnTo>
                  <a:pt x="52" y="222"/>
                </a:lnTo>
                <a:lnTo>
                  <a:pt x="51" y="194"/>
                </a:lnTo>
                <a:lnTo>
                  <a:pt x="55" y="167"/>
                </a:lnTo>
                <a:lnTo>
                  <a:pt x="6" y="148"/>
                </a:lnTo>
                <a:lnTo>
                  <a:pt x="0" y="187"/>
                </a:lnTo>
                <a:lnTo>
                  <a:pt x="0" y="225"/>
                </a:lnTo>
                <a:lnTo>
                  <a:pt x="8" y="260"/>
                </a:lnTo>
                <a:lnTo>
                  <a:pt x="22" y="294"/>
                </a:lnTo>
                <a:lnTo>
                  <a:pt x="42" y="326"/>
                </a:lnTo>
                <a:lnTo>
                  <a:pt x="67" y="354"/>
                </a:lnTo>
                <a:lnTo>
                  <a:pt x="97" y="375"/>
                </a:lnTo>
                <a:lnTo>
                  <a:pt x="133" y="392"/>
                </a:lnTo>
                <a:lnTo>
                  <a:pt x="150" y="397"/>
                </a:lnTo>
                <a:lnTo>
                  <a:pt x="167" y="401"/>
                </a:lnTo>
                <a:lnTo>
                  <a:pt x="184" y="404"/>
                </a:lnTo>
                <a:lnTo>
                  <a:pt x="201" y="405"/>
                </a:lnTo>
                <a:lnTo>
                  <a:pt x="218" y="404"/>
                </a:lnTo>
                <a:lnTo>
                  <a:pt x="235" y="402"/>
                </a:lnTo>
                <a:lnTo>
                  <a:pt x="252" y="398"/>
                </a:lnTo>
                <a:lnTo>
                  <a:pt x="268" y="393"/>
                </a:lnTo>
                <a:lnTo>
                  <a:pt x="284" y="388"/>
                </a:lnTo>
                <a:lnTo>
                  <a:pt x="300" y="380"/>
                </a:lnTo>
                <a:lnTo>
                  <a:pt x="314" y="371"/>
                </a:lnTo>
                <a:lnTo>
                  <a:pt x="327" y="362"/>
                </a:lnTo>
                <a:lnTo>
                  <a:pt x="341" y="350"/>
                </a:lnTo>
                <a:lnTo>
                  <a:pt x="352" y="338"/>
                </a:lnTo>
                <a:lnTo>
                  <a:pt x="363" y="325"/>
                </a:lnTo>
                <a:lnTo>
                  <a:pt x="373" y="310"/>
                </a:lnTo>
                <a:lnTo>
                  <a:pt x="764" y="513"/>
                </a:lnTo>
                <a:lnTo>
                  <a:pt x="816" y="369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6165720" y="1849320"/>
            <a:ext cx="1551240" cy="1683000"/>
          </a:xfrm>
          <a:custGeom>
            <a:avLst/>
            <a:gdLst/>
            <a:ahLst/>
            <a:rect l="l" t="t" r="r" b="b"/>
            <a:pathLst>
              <a:path w="977" h="1060">
                <a:moveTo>
                  <a:pt x="782" y="955"/>
                </a:moveTo>
                <a:lnTo>
                  <a:pt x="786" y="934"/>
                </a:lnTo>
                <a:lnTo>
                  <a:pt x="798" y="910"/>
                </a:lnTo>
                <a:lnTo>
                  <a:pt x="812" y="885"/>
                </a:lnTo>
                <a:lnTo>
                  <a:pt x="831" y="863"/>
                </a:lnTo>
                <a:lnTo>
                  <a:pt x="849" y="842"/>
                </a:lnTo>
                <a:lnTo>
                  <a:pt x="863" y="825"/>
                </a:lnTo>
                <a:lnTo>
                  <a:pt x="875" y="814"/>
                </a:lnTo>
                <a:lnTo>
                  <a:pt x="879" y="810"/>
                </a:lnTo>
                <a:lnTo>
                  <a:pt x="899" y="862"/>
                </a:lnTo>
                <a:lnTo>
                  <a:pt x="903" y="856"/>
                </a:lnTo>
                <a:lnTo>
                  <a:pt x="913" y="842"/>
                </a:lnTo>
                <a:lnTo>
                  <a:pt x="928" y="820"/>
                </a:lnTo>
                <a:lnTo>
                  <a:pt x="945" y="789"/>
                </a:lnTo>
                <a:lnTo>
                  <a:pt x="959" y="755"/>
                </a:lnTo>
                <a:lnTo>
                  <a:pt x="971" y="716"/>
                </a:lnTo>
                <a:lnTo>
                  <a:pt x="977" y="674"/>
                </a:lnTo>
                <a:lnTo>
                  <a:pt x="974" y="631"/>
                </a:lnTo>
                <a:lnTo>
                  <a:pt x="961" y="591"/>
                </a:lnTo>
                <a:lnTo>
                  <a:pt x="941" y="555"/>
                </a:lnTo>
                <a:lnTo>
                  <a:pt x="916" y="525"/>
                </a:lnTo>
                <a:lnTo>
                  <a:pt x="888" y="499"/>
                </a:lnTo>
                <a:lnTo>
                  <a:pt x="863" y="480"/>
                </a:lnTo>
                <a:lnTo>
                  <a:pt x="841" y="466"/>
                </a:lnTo>
                <a:lnTo>
                  <a:pt x="825" y="456"/>
                </a:lnTo>
                <a:lnTo>
                  <a:pt x="820" y="454"/>
                </a:lnTo>
                <a:lnTo>
                  <a:pt x="952" y="438"/>
                </a:lnTo>
                <a:lnTo>
                  <a:pt x="788" y="391"/>
                </a:lnTo>
                <a:lnTo>
                  <a:pt x="782" y="371"/>
                </a:lnTo>
                <a:lnTo>
                  <a:pt x="773" y="349"/>
                </a:lnTo>
                <a:lnTo>
                  <a:pt x="759" y="328"/>
                </a:lnTo>
                <a:lnTo>
                  <a:pt x="744" y="305"/>
                </a:lnTo>
                <a:lnTo>
                  <a:pt x="724" y="284"/>
                </a:lnTo>
                <a:lnTo>
                  <a:pt x="699" y="263"/>
                </a:lnTo>
                <a:lnTo>
                  <a:pt x="670" y="243"/>
                </a:lnTo>
                <a:lnTo>
                  <a:pt x="634" y="225"/>
                </a:lnTo>
                <a:lnTo>
                  <a:pt x="599" y="209"/>
                </a:lnTo>
                <a:lnTo>
                  <a:pt x="563" y="197"/>
                </a:lnTo>
                <a:lnTo>
                  <a:pt x="528" y="188"/>
                </a:lnTo>
                <a:lnTo>
                  <a:pt x="495" y="180"/>
                </a:lnTo>
                <a:lnTo>
                  <a:pt x="462" y="174"/>
                </a:lnTo>
                <a:lnTo>
                  <a:pt x="430" y="170"/>
                </a:lnTo>
                <a:lnTo>
                  <a:pt x="399" y="166"/>
                </a:lnTo>
                <a:lnTo>
                  <a:pt x="370" y="162"/>
                </a:lnTo>
                <a:lnTo>
                  <a:pt x="341" y="159"/>
                </a:lnTo>
                <a:lnTo>
                  <a:pt x="313" y="157"/>
                </a:lnTo>
                <a:lnTo>
                  <a:pt x="287" y="153"/>
                </a:lnTo>
                <a:lnTo>
                  <a:pt x="263" y="147"/>
                </a:lnTo>
                <a:lnTo>
                  <a:pt x="240" y="141"/>
                </a:lnTo>
                <a:lnTo>
                  <a:pt x="217" y="132"/>
                </a:lnTo>
                <a:lnTo>
                  <a:pt x="196" y="121"/>
                </a:lnTo>
                <a:lnTo>
                  <a:pt x="178" y="108"/>
                </a:lnTo>
                <a:lnTo>
                  <a:pt x="149" y="80"/>
                </a:lnTo>
                <a:lnTo>
                  <a:pt x="132" y="57"/>
                </a:lnTo>
                <a:lnTo>
                  <a:pt x="125" y="38"/>
                </a:lnTo>
                <a:lnTo>
                  <a:pt x="127" y="24"/>
                </a:lnTo>
                <a:lnTo>
                  <a:pt x="132" y="13"/>
                </a:lnTo>
                <a:lnTo>
                  <a:pt x="140" y="5"/>
                </a:lnTo>
                <a:lnTo>
                  <a:pt x="146" y="1"/>
                </a:lnTo>
                <a:lnTo>
                  <a:pt x="149" y="0"/>
                </a:lnTo>
                <a:lnTo>
                  <a:pt x="146" y="1"/>
                </a:lnTo>
                <a:lnTo>
                  <a:pt x="141" y="4"/>
                </a:lnTo>
                <a:lnTo>
                  <a:pt x="132" y="8"/>
                </a:lnTo>
                <a:lnTo>
                  <a:pt x="121" y="13"/>
                </a:lnTo>
                <a:lnTo>
                  <a:pt x="108" y="21"/>
                </a:lnTo>
                <a:lnTo>
                  <a:pt x="96" y="30"/>
                </a:lnTo>
                <a:lnTo>
                  <a:pt x="84" y="41"/>
                </a:lnTo>
                <a:lnTo>
                  <a:pt x="75" y="53"/>
                </a:lnTo>
                <a:lnTo>
                  <a:pt x="67" y="67"/>
                </a:lnTo>
                <a:lnTo>
                  <a:pt x="63" y="83"/>
                </a:lnTo>
                <a:lnTo>
                  <a:pt x="63" y="100"/>
                </a:lnTo>
                <a:lnTo>
                  <a:pt x="69" y="118"/>
                </a:lnTo>
                <a:lnTo>
                  <a:pt x="79" y="138"/>
                </a:lnTo>
                <a:lnTo>
                  <a:pt x="98" y="160"/>
                </a:lnTo>
                <a:lnTo>
                  <a:pt x="124" y="183"/>
                </a:lnTo>
                <a:lnTo>
                  <a:pt x="159" y="208"/>
                </a:lnTo>
                <a:lnTo>
                  <a:pt x="180" y="221"/>
                </a:lnTo>
                <a:lnTo>
                  <a:pt x="200" y="233"/>
                </a:lnTo>
                <a:lnTo>
                  <a:pt x="221" y="243"/>
                </a:lnTo>
                <a:lnTo>
                  <a:pt x="242" y="253"/>
                </a:lnTo>
                <a:lnTo>
                  <a:pt x="263" y="262"/>
                </a:lnTo>
                <a:lnTo>
                  <a:pt x="283" y="271"/>
                </a:lnTo>
                <a:lnTo>
                  <a:pt x="304" y="279"/>
                </a:lnTo>
                <a:lnTo>
                  <a:pt x="324" y="285"/>
                </a:lnTo>
                <a:lnTo>
                  <a:pt x="295" y="289"/>
                </a:lnTo>
                <a:lnTo>
                  <a:pt x="266" y="293"/>
                </a:lnTo>
                <a:lnTo>
                  <a:pt x="238" y="296"/>
                </a:lnTo>
                <a:lnTo>
                  <a:pt x="213" y="297"/>
                </a:lnTo>
                <a:lnTo>
                  <a:pt x="187" y="297"/>
                </a:lnTo>
                <a:lnTo>
                  <a:pt x="163" y="295"/>
                </a:lnTo>
                <a:lnTo>
                  <a:pt x="140" y="289"/>
                </a:lnTo>
                <a:lnTo>
                  <a:pt x="117" y="282"/>
                </a:lnTo>
                <a:lnTo>
                  <a:pt x="82" y="262"/>
                </a:lnTo>
                <a:lnTo>
                  <a:pt x="61" y="245"/>
                </a:lnTo>
                <a:lnTo>
                  <a:pt x="49" y="228"/>
                </a:lnTo>
                <a:lnTo>
                  <a:pt x="46" y="213"/>
                </a:lnTo>
                <a:lnTo>
                  <a:pt x="49" y="201"/>
                </a:lnTo>
                <a:lnTo>
                  <a:pt x="54" y="192"/>
                </a:lnTo>
                <a:lnTo>
                  <a:pt x="59" y="187"/>
                </a:lnTo>
                <a:lnTo>
                  <a:pt x="62" y="184"/>
                </a:lnTo>
                <a:lnTo>
                  <a:pt x="61" y="185"/>
                </a:lnTo>
                <a:lnTo>
                  <a:pt x="55" y="189"/>
                </a:lnTo>
                <a:lnTo>
                  <a:pt x="48" y="196"/>
                </a:lnTo>
                <a:lnTo>
                  <a:pt x="38" y="204"/>
                </a:lnTo>
                <a:lnTo>
                  <a:pt x="29" y="214"/>
                </a:lnTo>
                <a:lnTo>
                  <a:pt x="19" y="226"/>
                </a:lnTo>
                <a:lnTo>
                  <a:pt x="11" y="239"/>
                </a:lnTo>
                <a:lnTo>
                  <a:pt x="4" y="254"/>
                </a:lnTo>
                <a:lnTo>
                  <a:pt x="0" y="270"/>
                </a:lnTo>
                <a:lnTo>
                  <a:pt x="0" y="285"/>
                </a:lnTo>
                <a:lnTo>
                  <a:pt x="5" y="303"/>
                </a:lnTo>
                <a:lnTo>
                  <a:pt x="15" y="320"/>
                </a:lnTo>
                <a:lnTo>
                  <a:pt x="32" y="335"/>
                </a:lnTo>
                <a:lnTo>
                  <a:pt x="54" y="353"/>
                </a:lnTo>
                <a:lnTo>
                  <a:pt x="86" y="368"/>
                </a:lnTo>
                <a:lnTo>
                  <a:pt x="127" y="383"/>
                </a:lnTo>
                <a:lnTo>
                  <a:pt x="149" y="389"/>
                </a:lnTo>
                <a:lnTo>
                  <a:pt x="173" y="396"/>
                </a:lnTo>
                <a:lnTo>
                  <a:pt x="195" y="401"/>
                </a:lnTo>
                <a:lnTo>
                  <a:pt x="216" y="405"/>
                </a:lnTo>
                <a:lnTo>
                  <a:pt x="238" y="409"/>
                </a:lnTo>
                <a:lnTo>
                  <a:pt x="259" y="412"/>
                </a:lnTo>
                <a:lnTo>
                  <a:pt x="282" y="414"/>
                </a:lnTo>
                <a:lnTo>
                  <a:pt x="303" y="416"/>
                </a:lnTo>
                <a:lnTo>
                  <a:pt x="323" y="417"/>
                </a:lnTo>
                <a:lnTo>
                  <a:pt x="344" y="418"/>
                </a:lnTo>
                <a:lnTo>
                  <a:pt x="363" y="418"/>
                </a:lnTo>
                <a:lnTo>
                  <a:pt x="383" y="418"/>
                </a:lnTo>
                <a:lnTo>
                  <a:pt x="403" y="418"/>
                </a:lnTo>
                <a:lnTo>
                  <a:pt x="423" y="418"/>
                </a:lnTo>
                <a:lnTo>
                  <a:pt x="441" y="417"/>
                </a:lnTo>
                <a:lnTo>
                  <a:pt x="459" y="417"/>
                </a:lnTo>
                <a:lnTo>
                  <a:pt x="474" y="420"/>
                </a:lnTo>
                <a:lnTo>
                  <a:pt x="488" y="424"/>
                </a:lnTo>
                <a:lnTo>
                  <a:pt x="503" y="428"/>
                </a:lnTo>
                <a:lnTo>
                  <a:pt x="517" y="430"/>
                </a:lnTo>
                <a:lnTo>
                  <a:pt x="530" y="435"/>
                </a:lnTo>
                <a:lnTo>
                  <a:pt x="544" y="439"/>
                </a:lnTo>
                <a:lnTo>
                  <a:pt x="557" y="443"/>
                </a:lnTo>
                <a:lnTo>
                  <a:pt x="569" y="449"/>
                </a:lnTo>
                <a:lnTo>
                  <a:pt x="600" y="470"/>
                </a:lnTo>
                <a:lnTo>
                  <a:pt x="623" y="500"/>
                </a:lnTo>
                <a:lnTo>
                  <a:pt x="638" y="537"/>
                </a:lnTo>
                <a:lnTo>
                  <a:pt x="648" y="580"/>
                </a:lnTo>
                <a:lnTo>
                  <a:pt x="650" y="626"/>
                </a:lnTo>
                <a:lnTo>
                  <a:pt x="649" y="675"/>
                </a:lnTo>
                <a:lnTo>
                  <a:pt x="644" y="725"/>
                </a:lnTo>
                <a:lnTo>
                  <a:pt x="634" y="775"/>
                </a:lnTo>
                <a:lnTo>
                  <a:pt x="627" y="821"/>
                </a:lnTo>
                <a:lnTo>
                  <a:pt x="627" y="860"/>
                </a:lnTo>
                <a:lnTo>
                  <a:pt x="631" y="895"/>
                </a:lnTo>
                <a:lnTo>
                  <a:pt x="642" y="925"/>
                </a:lnTo>
                <a:lnTo>
                  <a:pt x="659" y="954"/>
                </a:lnTo>
                <a:lnTo>
                  <a:pt x="681" y="980"/>
                </a:lnTo>
                <a:lnTo>
                  <a:pt x="708" y="1005"/>
                </a:lnTo>
                <a:lnTo>
                  <a:pt x="740" y="1031"/>
                </a:lnTo>
                <a:lnTo>
                  <a:pt x="773" y="1052"/>
                </a:lnTo>
                <a:lnTo>
                  <a:pt x="803" y="1060"/>
                </a:lnTo>
                <a:lnTo>
                  <a:pt x="832" y="1060"/>
                </a:lnTo>
                <a:lnTo>
                  <a:pt x="856" y="1055"/>
                </a:lnTo>
                <a:lnTo>
                  <a:pt x="875" y="1045"/>
                </a:lnTo>
                <a:lnTo>
                  <a:pt x="890" y="1035"/>
                </a:lnTo>
                <a:lnTo>
                  <a:pt x="900" y="1027"/>
                </a:lnTo>
                <a:lnTo>
                  <a:pt x="903" y="1023"/>
                </a:lnTo>
                <a:lnTo>
                  <a:pt x="898" y="1022"/>
                </a:lnTo>
                <a:lnTo>
                  <a:pt x="884" y="1021"/>
                </a:lnTo>
                <a:lnTo>
                  <a:pt x="865" y="1016"/>
                </a:lnTo>
                <a:lnTo>
                  <a:pt x="842" y="1009"/>
                </a:lnTo>
                <a:lnTo>
                  <a:pt x="820" y="1000"/>
                </a:lnTo>
                <a:lnTo>
                  <a:pt x="800" y="988"/>
                </a:lnTo>
                <a:lnTo>
                  <a:pt x="787" y="973"/>
                </a:lnTo>
                <a:lnTo>
                  <a:pt x="782" y="955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2" name="" descr=""/>
          <p:cNvPicPr/>
          <p:nvPr/>
        </p:nvPicPr>
        <p:blipFill>
          <a:blip r:embed="rId1"/>
          <a:stretch/>
        </p:blipFill>
        <p:spPr>
          <a:xfrm>
            <a:off x="708120" y="835200"/>
            <a:ext cx="4432320" cy="4760640"/>
          </a:xfrm>
          <a:prstGeom prst="rect">
            <a:avLst/>
          </a:prstGeom>
          <a:ln w="0">
            <a:noFill/>
          </a:ln>
        </p:spPr>
      </p:pic>
      <p:sp>
        <p:nvSpPr>
          <p:cNvPr id="3013" name=""/>
          <p:cNvSpPr/>
          <p:nvPr/>
        </p:nvSpPr>
        <p:spPr>
          <a:xfrm>
            <a:off x="4826160" y="1522440"/>
            <a:ext cx="3744720" cy="100836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Arial"/>
              </a:rPr>
              <a:t>FAUX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!!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6" name=""/>
          <p:cNvSpPr/>
          <p:nvPr/>
        </p:nvSpPr>
        <p:spPr>
          <a:xfrm>
            <a:off x="401760" y="1465200"/>
            <a:ext cx="3998880" cy="100836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Mais non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7" name="" descr=""/>
          <p:cNvPicPr/>
          <p:nvPr/>
        </p:nvPicPr>
        <p:blipFill>
          <a:blip r:embed="rId1"/>
          <a:stretch/>
        </p:blipFill>
        <p:spPr>
          <a:xfrm>
            <a:off x="5005440" y="1593720"/>
            <a:ext cx="2779560" cy="4888080"/>
          </a:xfrm>
          <a:prstGeom prst="rect">
            <a:avLst/>
          </a:prstGeom>
          <a:ln w="0">
            <a:noFill/>
          </a:ln>
        </p:spPr>
      </p:pic>
      <p:sp>
        <p:nvSpPr>
          <p:cNvPr id="3018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9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"/>
          <p:cNvSpPr/>
          <p:nvPr/>
        </p:nvSpPr>
        <p:spPr>
          <a:xfrm>
            <a:off x="638280" y="1360440"/>
            <a:ext cx="271620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ccff"/>
                </a:solidFill>
                <a:latin typeface="Arial"/>
              </a:rPr>
              <a:t>Non 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1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3" name="" descr=""/>
          <p:cNvPicPr/>
          <p:nvPr/>
        </p:nvPicPr>
        <p:blipFill>
          <a:blip r:embed="rId1"/>
          <a:stretch/>
        </p:blipFill>
        <p:spPr>
          <a:xfrm>
            <a:off x="3395520" y="2836800"/>
            <a:ext cx="422604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4" name=""/>
          <p:cNvSpPr/>
          <p:nvPr/>
        </p:nvSpPr>
        <p:spPr>
          <a:xfrm>
            <a:off x="5748480" y="2079720"/>
            <a:ext cx="3186000" cy="100836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FAUX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5" name="" descr=""/>
          <p:cNvPicPr/>
          <p:nvPr/>
        </p:nvPicPr>
        <p:blipFill>
          <a:blip r:embed="rId1"/>
          <a:stretch/>
        </p:blipFill>
        <p:spPr>
          <a:xfrm>
            <a:off x="930240" y="1352520"/>
            <a:ext cx="4460760" cy="4832280"/>
          </a:xfrm>
          <a:prstGeom prst="rect">
            <a:avLst/>
          </a:prstGeom>
          <a:ln w="0">
            <a:noFill/>
          </a:ln>
        </p:spPr>
      </p:pic>
      <p:sp>
        <p:nvSpPr>
          <p:cNvPr id="3026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7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69920" y="4366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RÉPONSE COR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8080" y="860400"/>
            <a:ext cx="8753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 autre élément supporte la panne faîtiè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431640" y="2158560"/>
            <a:ext cx="5532120" cy="3599280"/>
            <a:chOff x="431640" y="2158560"/>
            <a:chExt cx="5532120" cy="3599280"/>
          </a:xfrm>
        </p:grpSpPr>
        <p:grpSp>
          <p:nvGrpSpPr>
            <p:cNvPr id="287" name=""/>
            <p:cNvGrpSpPr/>
            <p:nvPr/>
          </p:nvGrpSpPr>
          <p:grpSpPr>
            <a:xfrm>
              <a:off x="533520" y="2418840"/>
              <a:ext cx="5375160" cy="3144960"/>
              <a:chOff x="533520" y="2418840"/>
              <a:chExt cx="5375160" cy="3144960"/>
            </a:xfrm>
          </p:grpSpPr>
          <p:grpSp>
            <p:nvGrpSpPr>
              <p:cNvPr id="288" name=""/>
              <p:cNvGrpSpPr/>
              <p:nvPr/>
            </p:nvGrpSpPr>
            <p:grpSpPr>
              <a:xfrm>
                <a:off x="533520" y="2418840"/>
                <a:ext cx="5372640" cy="3144960"/>
                <a:chOff x="533520" y="2418840"/>
                <a:chExt cx="5372640" cy="3144960"/>
              </a:xfrm>
            </p:grpSpPr>
            <p:grpSp>
              <p:nvGrpSpPr>
                <p:cNvPr id="289" name=""/>
                <p:cNvGrpSpPr/>
                <p:nvPr/>
              </p:nvGrpSpPr>
              <p:grpSpPr>
                <a:xfrm>
                  <a:off x="3951720" y="4039920"/>
                  <a:ext cx="337680" cy="1517760"/>
                  <a:chOff x="3951720" y="4039920"/>
                  <a:chExt cx="337680" cy="151776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 flipV="1">
                    <a:off x="3965760" y="4670640"/>
                    <a:ext cx="322920" cy="887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flipV="1">
                    <a:off x="3959640" y="4358520"/>
                    <a:ext cx="328680" cy="311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3965400" y="4987440"/>
                    <a:ext cx="322920" cy="245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flipV="1">
                    <a:off x="3965760" y="4039920"/>
                    <a:ext cx="322920" cy="940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V="1">
                    <a:off x="3951720" y="4052520"/>
                    <a:ext cx="323280" cy="32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3966120" y="4359600"/>
                    <a:ext cx="0" cy="1193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4289400" y="4046400"/>
                    <a:ext cx="0" cy="1193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7" name=""/>
                <p:cNvGrpSpPr/>
                <p:nvPr/>
              </p:nvGrpSpPr>
              <p:grpSpPr>
                <a:xfrm>
                  <a:off x="533520" y="4047480"/>
                  <a:ext cx="325080" cy="1516320"/>
                  <a:chOff x="533520" y="4047480"/>
                  <a:chExt cx="325080" cy="1516320"/>
                </a:xfrm>
              </p:grpSpPr>
              <p:sp>
                <p:nvSpPr>
                  <p:cNvPr id="298" name=""/>
                  <p:cNvSpPr/>
                  <p:nvPr/>
                </p:nvSpPr>
                <p:spPr>
                  <a:xfrm flipV="1">
                    <a:off x="534600" y="4673520"/>
                    <a:ext cx="323280" cy="88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flipH="1" flipV="1">
                    <a:off x="534600" y="4370760"/>
                    <a:ext cx="320400" cy="29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 flipH="1" flipV="1">
                    <a:off x="533520" y="4997880"/>
                    <a:ext cx="323280" cy="241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flipV="1">
                    <a:off x="534600" y="4047480"/>
                    <a:ext cx="321840" cy="944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V="1">
                    <a:off x="536760" y="4047840"/>
                    <a:ext cx="31752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535320" y="437112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H="1">
                    <a:off x="857160" y="4057920"/>
                    <a:ext cx="1440" cy="117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5580360" y="2418840"/>
                  <a:ext cx="325800" cy="1538640"/>
                  <a:chOff x="5580360" y="2418840"/>
                  <a:chExt cx="325800" cy="153864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 flipV="1">
                    <a:off x="5582880" y="3071160"/>
                    <a:ext cx="320400" cy="880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flipH="1" flipV="1">
                    <a:off x="5580360" y="2744280"/>
                    <a:ext cx="321840" cy="332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H="1" flipV="1">
                    <a:off x="5582880" y="3388320"/>
                    <a:ext cx="320400" cy="242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V="1">
                    <a:off x="5581440" y="2421360"/>
                    <a:ext cx="31752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flipV="1">
                    <a:off x="5580720" y="2418840"/>
                    <a:ext cx="324720" cy="33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5585040" y="2739240"/>
                    <a:ext cx="0" cy="1218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 flipH="1">
                    <a:off x="5905080" y="2424600"/>
                    <a:ext cx="1080" cy="120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3" name=""/>
                <p:cNvGrpSpPr/>
                <p:nvPr/>
              </p:nvGrpSpPr>
              <p:grpSpPr>
                <a:xfrm>
                  <a:off x="2152080" y="2421000"/>
                  <a:ext cx="323280" cy="1531440"/>
                  <a:chOff x="2152080" y="2421000"/>
                  <a:chExt cx="323280" cy="1531440"/>
                </a:xfrm>
              </p:grpSpPr>
              <p:sp>
                <p:nvSpPr>
                  <p:cNvPr id="314" name=""/>
                  <p:cNvSpPr/>
                  <p:nvPr/>
                </p:nvSpPr>
                <p:spPr>
                  <a:xfrm flipV="1">
                    <a:off x="2152080" y="3075840"/>
                    <a:ext cx="321840" cy="876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 flipH="1" flipV="1">
                    <a:off x="2153160" y="2748600"/>
                    <a:ext cx="318960" cy="32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 flipV="1">
                    <a:off x="2152080" y="3394800"/>
                    <a:ext cx="323280" cy="234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flipV="1">
                    <a:off x="2152080" y="2421720"/>
                    <a:ext cx="32328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flipV="1">
                    <a:off x="2153880" y="2422080"/>
                    <a:ext cx="31788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2152440" y="275508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2473200" y="2421000"/>
                    <a:ext cx="1080" cy="1208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1" name=""/>
              <p:cNvGrpSpPr/>
              <p:nvPr/>
            </p:nvGrpSpPr>
            <p:grpSpPr>
              <a:xfrm>
                <a:off x="537120" y="3070800"/>
                <a:ext cx="5371560" cy="1926000"/>
                <a:chOff x="537120" y="3070800"/>
                <a:chExt cx="5371560" cy="1926000"/>
              </a:xfrm>
            </p:grpSpPr>
            <p:sp>
              <p:nvSpPr>
                <p:cNvPr id="322" name=""/>
                <p:cNvSpPr/>
                <p:nvPr/>
              </p:nvSpPr>
              <p:spPr>
                <a:xfrm flipV="1">
                  <a:off x="3969360" y="466776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flipV="1">
                  <a:off x="537120" y="4675680"/>
                  <a:ext cx="32328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flipV="1">
                  <a:off x="5591160" y="3070800"/>
                  <a:ext cx="31752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flipV="1">
                  <a:off x="2157120" y="3076560"/>
                  <a:ext cx="32040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6" name=""/>
            <p:cNvGrpSpPr/>
            <p:nvPr/>
          </p:nvGrpSpPr>
          <p:grpSpPr>
            <a:xfrm>
              <a:off x="431640" y="3668760"/>
              <a:ext cx="5532120" cy="2089080"/>
              <a:chOff x="431640" y="3668760"/>
              <a:chExt cx="5532120" cy="2089080"/>
            </a:xfrm>
          </p:grpSpPr>
          <p:grpSp>
            <p:nvGrpSpPr>
              <p:cNvPr id="327" name=""/>
              <p:cNvGrpSpPr/>
              <p:nvPr/>
            </p:nvGrpSpPr>
            <p:grpSpPr>
              <a:xfrm>
                <a:off x="4189320" y="3987000"/>
                <a:ext cx="1452240" cy="1449360"/>
                <a:chOff x="4189320" y="3987000"/>
                <a:chExt cx="1452240" cy="144936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482440" y="398700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5163480" y="4302720"/>
                  <a:ext cx="159840" cy="160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835880" y="4627080"/>
                  <a:ext cx="15984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513680" y="4947840"/>
                  <a:ext cx="1634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4189320" y="5276880"/>
                  <a:ext cx="15876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761760" y="3985920"/>
                <a:ext cx="1447920" cy="1442160"/>
                <a:chOff x="761760" y="3985920"/>
                <a:chExt cx="1447920" cy="14421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2050560" y="398592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729800" y="4304520"/>
                  <a:ext cx="159120" cy="1612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408320" y="462708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1080720" y="4948920"/>
                  <a:ext cx="16020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61760" y="526860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2367720" y="3668760"/>
                <a:ext cx="3596040" cy="162000"/>
                <a:chOff x="2367720" y="3668760"/>
                <a:chExt cx="3596040" cy="16200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5804640" y="366912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2367720" y="366912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676400" y="366876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938680" y="367092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348804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087080" y="36687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524268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431640" y="5596200"/>
                <a:ext cx="3595320" cy="161640"/>
                <a:chOff x="431640" y="5596200"/>
                <a:chExt cx="3595320" cy="16164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43164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3867480" y="5596200"/>
                  <a:ext cx="15948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9993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55160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2741040" y="559800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3159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2473200" y="2424240"/>
              <a:ext cx="3434040" cy="1209600"/>
              <a:chOff x="2473200" y="2424240"/>
              <a:chExt cx="3434040" cy="1209600"/>
            </a:xfrm>
          </p:grpSpPr>
          <p:sp>
            <p:nvSpPr>
              <p:cNvPr id="355" name=""/>
              <p:cNvSpPr/>
              <p:nvPr/>
            </p:nvSpPr>
            <p:spPr>
              <a:xfrm>
                <a:off x="2473200" y="24242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473560" y="275256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2473920" y="3332880"/>
                <a:ext cx="3427560" cy="14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2475000" y="3075840"/>
                <a:ext cx="342216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476080" y="36338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"/>
            <p:cNvGrpSpPr/>
            <p:nvPr/>
          </p:nvGrpSpPr>
          <p:grpSpPr>
            <a:xfrm>
              <a:off x="531720" y="2749680"/>
              <a:ext cx="1941120" cy="2812680"/>
              <a:chOff x="531720" y="2749680"/>
              <a:chExt cx="1941120" cy="2812680"/>
            </a:xfrm>
          </p:grpSpPr>
          <p:sp>
            <p:nvSpPr>
              <p:cNvPr id="361" name=""/>
              <p:cNvSpPr/>
              <p:nvPr/>
            </p:nvSpPr>
            <p:spPr>
              <a:xfrm flipV="1">
                <a:off x="535680" y="2749680"/>
                <a:ext cx="1935720" cy="192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531720" y="3080160"/>
                <a:ext cx="1940040" cy="191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532800" y="3346200"/>
                <a:ext cx="1940040" cy="1935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532800" y="3632760"/>
                <a:ext cx="1937160" cy="1929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531720" y="2158920"/>
              <a:ext cx="5372280" cy="3412800"/>
              <a:chOff x="531720" y="2158920"/>
              <a:chExt cx="5372280" cy="3412800"/>
            </a:xfrm>
          </p:grpSpPr>
          <p:grpSp>
            <p:nvGrpSpPr>
              <p:cNvPr id="366" name=""/>
              <p:cNvGrpSpPr/>
              <p:nvPr/>
            </p:nvGrpSpPr>
            <p:grpSpPr>
              <a:xfrm>
                <a:off x="2473200" y="2158920"/>
                <a:ext cx="3430800" cy="1476720"/>
                <a:chOff x="2473200" y="2158920"/>
                <a:chExt cx="3430800" cy="14767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355000" y="2341800"/>
                  <a:ext cx="0" cy="129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904000" y="2439000"/>
                  <a:ext cx="0" cy="1196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782240" y="2248200"/>
                  <a:ext cx="0" cy="138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4189680" y="2158920"/>
                  <a:ext cx="0" cy="147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3594960" y="2251800"/>
                  <a:ext cx="0" cy="138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473200" y="2433600"/>
                  <a:ext cx="0" cy="120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046680" y="2336760"/>
                  <a:ext cx="0" cy="1298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531720" y="4102200"/>
                <a:ext cx="3433320" cy="1469520"/>
                <a:chOff x="531720" y="4102200"/>
                <a:chExt cx="3433320" cy="1469520"/>
              </a:xfrm>
            </p:grpSpPr>
            <p:sp>
              <p:nvSpPr>
                <p:cNvPr id="375" name=""/>
                <p:cNvSpPr/>
                <p:nvPr/>
              </p:nvSpPr>
              <p:spPr>
                <a:xfrm flipH="1">
                  <a:off x="2248920" y="4102200"/>
                  <a:ext cx="1440" cy="57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3415680" y="4284720"/>
                  <a:ext cx="0" cy="128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965040" y="43657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842920" y="4197960"/>
                  <a:ext cx="0" cy="1368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655280" y="4190400"/>
                  <a:ext cx="0" cy="137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531720" y="4368600"/>
                  <a:ext cx="72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107000" y="4280400"/>
                  <a:ext cx="0" cy="128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2" name=""/>
            <p:cNvGrpSpPr/>
            <p:nvPr/>
          </p:nvGrpSpPr>
          <p:grpSpPr>
            <a:xfrm>
              <a:off x="857160" y="2484360"/>
              <a:ext cx="4724640" cy="2750400"/>
              <a:chOff x="857160" y="2484360"/>
              <a:chExt cx="4724640" cy="2750400"/>
            </a:xfrm>
          </p:grpSpPr>
          <p:grpSp>
            <p:nvGrpSpPr>
              <p:cNvPr id="383" name=""/>
              <p:cNvGrpSpPr/>
              <p:nvPr/>
            </p:nvGrpSpPr>
            <p:grpSpPr>
              <a:xfrm>
                <a:off x="857160" y="3781080"/>
                <a:ext cx="3430800" cy="1453680"/>
                <a:chOff x="857160" y="3781080"/>
                <a:chExt cx="3430800" cy="1453680"/>
              </a:xfrm>
            </p:grpSpPr>
            <p:sp>
              <p:nvSpPr>
                <p:cNvPr id="384" name=""/>
                <p:cNvSpPr/>
                <p:nvPr/>
              </p:nvSpPr>
              <p:spPr>
                <a:xfrm flipV="1">
                  <a:off x="857160" y="4044960"/>
                  <a:ext cx="0" cy="1189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V="1">
                  <a:off x="857160" y="3781080"/>
                  <a:ext cx="1715400" cy="264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V="1">
                  <a:off x="4287960" y="4044960"/>
                  <a:ext cx="0" cy="1189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H="1" flipV="1">
                  <a:off x="2572200" y="3781080"/>
                  <a:ext cx="1715400" cy="264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1180440" y="2484360"/>
                <a:ext cx="4401360" cy="2437920"/>
                <a:chOff x="1180440" y="2484360"/>
                <a:chExt cx="4401360" cy="2437920"/>
              </a:xfrm>
            </p:grpSpPr>
            <p:grpSp>
              <p:nvGrpSpPr>
                <p:cNvPr id="389" name=""/>
                <p:cNvGrpSpPr/>
                <p:nvPr/>
              </p:nvGrpSpPr>
              <p:grpSpPr>
                <a:xfrm>
                  <a:off x="1180440" y="3456360"/>
                  <a:ext cx="3431520" cy="1465920"/>
                  <a:chOff x="1180440" y="3456360"/>
                  <a:chExt cx="3431520" cy="146592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 flipV="1">
                    <a:off x="1180440" y="3722040"/>
                    <a:ext cx="0" cy="1195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flipV="1">
                    <a:off x="1180440" y="3456360"/>
                    <a:ext cx="1716120" cy="2653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flipV="1">
                    <a:off x="4611960" y="3721680"/>
                    <a:ext cx="0" cy="1200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flipH="1" flipV="1">
                    <a:off x="2896200" y="3456360"/>
                    <a:ext cx="1715400" cy="2653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4" name=""/>
                <p:cNvGrpSpPr/>
                <p:nvPr/>
              </p:nvGrpSpPr>
              <p:grpSpPr>
                <a:xfrm>
                  <a:off x="1502280" y="3132000"/>
                  <a:ext cx="3432960" cy="1463760"/>
                  <a:chOff x="1502280" y="3132000"/>
                  <a:chExt cx="3432960" cy="1463760"/>
                </a:xfrm>
              </p:grpSpPr>
              <p:sp>
                <p:nvSpPr>
                  <p:cNvPr id="395" name=""/>
                  <p:cNvSpPr/>
                  <p:nvPr/>
                </p:nvSpPr>
                <p:spPr>
                  <a:xfrm flipV="1">
                    <a:off x="1502280" y="3398400"/>
                    <a:ext cx="0" cy="1197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flipV="1">
                    <a:off x="1502280" y="3132000"/>
                    <a:ext cx="171648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V="1">
                    <a:off x="4935240" y="3398400"/>
                    <a:ext cx="0" cy="1197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flipH="1" flipV="1">
                    <a:off x="3218760" y="3132000"/>
                    <a:ext cx="171648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9" name=""/>
                <p:cNvGrpSpPr/>
                <p:nvPr/>
              </p:nvGrpSpPr>
              <p:grpSpPr>
                <a:xfrm>
                  <a:off x="1827000" y="2808000"/>
                  <a:ext cx="3431520" cy="1464480"/>
                  <a:chOff x="1827000" y="2808000"/>
                  <a:chExt cx="3431520" cy="1464480"/>
                </a:xfrm>
              </p:grpSpPr>
              <p:sp>
                <p:nvSpPr>
                  <p:cNvPr id="400" name=""/>
                  <p:cNvSpPr/>
                  <p:nvPr/>
                </p:nvSpPr>
                <p:spPr>
                  <a:xfrm flipV="1">
                    <a:off x="1827000" y="3074400"/>
                    <a:ext cx="0" cy="1198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flipV="1">
                    <a:off x="1827000" y="2808000"/>
                    <a:ext cx="171576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flipV="1">
                    <a:off x="5258520" y="3074400"/>
                    <a:ext cx="0" cy="1198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flipH="1" flipV="1">
                    <a:off x="3542760" y="2808000"/>
                    <a:ext cx="171576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2151000" y="2484360"/>
                  <a:ext cx="3430800" cy="1472400"/>
                  <a:chOff x="2151000" y="2484360"/>
                  <a:chExt cx="3430800" cy="147240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flipV="1">
                    <a:off x="2151000" y="2751840"/>
                    <a:ext cx="0" cy="1204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flipV="1">
                    <a:off x="2151000" y="2484360"/>
                    <a:ext cx="1715400" cy="267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V="1">
                    <a:off x="5581800" y="2751840"/>
                    <a:ext cx="0" cy="1204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 flipV="1">
                    <a:off x="3866040" y="2484360"/>
                    <a:ext cx="1715400" cy="267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09" name=""/>
            <p:cNvGrpSpPr/>
            <p:nvPr/>
          </p:nvGrpSpPr>
          <p:grpSpPr>
            <a:xfrm>
              <a:off x="525600" y="2160720"/>
              <a:ext cx="5378400" cy="2209320"/>
              <a:chOff x="525600" y="2160720"/>
              <a:chExt cx="5378400" cy="2209320"/>
            </a:xfrm>
          </p:grpSpPr>
          <p:grpSp>
            <p:nvGrpSpPr>
              <p:cNvPr id="410" name=""/>
              <p:cNvGrpSpPr/>
              <p:nvPr/>
            </p:nvGrpSpPr>
            <p:grpSpPr>
              <a:xfrm>
                <a:off x="2151720" y="2160720"/>
                <a:ext cx="3752280" cy="588960"/>
                <a:chOff x="2151720" y="2160720"/>
                <a:chExt cx="3752280" cy="588960"/>
              </a:xfrm>
            </p:grpSpPr>
            <p:sp>
              <p:nvSpPr>
                <p:cNvPr id="411" name=""/>
                <p:cNvSpPr/>
                <p:nvPr/>
              </p:nvSpPr>
              <p:spPr>
                <a:xfrm flipV="1">
                  <a:off x="5586480" y="24210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V="1">
                  <a:off x="3869280" y="2160720"/>
                  <a:ext cx="321840" cy="32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V="1">
                  <a:off x="4461840" y="22514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 flipV="1">
                  <a:off x="2152080" y="2424960"/>
                  <a:ext cx="32436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V="1">
                  <a:off x="2724120" y="23382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V="1">
                  <a:off x="3274920" y="225432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7" name=""/>
                <p:cNvGrpSpPr/>
                <p:nvPr/>
              </p:nvGrpSpPr>
              <p:grpSpPr>
                <a:xfrm>
                  <a:off x="2151720" y="2160720"/>
                  <a:ext cx="3748320" cy="588960"/>
                  <a:chOff x="2151720" y="2160720"/>
                  <a:chExt cx="3748320" cy="58896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 flipH="1" flipV="1">
                    <a:off x="4188960" y="2160720"/>
                    <a:ext cx="26640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>
                    <a:off x="3274200" y="2161080"/>
                    <a:ext cx="912960" cy="413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flipH="1" flipV="1">
                    <a:off x="5353920" y="2337480"/>
                    <a:ext cx="22536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flipV="1">
                    <a:off x="5025240" y="2422080"/>
                    <a:ext cx="874800" cy="24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H="1" flipV="1">
                    <a:off x="4782240" y="2251800"/>
                    <a:ext cx="242640" cy="411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flipH="1">
                    <a:off x="4458240" y="2335320"/>
                    <a:ext cx="896400" cy="240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H="1">
                    <a:off x="3871800" y="2247840"/>
                    <a:ext cx="909720" cy="23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H="1" flipV="1">
                    <a:off x="3593160" y="2254680"/>
                    <a:ext cx="28584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flipH="1" flipV="1">
                    <a:off x="3045960" y="2335320"/>
                    <a:ext cx="236160" cy="241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>
                    <a:off x="2720520" y="2256480"/>
                    <a:ext cx="873720" cy="406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flipH="1" flipV="1">
                    <a:off x="2478600" y="2426400"/>
                    <a:ext cx="23940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flipH="1">
                    <a:off x="2151720" y="2336760"/>
                    <a:ext cx="894240" cy="410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V="1">
                    <a:off x="2479680" y="2162880"/>
                    <a:ext cx="1708200" cy="25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V="1">
                    <a:off x="2167560" y="2481840"/>
                    <a:ext cx="1705320" cy="263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3870360" y="2480400"/>
                    <a:ext cx="1710360" cy="269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4195080" y="2160720"/>
                    <a:ext cx="169776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4" name=""/>
                <p:cNvSpPr/>
                <p:nvPr/>
              </p:nvSpPr>
              <p:spPr>
                <a:xfrm flipV="1">
                  <a:off x="5026320" y="2337480"/>
                  <a:ext cx="326160" cy="326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525600" y="3780000"/>
                <a:ext cx="3754440" cy="590040"/>
                <a:chOff x="525600" y="3780000"/>
                <a:chExt cx="3754440" cy="590040"/>
              </a:xfrm>
            </p:grpSpPr>
            <p:sp>
              <p:nvSpPr>
                <p:cNvPr id="436" name=""/>
                <p:cNvSpPr/>
                <p:nvPr/>
              </p:nvSpPr>
              <p:spPr>
                <a:xfrm flipV="1">
                  <a:off x="3956760" y="4044600"/>
                  <a:ext cx="32184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 flipV="1">
                  <a:off x="2839320" y="3871800"/>
                  <a:ext cx="320400" cy="320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 flipV="1">
                  <a:off x="2243880" y="3784680"/>
                  <a:ext cx="316080" cy="315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2240640" y="4100760"/>
                  <a:ext cx="171612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 flipH="1" flipV="1">
                  <a:off x="2565000" y="3782160"/>
                  <a:ext cx="26784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 flipH="1" flipV="1">
                  <a:off x="3731400" y="3960720"/>
                  <a:ext cx="228240" cy="40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 flipV="1">
                  <a:off x="3408120" y="4045320"/>
                  <a:ext cx="866160" cy="238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 flipH="1" flipV="1">
                  <a:off x="3160800" y="3873960"/>
                  <a:ext cx="24840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H="1">
                  <a:off x="2832840" y="3960000"/>
                  <a:ext cx="896400" cy="236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H="1">
                  <a:off x="2242440" y="3872520"/>
                  <a:ext cx="91944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569680" y="3780720"/>
                  <a:ext cx="1710360" cy="264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 flipV="1">
                  <a:off x="3409560" y="3960000"/>
                  <a:ext cx="32040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V="1">
                  <a:off x="1652760" y="3868920"/>
                  <a:ext cx="32040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 flipV="1">
                  <a:off x="1101600" y="3952800"/>
                  <a:ext cx="322920" cy="325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 flipV="1">
                  <a:off x="535320" y="4100760"/>
                  <a:ext cx="170496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 flipV="1">
                  <a:off x="851400" y="3780720"/>
                  <a:ext cx="1722240" cy="262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 flipH="1">
                  <a:off x="1650240" y="3780000"/>
                  <a:ext cx="9172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flipH="1" flipV="1">
                  <a:off x="1970640" y="3872160"/>
                  <a:ext cx="26856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H="1" flipV="1">
                  <a:off x="1422000" y="3952800"/>
                  <a:ext cx="227520" cy="239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flipH="1">
                  <a:off x="1104120" y="3876840"/>
                  <a:ext cx="859680" cy="403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 flipH="1" flipV="1">
                  <a:off x="852120" y="4042440"/>
                  <a:ext cx="246600" cy="235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H="1">
                  <a:off x="529200" y="3955680"/>
                  <a:ext cx="88992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flipV="1">
                  <a:off x="525600" y="4044240"/>
                  <a:ext cx="325800" cy="325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9" name=""/>
            <p:cNvGrpSpPr/>
            <p:nvPr/>
          </p:nvGrpSpPr>
          <p:grpSpPr>
            <a:xfrm>
              <a:off x="533520" y="2422440"/>
              <a:ext cx="5368320" cy="1944720"/>
              <a:chOff x="533520" y="2422440"/>
              <a:chExt cx="5368320" cy="1944720"/>
            </a:xfrm>
          </p:grpSpPr>
          <p:sp>
            <p:nvSpPr>
              <p:cNvPr id="460" name=""/>
              <p:cNvSpPr/>
              <p:nvPr/>
            </p:nvSpPr>
            <p:spPr>
              <a:xfrm flipV="1">
                <a:off x="3955680" y="2422440"/>
                <a:ext cx="1946160" cy="1944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533520" y="2422440"/>
                <a:ext cx="1940760" cy="1944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779400" y="2204640"/>
              <a:ext cx="4847760" cy="2130480"/>
              <a:chOff x="779400" y="2204640"/>
              <a:chExt cx="4847760" cy="2130480"/>
            </a:xfrm>
          </p:grpSpPr>
          <p:sp>
            <p:nvSpPr>
              <p:cNvPr id="463" name=""/>
              <p:cNvSpPr/>
              <p:nvPr/>
            </p:nvSpPr>
            <p:spPr>
              <a:xfrm flipV="1">
                <a:off x="2548440" y="2204640"/>
                <a:ext cx="19350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2841480" y="2248920"/>
                <a:ext cx="19407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3413160" y="2341080"/>
                <a:ext cx="193212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3681000" y="2384640"/>
                <a:ext cx="19461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779400" y="2381400"/>
                <a:ext cx="1985400" cy="1953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1103040" y="2338560"/>
                <a:ext cx="1938600" cy="194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1655280" y="2247480"/>
                <a:ext cx="194292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1934640" y="2204640"/>
                <a:ext cx="1973520" cy="1950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1371600" y="2298600"/>
                <a:ext cx="194796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3124440" y="2290680"/>
                <a:ext cx="1940760" cy="1947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 flipV="1">
              <a:off x="2244600" y="2158920"/>
              <a:ext cx="1944720" cy="193824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531720" y="4368600"/>
              <a:ext cx="3430800" cy="1198080"/>
              <a:chOff x="531720" y="4368600"/>
              <a:chExt cx="3430800" cy="1198080"/>
            </a:xfrm>
          </p:grpSpPr>
          <p:sp>
            <p:nvSpPr>
              <p:cNvPr id="475" name=""/>
              <p:cNvSpPr/>
              <p:nvPr/>
            </p:nvSpPr>
            <p:spPr>
              <a:xfrm flipV="1">
                <a:off x="2842200" y="5565600"/>
                <a:ext cx="11178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>
                <a:off x="532080" y="4368600"/>
                <a:ext cx="3430440" cy="3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31720" y="4678920"/>
                <a:ext cx="343008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39320" y="5276880"/>
                <a:ext cx="11217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>
                <a:off x="532080" y="4999320"/>
                <a:ext cx="112284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842200" y="4991400"/>
                <a:ext cx="11203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32800" y="5281200"/>
                <a:ext cx="11196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34240" y="5564520"/>
                <a:ext cx="1116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3960720" y="2754360"/>
              <a:ext cx="1943280" cy="2809800"/>
              <a:chOff x="3960720" y="2754360"/>
              <a:chExt cx="1943280" cy="2809800"/>
            </a:xfrm>
          </p:grpSpPr>
          <p:sp>
            <p:nvSpPr>
              <p:cNvPr id="484" name=""/>
              <p:cNvSpPr/>
              <p:nvPr/>
            </p:nvSpPr>
            <p:spPr>
              <a:xfrm flipV="1">
                <a:off x="3960720" y="3636000"/>
                <a:ext cx="1943280" cy="1928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3964680" y="2754360"/>
                <a:ext cx="1937520" cy="1925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V="1">
                <a:off x="3963240" y="3076200"/>
                <a:ext cx="1939320" cy="1913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3961800" y="3332880"/>
                <a:ext cx="19404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530280" y="2158560"/>
              <a:ext cx="5377680" cy="3395520"/>
              <a:chOff x="530280" y="2158560"/>
              <a:chExt cx="5377680" cy="3395520"/>
            </a:xfrm>
          </p:grpSpPr>
          <p:grpSp>
            <p:nvGrpSpPr>
              <p:cNvPr id="489" name=""/>
              <p:cNvGrpSpPr/>
              <p:nvPr/>
            </p:nvGrpSpPr>
            <p:grpSpPr>
              <a:xfrm>
                <a:off x="532080" y="4101840"/>
                <a:ext cx="3433320" cy="268200"/>
                <a:chOff x="532080" y="4101840"/>
                <a:chExt cx="3433320" cy="268200"/>
              </a:xfrm>
            </p:grpSpPr>
            <p:sp>
              <p:nvSpPr>
                <p:cNvPr id="490" name=""/>
                <p:cNvSpPr/>
                <p:nvPr/>
              </p:nvSpPr>
              <p:spPr>
                <a:xfrm flipV="1">
                  <a:off x="532080" y="4101840"/>
                  <a:ext cx="1713960" cy="2671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H="1" flipV="1">
                  <a:off x="2250000" y="4102920"/>
                  <a:ext cx="1715400" cy="2671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530280" y="2418120"/>
                <a:ext cx="5370840" cy="3135960"/>
                <a:chOff x="530280" y="2418120"/>
                <a:chExt cx="5370840" cy="3135960"/>
              </a:xfrm>
            </p:grpSpPr>
            <p:sp>
              <p:nvSpPr>
                <p:cNvPr id="493" name=""/>
                <p:cNvSpPr/>
                <p:nvPr/>
              </p:nvSpPr>
              <p:spPr>
                <a:xfrm flipV="1">
                  <a:off x="530280" y="4363560"/>
                  <a:ext cx="0" cy="11905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flipV="1">
                  <a:off x="3960720" y="4363560"/>
                  <a:ext cx="0" cy="11905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V="1">
                  <a:off x="2470320" y="2418120"/>
                  <a:ext cx="0" cy="11905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V="1">
                  <a:off x="5901120" y="2418120"/>
                  <a:ext cx="0" cy="11905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2478960" y="2158560"/>
                <a:ext cx="3429000" cy="264600"/>
                <a:chOff x="2478960" y="2158560"/>
                <a:chExt cx="3429000" cy="264600"/>
              </a:xfrm>
            </p:grpSpPr>
            <p:sp>
              <p:nvSpPr>
                <p:cNvPr id="498" name=""/>
                <p:cNvSpPr/>
                <p:nvPr/>
              </p:nvSpPr>
              <p:spPr>
                <a:xfrm flipV="1">
                  <a:off x="2478960" y="2158560"/>
                  <a:ext cx="1713960" cy="26460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 flipV="1">
                  <a:off x="4192560" y="2158560"/>
                  <a:ext cx="1715400" cy="26460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00" name=""/>
            <p:cNvGrpSpPr/>
            <p:nvPr/>
          </p:nvGrpSpPr>
          <p:grpSpPr>
            <a:xfrm>
              <a:off x="533520" y="2418840"/>
              <a:ext cx="5375160" cy="3144960"/>
              <a:chOff x="533520" y="2418840"/>
              <a:chExt cx="5375160" cy="314496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533520" y="2418840"/>
                <a:ext cx="5372640" cy="3144960"/>
                <a:chOff x="533520" y="2418840"/>
                <a:chExt cx="5372640" cy="3144960"/>
              </a:xfrm>
            </p:grpSpPr>
            <p:grpSp>
              <p:nvGrpSpPr>
                <p:cNvPr id="502" name=""/>
                <p:cNvGrpSpPr/>
                <p:nvPr/>
              </p:nvGrpSpPr>
              <p:grpSpPr>
                <a:xfrm>
                  <a:off x="3951720" y="4039920"/>
                  <a:ext cx="337680" cy="1517760"/>
                  <a:chOff x="3951720" y="4039920"/>
                  <a:chExt cx="337680" cy="151776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flipV="1">
                    <a:off x="3965760" y="4670640"/>
                    <a:ext cx="322920" cy="8870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flipH="1" flipV="1">
                    <a:off x="3959640" y="4358520"/>
                    <a:ext cx="328680" cy="3114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 flipH="1" flipV="1">
                    <a:off x="3965400" y="4987440"/>
                    <a:ext cx="322920" cy="2458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 flipV="1">
                    <a:off x="3965760" y="4039920"/>
                    <a:ext cx="322920" cy="9406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flipV="1">
                    <a:off x="3951720" y="4052520"/>
                    <a:ext cx="323280" cy="3229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3966120" y="4359600"/>
                    <a:ext cx="0" cy="11934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4289400" y="4046400"/>
                    <a:ext cx="0" cy="119376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0" name=""/>
                <p:cNvGrpSpPr/>
                <p:nvPr/>
              </p:nvGrpSpPr>
              <p:grpSpPr>
                <a:xfrm>
                  <a:off x="533520" y="4047480"/>
                  <a:ext cx="325080" cy="1516320"/>
                  <a:chOff x="533520" y="4047480"/>
                  <a:chExt cx="325080" cy="1516320"/>
                </a:xfrm>
              </p:grpSpPr>
              <p:sp>
                <p:nvSpPr>
                  <p:cNvPr id="511" name=""/>
                  <p:cNvSpPr/>
                  <p:nvPr/>
                </p:nvSpPr>
                <p:spPr>
                  <a:xfrm flipV="1">
                    <a:off x="534600" y="4673520"/>
                    <a:ext cx="323280" cy="8866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flipH="1" flipV="1">
                    <a:off x="534600" y="4370760"/>
                    <a:ext cx="320400" cy="2988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flipV="1">
                    <a:off x="533520" y="4997880"/>
                    <a:ext cx="323280" cy="2412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 flipV="1">
                    <a:off x="534600" y="4047480"/>
                    <a:ext cx="321840" cy="9442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flipV="1">
                    <a:off x="536760" y="4047840"/>
                    <a:ext cx="317520" cy="3186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>
                    <a:off x="535320" y="4371120"/>
                    <a:ext cx="0" cy="11926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"/>
                  <p:cNvSpPr/>
                  <p:nvPr/>
                </p:nvSpPr>
                <p:spPr>
                  <a:xfrm flipH="1">
                    <a:off x="857160" y="4057920"/>
                    <a:ext cx="1440" cy="1179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8" name=""/>
                <p:cNvGrpSpPr/>
                <p:nvPr/>
              </p:nvGrpSpPr>
              <p:grpSpPr>
                <a:xfrm>
                  <a:off x="5580360" y="2418840"/>
                  <a:ext cx="325800" cy="1538640"/>
                  <a:chOff x="5580360" y="2418840"/>
                  <a:chExt cx="325800" cy="153864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 flipV="1">
                    <a:off x="5582880" y="3071160"/>
                    <a:ext cx="320400" cy="8809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 flipH="1" flipV="1">
                    <a:off x="5580360" y="2744280"/>
                    <a:ext cx="321840" cy="332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flipH="1" flipV="1">
                    <a:off x="5582880" y="3388320"/>
                    <a:ext cx="320400" cy="2422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V="1">
                    <a:off x="5581440" y="2421360"/>
                    <a:ext cx="317520" cy="9727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 flipV="1">
                    <a:off x="5580720" y="2418840"/>
                    <a:ext cx="324720" cy="3301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5585040" y="2739240"/>
                    <a:ext cx="0" cy="12182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H="1">
                    <a:off x="5905080" y="2424600"/>
                    <a:ext cx="1080" cy="12074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6" name=""/>
                <p:cNvGrpSpPr/>
                <p:nvPr/>
              </p:nvGrpSpPr>
              <p:grpSpPr>
                <a:xfrm>
                  <a:off x="2152080" y="2421000"/>
                  <a:ext cx="323280" cy="1531440"/>
                  <a:chOff x="2152080" y="2421000"/>
                  <a:chExt cx="323280" cy="1531440"/>
                </a:xfrm>
              </p:grpSpPr>
              <p:sp>
                <p:nvSpPr>
                  <p:cNvPr id="527" name=""/>
                  <p:cNvSpPr/>
                  <p:nvPr/>
                </p:nvSpPr>
                <p:spPr>
                  <a:xfrm flipV="1">
                    <a:off x="2152080" y="3075840"/>
                    <a:ext cx="321840" cy="8766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 flipH="1" flipV="1">
                    <a:off x="2153160" y="2748600"/>
                    <a:ext cx="318960" cy="32436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flipH="1" flipV="1">
                    <a:off x="2152080" y="3394800"/>
                    <a:ext cx="323280" cy="234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 flipV="1">
                    <a:off x="2152080" y="2421720"/>
                    <a:ext cx="323280" cy="9727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V="1">
                    <a:off x="2153880" y="2422080"/>
                    <a:ext cx="317880" cy="3186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2152440" y="2755080"/>
                    <a:ext cx="0" cy="11926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2473200" y="2421000"/>
                    <a:ext cx="1080" cy="12088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34" name=""/>
              <p:cNvGrpSpPr/>
              <p:nvPr/>
            </p:nvGrpSpPr>
            <p:grpSpPr>
              <a:xfrm>
                <a:off x="537120" y="3070800"/>
                <a:ext cx="5371560" cy="1926000"/>
                <a:chOff x="537120" y="3070800"/>
                <a:chExt cx="5371560" cy="1926000"/>
              </a:xfrm>
            </p:grpSpPr>
            <p:sp>
              <p:nvSpPr>
                <p:cNvPr id="535" name=""/>
                <p:cNvSpPr/>
                <p:nvPr/>
              </p:nvSpPr>
              <p:spPr>
                <a:xfrm flipV="1">
                  <a:off x="3969360" y="4667760"/>
                  <a:ext cx="317520" cy="318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 flipV="1">
                  <a:off x="537120" y="4675680"/>
                  <a:ext cx="323280" cy="3211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flipV="1">
                  <a:off x="5591160" y="3070800"/>
                  <a:ext cx="317520" cy="3182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V="1">
                  <a:off x="2157120" y="3076560"/>
                  <a:ext cx="320400" cy="3182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39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>
            <a:hlinkClick r:id="rId1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>
            <a:hlinkClick r:id="rId2" action="ppaction://hlinksldjump"/>
          </p:cNvPr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>
            <a:hlinkClick r:id="rId3" action="ppaction://hlinksldjump"/>
          </p:cNvPr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>
            <a:hlinkClick r:id="rId4" action="ppaction://hlinksldjump"/>
          </p:cNvPr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>
            <a:hlinkClick r:id="rId5" action="ppaction://hlinksldjump"/>
          </p:cNvPr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>
            <a:hlinkClick r:id="rId6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rId7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>
            <a:hlinkClick r:id="rId8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>
            <a:hlinkClick r:id="rId9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>
            <a:hlinkClick r:id="rId10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8" name="" descr=""/>
          <p:cNvPicPr/>
          <p:nvPr/>
        </p:nvPicPr>
        <p:blipFill>
          <a:blip r:embed="rId1"/>
          <a:stretch/>
        </p:blipFill>
        <p:spPr>
          <a:xfrm>
            <a:off x="689040" y="382680"/>
            <a:ext cx="7869240" cy="5634000"/>
          </a:xfrm>
          <a:prstGeom prst="rect">
            <a:avLst/>
          </a:prstGeom>
          <a:ln w="0">
            <a:noFill/>
          </a:ln>
        </p:spPr>
      </p:pic>
      <p:sp>
        <p:nvSpPr>
          <p:cNvPr id="3029" name=""/>
          <p:cNvSpPr/>
          <p:nvPr/>
        </p:nvSpPr>
        <p:spPr>
          <a:xfrm>
            <a:off x="870120" y="6189840"/>
            <a:ext cx="7491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emple d’une panne faîtière dédoubl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1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169920" y="4366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RÉPONSE COR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>
            <a:hlinkClick r:id="rId1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>
            <a:hlinkClick r:id="rId2" action="ppaction://hlinksldjump"/>
          </p:cNvPr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>
            <a:hlinkClick r:id="rId3" action="ppaction://hlinksldjump"/>
          </p:cNvPr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>
            <a:hlinkClick r:id="rId4" action="ppaction://hlinksldjump"/>
          </p:cNvPr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>
            <a:hlinkClick r:id="rId5" action="ppaction://hlinksldjump"/>
          </p:cNvPr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>
            <a:hlinkClick r:id="rId6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>
            <a:hlinkClick r:id="rId7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>
            <a:hlinkClick r:id="rId8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>
            <a:hlinkClick r:id="rId9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>
            <a:hlinkClick r:id="rId10" action="ppaction://hlinksldjump"/>
          </p:cNvPr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>
            <a:hlinkClick r:id="rId11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431640" y="2158560"/>
            <a:ext cx="5532120" cy="3599280"/>
            <a:chOff x="431640" y="2158560"/>
            <a:chExt cx="5532120" cy="3599280"/>
          </a:xfrm>
        </p:grpSpPr>
        <p:sp>
          <p:nvSpPr>
            <p:cNvPr id="587" name=""/>
            <p:cNvSpPr/>
            <p:nvPr/>
          </p:nvSpPr>
          <p:spPr>
            <a:xfrm flipV="1">
              <a:off x="2470320" y="2419200"/>
              <a:ext cx="0" cy="1190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533520" y="2418840"/>
              <a:ext cx="5375160" cy="3144960"/>
              <a:chOff x="533520" y="2418840"/>
              <a:chExt cx="5375160" cy="3144960"/>
            </a:xfrm>
          </p:grpSpPr>
          <p:grpSp>
            <p:nvGrpSpPr>
              <p:cNvPr id="589" name=""/>
              <p:cNvGrpSpPr/>
              <p:nvPr/>
            </p:nvGrpSpPr>
            <p:grpSpPr>
              <a:xfrm>
                <a:off x="533520" y="2418840"/>
                <a:ext cx="5372640" cy="3144960"/>
                <a:chOff x="533520" y="2418840"/>
                <a:chExt cx="5372640" cy="3144960"/>
              </a:xfrm>
            </p:grpSpPr>
            <p:grpSp>
              <p:nvGrpSpPr>
                <p:cNvPr id="590" name=""/>
                <p:cNvGrpSpPr/>
                <p:nvPr/>
              </p:nvGrpSpPr>
              <p:grpSpPr>
                <a:xfrm>
                  <a:off x="3951720" y="4039920"/>
                  <a:ext cx="337680" cy="1517760"/>
                  <a:chOff x="3951720" y="4039920"/>
                  <a:chExt cx="337680" cy="1517760"/>
                </a:xfrm>
              </p:grpSpPr>
              <p:sp>
                <p:nvSpPr>
                  <p:cNvPr id="591" name=""/>
                  <p:cNvSpPr/>
                  <p:nvPr/>
                </p:nvSpPr>
                <p:spPr>
                  <a:xfrm flipV="1">
                    <a:off x="3965760" y="4670640"/>
                    <a:ext cx="322920" cy="887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flipH="1" flipV="1">
                    <a:off x="3959640" y="4358520"/>
                    <a:ext cx="328680" cy="311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flipH="1" flipV="1">
                    <a:off x="3965400" y="4987440"/>
                    <a:ext cx="322920" cy="245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flipV="1">
                    <a:off x="3965760" y="4039920"/>
                    <a:ext cx="322920" cy="940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flipV="1">
                    <a:off x="3951720" y="4052520"/>
                    <a:ext cx="323280" cy="32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>
                    <a:off x="3966120" y="4359600"/>
                    <a:ext cx="0" cy="1193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4289400" y="4046400"/>
                    <a:ext cx="0" cy="1193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8" name=""/>
                <p:cNvGrpSpPr/>
                <p:nvPr/>
              </p:nvGrpSpPr>
              <p:grpSpPr>
                <a:xfrm>
                  <a:off x="533520" y="4047480"/>
                  <a:ext cx="325080" cy="1516320"/>
                  <a:chOff x="533520" y="4047480"/>
                  <a:chExt cx="325080" cy="1516320"/>
                </a:xfrm>
              </p:grpSpPr>
              <p:sp>
                <p:nvSpPr>
                  <p:cNvPr id="599" name=""/>
                  <p:cNvSpPr/>
                  <p:nvPr/>
                </p:nvSpPr>
                <p:spPr>
                  <a:xfrm flipV="1">
                    <a:off x="534600" y="4673520"/>
                    <a:ext cx="323280" cy="88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 flipH="1" flipV="1">
                    <a:off x="534600" y="4370760"/>
                    <a:ext cx="320400" cy="29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H="1" flipV="1">
                    <a:off x="533520" y="4997880"/>
                    <a:ext cx="323280" cy="241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flipV="1">
                    <a:off x="534600" y="4047480"/>
                    <a:ext cx="321840" cy="944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V="1">
                    <a:off x="536760" y="4047840"/>
                    <a:ext cx="31752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535320" y="437112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 flipH="1">
                    <a:off x="857160" y="4057920"/>
                    <a:ext cx="1440" cy="117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6" name=""/>
                <p:cNvGrpSpPr/>
                <p:nvPr/>
              </p:nvGrpSpPr>
              <p:grpSpPr>
                <a:xfrm>
                  <a:off x="5580360" y="2418840"/>
                  <a:ext cx="325800" cy="1538640"/>
                  <a:chOff x="5580360" y="2418840"/>
                  <a:chExt cx="325800" cy="1538640"/>
                </a:xfrm>
              </p:grpSpPr>
              <p:sp>
                <p:nvSpPr>
                  <p:cNvPr id="607" name=""/>
                  <p:cNvSpPr/>
                  <p:nvPr/>
                </p:nvSpPr>
                <p:spPr>
                  <a:xfrm flipV="1">
                    <a:off x="5582880" y="3071160"/>
                    <a:ext cx="320400" cy="880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flipH="1" flipV="1">
                    <a:off x="5580360" y="2744280"/>
                    <a:ext cx="321840" cy="332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flipH="1" flipV="1">
                    <a:off x="5582880" y="3388320"/>
                    <a:ext cx="320400" cy="242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flipV="1">
                    <a:off x="5581440" y="2421360"/>
                    <a:ext cx="31752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flipV="1">
                    <a:off x="5580720" y="2418840"/>
                    <a:ext cx="324720" cy="33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5585040" y="2739240"/>
                    <a:ext cx="0" cy="1218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flipH="1">
                    <a:off x="5905080" y="2424600"/>
                    <a:ext cx="1080" cy="120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4" name=""/>
                <p:cNvGrpSpPr/>
                <p:nvPr/>
              </p:nvGrpSpPr>
              <p:grpSpPr>
                <a:xfrm>
                  <a:off x="2152080" y="2421000"/>
                  <a:ext cx="323280" cy="1531440"/>
                  <a:chOff x="2152080" y="2421000"/>
                  <a:chExt cx="323280" cy="153144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 flipV="1">
                    <a:off x="2152080" y="3075840"/>
                    <a:ext cx="321840" cy="876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flipH="1" flipV="1">
                    <a:off x="2153160" y="2748600"/>
                    <a:ext cx="318960" cy="32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flipH="1" flipV="1">
                    <a:off x="2152080" y="3394800"/>
                    <a:ext cx="323280" cy="234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flipV="1">
                    <a:off x="2152080" y="2421720"/>
                    <a:ext cx="32328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V="1">
                    <a:off x="2153880" y="2422080"/>
                    <a:ext cx="31788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>
                    <a:off x="2152440" y="275508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>
                    <a:off x="2473200" y="2421000"/>
                    <a:ext cx="1080" cy="1208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2" name=""/>
              <p:cNvGrpSpPr/>
              <p:nvPr/>
            </p:nvGrpSpPr>
            <p:grpSpPr>
              <a:xfrm>
                <a:off x="537120" y="3070800"/>
                <a:ext cx="5371560" cy="1926000"/>
                <a:chOff x="537120" y="3070800"/>
                <a:chExt cx="5371560" cy="1926000"/>
              </a:xfrm>
            </p:grpSpPr>
            <p:sp>
              <p:nvSpPr>
                <p:cNvPr id="623" name=""/>
                <p:cNvSpPr/>
                <p:nvPr/>
              </p:nvSpPr>
              <p:spPr>
                <a:xfrm flipV="1">
                  <a:off x="3969360" y="466776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flipV="1">
                  <a:off x="537120" y="4675680"/>
                  <a:ext cx="32328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 flipV="1">
                  <a:off x="5591160" y="3070800"/>
                  <a:ext cx="31752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flipV="1">
                  <a:off x="2157120" y="3076560"/>
                  <a:ext cx="32040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7" name=""/>
            <p:cNvGrpSpPr/>
            <p:nvPr/>
          </p:nvGrpSpPr>
          <p:grpSpPr>
            <a:xfrm>
              <a:off x="431640" y="3668760"/>
              <a:ext cx="5532120" cy="2089080"/>
              <a:chOff x="431640" y="3668760"/>
              <a:chExt cx="5532120" cy="2089080"/>
            </a:xfrm>
          </p:grpSpPr>
          <p:grpSp>
            <p:nvGrpSpPr>
              <p:cNvPr id="628" name=""/>
              <p:cNvGrpSpPr/>
              <p:nvPr/>
            </p:nvGrpSpPr>
            <p:grpSpPr>
              <a:xfrm>
                <a:off x="4189320" y="3987000"/>
                <a:ext cx="1452240" cy="1449360"/>
                <a:chOff x="4189320" y="3987000"/>
                <a:chExt cx="1452240" cy="144936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5482440" y="398700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5163480" y="4302720"/>
                  <a:ext cx="159840" cy="160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835880" y="4627080"/>
                  <a:ext cx="15984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513680" y="4947840"/>
                  <a:ext cx="1634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4189320" y="5276880"/>
                  <a:ext cx="15876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761760" y="3985920"/>
                <a:ext cx="1447920" cy="1442160"/>
                <a:chOff x="761760" y="3985920"/>
                <a:chExt cx="1447920" cy="144216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2050560" y="398592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1729800" y="4304520"/>
                  <a:ext cx="159120" cy="1612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408320" y="462708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1080720" y="4948920"/>
                  <a:ext cx="16020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761760" y="526860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2367720" y="3668760"/>
                <a:ext cx="3596040" cy="162000"/>
                <a:chOff x="2367720" y="3668760"/>
                <a:chExt cx="3596040" cy="16200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5804640" y="366912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2367720" y="366912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676400" y="366876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2938680" y="367092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48804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4087080" y="36687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524268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8" name=""/>
              <p:cNvGrpSpPr/>
              <p:nvPr/>
            </p:nvGrpSpPr>
            <p:grpSpPr>
              <a:xfrm>
                <a:off x="431640" y="5596200"/>
                <a:ext cx="3595320" cy="161640"/>
                <a:chOff x="431640" y="5596200"/>
                <a:chExt cx="3595320" cy="16164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43164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3867480" y="5596200"/>
                  <a:ext cx="15948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9993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55160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2741040" y="559800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3159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5" name=""/>
            <p:cNvGrpSpPr/>
            <p:nvPr/>
          </p:nvGrpSpPr>
          <p:grpSpPr>
            <a:xfrm>
              <a:off x="2473200" y="2424240"/>
              <a:ext cx="3434040" cy="1209600"/>
              <a:chOff x="2473200" y="2424240"/>
              <a:chExt cx="3434040" cy="1209600"/>
            </a:xfrm>
          </p:grpSpPr>
          <p:sp>
            <p:nvSpPr>
              <p:cNvPr id="656" name=""/>
              <p:cNvSpPr/>
              <p:nvPr/>
            </p:nvSpPr>
            <p:spPr>
              <a:xfrm>
                <a:off x="2473200" y="24242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473560" y="275256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V="1">
                <a:off x="2473920" y="3332880"/>
                <a:ext cx="3427560" cy="14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2475000" y="3075840"/>
                <a:ext cx="342216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476080" y="36338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531720" y="2749680"/>
              <a:ext cx="1941120" cy="2812680"/>
              <a:chOff x="531720" y="2749680"/>
              <a:chExt cx="1941120" cy="2812680"/>
            </a:xfrm>
          </p:grpSpPr>
          <p:sp>
            <p:nvSpPr>
              <p:cNvPr id="662" name=""/>
              <p:cNvSpPr/>
              <p:nvPr/>
            </p:nvSpPr>
            <p:spPr>
              <a:xfrm flipV="1">
                <a:off x="535680" y="2749680"/>
                <a:ext cx="1935720" cy="192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531720" y="3080160"/>
                <a:ext cx="1940040" cy="191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>
                <a:off x="532800" y="3346200"/>
                <a:ext cx="1940040" cy="1935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532800" y="3632760"/>
                <a:ext cx="1937160" cy="1929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531720" y="2158920"/>
              <a:ext cx="5372280" cy="3412800"/>
              <a:chOff x="531720" y="2158920"/>
              <a:chExt cx="5372280" cy="3412800"/>
            </a:xfrm>
          </p:grpSpPr>
          <p:grpSp>
            <p:nvGrpSpPr>
              <p:cNvPr id="667" name=""/>
              <p:cNvGrpSpPr/>
              <p:nvPr/>
            </p:nvGrpSpPr>
            <p:grpSpPr>
              <a:xfrm>
                <a:off x="2473200" y="2158920"/>
                <a:ext cx="3430800" cy="1476720"/>
                <a:chOff x="2473200" y="2158920"/>
                <a:chExt cx="3430800" cy="147672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5355000" y="2341800"/>
                  <a:ext cx="0" cy="129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5904000" y="2439000"/>
                  <a:ext cx="0" cy="1196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4782240" y="2248200"/>
                  <a:ext cx="0" cy="138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4189680" y="2158920"/>
                  <a:ext cx="0" cy="147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3594960" y="2251800"/>
                  <a:ext cx="0" cy="138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2473200" y="2433600"/>
                  <a:ext cx="0" cy="120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3046680" y="2336760"/>
                  <a:ext cx="0" cy="1298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5" name=""/>
              <p:cNvGrpSpPr/>
              <p:nvPr/>
            </p:nvGrpSpPr>
            <p:grpSpPr>
              <a:xfrm>
                <a:off x="531720" y="4102200"/>
                <a:ext cx="3433320" cy="1469520"/>
                <a:chOff x="531720" y="4102200"/>
                <a:chExt cx="3433320" cy="1469520"/>
              </a:xfrm>
            </p:grpSpPr>
            <p:sp>
              <p:nvSpPr>
                <p:cNvPr id="676" name=""/>
                <p:cNvSpPr/>
                <p:nvPr/>
              </p:nvSpPr>
              <p:spPr>
                <a:xfrm flipH="1">
                  <a:off x="2248920" y="4102200"/>
                  <a:ext cx="1440" cy="57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3415680" y="4284720"/>
                  <a:ext cx="0" cy="128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965040" y="43657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2842920" y="4197960"/>
                  <a:ext cx="0" cy="1368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1655280" y="4190400"/>
                  <a:ext cx="0" cy="137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31720" y="4368600"/>
                  <a:ext cx="72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1107000" y="4280400"/>
                  <a:ext cx="0" cy="128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3" name=""/>
            <p:cNvGrpSpPr/>
            <p:nvPr/>
          </p:nvGrpSpPr>
          <p:grpSpPr>
            <a:xfrm>
              <a:off x="525600" y="2160720"/>
              <a:ext cx="5378400" cy="2209320"/>
              <a:chOff x="525600" y="2160720"/>
              <a:chExt cx="5378400" cy="2209320"/>
            </a:xfrm>
          </p:grpSpPr>
          <p:grpSp>
            <p:nvGrpSpPr>
              <p:cNvPr id="684" name=""/>
              <p:cNvGrpSpPr/>
              <p:nvPr/>
            </p:nvGrpSpPr>
            <p:grpSpPr>
              <a:xfrm>
                <a:off x="2151720" y="2160720"/>
                <a:ext cx="3752280" cy="588960"/>
                <a:chOff x="2151720" y="2160720"/>
                <a:chExt cx="3752280" cy="588960"/>
              </a:xfrm>
            </p:grpSpPr>
            <p:sp>
              <p:nvSpPr>
                <p:cNvPr id="685" name=""/>
                <p:cNvSpPr/>
                <p:nvPr/>
              </p:nvSpPr>
              <p:spPr>
                <a:xfrm flipV="1">
                  <a:off x="5586480" y="24210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flipV="1">
                  <a:off x="3869280" y="2160720"/>
                  <a:ext cx="321840" cy="32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 flipV="1">
                  <a:off x="4461840" y="22514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 flipV="1">
                  <a:off x="2152080" y="2424960"/>
                  <a:ext cx="32436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 flipV="1">
                  <a:off x="2724120" y="23382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 flipV="1">
                  <a:off x="3274920" y="225432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1" name=""/>
                <p:cNvGrpSpPr/>
                <p:nvPr/>
              </p:nvGrpSpPr>
              <p:grpSpPr>
                <a:xfrm>
                  <a:off x="2151720" y="2160720"/>
                  <a:ext cx="3748320" cy="588960"/>
                  <a:chOff x="2151720" y="2160720"/>
                  <a:chExt cx="3748320" cy="588960"/>
                </a:xfrm>
              </p:grpSpPr>
              <p:sp>
                <p:nvSpPr>
                  <p:cNvPr id="692" name=""/>
                  <p:cNvSpPr/>
                  <p:nvPr/>
                </p:nvSpPr>
                <p:spPr>
                  <a:xfrm flipH="1" flipV="1">
                    <a:off x="4188960" y="2160720"/>
                    <a:ext cx="26640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 flipH="1">
                    <a:off x="3274200" y="2161080"/>
                    <a:ext cx="912960" cy="413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flipH="1" flipV="1">
                    <a:off x="5353920" y="2337480"/>
                    <a:ext cx="22536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 flipV="1">
                    <a:off x="5025240" y="2422080"/>
                    <a:ext cx="874800" cy="24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 flipH="1" flipV="1">
                    <a:off x="4782240" y="2251800"/>
                    <a:ext cx="242640" cy="411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flipH="1">
                    <a:off x="4458240" y="2335320"/>
                    <a:ext cx="896400" cy="240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 flipH="1">
                    <a:off x="3871800" y="2247840"/>
                    <a:ext cx="909720" cy="23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 flipH="1" flipV="1">
                    <a:off x="3593160" y="2254680"/>
                    <a:ext cx="28584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 flipH="1" flipV="1">
                    <a:off x="3045960" y="2335320"/>
                    <a:ext cx="236160" cy="241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 flipH="1">
                    <a:off x="2720520" y="2256480"/>
                    <a:ext cx="873720" cy="406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 flipH="1" flipV="1">
                    <a:off x="2478600" y="2426400"/>
                    <a:ext cx="23940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 flipH="1">
                    <a:off x="2151720" y="2336760"/>
                    <a:ext cx="894240" cy="410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 flipV="1">
                    <a:off x="2479680" y="2162880"/>
                    <a:ext cx="1708200" cy="25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 flipV="1">
                    <a:off x="2167560" y="2481840"/>
                    <a:ext cx="1705320" cy="263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3870360" y="2480400"/>
                    <a:ext cx="1710360" cy="269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4195080" y="2160720"/>
                    <a:ext cx="169776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08" name=""/>
                <p:cNvSpPr/>
                <p:nvPr/>
              </p:nvSpPr>
              <p:spPr>
                <a:xfrm flipV="1">
                  <a:off x="5026320" y="2337480"/>
                  <a:ext cx="326160" cy="326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525600" y="3780000"/>
                <a:ext cx="3754440" cy="590040"/>
                <a:chOff x="525600" y="3780000"/>
                <a:chExt cx="3754440" cy="590040"/>
              </a:xfrm>
            </p:grpSpPr>
            <p:sp>
              <p:nvSpPr>
                <p:cNvPr id="710" name=""/>
                <p:cNvSpPr/>
                <p:nvPr/>
              </p:nvSpPr>
              <p:spPr>
                <a:xfrm flipV="1">
                  <a:off x="3956760" y="4044600"/>
                  <a:ext cx="32184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 flipV="1">
                  <a:off x="2839320" y="3871800"/>
                  <a:ext cx="320400" cy="320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flipV="1">
                  <a:off x="2243880" y="3784680"/>
                  <a:ext cx="316080" cy="315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2240640" y="4100760"/>
                  <a:ext cx="171612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 flipH="1" flipV="1">
                  <a:off x="2565000" y="3782160"/>
                  <a:ext cx="26784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 flipH="1" flipV="1">
                  <a:off x="3731400" y="3960720"/>
                  <a:ext cx="228240" cy="40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 flipV="1">
                  <a:off x="3408120" y="4045320"/>
                  <a:ext cx="866160" cy="238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 flipH="1" flipV="1">
                  <a:off x="3160800" y="3873960"/>
                  <a:ext cx="24840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 flipH="1">
                  <a:off x="2832840" y="3960000"/>
                  <a:ext cx="896400" cy="236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 flipH="1">
                  <a:off x="2242440" y="3872520"/>
                  <a:ext cx="91944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2569680" y="3780720"/>
                  <a:ext cx="1710360" cy="264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 flipV="1">
                  <a:off x="3409560" y="3960000"/>
                  <a:ext cx="32040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 flipV="1">
                  <a:off x="1652760" y="3868920"/>
                  <a:ext cx="32040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 flipV="1">
                  <a:off x="1101600" y="3952800"/>
                  <a:ext cx="322920" cy="325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flipV="1">
                  <a:off x="535320" y="4100760"/>
                  <a:ext cx="170496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 flipV="1">
                  <a:off x="851400" y="3780720"/>
                  <a:ext cx="1722240" cy="262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 flipH="1">
                  <a:off x="1650240" y="3780000"/>
                  <a:ext cx="9172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 flipH="1" flipV="1">
                  <a:off x="1970640" y="3872160"/>
                  <a:ext cx="26856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 flipH="1" flipV="1">
                  <a:off x="1422000" y="3952800"/>
                  <a:ext cx="227520" cy="239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 flipH="1">
                  <a:off x="1104120" y="3876840"/>
                  <a:ext cx="859680" cy="403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 flipH="1" flipV="1">
                  <a:off x="852120" y="4042440"/>
                  <a:ext cx="246600" cy="235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 flipH="1">
                  <a:off x="529200" y="3955680"/>
                  <a:ext cx="88992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flipV="1">
                  <a:off x="525600" y="4044240"/>
                  <a:ext cx="325800" cy="325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3" name=""/>
            <p:cNvGrpSpPr/>
            <p:nvPr/>
          </p:nvGrpSpPr>
          <p:grpSpPr>
            <a:xfrm>
              <a:off x="533520" y="2422440"/>
              <a:ext cx="5368320" cy="1944720"/>
              <a:chOff x="533520" y="2422440"/>
              <a:chExt cx="5368320" cy="1944720"/>
            </a:xfrm>
          </p:grpSpPr>
          <p:sp>
            <p:nvSpPr>
              <p:cNvPr id="734" name=""/>
              <p:cNvSpPr/>
              <p:nvPr/>
            </p:nvSpPr>
            <p:spPr>
              <a:xfrm flipV="1">
                <a:off x="3955680" y="2422440"/>
                <a:ext cx="1946160" cy="1944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533520" y="2422440"/>
                <a:ext cx="1940760" cy="1944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779400" y="2204640"/>
              <a:ext cx="4847760" cy="2130480"/>
              <a:chOff x="779400" y="2204640"/>
              <a:chExt cx="4847760" cy="2130480"/>
            </a:xfrm>
          </p:grpSpPr>
          <p:sp>
            <p:nvSpPr>
              <p:cNvPr id="737" name=""/>
              <p:cNvSpPr/>
              <p:nvPr/>
            </p:nvSpPr>
            <p:spPr>
              <a:xfrm flipV="1">
                <a:off x="2548440" y="2204640"/>
                <a:ext cx="19350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2841480" y="2248920"/>
                <a:ext cx="19407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3413160" y="2341080"/>
                <a:ext cx="193212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3681000" y="2384640"/>
                <a:ext cx="19461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779400" y="2381400"/>
                <a:ext cx="1985400" cy="1953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1103040" y="2338560"/>
                <a:ext cx="1938600" cy="194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1655280" y="2247480"/>
                <a:ext cx="194292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1934640" y="2204640"/>
                <a:ext cx="1973520" cy="1950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1371600" y="2298600"/>
                <a:ext cx="194796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3124440" y="2290680"/>
                <a:ext cx="1940760" cy="1947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7" name=""/>
            <p:cNvSpPr/>
            <p:nvPr/>
          </p:nvSpPr>
          <p:spPr>
            <a:xfrm flipV="1">
              <a:off x="2244600" y="2158920"/>
              <a:ext cx="1944720" cy="193824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531720" y="4368600"/>
              <a:ext cx="3430800" cy="1198080"/>
              <a:chOff x="531720" y="4368600"/>
              <a:chExt cx="3430800" cy="1198080"/>
            </a:xfrm>
          </p:grpSpPr>
          <p:sp>
            <p:nvSpPr>
              <p:cNvPr id="749" name=""/>
              <p:cNvSpPr/>
              <p:nvPr/>
            </p:nvSpPr>
            <p:spPr>
              <a:xfrm flipV="1">
                <a:off x="2842200" y="5565600"/>
                <a:ext cx="11178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532080" y="4368600"/>
                <a:ext cx="3430440" cy="3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31720" y="4678920"/>
                <a:ext cx="343008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2839320" y="5276880"/>
                <a:ext cx="11217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V="1">
                <a:off x="532080" y="4999320"/>
                <a:ext cx="112284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842200" y="4991400"/>
                <a:ext cx="11203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32800" y="5281200"/>
                <a:ext cx="11196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34240" y="5564520"/>
                <a:ext cx="1116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3960720" y="2754360"/>
              <a:ext cx="1943280" cy="2809800"/>
              <a:chOff x="3960720" y="2754360"/>
              <a:chExt cx="1943280" cy="2809800"/>
            </a:xfrm>
          </p:grpSpPr>
          <p:sp>
            <p:nvSpPr>
              <p:cNvPr id="758" name=""/>
              <p:cNvSpPr/>
              <p:nvPr/>
            </p:nvSpPr>
            <p:spPr>
              <a:xfrm flipV="1">
                <a:off x="3960720" y="3636000"/>
                <a:ext cx="1943280" cy="1928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V="1">
                <a:off x="3964680" y="2754360"/>
                <a:ext cx="1937520" cy="1925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V="1">
                <a:off x="3963240" y="3076200"/>
                <a:ext cx="1939320" cy="1913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V="1">
                <a:off x="3961800" y="3332880"/>
                <a:ext cx="19404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2" name=""/>
            <p:cNvSpPr/>
            <p:nvPr/>
          </p:nvSpPr>
          <p:spPr>
            <a:xfrm flipV="1">
              <a:off x="531720" y="4101840"/>
              <a:ext cx="1714680" cy="2667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flipV="1">
              <a:off x="2249640" y="4103280"/>
              <a:ext cx="1715760" cy="2667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530280" y="4363920"/>
              <a:ext cx="0" cy="1190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>
              <a:off x="3960720" y="4363920"/>
              <a:ext cx="0" cy="1190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5900760" y="2419200"/>
              <a:ext cx="0" cy="1190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2479680" y="2158560"/>
              <a:ext cx="1714320" cy="2653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 flipV="1">
              <a:off x="4193640" y="2158560"/>
              <a:ext cx="1714680" cy="2653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525600" y="2160720"/>
              <a:ext cx="5378400" cy="2209320"/>
              <a:chOff x="525600" y="2160720"/>
              <a:chExt cx="5378400" cy="2209320"/>
            </a:xfrm>
          </p:grpSpPr>
          <p:grpSp>
            <p:nvGrpSpPr>
              <p:cNvPr id="770" name=""/>
              <p:cNvGrpSpPr/>
              <p:nvPr/>
            </p:nvGrpSpPr>
            <p:grpSpPr>
              <a:xfrm>
                <a:off x="2151720" y="2160720"/>
                <a:ext cx="3752280" cy="588960"/>
                <a:chOff x="2151720" y="2160720"/>
                <a:chExt cx="3752280" cy="588960"/>
              </a:xfrm>
            </p:grpSpPr>
            <p:sp>
              <p:nvSpPr>
                <p:cNvPr id="771" name=""/>
                <p:cNvSpPr/>
                <p:nvPr/>
              </p:nvSpPr>
              <p:spPr>
                <a:xfrm flipV="1">
                  <a:off x="5586480" y="2421000"/>
                  <a:ext cx="317520" cy="3178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V="1">
                  <a:off x="3869280" y="2160720"/>
                  <a:ext cx="321840" cy="3240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V="1">
                  <a:off x="4461840" y="2251440"/>
                  <a:ext cx="317520" cy="318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flipV="1">
                  <a:off x="2152080" y="2424960"/>
                  <a:ext cx="324360" cy="3214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 flipV="1">
                  <a:off x="2724120" y="2338200"/>
                  <a:ext cx="317520" cy="3178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flipV="1">
                  <a:off x="3274920" y="2254320"/>
                  <a:ext cx="317520" cy="318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7" name=""/>
                <p:cNvGrpSpPr/>
                <p:nvPr/>
              </p:nvGrpSpPr>
              <p:grpSpPr>
                <a:xfrm>
                  <a:off x="2151720" y="2160720"/>
                  <a:ext cx="3748320" cy="588960"/>
                  <a:chOff x="2151720" y="2160720"/>
                  <a:chExt cx="3748320" cy="588960"/>
                </a:xfrm>
              </p:grpSpPr>
              <p:sp>
                <p:nvSpPr>
                  <p:cNvPr id="778" name=""/>
                  <p:cNvSpPr/>
                  <p:nvPr/>
                </p:nvSpPr>
                <p:spPr>
                  <a:xfrm flipH="1" flipV="1">
                    <a:off x="4188960" y="2160720"/>
                    <a:ext cx="266400" cy="4122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 flipH="1">
                    <a:off x="3274200" y="2161080"/>
                    <a:ext cx="912960" cy="413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 flipH="1" flipV="1">
                    <a:off x="5353920" y="2337480"/>
                    <a:ext cx="225360" cy="4122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 flipV="1">
                    <a:off x="5025240" y="2422080"/>
                    <a:ext cx="874800" cy="2401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 flipH="1" flipV="1">
                    <a:off x="4782240" y="2251800"/>
                    <a:ext cx="242640" cy="4114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 flipH="1">
                    <a:off x="4458240" y="2335320"/>
                    <a:ext cx="896400" cy="2404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 flipH="1">
                    <a:off x="3871800" y="2247840"/>
                    <a:ext cx="909720" cy="2329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 flipH="1" flipV="1">
                    <a:off x="3593160" y="2254680"/>
                    <a:ext cx="285840" cy="23436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 flipH="1" flipV="1">
                    <a:off x="3045960" y="2335320"/>
                    <a:ext cx="236160" cy="2419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 flipH="1">
                    <a:off x="2720520" y="2256480"/>
                    <a:ext cx="873720" cy="40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 flipH="1" flipV="1">
                    <a:off x="2478600" y="2426400"/>
                    <a:ext cx="239400" cy="23436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 flipH="1">
                    <a:off x="2151720" y="2336760"/>
                    <a:ext cx="894240" cy="4104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 flipV="1">
                    <a:off x="2479680" y="2162880"/>
                    <a:ext cx="1708200" cy="2581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flipV="1">
                    <a:off x="2167560" y="2481840"/>
                    <a:ext cx="1705320" cy="2635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3870360" y="2480400"/>
                    <a:ext cx="1710360" cy="2692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>
                    <a:off x="4195080" y="2160720"/>
                    <a:ext cx="1697760" cy="260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4" name=""/>
                <p:cNvSpPr/>
                <p:nvPr/>
              </p:nvSpPr>
              <p:spPr>
                <a:xfrm flipV="1">
                  <a:off x="5026320" y="2337480"/>
                  <a:ext cx="326160" cy="3268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5" name=""/>
              <p:cNvGrpSpPr/>
              <p:nvPr/>
            </p:nvGrpSpPr>
            <p:grpSpPr>
              <a:xfrm>
                <a:off x="525600" y="3780000"/>
                <a:ext cx="3754440" cy="590040"/>
                <a:chOff x="525600" y="3780000"/>
                <a:chExt cx="3754440" cy="590040"/>
              </a:xfrm>
            </p:grpSpPr>
            <p:sp>
              <p:nvSpPr>
                <p:cNvPr id="796" name=""/>
                <p:cNvSpPr/>
                <p:nvPr/>
              </p:nvSpPr>
              <p:spPr>
                <a:xfrm flipV="1">
                  <a:off x="3956760" y="4044600"/>
                  <a:ext cx="321840" cy="3211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flipV="1">
                  <a:off x="2839320" y="3871800"/>
                  <a:ext cx="320400" cy="320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 flipV="1">
                  <a:off x="2243880" y="3784680"/>
                  <a:ext cx="316080" cy="3157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2240640" y="4100760"/>
                  <a:ext cx="1716120" cy="2692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flipH="1" flipV="1">
                  <a:off x="2565000" y="3782160"/>
                  <a:ext cx="267840" cy="4136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 flipH="1" flipV="1">
                  <a:off x="3731400" y="3960720"/>
                  <a:ext cx="228240" cy="4078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 flipV="1">
                  <a:off x="3408120" y="4045320"/>
                  <a:ext cx="866160" cy="2386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flipH="1" flipV="1">
                  <a:off x="3160800" y="3873960"/>
                  <a:ext cx="248400" cy="4132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 flipH="1">
                  <a:off x="2832840" y="3960000"/>
                  <a:ext cx="896400" cy="236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 flipH="1">
                  <a:off x="2242440" y="3872520"/>
                  <a:ext cx="919440" cy="228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2569680" y="3780720"/>
                  <a:ext cx="1710360" cy="2649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 flipV="1">
                  <a:off x="3409560" y="3960000"/>
                  <a:ext cx="320400" cy="3214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 flipV="1">
                  <a:off x="1652760" y="3868920"/>
                  <a:ext cx="320400" cy="322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 flipV="1">
                  <a:off x="1101600" y="3952800"/>
                  <a:ext cx="322920" cy="325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 flipV="1">
                  <a:off x="535320" y="4100760"/>
                  <a:ext cx="1704960" cy="2664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 flipV="1">
                  <a:off x="851400" y="3780720"/>
                  <a:ext cx="1722240" cy="262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 flipH="1">
                  <a:off x="1650240" y="3780000"/>
                  <a:ext cx="917280" cy="4136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 flipH="1" flipV="1">
                  <a:off x="1970640" y="3872160"/>
                  <a:ext cx="268560" cy="228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 flipH="1" flipV="1">
                  <a:off x="1422000" y="3952800"/>
                  <a:ext cx="227520" cy="239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 flipH="1">
                  <a:off x="1104120" y="3876840"/>
                  <a:ext cx="859680" cy="4032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 flipH="1" flipV="1">
                  <a:off x="852120" y="4042440"/>
                  <a:ext cx="246600" cy="2358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 flipH="1">
                  <a:off x="529200" y="3955680"/>
                  <a:ext cx="889920" cy="4132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 flipV="1">
                  <a:off x="525600" y="4044240"/>
                  <a:ext cx="325800" cy="3254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9" name=""/>
            <p:cNvGrpSpPr/>
            <p:nvPr/>
          </p:nvGrpSpPr>
          <p:grpSpPr>
            <a:xfrm>
              <a:off x="857160" y="2484360"/>
              <a:ext cx="4724640" cy="2750400"/>
              <a:chOff x="857160" y="2484360"/>
              <a:chExt cx="4724640" cy="2750400"/>
            </a:xfrm>
          </p:grpSpPr>
          <p:grpSp>
            <p:nvGrpSpPr>
              <p:cNvPr id="820" name=""/>
              <p:cNvGrpSpPr/>
              <p:nvPr/>
            </p:nvGrpSpPr>
            <p:grpSpPr>
              <a:xfrm>
                <a:off x="857160" y="3781080"/>
                <a:ext cx="3430800" cy="1453680"/>
                <a:chOff x="857160" y="3781080"/>
                <a:chExt cx="3430800" cy="1453680"/>
              </a:xfrm>
            </p:grpSpPr>
            <p:sp>
              <p:nvSpPr>
                <p:cNvPr id="821" name=""/>
                <p:cNvSpPr/>
                <p:nvPr/>
              </p:nvSpPr>
              <p:spPr>
                <a:xfrm flipV="1">
                  <a:off x="857160" y="4044960"/>
                  <a:ext cx="0" cy="11898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flipV="1">
                  <a:off x="857160" y="3781080"/>
                  <a:ext cx="1715400" cy="264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 flipV="1">
                  <a:off x="4287960" y="4044960"/>
                  <a:ext cx="0" cy="11898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 flipH="1" flipV="1">
                  <a:off x="2572200" y="3781080"/>
                  <a:ext cx="1715400" cy="264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5" name=""/>
              <p:cNvGrpSpPr/>
              <p:nvPr/>
            </p:nvGrpSpPr>
            <p:grpSpPr>
              <a:xfrm>
                <a:off x="1180440" y="2484360"/>
                <a:ext cx="4401360" cy="2437920"/>
                <a:chOff x="1180440" y="2484360"/>
                <a:chExt cx="4401360" cy="2437920"/>
              </a:xfrm>
            </p:grpSpPr>
            <p:grpSp>
              <p:nvGrpSpPr>
                <p:cNvPr id="826" name=""/>
                <p:cNvGrpSpPr/>
                <p:nvPr/>
              </p:nvGrpSpPr>
              <p:grpSpPr>
                <a:xfrm>
                  <a:off x="1180440" y="3456360"/>
                  <a:ext cx="3431520" cy="1465920"/>
                  <a:chOff x="1180440" y="3456360"/>
                  <a:chExt cx="3431520" cy="1465920"/>
                </a:xfrm>
              </p:grpSpPr>
              <p:sp>
                <p:nvSpPr>
                  <p:cNvPr id="827" name=""/>
                  <p:cNvSpPr/>
                  <p:nvPr/>
                </p:nvSpPr>
                <p:spPr>
                  <a:xfrm flipV="1">
                    <a:off x="1180440" y="3722040"/>
                    <a:ext cx="0" cy="11959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 flipV="1">
                    <a:off x="1180440" y="3456360"/>
                    <a:ext cx="1716120" cy="265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flipV="1">
                    <a:off x="4611960" y="3721680"/>
                    <a:ext cx="0" cy="12006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 flipH="1" flipV="1">
                    <a:off x="2896200" y="3456360"/>
                    <a:ext cx="1715400" cy="265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1" name=""/>
                <p:cNvGrpSpPr/>
                <p:nvPr/>
              </p:nvGrpSpPr>
              <p:grpSpPr>
                <a:xfrm>
                  <a:off x="1502280" y="3132000"/>
                  <a:ext cx="3432960" cy="1463760"/>
                  <a:chOff x="1502280" y="3132000"/>
                  <a:chExt cx="3432960" cy="1463760"/>
                </a:xfrm>
              </p:grpSpPr>
              <p:sp>
                <p:nvSpPr>
                  <p:cNvPr id="832" name=""/>
                  <p:cNvSpPr/>
                  <p:nvPr/>
                </p:nvSpPr>
                <p:spPr>
                  <a:xfrm flipV="1">
                    <a:off x="1502280" y="3398400"/>
                    <a:ext cx="0" cy="11973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 flipV="1">
                    <a:off x="1502280" y="3132000"/>
                    <a:ext cx="1716480" cy="26604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flipV="1">
                    <a:off x="4935240" y="3398400"/>
                    <a:ext cx="0" cy="11973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 flipH="1" flipV="1">
                    <a:off x="3218760" y="3132000"/>
                    <a:ext cx="1716480" cy="26604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6" name=""/>
                <p:cNvGrpSpPr/>
                <p:nvPr/>
              </p:nvGrpSpPr>
              <p:grpSpPr>
                <a:xfrm>
                  <a:off x="1827000" y="2808000"/>
                  <a:ext cx="3431520" cy="1464480"/>
                  <a:chOff x="1827000" y="2808000"/>
                  <a:chExt cx="3431520" cy="1464480"/>
                </a:xfrm>
              </p:grpSpPr>
              <p:sp>
                <p:nvSpPr>
                  <p:cNvPr id="837" name=""/>
                  <p:cNvSpPr/>
                  <p:nvPr/>
                </p:nvSpPr>
                <p:spPr>
                  <a:xfrm flipV="1">
                    <a:off x="1827000" y="3074400"/>
                    <a:ext cx="0" cy="11980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 flipV="1">
                    <a:off x="1827000" y="2808000"/>
                    <a:ext cx="1715760" cy="26604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 flipV="1">
                    <a:off x="5258520" y="3074400"/>
                    <a:ext cx="0" cy="11980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 flipH="1" flipV="1">
                    <a:off x="3542760" y="2808000"/>
                    <a:ext cx="1715760" cy="26604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1" name=""/>
                <p:cNvGrpSpPr/>
                <p:nvPr/>
              </p:nvGrpSpPr>
              <p:grpSpPr>
                <a:xfrm>
                  <a:off x="2151000" y="2484360"/>
                  <a:ext cx="3430800" cy="1472400"/>
                  <a:chOff x="2151000" y="2484360"/>
                  <a:chExt cx="3430800" cy="1472400"/>
                </a:xfrm>
              </p:grpSpPr>
              <p:sp>
                <p:nvSpPr>
                  <p:cNvPr id="842" name=""/>
                  <p:cNvSpPr/>
                  <p:nvPr/>
                </p:nvSpPr>
                <p:spPr>
                  <a:xfrm flipV="1">
                    <a:off x="2151000" y="2751840"/>
                    <a:ext cx="0" cy="12049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 flipV="1">
                    <a:off x="2151000" y="2484360"/>
                    <a:ext cx="1715400" cy="26784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 flipV="1">
                    <a:off x="5581800" y="2751840"/>
                    <a:ext cx="0" cy="12049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 flipH="1" flipV="1">
                    <a:off x="3866040" y="2484360"/>
                    <a:ext cx="1715400" cy="26784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846" name=""/>
          <p:cNvSpPr/>
          <p:nvPr/>
        </p:nvSpPr>
        <p:spPr>
          <a:xfrm>
            <a:off x="208080" y="860400"/>
            <a:ext cx="8753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 autre élément supporte la panne faîtiè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69920" y="4366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ONNE RÉ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08080" y="79380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es deux éléments supportent la panne faîtiè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431640" y="2158560"/>
            <a:ext cx="5532120" cy="3599280"/>
            <a:chOff x="431640" y="2158560"/>
            <a:chExt cx="5532120" cy="3599280"/>
          </a:xfrm>
        </p:grpSpPr>
        <p:grpSp>
          <p:nvGrpSpPr>
            <p:cNvPr id="852" name=""/>
            <p:cNvGrpSpPr/>
            <p:nvPr/>
          </p:nvGrpSpPr>
          <p:grpSpPr>
            <a:xfrm>
              <a:off x="533520" y="2418840"/>
              <a:ext cx="5375160" cy="3144960"/>
              <a:chOff x="533520" y="2418840"/>
              <a:chExt cx="5375160" cy="3144960"/>
            </a:xfrm>
          </p:grpSpPr>
          <p:grpSp>
            <p:nvGrpSpPr>
              <p:cNvPr id="853" name=""/>
              <p:cNvGrpSpPr/>
              <p:nvPr/>
            </p:nvGrpSpPr>
            <p:grpSpPr>
              <a:xfrm>
                <a:off x="533520" y="2418840"/>
                <a:ext cx="5372640" cy="3144960"/>
                <a:chOff x="533520" y="2418840"/>
                <a:chExt cx="5372640" cy="3144960"/>
              </a:xfrm>
            </p:grpSpPr>
            <p:grpSp>
              <p:nvGrpSpPr>
                <p:cNvPr id="854" name=""/>
                <p:cNvGrpSpPr/>
                <p:nvPr/>
              </p:nvGrpSpPr>
              <p:grpSpPr>
                <a:xfrm>
                  <a:off x="3951720" y="4039920"/>
                  <a:ext cx="337680" cy="1517760"/>
                  <a:chOff x="3951720" y="4039920"/>
                  <a:chExt cx="337680" cy="1517760"/>
                </a:xfrm>
              </p:grpSpPr>
              <p:sp>
                <p:nvSpPr>
                  <p:cNvPr id="855" name=""/>
                  <p:cNvSpPr/>
                  <p:nvPr/>
                </p:nvSpPr>
                <p:spPr>
                  <a:xfrm flipV="1">
                    <a:off x="3965760" y="4670640"/>
                    <a:ext cx="322920" cy="887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 flipH="1" flipV="1">
                    <a:off x="3959640" y="4358520"/>
                    <a:ext cx="328680" cy="311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 flipH="1" flipV="1">
                    <a:off x="3965400" y="4987440"/>
                    <a:ext cx="322920" cy="245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 flipV="1">
                    <a:off x="3965760" y="4039920"/>
                    <a:ext cx="322920" cy="940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 flipV="1">
                    <a:off x="3951720" y="4052520"/>
                    <a:ext cx="323280" cy="32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3966120" y="4359600"/>
                    <a:ext cx="0" cy="1193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4289400" y="4046400"/>
                    <a:ext cx="0" cy="1193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2" name=""/>
                <p:cNvGrpSpPr/>
                <p:nvPr/>
              </p:nvGrpSpPr>
              <p:grpSpPr>
                <a:xfrm>
                  <a:off x="533520" y="4047480"/>
                  <a:ext cx="325080" cy="1516320"/>
                  <a:chOff x="533520" y="4047480"/>
                  <a:chExt cx="325080" cy="1516320"/>
                </a:xfrm>
              </p:grpSpPr>
              <p:sp>
                <p:nvSpPr>
                  <p:cNvPr id="863" name=""/>
                  <p:cNvSpPr/>
                  <p:nvPr/>
                </p:nvSpPr>
                <p:spPr>
                  <a:xfrm flipV="1">
                    <a:off x="534600" y="4673520"/>
                    <a:ext cx="323280" cy="88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 flipH="1" flipV="1">
                    <a:off x="534600" y="4370760"/>
                    <a:ext cx="320400" cy="29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 flipH="1" flipV="1">
                    <a:off x="533520" y="4997880"/>
                    <a:ext cx="323280" cy="241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 flipV="1">
                    <a:off x="534600" y="4047480"/>
                    <a:ext cx="321840" cy="944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 flipV="1">
                    <a:off x="536760" y="4047840"/>
                    <a:ext cx="31752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535320" y="437112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 flipH="1">
                    <a:off x="857160" y="4057920"/>
                    <a:ext cx="1440" cy="117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0" name=""/>
                <p:cNvGrpSpPr/>
                <p:nvPr/>
              </p:nvGrpSpPr>
              <p:grpSpPr>
                <a:xfrm>
                  <a:off x="5580360" y="2418840"/>
                  <a:ext cx="325800" cy="1538640"/>
                  <a:chOff x="5580360" y="2418840"/>
                  <a:chExt cx="325800" cy="1538640"/>
                </a:xfrm>
              </p:grpSpPr>
              <p:sp>
                <p:nvSpPr>
                  <p:cNvPr id="871" name=""/>
                  <p:cNvSpPr/>
                  <p:nvPr/>
                </p:nvSpPr>
                <p:spPr>
                  <a:xfrm flipV="1">
                    <a:off x="5582880" y="3071160"/>
                    <a:ext cx="320400" cy="880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 flipH="1" flipV="1">
                    <a:off x="5580360" y="2744280"/>
                    <a:ext cx="321840" cy="332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 flipH="1" flipV="1">
                    <a:off x="5582880" y="3388320"/>
                    <a:ext cx="320400" cy="242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 flipV="1">
                    <a:off x="5581440" y="2421360"/>
                    <a:ext cx="31752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 flipV="1">
                    <a:off x="5580720" y="2418840"/>
                    <a:ext cx="324720" cy="33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5585040" y="2739240"/>
                    <a:ext cx="0" cy="1218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 flipH="1">
                    <a:off x="5905080" y="2424600"/>
                    <a:ext cx="1080" cy="120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8" name=""/>
                <p:cNvGrpSpPr/>
                <p:nvPr/>
              </p:nvGrpSpPr>
              <p:grpSpPr>
                <a:xfrm>
                  <a:off x="2152080" y="2421000"/>
                  <a:ext cx="323280" cy="1531440"/>
                  <a:chOff x="2152080" y="2421000"/>
                  <a:chExt cx="323280" cy="1531440"/>
                </a:xfrm>
              </p:grpSpPr>
              <p:sp>
                <p:nvSpPr>
                  <p:cNvPr id="879" name=""/>
                  <p:cNvSpPr/>
                  <p:nvPr/>
                </p:nvSpPr>
                <p:spPr>
                  <a:xfrm flipV="1">
                    <a:off x="2152080" y="3075840"/>
                    <a:ext cx="321840" cy="876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 flipH="1" flipV="1">
                    <a:off x="2153160" y="2748600"/>
                    <a:ext cx="318960" cy="32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 flipH="1" flipV="1">
                    <a:off x="2152080" y="3394800"/>
                    <a:ext cx="323280" cy="234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 flipV="1">
                    <a:off x="2152080" y="2421720"/>
                    <a:ext cx="32328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 flipV="1">
                    <a:off x="2153880" y="2422080"/>
                    <a:ext cx="31788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" name=""/>
                  <p:cNvSpPr/>
                  <p:nvPr/>
                </p:nvSpPr>
                <p:spPr>
                  <a:xfrm>
                    <a:off x="2152440" y="275508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5" name=""/>
                  <p:cNvSpPr/>
                  <p:nvPr/>
                </p:nvSpPr>
                <p:spPr>
                  <a:xfrm>
                    <a:off x="2473200" y="2421000"/>
                    <a:ext cx="1080" cy="1208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86" name=""/>
              <p:cNvGrpSpPr/>
              <p:nvPr/>
            </p:nvGrpSpPr>
            <p:grpSpPr>
              <a:xfrm>
                <a:off x="537120" y="3070800"/>
                <a:ext cx="5371560" cy="1926000"/>
                <a:chOff x="537120" y="3070800"/>
                <a:chExt cx="5371560" cy="1926000"/>
              </a:xfrm>
            </p:grpSpPr>
            <p:sp>
              <p:nvSpPr>
                <p:cNvPr id="887" name=""/>
                <p:cNvSpPr/>
                <p:nvPr/>
              </p:nvSpPr>
              <p:spPr>
                <a:xfrm flipV="1">
                  <a:off x="3969360" y="466776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V="1">
                  <a:off x="537120" y="4675680"/>
                  <a:ext cx="32328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 flipV="1">
                  <a:off x="5591160" y="3070800"/>
                  <a:ext cx="31752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 flipV="1">
                  <a:off x="2157120" y="3076560"/>
                  <a:ext cx="32040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1" name=""/>
            <p:cNvGrpSpPr/>
            <p:nvPr/>
          </p:nvGrpSpPr>
          <p:grpSpPr>
            <a:xfrm>
              <a:off x="431640" y="3668760"/>
              <a:ext cx="5532120" cy="2089080"/>
              <a:chOff x="431640" y="3668760"/>
              <a:chExt cx="5532120" cy="2089080"/>
            </a:xfrm>
          </p:grpSpPr>
          <p:grpSp>
            <p:nvGrpSpPr>
              <p:cNvPr id="892" name=""/>
              <p:cNvGrpSpPr/>
              <p:nvPr/>
            </p:nvGrpSpPr>
            <p:grpSpPr>
              <a:xfrm>
                <a:off x="4189320" y="3987000"/>
                <a:ext cx="1452240" cy="1449360"/>
                <a:chOff x="4189320" y="3987000"/>
                <a:chExt cx="1452240" cy="144936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482440" y="398700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163480" y="4302720"/>
                  <a:ext cx="159840" cy="160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4835880" y="4627080"/>
                  <a:ext cx="15984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4513680" y="4947840"/>
                  <a:ext cx="1634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4189320" y="5276880"/>
                  <a:ext cx="15876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761760" y="3985920"/>
                <a:ext cx="1447920" cy="1442160"/>
                <a:chOff x="761760" y="3985920"/>
                <a:chExt cx="1447920" cy="144216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2050560" y="398592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1729800" y="4304520"/>
                  <a:ext cx="159120" cy="1612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1408320" y="462708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1080720" y="4948920"/>
                  <a:ext cx="16020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761760" y="526860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2367720" y="3668760"/>
                <a:ext cx="3596040" cy="162000"/>
                <a:chOff x="2367720" y="3668760"/>
                <a:chExt cx="3596040" cy="16200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5804640" y="366912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2367720" y="366912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4676400" y="366876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2938680" y="367092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348804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4087080" y="36687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524268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2" name=""/>
              <p:cNvGrpSpPr/>
              <p:nvPr/>
            </p:nvGrpSpPr>
            <p:grpSpPr>
              <a:xfrm>
                <a:off x="431640" y="5596200"/>
                <a:ext cx="3595320" cy="161640"/>
                <a:chOff x="431640" y="5596200"/>
                <a:chExt cx="3595320" cy="16164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43164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3867480" y="5596200"/>
                  <a:ext cx="15948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9993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155160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2741040" y="559800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33159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19" name=""/>
            <p:cNvGrpSpPr/>
            <p:nvPr/>
          </p:nvGrpSpPr>
          <p:grpSpPr>
            <a:xfrm>
              <a:off x="2473200" y="2424240"/>
              <a:ext cx="3434040" cy="1209600"/>
              <a:chOff x="2473200" y="2424240"/>
              <a:chExt cx="3434040" cy="1209600"/>
            </a:xfrm>
          </p:grpSpPr>
          <p:sp>
            <p:nvSpPr>
              <p:cNvPr id="920" name=""/>
              <p:cNvSpPr/>
              <p:nvPr/>
            </p:nvSpPr>
            <p:spPr>
              <a:xfrm>
                <a:off x="2473200" y="24242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473560" y="275256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V="1">
                <a:off x="2473920" y="3332880"/>
                <a:ext cx="3427560" cy="14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2475000" y="3075840"/>
                <a:ext cx="342216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476080" y="36338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5" name=""/>
            <p:cNvGrpSpPr/>
            <p:nvPr/>
          </p:nvGrpSpPr>
          <p:grpSpPr>
            <a:xfrm>
              <a:off x="531720" y="2749680"/>
              <a:ext cx="1941120" cy="2812680"/>
              <a:chOff x="531720" y="2749680"/>
              <a:chExt cx="1941120" cy="2812680"/>
            </a:xfrm>
          </p:grpSpPr>
          <p:sp>
            <p:nvSpPr>
              <p:cNvPr id="926" name=""/>
              <p:cNvSpPr/>
              <p:nvPr/>
            </p:nvSpPr>
            <p:spPr>
              <a:xfrm flipV="1">
                <a:off x="535680" y="2749680"/>
                <a:ext cx="1935720" cy="192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531720" y="3080160"/>
                <a:ext cx="1940040" cy="191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V="1">
                <a:off x="532800" y="3346200"/>
                <a:ext cx="1940040" cy="1935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V="1">
                <a:off x="532800" y="3632760"/>
                <a:ext cx="1937160" cy="1929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0" name=""/>
            <p:cNvGrpSpPr/>
            <p:nvPr/>
          </p:nvGrpSpPr>
          <p:grpSpPr>
            <a:xfrm>
              <a:off x="531720" y="2158920"/>
              <a:ext cx="5372280" cy="3412800"/>
              <a:chOff x="531720" y="2158920"/>
              <a:chExt cx="5372280" cy="3412800"/>
            </a:xfrm>
          </p:grpSpPr>
          <p:grpSp>
            <p:nvGrpSpPr>
              <p:cNvPr id="931" name=""/>
              <p:cNvGrpSpPr/>
              <p:nvPr/>
            </p:nvGrpSpPr>
            <p:grpSpPr>
              <a:xfrm>
                <a:off x="2473200" y="2158920"/>
                <a:ext cx="3430800" cy="1476720"/>
                <a:chOff x="2473200" y="2158920"/>
                <a:chExt cx="3430800" cy="147672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5355000" y="2341800"/>
                  <a:ext cx="0" cy="129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5904000" y="2439000"/>
                  <a:ext cx="0" cy="1196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4782240" y="2248200"/>
                  <a:ext cx="0" cy="138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4189680" y="2158920"/>
                  <a:ext cx="0" cy="147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3594960" y="2251800"/>
                  <a:ext cx="0" cy="138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2473200" y="2433600"/>
                  <a:ext cx="0" cy="120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3046680" y="2336760"/>
                  <a:ext cx="0" cy="1298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9" name=""/>
              <p:cNvGrpSpPr/>
              <p:nvPr/>
            </p:nvGrpSpPr>
            <p:grpSpPr>
              <a:xfrm>
                <a:off x="531720" y="4102200"/>
                <a:ext cx="3433320" cy="1469520"/>
                <a:chOff x="531720" y="4102200"/>
                <a:chExt cx="3433320" cy="1469520"/>
              </a:xfrm>
            </p:grpSpPr>
            <p:sp>
              <p:nvSpPr>
                <p:cNvPr id="940" name=""/>
                <p:cNvSpPr/>
                <p:nvPr/>
              </p:nvSpPr>
              <p:spPr>
                <a:xfrm flipH="1">
                  <a:off x="2248920" y="4102200"/>
                  <a:ext cx="1440" cy="57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3415680" y="4284720"/>
                  <a:ext cx="0" cy="128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3965040" y="43657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2842920" y="4197960"/>
                  <a:ext cx="0" cy="1368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1655280" y="4190400"/>
                  <a:ext cx="0" cy="137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531720" y="4368600"/>
                  <a:ext cx="72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1107000" y="4280400"/>
                  <a:ext cx="0" cy="128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47" name=""/>
            <p:cNvGrpSpPr/>
            <p:nvPr/>
          </p:nvGrpSpPr>
          <p:grpSpPr>
            <a:xfrm>
              <a:off x="525600" y="2160720"/>
              <a:ext cx="5378400" cy="2209320"/>
              <a:chOff x="525600" y="2160720"/>
              <a:chExt cx="5378400" cy="2209320"/>
            </a:xfrm>
          </p:grpSpPr>
          <p:grpSp>
            <p:nvGrpSpPr>
              <p:cNvPr id="948" name=""/>
              <p:cNvGrpSpPr/>
              <p:nvPr/>
            </p:nvGrpSpPr>
            <p:grpSpPr>
              <a:xfrm>
                <a:off x="2151720" y="2160720"/>
                <a:ext cx="3752280" cy="588960"/>
                <a:chOff x="2151720" y="2160720"/>
                <a:chExt cx="3752280" cy="588960"/>
              </a:xfrm>
            </p:grpSpPr>
            <p:sp>
              <p:nvSpPr>
                <p:cNvPr id="949" name=""/>
                <p:cNvSpPr/>
                <p:nvPr/>
              </p:nvSpPr>
              <p:spPr>
                <a:xfrm flipV="1">
                  <a:off x="5586480" y="24210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 flipV="1">
                  <a:off x="3869280" y="2160720"/>
                  <a:ext cx="321840" cy="32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 flipV="1">
                  <a:off x="4461840" y="22514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 flipV="1">
                  <a:off x="2152080" y="2424960"/>
                  <a:ext cx="32436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 flipV="1">
                  <a:off x="2724120" y="23382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 flipV="1">
                  <a:off x="3274920" y="225432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55" name=""/>
                <p:cNvGrpSpPr/>
                <p:nvPr/>
              </p:nvGrpSpPr>
              <p:grpSpPr>
                <a:xfrm>
                  <a:off x="2151720" y="2160720"/>
                  <a:ext cx="3748320" cy="588960"/>
                  <a:chOff x="2151720" y="2160720"/>
                  <a:chExt cx="3748320" cy="588960"/>
                </a:xfrm>
              </p:grpSpPr>
              <p:sp>
                <p:nvSpPr>
                  <p:cNvPr id="956" name=""/>
                  <p:cNvSpPr/>
                  <p:nvPr/>
                </p:nvSpPr>
                <p:spPr>
                  <a:xfrm flipH="1" flipV="1">
                    <a:off x="4188960" y="2160720"/>
                    <a:ext cx="26640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 flipH="1">
                    <a:off x="3274200" y="2161080"/>
                    <a:ext cx="912960" cy="413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 flipH="1" flipV="1">
                    <a:off x="5353920" y="2337480"/>
                    <a:ext cx="22536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 flipV="1">
                    <a:off x="5025240" y="2422080"/>
                    <a:ext cx="874800" cy="24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 flipH="1" flipV="1">
                    <a:off x="4782240" y="2251800"/>
                    <a:ext cx="242640" cy="411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 flipH="1">
                    <a:off x="4458240" y="2335320"/>
                    <a:ext cx="896400" cy="240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 flipH="1">
                    <a:off x="3871800" y="2247840"/>
                    <a:ext cx="909720" cy="23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 flipH="1" flipV="1">
                    <a:off x="3593160" y="2254680"/>
                    <a:ext cx="28584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 flipH="1" flipV="1">
                    <a:off x="3045960" y="2335320"/>
                    <a:ext cx="236160" cy="241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 flipH="1">
                    <a:off x="2720520" y="2256480"/>
                    <a:ext cx="873720" cy="406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 flipH="1" flipV="1">
                    <a:off x="2478600" y="2426400"/>
                    <a:ext cx="23940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 flipH="1">
                    <a:off x="2151720" y="2336760"/>
                    <a:ext cx="894240" cy="410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 flipV="1">
                    <a:off x="2479680" y="2162880"/>
                    <a:ext cx="1708200" cy="25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 flipV="1">
                    <a:off x="2167560" y="2481840"/>
                    <a:ext cx="1705320" cy="263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3870360" y="2480400"/>
                    <a:ext cx="1710360" cy="269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4195080" y="2160720"/>
                    <a:ext cx="169776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72" name=""/>
                <p:cNvSpPr/>
                <p:nvPr/>
              </p:nvSpPr>
              <p:spPr>
                <a:xfrm flipV="1">
                  <a:off x="5026320" y="2337480"/>
                  <a:ext cx="326160" cy="326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3" name=""/>
              <p:cNvGrpSpPr/>
              <p:nvPr/>
            </p:nvGrpSpPr>
            <p:grpSpPr>
              <a:xfrm>
                <a:off x="525600" y="3780000"/>
                <a:ext cx="3754440" cy="590040"/>
                <a:chOff x="525600" y="3780000"/>
                <a:chExt cx="3754440" cy="590040"/>
              </a:xfrm>
            </p:grpSpPr>
            <p:sp>
              <p:nvSpPr>
                <p:cNvPr id="974" name=""/>
                <p:cNvSpPr/>
                <p:nvPr/>
              </p:nvSpPr>
              <p:spPr>
                <a:xfrm flipV="1">
                  <a:off x="3956760" y="4044600"/>
                  <a:ext cx="32184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V="1">
                  <a:off x="2839320" y="3871800"/>
                  <a:ext cx="320400" cy="320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flipV="1">
                  <a:off x="2243880" y="3784680"/>
                  <a:ext cx="316080" cy="315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2240640" y="4100760"/>
                  <a:ext cx="171612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flipH="1" flipV="1">
                  <a:off x="2565000" y="3782160"/>
                  <a:ext cx="26784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flipH="1" flipV="1">
                  <a:off x="3731400" y="3960720"/>
                  <a:ext cx="228240" cy="40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 flipV="1">
                  <a:off x="3408120" y="4045320"/>
                  <a:ext cx="866160" cy="238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 flipH="1" flipV="1">
                  <a:off x="3160800" y="3873960"/>
                  <a:ext cx="24840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flipH="1">
                  <a:off x="2832840" y="3960000"/>
                  <a:ext cx="896400" cy="236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 flipH="1">
                  <a:off x="2242440" y="3872520"/>
                  <a:ext cx="91944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2569680" y="3780720"/>
                  <a:ext cx="1710360" cy="264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 flipV="1">
                  <a:off x="3409560" y="3960000"/>
                  <a:ext cx="32040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 flipV="1">
                  <a:off x="1652760" y="3868920"/>
                  <a:ext cx="32040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flipV="1">
                  <a:off x="1101600" y="3952800"/>
                  <a:ext cx="322920" cy="325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flipV="1">
                  <a:off x="535320" y="4100760"/>
                  <a:ext cx="170496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 flipV="1">
                  <a:off x="851400" y="3780720"/>
                  <a:ext cx="1722240" cy="262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 flipH="1">
                  <a:off x="1650240" y="3780000"/>
                  <a:ext cx="9172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flipH="1" flipV="1">
                  <a:off x="1970640" y="3872160"/>
                  <a:ext cx="26856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 flipH="1" flipV="1">
                  <a:off x="1422000" y="3952800"/>
                  <a:ext cx="227520" cy="239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H="1">
                  <a:off x="1104120" y="3876840"/>
                  <a:ext cx="859680" cy="403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H="1" flipV="1">
                  <a:off x="852120" y="4042440"/>
                  <a:ext cx="246600" cy="235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 flipH="1">
                  <a:off x="529200" y="3955680"/>
                  <a:ext cx="88992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 flipV="1">
                  <a:off x="525600" y="4044240"/>
                  <a:ext cx="325800" cy="325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97" name=""/>
            <p:cNvGrpSpPr/>
            <p:nvPr/>
          </p:nvGrpSpPr>
          <p:grpSpPr>
            <a:xfrm>
              <a:off x="533520" y="2422440"/>
              <a:ext cx="5368320" cy="1944720"/>
              <a:chOff x="533520" y="2422440"/>
              <a:chExt cx="5368320" cy="1944720"/>
            </a:xfrm>
          </p:grpSpPr>
          <p:sp>
            <p:nvSpPr>
              <p:cNvPr id="998" name=""/>
              <p:cNvSpPr/>
              <p:nvPr/>
            </p:nvSpPr>
            <p:spPr>
              <a:xfrm flipV="1">
                <a:off x="3955680" y="2422440"/>
                <a:ext cx="1946160" cy="1944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V="1">
                <a:off x="533520" y="2422440"/>
                <a:ext cx="1940760" cy="1944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779400" y="2204640"/>
              <a:ext cx="4847760" cy="2130480"/>
              <a:chOff x="779400" y="2204640"/>
              <a:chExt cx="4847760" cy="2130480"/>
            </a:xfrm>
          </p:grpSpPr>
          <p:sp>
            <p:nvSpPr>
              <p:cNvPr id="1001" name=""/>
              <p:cNvSpPr/>
              <p:nvPr/>
            </p:nvSpPr>
            <p:spPr>
              <a:xfrm flipV="1">
                <a:off x="2548440" y="2204640"/>
                <a:ext cx="19350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V="1">
                <a:off x="2841480" y="2248920"/>
                <a:ext cx="19407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V="1">
                <a:off x="3413160" y="2341080"/>
                <a:ext cx="193212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flipV="1">
                <a:off x="3681000" y="2384640"/>
                <a:ext cx="19461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V="1">
                <a:off x="779400" y="2381400"/>
                <a:ext cx="1985400" cy="1953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V="1">
                <a:off x="1103040" y="2338560"/>
                <a:ext cx="1938600" cy="194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V="1">
                <a:off x="1655280" y="2247480"/>
                <a:ext cx="194292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flipV="1">
                <a:off x="1934640" y="2204640"/>
                <a:ext cx="1973520" cy="1950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>
                <a:off x="1371600" y="2298600"/>
                <a:ext cx="194796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V="1">
                <a:off x="3124440" y="2290680"/>
                <a:ext cx="1940760" cy="1947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1" name=""/>
            <p:cNvSpPr/>
            <p:nvPr/>
          </p:nvSpPr>
          <p:spPr>
            <a:xfrm flipV="1">
              <a:off x="2244600" y="2158920"/>
              <a:ext cx="1944720" cy="193824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2" name=""/>
            <p:cNvGrpSpPr/>
            <p:nvPr/>
          </p:nvGrpSpPr>
          <p:grpSpPr>
            <a:xfrm>
              <a:off x="531720" y="4368600"/>
              <a:ext cx="3430800" cy="1198080"/>
              <a:chOff x="531720" y="4368600"/>
              <a:chExt cx="3430800" cy="1198080"/>
            </a:xfrm>
          </p:grpSpPr>
          <p:sp>
            <p:nvSpPr>
              <p:cNvPr id="1013" name=""/>
              <p:cNvSpPr/>
              <p:nvPr/>
            </p:nvSpPr>
            <p:spPr>
              <a:xfrm flipV="1">
                <a:off x="2842200" y="5565600"/>
                <a:ext cx="11178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V="1">
                <a:off x="532080" y="4368600"/>
                <a:ext cx="3430440" cy="3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31720" y="4678920"/>
                <a:ext cx="343008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839320" y="5276880"/>
                <a:ext cx="11217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V="1">
                <a:off x="532080" y="4999320"/>
                <a:ext cx="112284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842200" y="4991400"/>
                <a:ext cx="11203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32800" y="5281200"/>
                <a:ext cx="11196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34240" y="5564520"/>
                <a:ext cx="1116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3960720" y="2754360"/>
              <a:ext cx="1943280" cy="2809800"/>
              <a:chOff x="3960720" y="2754360"/>
              <a:chExt cx="1943280" cy="2809800"/>
            </a:xfrm>
          </p:grpSpPr>
          <p:sp>
            <p:nvSpPr>
              <p:cNvPr id="1022" name=""/>
              <p:cNvSpPr/>
              <p:nvPr/>
            </p:nvSpPr>
            <p:spPr>
              <a:xfrm flipV="1">
                <a:off x="3960720" y="3636000"/>
                <a:ext cx="1943280" cy="1928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V="1">
                <a:off x="3964680" y="2754360"/>
                <a:ext cx="1937520" cy="1925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V="1">
                <a:off x="3963240" y="3076200"/>
                <a:ext cx="1939320" cy="1913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V="1">
                <a:off x="3961800" y="3332880"/>
                <a:ext cx="19404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6" name=""/>
            <p:cNvGrpSpPr/>
            <p:nvPr/>
          </p:nvGrpSpPr>
          <p:grpSpPr>
            <a:xfrm>
              <a:off x="533520" y="2418840"/>
              <a:ext cx="5375160" cy="3144960"/>
              <a:chOff x="533520" y="2418840"/>
              <a:chExt cx="5375160" cy="3144960"/>
            </a:xfrm>
          </p:grpSpPr>
          <p:grpSp>
            <p:nvGrpSpPr>
              <p:cNvPr id="1027" name=""/>
              <p:cNvGrpSpPr/>
              <p:nvPr/>
            </p:nvGrpSpPr>
            <p:grpSpPr>
              <a:xfrm>
                <a:off x="533520" y="2418840"/>
                <a:ext cx="5372640" cy="3144960"/>
                <a:chOff x="533520" y="2418840"/>
                <a:chExt cx="5372640" cy="3144960"/>
              </a:xfrm>
            </p:grpSpPr>
            <p:grpSp>
              <p:nvGrpSpPr>
                <p:cNvPr id="1028" name=""/>
                <p:cNvGrpSpPr/>
                <p:nvPr/>
              </p:nvGrpSpPr>
              <p:grpSpPr>
                <a:xfrm>
                  <a:off x="3951720" y="4039920"/>
                  <a:ext cx="337680" cy="1517760"/>
                  <a:chOff x="3951720" y="4039920"/>
                  <a:chExt cx="337680" cy="1517760"/>
                </a:xfrm>
              </p:grpSpPr>
              <p:sp>
                <p:nvSpPr>
                  <p:cNvPr id="1029" name=""/>
                  <p:cNvSpPr/>
                  <p:nvPr/>
                </p:nvSpPr>
                <p:spPr>
                  <a:xfrm flipV="1">
                    <a:off x="3965760" y="4670640"/>
                    <a:ext cx="322920" cy="8870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 flipH="1" flipV="1">
                    <a:off x="3959640" y="4358520"/>
                    <a:ext cx="328680" cy="3114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 flipH="1" flipV="1">
                    <a:off x="3965400" y="4987440"/>
                    <a:ext cx="322920" cy="2458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 flipV="1">
                    <a:off x="3965760" y="4039920"/>
                    <a:ext cx="322920" cy="9406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 flipV="1">
                    <a:off x="3951720" y="4052520"/>
                    <a:ext cx="323280" cy="3229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>
                    <a:off x="3966120" y="4359600"/>
                    <a:ext cx="0" cy="11934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4289400" y="4046400"/>
                    <a:ext cx="0" cy="119376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6" name=""/>
                <p:cNvGrpSpPr/>
                <p:nvPr/>
              </p:nvGrpSpPr>
              <p:grpSpPr>
                <a:xfrm>
                  <a:off x="533520" y="4047480"/>
                  <a:ext cx="325080" cy="1516320"/>
                  <a:chOff x="533520" y="4047480"/>
                  <a:chExt cx="325080" cy="1516320"/>
                </a:xfrm>
              </p:grpSpPr>
              <p:sp>
                <p:nvSpPr>
                  <p:cNvPr id="1037" name=""/>
                  <p:cNvSpPr/>
                  <p:nvPr/>
                </p:nvSpPr>
                <p:spPr>
                  <a:xfrm flipV="1">
                    <a:off x="534600" y="4673520"/>
                    <a:ext cx="323280" cy="8866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 flipH="1" flipV="1">
                    <a:off x="534600" y="4370760"/>
                    <a:ext cx="320400" cy="2988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 flipH="1" flipV="1">
                    <a:off x="533520" y="4997880"/>
                    <a:ext cx="323280" cy="2412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 flipV="1">
                    <a:off x="534600" y="4047480"/>
                    <a:ext cx="321840" cy="9442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 flipV="1">
                    <a:off x="536760" y="4047840"/>
                    <a:ext cx="317520" cy="3186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535320" y="4371120"/>
                    <a:ext cx="0" cy="11926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 flipH="1">
                    <a:off x="857160" y="4057920"/>
                    <a:ext cx="1440" cy="1179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4" name=""/>
                <p:cNvGrpSpPr/>
                <p:nvPr/>
              </p:nvGrpSpPr>
              <p:grpSpPr>
                <a:xfrm>
                  <a:off x="5580360" y="2418840"/>
                  <a:ext cx="325800" cy="1538640"/>
                  <a:chOff x="5580360" y="2418840"/>
                  <a:chExt cx="325800" cy="1538640"/>
                </a:xfrm>
              </p:grpSpPr>
              <p:sp>
                <p:nvSpPr>
                  <p:cNvPr id="1045" name=""/>
                  <p:cNvSpPr/>
                  <p:nvPr/>
                </p:nvSpPr>
                <p:spPr>
                  <a:xfrm flipV="1">
                    <a:off x="5582880" y="3071160"/>
                    <a:ext cx="320400" cy="8809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6" name=""/>
                  <p:cNvSpPr/>
                  <p:nvPr/>
                </p:nvSpPr>
                <p:spPr>
                  <a:xfrm flipH="1" flipV="1">
                    <a:off x="5580360" y="2744280"/>
                    <a:ext cx="321840" cy="332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 flipH="1" flipV="1">
                    <a:off x="5582880" y="3388320"/>
                    <a:ext cx="320400" cy="2422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 flipV="1">
                    <a:off x="5581440" y="2421360"/>
                    <a:ext cx="317520" cy="9727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9" name=""/>
                  <p:cNvSpPr/>
                  <p:nvPr/>
                </p:nvSpPr>
                <p:spPr>
                  <a:xfrm flipV="1">
                    <a:off x="5580720" y="2418840"/>
                    <a:ext cx="324720" cy="3301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5585040" y="2739240"/>
                    <a:ext cx="0" cy="12182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 flipH="1">
                    <a:off x="5905080" y="2424600"/>
                    <a:ext cx="1080" cy="12074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2" name=""/>
                <p:cNvGrpSpPr/>
                <p:nvPr/>
              </p:nvGrpSpPr>
              <p:grpSpPr>
                <a:xfrm>
                  <a:off x="2152080" y="2421000"/>
                  <a:ext cx="323280" cy="1531440"/>
                  <a:chOff x="2152080" y="2421000"/>
                  <a:chExt cx="323280" cy="1531440"/>
                </a:xfrm>
              </p:grpSpPr>
              <p:sp>
                <p:nvSpPr>
                  <p:cNvPr id="1053" name=""/>
                  <p:cNvSpPr/>
                  <p:nvPr/>
                </p:nvSpPr>
                <p:spPr>
                  <a:xfrm flipV="1">
                    <a:off x="2152080" y="3075840"/>
                    <a:ext cx="321840" cy="8766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 flipH="1" flipV="1">
                    <a:off x="2153160" y="2748600"/>
                    <a:ext cx="318960" cy="32436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 flipH="1" flipV="1">
                    <a:off x="2152080" y="3394800"/>
                    <a:ext cx="323280" cy="234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 flipV="1">
                    <a:off x="2152080" y="2421720"/>
                    <a:ext cx="323280" cy="9727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 flipV="1">
                    <a:off x="2153880" y="2422080"/>
                    <a:ext cx="317880" cy="3186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>
                    <a:off x="2152440" y="2755080"/>
                    <a:ext cx="0" cy="11926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2473200" y="2421000"/>
                    <a:ext cx="1080" cy="12088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60" name=""/>
              <p:cNvGrpSpPr/>
              <p:nvPr/>
            </p:nvGrpSpPr>
            <p:grpSpPr>
              <a:xfrm>
                <a:off x="537120" y="3070800"/>
                <a:ext cx="5371560" cy="1926000"/>
                <a:chOff x="537120" y="3070800"/>
                <a:chExt cx="5371560" cy="1926000"/>
              </a:xfrm>
            </p:grpSpPr>
            <p:sp>
              <p:nvSpPr>
                <p:cNvPr id="1061" name=""/>
                <p:cNvSpPr/>
                <p:nvPr/>
              </p:nvSpPr>
              <p:spPr>
                <a:xfrm flipV="1">
                  <a:off x="3969360" y="4667760"/>
                  <a:ext cx="317520" cy="318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 flipV="1">
                  <a:off x="537120" y="4675680"/>
                  <a:ext cx="323280" cy="3211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 flipV="1">
                  <a:off x="5591160" y="3070800"/>
                  <a:ext cx="317520" cy="3182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 flipV="1">
                  <a:off x="2157120" y="3076560"/>
                  <a:ext cx="320400" cy="3182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65" name=""/>
            <p:cNvGrpSpPr/>
            <p:nvPr/>
          </p:nvGrpSpPr>
          <p:grpSpPr>
            <a:xfrm>
              <a:off x="857160" y="2484360"/>
              <a:ext cx="4724640" cy="2750400"/>
              <a:chOff x="857160" y="2484360"/>
              <a:chExt cx="4724640" cy="2750400"/>
            </a:xfrm>
          </p:grpSpPr>
          <p:grpSp>
            <p:nvGrpSpPr>
              <p:cNvPr id="1066" name=""/>
              <p:cNvGrpSpPr/>
              <p:nvPr/>
            </p:nvGrpSpPr>
            <p:grpSpPr>
              <a:xfrm>
                <a:off x="857160" y="3781080"/>
                <a:ext cx="3430800" cy="1453680"/>
                <a:chOff x="857160" y="3781080"/>
                <a:chExt cx="3430800" cy="1453680"/>
              </a:xfrm>
            </p:grpSpPr>
            <p:sp>
              <p:nvSpPr>
                <p:cNvPr id="1067" name=""/>
                <p:cNvSpPr/>
                <p:nvPr/>
              </p:nvSpPr>
              <p:spPr>
                <a:xfrm flipV="1">
                  <a:off x="857160" y="4044960"/>
                  <a:ext cx="0" cy="11898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 flipV="1">
                  <a:off x="857160" y="3781080"/>
                  <a:ext cx="1715400" cy="264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 flipV="1">
                  <a:off x="4287960" y="4044960"/>
                  <a:ext cx="0" cy="11898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 flipH="1" flipV="1">
                  <a:off x="2572200" y="3781080"/>
                  <a:ext cx="1715400" cy="264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1180440" y="2484360"/>
                <a:ext cx="4401360" cy="2437920"/>
                <a:chOff x="1180440" y="2484360"/>
                <a:chExt cx="4401360" cy="2437920"/>
              </a:xfrm>
            </p:grpSpPr>
            <p:grpSp>
              <p:nvGrpSpPr>
                <p:cNvPr id="1072" name=""/>
                <p:cNvGrpSpPr/>
                <p:nvPr/>
              </p:nvGrpSpPr>
              <p:grpSpPr>
                <a:xfrm>
                  <a:off x="1180440" y="3456360"/>
                  <a:ext cx="3431520" cy="1465920"/>
                  <a:chOff x="1180440" y="3456360"/>
                  <a:chExt cx="3431520" cy="1465920"/>
                </a:xfrm>
              </p:grpSpPr>
              <p:sp>
                <p:nvSpPr>
                  <p:cNvPr id="1073" name=""/>
                  <p:cNvSpPr/>
                  <p:nvPr/>
                </p:nvSpPr>
                <p:spPr>
                  <a:xfrm flipV="1">
                    <a:off x="1180440" y="3722040"/>
                    <a:ext cx="0" cy="11959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 flipV="1">
                    <a:off x="1180440" y="3456360"/>
                    <a:ext cx="1716120" cy="265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 flipV="1">
                    <a:off x="4611960" y="3721680"/>
                    <a:ext cx="0" cy="120060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 flipH="1" flipV="1">
                    <a:off x="2896200" y="3456360"/>
                    <a:ext cx="1715400" cy="265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7" name=""/>
                <p:cNvGrpSpPr/>
                <p:nvPr/>
              </p:nvGrpSpPr>
              <p:grpSpPr>
                <a:xfrm>
                  <a:off x="1502280" y="3132000"/>
                  <a:ext cx="3432960" cy="1463760"/>
                  <a:chOff x="1502280" y="3132000"/>
                  <a:chExt cx="3432960" cy="1463760"/>
                </a:xfrm>
              </p:grpSpPr>
              <p:sp>
                <p:nvSpPr>
                  <p:cNvPr id="1078" name=""/>
                  <p:cNvSpPr/>
                  <p:nvPr/>
                </p:nvSpPr>
                <p:spPr>
                  <a:xfrm flipV="1">
                    <a:off x="1502280" y="3398400"/>
                    <a:ext cx="0" cy="11973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 flipV="1">
                    <a:off x="1502280" y="3132000"/>
                    <a:ext cx="1716480" cy="26604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 flipV="1">
                    <a:off x="4935240" y="3398400"/>
                    <a:ext cx="0" cy="11973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 flipH="1" flipV="1">
                    <a:off x="3218760" y="3132000"/>
                    <a:ext cx="1716480" cy="26604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2" name=""/>
                <p:cNvGrpSpPr/>
                <p:nvPr/>
              </p:nvGrpSpPr>
              <p:grpSpPr>
                <a:xfrm>
                  <a:off x="1827000" y="2808000"/>
                  <a:ext cx="3431520" cy="1464480"/>
                  <a:chOff x="1827000" y="2808000"/>
                  <a:chExt cx="3431520" cy="146448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 flipV="1">
                    <a:off x="1827000" y="3074400"/>
                    <a:ext cx="0" cy="11980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 flipV="1">
                    <a:off x="1827000" y="2808000"/>
                    <a:ext cx="1715760" cy="26604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 flipV="1">
                    <a:off x="5258520" y="3074400"/>
                    <a:ext cx="0" cy="11980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 flipH="1" flipV="1">
                    <a:off x="3542760" y="2808000"/>
                    <a:ext cx="1715760" cy="26604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7" name=""/>
                <p:cNvGrpSpPr/>
                <p:nvPr/>
              </p:nvGrpSpPr>
              <p:grpSpPr>
                <a:xfrm>
                  <a:off x="2151000" y="2484360"/>
                  <a:ext cx="3430800" cy="1472400"/>
                  <a:chOff x="2151000" y="2484360"/>
                  <a:chExt cx="3430800" cy="1472400"/>
                </a:xfrm>
              </p:grpSpPr>
              <p:sp>
                <p:nvSpPr>
                  <p:cNvPr id="1088" name=""/>
                  <p:cNvSpPr/>
                  <p:nvPr/>
                </p:nvSpPr>
                <p:spPr>
                  <a:xfrm flipV="1">
                    <a:off x="2151000" y="2751840"/>
                    <a:ext cx="0" cy="12049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 flipV="1">
                    <a:off x="2151000" y="2484360"/>
                    <a:ext cx="1715400" cy="26784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 flipV="1">
                    <a:off x="5581800" y="2751840"/>
                    <a:ext cx="0" cy="12049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1" name=""/>
                  <p:cNvSpPr/>
                  <p:nvPr/>
                </p:nvSpPr>
                <p:spPr>
                  <a:xfrm flipH="1" flipV="1">
                    <a:off x="3866040" y="2484360"/>
                    <a:ext cx="1715400" cy="26784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092" name=""/>
            <p:cNvGrpSpPr/>
            <p:nvPr/>
          </p:nvGrpSpPr>
          <p:grpSpPr>
            <a:xfrm>
              <a:off x="530280" y="2158560"/>
              <a:ext cx="5377680" cy="3395520"/>
              <a:chOff x="530280" y="2158560"/>
              <a:chExt cx="5377680" cy="3395520"/>
            </a:xfrm>
          </p:grpSpPr>
          <p:grpSp>
            <p:nvGrpSpPr>
              <p:cNvPr id="1093" name=""/>
              <p:cNvGrpSpPr/>
              <p:nvPr/>
            </p:nvGrpSpPr>
            <p:grpSpPr>
              <a:xfrm>
                <a:off x="532080" y="4101840"/>
                <a:ext cx="3433320" cy="268200"/>
                <a:chOff x="532080" y="4101840"/>
                <a:chExt cx="3433320" cy="268200"/>
              </a:xfrm>
            </p:grpSpPr>
            <p:sp>
              <p:nvSpPr>
                <p:cNvPr id="1094" name=""/>
                <p:cNvSpPr/>
                <p:nvPr/>
              </p:nvSpPr>
              <p:spPr>
                <a:xfrm flipV="1">
                  <a:off x="532080" y="4101840"/>
                  <a:ext cx="1713960" cy="2671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 flipH="1" flipV="1">
                  <a:off x="2250000" y="4102920"/>
                  <a:ext cx="1715400" cy="2671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6" name=""/>
              <p:cNvGrpSpPr/>
              <p:nvPr/>
            </p:nvGrpSpPr>
            <p:grpSpPr>
              <a:xfrm>
                <a:off x="530280" y="2418120"/>
                <a:ext cx="5370840" cy="3135960"/>
                <a:chOff x="530280" y="2418120"/>
                <a:chExt cx="5370840" cy="3135960"/>
              </a:xfrm>
            </p:grpSpPr>
            <p:sp>
              <p:nvSpPr>
                <p:cNvPr id="1097" name=""/>
                <p:cNvSpPr/>
                <p:nvPr/>
              </p:nvSpPr>
              <p:spPr>
                <a:xfrm flipV="1">
                  <a:off x="530280" y="4363560"/>
                  <a:ext cx="0" cy="11905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 flipV="1">
                  <a:off x="3960720" y="4363560"/>
                  <a:ext cx="0" cy="11905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 flipV="1">
                  <a:off x="2470320" y="2418120"/>
                  <a:ext cx="0" cy="11905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flipV="1">
                  <a:off x="5901120" y="2418120"/>
                  <a:ext cx="0" cy="11905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2478960" y="2158560"/>
                <a:ext cx="3429000" cy="264600"/>
                <a:chOff x="2478960" y="2158560"/>
                <a:chExt cx="3429000" cy="264600"/>
              </a:xfrm>
            </p:grpSpPr>
            <p:sp>
              <p:nvSpPr>
                <p:cNvPr id="1102" name=""/>
                <p:cNvSpPr/>
                <p:nvPr/>
              </p:nvSpPr>
              <p:spPr>
                <a:xfrm flipV="1">
                  <a:off x="2478960" y="2158560"/>
                  <a:ext cx="1713960" cy="26460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flipH="1" flipV="1">
                  <a:off x="4192560" y="2158560"/>
                  <a:ext cx="1715400" cy="26460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04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6" name="" descr=""/>
          <p:cNvPicPr/>
          <p:nvPr/>
        </p:nvPicPr>
        <p:blipFill>
          <a:blip r:embed="rId1"/>
          <a:stretch/>
        </p:blipFill>
        <p:spPr>
          <a:xfrm>
            <a:off x="6541920" y="187200"/>
            <a:ext cx="86688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"/>
          <p:cNvSpPr/>
          <p:nvPr/>
        </p:nvSpPr>
        <p:spPr>
          <a:xfrm>
            <a:off x="176040" y="536400"/>
            <a:ext cx="87537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 élément est supporté par la panne faîtiè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431640" y="2158560"/>
            <a:ext cx="5532120" cy="3599280"/>
            <a:chOff x="431640" y="2158560"/>
            <a:chExt cx="5532120" cy="3599280"/>
          </a:xfrm>
        </p:grpSpPr>
        <p:sp>
          <p:nvSpPr>
            <p:cNvPr id="1129" name=""/>
            <p:cNvSpPr/>
            <p:nvPr/>
          </p:nvSpPr>
          <p:spPr>
            <a:xfrm flipV="1">
              <a:off x="2470320" y="2419200"/>
              <a:ext cx="0" cy="1190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0" name=""/>
            <p:cNvGrpSpPr/>
            <p:nvPr/>
          </p:nvGrpSpPr>
          <p:grpSpPr>
            <a:xfrm>
              <a:off x="533520" y="2418840"/>
              <a:ext cx="5375160" cy="3144960"/>
              <a:chOff x="533520" y="2418840"/>
              <a:chExt cx="5375160" cy="3144960"/>
            </a:xfrm>
          </p:grpSpPr>
          <p:grpSp>
            <p:nvGrpSpPr>
              <p:cNvPr id="1131" name=""/>
              <p:cNvGrpSpPr/>
              <p:nvPr/>
            </p:nvGrpSpPr>
            <p:grpSpPr>
              <a:xfrm>
                <a:off x="533520" y="2418840"/>
                <a:ext cx="5372640" cy="3144960"/>
                <a:chOff x="533520" y="2418840"/>
                <a:chExt cx="5372640" cy="3144960"/>
              </a:xfrm>
            </p:grpSpPr>
            <p:grpSp>
              <p:nvGrpSpPr>
                <p:cNvPr id="1132" name=""/>
                <p:cNvGrpSpPr/>
                <p:nvPr/>
              </p:nvGrpSpPr>
              <p:grpSpPr>
                <a:xfrm>
                  <a:off x="3951720" y="4039920"/>
                  <a:ext cx="337680" cy="1517760"/>
                  <a:chOff x="3951720" y="4039920"/>
                  <a:chExt cx="337680" cy="1517760"/>
                </a:xfrm>
              </p:grpSpPr>
              <p:sp>
                <p:nvSpPr>
                  <p:cNvPr id="1133" name=""/>
                  <p:cNvSpPr/>
                  <p:nvPr/>
                </p:nvSpPr>
                <p:spPr>
                  <a:xfrm flipV="1">
                    <a:off x="3965760" y="4670640"/>
                    <a:ext cx="322920" cy="887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 flipH="1" flipV="1">
                    <a:off x="3959640" y="4358520"/>
                    <a:ext cx="328680" cy="311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5" name=""/>
                  <p:cNvSpPr/>
                  <p:nvPr/>
                </p:nvSpPr>
                <p:spPr>
                  <a:xfrm flipH="1" flipV="1">
                    <a:off x="3965400" y="4987440"/>
                    <a:ext cx="322920" cy="245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6" name=""/>
                  <p:cNvSpPr/>
                  <p:nvPr/>
                </p:nvSpPr>
                <p:spPr>
                  <a:xfrm flipV="1">
                    <a:off x="3965760" y="4039920"/>
                    <a:ext cx="322920" cy="940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 flipV="1">
                    <a:off x="3951720" y="4052520"/>
                    <a:ext cx="323280" cy="32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3966120" y="4359600"/>
                    <a:ext cx="0" cy="1193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4289400" y="4046400"/>
                    <a:ext cx="0" cy="1193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0" name=""/>
                <p:cNvGrpSpPr/>
                <p:nvPr/>
              </p:nvGrpSpPr>
              <p:grpSpPr>
                <a:xfrm>
                  <a:off x="533520" y="4047480"/>
                  <a:ext cx="325080" cy="1516320"/>
                  <a:chOff x="533520" y="4047480"/>
                  <a:chExt cx="325080" cy="1516320"/>
                </a:xfrm>
              </p:grpSpPr>
              <p:sp>
                <p:nvSpPr>
                  <p:cNvPr id="1141" name=""/>
                  <p:cNvSpPr/>
                  <p:nvPr/>
                </p:nvSpPr>
                <p:spPr>
                  <a:xfrm flipV="1">
                    <a:off x="534600" y="4673520"/>
                    <a:ext cx="323280" cy="88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2" name=""/>
                  <p:cNvSpPr/>
                  <p:nvPr/>
                </p:nvSpPr>
                <p:spPr>
                  <a:xfrm flipH="1" flipV="1">
                    <a:off x="534600" y="4370760"/>
                    <a:ext cx="320400" cy="29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 flipH="1" flipV="1">
                    <a:off x="533520" y="4997880"/>
                    <a:ext cx="323280" cy="241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4" name=""/>
                  <p:cNvSpPr/>
                  <p:nvPr/>
                </p:nvSpPr>
                <p:spPr>
                  <a:xfrm flipV="1">
                    <a:off x="534600" y="4047480"/>
                    <a:ext cx="321840" cy="944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 flipV="1">
                    <a:off x="536760" y="4047840"/>
                    <a:ext cx="31752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535320" y="437112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 flipH="1">
                    <a:off x="857160" y="4057920"/>
                    <a:ext cx="1440" cy="117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8" name=""/>
                <p:cNvGrpSpPr/>
                <p:nvPr/>
              </p:nvGrpSpPr>
              <p:grpSpPr>
                <a:xfrm>
                  <a:off x="5580360" y="2418840"/>
                  <a:ext cx="325800" cy="1538640"/>
                  <a:chOff x="5580360" y="2418840"/>
                  <a:chExt cx="325800" cy="1538640"/>
                </a:xfrm>
              </p:grpSpPr>
              <p:sp>
                <p:nvSpPr>
                  <p:cNvPr id="1149" name=""/>
                  <p:cNvSpPr/>
                  <p:nvPr/>
                </p:nvSpPr>
                <p:spPr>
                  <a:xfrm flipV="1">
                    <a:off x="5582880" y="3071160"/>
                    <a:ext cx="320400" cy="880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0" name=""/>
                  <p:cNvSpPr/>
                  <p:nvPr/>
                </p:nvSpPr>
                <p:spPr>
                  <a:xfrm flipH="1" flipV="1">
                    <a:off x="5580360" y="2744280"/>
                    <a:ext cx="321840" cy="332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1" name=""/>
                  <p:cNvSpPr/>
                  <p:nvPr/>
                </p:nvSpPr>
                <p:spPr>
                  <a:xfrm flipH="1" flipV="1">
                    <a:off x="5582880" y="3388320"/>
                    <a:ext cx="320400" cy="242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 flipV="1">
                    <a:off x="5581440" y="2421360"/>
                    <a:ext cx="31752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 flipV="1">
                    <a:off x="5580720" y="2418840"/>
                    <a:ext cx="324720" cy="33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4" name=""/>
                  <p:cNvSpPr/>
                  <p:nvPr/>
                </p:nvSpPr>
                <p:spPr>
                  <a:xfrm>
                    <a:off x="5585040" y="2739240"/>
                    <a:ext cx="0" cy="1218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 flipH="1">
                    <a:off x="5905080" y="2424600"/>
                    <a:ext cx="1080" cy="120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6" name=""/>
                <p:cNvGrpSpPr/>
                <p:nvPr/>
              </p:nvGrpSpPr>
              <p:grpSpPr>
                <a:xfrm>
                  <a:off x="2152080" y="2421000"/>
                  <a:ext cx="323280" cy="1531440"/>
                  <a:chOff x="2152080" y="2421000"/>
                  <a:chExt cx="323280" cy="1531440"/>
                </a:xfrm>
              </p:grpSpPr>
              <p:sp>
                <p:nvSpPr>
                  <p:cNvPr id="1157" name=""/>
                  <p:cNvSpPr/>
                  <p:nvPr/>
                </p:nvSpPr>
                <p:spPr>
                  <a:xfrm flipV="1">
                    <a:off x="2152080" y="3075840"/>
                    <a:ext cx="321840" cy="876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 flipH="1" flipV="1">
                    <a:off x="2153160" y="2748600"/>
                    <a:ext cx="318960" cy="32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 flipH="1" flipV="1">
                    <a:off x="2152080" y="3394800"/>
                    <a:ext cx="323280" cy="234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 flipV="1">
                    <a:off x="2152080" y="2421720"/>
                    <a:ext cx="32328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 flipV="1">
                    <a:off x="2153880" y="2422080"/>
                    <a:ext cx="31788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2152440" y="275508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2473200" y="2421000"/>
                    <a:ext cx="1080" cy="1208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4" name=""/>
              <p:cNvGrpSpPr/>
              <p:nvPr/>
            </p:nvGrpSpPr>
            <p:grpSpPr>
              <a:xfrm>
                <a:off x="537120" y="3070800"/>
                <a:ext cx="5371560" cy="1926000"/>
                <a:chOff x="537120" y="3070800"/>
                <a:chExt cx="5371560" cy="1926000"/>
              </a:xfrm>
            </p:grpSpPr>
            <p:sp>
              <p:nvSpPr>
                <p:cNvPr id="1165" name=""/>
                <p:cNvSpPr/>
                <p:nvPr/>
              </p:nvSpPr>
              <p:spPr>
                <a:xfrm flipV="1">
                  <a:off x="3969360" y="466776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flipV="1">
                  <a:off x="537120" y="4675680"/>
                  <a:ext cx="32328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 flipV="1">
                  <a:off x="5591160" y="3070800"/>
                  <a:ext cx="31752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 flipV="1">
                  <a:off x="2157120" y="3076560"/>
                  <a:ext cx="32040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9" name=""/>
            <p:cNvGrpSpPr/>
            <p:nvPr/>
          </p:nvGrpSpPr>
          <p:grpSpPr>
            <a:xfrm>
              <a:off x="431640" y="3668760"/>
              <a:ext cx="5532120" cy="2089080"/>
              <a:chOff x="431640" y="3668760"/>
              <a:chExt cx="5532120" cy="2089080"/>
            </a:xfrm>
          </p:grpSpPr>
          <p:grpSp>
            <p:nvGrpSpPr>
              <p:cNvPr id="1170" name=""/>
              <p:cNvGrpSpPr/>
              <p:nvPr/>
            </p:nvGrpSpPr>
            <p:grpSpPr>
              <a:xfrm>
                <a:off x="4189320" y="3987000"/>
                <a:ext cx="1452240" cy="1449360"/>
                <a:chOff x="4189320" y="3987000"/>
                <a:chExt cx="1452240" cy="1449360"/>
              </a:xfrm>
            </p:grpSpPr>
            <p:sp>
              <p:nvSpPr>
                <p:cNvPr id="1171" name=""/>
                <p:cNvSpPr/>
                <p:nvPr/>
              </p:nvSpPr>
              <p:spPr>
                <a:xfrm>
                  <a:off x="5482440" y="398700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5163480" y="4302720"/>
                  <a:ext cx="159840" cy="160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4835880" y="4627080"/>
                  <a:ext cx="15984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4513680" y="4947840"/>
                  <a:ext cx="1634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4189320" y="5276880"/>
                  <a:ext cx="15876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6" name=""/>
              <p:cNvGrpSpPr/>
              <p:nvPr/>
            </p:nvGrpSpPr>
            <p:grpSpPr>
              <a:xfrm>
                <a:off x="761760" y="3985920"/>
                <a:ext cx="1447920" cy="1442160"/>
                <a:chOff x="761760" y="3985920"/>
                <a:chExt cx="1447920" cy="144216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2050560" y="398592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1729800" y="4304520"/>
                  <a:ext cx="159120" cy="1612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1408320" y="462708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1080720" y="4948920"/>
                  <a:ext cx="16020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761760" y="526860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2" name=""/>
              <p:cNvGrpSpPr/>
              <p:nvPr/>
            </p:nvGrpSpPr>
            <p:grpSpPr>
              <a:xfrm>
                <a:off x="2367720" y="3668760"/>
                <a:ext cx="3596040" cy="162000"/>
                <a:chOff x="2367720" y="3668760"/>
                <a:chExt cx="3596040" cy="162000"/>
              </a:xfrm>
            </p:grpSpPr>
            <p:sp>
              <p:nvSpPr>
                <p:cNvPr id="1183" name=""/>
                <p:cNvSpPr/>
                <p:nvPr/>
              </p:nvSpPr>
              <p:spPr>
                <a:xfrm>
                  <a:off x="5804640" y="366912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2367720" y="366912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4676400" y="366876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2938680" y="367092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348804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4087080" y="36687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524268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0" name=""/>
              <p:cNvGrpSpPr/>
              <p:nvPr/>
            </p:nvGrpSpPr>
            <p:grpSpPr>
              <a:xfrm>
                <a:off x="431640" y="5596200"/>
                <a:ext cx="3595320" cy="161640"/>
                <a:chOff x="431640" y="5596200"/>
                <a:chExt cx="3595320" cy="161640"/>
              </a:xfrm>
            </p:grpSpPr>
            <p:sp>
              <p:nvSpPr>
                <p:cNvPr id="1191" name=""/>
                <p:cNvSpPr/>
                <p:nvPr/>
              </p:nvSpPr>
              <p:spPr>
                <a:xfrm>
                  <a:off x="43164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3867480" y="5596200"/>
                  <a:ext cx="15948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9993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155160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2741040" y="559800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33159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7" name=""/>
            <p:cNvGrpSpPr/>
            <p:nvPr/>
          </p:nvGrpSpPr>
          <p:grpSpPr>
            <a:xfrm>
              <a:off x="2473200" y="2424240"/>
              <a:ext cx="3434040" cy="1209600"/>
              <a:chOff x="2473200" y="2424240"/>
              <a:chExt cx="3434040" cy="1209600"/>
            </a:xfrm>
          </p:grpSpPr>
          <p:sp>
            <p:nvSpPr>
              <p:cNvPr id="1198" name=""/>
              <p:cNvSpPr/>
              <p:nvPr/>
            </p:nvSpPr>
            <p:spPr>
              <a:xfrm>
                <a:off x="2473200" y="24242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2473560" y="275256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V="1">
                <a:off x="2473920" y="3332880"/>
                <a:ext cx="3427560" cy="14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V="1">
                <a:off x="2475000" y="3075840"/>
                <a:ext cx="342216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2476080" y="36338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3" name=""/>
            <p:cNvGrpSpPr/>
            <p:nvPr/>
          </p:nvGrpSpPr>
          <p:grpSpPr>
            <a:xfrm>
              <a:off x="531720" y="2749680"/>
              <a:ext cx="1941120" cy="2812680"/>
              <a:chOff x="531720" y="2749680"/>
              <a:chExt cx="1941120" cy="2812680"/>
            </a:xfrm>
          </p:grpSpPr>
          <p:sp>
            <p:nvSpPr>
              <p:cNvPr id="1204" name=""/>
              <p:cNvSpPr/>
              <p:nvPr/>
            </p:nvSpPr>
            <p:spPr>
              <a:xfrm flipV="1">
                <a:off x="535680" y="2749680"/>
                <a:ext cx="1935720" cy="192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V="1">
                <a:off x="531720" y="3080160"/>
                <a:ext cx="1940040" cy="191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flipV="1">
                <a:off x="532800" y="3346200"/>
                <a:ext cx="1940040" cy="1935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V="1">
                <a:off x="532800" y="3632760"/>
                <a:ext cx="1937160" cy="1929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8" name=""/>
            <p:cNvGrpSpPr/>
            <p:nvPr/>
          </p:nvGrpSpPr>
          <p:grpSpPr>
            <a:xfrm>
              <a:off x="531720" y="2158920"/>
              <a:ext cx="5372280" cy="3412800"/>
              <a:chOff x="531720" y="2158920"/>
              <a:chExt cx="5372280" cy="3412800"/>
            </a:xfrm>
          </p:grpSpPr>
          <p:grpSp>
            <p:nvGrpSpPr>
              <p:cNvPr id="1209" name=""/>
              <p:cNvGrpSpPr/>
              <p:nvPr/>
            </p:nvGrpSpPr>
            <p:grpSpPr>
              <a:xfrm>
                <a:off x="2473200" y="2158920"/>
                <a:ext cx="3430800" cy="1476720"/>
                <a:chOff x="2473200" y="2158920"/>
                <a:chExt cx="3430800" cy="1476720"/>
              </a:xfrm>
            </p:grpSpPr>
            <p:sp>
              <p:nvSpPr>
                <p:cNvPr id="1210" name=""/>
                <p:cNvSpPr/>
                <p:nvPr/>
              </p:nvSpPr>
              <p:spPr>
                <a:xfrm>
                  <a:off x="5355000" y="2341800"/>
                  <a:ext cx="0" cy="129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5904000" y="2439000"/>
                  <a:ext cx="0" cy="1196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4782240" y="2248200"/>
                  <a:ext cx="0" cy="138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4189680" y="2158920"/>
                  <a:ext cx="0" cy="147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3594960" y="2251800"/>
                  <a:ext cx="0" cy="138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2473200" y="2433600"/>
                  <a:ext cx="0" cy="120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3046680" y="2336760"/>
                  <a:ext cx="0" cy="1298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7" name=""/>
              <p:cNvGrpSpPr/>
              <p:nvPr/>
            </p:nvGrpSpPr>
            <p:grpSpPr>
              <a:xfrm>
                <a:off x="531720" y="4102200"/>
                <a:ext cx="3433320" cy="1469520"/>
                <a:chOff x="531720" y="4102200"/>
                <a:chExt cx="3433320" cy="1469520"/>
              </a:xfrm>
            </p:grpSpPr>
            <p:sp>
              <p:nvSpPr>
                <p:cNvPr id="1218" name=""/>
                <p:cNvSpPr/>
                <p:nvPr/>
              </p:nvSpPr>
              <p:spPr>
                <a:xfrm flipH="1">
                  <a:off x="2248920" y="4102200"/>
                  <a:ext cx="1440" cy="57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3415680" y="4284720"/>
                  <a:ext cx="0" cy="128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3965040" y="43657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2842920" y="4197960"/>
                  <a:ext cx="0" cy="1368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1655280" y="4190400"/>
                  <a:ext cx="0" cy="137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531720" y="4368600"/>
                  <a:ext cx="72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1107000" y="4280400"/>
                  <a:ext cx="0" cy="128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25" name=""/>
            <p:cNvGrpSpPr/>
            <p:nvPr/>
          </p:nvGrpSpPr>
          <p:grpSpPr>
            <a:xfrm>
              <a:off x="857160" y="2484360"/>
              <a:ext cx="4724640" cy="2750400"/>
              <a:chOff x="857160" y="2484360"/>
              <a:chExt cx="4724640" cy="2750400"/>
            </a:xfrm>
          </p:grpSpPr>
          <p:grpSp>
            <p:nvGrpSpPr>
              <p:cNvPr id="1226" name=""/>
              <p:cNvGrpSpPr/>
              <p:nvPr/>
            </p:nvGrpSpPr>
            <p:grpSpPr>
              <a:xfrm>
                <a:off x="857160" y="3781080"/>
                <a:ext cx="3430800" cy="1453680"/>
                <a:chOff x="857160" y="3781080"/>
                <a:chExt cx="3430800" cy="1453680"/>
              </a:xfrm>
            </p:grpSpPr>
            <p:sp>
              <p:nvSpPr>
                <p:cNvPr id="1227" name=""/>
                <p:cNvSpPr/>
                <p:nvPr/>
              </p:nvSpPr>
              <p:spPr>
                <a:xfrm flipV="1">
                  <a:off x="857160" y="4044960"/>
                  <a:ext cx="0" cy="1189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 flipV="1">
                  <a:off x="857160" y="3781080"/>
                  <a:ext cx="1715400" cy="264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 flipV="1">
                  <a:off x="4287960" y="4044960"/>
                  <a:ext cx="0" cy="1189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 flipH="1" flipV="1">
                  <a:off x="2572200" y="3781080"/>
                  <a:ext cx="1715400" cy="264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1" name=""/>
              <p:cNvGrpSpPr/>
              <p:nvPr/>
            </p:nvGrpSpPr>
            <p:grpSpPr>
              <a:xfrm>
                <a:off x="1180440" y="2484360"/>
                <a:ext cx="4401360" cy="2437920"/>
                <a:chOff x="1180440" y="2484360"/>
                <a:chExt cx="4401360" cy="2437920"/>
              </a:xfrm>
            </p:grpSpPr>
            <p:grpSp>
              <p:nvGrpSpPr>
                <p:cNvPr id="1232" name=""/>
                <p:cNvGrpSpPr/>
                <p:nvPr/>
              </p:nvGrpSpPr>
              <p:grpSpPr>
                <a:xfrm>
                  <a:off x="1180440" y="3456360"/>
                  <a:ext cx="3431520" cy="1465920"/>
                  <a:chOff x="1180440" y="3456360"/>
                  <a:chExt cx="3431520" cy="1465920"/>
                </a:xfrm>
              </p:grpSpPr>
              <p:sp>
                <p:nvSpPr>
                  <p:cNvPr id="1233" name=""/>
                  <p:cNvSpPr/>
                  <p:nvPr/>
                </p:nvSpPr>
                <p:spPr>
                  <a:xfrm flipV="1">
                    <a:off x="1180440" y="3722040"/>
                    <a:ext cx="0" cy="1195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4" name=""/>
                  <p:cNvSpPr/>
                  <p:nvPr/>
                </p:nvSpPr>
                <p:spPr>
                  <a:xfrm flipV="1">
                    <a:off x="1180440" y="3456360"/>
                    <a:ext cx="1716120" cy="2653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5" name=""/>
                  <p:cNvSpPr/>
                  <p:nvPr/>
                </p:nvSpPr>
                <p:spPr>
                  <a:xfrm flipV="1">
                    <a:off x="4611960" y="3721680"/>
                    <a:ext cx="0" cy="1200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6" name=""/>
                  <p:cNvSpPr/>
                  <p:nvPr/>
                </p:nvSpPr>
                <p:spPr>
                  <a:xfrm flipH="1" flipV="1">
                    <a:off x="2896200" y="3456360"/>
                    <a:ext cx="1715400" cy="2653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7" name=""/>
                <p:cNvGrpSpPr/>
                <p:nvPr/>
              </p:nvGrpSpPr>
              <p:grpSpPr>
                <a:xfrm>
                  <a:off x="1502280" y="3132000"/>
                  <a:ext cx="3432960" cy="1463760"/>
                  <a:chOff x="1502280" y="3132000"/>
                  <a:chExt cx="3432960" cy="1463760"/>
                </a:xfrm>
              </p:grpSpPr>
              <p:sp>
                <p:nvSpPr>
                  <p:cNvPr id="1238" name=""/>
                  <p:cNvSpPr/>
                  <p:nvPr/>
                </p:nvSpPr>
                <p:spPr>
                  <a:xfrm flipV="1">
                    <a:off x="1502280" y="3398400"/>
                    <a:ext cx="0" cy="1197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9" name=""/>
                  <p:cNvSpPr/>
                  <p:nvPr/>
                </p:nvSpPr>
                <p:spPr>
                  <a:xfrm flipV="1">
                    <a:off x="1502280" y="3132000"/>
                    <a:ext cx="171648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0" name=""/>
                  <p:cNvSpPr/>
                  <p:nvPr/>
                </p:nvSpPr>
                <p:spPr>
                  <a:xfrm flipV="1">
                    <a:off x="4935240" y="3398400"/>
                    <a:ext cx="0" cy="1197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1" name=""/>
                  <p:cNvSpPr/>
                  <p:nvPr/>
                </p:nvSpPr>
                <p:spPr>
                  <a:xfrm flipH="1" flipV="1">
                    <a:off x="3218760" y="3132000"/>
                    <a:ext cx="171648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2" name=""/>
                <p:cNvGrpSpPr/>
                <p:nvPr/>
              </p:nvGrpSpPr>
              <p:grpSpPr>
                <a:xfrm>
                  <a:off x="1827000" y="2808000"/>
                  <a:ext cx="3431520" cy="1464480"/>
                  <a:chOff x="1827000" y="2808000"/>
                  <a:chExt cx="3431520" cy="1464480"/>
                </a:xfrm>
              </p:grpSpPr>
              <p:sp>
                <p:nvSpPr>
                  <p:cNvPr id="1243" name=""/>
                  <p:cNvSpPr/>
                  <p:nvPr/>
                </p:nvSpPr>
                <p:spPr>
                  <a:xfrm flipV="1">
                    <a:off x="1827000" y="3074400"/>
                    <a:ext cx="0" cy="1198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4" name=""/>
                  <p:cNvSpPr/>
                  <p:nvPr/>
                </p:nvSpPr>
                <p:spPr>
                  <a:xfrm flipV="1">
                    <a:off x="1827000" y="2808000"/>
                    <a:ext cx="171576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5" name=""/>
                  <p:cNvSpPr/>
                  <p:nvPr/>
                </p:nvSpPr>
                <p:spPr>
                  <a:xfrm flipV="1">
                    <a:off x="5258520" y="3074400"/>
                    <a:ext cx="0" cy="1198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6" name=""/>
                  <p:cNvSpPr/>
                  <p:nvPr/>
                </p:nvSpPr>
                <p:spPr>
                  <a:xfrm flipH="1" flipV="1">
                    <a:off x="3542760" y="2808000"/>
                    <a:ext cx="1715760" cy="266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47" name=""/>
                <p:cNvGrpSpPr/>
                <p:nvPr/>
              </p:nvGrpSpPr>
              <p:grpSpPr>
                <a:xfrm>
                  <a:off x="2151000" y="2484360"/>
                  <a:ext cx="3430800" cy="1472400"/>
                  <a:chOff x="2151000" y="2484360"/>
                  <a:chExt cx="3430800" cy="1472400"/>
                </a:xfrm>
              </p:grpSpPr>
              <p:sp>
                <p:nvSpPr>
                  <p:cNvPr id="1248" name=""/>
                  <p:cNvSpPr/>
                  <p:nvPr/>
                </p:nvSpPr>
                <p:spPr>
                  <a:xfrm flipV="1">
                    <a:off x="2151000" y="2751840"/>
                    <a:ext cx="0" cy="1204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 flipV="1">
                    <a:off x="2151000" y="2484360"/>
                    <a:ext cx="1715400" cy="267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0" name=""/>
                  <p:cNvSpPr/>
                  <p:nvPr/>
                </p:nvSpPr>
                <p:spPr>
                  <a:xfrm flipV="1">
                    <a:off x="5581800" y="2751840"/>
                    <a:ext cx="0" cy="1204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1" name=""/>
                  <p:cNvSpPr/>
                  <p:nvPr/>
                </p:nvSpPr>
                <p:spPr>
                  <a:xfrm flipH="1" flipV="1">
                    <a:off x="3866040" y="2484360"/>
                    <a:ext cx="1715400" cy="2678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252" name=""/>
            <p:cNvGrpSpPr/>
            <p:nvPr/>
          </p:nvGrpSpPr>
          <p:grpSpPr>
            <a:xfrm>
              <a:off x="525600" y="2160720"/>
              <a:ext cx="5378400" cy="2209320"/>
              <a:chOff x="525600" y="2160720"/>
              <a:chExt cx="5378400" cy="2209320"/>
            </a:xfrm>
          </p:grpSpPr>
          <p:grpSp>
            <p:nvGrpSpPr>
              <p:cNvPr id="1253" name=""/>
              <p:cNvGrpSpPr/>
              <p:nvPr/>
            </p:nvGrpSpPr>
            <p:grpSpPr>
              <a:xfrm>
                <a:off x="2151720" y="2160720"/>
                <a:ext cx="3752280" cy="588960"/>
                <a:chOff x="2151720" y="2160720"/>
                <a:chExt cx="3752280" cy="588960"/>
              </a:xfrm>
            </p:grpSpPr>
            <p:sp>
              <p:nvSpPr>
                <p:cNvPr id="1254" name=""/>
                <p:cNvSpPr/>
                <p:nvPr/>
              </p:nvSpPr>
              <p:spPr>
                <a:xfrm flipV="1">
                  <a:off x="5586480" y="24210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 flipV="1">
                  <a:off x="3869280" y="2160720"/>
                  <a:ext cx="321840" cy="32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 flipV="1">
                  <a:off x="4461840" y="22514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 flipV="1">
                  <a:off x="2152080" y="2424960"/>
                  <a:ext cx="32436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 flipV="1">
                  <a:off x="2724120" y="23382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 flipV="1">
                  <a:off x="3274920" y="225432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60" name=""/>
                <p:cNvGrpSpPr/>
                <p:nvPr/>
              </p:nvGrpSpPr>
              <p:grpSpPr>
                <a:xfrm>
                  <a:off x="2151720" y="2160720"/>
                  <a:ext cx="3748320" cy="588960"/>
                  <a:chOff x="2151720" y="2160720"/>
                  <a:chExt cx="3748320" cy="588960"/>
                </a:xfrm>
              </p:grpSpPr>
              <p:sp>
                <p:nvSpPr>
                  <p:cNvPr id="1261" name=""/>
                  <p:cNvSpPr/>
                  <p:nvPr/>
                </p:nvSpPr>
                <p:spPr>
                  <a:xfrm flipH="1" flipV="1">
                    <a:off x="4188960" y="2160720"/>
                    <a:ext cx="26640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2" name=""/>
                  <p:cNvSpPr/>
                  <p:nvPr/>
                </p:nvSpPr>
                <p:spPr>
                  <a:xfrm flipH="1">
                    <a:off x="3274200" y="2161080"/>
                    <a:ext cx="912960" cy="413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 flipH="1" flipV="1">
                    <a:off x="5353920" y="2337480"/>
                    <a:ext cx="22536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4" name=""/>
                  <p:cNvSpPr/>
                  <p:nvPr/>
                </p:nvSpPr>
                <p:spPr>
                  <a:xfrm flipV="1">
                    <a:off x="5025240" y="2422080"/>
                    <a:ext cx="874800" cy="24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5" name=""/>
                  <p:cNvSpPr/>
                  <p:nvPr/>
                </p:nvSpPr>
                <p:spPr>
                  <a:xfrm flipH="1" flipV="1">
                    <a:off x="4782240" y="2251800"/>
                    <a:ext cx="242640" cy="411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6" name=""/>
                  <p:cNvSpPr/>
                  <p:nvPr/>
                </p:nvSpPr>
                <p:spPr>
                  <a:xfrm flipH="1">
                    <a:off x="4458240" y="2335320"/>
                    <a:ext cx="896400" cy="240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7" name=""/>
                  <p:cNvSpPr/>
                  <p:nvPr/>
                </p:nvSpPr>
                <p:spPr>
                  <a:xfrm flipH="1">
                    <a:off x="3871800" y="2247840"/>
                    <a:ext cx="909720" cy="23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8" name=""/>
                  <p:cNvSpPr/>
                  <p:nvPr/>
                </p:nvSpPr>
                <p:spPr>
                  <a:xfrm flipH="1" flipV="1">
                    <a:off x="3593160" y="2254680"/>
                    <a:ext cx="28584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 flipH="1" flipV="1">
                    <a:off x="3045960" y="2335320"/>
                    <a:ext cx="236160" cy="241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0" name=""/>
                  <p:cNvSpPr/>
                  <p:nvPr/>
                </p:nvSpPr>
                <p:spPr>
                  <a:xfrm flipH="1">
                    <a:off x="2720520" y="2256480"/>
                    <a:ext cx="873720" cy="406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1" name=""/>
                  <p:cNvSpPr/>
                  <p:nvPr/>
                </p:nvSpPr>
                <p:spPr>
                  <a:xfrm flipH="1" flipV="1">
                    <a:off x="2478600" y="2426400"/>
                    <a:ext cx="23940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2" name=""/>
                  <p:cNvSpPr/>
                  <p:nvPr/>
                </p:nvSpPr>
                <p:spPr>
                  <a:xfrm flipH="1">
                    <a:off x="2151720" y="2336760"/>
                    <a:ext cx="894240" cy="410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3" name=""/>
                  <p:cNvSpPr/>
                  <p:nvPr/>
                </p:nvSpPr>
                <p:spPr>
                  <a:xfrm flipV="1">
                    <a:off x="2479680" y="2162880"/>
                    <a:ext cx="1708200" cy="25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 flipV="1">
                    <a:off x="2167560" y="2481840"/>
                    <a:ext cx="1705320" cy="263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5" name=""/>
                  <p:cNvSpPr/>
                  <p:nvPr/>
                </p:nvSpPr>
                <p:spPr>
                  <a:xfrm>
                    <a:off x="3870360" y="2480400"/>
                    <a:ext cx="1710360" cy="269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6" name=""/>
                  <p:cNvSpPr/>
                  <p:nvPr/>
                </p:nvSpPr>
                <p:spPr>
                  <a:xfrm>
                    <a:off x="4195080" y="2160720"/>
                    <a:ext cx="169776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77" name=""/>
                <p:cNvSpPr/>
                <p:nvPr/>
              </p:nvSpPr>
              <p:spPr>
                <a:xfrm flipV="1">
                  <a:off x="5026320" y="2337480"/>
                  <a:ext cx="326160" cy="326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8" name=""/>
              <p:cNvGrpSpPr/>
              <p:nvPr/>
            </p:nvGrpSpPr>
            <p:grpSpPr>
              <a:xfrm>
                <a:off x="525600" y="3780000"/>
                <a:ext cx="3754440" cy="590040"/>
                <a:chOff x="525600" y="3780000"/>
                <a:chExt cx="3754440" cy="590040"/>
              </a:xfrm>
            </p:grpSpPr>
            <p:sp>
              <p:nvSpPr>
                <p:cNvPr id="1279" name=""/>
                <p:cNvSpPr/>
                <p:nvPr/>
              </p:nvSpPr>
              <p:spPr>
                <a:xfrm flipV="1">
                  <a:off x="3956760" y="4044600"/>
                  <a:ext cx="32184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 flipV="1">
                  <a:off x="2839320" y="3871800"/>
                  <a:ext cx="320400" cy="320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 flipV="1">
                  <a:off x="2243880" y="3784680"/>
                  <a:ext cx="316080" cy="315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2240640" y="4100760"/>
                  <a:ext cx="171612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 flipH="1" flipV="1">
                  <a:off x="2565000" y="3782160"/>
                  <a:ext cx="26784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 flipH="1" flipV="1">
                  <a:off x="3731400" y="3960720"/>
                  <a:ext cx="228240" cy="40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 flipV="1">
                  <a:off x="3408120" y="4045320"/>
                  <a:ext cx="866160" cy="238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 flipH="1" flipV="1">
                  <a:off x="3160800" y="3873960"/>
                  <a:ext cx="24840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 flipH="1">
                  <a:off x="2832840" y="3960000"/>
                  <a:ext cx="896400" cy="236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 flipH="1">
                  <a:off x="2242440" y="3872520"/>
                  <a:ext cx="91944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2569680" y="3780720"/>
                  <a:ext cx="1710360" cy="264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 flipV="1">
                  <a:off x="3409560" y="3960000"/>
                  <a:ext cx="32040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 flipV="1">
                  <a:off x="1652760" y="3868920"/>
                  <a:ext cx="32040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 flipV="1">
                  <a:off x="1101600" y="3952800"/>
                  <a:ext cx="322920" cy="325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 flipV="1">
                  <a:off x="535320" y="4100760"/>
                  <a:ext cx="170496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 flipV="1">
                  <a:off x="851400" y="3780720"/>
                  <a:ext cx="1722240" cy="262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 flipH="1">
                  <a:off x="1650240" y="3780000"/>
                  <a:ext cx="9172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 flipH="1" flipV="1">
                  <a:off x="1970640" y="3872160"/>
                  <a:ext cx="26856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 flipH="1" flipV="1">
                  <a:off x="1422000" y="3952800"/>
                  <a:ext cx="227520" cy="239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 flipH="1">
                  <a:off x="1104120" y="3876840"/>
                  <a:ext cx="859680" cy="403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 flipH="1" flipV="1">
                  <a:off x="852120" y="4042440"/>
                  <a:ext cx="246600" cy="235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 flipH="1">
                  <a:off x="529200" y="3955680"/>
                  <a:ext cx="88992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 flipV="1">
                  <a:off x="525600" y="4044240"/>
                  <a:ext cx="325800" cy="325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02" name=""/>
            <p:cNvGrpSpPr/>
            <p:nvPr/>
          </p:nvGrpSpPr>
          <p:grpSpPr>
            <a:xfrm>
              <a:off x="533520" y="2422440"/>
              <a:ext cx="5368320" cy="1944720"/>
              <a:chOff x="533520" y="2422440"/>
              <a:chExt cx="5368320" cy="1944720"/>
            </a:xfrm>
          </p:grpSpPr>
          <p:sp>
            <p:nvSpPr>
              <p:cNvPr id="1303" name=""/>
              <p:cNvSpPr/>
              <p:nvPr/>
            </p:nvSpPr>
            <p:spPr>
              <a:xfrm flipV="1">
                <a:off x="3955680" y="2422440"/>
                <a:ext cx="1946160" cy="1944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V="1">
                <a:off x="533520" y="2422440"/>
                <a:ext cx="1940760" cy="1944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5" name=""/>
            <p:cNvGrpSpPr/>
            <p:nvPr/>
          </p:nvGrpSpPr>
          <p:grpSpPr>
            <a:xfrm>
              <a:off x="779400" y="2204640"/>
              <a:ext cx="4847760" cy="2130480"/>
              <a:chOff x="779400" y="2204640"/>
              <a:chExt cx="4847760" cy="2130480"/>
            </a:xfrm>
          </p:grpSpPr>
          <p:sp>
            <p:nvSpPr>
              <p:cNvPr id="1306" name=""/>
              <p:cNvSpPr/>
              <p:nvPr/>
            </p:nvSpPr>
            <p:spPr>
              <a:xfrm flipV="1">
                <a:off x="2548440" y="2204640"/>
                <a:ext cx="19350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 flipV="1">
                <a:off x="2841480" y="2248920"/>
                <a:ext cx="19407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V="1">
                <a:off x="3413160" y="2341080"/>
                <a:ext cx="193212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V="1">
                <a:off x="3681000" y="2384640"/>
                <a:ext cx="1946160" cy="1946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flipV="1">
                <a:off x="779400" y="2381400"/>
                <a:ext cx="1985400" cy="1953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V="1">
                <a:off x="1103040" y="2338560"/>
                <a:ext cx="1938600" cy="194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V="1">
                <a:off x="1655280" y="2247480"/>
                <a:ext cx="194292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V="1">
                <a:off x="1934640" y="2204640"/>
                <a:ext cx="1973520" cy="1950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V="1">
                <a:off x="1371600" y="2298600"/>
                <a:ext cx="1947960" cy="194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flipV="1">
                <a:off x="3124440" y="2290680"/>
                <a:ext cx="1940760" cy="1947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6" name=""/>
            <p:cNvSpPr/>
            <p:nvPr/>
          </p:nvSpPr>
          <p:spPr>
            <a:xfrm flipV="1">
              <a:off x="2244600" y="2158920"/>
              <a:ext cx="1944720" cy="1938240"/>
            </a:xfrm>
            <a:prstGeom prst="line">
              <a:avLst/>
            </a:prstGeom>
            <a:ln w="381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7" name=""/>
            <p:cNvGrpSpPr/>
            <p:nvPr/>
          </p:nvGrpSpPr>
          <p:grpSpPr>
            <a:xfrm>
              <a:off x="531720" y="4368600"/>
              <a:ext cx="3430800" cy="1198080"/>
              <a:chOff x="531720" y="4368600"/>
              <a:chExt cx="3430800" cy="1198080"/>
            </a:xfrm>
          </p:grpSpPr>
          <p:sp>
            <p:nvSpPr>
              <p:cNvPr id="1318" name=""/>
              <p:cNvSpPr/>
              <p:nvPr/>
            </p:nvSpPr>
            <p:spPr>
              <a:xfrm flipV="1">
                <a:off x="2842200" y="5565600"/>
                <a:ext cx="11178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V="1">
                <a:off x="532080" y="4368600"/>
                <a:ext cx="3430440" cy="3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531720" y="4678920"/>
                <a:ext cx="343008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2839320" y="5276880"/>
                <a:ext cx="11217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V="1">
                <a:off x="532080" y="4999320"/>
                <a:ext cx="112284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2842200" y="4991400"/>
                <a:ext cx="11203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532800" y="5281200"/>
                <a:ext cx="11196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534240" y="5564520"/>
                <a:ext cx="1116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6" name=""/>
            <p:cNvGrpSpPr/>
            <p:nvPr/>
          </p:nvGrpSpPr>
          <p:grpSpPr>
            <a:xfrm>
              <a:off x="3960720" y="2754360"/>
              <a:ext cx="1943280" cy="2809800"/>
              <a:chOff x="3960720" y="2754360"/>
              <a:chExt cx="1943280" cy="2809800"/>
            </a:xfrm>
          </p:grpSpPr>
          <p:sp>
            <p:nvSpPr>
              <p:cNvPr id="1327" name=""/>
              <p:cNvSpPr/>
              <p:nvPr/>
            </p:nvSpPr>
            <p:spPr>
              <a:xfrm flipV="1">
                <a:off x="3960720" y="3636000"/>
                <a:ext cx="1943280" cy="1928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flipV="1">
                <a:off x="3964680" y="2754360"/>
                <a:ext cx="1937520" cy="1925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V="1">
                <a:off x="3963240" y="3076200"/>
                <a:ext cx="1939320" cy="1913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V="1">
                <a:off x="3961800" y="3332880"/>
                <a:ext cx="19404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1" name=""/>
            <p:cNvSpPr/>
            <p:nvPr/>
          </p:nvSpPr>
          <p:spPr>
            <a:xfrm flipV="1">
              <a:off x="531720" y="4101840"/>
              <a:ext cx="1714680" cy="2667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H="1" flipV="1">
              <a:off x="2249640" y="4103280"/>
              <a:ext cx="1715760" cy="2667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V="1">
              <a:off x="530280" y="4363920"/>
              <a:ext cx="0" cy="1190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3960720" y="4363920"/>
              <a:ext cx="0" cy="1190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V="1">
              <a:off x="5900760" y="2419200"/>
              <a:ext cx="0" cy="1190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V="1">
              <a:off x="2479680" y="2158560"/>
              <a:ext cx="1714320" cy="2653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 flipH="1" flipV="1">
              <a:off x="4193640" y="2158560"/>
              <a:ext cx="1714680" cy="2653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8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>
            <a:hlinkClick r:id="rId1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>
            <a:hlinkClick r:id="rId2" action="ppaction://hlinksldjump"/>
          </p:cNvPr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>
            <a:hlinkClick r:id="rId3" action="ppaction://hlinksldjump"/>
          </p:cNvPr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>
            <a:hlinkClick r:id="rId4" action="ppaction://hlinksldjump"/>
          </p:cNvPr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>
            <a:hlinkClick r:id="rId5" action="ppaction://hlinksldjump"/>
          </p:cNvPr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>
            <a:hlinkClick r:id="rId6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>
            <a:hlinkClick r:id="rId7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>
            <a:hlinkClick r:id="rId8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>
            <a:hlinkClick r:id="rId9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>
            <a:hlinkClick r:id="rId10" action="ppaction://hlinksldjump"/>
          </p:cNvPr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>
            <a:hlinkClick r:id="rId11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/>
          <p:nvPr/>
        </p:nvSpPr>
        <p:spPr>
          <a:xfrm flipV="1">
            <a:off x="2470320" y="241920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4" name=""/>
          <p:cNvGrpSpPr/>
          <p:nvPr/>
        </p:nvGrpSpPr>
        <p:grpSpPr>
          <a:xfrm>
            <a:off x="533520" y="2418840"/>
            <a:ext cx="5373000" cy="3144960"/>
            <a:chOff x="533520" y="2418840"/>
            <a:chExt cx="5373000" cy="3144960"/>
          </a:xfrm>
        </p:grpSpPr>
        <p:grpSp>
          <p:nvGrpSpPr>
            <p:cNvPr id="1365" name=""/>
            <p:cNvGrpSpPr/>
            <p:nvPr/>
          </p:nvGrpSpPr>
          <p:grpSpPr>
            <a:xfrm>
              <a:off x="3951720" y="4039920"/>
              <a:ext cx="337680" cy="1517760"/>
              <a:chOff x="3951720" y="4039920"/>
              <a:chExt cx="337680" cy="1517760"/>
            </a:xfrm>
          </p:grpSpPr>
          <p:sp>
            <p:nvSpPr>
              <p:cNvPr id="1366" name=""/>
              <p:cNvSpPr/>
              <p:nvPr/>
            </p:nvSpPr>
            <p:spPr>
              <a:xfrm flipV="1">
                <a:off x="3965760" y="4670640"/>
                <a:ext cx="322920" cy="887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H="1" flipV="1">
                <a:off x="3959640" y="4358520"/>
                <a:ext cx="328680" cy="311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H="1" flipV="1">
                <a:off x="3965400" y="4987440"/>
                <a:ext cx="322920" cy="245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V="1">
                <a:off x="3965760" y="4039920"/>
                <a:ext cx="322920" cy="940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V="1">
                <a:off x="3951720" y="4052520"/>
                <a:ext cx="32328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3966120" y="4359600"/>
                <a:ext cx="0" cy="1193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289400" y="4046400"/>
                <a:ext cx="0" cy="1193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3" name=""/>
            <p:cNvGrpSpPr/>
            <p:nvPr/>
          </p:nvGrpSpPr>
          <p:grpSpPr>
            <a:xfrm>
              <a:off x="533520" y="4047480"/>
              <a:ext cx="325080" cy="1516320"/>
              <a:chOff x="533520" y="4047480"/>
              <a:chExt cx="325080" cy="1516320"/>
            </a:xfrm>
          </p:grpSpPr>
          <p:sp>
            <p:nvSpPr>
              <p:cNvPr id="1374" name=""/>
              <p:cNvSpPr/>
              <p:nvPr/>
            </p:nvSpPr>
            <p:spPr>
              <a:xfrm flipV="1">
                <a:off x="534600" y="4673520"/>
                <a:ext cx="323280" cy="886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flipH="1" flipV="1">
                <a:off x="534600" y="4370760"/>
                <a:ext cx="320400" cy="298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H="1" flipV="1">
                <a:off x="533520" y="4997880"/>
                <a:ext cx="323280" cy="241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V="1">
                <a:off x="534600" y="4047480"/>
                <a:ext cx="321840" cy="944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V="1">
                <a:off x="536760" y="40478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35320" y="4371120"/>
                <a:ext cx="0" cy="1192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H="1">
                <a:off x="857160" y="4057920"/>
                <a:ext cx="1440" cy="1179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1" name=""/>
            <p:cNvGrpSpPr/>
            <p:nvPr/>
          </p:nvGrpSpPr>
          <p:grpSpPr>
            <a:xfrm>
              <a:off x="5580720" y="2418840"/>
              <a:ext cx="325800" cy="1538640"/>
              <a:chOff x="5580720" y="2418840"/>
              <a:chExt cx="325800" cy="1538640"/>
            </a:xfrm>
          </p:grpSpPr>
          <p:sp>
            <p:nvSpPr>
              <p:cNvPr id="1382" name=""/>
              <p:cNvSpPr/>
              <p:nvPr/>
            </p:nvSpPr>
            <p:spPr>
              <a:xfrm flipV="1">
                <a:off x="5583240" y="3071160"/>
                <a:ext cx="320400" cy="880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H="1" flipV="1">
                <a:off x="5580720" y="2744280"/>
                <a:ext cx="321840" cy="332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H="1" flipV="1">
                <a:off x="5583240" y="3388320"/>
                <a:ext cx="320400" cy="242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flipV="1">
                <a:off x="5581800" y="2421360"/>
                <a:ext cx="317520" cy="972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flipV="1">
                <a:off x="5581080" y="2418840"/>
                <a:ext cx="324720" cy="330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585400" y="2739240"/>
                <a:ext cx="0" cy="12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flipH="1">
                <a:off x="5905440" y="2424600"/>
                <a:ext cx="1080" cy="120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9" name=""/>
            <p:cNvGrpSpPr/>
            <p:nvPr/>
          </p:nvGrpSpPr>
          <p:grpSpPr>
            <a:xfrm>
              <a:off x="2152080" y="2421000"/>
              <a:ext cx="323280" cy="1531440"/>
              <a:chOff x="2152080" y="2421000"/>
              <a:chExt cx="323280" cy="1531440"/>
            </a:xfrm>
          </p:grpSpPr>
          <p:sp>
            <p:nvSpPr>
              <p:cNvPr id="1390" name=""/>
              <p:cNvSpPr/>
              <p:nvPr/>
            </p:nvSpPr>
            <p:spPr>
              <a:xfrm flipV="1">
                <a:off x="2152080" y="3075840"/>
                <a:ext cx="321840" cy="876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H="1" flipV="1">
                <a:off x="2153160" y="2748600"/>
                <a:ext cx="318960" cy="324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H="1" flipV="1">
                <a:off x="2152080" y="3394800"/>
                <a:ext cx="323280" cy="23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V="1">
                <a:off x="2152080" y="2421720"/>
                <a:ext cx="323280" cy="972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V="1">
                <a:off x="2153880" y="2422080"/>
                <a:ext cx="31788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2152440" y="2755080"/>
                <a:ext cx="0" cy="1192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2473200" y="2421000"/>
                <a:ext cx="1080" cy="1208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7" name=""/>
          <p:cNvGrpSpPr/>
          <p:nvPr/>
        </p:nvGrpSpPr>
        <p:grpSpPr>
          <a:xfrm>
            <a:off x="536400" y="3070080"/>
            <a:ext cx="5371920" cy="1927080"/>
            <a:chOff x="536400" y="3070080"/>
            <a:chExt cx="5371920" cy="1927080"/>
          </a:xfrm>
        </p:grpSpPr>
        <p:sp>
          <p:nvSpPr>
            <p:cNvPr id="1398" name=""/>
            <p:cNvSpPr/>
            <p:nvPr/>
          </p:nvSpPr>
          <p:spPr>
            <a:xfrm flipV="1">
              <a:off x="3969360" y="4668480"/>
              <a:ext cx="317520" cy="318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V="1">
              <a:off x="536400" y="4676040"/>
              <a:ext cx="323280" cy="3211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5590800" y="3070080"/>
              <a:ext cx="317520" cy="31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V="1">
              <a:off x="2156400" y="3075840"/>
              <a:ext cx="320400" cy="31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2" name=""/>
          <p:cNvGrpSpPr/>
          <p:nvPr/>
        </p:nvGrpSpPr>
        <p:grpSpPr>
          <a:xfrm>
            <a:off x="4189320" y="3986280"/>
            <a:ext cx="1452240" cy="1450800"/>
            <a:chOff x="4189320" y="3986280"/>
            <a:chExt cx="1452240" cy="1450800"/>
          </a:xfrm>
        </p:grpSpPr>
        <p:sp>
          <p:nvSpPr>
            <p:cNvPr id="1403" name=""/>
            <p:cNvSpPr/>
            <p:nvPr/>
          </p:nvSpPr>
          <p:spPr>
            <a:xfrm>
              <a:off x="5482440" y="3986280"/>
              <a:ext cx="15912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163840" y="4302360"/>
              <a:ext cx="159840" cy="160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836240" y="4627080"/>
              <a:ext cx="15984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513680" y="4947840"/>
              <a:ext cx="163440" cy="160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189320" y="5277240"/>
              <a:ext cx="15876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8" name=""/>
          <p:cNvGrpSpPr/>
          <p:nvPr/>
        </p:nvGrpSpPr>
        <p:grpSpPr>
          <a:xfrm>
            <a:off x="762120" y="3986280"/>
            <a:ext cx="1447560" cy="1442520"/>
            <a:chOff x="762120" y="3986280"/>
            <a:chExt cx="1447560" cy="1442520"/>
          </a:xfrm>
        </p:grpSpPr>
        <p:sp>
          <p:nvSpPr>
            <p:cNvPr id="1409" name=""/>
            <p:cNvSpPr/>
            <p:nvPr/>
          </p:nvSpPr>
          <p:spPr>
            <a:xfrm>
              <a:off x="2050560" y="3986280"/>
              <a:ext cx="15912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729800" y="4304880"/>
              <a:ext cx="159120" cy="16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408680" y="4627440"/>
              <a:ext cx="159120" cy="15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081080" y="4949640"/>
              <a:ext cx="160200" cy="15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62120" y="5269320"/>
              <a:ext cx="159120" cy="15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2368440" y="3668760"/>
            <a:ext cx="3595680" cy="162000"/>
            <a:chOff x="2368440" y="3668760"/>
            <a:chExt cx="3595680" cy="162000"/>
          </a:xfrm>
        </p:grpSpPr>
        <p:sp>
          <p:nvSpPr>
            <p:cNvPr id="1415" name=""/>
            <p:cNvSpPr/>
            <p:nvPr/>
          </p:nvSpPr>
          <p:spPr>
            <a:xfrm>
              <a:off x="5805000" y="3669120"/>
              <a:ext cx="159120" cy="15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368440" y="3669120"/>
              <a:ext cx="15948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4677120" y="3668760"/>
              <a:ext cx="15948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939400" y="3670920"/>
              <a:ext cx="159120" cy="15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488400" y="3670560"/>
              <a:ext cx="159120" cy="15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4087440" y="3668760"/>
              <a:ext cx="159120" cy="15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243400" y="3670560"/>
              <a:ext cx="159120" cy="15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2" name=""/>
          <p:cNvGrpSpPr/>
          <p:nvPr/>
        </p:nvGrpSpPr>
        <p:grpSpPr>
          <a:xfrm>
            <a:off x="431640" y="5595840"/>
            <a:ext cx="3595320" cy="162000"/>
            <a:chOff x="431640" y="5595840"/>
            <a:chExt cx="3595320" cy="162000"/>
          </a:xfrm>
        </p:grpSpPr>
        <p:sp>
          <p:nvSpPr>
            <p:cNvPr id="1423" name=""/>
            <p:cNvSpPr/>
            <p:nvPr/>
          </p:nvSpPr>
          <p:spPr>
            <a:xfrm>
              <a:off x="431640" y="5596200"/>
              <a:ext cx="15912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867480" y="5595840"/>
              <a:ext cx="159480" cy="16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999360" y="5596200"/>
              <a:ext cx="15912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551600" y="5596200"/>
              <a:ext cx="15912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741040" y="5597640"/>
              <a:ext cx="15912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315960" y="5596200"/>
              <a:ext cx="15912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9" name=""/>
          <p:cNvSpPr/>
          <p:nvPr/>
        </p:nvSpPr>
        <p:spPr>
          <a:xfrm>
            <a:off x="2473200" y="2424240"/>
            <a:ext cx="34308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73200" y="2752560"/>
            <a:ext cx="34322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V="1">
            <a:off x="2475000" y="3333600"/>
            <a:ext cx="3425760" cy="144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V="1">
            <a:off x="2475000" y="3076560"/>
            <a:ext cx="3422520" cy="144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476440" y="3633840"/>
            <a:ext cx="34308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536400" y="2749320"/>
            <a:ext cx="1935360" cy="19270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531720" y="3081240"/>
            <a:ext cx="1940040" cy="19144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533520" y="3346200"/>
            <a:ext cx="1939680" cy="19350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 flipV="1">
            <a:off x="533520" y="3631680"/>
            <a:ext cx="1936800" cy="19306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8" name=""/>
          <p:cNvGrpSpPr/>
          <p:nvPr/>
        </p:nvGrpSpPr>
        <p:grpSpPr>
          <a:xfrm>
            <a:off x="2473200" y="2158920"/>
            <a:ext cx="3430800" cy="1476360"/>
            <a:chOff x="2473200" y="2158920"/>
            <a:chExt cx="3430800" cy="1476360"/>
          </a:xfrm>
        </p:grpSpPr>
        <p:sp>
          <p:nvSpPr>
            <p:cNvPr id="1439" name=""/>
            <p:cNvSpPr/>
            <p:nvPr/>
          </p:nvSpPr>
          <p:spPr>
            <a:xfrm>
              <a:off x="5355000" y="2341440"/>
              <a:ext cx="0" cy="12934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04000" y="2439000"/>
              <a:ext cx="0" cy="11962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782240" y="2248200"/>
              <a:ext cx="0" cy="13870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189680" y="2158920"/>
              <a:ext cx="0" cy="1476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594960" y="2251800"/>
              <a:ext cx="0" cy="13834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473200" y="2433240"/>
              <a:ext cx="0" cy="12016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046680" y="2336760"/>
              <a:ext cx="0" cy="12981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6" name=""/>
          <p:cNvGrpSpPr/>
          <p:nvPr/>
        </p:nvGrpSpPr>
        <p:grpSpPr>
          <a:xfrm>
            <a:off x="531720" y="4102200"/>
            <a:ext cx="3433680" cy="1469880"/>
            <a:chOff x="531720" y="4102200"/>
            <a:chExt cx="3433680" cy="1469880"/>
          </a:xfrm>
        </p:grpSpPr>
        <p:sp>
          <p:nvSpPr>
            <p:cNvPr id="1447" name=""/>
            <p:cNvSpPr/>
            <p:nvPr/>
          </p:nvSpPr>
          <p:spPr>
            <a:xfrm flipH="1">
              <a:off x="2249280" y="4102200"/>
              <a:ext cx="1440" cy="5720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416040" y="4284720"/>
              <a:ext cx="0" cy="1287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965400" y="4366080"/>
              <a:ext cx="0" cy="11948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843280" y="4197960"/>
              <a:ext cx="0" cy="136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655280" y="4190400"/>
              <a:ext cx="0" cy="13759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31720" y="4368600"/>
              <a:ext cx="720" cy="11962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107000" y="4280400"/>
              <a:ext cx="0" cy="12859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4" name=""/>
          <p:cNvGrpSpPr/>
          <p:nvPr/>
        </p:nvGrpSpPr>
        <p:grpSpPr>
          <a:xfrm>
            <a:off x="857160" y="3781440"/>
            <a:ext cx="3430800" cy="1453680"/>
            <a:chOff x="857160" y="3781440"/>
            <a:chExt cx="3430800" cy="1453680"/>
          </a:xfrm>
        </p:grpSpPr>
        <p:sp>
          <p:nvSpPr>
            <p:cNvPr id="1455" name=""/>
            <p:cNvSpPr/>
            <p:nvPr/>
          </p:nvSpPr>
          <p:spPr>
            <a:xfrm flipV="1">
              <a:off x="857160" y="4045320"/>
              <a:ext cx="0" cy="1189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V="1">
              <a:off x="857160" y="3781440"/>
              <a:ext cx="1715400" cy="264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4287960" y="4045320"/>
              <a:ext cx="0" cy="1189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H="1" flipV="1">
              <a:off x="2572200" y="3781440"/>
              <a:ext cx="1715400" cy="264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9" name=""/>
          <p:cNvGrpSpPr/>
          <p:nvPr/>
        </p:nvGrpSpPr>
        <p:grpSpPr>
          <a:xfrm>
            <a:off x="1181160" y="2484360"/>
            <a:ext cx="4400640" cy="2437920"/>
            <a:chOff x="1181160" y="2484360"/>
            <a:chExt cx="4400640" cy="2437920"/>
          </a:xfrm>
        </p:grpSpPr>
        <p:grpSp>
          <p:nvGrpSpPr>
            <p:cNvPr id="1460" name=""/>
            <p:cNvGrpSpPr/>
            <p:nvPr/>
          </p:nvGrpSpPr>
          <p:grpSpPr>
            <a:xfrm>
              <a:off x="1181160" y="3456360"/>
              <a:ext cx="3430800" cy="1465920"/>
              <a:chOff x="1181160" y="3456360"/>
              <a:chExt cx="3430800" cy="1465920"/>
            </a:xfrm>
          </p:grpSpPr>
          <p:sp>
            <p:nvSpPr>
              <p:cNvPr id="1461" name=""/>
              <p:cNvSpPr/>
              <p:nvPr/>
            </p:nvSpPr>
            <p:spPr>
              <a:xfrm flipV="1">
                <a:off x="1181160" y="3722040"/>
                <a:ext cx="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V="1">
                <a:off x="1181160" y="3456360"/>
                <a:ext cx="1715760" cy="265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V="1">
                <a:off x="4611960" y="3721680"/>
                <a:ext cx="0" cy="1200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 flipV="1">
                <a:off x="2896920" y="3456360"/>
                <a:ext cx="1715040" cy="265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5" name=""/>
            <p:cNvGrpSpPr/>
            <p:nvPr/>
          </p:nvGrpSpPr>
          <p:grpSpPr>
            <a:xfrm>
              <a:off x="1503000" y="3132000"/>
              <a:ext cx="3432240" cy="1463760"/>
              <a:chOff x="1503000" y="3132000"/>
              <a:chExt cx="3432240" cy="1463760"/>
            </a:xfrm>
          </p:grpSpPr>
          <p:sp>
            <p:nvSpPr>
              <p:cNvPr id="1466" name=""/>
              <p:cNvSpPr/>
              <p:nvPr/>
            </p:nvSpPr>
            <p:spPr>
              <a:xfrm flipV="1">
                <a:off x="1503000" y="3398400"/>
                <a:ext cx="0" cy="1197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flipV="1">
                <a:off x="1503000" y="3132000"/>
                <a:ext cx="1716120" cy="266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flipV="1">
                <a:off x="4935240" y="3398400"/>
                <a:ext cx="0" cy="1197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flipH="1" flipV="1">
                <a:off x="3218760" y="3132000"/>
                <a:ext cx="1716120" cy="266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0" name=""/>
            <p:cNvGrpSpPr/>
            <p:nvPr/>
          </p:nvGrpSpPr>
          <p:grpSpPr>
            <a:xfrm>
              <a:off x="1827720" y="2808000"/>
              <a:ext cx="3430800" cy="1464480"/>
              <a:chOff x="1827720" y="2808000"/>
              <a:chExt cx="3430800" cy="1464480"/>
            </a:xfrm>
          </p:grpSpPr>
          <p:sp>
            <p:nvSpPr>
              <p:cNvPr id="1471" name=""/>
              <p:cNvSpPr/>
              <p:nvPr/>
            </p:nvSpPr>
            <p:spPr>
              <a:xfrm flipV="1">
                <a:off x="1827720" y="3074400"/>
                <a:ext cx="0" cy="1198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V="1">
                <a:off x="1827720" y="2808000"/>
                <a:ext cx="1715400" cy="266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 flipV="1">
                <a:off x="5258520" y="3074400"/>
                <a:ext cx="0" cy="1198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flipH="1" flipV="1">
                <a:off x="3542760" y="2808000"/>
                <a:ext cx="1715400" cy="266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5" name=""/>
            <p:cNvGrpSpPr/>
            <p:nvPr/>
          </p:nvGrpSpPr>
          <p:grpSpPr>
            <a:xfrm>
              <a:off x="2151360" y="2484360"/>
              <a:ext cx="3430440" cy="1472400"/>
              <a:chOff x="2151360" y="2484360"/>
              <a:chExt cx="3430440" cy="1472400"/>
            </a:xfrm>
          </p:grpSpPr>
          <p:sp>
            <p:nvSpPr>
              <p:cNvPr id="1476" name=""/>
              <p:cNvSpPr/>
              <p:nvPr/>
            </p:nvSpPr>
            <p:spPr>
              <a:xfrm flipV="1">
                <a:off x="2151360" y="2751840"/>
                <a:ext cx="0" cy="1204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 flipV="1">
                <a:off x="2151360" y="2484360"/>
                <a:ext cx="1715040" cy="267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flipV="1">
                <a:off x="5581800" y="2751840"/>
                <a:ext cx="0" cy="1204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 flipH="1" flipV="1">
                <a:off x="3866040" y="2484360"/>
                <a:ext cx="1715400" cy="267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80" name=""/>
          <p:cNvGrpSpPr/>
          <p:nvPr/>
        </p:nvGrpSpPr>
        <p:grpSpPr>
          <a:xfrm>
            <a:off x="2151000" y="2160720"/>
            <a:ext cx="3753000" cy="588960"/>
            <a:chOff x="2151000" y="2160720"/>
            <a:chExt cx="3753000" cy="588960"/>
          </a:xfrm>
        </p:grpSpPr>
        <p:sp>
          <p:nvSpPr>
            <p:cNvPr id="1481" name=""/>
            <p:cNvSpPr/>
            <p:nvPr/>
          </p:nvSpPr>
          <p:spPr>
            <a:xfrm flipV="1">
              <a:off x="5586480" y="2421000"/>
              <a:ext cx="317520" cy="317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V="1">
              <a:off x="3868920" y="2160720"/>
              <a:ext cx="321840" cy="3240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V="1">
              <a:off x="4461840" y="2251800"/>
              <a:ext cx="317520" cy="3182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V="1">
              <a:off x="2151360" y="2424960"/>
              <a:ext cx="324720" cy="321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V="1">
              <a:off x="2723400" y="2338200"/>
              <a:ext cx="317520" cy="317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V="1">
              <a:off x="3274560" y="2254680"/>
              <a:ext cx="317520" cy="3182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7" name=""/>
            <p:cNvGrpSpPr/>
            <p:nvPr/>
          </p:nvGrpSpPr>
          <p:grpSpPr>
            <a:xfrm>
              <a:off x="2151000" y="2160720"/>
              <a:ext cx="3749040" cy="588960"/>
              <a:chOff x="2151000" y="2160720"/>
              <a:chExt cx="3749040" cy="588960"/>
            </a:xfrm>
          </p:grpSpPr>
          <p:sp>
            <p:nvSpPr>
              <p:cNvPr id="1488" name=""/>
              <p:cNvSpPr/>
              <p:nvPr/>
            </p:nvSpPr>
            <p:spPr>
              <a:xfrm flipH="1" flipV="1">
                <a:off x="4188600" y="2161080"/>
                <a:ext cx="266400" cy="4118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flipH="1">
                <a:off x="3273480" y="2161080"/>
                <a:ext cx="913320" cy="4132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H="1" flipV="1">
                <a:off x="5353920" y="2337480"/>
                <a:ext cx="225360" cy="4118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flipV="1">
                <a:off x="5024880" y="2422440"/>
                <a:ext cx="875160" cy="239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flipH="1" flipV="1">
                <a:off x="4781880" y="2251800"/>
                <a:ext cx="242640" cy="4114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flipH="1">
                <a:off x="4457880" y="2335320"/>
                <a:ext cx="896760" cy="2404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 flipH="1">
                <a:off x="3871800" y="2247840"/>
                <a:ext cx="910080" cy="2329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 flipH="1" flipV="1">
                <a:off x="3592800" y="2255040"/>
                <a:ext cx="285840" cy="234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 flipH="1" flipV="1">
                <a:off x="3045240" y="2335320"/>
                <a:ext cx="236160" cy="2419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 flipH="1">
                <a:off x="2720160" y="2256480"/>
                <a:ext cx="874080" cy="4057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flipH="1" flipV="1">
                <a:off x="2478240" y="2426040"/>
                <a:ext cx="239400" cy="2343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 flipH="1">
                <a:off x="2151000" y="2336760"/>
                <a:ext cx="894240" cy="4100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V="1">
                <a:off x="2478960" y="2163240"/>
                <a:ext cx="1708560" cy="257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flipV="1">
                <a:off x="2166840" y="2481840"/>
                <a:ext cx="1705680" cy="2635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3870000" y="2480400"/>
                <a:ext cx="1710720" cy="2692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4194720" y="2160720"/>
                <a:ext cx="1698120" cy="2606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4" name=""/>
            <p:cNvSpPr/>
            <p:nvPr/>
          </p:nvSpPr>
          <p:spPr>
            <a:xfrm flipV="1">
              <a:off x="5026320" y="2337120"/>
              <a:ext cx="326160" cy="326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5" name=""/>
          <p:cNvGrpSpPr/>
          <p:nvPr/>
        </p:nvGrpSpPr>
        <p:grpSpPr>
          <a:xfrm>
            <a:off x="525600" y="3780000"/>
            <a:ext cx="3754440" cy="590040"/>
            <a:chOff x="525600" y="3780000"/>
            <a:chExt cx="3754440" cy="590040"/>
          </a:xfrm>
        </p:grpSpPr>
        <p:sp>
          <p:nvSpPr>
            <p:cNvPr id="1506" name=""/>
            <p:cNvSpPr/>
            <p:nvPr/>
          </p:nvSpPr>
          <p:spPr>
            <a:xfrm flipV="1">
              <a:off x="3956760" y="4044600"/>
              <a:ext cx="321840" cy="3211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V="1">
              <a:off x="2839320" y="3871800"/>
              <a:ext cx="320400" cy="320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V="1">
              <a:off x="2243880" y="3784680"/>
              <a:ext cx="316080" cy="315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240640" y="4100760"/>
              <a:ext cx="1716120" cy="269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 flipV="1">
              <a:off x="2565000" y="3782160"/>
              <a:ext cx="267840" cy="41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H="1" flipV="1">
              <a:off x="3731400" y="3960720"/>
              <a:ext cx="228240" cy="407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V="1">
              <a:off x="3408120" y="4045320"/>
              <a:ext cx="866160" cy="2386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 flipV="1">
              <a:off x="3160800" y="3873960"/>
              <a:ext cx="248400" cy="41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>
              <a:off x="2832840" y="3960000"/>
              <a:ext cx="896400" cy="236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H="1">
              <a:off x="2242440" y="3872520"/>
              <a:ext cx="919440" cy="228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569680" y="3780720"/>
              <a:ext cx="1710360" cy="264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V="1">
              <a:off x="3409560" y="3960000"/>
              <a:ext cx="320400" cy="3214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V="1">
              <a:off x="1652760" y="3868920"/>
              <a:ext cx="320400" cy="3229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1101600" y="3952800"/>
              <a:ext cx="322920" cy="32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535320" y="4100760"/>
              <a:ext cx="1704960" cy="2664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V="1">
              <a:off x="851400" y="3780720"/>
              <a:ext cx="1722240" cy="262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>
              <a:off x="1650240" y="3780000"/>
              <a:ext cx="917280" cy="41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H="1" flipV="1">
              <a:off x="1970640" y="3872160"/>
              <a:ext cx="268560" cy="228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 flipV="1">
              <a:off x="1422000" y="3952800"/>
              <a:ext cx="227520" cy="239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H="1">
              <a:off x="1104120" y="3876840"/>
              <a:ext cx="859680" cy="4032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 flipV="1">
              <a:off x="852120" y="4042440"/>
              <a:ext cx="246600" cy="235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>
              <a:off x="529200" y="3955680"/>
              <a:ext cx="889920" cy="41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V="1">
              <a:off x="525600" y="4044240"/>
              <a:ext cx="325800" cy="3254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9" name=""/>
          <p:cNvSpPr/>
          <p:nvPr/>
        </p:nvSpPr>
        <p:spPr>
          <a:xfrm flipV="1">
            <a:off x="3956040" y="2422440"/>
            <a:ext cx="194616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533520" y="2422440"/>
            <a:ext cx="194148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V="1">
            <a:off x="2548080" y="2205000"/>
            <a:ext cx="193500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2841480" y="2249640"/>
            <a:ext cx="1941480" cy="19461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V="1">
            <a:off x="3413160" y="2341440"/>
            <a:ext cx="193212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V="1">
            <a:off x="3681360" y="2386080"/>
            <a:ext cx="1946160" cy="19461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V="1">
            <a:off x="779400" y="2381400"/>
            <a:ext cx="1986120" cy="19540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V="1">
            <a:off x="1103400" y="2338200"/>
            <a:ext cx="1938240" cy="19429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V="1">
            <a:off x="1655640" y="2247840"/>
            <a:ext cx="1943280" cy="19432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V="1">
            <a:off x="1935000" y="2205000"/>
            <a:ext cx="1973520" cy="19512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V="1">
            <a:off x="1371600" y="2298600"/>
            <a:ext cx="194796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flipV="1">
            <a:off x="3124080" y="2290320"/>
            <a:ext cx="1941480" cy="19479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V="1">
            <a:off x="2841480" y="5565240"/>
            <a:ext cx="1119240" cy="18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 flipV="1">
            <a:off x="531720" y="4368600"/>
            <a:ext cx="3430800" cy="46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531720" y="4678200"/>
            <a:ext cx="3429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2838600" y="5276880"/>
            <a:ext cx="11221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V="1">
            <a:off x="531720" y="4998600"/>
            <a:ext cx="1123920" cy="18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2841480" y="4991040"/>
            <a:ext cx="11210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533520" y="5281560"/>
            <a:ext cx="11192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534960" y="5564160"/>
            <a:ext cx="1116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V="1">
            <a:off x="3960720" y="3635280"/>
            <a:ext cx="1943280" cy="19288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3965400" y="2754000"/>
            <a:ext cx="1936800" cy="19256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V="1">
            <a:off x="3963960" y="3076560"/>
            <a:ext cx="1938240" cy="19130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V="1">
            <a:off x="3962520" y="3333600"/>
            <a:ext cx="193968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4" name=""/>
          <p:cNvGrpSpPr/>
          <p:nvPr/>
        </p:nvGrpSpPr>
        <p:grpSpPr>
          <a:xfrm>
            <a:off x="531720" y="4101840"/>
            <a:ext cx="3433320" cy="267840"/>
            <a:chOff x="531720" y="4101840"/>
            <a:chExt cx="3433320" cy="267840"/>
          </a:xfrm>
        </p:grpSpPr>
        <p:sp>
          <p:nvSpPr>
            <p:cNvPr id="1555" name=""/>
            <p:cNvSpPr/>
            <p:nvPr/>
          </p:nvSpPr>
          <p:spPr>
            <a:xfrm flipV="1">
              <a:off x="531720" y="4101840"/>
              <a:ext cx="1713960" cy="2667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2249640" y="4102920"/>
              <a:ext cx="1715400" cy="2667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7" name=""/>
          <p:cNvSpPr/>
          <p:nvPr/>
        </p:nvSpPr>
        <p:spPr>
          <a:xfrm flipV="1">
            <a:off x="530280" y="436392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 flipV="1">
            <a:off x="3960720" y="436392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9" name=""/>
          <p:cNvGrpSpPr/>
          <p:nvPr/>
        </p:nvGrpSpPr>
        <p:grpSpPr>
          <a:xfrm>
            <a:off x="2479680" y="2158560"/>
            <a:ext cx="3428640" cy="265320"/>
            <a:chOff x="2479680" y="2158560"/>
            <a:chExt cx="3428640" cy="265320"/>
          </a:xfrm>
        </p:grpSpPr>
        <p:sp>
          <p:nvSpPr>
            <p:cNvPr id="1560" name=""/>
            <p:cNvSpPr/>
            <p:nvPr/>
          </p:nvSpPr>
          <p:spPr>
            <a:xfrm flipV="1">
              <a:off x="2479680" y="2158560"/>
              <a:ext cx="1713600" cy="2653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 flipV="1">
              <a:off x="4193280" y="2158560"/>
              <a:ext cx="1715040" cy="2653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2" name=""/>
          <p:cNvSpPr/>
          <p:nvPr/>
        </p:nvSpPr>
        <p:spPr>
          <a:xfrm>
            <a:off x="109440" y="425520"/>
            <a:ext cx="878220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RÉPONSE COR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152280" y="915840"/>
            <a:ext cx="87537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e partie de la couverture est supportée par la panne faîtiè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2076480" y="2157480"/>
            <a:ext cx="2262240" cy="1974960"/>
          </a:xfrm>
          <a:custGeom>
            <a:avLst/>
            <a:gdLst/>
            <a:ahLst/>
            <a:rect l="l" t="t" r="r" b="b"/>
            <a:pathLst>
              <a:path w="1425" h="1244">
                <a:moveTo>
                  <a:pt x="111" y="1224"/>
                </a:moveTo>
                <a:lnTo>
                  <a:pt x="0" y="1244"/>
                </a:lnTo>
                <a:lnTo>
                  <a:pt x="1223" y="18"/>
                </a:lnTo>
                <a:lnTo>
                  <a:pt x="1326" y="0"/>
                </a:lnTo>
                <a:lnTo>
                  <a:pt x="1425" y="12"/>
                </a:lnTo>
                <a:lnTo>
                  <a:pt x="221" y="1241"/>
                </a:lnTo>
                <a:lnTo>
                  <a:pt x="111" y="122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1657440" y="4695840"/>
            <a:ext cx="11779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2228760" y="2160720"/>
            <a:ext cx="1944720" cy="1944720"/>
          </a:xfrm>
          <a:custGeom>
            <a:avLst/>
            <a:gdLst/>
            <a:ahLst/>
            <a:rect l="l" t="t" r="r" b="b"/>
            <a:pathLst>
              <a:path w="1225" h="1225">
                <a:moveTo>
                  <a:pt x="0" y="1225"/>
                </a:moveTo>
                <a:lnTo>
                  <a:pt x="8" y="1223"/>
                </a:lnTo>
                <a:lnTo>
                  <a:pt x="1225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7007400" y="189000"/>
            <a:ext cx="804600" cy="817560"/>
            <a:chOff x="7007400" y="189000"/>
            <a:chExt cx="804600" cy="817560"/>
          </a:xfrm>
        </p:grpSpPr>
        <p:grpSp>
          <p:nvGrpSpPr>
            <p:cNvPr id="1592" name=""/>
            <p:cNvGrpSpPr/>
            <p:nvPr/>
          </p:nvGrpSpPr>
          <p:grpSpPr>
            <a:xfrm>
              <a:off x="7386480" y="268200"/>
              <a:ext cx="425520" cy="738360"/>
              <a:chOff x="7386480" y="268200"/>
              <a:chExt cx="425520" cy="738360"/>
            </a:xfrm>
          </p:grpSpPr>
          <p:sp>
            <p:nvSpPr>
              <p:cNvPr id="1593" name=""/>
              <p:cNvSpPr/>
              <p:nvPr/>
            </p:nvSpPr>
            <p:spPr>
              <a:xfrm>
                <a:off x="7543800" y="365040"/>
                <a:ext cx="146160" cy="127080"/>
              </a:xfrm>
              <a:custGeom>
                <a:avLst/>
                <a:gdLst/>
                <a:ahLst/>
                <a:rect l="l" t="t" r="r" b="b"/>
                <a:pathLst>
                  <a:path w="458" h="401">
                    <a:moveTo>
                      <a:pt x="158" y="97"/>
                    </a:moveTo>
                    <a:lnTo>
                      <a:pt x="182" y="43"/>
                    </a:lnTo>
                    <a:lnTo>
                      <a:pt x="246" y="8"/>
                    </a:lnTo>
                    <a:lnTo>
                      <a:pt x="291" y="0"/>
                    </a:lnTo>
                    <a:lnTo>
                      <a:pt x="340" y="0"/>
                    </a:lnTo>
                    <a:lnTo>
                      <a:pt x="421" y="30"/>
                    </a:lnTo>
                    <a:lnTo>
                      <a:pt x="458" y="109"/>
                    </a:lnTo>
                    <a:lnTo>
                      <a:pt x="440" y="214"/>
                    </a:lnTo>
                    <a:lnTo>
                      <a:pt x="382" y="304"/>
                    </a:lnTo>
                    <a:lnTo>
                      <a:pt x="322" y="366"/>
                    </a:lnTo>
                    <a:lnTo>
                      <a:pt x="258" y="393"/>
                    </a:lnTo>
                    <a:lnTo>
                      <a:pt x="209" y="401"/>
                    </a:lnTo>
                    <a:lnTo>
                      <a:pt x="158" y="386"/>
                    </a:lnTo>
                    <a:lnTo>
                      <a:pt x="119" y="343"/>
                    </a:lnTo>
                    <a:lnTo>
                      <a:pt x="100" y="290"/>
                    </a:lnTo>
                    <a:lnTo>
                      <a:pt x="104" y="232"/>
                    </a:lnTo>
                    <a:lnTo>
                      <a:pt x="122" y="162"/>
                    </a:lnTo>
                    <a:lnTo>
                      <a:pt x="130" y="150"/>
                    </a:lnTo>
                    <a:lnTo>
                      <a:pt x="12" y="75"/>
                    </a:lnTo>
                    <a:lnTo>
                      <a:pt x="0" y="57"/>
                    </a:lnTo>
                    <a:lnTo>
                      <a:pt x="0" y="35"/>
                    </a:lnTo>
                    <a:lnTo>
                      <a:pt x="28" y="22"/>
                    </a:lnTo>
                    <a:lnTo>
                      <a:pt x="158" y="97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639200" y="534960"/>
                <a:ext cx="172800" cy="244440"/>
              </a:xfrm>
              <a:custGeom>
                <a:avLst/>
                <a:gdLst/>
                <a:ahLst/>
                <a:rect l="l" t="t" r="r" b="b"/>
                <a:pathLst>
                  <a:path w="545" h="768">
                    <a:moveTo>
                      <a:pt x="67" y="13"/>
                    </a:moveTo>
                    <a:lnTo>
                      <a:pt x="193" y="45"/>
                    </a:lnTo>
                    <a:lnTo>
                      <a:pt x="329" y="124"/>
                    </a:lnTo>
                    <a:lnTo>
                      <a:pt x="407" y="194"/>
                    </a:lnTo>
                    <a:lnTo>
                      <a:pt x="488" y="277"/>
                    </a:lnTo>
                    <a:lnTo>
                      <a:pt x="527" y="336"/>
                    </a:lnTo>
                    <a:lnTo>
                      <a:pt x="545" y="416"/>
                    </a:lnTo>
                    <a:lnTo>
                      <a:pt x="534" y="449"/>
                    </a:lnTo>
                    <a:lnTo>
                      <a:pt x="491" y="490"/>
                    </a:lnTo>
                    <a:lnTo>
                      <a:pt x="389" y="516"/>
                    </a:lnTo>
                    <a:lnTo>
                      <a:pt x="281" y="531"/>
                    </a:lnTo>
                    <a:lnTo>
                      <a:pt x="221" y="536"/>
                    </a:lnTo>
                    <a:lnTo>
                      <a:pt x="238" y="573"/>
                    </a:lnTo>
                    <a:lnTo>
                      <a:pt x="302" y="635"/>
                    </a:lnTo>
                    <a:lnTo>
                      <a:pt x="355" y="673"/>
                    </a:lnTo>
                    <a:lnTo>
                      <a:pt x="416" y="710"/>
                    </a:lnTo>
                    <a:lnTo>
                      <a:pt x="425" y="745"/>
                    </a:lnTo>
                    <a:lnTo>
                      <a:pt x="398" y="768"/>
                    </a:lnTo>
                    <a:lnTo>
                      <a:pt x="352" y="752"/>
                    </a:lnTo>
                    <a:lnTo>
                      <a:pt x="256" y="662"/>
                    </a:lnTo>
                    <a:lnTo>
                      <a:pt x="208" y="613"/>
                    </a:lnTo>
                    <a:lnTo>
                      <a:pt x="175" y="536"/>
                    </a:lnTo>
                    <a:lnTo>
                      <a:pt x="185" y="508"/>
                    </a:lnTo>
                    <a:lnTo>
                      <a:pt x="235" y="499"/>
                    </a:lnTo>
                    <a:lnTo>
                      <a:pt x="325" y="493"/>
                    </a:lnTo>
                    <a:lnTo>
                      <a:pt x="410" y="476"/>
                    </a:lnTo>
                    <a:lnTo>
                      <a:pt x="455" y="453"/>
                    </a:lnTo>
                    <a:lnTo>
                      <a:pt x="488" y="419"/>
                    </a:lnTo>
                    <a:lnTo>
                      <a:pt x="488" y="386"/>
                    </a:lnTo>
                    <a:lnTo>
                      <a:pt x="474" y="329"/>
                    </a:lnTo>
                    <a:lnTo>
                      <a:pt x="437" y="291"/>
                    </a:lnTo>
                    <a:lnTo>
                      <a:pt x="407" y="251"/>
                    </a:lnTo>
                    <a:lnTo>
                      <a:pt x="362" y="222"/>
                    </a:lnTo>
                    <a:lnTo>
                      <a:pt x="302" y="172"/>
                    </a:lnTo>
                    <a:lnTo>
                      <a:pt x="229" y="134"/>
                    </a:lnTo>
                    <a:lnTo>
                      <a:pt x="163" y="117"/>
                    </a:lnTo>
                    <a:lnTo>
                      <a:pt x="82" y="105"/>
                    </a:lnTo>
                    <a:lnTo>
                      <a:pt x="31" y="87"/>
                    </a:lnTo>
                    <a:lnTo>
                      <a:pt x="0" y="57"/>
                    </a:lnTo>
                    <a:lnTo>
                      <a:pt x="0" y="15"/>
                    </a:lnTo>
                    <a:lnTo>
                      <a:pt x="31" y="0"/>
                    </a:lnTo>
                    <a:lnTo>
                      <a:pt x="91" y="13"/>
                    </a:lnTo>
                    <a:lnTo>
                      <a:pt x="100" y="15"/>
                    </a:lnTo>
                    <a:lnTo>
                      <a:pt x="67" y="13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7386480" y="268200"/>
                <a:ext cx="200160" cy="276480"/>
              </a:xfrm>
              <a:custGeom>
                <a:avLst/>
                <a:gdLst/>
                <a:ahLst/>
                <a:rect l="l" t="t" r="r" b="b"/>
                <a:pathLst>
                  <a:path w="632" h="870">
                    <a:moveTo>
                      <a:pt x="578" y="748"/>
                    </a:moveTo>
                    <a:lnTo>
                      <a:pt x="625" y="787"/>
                    </a:lnTo>
                    <a:lnTo>
                      <a:pt x="632" y="826"/>
                    </a:lnTo>
                    <a:lnTo>
                      <a:pt x="614" y="863"/>
                    </a:lnTo>
                    <a:lnTo>
                      <a:pt x="562" y="870"/>
                    </a:lnTo>
                    <a:lnTo>
                      <a:pt x="496" y="795"/>
                    </a:lnTo>
                    <a:lnTo>
                      <a:pt x="469" y="732"/>
                    </a:lnTo>
                    <a:lnTo>
                      <a:pt x="418" y="652"/>
                    </a:lnTo>
                    <a:lnTo>
                      <a:pt x="370" y="562"/>
                    </a:lnTo>
                    <a:lnTo>
                      <a:pt x="325" y="488"/>
                    </a:lnTo>
                    <a:lnTo>
                      <a:pt x="262" y="394"/>
                    </a:lnTo>
                    <a:lnTo>
                      <a:pt x="183" y="307"/>
                    </a:lnTo>
                    <a:lnTo>
                      <a:pt x="120" y="232"/>
                    </a:lnTo>
                    <a:lnTo>
                      <a:pt x="90" y="210"/>
                    </a:lnTo>
                    <a:lnTo>
                      <a:pt x="63" y="210"/>
                    </a:lnTo>
                    <a:lnTo>
                      <a:pt x="21" y="194"/>
                    </a:lnTo>
                    <a:lnTo>
                      <a:pt x="9" y="162"/>
                    </a:lnTo>
                    <a:lnTo>
                      <a:pt x="0" y="104"/>
                    </a:lnTo>
                    <a:lnTo>
                      <a:pt x="9" y="49"/>
                    </a:lnTo>
                    <a:lnTo>
                      <a:pt x="30" y="14"/>
                    </a:lnTo>
                    <a:lnTo>
                      <a:pt x="57" y="0"/>
                    </a:lnTo>
                    <a:lnTo>
                      <a:pt x="93" y="19"/>
                    </a:lnTo>
                    <a:lnTo>
                      <a:pt x="111" y="7"/>
                    </a:lnTo>
                    <a:lnTo>
                      <a:pt x="126" y="35"/>
                    </a:lnTo>
                    <a:lnTo>
                      <a:pt x="139" y="104"/>
                    </a:lnTo>
                    <a:lnTo>
                      <a:pt x="129" y="140"/>
                    </a:lnTo>
                    <a:lnTo>
                      <a:pt x="136" y="194"/>
                    </a:lnTo>
                    <a:lnTo>
                      <a:pt x="166" y="232"/>
                    </a:lnTo>
                    <a:lnTo>
                      <a:pt x="237" y="313"/>
                    </a:lnTo>
                    <a:lnTo>
                      <a:pt x="292" y="368"/>
                    </a:lnTo>
                    <a:lnTo>
                      <a:pt x="346" y="435"/>
                    </a:lnTo>
                    <a:lnTo>
                      <a:pt x="379" y="479"/>
                    </a:lnTo>
                    <a:lnTo>
                      <a:pt x="445" y="552"/>
                    </a:lnTo>
                    <a:lnTo>
                      <a:pt x="496" y="638"/>
                    </a:lnTo>
                    <a:lnTo>
                      <a:pt x="545" y="735"/>
                    </a:lnTo>
                    <a:lnTo>
                      <a:pt x="578" y="748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537320" y="503280"/>
                <a:ext cx="123840" cy="252360"/>
              </a:xfrm>
              <a:custGeom>
                <a:avLst/>
                <a:gdLst/>
                <a:ahLst/>
                <a:rect l="l" t="t" r="r" b="b"/>
                <a:pathLst>
                  <a:path w="389" h="795">
                    <a:moveTo>
                      <a:pt x="13" y="209"/>
                    </a:moveTo>
                    <a:lnTo>
                      <a:pt x="54" y="104"/>
                    </a:lnTo>
                    <a:lnTo>
                      <a:pt x="90" y="55"/>
                    </a:lnTo>
                    <a:lnTo>
                      <a:pt x="154" y="3"/>
                    </a:lnTo>
                    <a:lnTo>
                      <a:pt x="209" y="0"/>
                    </a:lnTo>
                    <a:lnTo>
                      <a:pt x="265" y="15"/>
                    </a:lnTo>
                    <a:lnTo>
                      <a:pt x="316" y="52"/>
                    </a:lnTo>
                    <a:lnTo>
                      <a:pt x="316" y="122"/>
                    </a:lnTo>
                    <a:lnTo>
                      <a:pt x="292" y="182"/>
                    </a:lnTo>
                    <a:lnTo>
                      <a:pt x="292" y="292"/>
                    </a:lnTo>
                    <a:lnTo>
                      <a:pt x="302" y="459"/>
                    </a:lnTo>
                    <a:lnTo>
                      <a:pt x="346" y="561"/>
                    </a:lnTo>
                    <a:lnTo>
                      <a:pt x="389" y="643"/>
                    </a:lnTo>
                    <a:lnTo>
                      <a:pt x="389" y="706"/>
                    </a:lnTo>
                    <a:lnTo>
                      <a:pt x="343" y="765"/>
                    </a:lnTo>
                    <a:lnTo>
                      <a:pt x="307" y="793"/>
                    </a:lnTo>
                    <a:lnTo>
                      <a:pt x="253" y="795"/>
                    </a:lnTo>
                    <a:lnTo>
                      <a:pt x="190" y="795"/>
                    </a:lnTo>
                    <a:lnTo>
                      <a:pt x="121" y="778"/>
                    </a:lnTo>
                    <a:lnTo>
                      <a:pt x="54" y="673"/>
                    </a:lnTo>
                    <a:lnTo>
                      <a:pt x="18" y="549"/>
                    </a:lnTo>
                    <a:lnTo>
                      <a:pt x="0" y="451"/>
                    </a:lnTo>
                    <a:lnTo>
                      <a:pt x="0" y="336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585200" y="717480"/>
                <a:ext cx="104760" cy="265320"/>
              </a:xfrm>
              <a:custGeom>
                <a:avLst/>
                <a:gdLst/>
                <a:ahLst/>
                <a:rect l="l" t="t" r="r" b="b"/>
                <a:pathLst>
                  <a:path w="329" h="834">
                    <a:moveTo>
                      <a:pt x="181" y="15"/>
                    </a:moveTo>
                    <a:lnTo>
                      <a:pt x="139" y="0"/>
                    </a:lnTo>
                    <a:lnTo>
                      <a:pt x="100" y="20"/>
                    </a:lnTo>
                    <a:lnTo>
                      <a:pt x="76" y="90"/>
                    </a:lnTo>
                    <a:lnTo>
                      <a:pt x="100" y="203"/>
                    </a:lnTo>
                    <a:lnTo>
                      <a:pt x="139" y="263"/>
                    </a:lnTo>
                    <a:lnTo>
                      <a:pt x="181" y="368"/>
                    </a:lnTo>
                    <a:lnTo>
                      <a:pt x="202" y="421"/>
                    </a:lnTo>
                    <a:lnTo>
                      <a:pt x="202" y="488"/>
                    </a:lnTo>
                    <a:lnTo>
                      <a:pt x="147" y="556"/>
                    </a:lnTo>
                    <a:lnTo>
                      <a:pt x="73" y="628"/>
                    </a:lnTo>
                    <a:lnTo>
                      <a:pt x="27" y="667"/>
                    </a:lnTo>
                    <a:lnTo>
                      <a:pt x="0" y="697"/>
                    </a:lnTo>
                    <a:lnTo>
                      <a:pt x="0" y="729"/>
                    </a:lnTo>
                    <a:lnTo>
                      <a:pt x="30" y="734"/>
                    </a:lnTo>
                    <a:lnTo>
                      <a:pt x="103" y="749"/>
                    </a:lnTo>
                    <a:lnTo>
                      <a:pt x="209" y="794"/>
                    </a:lnTo>
                    <a:lnTo>
                      <a:pt x="239" y="826"/>
                    </a:lnTo>
                    <a:lnTo>
                      <a:pt x="280" y="834"/>
                    </a:lnTo>
                    <a:lnTo>
                      <a:pt x="329" y="796"/>
                    </a:lnTo>
                    <a:lnTo>
                      <a:pt x="299" y="780"/>
                    </a:lnTo>
                    <a:lnTo>
                      <a:pt x="184" y="744"/>
                    </a:lnTo>
                    <a:lnTo>
                      <a:pt x="109" y="727"/>
                    </a:lnTo>
                    <a:lnTo>
                      <a:pt x="54" y="706"/>
                    </a:lnTo>
                    <a:lnTo>
                      <a:pt x="54" y="699"/>
                    </a:lnTo>
                    <a:lnTo>
                      <a:pt x="64" y="681"/>
                    </a:lnTo>
                    <a:lnTo>
                      <a:pt x="100" y="646"/>
                    </a:lnTo>
                    <a:lnTo>
                      <a:pt x="202" y="571"/>
                    </a:lnTo>
                    <a:lnTo>
                      <a:pt x="262" y="508"/>
                    </a:lnTo>
                    <a:lnTo>
                      <a:pt x="275" y="463"/>
                    </a:lnTo>
                    <a:lnTo>
                      <a:pt x="266" y="398"/>
                    </a:lnTo>
                    <a:lnTo>
                      <a:pt x="239" y="345"/>
                    </a:lnTo>
                    <a:lnTo>
                      <a:pt x="202" y="271"/>
                    </a:lnTo>
                    <a:lnTo>
                      <a:pt x="190" y="193"/>
                    </a:lnTo>
                    <a:lnTo>
                      <a:pt x="190" y="117"/>
                    </a:lnTo>
                    <a:lnTo>
                      <a:pt x="190" y="50"/>
                    </a:lnTo>
                    <a:lnTo>
                      <a:pt x="181" y="15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521480" y="719280"/>
                <a:ext cx="85680" cy="287280"/>
              </a:xfrm>
              <a:custGeom>
                <a:avLst/>
                <a:gdLst/>
                <a:ahLst/>
                <a:rect l="l" t="t" r="r" b="b"/>
                <a:pathLst>
                  <a:path w="268" h="902">
                    <a:moveTo>
                      <a:pt x="136" y="140"/>
                    </a:moveTo>
                    <a:lnTo>
                      <a:pt x="169" y="46"/>
                    </a:lnTo>
                    <a:lnTo>
                      <a:pt x="208" y="0"/>
                    </a:lnTo>
                    <a:lnTo>
                      <a:pt x="235" y="0"/>
                    </a:lnTo>
                    <a:lnTo>
                      <a:pt x="268" y="23"/>
                    </a:lnTo>
                    <a:lnTo>
                      <a:pt x="258" y="103"/>
                    </a:lnTo>
                    <a:lnTo>
                      <a:pt x="232" y="170"/>
                    </a:lnTo>
                    <a:lnTo>
                      <a:pt x="171" y="241"/>
                    </a:lnTo>
                    <a:lnTo>
                      <a:pt x="119" y="354"/>
                    </a:lnTo>
                    <a:lnTo>
                      <a:pt x="89" y="419"/>
                    </a:lnTo>
                    <a:lnTo>
                      <a:pt x="73" y="481"/>
                    </a:lnTo>
                    <a:lnTo>
                      <a:pt x="82" y="547"/>
                    </a:lnTo>
                    <a:lnTo>
                      <a:pt x="106" y="624"/>
                    </a:lnTo>
                    <a:lnTo>
                      <a:pt x="127" y="667"/>
                    </a:lnTo>
                    <a:lnTo>
                      <a:pt x="146" y="727"/>
                    </a:lnTo>
                    <a:lnTo>
                      <a:pt x="142" y="752"/>
                    </a:lnTo>
                    <a:lnTo>
                      <a:pt x="100" y="847"/>
                    </a:lnTo>
                    <a:lnTo>
                      <a:pt x="89" y="900"/>
                    </a:lnTo>
                    <a:lnTo>
                      <a:pt x="52" y="902"/>
                    </a:lnTo>
                    <a:lnTo>
                      <a:pt x="8" y="877"/>
                    </a:lnTo>
                    <a:lnTo>
                      <a:pt x="2" y="854"/>
                    </a:lnTo>
                    <a:lnTo>
                      <a:pt x="20" y="827"/>
                    </a:lnTo>
                    <a:lnTo>
                      <a:pt x="71" y="775"/>
                    </a:lnTo>
                    <a:lnTo>
                      <a:pt x="100" y="744"/>
                    </a:lnTo>
                    <a:lnTo>
                      <a:pt x="106" y="720"/>
                    </a:lnTo>
                    <a:lnTo>
                      <a:pt x="89" y="674"/>
                    </a:lnTo>
                    <a:lnTo>
                      <a:pt x="56" y="617"/>
                    </a:lnTo>
                    <a:lnTo>
                      <a:pt x="25" y="549"/>
                    </a:lnTo>
                    <a:lnTo>
                      <a:pt x="8" y="501"/>
                    </a:lnTo>
                    <a:lnTo>
                      <a:pt x="0" y="444"/>
                    </a:lnTo>
                    <a:lnTo>
                      <a:pt x="25" y="384"/>
                    </a:lnTo>
                    <a:lnTo>
                      <a:pt x="65" y="301"/>
                    </a:lnTo>
                    <a:lnTo>
                      <a:pt x="119" y="209"/>
                    </a:lnTo>
                    <a:lnTo>
                      <a:pt x="136" y="140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9" name=""/>
            <p:cNvGrpSpPr/>
            <p:nvPr/>
          </p:nvGrpSpPr>
          <p:grpSpPr>
            <a:xfrm>
              <a:off x="7007400" y="189000"/>
              <a:ext cx="465120" cy="814320"/>
              <a:chOff x="7007400" y="189000"/>
              <a:chExt cx="465120" cy="814320"/>
            </a:xfrm>
          </p:grpSpPr>
          <p:sp>
            <p:nvSpPr>
              <p:cNvPr id="1600" name=""/>
              <p:cNvSpPr/>
              <p:nvPr/>
            </p:nvSpPr>
            <p:spPr>
              <a:xfrm>
                <a:off x="7230960" y="378000"/>
                <a:ext cx="93600" cy="133200"/>
              </a:xfrm>
              <a:custGeom>
                <a:avLst/>
                <a:gdLst/>
                <a:ahLst/>
                <a:rect l="l" t="t" r="r" b="b"/>
                <a:pathLst>
                  <a:path w="293" h="418">
                    <a:moveTo>
                      <a:pt x="3" y="214"/>
                    </a:moveTo>
                    <a:lnTo>
                      <a:pt x="13" y="168"/>
                    </a:lnTo>
                    <a:lnTo>
                      <a:pt x="40" y="126"/>
                    </a:lnTo>
                    <a:lnTo>
                      <a:pt x="76" y="104"/>
                    </a:lnTo>
                    <a:lnTo>
                      <a:pt x="112" y="87"/>
                    </a:lnTo>
                    <a:lnTo>
                      <a:pt x="121" y="0"/>
                    </a:lnTo>
                    <a:lnTo>
                      <a:pt x="155" y="9"/>
                    </a:lnTo>
                    <a:lnTo>
                      <a:pt x="148" y="91"/>
                    </a:lnTo>
                    <a:lnTo>
                      <a:pt x="185" y="97"/>
                    </a:lnTo>
                    <a:lnTo>
                      <a:pt x="238" y="122"/>
                    </a:lnTo>
                    <a:lnTo>
                      <a:pt x="281" y="181"/>
                    </a:lnTo>
                    <a:lnTo>
                      <a:pt x="293" y="243"/>
                    </a:lnTo>
                    <a:lnTo>
                      <a:pt x="284" y="313"/>
                    </a:lnTo>
                    <a:lnTo>
                      <a:pt x="263" y="374"/>
                    </a:lnTo>
                    <a:lnTo>
                      <a:pt x="211" y="407"/>
                    </a:lnTo>
                    <a:lnTo>
                      <a:pt x="158" y="418"/>
                    </a:lnTo>
                    <a:lnTo>
                      <a:pt x="85" y="418"/>
                    </a:lnTo>
                    <a:lnTo>
                      <a:pt x="40" y="379"/>
                    </a:lnTo>
                    <a:lnTo>
                      <a:pt x="3" y="319"/>
                    </a:lnTo>
                    <a:lnTo>
                      <a:pt x="0" y="274"/>
                    </a:lnTo>
                    <a:lnTo>
                      <a:pt x="0" y="243"/>
                    </a:lnTo>
                    <a:lnTo>
                      <a:pt x="3" y="214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219800" y="517680"/>
                <a:ext cx="117720" cy="242640"/>
              </a:xfrm>
              <a:custGeom>
                <a:avLst/>
                <a:gdLst/>
                <a:ahLst/>
                <a:rect l="l" t="t" r="r" b="b"/>
                <a:pathLst>
                  <a:path w="370" h="765">
                    <a:moveTo>
                      <a:pt x="138" y="13"/>
                    </a:moveTo>
                    <a:lnTo>
                      <a:pt x="180" y="0"/>
                    </a:lnTo>
                    <a:lnTo>
                      <a:pt x="229" y="8"/>
                    </a:lnTo>
                    <a:lnTo>
                      <a:pt x="289" y="50"/>
                    </a:lnTo>
                    <a:lnTo>
                      <a:pt x="337" y="135"/>
                    </a:lnTo>
                    <a:lnTo>
                      <a:pt x="360" y="218"/>
                    </a:lnTo>
                    <a:lnTo>
                      <a:pt x="370" y="315"/>
                    </a:lnTo>
                    <a:lnTo>
                      <a:pt x="360" y="420"/>
                    </a:lnTo>
                    <a:lnTo>
                      <a:pt x="316" y="555"/>
                    </a:lnTo>
                    <a:lnTo>
                      <a:pt x="300" y="563"/>
                    </a:lnTo>
                    <a:lnTo>
                      <a:pt x="234" y="675"/>
                    </a:lnTo>
                    <a:lnTo>
                      <a:pt x="201" y="740"/>
                    </a:lnTo>
                    <a:lnTo>
                      <a:pt x="147" y="763"/>
                    </a:lnTo>
                    <a:lnTo>
                      <a:pt x="66" y="765"/>
                    </a:lnTo>
                    <a:lnTo>
                      <a:pt x="3" y="740"/>
                    </a:lnTo>
                    <a:lnTo>
                      <a:pt x="0" y="690"/>
                    </a:lnTo>
                    <a:lnTo>
                      <a:pt x="27" y="623"/>
                    </a:lnTo>
                    <a:lnTo>
                      <a:pt x="45" y="583"/>
                    </a:lnTo>
                    <a:lnTo>
                      <a:pt x="73" y="538"/>
                    </a:lnTo>
                    <a:lnTo>
                      <a:pt x="90" y="492"/>
                    </a:lnTo>
                    <a:lnTo>
                      <a:pt x="99" y="420"/>
                    </a:lnTo>
                    <a:lnTo>
                      <a:pt x="81" y="338"/>
                    </a:lnTo>
                    <a:lnTo>
                      <a:pt x="63" y="270"/>
                    </a:lnTo>
                    <a:lnTo>
                      <a:pt x="48" y="218"/>
                    </a:lnTo>
                    <a:lnTo>
                      <a:pt x="48" y="133"/>
                    </a:lnTo>
                    <a:lnTo>
                      <a:pt x="57" y="96"/>
                    </a:lnTo>
                    <a:lnTo>
                      <a:pt x="81" y="45"/>
                    </a:lnTo>
                    <a:lnTo>
                      <a:pt x="136" y="13"/>
                    </a:lnTo>
                    <a:lnTo>
                      <a:pt x="136" y="15"/>
                    </a:lnTo>
                    <a:lnTo>
                      <a:pt x="138" y="13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007400" y="289080"/>
                <a:ext cx="236520" cy="290520"/>
              </a:xfrm>
              <a:custGeom>
                <a:avLst/>
                <a:gdLst/>
                <a:ahLst/>
                <a:rect l="l" t="t" r="r" b="b"/>
                <a:pathLst>
                  <a:path w="747" h="915">
                    <a:moveTo>
                      <a:pt x="665" y="774"/>
                    </a:moveTo>
                    <a:lnTo>
                      <a:pt x="719" y="804"/>
                    </a:lnTo>
                    <a:lnTo>
                      <a:pt x="747" y="842"/>
                    </a:lnTo>
                    <a:lnTo>
                      <a:pt x="740" y="885"/>
                    </a:lnTo>
                    <a:lnTo>
                      <a:pt x="710" y="915"/>
                    </a:lnTo>
                    <a:lnTo>
                      <a:pt x="677" y="910"/>
                    </a:lnTo>
                    <a:lnTo>
                      <a:pt x="605" y="857"/>
                    </a:lnTo>
                    <a:lnTo>
                      <a:pt x="493" y="749"/>
                    </a:lnTo>
                    <a:lnTo>
                      <a:pt x="394" y="639"/>
                    </a:lnTo>
                    <a:lnTo>
                      <a:pt x="316" y="535"/>
                    </a:lnTo>
                    <a:lnTo>
                      <a:pt x="253" y="434"/>
                    </a:lnTo>
                    <a:lnTo>
                      <a:pt x="207" y="332"/>
                    </a:lnTo>
                    <a:lnTo>
                      <a:pt x="177" y="234"/>
                    </a:lnTo>
                    <a:lnTo>
                      <a:pt x="168" y="190"/>
                    </a:lnTo>
                    <a:lnTo>
                      <a:pt x="90" y="156"/>
                    </a:lnTo>
                    <a:lnTo>
                      <a:pt x="0" y="144"/>
                    </a:lnTo>
                    <a:lnTo>
                      <a:pt x="5" y="127"/>
                    </a:lnTo>
                    <a:lnTo>
                      <a:pt x="90" y="130"/>
                    </a:lnTo>
                    <a:lnTo>
                      <a:pt x="126" y="130"/>
                    </a:lnTo>
                    <a:lnTo>
                      <a:pt x="90" y="99"/>
                    </a:lnTo>
                    <a:lnTo>
                      <a:pt x="51" y="69"/>
                    </a:lnTo>
                    <a:lnTo>
                      <a:pt x="27" y="59"/>
                    </a:lnTo>
                    <a:lnTo>
                      <a:pt x="45" y="39"/>
                    </a:lnTo>
                    <a:lnTo>
                      <a:pt x="78" y="69"/>
                    </a:lnTo>
                    <a:lnTo>
                      <a:pt x="150" y="92"/>
                    </a:lnTo>
                    <a:lnTo>
                      <a:pt x="150" y="52"/>
                    </a:lnTo>
                    <a:lnTo>
                      <a:pt x="132" y="14"/>
                    </a:lnTo>
                    <a:lnTo>
                      <a:pt x="132" y="0"/>
                    </a:lnTo>
                    <a:lnTo>
                      <a:pt x="150" y="0"/>
                    </a:lnTo>
                    <a:lnTo>
                      <a:pt x="180" y="52"/>
                    </a:lnTo>
                    <a:lnTo>
                      <a:pt x="207" y="92"/>
                    </a:lnTo>
                    <a:lnTo>
                      <a:pt x="234" y="52"/>
                    </a:lnTo>
                    <a:lnTo>
                      <a:pt x="240" y="2"/>
                    </a:lnTo>
                    <a:lnTo>
                      <a:pt x="267" y="2"/>
                    </a:lnTo>
                    <a:lnTo>
                      <a:pt x="259" y="92"/>
                    </a:lnTo>
                    <a:lnTo>
                      <a:pt x="207" y="165"/>
                    </a:lnTo>
                    <a:lnTo>
                      <a:pt x="216" y="257"/>
                    </a:lnTo>
                    <a:lnTo>
                      <a:pt x="261" y="360"/>
                    </a:lnTo>
                    <a:lnTo>
                      <a:pt x="330" y="459"/>
                    </a:lnTo>
                    <a:lnTo>
                      <a:pt x="421" y="577"/>
                    </a:lnTo>
                    <a:lnTo>
                      <a:pt x="505" y="667"/>
                    </a:lnTo>
                    <a:lnTo>
                      <a:pt x="602" y="742"/>
                    </a:lnTo>
                    <a:lnTo>
                      <a:pt x="665" y="774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297560" y="189000"/>
                <a:ext cx="174960" cy="376200"/>
              </a:xfrm>
              <a:custGeom>
                <a:avLst/>
                <a:gdLst/>
                <a:ahLst/>
                <a:rect l="l" t="t" r="r" b="b"/>
                <a:pathLst>
                  <a:path w="552" h="1184">
                    <a:moveTo>
                      <a:pt x="27" y="1096"/>
                    </a:moveTo>
                    <a:lnTo>
                      <a:pt x="82" y="1026"/>
                    </a:lnTo>
                    <a:lnTo>
                      <a:pt x="169" y="914"/>
                    </a:lnTo>
                    <a:lnTo>
                      <a:pt x="209" y="808"/>
                    </a:lnTo>
                    <a:lnTo>
                      <a:pt x="259" y="635"/>
                    </a:lnTo>
                    <a:lnTo>
                      <a:pt x="305" y="486"/>
                    </a:lnTo>
                    <a:lnTo>
                      <a:pt x="324" y="358"/>
                    </a:lnTo>
                    <a:lnTo>
                      <a:pt x="354" y="210"/>
                    </a:lnTo>
                    <a:lnTo>
                      <a:pt x="344" y="150"/>
                    </a:lnTo>
                    <a:lnTo>
                      <a:pt x="290" y="103"/>
                    </a:lnTo>
                    <a:lnTo>
                      <a:pt x="259" y="52"/>
                    </a:lnTo>
                    <a:lnTo>
                      <a:pt x="281" y="30"/>
                    </a:lnTo>
                    <a:lnTo>
                      <a:pt x="305" y="73"/>
                    </a:lnTo>
                    <a:lnTo>
                      <a:pt x="344" y="95"/>
                    </a:lnTo>
                    <a:lnTo>
                      <a:pt x="344" y="60"/>
                    </a:lnTo>
                    <a:lnTo>
                      <a:pt x="344" y="0"/>
                    </a:lnTo>
                    <a:lnTo>
                      <a:pt x="362" y="0"/>
                    </a:lnTo>
                    <a:lnTo>
                      <a:pt x="377" y="60"/>
                    </a:lnTo>
                    <a:lnTo>
                      <a:pt x="390" y="90"/>
                    </a:lnTo>
                    <a:lnTo>
                      <a:pt x="434" y="45"/>
                    </a:lnTo>
                    <a:lnTo>
                      <a:pt x="453" y="0"/>
                    </a:lnTo>
                    <a:lnTo>
                      <a:pt x="480" y="20"/>
                    </a:lnTo>
                    <a:lnTo>
                      <a:pt x="453" y="67"/>
                    </a:lnTo>
                    <a:lnTo>
                      <a:pt x="426" y="112"/>
                    </a:lnTo>
                    <a:lnTo>
                      <a:pt x="504" y="97"/>
                    </a:lnTo>
                    <a:lnTo>
                      <a:pt x="543" y="75"/>
                    </a:lnTo>
                    <a:lnTo>
                      <a:pt x="552" y="90"/>
                    </a:lnTo>
                    <a:lnTo>
                      <a:pt x="513" y="117"/>
                    </a:lnTo>
                    <a:lnTo>
                      <a:pt x="467" y="133"/>
                    </a:lnTo>
                    <a:lnTo>
                      <a:pt x="423" y="165"/>
                    </a:lnTo>
                    <a:lnTo>
                      <a:pt x="396" y="223"/>
                    </a:lnTo>
                    <a:lnTo>
                      <a:pt x="368" y="322"/>
                    </a:lnTo>
                    <a:lnTo>
                      <a:pt x="341" y="481"/>
                    </a:lnTo>
                    <a:lnTo>
                      <a:pt x="314" y="608"/>
                    </a:lnTo>
                    <a:lnTo>
                      <a:pt x="281" y="728"/>
                    </a:lnTo>
                    <a:lnTo>
                      <a:pt x="242" y="861"/>
                    </a:lnTo>
                    <a:lnTo>
                      <a:pt x="196" y="981"/>
                    </a:lnTo>
                    <a:lnTo>
                      <a:pt x="133" y="1082"/>
                    </a:lnTo>
                    <a:lnTo>
                      <a:pt x="70" y="1154"/>
                    </a:lnTo>
                    <a:lnTo>
                      <a:pt x="24" y="1184"/>
                    </a:lnTo>
                    <a:lnTo>
                      <a:pt x="7" y="1169"/>
                    </a:lnTo>
                    <a:lnTo>
                      <a:pt x="0" y="1139"/>
                    </a:lnTo>
                    <a:lnTo>
                      <a:pt x="27" y="1096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112160" y="728640"/>
                <a:ext cx="139680" cy="274680"/>
              </a:xfrm>
              <a:custGeom>
                <a:avLst/>
                <a:gdLst/>
                <a:ahLst/>
                <a:rect l="l" t="t" r="r" b="b"/>
                <a:pathLst>
                  <a:path w="440" h="867">
                    <a:moveTo>
                      <a:pt x="277" y="126"/>
                    </a:moveTo>
                    <a:lnTo>
                      <a:pt x="316" y="73"/>
                    </a:lnTo>
                    <a:lnTo>
                      <a:pt x="376" y="0"/>
                    </a:lnTo>
                    <a:lnTo>
                      <a:pt x="434" y="8"/>
                    </a:lnTo>
                    <a:lnTo>
                      <a:pt x="440" y="66"/>
                    </a:lnTo>
                    <a:lnTo>
                      <a:pt x="422" y="98"/>
                    </a:lnTo>
                    <a:lnTo>
                      <a:pt x="385" y="135"/>
                    </a:lnTo>
                    <a:lnTo>
                      <a:pt x="313" y="188"/>
                    </a:lnTo>
                    <a:lnTo>
                      <a:pt x="259" y="240"/>
                    </a:lnTo>
                    <a:lnTo>
                      <a:pt x="232" y="285"/>
                    </a:lnTo>
                    <a:lnTo>
                      <a:pt x="204" y="342"/>
                    </a:lnTo>
                    <a:lnTo>
                      <a:pt x="214" y="418"/>
                    </a:lnTo>
                    <a:lnTo>
                      <a:pt x="262" y="465"/>
                    </a:lnTo>
                    <a:lnTo>
                      <a:pt x="299" y="537"/>
                    </a:lnTo>
                    <a:lnTo>
                      <a:pt x="313" y="615"/>
                    </a:lnTo>
                    <a:lnTo>
                      <a:pt x="322" y="709"/>
                    </a:lnTo>
                    <a:lnTo>
                      <a:pt x="307" y="799"/>
                    </a:lnTo>
                    <a:lnTo>
                      <a:pt x="262" y="822"/>
                    </a:lnTo>
                    <a:lnTo>
                      <a:pt x="214" y="815"/>
                    </a:lnTo>
                    <a:lnTo>
                      <a:pt x="141" y="829"/>
                    </a:lnTo>
                    <a:lnTo>
                      <a:pt x="69" y="867"/>
                    </a:lnTo>
                    <a:lnTo>
                      <a:pt x="33" y="859"/>
                    </a:lnTo>
                    <a:lnTo>
                      <a:pt x="0" y="829"/>
                    </a:lnTo>
                    <a:lnTo>
                      <a:pt x="15" y="815"/>
                    </a:lnTo>
                    <a:lnTo>
                      <a:pt x="54" y="802"/>
                    </a:lnTo>
                    <a:lnTo>
                      <a:pt x="144" y="785"/>
                    </a:lnTo>
                    <a:lnTo>
                      <a:pt x="226" y="785"/>
                    </a:lnTo>
                    <a:lnTo>
                      <a:pt x="253" y="785"/>
                    </a:lnTo>
                    <a:lnTo>
                      <a:pt x="271" y="762"/>
                    </a:lnTo>
                    <a:lnTo>
                      <a:pt x="280" y="717"/>
                    </a:lnTo>
                    <a:lnTo>
                      <a:pt x="268" y="627"/>
                    </a:lnTo>
                    <a:lnTo>
                      <a:pt x="241" y="540"/>
                    </a:lnTo>
                    <a:lnTo>
                      <a:pt x="199" y="493"/>
                    </a:lnTo>
                    <a:lnTo>
                      <a:pt x="160" y="447"/>
                    </a:lnTo>
                    <a:lnTo>
                      <a:pt x="135" y="383"/>
                    </a:lnTo>
                    <a:lnTo>
                      <a:pt x="141" y="315"/>
                    </a:lnTo>
                    <a:lnTo>
                      <a:pt x="171" y="248"/>
                    </a:lnTo>
                    <a:lnTo>
                      <a:pt x="223" y="188"/>
                    </a:lnTo>
                    <a:lnTo>
                      <a:pt x="277" y="126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246800" y="735120"/>
                <a:ext cx="119160" cy="268200"/>
              </a:xfrm>
              <a:custGeom>
                <a:avLst/>
                <a:gdLst/>
                <a:ahLst/>
                <a:rect l="l" t="t" r="r" b="b"/>
                <a:pathLst>
                  <a:path w="377" h="846">
                    <a:moveTo>
                      <a:pt x="154" y="135"/>
                    </a:moveTo>
                    <a:lnTo>
                      <a:pt x="69" y="103"/>
                    </a:lnTo>
                    <a:lnTo>
                      <a:pt x="19" y="75"/>
                    </a:lnTo>
                    <a:lnTo>
                      <a:pt x="0" y="35"/>
                    </a:lnTo>
                    <a:lnTo>
                      <a:pt x="28" y="7"/>
                    </a:lnTo>
                    <a:lnTo>
                      <a:pt x="88" y="0"/>
                    </a:lnTo>
                    <a:lnTo>
                      <a:pt x="133" y="12"/>
                    </a:lnTo>
                    <a:lnTo>
                      <a:pt x="224" y="87"/>
                    </a:lnTo>
                    <a:lnTo>
                      <a:pt x="305" y="147"/>
                    </a:lnTo>
                    <a:lnTo>
                      <a:pt x="350" y="216"/>
                    </a:lnTo>
                    <a:lnTo>
                      <a:pt x="362" y="267"/>
                    </a:lnTo>
                    <a:lnTo>
                      <a:pt x="377" y="331"/>
                    </a:lnTo>
                    <a:lnTo>
                      <a:pt x="369" y="403"/>
                    </a:lnTo>
                    <a:lnTo>
                      <a:pt x="305" y="488"/>
                    </a:lnTo>
                    <a:lnTo>
                      <a:pt x="251" y="548"/>
                    </a:lnTo>
                    <a:lnTo>
                      <a:pt x="200" y="621"/>
                    </a:lnTo>
                    <a:lnTo>
                      <a:pt x="160" y="658"/>
                    </a:lnTo>
                    <a:lnTo>
                      <a:pt x="127" y="695"/>
                    </a:lnTo>
                    <a:lnTo>
                      <a:pt x="127" y="718"/>
                    </a:lnTo>
                    <a:lnTo>
                      <a:pt x="160" y="725"/>
                    </a:lnTo>
                    <a:lnTo>
                      <a:pt x="227" y="736"/>
                    </a:lnTo>
                    <a:lnTo>
                      <a:pt x="296" y="759"/>
                    </a:lnTo>
                    <a:lnTo>
                      <a:pt x="353" y="801"/>
                    </a:lnTo>
                    <a:lnTo>
                      <a:pt x="342" y="826"/>
                    </a:lnTo>
                    <a:lnTo>
                      <a:pt x="290" y="846"/>
                    </a:lnTo>
                    <a:lnTo>
                      <a:pt x="251" y="826"/>
                    </a:lnTo>
                    <a:lnTo>
                      <a:pt x="208" y="788"/>
                    </a:lnTo>
                    <a:lnTo>
                      <a:pt x="160" y="766"/>
                    </a:lnTo>
                    <a:lnTo>
                      <a:pt x="118" y="755"/>
                    </a:lnTo>
                    <a:lnTo>
                      <a:pt x="82" y="750"/>
                    </a:lnTo>
                    <a:lnTo>
                      <a:pt x="52" y="743"/>
                    </a:lnTo>
                    <a:lnTo>
                      <a:pt x="42" y="733"/>
                    </a:lnTo>
                    <a:lnTo>
                      <a:pt x="45" y="711"/>
                    </a:lnTo>
                    <a:lnTo>
                      <a:pt x="100" y="665"/>
                    </a:lnTo>
                    <a:lnTo>
                      <a:pt x="190" y="583"/>
                    </a:lnTo>
                    <a:lnTo>
                      <a:pt x="269" y="473"/>
                    </a:lnTo>
                    <a:lnTo>
                      <a:pt x="299" y="418"/>
                    </a:lnTo>
                    <a:lnTo>
                      <a:pt x="317" y="358"/>
                    </a:lnTo>
                    <a:lnTo>
                      <a:pt x="314" y="283"/>
                    </a:lnTo>
                    <a:lnTo>
                      <a:pt x="281" y="223"/>
                    </a:lnTo>
                    <a:lnTo>
                      <a:pt x="233" y="173"/>
                    </a:lnTo>
                    <a:lnTo>
                      <a:pt x="154" y="135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6" name=""/>
            <p:cNvGrpSpPr/>
            <p:nvPr/>
          </p:nvGrpSpPr>
          <p:grpSpPr>
            <a:xfrm>
              <a:off x="7478640" y="419040"/>
              <a:ext cx="273240" cy="355680"/>
              <a:chOff x="7478640" y="419040"/>
              <a:chExt cx="273240" cy="355680"/>
            </a:xfrm>
          </p:grpSpPr>
          <p:sp>
            <p:nvSpPr>
              <p:cNvPr id="1607" name=""/>
              <p:cNvSpPr/>
              <p:nvPr/>
            </p:nvSpPr>
            <p:spPr>
              <a:xfrm>
                <a:off x="7478640" y="419040"/>
                <a:ext cx="273240" cy="355680"/>
              </a:xfrm>
              <a:custGeom>
                <a:avLst/>
                <a:gdLst/>
                <a:ahLst/>
                <a:rect l="l" t="t" r="r" b="b"/>
                <a:pathLst>
                  <a:path w="862" h="1119">
                    <a:moveTo>
                      <a:pt x="126" y="0"/>
                    </a:moveTo>
                    <a:lnTo>
                      <a:pt x="74" y="85"/>
                    </a:lnTo>
                    <a:lnTo>
                      <a:pt x="44" y="158"/>
                    </a:lnTo>
                    <a:lnTo>
                      <a:pt x="17" y="236"/>
                    </a:lnTo>
                    <a:lnTo>
                      <a:pt x="0" y="296"/>
                    </a:lnTo>
                    <a:lnTo>
                      <a:pt x="21" y="383"/>
                    </a:lnTo>
                    <a:lnTo>
                      <a:pt x="84" y="436"/>
                    </a:lnTo>
                    <a:lnTo>
                      <a:pt x="136" y="487"/>
                    </a:lnTo>
                    <a:lnTo>
                      <a:pt x="117" y="625"/>
                    </a:lnTo>
                    <a:lnTo>
                      <a:pt x="90" y="813"/>
                    </a:lnTo>
                    <a:lnTo>
                      <a:pt x="111" y="1013"/>
                    </a:lnTo>
                    <a:lnTo>
                      <a:pt x="138" y="1103"/>
                    </a:lnTo>
                    <a:lnTo>
                      <a:pt x="256" y="1073"/>
                    </a:lnTo>
                    <a:lnTo>
                      <a:pt x="337" y="1068"/>
                    </a:lnTo>
                    <a:lnTo>
                      <a:pt x="461" y="1073"/>
                    </a:lnTo>
                    <a:lnTo>
                      <a:pt x="569" y="1106"/>
                    </a:lnTo>
                    <a:lnTo>
                      <a:pt x="633" y="1119"/>
                    </a:lnTo>
                    <a:lnTo>
                      <a:pt x="633" y="1043"/>
                    </a:lnTo>
                    <a:lnTo>
                      <a:pt x="618" y="901"/>
                    </a:lnTo>
                    <a:lnTo>
                      <a:pt x="590" y="761"/>
                    </a:lnTo>
                    <a:lnTo>
                      <a:pt x="569" y="623"/>
                    </a:lnTo>
                    <a:lnTo>
                      <a:pt x="560" y="572"/>
                    </a:lnTo>
                    <a:lnTo>
                      <a:pt x="596" y="551"/>
                    </a:lnTo>
                    <a:lnTo>
                      <a:pt x="696" y="578"/>
                    </a:lnTo>
                    <a:lnTo>
                      <a:pt x="787" y="602"/>
                    </a:lnTo>
                    <a:lnTo>
                      <a:pt x="831" y="641"/>
                    </a:lnTo>
                    <a:lnTo>
                      <a:pt x="835" y="565"/>
                    </a:lnTo>
                    <a:lnTo>
                      <a:pt x="862" y="473"/>
                    </a:lnTo>
                    <a:lnTo>
                      <a:pt x="751" y="408"/>
                    </a:lnTo>
                    <a:lnTo>
                      <a:pt x="660" y="360"/>
                    </a:lnTo>
                    <a:lnTo>
                      <a:pt x="579" y="333"/>
                    </a:lnTo>
                    <a:lnTo>
                      <a:pt x="516" y="315"/>
                    </a:lnTo>
                    <a:lnTo>
                      <a:pt x="454" y="315"/>
                    </a:lnTo>
                    <a:lnTo>
                      <a:pt x="410" y="323"/>
                    </a:lnTo>
                    <a:lnTo>
                      <a:pt x="352" y="315"/>
                    </a:lnTo>
                    <a:lnTo>
                      <a:pt x="301" y="278"/>
                    </a:lnTo>
                    <a:lnTo>
                      <a:pt x="256" y="218"/>
                    </a:lnTo>
                    <a:lnTo>
                      <a:pt x="216" y="165"/>
                    </a:lnTo>
                    <a:lnTo>
                      <a:pt x="174" y="7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ff3399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8" name=""/>
              <p:cNvGrpSpPr/>
              <p:nvPr/>
            </p:nvGrpSpPr>
            <p:grpSpPr>
              <a:xfrm>
                <a:off x="7494480" y="441360"/>
                <a:ext cx="243000" cy="322200"/>
                <a:chOff x="7494480" y="441360"/>
                <a:chExt cx="243000" cy="322200"/>
              </a:xfrm>
            </p:grpSpPr>
            <p:sp>
              <p:nvSpPr>
                <p:cNvPr id="1609" name=""/>
                <p:cNvSpPr/>
                <p:nvPr/>
              </p:nvSpPr>
              <p:spPr>
                <a:xfrm>
                  <a:off x="7494480" y="441360"/>
                  <a:ext cx="44640" cy="108000"/>
                </a:xfrm>
                <a:custGeom>
                  <a:avLst/>
                  <a:gdLst/>
                  <a:ahLst/>
                  <a:rect l="l" t="t" r="r" b="b"/>
                  <a:pathLst>
                    <a:path w="143" h="339">
                      <a:moveTo>
                        <a:pt x="0" y="300"/>
                      </a:moveTo>
                      <a:lnTo>
                        <a:pt x="9" y="226"/>
                      </a:lnTo>
                      <a:lnTo>
                        <a:pt x="41" y="145"/>
                      </a:lnTo>
                      <a:lnTo>
                        <a:pt x="68" y="77"/>
                      </a:lnTo>
                      <a:lnTo>
                        <a:pt x="89" y="25"/>
                      </a:lnTo>
                      <a:lnTo>
                        <a:pt x="116" y="0"/>
                      </a:lnTo>
                      <a:lnTo>
                        <a:pt x="143" y="14"/>
                      </a:lnTo>
                      <a:lnTo>
                        <a:pt x="104" y="92"/>
                      </a:lnTo>
                      <a:lnTo>
                        <a:pt x="60" y="196"/>
                      </a:lnTo>
                      <a:lnTo>
                        <a:pt x="33" y="288"/>
                      </a:lnTo>
                      <a:lnTo>
                        <a:pt x="33" y="339"/>
                      </a:lnTo>
                      <a:lnTo>
                        <a:pt x="0" y="339"/>
                      </a:lnTo>
                      <a:lnTo>
                        <a:pt x="0" y="278"/>
                      </a:lnTo>
                      <a:lnTo>
                        <a:pt x="0" y="30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7515360" y="479520"/>
                  <a:ext cx="41040" cy="90360"/>
                </a:xfrm>
                <a:custGeom>
                  <a:avLst/>
                  <a:gdLst/>
                  <a:ahLst/>
                  <a:rect l="l" t="t" r="r" b="b"/>
                  <a:pathLst>
                    <a:path w="132" h="286">
                      <a:moveTo>
                        <a:pt x="0" y="254"/>
                      </a:moveTo>
                      <a:lnTo>
                        <a:pt x="8" y="191"/>
                      </a:lnTo>
                      <a:lnTo>
                        <a:pt x="38" y="123"/>
                      </a:lnTo>
                      <a:lnTo>
                        <a:pt x="63" y="65"/>
                      </a:lnTo>
                      <a:lnTo>
                        <a:pt x="83" y="21"/>
                      </a:lnTo>
                      <a:lnTo>
                        <a:pt x="108" y="0"/>
                      </a:lnTo>
                      <a:lnTo>
                        <a:pt x="132" y="12"/>
                      </a:lnTo>
                      <a:lnTo>
                        <a:pt x="96" y="79"/>
                      </a:lnTo>
                      <a:lnTo>
                        <a:pt x="55" y="165"/>
                      </a:lnTo>
                      <a:lnTo>
                        <a:pt x="30" y="243"/>
                      </a:lnTo>
                      <a:lnTo>
                        <a:pt x="30" y="286"/>
                      </a:lnTo>
                      <a:lnTo>
                        <a:pt x="0" y="286"/>
                      </a:lnTo>
                      <a:lnTo>
                        <a:pt x="0" y="235"/>
                      </a:lnTo>
                      <a:lnTo>
                        <a:pt x="0" y="254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7532640" y="500040"/>
                  <a:ext cx="44640" cy="262080"/>
                </a:xfrm>
                <a:custGeom>
                  <a:avLst/>
                  <a:gdLst/>
                  <a:ahLst/>
                  <a:rect l="l" t="t" r="r" b="b"/>
                  <a:pathLst>
                    <a:path w="139" h="821">
                      <a:moveTo>
                        <a:pt x="27" y="798"/>
                      </a:moveTo>
                      <a:lnTo>
                        <a:pt x="12" y="706"/>
                      </a:lnTo>
                      <a:lnTo>
                        <a:pt x="0" y="581"/>
                      </a:lnTo>
                      <a:lnTo>
                        <a:pt x="3" y="427"/>
                      </a:lnTo>
                      <a:lnTo>
                        <a:pt x="12" y="279"/>
                      </a:lnTo>
                      <a:lnTo>
                        <a:pt x="36" y="164"/>
                      </a:lnTo>
                      <a:lnTo>
                        <a:pt x="66" y="73"/>
                      </a:lnTo>
                      <a:lnTo>
                        <a:pt x="102" y="0"/>
                      </a:lnTo>
                      <a:lnTo>
                        <a:pt x="139" y="46"/>
                      </a:lnTo>
                      <a:lnTo>
                        <a:pt x="102" y="118"/>
                      </a:lnTo>
                      <a:lnTo>
                        <a:pt x="85" y="182"/>
                      </a:lnTo>
                      <a:lnTo>
                        <a:pt x="63" y="295"/>
                      </a:lnTo>
                      <a:lnTo>
                        <a:pt x="48" y="457"/>
                      </a:lnTo>
                      <a:lnTo>
                        <a:pt x="48" y="586"/>
                      </a:lnTo>
                      <a:lnTo>
                        <a:pt x="57" y="685"/>
                      </a:lnTo>
                      <a:lnTo>
                        <a:pt x="72" y="751"/>
                      </a:lnTo>
                      <a:lnTo>
                        <a:pt x="85" y="803"/>
                      </a:lnTo>
                      <a:lnTo>
                        <a:pt x="30" y="821"/>
                      </a:lnTo>
                      <a:lnTo>
                        <a:pt x="27" y="798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7572240" y="523800"/>
                  <a:ext cx="33480" cy="231840"/>
                </a:xfrm>
                <a:custGeom>
                  <a:avLst/>
                  <a:gdLst/>
                  <a:ahLst/>
                  <a:rect l="l" t="t" r="r" b="b"/>
                  <a:pathLst>
                    <a:path w="105" h="729">
                      <a:moveTo>
                        <a:pt x="30" y="722"/>
                      </a:moveTo>
                      <a:lnTo>
                        <a:pt x="8" y="602"/>
                      </a:lnTo>
                      <a:lnTo>
                        <a:pt x="0" y="472"/>
                      </a:lnTo>
                      <a:lnTo>
                        <a:pt x="0" y="347"/>
                      </a:lnTo>
                      <a:lnTo>
                        <a:pt x="8" y="239"/>
                      </a:lnTo>
                      <a:lnTo>
                        <a:pt x="18" y="127"/>
                      </a:lnTo>
                      <a:lnTo>
                        <a:pt x="49" y="40"/>
                      </a:lnTo>
                      <a:lnTo>
                        <a:pt x="67" y="0"/>
                      </a:lnTo>
                      <a:lnTo>
                        <a:pt x="105" y="0"/>
                      </a:lnTo>
                      <a:lnTo>
                        <a:pt x="77" y="120"/>
                      </a:lnTo>
                      <a:lnTo>
                        <a:pt x="67" y="220"/>
                      </a:lnTo>
                      <a:lnTo>
                        <a:pt x="64" y="345"/>
                      </a:lnTo>
                      <a:lnTo>
                        <a:pt x="64" y="472"/>
                      </a:lnTo>
                      <a:lnTo>
                        <a:pt x="67" y="617"/>
                      </a:lnTo>
                      <a:lnTo>
                        <a:pt x="77" y="699"/>
                      </a:lnTo>
                      <a:lnTo>
                        <a:pt x="86" y="729"/>
                      </a:lnTo>
                      <a:lnTo>
                        <a:pt x="30" y="722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7612200" y="520560"/>
                  <a:ext cx="33120" cy="243000"/>
                </a:xfrm>
                <a:custGeom>
                  <a:avLst/>
                  <a:gdLst/>
                  <a:ahLst/>
                  <a:rect l="l" t="t" r="r" b="b"/>
                  <a:pathLst>
                    <a:path w="105" h="769">
                      <a:moveTo>
                        <a:pt x="37" y="734"/>
                      </a:moveTo>
                      <a:lnTo>
                        <a:pt x="12" y="599"/>
                      </a:lnTo>
                      <a:lnTo>
                        <a:pt x="2" y="470"/>
                      </a:lnTo>
                      <a:lnTo>
                        <a:pt x="0" y="337"/>
                      </a:lnTo>
                      <a:lnTo>
                        <a:pt x="0" y="186"/>
                      </a:lnTo>
                      <a:lnTo>
                        <a:pt x="18" y="80"/>
                      </a:lnTo>
                      <a:lnTo>
                        <a:pt x="27" y="6"/>
                      </a:lnTo>
                      <a:lnTo>
                        <a:pt x="74" y="0"/>
                      </a:lnTo>
                      <a:lnTo>
                        <a:pt x="65" y="73"/>
                      </a:lnTo>
                      <a:lnTo>
                        <a:pt x="46" y="195"/>
                      </a:lnTo>
                      <a:lnTo>
                        <a:pt x="49" y="312"/>
                      </a:lnTo>
                      <a:lnTo>
                        <a:pt x="65" y="470"/>
                      </a:lnTo>
                      <a:lnTo>
                        <a:pt x="77" y="605"/>
                      </a:lnTo>
                      <a:lnTo>
                        <a:pt x="93" y="679"/>
                      </a:lnTo>
                      <a:lnTo>
                        <a:pt x="105" y="769"/>
                      </a:lnTo>
                      <a:lnTo>
                        <a:pt x="37" y="734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7645320" y="527040"/>
                  <a:ext cx="22320" cy="77760"/>
                </a:xfrm>
                <a:custGeom>
                  <a:avLst/>
                  <a:gdLst/>
                  <a:ahLst/>
                  <a:rect l="l" t="t" r="r" b="b"/>
                  <a:pathLst>
                    <a:path w="70" h="245">
                      <a:moveTo>
                        <a:pt x="19" y="0"/>
                      </a:moveTo>
                      <a:lnTo>
                        <a:pt x="0" y="71"/>
                      </a:lnTo>
                      <a:lnTo>
                        <a:pt x="0" y="139"/>
                      </a:lnTo>
                      <a:lnTo>
                        <a:pt x="9" y="220"/>
                      </a:lnTo>
                      <a:lnTo>
                        <a:pt x="19" y="245"/>
                      </a:lnTo>
                      <a:lnTo>
                        <a:pt x="65" y="197"/>
                      </a:lnTo>
                      <a:lnTo>
                        <a:pt x="47" y="121"/>
                      </a:lnTo>
                      <a:lnTo>
                        <a:pt x="53" y="46"/>
                      </a:lnTo>
                      <a:lnTo>
                        <a:pt x="70" y="11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7682040" y="538200"/>
                  <a:ext cx="23760" cy="60120"/>
                </a:xfrm>
                <a:custGeom>
                  <a:avLst/>
                  <a:gdLst/>
                  <a:ahLst/>
                  <a:rect l="l" t="t" r="r" b="b"/>
                  <a:pathLst>
                    <a:path w="72" h="189">
                      <a:moveTo>
                        <a:pt x="19" y="0"/>
                      </a:moveTo>
                      <a:lnTo>
                        <a:pt x="0" y="64"/>
                      </a:lnTo>
                      <a:lnTo>
                        <a:pt x="0" y="129"/>
                      </a:lnTo>
                      <a:lnTo>
                        <a:pt x="19" y="177"/>
                      </a:lnTo>
                      <a:lnTo>
                        <a:pt x="72" y="189"/>
                      </a:lnTo>
                      <a:lnTo>
                        <a:pt x="52" y="145"/>
                      </a:lnTo>
                      <a:lnTo>
                        <a:pt x="55" y="76"/>
                      </a:lnTo>
                      <a:lnTo>
                        <a:pt x="72" y="25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7719840" y="558720"/>
                  <a:ext cx="17640" cy="52560"/>
                </a:xfrm>
                <a:custGeom>
                  <a:avLst/>
                  <a:gdLst/>
                  <a:ahLst/>
                  <a:rect l="l" t="t" r="r" b="b"/>
                  <a:pathLst>
                    <a:path w="56" h="164">
                      <a:moveTo>
                        <a:pt x="12" y="0"/>
                      </a:moveTo>
                      <a:lnTo>
                        <a:pt x="0" y="35"/>
                      </a:lnTo>
                      <a:lnTo>
                        <a:pt x="0" y="98"/>
                      </a:lnTo>
                      <a:lnTo>
                        <a:pt x="8" y="149"/>
                      </a:lnTo>
                      <a:lnTo>
                        <a:pt x="56" y="164"/>
                      </a:lnTo>
                      <a:lnTo>
                        <a:pt x="36" y="114"/>
                      </a:lnTo>
                      <a:lnTo>
                        <a:pt x="36" y="60"/>
                      </a:lnTo>
                      <a:lnTo>
                        <a:pt x="48" y="12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"/>
          <p:cNvSpPr/>
          <p:nvPr/>
        </p:nvSpPr>
        <p:spPr>
          <a:xfrm>
            <a:off x="1149480" y="2637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Équilibre du por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95468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4983120" y="27874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590400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>
            <a:hlinkClick r:id="" action="ppaction://hlinkshowjump?jump=nextslide"/>
          </p:cNvPr>
          <p:cNvSpPr/>
          <p:nvPr/>
        </p:nvSpPr>
        <p:spPr>
          <a:xfrm>
            <a:off x="5932440" y="27874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694400" y="3166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163440" y="75708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s sont, en général, les catégories d’actions reprises par la panne faîtiè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"/>
          <p:cNvSpPr/>
          <p:nvPr/>
        </p:nvSpPr>
        <p:spPr>
          <a:xfrm>
            <a:off x="1149480" y="3240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495468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983120" y="278748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95468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>
            <a:hlinkClick r:id="" action="ppaction://hlinkshowjump?jump=nextslide"/>
          </p:cNvPr>
          <p:cNvSpPr/>
          <p:nvPr/>
        </p:nvSpPr>
        <p:spPr>
          <a:xfrm>
            <a:off x="4983120" y="340848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904000" y="27226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5932440" y="27874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904000" y="3343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5932440" y="340848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163440" y="75708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s sont, en général, les catégories d’actions reprises par la panne faîtiè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1149480" y="26370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Équilibre du por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4694400" y="380196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10:47:34Z</dcterms:created>
  <dc:creator>Jean-Pierre Muzeau et Cédric Brassier</dc:creator>
  <dc:description/>
  <dc:language>en-US</dc:language>
  <cp:lastModifiedBy>Muzeau Jean-Pierre</cp:lastModifiedBy>
  <dcterms:modified xsi:type="dcterms:W3CDTF">2003-10-23T07:09:16Z</dcterms:modified>
  <cp:revision>117</cp:revision>
  <dc:subject/>
  <dc:title>Leçon sur les pannes faîtières</dc:title>
</cp:coreProperties>
</file>