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0.gif" ContentType="image/gif"/>
  <Override PartName="/ppt/media/image14.gif" ContentType="image/gif"/>
  <Override PartName="/ppt/media/image9.gif" ContentType="image/gif"/>
  <Override PartName="/ppt/media/image1.wmf" ContentType="image/x-wmf"/>
  <Override PartName="/ppt/media/image2.jpeg" ContentType="image/jpeg"/>
  <Override PartName="/ppt/media/image3.gif" ContentType="image/gif"/>
  <Override PartName="/ppt/media/image6.wmf" ContentType="image/x-wmf"/>
  <Override PartName="/ppt/media/image11.wmf" ContentType="image/x-wmf"/>
  <Override PartName="/ppt/media/image4.png" ContentType="image/png"/>
  <Override PartName="/ppt/media/image5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Panne courante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tee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6.xml"/><Relationship Id="rId3" Type="http://schemas.openxmlformats.org/officeDocument/2006/relationships/slide" Target="slide28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6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6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3.xml"/><Relationship Id="rId7" Type="http://schemas.openxmlformats.org/officeDocument/2006/relationships/slide" Target="slide34.xml"/><Relationship Id="rId8" Type="http://schemas.openxmlformats.org/officeDocument/2006/relationships/slide" Target="slide35.xml"/><Relationship Id="rId9" Type="http://schemas.openxmlformats.org/officeDocument/2006/relationships/slide" Target="slide26.xml"/><Relationship Id="rId10" Type="http://schemas.openxmlformats.org/officeDocument/2006/relationships/slide" Target="slide3.xml"/><Relationship Id="rId11" Type="http://schemas.openxmlformats.org/officeDocument/2006/relationships/slide" Target="slide36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3.xml"/><Relationship Id="rId7" Type="http://schemas.openxmlformats.org/officeDocument/2006/relationships/slide" Target="slide34.xml"/><Relationship Id="rId8" Type="http://schemas.openxmlformats.org/officeDocument/2006/relationships/slide" Target="slide35.xml"/><Relationship Id="rId9" Type="http://schemas.openxmlformats.org/officeDocument/2006/relationships/slide" Target="slide26.xml"/><Relationship Id="rId10" Type="http://schemas.openxmlformats.org/officeDocument/2006/relationships/slide" Target="slide36.xml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3.xml"/><Relationship Id="rId7" Type="http://schemas.openxmlformats.org/officeDocument/2006/relationships/slide" Target="slide34.xml"/><Relationship Id="rId8" Type="http://schemas.openxmlformats.org/officeDocument/2006/relationships/slide" Target="slide35.xml"/><Relationship Id="rId9" Type="http://schemas.openxmlformats.org/officeDocument/2006/relationships/slide" Target="slide26.xml"/><Relationship Id="rId10" Type="http://schemas.openxmlformats.org/officeDocument/2006/relationships/slide" Target="slide5.xml"/><Relationship Id="rId11" Type="http://schemas.openxmlformats.org/officeDocument/2006/relationships/slide" Target="slide36.xm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33.xml"/><Relationship Id="rId7" Type="http://schemas.openxmlformats.org/officeDocument/2006/relationships/slide" Target="slide34.xml"/><Relationship Id="rId8" Type="http://schemas.openxmlformats.org/officeDocument/2006/relationships/slide" Target="slide35.xml"/><Relationship Id="rId9" Type="http://schemas.openxmlformats.org/officeDocument/2006/relationships/slide" Target="slide26.xml"/><Relationship Id="rId10" Type="http://schemas.openxmlformats.org/officeDocument/2006/relationships/slide" Target="slide27.xml"/><Relationship Id="rId11" Type="http://schemas.openxmlformats.org/officeDocument/2006/relationships/slide" Target="slide7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3438360"/>
            <a:ext cx="9144000" cy="63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PANNE COUR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3751200" y="4998960"/>
          <a:ext cx="155916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1200" y="4998960"/>
                    <a:ext cx="1559160" cy="8175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0" y="665172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Scénario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Jean-Pierre Muzeau</a:t>
            </a: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                                                                                                                        Mise sous forme PowerPoint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: Jean-Pierre Muz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659800" y="61228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9200" y="6156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Dé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350040" y="0"/>
            <a:ext cx="2793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Steel</a:t>
            </a:r>
            <a:r>
              <a:rPr b="0" lang="fr-FR" sz="4800" spc="-1" strike="noStrike" baseline="-25000">
                <a:solidFill>
                  <a:srgbClr val="3333cc"/>
                </a:solidFill>
                <a:latin typeface="Comic Sans MS"/>
              </a:rPr>
              <a:t>C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rcRect l="8436" t="15897" r="28121" b="15897"/>
          <a:stretch/>
        </p:blipFill>
        <p:spPr>
          <a:xfrm>
            <a:off x="2854440" y="760320"/>
            <a:ext cx="3414600" cy="2271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"/>
          <p:cNvSpPr/>
          <p:nvPr/>
        </p:nvSpPr>
        <p:spPr>
          <a:xfrm flipV="1">
            <a:off x="0" y="6566040"/>
            <a:ext cx="91440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"/>
          <p:cNvSpPr/>
          <p:nvPr/>
        </p:nvSpPr>
        <p:spPr>
          <a:xfrm>
            <a:off x="5035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>
            <a:hlinkClick r:id="" action="ppaction://hlinkshowjump?jump=nextslide"/>
          </p:cNvPr>
          <p:cNvSpPr/>
          <p:nvPr/>
        </p:nvSpPr>
        <p:spPr>
          <a:xfrm>
            <a:off x="506412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985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013440" y="40291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230480" y="386064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035680" y="33307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064120" y="33955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985000" y="33307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6013440" y="33955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1230480" y="32446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d’explo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035680" y="271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064120" y="27795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985000" y="271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6013440" y="27795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442800" y="720720"/>
            <a:ext cx="8180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actions peuvent être équilibrées par les pannes courant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30480" y="26290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4794120" y="44244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"/>
          <p:cNvSpPr/>
          <p:nvPr/>
        </p:nvSpPr>
        <p:spPr>
          <a:xfrm>
            <a:off x="1230480" y="4476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035680" y="4567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>
            <a:hlinkClick r:id="" action="ppaction://hlinkshowjump?jump=nextslide"/>
          </p:cNvPr>
          <p:cNvSpPr/>
          <p:nvPr/>
        </p:nvSpPr>
        <p:spPr>
          <a:xfrm>
            <a:off x="5064120" y="4632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985000" y="4567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>
            <a:hlinkClick r:id="rId1" action="ppaction://hlinksldjump"/>
          </p:cNvPr>
          <p:cNvSpPr/>
          <p:nvPr/>
        </p:nvSpPr>
        <p:spPr>
          <a:xfrm>
            <a:off x="6013440" y="463248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5035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5064120" y="40291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985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013440" y="40291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1230480" y="386064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230480" y="32446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d’explo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035680" y="33307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064120" y="33955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985000" y="33307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013440" y="33955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035680" y="271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064120" y="27795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985000" y="271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013440" y="27795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442800" y="720720"/>
            <a:ext cx="8180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actions peuvent être équilibrées par les pannes courant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1230480" y="26290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794120" y="502128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/>
          <p:nvPr/>
        </p:nvSpPr>
        <p:spPr>
          <a:xfrm>
            <a:off x="1230480" y="4476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035680" y="4567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064120" y="4632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985000" y="4567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013440" y="463248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035680" y="51642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>
            <a:hlinkClick r:id="" action="ppaction://hlinkshowjump?jump=nextslide"/>
          </p:cNvPr>
          <p:cNvSpPr/>
          <p:nvPr/>
        </p:nvSpPr>
        <p:spPr>
          <a:xfrm>
            <a:off x="5064120" y="522936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5985000" y="51642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013440" y="522936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230480" y="386064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230480" y="32446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d’explo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035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064120" y="40291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598500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13440" y="40291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035680" y="33307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064120" y="339552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5985000" y="33307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013440" y="33955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5035680" y="271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5064120" y="27795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5985000" y="271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013440" y="27795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42800" y="720720"/>
            <a:ext cx="8180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actions peuvent être équilibrées par les pannes courant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230480" y="50925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230480" y="26290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4794120" y="56181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230480" y="447660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e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035680" y="45673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064120" y="463248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1230480" y="509256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perma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035680" y="51642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064120" y="522936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230480" y="386064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1230480" y="26290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035680" y="39639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5064120" y="402912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035680" y="271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5064120" y="27795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0" y="75708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s actions susceptibles d’être équilibrées par les pannes courantes son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/>
          <p:nvPr/>
        </p:nvSpPr>
        <p:spPr>
          <a:xfrm>
            <a:off x="1276200" y="355680"/>
            <a:ext cx="65325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 peuvent être les zones d’action d’une panne courant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7132680" y="4995720"/>
            <a:ext cx="170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7764480" y="22240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>
            <a:hlinkClick r:id="rId1" action="ppaction://hlinksldjump"/>
          </p:cNvPr>
          <p:cNvSpPr/>
          <p:nvPr/>
        </p:nvSpPr>
        <p:spPr>
          <a:xfrm>
            <a:off x="7780320" y="22892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7764480" y="28018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>
            <a:hlinkClick r:id="rId2" action="ppaction://hlinksldjump"/>
          </p:cNvPr>
          <p:cNvSpPr/>
          <p:nvPr/>
        </p:nvSpPr>
        <p:spPr>
          <a:xfrm>
            <a:off x="7780320" y="28670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764480" y="337968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>
            <a:hlinkClick r:id="" action="ppaction://hlinkshowjump?jump=nextslide"/>
          </p:cNvPr>
          <p:cNvSpPr/>
          <p:nvPr/>
        </p:nvSpPr>
        <p:spPr>
          <a:xfrm>
            <a:off x="7780320" y="34448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764480" y="395748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>
            <a:hlinkClick r:id="rId3" action="ppaction://hlinksldjump"/>
          </p:cNvPr>
          <p:cNvSpPr/>
          <p:nvPr/>
        </p:nvSpPr>
        <p:spPr>
          <a:xfrm>
            <a:off x="7780320" y="40226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2241720" y="2155320"/>
            <a:ext cx="1944360" cy="1938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731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733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0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741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4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8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749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6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757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4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765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9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770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771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6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777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2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783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0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791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97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798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3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804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809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810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818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25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826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827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1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832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833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7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838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2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843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7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848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852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853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854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0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861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7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8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879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02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903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906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4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915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9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328760" y="2998800"/>
            <a:ext cx="2017800" cy="588960"/>
          </a:xfrm>
          <a:custGeom>
            <a:avLst/>
            <a:gdLst/>
            <a:ahLst/>
            <a:rect l="l" t="t" r="r" b="b"/>
            <a:pathLst>
              <a:path w="3820" h="1080">
                <a:moveTo>
                  <a:pt x="600" y="480"/>
                </a:moveTo>
                <a:lnTo>
                  <a:pt x="3820" y="0"/>
                </a:lnTo>
                <a:lnTo>
                  <a:pt x="3180" y="600"/>
                </a:lnTo>
                <a:lnTo>
                  <a:pt x="0" y="1080"/>
                </a:lnTo>
                <a:lnTo>
                  <a:pt x="600" y="48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2979720" y="2278080"/>
            <a:ext cx="2233800" cy="1992240"/>
          </a:xfrm>
          <a:custGeom>
            <a:avLst/>
            <a:gdLst/>
            <a:ahLst/>
            <a:rect l="l" t="t" r="r" b="b"/>
            <a:pathLst>
              <a:path w="4100" h="3660">
                <a:moveTo>
                  <a:pt x="0" y="3580"/>
                </a:moveTo>
                <a:lnTo>
                  <a:pt x="3560" y="0"/>
                </a:lnTo>
                <a:lnTo>
                  <a:pt x="4100" y="60"/>
                </a:lnTo>
                <a:lnTo>
                  <a:pt x="540" y="3660"/>
                </a:lnTo>
                <a:lnTo>
                  <a:pt x="0" y="358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409920" y="2330280"/>
            <a:ext cx="2230560" cy="1992600"/>
          </a:xfrm>
          <a:custGeom>
            <a:avLst/>
            <a:gdLst/>
            <a:ahLst/>
            <a:rect l="l" t="t" r="r" b="b"/>
            <a:pathLst>
              <a:path w="4100" h="3660">
                <a:moveTo>
                  <a:pt x="0" y="3580"/>
                </a:moveTo>
                <a:lnTo>
                  <a:pt x="3560" y="0"/>
                </a:lnTo>
                <a:lnTo>
                  <a:pt x="4100" y="60"/>
                </a:lnTo>
                <a:lnTo>
                  <a:pt x="540" y="3660"/>
                </a:lnTo>
                <a:lnTo>
                  <a:pt x="0" y="358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390840" y="2822400"/>
            <a:ext cx="565200" cy="379440"/>
          </a:xfrm>
          <a:custGeom>
            <a:avLst/>
            <a:gdLst/>
            <a:ahLst/>
            <a:rect l="l" t="t" r="r" b="b"/>
            <a:pathLst>
              <a:path w="1040" h="700">
                <a:moveTo>
                  <a:pt x="0" y="620"/>
                </a:moveTo>
                <a:lnTo>
                  <a:pt x="580" y="0"/>
                </a:lnTo>
                <a:lnTo>
                  <a:pt x="1040" y="100"/>
                </a:lnTo>
                <a:lnTo>
                  <a:pt x="500" y="700"/>
                </a:lnTo>
                <a:lnTo>
                  <a:pt x="0" y="62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263600" y="4222800"/>
            <a:ext cx="239760" cy="1338120"/>
          </a:xfrm>
          <a:custGeom>
            <a:avLst/>
            <a:gdLst/>
            <a:ahLst/>
            <a:rect l="l" t="t" r="r" b="b"/>
            <a:pathLst>
              <a:path w="440" h="2460">
                <a:moveTo>
                  <a:pt x="0" y="80"/>
                </a:moveTo>
                <a:lnTo>
                  <a:pt x="440" y="0"/>
                </a:lnTo>
                <a:lnTo>
                  <a:pt x="440" y="2460"/>
                </a:lnTo>
                <a:lnTo>
                  <a:pt x="0" y="2440"/>
                </a:lnTo>
                <a:lnTo>
                  <a:pt x="0" y="8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931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1" name=""/>
          <p:cNvSpPr/>
          <p:nvPr/>
        </p:nvSpPr>
        <p:spPr>
          <a:xfrm>
            <a:off x="5369040" y="1644480"/>
            <a:ext cx="374400" cy="397080"/>
          </a:xfrm>
          <a:prstGeom prst="wedgeEllipseCallout">
            <a:avLst>
              <a:gd name="adj1" fmla="val -40027"/>
              <a:gd name="adj2" fmla="val 156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4400640" y="1631880"/>
            <a:ext cx="374400" cy="397080"/>
          </a:xfrm>
          <a:prstGeom prst="wedgeEllipseCallout">
            <a:avLst>
              <a:gd name="adj1" fmla="val 52981"/>
              <a:gd name="adj2" fmla="val 1647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1701720" y="5195880"/>
            <a:ext cx="373320" cy="398520"/>
          </a:xfrm>
          <a:prstGeom prst="wedgeEllipseCallout">
            <a:avLst>
              <a:gd name="adj1" fmla="val -129611"/>
              <a:gd name="adj2" fmla="val -669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878040" y="2852640"/>
            <a:ext cx="374400" cy="397080"/>
          </a:xfrm>
          <a:prstGeom prst="wedgeEllipseCallout">
            <a:avLst>
              <a:gd name="adj1" fmla="val 146111"/>
              <a:gd name="adj2" fmla="val 90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921040" y="1557360"/>
            <a:ext cx="374760" cy="396720"/>
          </a:xfrm>
          <a:prstGeom prst="wedgeEllipseCallout">
            <a:avLst>
              <a:gd name="adj1" fmla="val 127333"/>
              <a:gd name="adj2" fmla="val 298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7764480" y="45370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>
            <a:hlinkClick r:id="rId4" action="ppaction://hlinksldjump"/>
          </p:cNvPr>
          <p:cNvSpPr/>
          <p:nvPr/>
        </p:nvSpPr>
        <p:spPr>
          <a:xfrm>
            <a:off x="7780320" y="46022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"/>
          <p:cNvSpPr/>
          <p:nvPr/>
        </p:nvSpPr>
        <p:spPr>
          <a:xfrm flipV="1">
            <a:off x="2241720" y="2155320"/>
            <a:ext cx="1944360" cy="1938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951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952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953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0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961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8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969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6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977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0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1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2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4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985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9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990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991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6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997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2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2003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0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2011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7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2018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3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2024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2029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2030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7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2038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45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2046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2047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1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2052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2053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7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2058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2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2063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7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2068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72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2073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074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0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081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7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2099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2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123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5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126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135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9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328760" y="2998800"/>
            <a:ext cx="2017800" cy="588960"/>
          </a:xfrm>
          <a:custGeom>
            <a:avLst/>
            <a:gdLst/>
            <a:ahLst/>
            <a:rect l="l" t="t" r="r" b="b"/>
            <a:pathLst>
              <a:path w="3820" h="1080">
                <a:moveTo>
                  <a:pt x="600" y="480"/>
                </a:moveTo>
                <a:lnTo>
                  <a:pt x="3820" y="0"/>
                </a:lnTo>
                <a:lnTo>
                  <a:pt x="3180" y="600"/>
                </a:lnTo>
                <a:lnTo>
                  <a:pt x="0" y="1080"/>
                </a:lnTo>
                <a:lnTo>
                  <a:pt x="600" y="48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2979720" y="2278080"/>
            <a:ext cx="2233800" cy="1992240"/>
          </a:xfrm>
          <a:custGeom>
            <a:avLst/>
            <a:gdLst/>
            <a:ahLst/>
            <a:rect l="l" t="t" r="r" b="b"/>
            <a:pathLst>
              <a:path w="4100" h="3660">
                <a:moveTo>
                  <a:pt x="0" y="3580"/>
                </a:moveTo>
                <a:lnTo>
                  <a:pt x="3560" y="0"/>
                </a:lnTo>
                <a:lnTo>
                  <a:pt x="4100" y="60"/>
                </a:lnTo>
                <a:lnTo>
                  <a:pt x="540" y="3660"/>
                </a:lnTo>
                <a:lnTo>
                  <a:pt x="0" y="358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3409920" y="2330280"/>
            <a:ext cx="2230560" cy="1992600"/>
          </a:xfrm>
          <a:custGeom>
            <a:avLst/>
            <a:gdLst/>
            <a:ahLst/>
            <a:rect l="l" t="t" r="r" b="b"/>
            <a:pathLst>
              <a:path w="4100" h="3660">
                <a:moveTo>
                  <a:pt x="0" y="3580"/>
                </a:moveTo>
                <a:lnTo>
                  <a:pt x="3560" y="0"/>
                </a:lnTo>
                <a:lnTo>
                  <a:pt x="4100" y="60"/>
                </a:lnTo>
                <a:lnTo>
                  <a:pt x="540" y="3660"/>
                </a:lnTo>
                <a:lnTo>
                  <a:pt x="0" y="358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390840" y="2822400"/>
            <a:ext cx="565200" cy="379440"/>
          </a:xfrm>
          <a:custGeom>
            <a:avLst/>
            <a:gdLst/>
            <a:ahLst/>
            <a:rect l="l" t="t" r="r" b="b"/>
            <a:pathLst>
              <a:path w="1040" h="700">
                <a:moveTo>
                  <a:pt x="0" y="620"/>
                </a:moveTo>
                <a:lnTo>
                  <a:pt x="580" y="0"/>
                </a:lnTo>
                <a:lnTo>
                  <a:pt x="1040" y="100"/>
                </a:lnTo>
                <a:lnTo>
                  <a:pt x="500" y="700"/>
                </a:lnTo>
                <a:lnTo>
                  <a:pt x="0" y="62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263600" y="4222800"/>
            <a:ext cx="239760" cy="1338120"/>
          </a:xfrm>
          <a:custGeom>
            <a:avLst/>
            <a:gdLst/>
            <a:ahLst/>
            <a:rect l="l" t="t" r="r" b="b"/>
            <a:pathLst>
              <a:path w="440" h="2460">
                <a:moveTo>
                  <a:pt x="0" y="80"/>
                </a:moveTo>
                <a:lnTo>
                  <a:pt x="440" y="0"/>
                </a:lnTo>
                <a:lnTo>
                  <a:pt x="440" y="2460"/>
                </a:lnTo>
                <a:lnTo>
                  <a:pt x="0" y="2440"/>
                </a:lnTo>
                <a:lnTo>
                  <a:pt x="0" y="8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0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151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1" name=""/>
          <p:cNvSpPr/>
          <p:nvPr/>
        </p:nvSpPr>
        <p:spPr>
          <a:xfrm>
            <a:off x="5369040" y="1644480"/>
            <a:ext cx="374400" cy="397080"/>
          </a:xfrm>
          <a:prstGeom prst="wedgeEllipseCallout">
            <a:avLst>
              <a:gd name="adj1" fmla="val -40027"/>
              <a:gd name="adj2" fmla="val 156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4400640" y="1631880"/>
            <a:ext cx="374400" cy="397080"/>
          </a:xfrm>
          <a:prstGeom prst="wedgeEllipseCallout">
            <a:avLst>
              <a:gd name="adj1" fmla="val 52981"/>
              <a:gd name="adj2" fmla="val 164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01720" y="5195880"/>
            <a:ext cx="373320" cy="398520"/>
          </a:xfrm>
          <a:prstGeom prst="wedgeEllipseCallout">
            <a:avLst>
              <a:gd name="adj1" fmla="val -129611"/>
              <a:gd name="adj2" fmla="val -669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878040" y="2852640"/>
            <a:ext cx="374400" cy="397080"/>
          </a:xfrm>
          <a:prstGeom prst="wedgeEllipseCallout">
            <a:avLst>
              <a:gd name="adj1" fmla="val 146111"/>
              <a:gd name="adj2" fmla="val 90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2921040" y="1557360"/>
            <a:ext cx="374760" cy="396720"/>
          </a:xfrm>
          <a:prstGeom prst="wedgeEllipseCallout">
            <a:avLst>
              <a:gd name="adj1" fmla="val 127333"/>
              <a:gd name="adj2" fmla="val 2981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7132680" y="4995720"/>
            <a:ext cx="170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7764480" y="22240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>
            <a:hlinkClick r:id="rId1" action="ppaction://hlinksldjump"/>
          </p:cNvPr>
          <p:cNvSpPr/>
          <p:nvPr/>
        </p:nvSpPr>
        <p:spPr>
          <a:xfrm>
            <a:off x="7780320" y="22892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764480" y="28018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>
            <a:hlinkClick r:id="rId2" action="ppaction://hlinksldjump"/>
          </p:cNvPr>
          <p:cNvSpPr/>
          <p:nvPr/>
        </p:nvSpPr>
        <p:spPr>
          <a:xfrm>
            <a:off x="7780320" y="28670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7764480" y="337968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7780320" y="3444840"/>
            <a:ext cx="38880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764480" y="395748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>
            <a:hlinkClick r:id="rId3" action="ppaction://hlinksldjump"/>
          </p:cNvPr>
          <p:cNvSpPr/>
          <p:nvPr/>
        </p:nvSpPr>
        <p:spPr>
          <a:xfrm>
            <a:off x="7780320" y="40226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7764480" y="45370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7780320" y="46022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11200" y="355680"/>
            <a:ext cx="7956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l reste encore une zone d’action possible pour une panne cour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"/>
          <p:cNvSpPr/>
          <p:nvPr/>
        </p:nvSpPr>
        <p:spPr>
          <a:xfrm>
            <a:off x="7132680" y="4995720"/>
            <a:ext cx="1700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 flipV="1">
            <a:off x="2241720" y="2155320"/>
            <a:ext cx="1944360" cy="1938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2182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2183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2184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1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2192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9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2200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7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208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5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2216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20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2221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2222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7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2228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3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2234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1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2242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8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2249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2255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9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2260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2261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2269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76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2277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2278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2283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2284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8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2289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2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3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2294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8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2299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03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2304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305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11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312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4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9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2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6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8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9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2330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53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354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6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357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5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366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0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1328760" y="2998800"/>
            <a:ext cx="2017800" cy="588960"/>
          </a:xfrm>
          <a:custGeom>
            <a:avLst/>
            <a:gdLst/>
            <a:ahLst/>
            <a:rect l="l" t="t" r="r" b="b"/>
            <a:pathLst>
              <a:path w="3820" h="1080">
                <a:moveTo>
                  <a:pt x="600" y="480"/>
                </a:moveTo>
                <a:lnTo>
                  <a:pt x="3820" y="0"/>
                </a:lnTo>
                <a:lnTo>
                  <a:pt x="3180" y="600"/>
                </a:lnTo>
                <a:lnTo>
                  <a:pt x="0" y="1080"/>
                </a:lnTo>
                <a:lnTo>
                  <a:pt x="600" y="48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2979720" y="2278080"/>
            <a:ext cx="2233800" cy="1992240"/>
          </a:xfrm>
          <a:custGeom>
            <a:avLst/>
            <a:gdLst/>
            <a:ahLst/>
            <a:rect l="l" t="t" r="r" b="b"/>
            <a:pathLst>
              <a:path w="4100" h="3660">
                <a:moveTo>
                  <a:pt x="0" y="3580"/>
                </a:moveTo>
                <a:lnTo>
                  <a:pt x="3560" y="0"/>
                </a:lnTo>
                <a:lnTo>
                  <a:pt x="4100" y="60"/>
                </a:lnTo>
                <a:lnTo>
                  <a:pt x="540" y="3660"/>
                </a:lnTo>
                <a:lnTo>
                  <a:pt x="0" y="358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3409920" y="2330280"/>
            <a:ext cx="2230560" cy="1992600"/>
          </a:xfrm>
          <a:custGeom>
            <a:avLst/>
            <a:gdLst/>
            <a:ahLst/>
            <a:rect l="l" t="t" r="r" b="b"/>
            <a:pathLst>
              <a:path w="4100" h="3660">
                <a:moveTo>
                  <a:pt x="0" y="3580"/>
                </a:moveTo>
                <a:lnTo>
                  <a:pt x="3560" y="0"/>
                </a:lnTo>
                <a:lnTo>
                  <a:pt x="4100" y="60"/>
                </a:lnTo>
                <a:lnTo>
                  <a:pt x="540" y="3660"/>
                </a:lnTo>
                <a:lnTo>
                  <a:pt x="0" y="358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3390840" y="2822400"/>
            <a:ext cx="565200" cy="379440"/>
          </a:xfrm>
          <a:custGeom>
            <a:avLst/>
            <a:gdLst/>
            <a:ahLst/>
            <a:rect l="l" t="t" r="r" b="b"/>
            <a:pathLst>
              <a:path w="1040" h="700">
                <a:moveTo>
                  <a:pt x="0" y="620"/>
                </a:moveTo>
                <a:lnTo>
                  <a:pt x="580" y="0"/>
                </a:lnTo>
                <a:lnTo>
                  <a:pt x="1040" y="100"/>
                </a:lnTo>
                <a:lnTo>
                  <a:pt x="500" y="700"/>
                </a:lnTo>
                <a:lnTo>
                  <a:pt x="0" y="62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1263600" y="4222800"/>
            <a:ext cx="239760" cy="1338120"/>
          </a:xfrm>
          <a:custGeom>
            <a:avLst/>
            <a:gdLst/>
            <a:ahLst/>
            <a:rect l="l" t="t" r="r" b="b"/>
            <a:pathLst>
              <a:path w="440" h="2460">
                <a:moveTo>
                  <a:pt x="0" y="80"/>
                </a:moveTo>
                <a:lnTo>
                  <a:pt x="440" y="0"/>
                </a:lnTo>
                <a:lnTo>
                  <a:pt x="440" y="2460"/>
                </a:lnTo>
                <a:lnTo>
                  <a:pt x="0" y="2440"/>
                </a:lnTo>
                <a:lnTo>
                  <a:pt x="0" y="8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1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382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2" name=""/>
          <p:cNvSpPr/>
          <p:nvPr/>
        </p:nvSpPr>
        <p:spPr>
          <a:xfrm>
            <a:off x="5369040" y="1644480"/>
            <a:ext cx="374400" cy="397080"/>
          </a:xfrm>
          <a:prstGeom prst="wedgeEllipseCallout">
            <a:avLst>
              <a:gd name="adj1" fmla="val -40027"/>
              <a:gd name="adj2" fmla="val 156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400640" y="1631880"/>
            <a:ext cx="374400" cy="397080"/>
          </a:xfrm>
          <a:prstGeom prst="wedgeEllipseCallout">
            <a:avLst>
              <a:gd name="adj1" fmla="val 52981"/>
              <a:gd name="adj2" fmla="val 16479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701720" y="5195880"/>
            <a:ext cx="373320" cy="398520"/>
          </a:xfrm>
          <a:prstGeom prst="wedgeEllipseCallout">
            <a:avLst>
              <a:gd name="adj1" fmla="val -129611"/>
              <a:gd name="adj2" fmla="val -669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878040" y="2852640"/>
            <a:ext cx="374400" cy="397080"/>
          </a:xfrm>
          <a:prstGeom prst="wedgeEllipseCallout">
            <a:avLst>
              <a:gd name="adj1" fmla="val 146111"/>
              <a:gd name="adj2" fmla="val 906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921040" y="1557360"/>
            <a:ext cx="374760" cy="396720"/>
          </a:xfrm>
          <a:prstGeom prst="wedgeEllipseCallout">
            <a:avLst>
              <a:gd name="adj1" fmla="val 127333"/>
              <a:gd name="adj2" fmla="val 2981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7764480" y="22240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>
            <a:hlinkClick r:id="rId1" action="ppaction://hlinksldjump"/>
          </p:cNvPr>
          <p:cNvSpPr/>
          <p:nvPr/>
        </p:nvSpPr>
        <p:spPr>
          <a:xfrm>
            <a:off x="7780320" y="22892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764480" y="28018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>
            <a:hlinkClick r:id="rId2" action="ppaction://hlinksldjump"/>
          </p:cNvPr>
          <p:cNvSpPr/>
          <p:nvPr/>
        </p:nvSpPr>
        <p:spPr>
          <a:xfrm>
            <a:off x="7780320" y="28670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7764480" y="337968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>
            <a:hlinkClick r:id="" action="ppaction://hlinkshowjump?jump=nextslide"/>
          </p:cNvPr>
          <p:cNvSpPr/>
          <p:nvPr/>
        </p:nvSpPr>
        <p:spPr>
          <a:xfrm>
            <a:off x="7780320" y="34448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7764480" y="395748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>
            <a:hlinkClick r:id="rId3" action="ppaction://hlinksldjump"/>
          </p:cNvPr>
          <p:cNvSpPr/>
          <p:nvPr/>
        </p:nvSpPr>
        <p:spPr>
          <a:xfrm>
            <a:off x="7780320" y="40226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764480" y="45370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7780320" y="4602240"/>
            <a:ext cx="38880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11200" y="355680"/>
            <a:ext cx="79563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l reste encore une zone d’action possible pour une panne cour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"/>
          <p:cNvSpPr/>
          <p:nvPr/>
        </p:nvSpPr>
        <p:spPr>
          <a:xfrm flipV="1">
            <a:off x="2241720" y="2155320"/>
            <a:ext cx="1944360" cy="1938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0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2411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2412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2413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6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8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9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0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2421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2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4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7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8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2429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1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3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4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437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9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2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3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44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2445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9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2450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2451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6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2457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2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2463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0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2471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77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2478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3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2484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8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2489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2490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7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2498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05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2506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2507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1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2512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2513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7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2518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1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2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2523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6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7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2528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9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532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2533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534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0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541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7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8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3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4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6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57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8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2559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2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583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586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595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9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2979720" y="2278080"/>
            <a:ext cx="2233800" cy="1992240"/>
          </a:xfrm>
          <a:custGeom>
            <a:avLst/>
            <a:gdLst/>
            <a:ahLst/>
            <a:rect l="l" t="t" r="r" b="b"/>
            <a:pathLst>
              <a:path w="4100" h="3660">
                <a:moveTo>
                  <a:pt x="0" y="3580"/>
                </a:moveTo>
                <a:lnTo>
                  <a:pt x="3560" y="0"/>
                </a:lnTo>
                <a:lnTo>
                  <a:pt x="4100" y="60"/>
                </a:lnTo>
                <a:lnTo>
                  <a:pt x="540" y="3660"/>
                </a:lnTo>
                <a:lnTo>
                  <a:pt x="0" y="358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3390840" y="2822400"/>
            <a:ext cx="565200" cy="379440"/>
          </a:xfrm>
          <a:custGeom>
            <a:avLst/>
            <a:gdLst/>
            <a:ahLst/>
            <a:rect l="l" t="t" r="r" b="b"/>
            <a:pathLst>
              <a:path w="1040" h="700">
                <a:moveTo>
                  <a:pt x="0" y="620"/>
                </a:moveTo>
                <a:lnTo>
                  <a:pt x="580" y="0"/>
                </a:lnTo>
                <a:lnTo>
                  <a:pt x="1040" y="100"/>
                </a:lnTo>
                <a:lnTo>
                  <a:pt x="500" y="700"/>
                </a:lnTo>
                <a:lnTo>
                  <a:pt x="0" y="62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7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608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8" name=""/>
          <p:cNvSpPr/>
          <p:nvPr/>
        </p:nvSpPr>
        <p:spPr>
          <a:xfrm>
            <a:off x="4400640" y="1631880"/>
            <a:ext cx="374400" cy="397080"/>
          </a:xfrm>
          <a:prstGeom prst="wedgeEllipseCallout">
            <a:avLst>
              <a:gd name="adj1" fmla="val 52981"/>
              <a:gd name="adj2" fmla="val 16479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2921040" y="1557360"/>
            <a:ext cx="374760" cy="396720"/>
          </a:xfrm>
          <a:prstGeom prst="wedgeEllipseCallout">
            <a:avLst>
              <a:gd name="adj1" fmla="val 127333"/>
              <a:gd name="adj2" fmla="val 2981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7764480" y="22240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>
            <a:hlinkClick r:id="rId1" action="ppaction://hlinksldjump"/>
          </p:cNvPr>
          <p:cNvSpPr/>
          <p:nvPr/>
        </p:nvSpPr>
        <p:spPr>
          <a:xfrm>
            <a:off x="7780320" y="22892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7764480" y="28018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>
            <a:hlinkClick r:id="rId2" action="ppaction://hlinksldjump"/>
          </p:cNvPr>
          <p:cNvSpPr/>
          <p:nvPr/>
        </p:nvSpPr>
        <p:spPr>
          <a:xfrm>
            <a:off x="7780320" y="28670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7764480" y="337968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7780320" y="3444840"/>
            <a:ext cx="38880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7764480" y="3957480"/>
            <a:ext cx="420840" cy="34632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26243" h="21600">
                <a:moveTo>
                  <a:pt x="0" y="0"/>
                </a:moveTo>
                <a:lnTo>
                  <a:pt x="26243" y="0"/>
                </a:lnTo>
                <a:lnTo>
                  <a:pt x="26243" y="21600"/>
                </a:lnTo>
                <a:lnTo>
                  <a:pt x="0" y="21600"/>
                </a:lnTo>
                <a:close/>
              </a:path>
              <a:path fill="lightenLess" w="26243" h="21600">
                <a:moveTo>
                  <a:pt x="0" y="0"/>
                </a:moveTo>
                <a:lnTo>
                  <a:pt x="26243" y="0"/>
                </a:lnTo>
                <a:lnTo>
                  <a:pt x="24843" y="1400"/>
                </a:lnTo>
                <a:lnTo>
                  <a:pt x="1400" y="1400"/>
                </a:lnTo>
                <a:close/>
              </a:path>
              <a:path fill="darken" w="26243" h="21600">
                <a:moveTo>
                  <a:pt x="26243" y="0"/>
                </a:moveTo>
                <a:lnTo>
                  <a:pt x="26243" y="21600"/>
                </a:lnTo>
                <a:lnTo>
                  <a:pt x="24843" y="20200"/>
                </a:lnTo>
                <a:lnTo>
                  <a:pt x="24843" y="1400"/>
                </a:lnTo>
                <a:close/>
              </a:path>
              <a:path fill="darkenLess" w="26243" h="21600">
                <a:moveTo>
                  <a:pt x="262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43" y="20200"/>
                </a:lnTo>
                <a:close/>
              </a:path>
              <a:path fill="lighten" w="262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7780320" y="4022640"/>
            <a:ext cx="388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7764480" y="4537080"/>
            <a:ext cx="420840" cy="345960"/>
          </a:xfrm>
          <a:custGeom>
            <a:avLst/>
            <a:gdLst>
              <a:gd name="textAreaLeft" fmla="*/ 22320 w 420840"/>
              <a:gd name="textAreaRight" fmla="*/ 398520 w 42084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26270" h="21600">
                <a:moveTo>
                  <a:pt x="0" y="0"/>
                </a:moveTo>
                <a:lnTo>
                  <a:pt x="26270" y="0"/>
                </a:lnTo>
                <a:lnTo>
                  <a:pt x="26270" y="21600"/>
                </a:lnTo>
                <a:lnTo>
                  <a:pt x="0" y="21600"/>
                </a:lnTo>
                <a:close/>
              </a:path>
              <a:path fill="lightenLess" w="26270" h="21600">
                <a:moveTo>
                  <a:pt x="0" y="0"/>
                </a:moveTo>
                <a:lnTo>
                  <a:pt x="26270" y="0"/>
                </a:lnTo>
                <a:lnTo>
                  <a:pt x="24870" y="1400"/>
                </a:lnTo>
                <a:lnTo>
                  <a:pt x="1400" y="1400"/>
                </a:lnTo>
                <a:close/>
              </a:path>
              <a:path fill="darken" w="26270" h="21600">
                <a:moveTo>
                  <a:pt x="26270" y="0"/>
                </a:moveTo>
                <a:lnTo>
                  <a:pt x="26270" y="21600"/>
                </a:lnTo>
                <a:lnTo>
                  <a:pt x="24870" y="20200"/>
                </a:lnTo>
                <a:lnTo>
                  <a:pt x="24870" y="1400"/>
                </a:lnTo>
                <a:close/>
              </a:path>
              <a:path fill="darkenLess" w="26270" h="21600">
                <a:moveTo>
                  <a:pt x="262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70" y="20200"/>
                </a:lnTo>
                <a:close/>
              </a:path>
              <a:path fill="lighten" w="262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7780320" y="4602240"/>
            <a:ext cx="38880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628560" y="6610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>
            <a:hlinkClick r:id="" action="ppaction://hlinkshowjump?jump=nextslide"/>
          </p:cNvPr>
          <p:cNvSpPr/>
          <p:nvPr/>
        </p:nvSpPr>
        <p:spPr>
          <a:xfrm>
            <a:off x="765000" y="62737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405240" y="6054840"/>
            <a:ext cx="550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a zone n°3 correspond à une panne continue et la zone n°5 à une panne isostatiq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109440" y="425520"/>
            <a:ext cx="87822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00"/>
                </a:solidFill>
                <a:latin typeface="Arial"/>
              </a:rPr>
              <a:t>RÉPONSES CORREC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"/>
          <p:cNvSpPr/>
          <p:nvPr/>
        </p:nvSpPr>
        <p:spPr>
          <a:xfrm>
            <a:off x="217440" y="52704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ant les pannes courant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>
            <a:hlinkClick r:id="" action="ppaction://hlinkshowjump?jump=previousslide"/>
          </p:cNvPr>
          <p:cNvSpPr/>
          <p:nvPr/>
        </p:nvSpPr>
        <p:spPr>
          <a:xfrm>
            <a:off x="243000" y="62722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128520" y="661032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147600" y="3781440"/>
            <a:ext cx="658188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flèche d’une panne isostatique est plus grande que celle d’une panne hyperstatique de même section transver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7018200" y="38718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>
            <a:hlinkClick r:id="" action="ppaction://hlinkshowjump?jump=nextslide"/>
          </p:cNvPr>
          <p:cNvSpPr/>
          <p:nvPr/>
        </p:nvSpPr>
        <p:spPr>
          <a:xfrm>
            <a:off x="7045200" y="39369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7927920" y="38718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7956720" y="39369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2" name=""/>
          <p:cNvGrpSpPr/>
          <p:nvPr/>
        </p:nvGrpSpPr>
        <p:grpSpPr>
          <a:xfrm>
            <a:off x="2894040" y="1318680"/>
            <a:ext cx="3498120" cy="2278440"/>
            <a:chOff x="2894040" y="1318680"/>
            <a:chExt cx="3498120" cy="2278440"/>
          </a:xfrm>
        </p:grpSpPr>
        <p:sp>
          <p:nvSpPr>
            <p:cNvPr id="2643" name=""/>
            <p:cNvSpPr/>
            <p:nvPr/>
          </p:nvSpPr>
          <p:spPr>
            <a:xfrm flipV="1">
              <a:off x="4038480" y="1318680"/>
              <a:ext cx="1229400" cy="122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V="1">
              <a:off x="4183200" y="148536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5" name=""/>
            <p:cNvGrpSpPr/>
            <p:nvPr/>
          </p:nvGrpSpPr>
          <p:grpSpPr>
            <a:xfrm>
              <a:off x="2958120" y="1485360"/>
              <a:ext cx="3399120" cy="1988640"/>
              <a:chOff x="2958120" y="1485360"/>
              <a:chExt cx="3399120" cy="1988640"/>
            </a:xfrm>
          </p:grpSpPr>
          <p:grpSp>
            <p:nvGrpSpPr>
              <p:cNvPr id="2646" name=""/>
              <p:cNvGrpSpPr/>
              <p:nvPr/>
            </p:nvGrpSpPr>
            <p:grpSpPr>
              <a:xfrm>
                <a:off x="2958120" y="1485360"/>
                <a:ext cx="3397680" cy="1988640"/>
                <a:chOff x="2958120" y="1485360"/>
                <a:chExt cx="3397680" cy="1988640"/>
              </a:xfrm>
            </p:grpSpPr>
            <p:grpSp>
              <p:nvGrpSpPr>
                <p:cNvPr id="2647" name=""/>
                <p:cNvGrpSpPr/>
                <p:nvPr/>
              </p:nvGrpSpPr>
              <p:grpSpPr>
                <a:xfrm>
                  <a:off x="5119560" y="2510640"/>
                  <a:ext cx="213480" cy="959400"/>
                  <a:chOff x="5119560" y="2510640"/>
                  <a:chExt cx="213480" cy="959400"/>
                </a:xfrm>
              </p:grpSpPr>
              <p:sp>
                <p:nvSpPr>
                  <p:cNvPr id="2648" name=""/>
                  <p:cNvSpPr/>
                  <p:nvPr/>
                </p:nvSpPr>
                <p:spPr>
                  <a:xfrm flipV="1">
                    <a:off x="5128560" y="2909160"/>
                    <a:ext cx="204480" cy="56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 flipH="1" flipV="1">
                    <a:off x="5124600" y="2711880"/>
                    <a:ext cx="207720" cy="196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 flipH="1" flipV="1">
                    <a:off x="5128560" y="3109680"/>
                    <a:ext cx="204480" cy="155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 flipV="1">
                    <a:off x="5128560" y="2510640"/>
                    <a:ext cx="204480" cy="594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 flipV="1">
                    <a:off x="5119560" y="2518200"/>
                    <a:ext cx="20448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>
                    <a:off x="5128560" y="2712600"/>
                    <a:ext cx="0" cy="754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>
                    <a:off x="5333040" y="2514240"/>
                    <a:ext cx="0" cy="75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5" name=""/>
                <p:cNvGrpSpPr/>
                <p:nvPr/>
              </p:nvGrpSpPr>
              <p:grpSpPr>
                <a:xfrm>
                  <a:off x="2958120" y="2514960"/>
                  <a:ext cx="205560" cy="959040"/>
                  <a:chOff x="2958120" y="2514960"/>
                  <a:chExt cx="205560" cy="959040"/>
                </a:xfrm>
              </p:grpSpPr>
              <p:sp>
                <p:nvSpPr>
                  <p:cNvPr id="2656" name=""/>
                  <p:cNvSpPr/>
                  <p:nvPr/>
                </p:nvSpPr>
                <p:spPr>
                  <a:xfrm flipV="1">
                    <a:off x="2958840" y="2911320"/>
                    <a:ext cx="204480" cy="56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H="1" flipV="1">
                    <a:off x="2958480" y="2719080"/>
                    <a:ext cx="202680" cy="18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 flipH="1" flipV="1">
                    <a:off x="2958120" y="3115800"/>
                    <a:ext cx="204480" cy="15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V="1">
                    <a:off x="2958840" y="2514960"/>
                    <a:ext cx="203400" cy="597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 flipV="1">
                    <a:off x="2959920" y="2515320"/>
                    <a:ext cx="200880" cy="20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>
                    <a:off x="2959200" y="2719800"/>
                    <a:ext cx="0" cy="754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 flipH="1">
                    <a:off x="3162960" y="2521800"/>
                    <a:ext cx="720" cy="745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3" name=""/>
                <p:cNvGrpSpPr/>
                <p:nvPr/>
              </p:nvGrpSpPr>
              <p:grpSpPr>
                <a:xfrm>
                  <a:off x="6149160" y="1485360"/>
                  <a:ext cx="206640" cy="973080"/>
                  <a:chOff x="6149160" y="1485360"/>
                  <a:chExt cx="206640" cy="973080"/>
                </a:xfrm>
              </p:grpSpPr>
              <p:sp>
                <p:nvSpPr>
                  <p:cNvPr id="2664" name=""/>
                  <p:cNvSpPr/>
                  <p:nvPr/>
                </p:nvSpPr>
                <p:spPr>
                  <a:xfrm flipV="1">
                    <a:off x="6150960" y="1897920"/>
                    <a:ext cx="202680" cy="557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 flipH="1" flipV="1">
                    <a:off x="6149160" y="1690560"/>
                    <a:ext cx="203400" cy="21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 flipH="1" flipV="1">
                    <a:off x="6150600" y="2098440"/>
                    <a:ext cx="202680" cy="153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 flipV="1">
                    <a:off x="6150240" y="1486440"/>
                    <a:ext cx="200520" cy="61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 flipV="1">
                    <a:off x="6149520" y="1485360"/>
                    <a:ext cx="205200" cy="20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>
                    <a:off x="6152400" y="1687680"/>
                    <a:ext cx="0" cy="770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 flipH="1">
                    <a:off x="6355080" y="1488600"/>
                    <a:ext cx="720" cy="763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71" name=""/>
                <p:cNvGrpSpPr/>
                <p:nvPr/>
              </p:nvGrpSpPr>
              <p:grpSpPr>
                <a:xfrm>
                  <a:off x="3981240" y="1486440"/>
                  <a:ext cx="204480" cy="968760"/>
                  <a:chOff x="3981240" y="1486440"/>
                  <a:chExt cx="204480" cy="968760"/>
                </a:xfrm>
              </p:grpSpPr>
              <p:sp>
                <p:nvSpPr>
                  <p:cNvPr id="2672" name=""/>
                  <p:cNvSpPr/>
                  <p:nvPr/>
                </p:nvSpPr>
                <p:spPr>
                  <a:xfrm flipV="1">
                    <a:off x="3981600" y="1900800"/>
                    <a:ext cx="203400" cy="554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 flipH="1" flipV="1">
                    <a:off x="3982320" y="1693800"/>
                    <a:ext cx="201600" cy="205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 flipH="1" flipV="1">
                    <a:off x="3981240" y="2102040"/>
                    <a:ext cx="204120" cy="147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 flipV="1">
                    <a:off x="3981600" y="1486440"/>
                    <a:ext cx="204120" cy="61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 flipV="1">
                    <a:off x="3982680" y="1487160"/>
                    <a:ext cx="200880" cy="20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3981600" y="1697760"/>
                    <a:ext cx="0" cy="754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>
                    <a:off x="4184280" y="1486440"/>
                    <a:ext cx="720" cy="764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9" name=""/>
              <p:cNvGrpSpPr/>
              <p:nvPr/>
            </p:nvGrpSpPr>
            <p:grpSpPr>
              <a:xfrm>
                <a:off x="2960280" y="1897200"/>
                <a:ext cx="3396960" cy="1218600"/>
                <a:chOff x="2960280" y="1897200"/>
                <a:chExt cx="3396960" cy="1218600"/>
              </a:xfrm>
            </p:grpSpPr>
            <p:sp>
              <p:nvSpPr>
                <p:cNvPr id="2680" name=""/>
                <p:cNvSpPr/>
                <p:nvPr/>
              </p:nvSpPr>
              <p:spPr>
                <a:xfrm flipV="1">
                  <a:off x="5131080" y="2908080"/>
                  <a:ext cx="200880" cy="201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 flipV="1">
                  <a:off x="2960280" y="2912760"/>
                  <a:ext cx="20448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2" name=""/>
                <p:cNvSpPr/>
                <p:nvPr/>
              </p:nvSpPr>
              <p:spPr>
                <a:xfrm flipV="1">
                  <a:off x="6156360" y="1897200"/>
                  <a:ext cx="2008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 flipV="1">
                  <a:off x="3984840" y="1900800"/>
                  <a:ext cx="2026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84" name=""/>
            <p:cNvGrpSpPr/>
            <p:nvPr/>
          </p:nvGrpSpPr>
          <p:grpSpPr>
            <a:xfrm>
              <a:off x="2894040" y="2275920"/>
              <a:ext cx="3498120" cy="1321200"/>
              <a:chOff x="2894040" y="2275920"/>
              <a:chExt cx="3498120" cy="1321200"/>
            </a:xfrm>
          </p:grpSpPr>
          <p:grpSp>
            <p:nvGrpSpPr>
              <p:cNvPr id="2685" name=""/>
              <p:cNvGrpSpPr/>
              <p:nvPr/>
            </p:nvGrpSpPr>
            <p:grpSpPr>
              <a:xfrm>
                <a:off x="5270400" y="2477160"/>
                <a:ext cx="918000" cy="916920"/>
                <a:chOff x="5270400" y="2477160"/>
                <a:chExt cx="918000" cy="91692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6087960" y="247716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5886720" y="267696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8" name=""/>
                <p:cNvSpPr/>
                <p:nvPr/>
              </p:nvSpPr>
              <p:spPr>
                <a:xfrm>
                  <a:off x="5679360" y="2882160"/>
                  <a:ext cx="10080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9" name=""/>
                <p:cNvSpPr/>
                <p:nvPr/>
              </p:nvSpPr>
              <p:spPr>
                <a:xfrm>
                  <a:off x="5475240" y="3084840"/>
                  <a:ext cx="10332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5270400" y="3293280"/>
                  <a:ext cx="10008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1" name=""/>
              <p:cNvGrpSpPr/>
              <p:nvPr/>
            </p:nvGrpSpPr>
            <p:grpSpPr>
              <a:xfrm>
                <a:off x="3102840" y="2476440"/>
                <a:ext cx="915120" cy="912240"/>
                <a:chOff x="3102840" y="2476440"/>
                <a:chExt cx="915120" cy="912240"/>
              </a:xfrm>
            </p:grpSpPr>
            <p:sp>
              <p:nvSpPr>
                <p:cNvPr id="2692" name=""/>
                <p:cNvSpPr/>
                <p:nvPr/>
              </p:nvSpPr>
              <p:spPr>
                <a:xfrm>
                  <a:off x="3917520" y="247644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3714840" y="2678040"/>
                  <a:ext cx="100440" cy="1018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3511800" y="288216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5" name=""/>
                <p:cNvSpPr/>
                <p:nvPr/>
              </p:nvSpPr>
              <p:spPr>
                <a:xfrm>
                  <a:off x="3304440" y="3085920"/>
                  <a:ext cx="10116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3102840" y="328788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7" name=""/>
              <p:cNvGrpSpPr/>
              <p:nvPr/>
            </p:nvGrpSpPr>
            <p:grpSpPr>
              <a:xfrm>
                <a:off x="4118400" y="2275920"/>
                <a:ext cx="2273760" cy="102600"/>
                <a:chOff x="4118400" y="2275920"/>
                <a:chExt cx="2273760" cy="102600"/>
              </a:xfrm>
            </p:grpSpPr>
            <p:sp>
              <p:nvSpPr>
                <p:cNvPr id="2698" name=""/>
                <p:cNvSpPr/>
                <p:nvPr/>
              </p:nvSpPr>
              <p:spPr>
                <a:xfrm>
                  <a:off x="6291720" y="227592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4118400" y="227592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>
                  <a:off x="5578560" y="227592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>
                  <a:off x="4479480" y="227736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4826880" y="227700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3" name=""/>
                <p:cNvSpPr/>
                <p:nvPr/>
              </p:nvSpPr>
              <p:spPr>
                <a:xfrm>
                  <a:off x="5205600" y="227592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5936760" y="227700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5" name=""/>
              <p:cNvGrpSpPr/>
              <p:nvPr/>
            </p:nvGrpSpPr>
            <p:grpSpPr>
              <a:xfrm>
                <a:off x="2894040" y="3494880"/>
                <a:ext cx="2274120" cy="102240"/>
                <a:chOff x="2894040" y="3494880"/>
                <a:chExt cx="2274120" cy="102240"/>
              </a:xfrm>
            </p:grpSpPr>
            <p:sp>
              <p:nvSpPr>
                <p:cNvPr id="2706" name=""/>
                <p:cNvSpPr/>
                <p:nvPr/>
              </p:nvSpPr>
              <p:spPr>
                <a:xfrm>
                  <a:off x="289404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7" name=""/>
                <p:cNvSpPr/>
                <p:nvPr/>
              </p:nvSpPr>
              <p:spPr>
                <a:xfrm>
                  <a:off x="5067360" y="349488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32529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9" name=""/>
                <p:cNvSpPr/>
                <p:nvPr/>
              </p:nvSpPr>
              <p:spPr>
                <a:xfrm>
                  <a:off x="36021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0" name=""/>
                <p:cNvSpPr/>
                <p:nvPr/>
              </p:nvSpPr>
              <p:spPr>
                <a:xfrm>
                  <a:off x="4354560" y="349596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47181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12" name=""/>
            <p:cNvGrpSpPr/>
            <p:nvPr/>
          </p:nvGrpSpPr>
          <p:grpSpPr>
            <a:xfrm>
              <a:off x="4185000" y="1488600"/>
              <a:ext cx="2171520" cy="765000"/>
              <a:chOff x="4185000" y="1488600"/>
              <a:chExt cx="2171520" cy="765000"/>
            </a:xfrm>
          </p:grpSpPr>
          <p:sp>
            <p:nvSpPr>
              <p:cNvPr id="2713" name=""/>
              <p:cNvSpPr/>
              <p:nvPr/>
            </p:nvSpPr>
            <p:spPr>
              <a:xfrm>
                <a:off x="4185000" y="148860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4185000" y="169632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4185360" y="2063520"/>
                <a:ext cx="2167560" cy="8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V="1">
                <a:off x="4186080" y="1901160"/>
                <a:ext cx="21639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4186800" y="225360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8" name=""/>
            <p:cNvGrpSpPr/>
            <p:nvPr/>
          </p:nvGrpSpPr>
          <p:grpSpPr>
            <a:xfrm>
              <a:off x="2957040" y="1694160"/>
              <a:ext cx="1227600" cy="1779480"/>
              <a:chOff x="2957040" y="1694160"/>
              <a:chExt cx="1227600" cy="1779480"/>
            </a:xfrm>
          </p:grpSpPr>
          <p:sp>
            <p:nvSpPr>
              <p:cNvPr id="2719" name=""/>
              <p:cNvSpPr/>
              <p:nvPr/>
            </p:nvSpPr>
            <p:spPr>
              <a:xfrm flipV="1">
                <a:off x="2959560" y="1694160"/>
                <a:ext cx="1224000" cy="12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2957040" y="1903320"/>
                <a:ext cx="1226880" cy="12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 flipV="1">
                <a:off x="2957760" y="2071800"/>
                <a:ext cx="1226880" cy="12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2957760" y="2253240"/>
                <a:ext cx="1225080" cy="1220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3" name=""/>
            <p:cNvGrpSpPr/>
            <p:nvPr/>
          </p:nvGrpSpPr>
          <p:grpSpPr>
            <a:xfrm>
              <a:off x="2957040" y="1320840"/>
              <a:ext cx="3396960" cy="2158200"/>
              <a:chOff x="2957040" y="1320840"/>
              <a:chExt cx="3396960" cy="2158200"/>
            </a:xfrm>
          </p:grpSpPr>
          <p:grpSp>
            <p:nvGrpSpPr>
              <p:cNvPr id="2724" name=""/>
              <p:cNvGrpSpPr/>
              <p:nvPr/>
            </p:nvGrpSpPr>
            <p:grpSpPr>
              <a:xfrm>
                <a:off x="4184640" y="1320840"/>
                <a:ext cx="2169360" cy="933840"/>
                <a:chOff x="4184640" y="1320840"/>
                <a:chExt cx="2169360" cy="93384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6006960" y="1436400"/>
                  <a:ext cx="0" cy="818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6354000" y="1497960"/>
                  <a:ext cx="0" cy="75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5644800" y="1377000"/>
                  <a:ext cx="0" cy="87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5270040" y="1320840"/>
                  <a:ext cx="0" cy="93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4893840" y="1379520"/>
                  <a:ext cx="0" cy="87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>
                  <a:off x="4184640" y="1494360"/>
                  <a:ext cx="0" cy="760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>
                  <a:off x="4547160" y="1433520"/>
                  <a:ext cx="0" cy="821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2" name=""/>
              <p:cNvGrpSpPr/>
              <p:nvPr/>
            </p:nvGrpSpPr>
            <p:grpSpPr>
              <a:xfrm>
                <a:off x="2957040" y="2549880"/>
                <a:ext cx="2171160" cy="929160"/>
                <a:chOff x="2957040" y="2549880"/>
                <a:chExt cx="2171160" cy="929160"/>
              </a:xfrm>
            </p:grpSpPr>
            <p:sp>
              <p:nvSpPr>
                <p:cNvPr id="2733" name=""/>
                <p:cNvSpPr/>
                <p:nvPr/>
              </p:nvSpPr>
              <p:spPr>
                <a:xfrm flipH="1">
                  <a:off x="4043160" y="2549880"/>
                  <a:ext cx="720" cy="361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4780800" y="2665080"/>
                  <a:ext cx="0" cy="813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5128200" y="2716560"/>
                  <a:ext cx="0" cy="755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"/>
                <p:cNvSpPr/>
                <p:nvPr/>
              </p:nvSpPr>
              <p:spPr>
                <a:xfrm>
                  <a:off x="4418640" y="2610360"/>
                  <a:ext cx="0" cy="86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7" name=""/>
                <p:cNvSpPr/>
                <p:nvPr/>
              </p:nvSpPr>
              <p:spPr>
                <a:xfrm>
                  <a:off x="3667320" y="2605680"/>
                  <a:ext cx="0" cy="87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2957040" y="2718360"/>
                  <a:ext cx="360" cy="756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>
                  <a:off x="3321000" y="2662560"/>
                  <a:ext cx="0" cy="813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40" name=""/>
            <p:cNvGrpSpPr/>
            <p:nvPr/>
          </p:nvGrpSpPr>
          <p:grpSpPr>
            <a:xfrm>
              <a:off x="3162960" y="1526760"/>
              <a:ext cx="2988000" cy="1739520"/>
              <a:chOff x="3162960" y="1526760"/>
              <a:chExt cx="2988000" cy="1739520"/>
            </a:xfrm>
          </p:grpSpPr>
          <p:grpSp>
            <p:nvGrpSpPr>
              <p:cNvPr id="2741" name=""/>
              <p:cNvGrpSpPr/>
              <p:nvPr/>
            </p:nvGrpSpPr>
            <p:grpSpPr>
              <a:xfrm>
                <a:off x="3162960" y="2346840"/>
                <a:ext cx="2169720" cy="919440"/>
                <a:chOff x="3162960" y="2346840"/>
                <a:chExt cx="2169720" cy="919440"/>
              </a:xfrm>
            </p:grpSpPr>
            <p:sp>
              <p:nvSpPr>
                <p:cNvPr id="2742" name=""/>
                <p:cNvSpPr/>
                <p:nvPr/>
              </p:nvSpPr>
              <p:spPr>
                <a:xfrm flipV="1">
                  <a:off x="3162960" y="2513520"/>
                  <a:ext cx="0" cy="752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flipV="1">
                  <a:off x="3162960" y="2346840"/>
                  <a:ext cx="1085040" cy="16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 flipV="1">
                  <a:off x="5332680" y="2513520"/>
                  <a:ext cx="0" cy="752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5" name=""/>
                <p:cNvSpPr/>
                <p:nvPr/>
              </p:nvSpPr>
              <p:spPr>
                <a:xfrm flipH="1" flipV="1">
                  <a:off x="4247640" y="2346840"/>
                  <a:ext cx="1084680" cy="16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6" name=""/>
              <p:cNvGrpSpPr/>
              <p:nvPr/>
            </p:nvGrpSpPr>
            <p:grpSpPr>
              <a:xfrm>
                <a:off x="3367440" y="1526760"/>
                <a:ext cx="2783520" cy="1542240"/>
                <a:chOff x="3367440" y="1526760"/>
                <a:chExt cx="2783520" cy="1542240"/>
              </a:xfrm>
            </p:grpSpPr>
            <p:grpSp>
              <p:nvGrpSpPr>
                <p:cNvPr id="2747" name=""/>
                <p:cNvGrpSpPr/>
                <p:nvPr/>
              </p:nvGrpSpPr>
              <p:grpSpPr>
                <a:xfrm>
                  <a:off x="3367440" y="2141640"/>
                  <a:ext cx="2170080" cy="927360"/>
                  <a:chOff x="3367440" y="2141640"/>
                  <a:chExt cx="2170080" cy="927360"/>
                </a:xfrm>
              </p:grpSpPr>
              <p:sp>
                <p:nvSpPr>
                  <p:cNvPr id="2748" name=""/>
                  <p:cNvSpPr/>
                  <p:nvPr/>
                </p:nvSpPr>
                <p:spPr>
                  <a:xfrm flipV="1">
                    <a:off x="3367440" y="2309040"/>
                    <a:ext cx="0" cy="756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9" name=""/>
                  <p:cNvSpPr/>
                  <p:nvPr/>
                </p:nvSpPr>
                <p:spPr>
                  <a:xfrm flipV="1">
                    <a:off x="3367440" y="2141640"/>
                    <a:ext cx="1085040" cy="167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0" name=""/>
                  <p:cNvSpPr/>
                  <p:nvPr/>
                </p:nvSpPr>
                <p:spPr>
                  <a:xfrm flipV="1">
                    <a:off x="5537520" y="2309400"/>
                    <a:ext cx="0" cy="759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 flipH="1" flipV="1">
                    <a:off x="4452120" y="2141640"/>
                    <a:ext cx="1084680" cy="167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2" name=""/>
                <p:cNvGrpSpPr/>
                <p:nvPr/>
              </p:nvGrpSpPr>
              <p:grpSpPr>
                <a:xfrm>
                  <a:off x="3570840" y="1936080"/>
                  <a:ext cx="2171160" cy="925920"/>
                  <a:chOff x="3570840" y="1936080"/>
                  <a:chExt cx="2171160" cy="925920"/>
                </a:xfrm>
              </p:grpSpPr>
              <p:sp>
                <p:nvSpPr>
                  <p:cNvPr id="2753" name=""/>
                  <p:cNvSpPr/>
                  <p:nvPr/>
                </p:nvSpPr>
                <p:spPr>
                  <a:xfrm flipV="1">
                    <a:off x="3570840" y="210456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4" name=""/>
                  <p:cNvSpPr/>
                  <p:nvPr/>
                </p:nvSpPr>
                <p:spPr>
                  <a:xfrm flipV="1">
                    <a:off x="3570840" y="1936080"/>
                    <a:ext cx="108540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5" name=""/>
                  <p:cNvSpPr/>
                  <p:nvPr/>
                </p:nvSpPr>
                <p:spPr>
                  <a:xfrm flipV="1">
                    <a:off x="5742000" y="210456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6" name=""/>
                  <p:cNvSpPr/>
                  <p:nvPr/>
                </p:nvSpPr>
                <p:spPr>
                  <a:xfrm flipH="1" flipV="1">
                    <a:off x="4655880" y="1936080"/>
                    <a:ext cx="108540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7" name=""/>
                <p:cNvGrpSpPr/>
                <p:nvPr/>
              </p:nvGrpSpPr>
              <p:grpSpPr>
                <a:xfrm>
                  <a:off x="3776400" y="1731240"/>
                  <a:ext cx="2170080" cy="925920"/>
                  <a:chOff x="3776400" y="1731240"/>
                  <a:chExt cx="2170080" cy="925920"/>
                </a:xfrm>
              </p:grpSpPr>
              <p:sp>
                <p:nvSpPr>
                  <p:cNvPr id="2758" name=""/>
                  <p:cNvSpPr/>
                  <p:nvPr/>
                </p:nvSpPr>
                <p:spPr>
                  <a:xfrm flipV="1">
                    <a:off x="3776400" y="189972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9" name=""/>
                  <p:cNvSpPr/>
                  <p:nvPr/>
                </p:nvSpPr>
                <p:spPr>
                  <a:xfrm flipV="1">
                    <a:off x="3776400" y="1731240"/>
                    <a:ext cx="108504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0" name=""/>
                  <p:cNvSpPr/>
                  <p:nvPr/>
                </p:nvSpPr>
                <p:spPr>
                  <a:xfrm flipV="1">
                    <a:off x="5946480" y="189972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1" name=""/>
                  <p:cNvSpPr/>
                  <p:nvPr/>
                </p:nvSpPr>
                <p:spPr>
                  <a:xfrm flipH="1" flipV="1">
                    <a:off x="4861440" y="1731240"/>
                    <a:ext cx="108504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2" name=""/>
                <p:cNvGrpSpPr/>
                <p:nvPr/>
              </p:nvGrpSpPr>
              <p:grpSpPr>
                <a:xfrm>
                  <a:off x="3981240" y="1526760"/>
                  <a:ext cx="2169720" cy="931680"/>
                  <a:chOff x="3981240" y="1526760"/>
                  <a:chExt cx="2169720" cy="931680"/>
                </a:xfrm>
              </p:grpSpPr>
              <p:sp>
                <p:nvSpPr>
                  <p:cNvPr id="2763" name=""/>
                  <p:cNvSpPr/>
                  <p:nvPr/>
                </p:nvSpPr>
                <p:spPr>
                  <a:xfrm flipV="1">
                    <a:off x="3981240" y="1695960"/>
                    <a:ext cx="0" cy="76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4" name=""/>
                  <p:cNvSpPr/>
                  <p:nvPr/>
                </p:nvSpPr>
                <p:spPr>
                  <a:xfrm flipV="1">
                    <a:off x="3981240" y="1526760"/>
                    <a:ext cx="1084680" cy="169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5" name=""/>
                  <p:cNvSpPr/>
                  <p:nvPr/>
                </p:nvSpPr>
                <p:spPr>
                  <a:xfrm flipV="1">
                    <a:off x="6150960" y="1695960"/>
                    <a:ext cx="0" cy="76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 flipH="1" flipV="1">
                    <a:off x="5065920" y="1526760"/>
                    <a:ext cx="1085040" cy="169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67" name=""/>
            <p:cNvGrpSpPr/>
            <p:nvPr/>
          </p:nvGrpSpPr>
          <p:grpSpPr>
            <a:xfrm>
              <a:off x="2953440" y="1321560"/>
              <a:ext cx="3400920" cy="1397880"/>
              <a:chOff x="2953440" y="1321560"/>
              <a:chExt cx="3400920" cy="1397880"/>
            </a:xfrm>
          </p:grpSpPr>
          <p:grpSp>
            <p:nvGrpSpPr>
              <p:cNvPr id="2768" name=""/>
              <p:cNvGrpSpPr/>
              <p:nvPr/>
            </p:nvGrpSpPr>
            <p:grpSpPr>
              <a:xfrm>
                <a:off x="3981600" y="1321560"/>
                <a:ext cx="2372760" cy="372960"/>
                <a:chOff x="3981600" y="1321560"/>
                <a:chExt cx="2372760" cy="372960"/>
              </a:xfrm>
            </p:grpSpPr>
            <p:sp>
              <p:nvSpPr>
                <p:cNvPr id="2769" name=""/>
                <p:cNvSpPr/>
                <p:nvPr/>
              </p:nvSpPr>
              <p:spPr>
                <a:xfrm flipV="1">
                  <a:off x="6153840" y="148644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flipV="1">
                  <a:off x="5068080" y="1321560"/>
                  <a:ext cx="203400" cy="204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V="1">
                  <a:off x="5442840" y="137916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flipV="1">
                  <a:off x="3981960" y="1489320"/>
                  <a:ext cx="20520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V="1">
                  <a:off x="4343760" y="143424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flipV="1">
                  <a:off x="4692240" y="1380960"/>
                  <a:ext cx="2008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75" name=""/>
                <p:cNvGrpSpPr/>
                <p:nvPr/>
              </p:nvGrpSpPr>
              <p:grpSpPr>
                <a:xfrm>
                  <a:off x="3981600" y="1321920"/>
                  <a:ext cx="2370600" cy="372600"/>
                  <a:chOff x="3981600" y="1321920"/>
                  <a:chExt cx="2370600" cy="372600"/>
                </a:xfrm>
              </p:grpSpPr>
              <p:sp>
                <p:nvSpPr>
                  <p:cNvPr id="2776" name=""/>
                  <p:cNvSpPr/>
                  <p:nvPr/>
                </p:nvSpPr>
                <p:spPr>
                  <a:xfrm flipH="1" flipV="1">
                    <a:off x="5270040" y="1321920"/>
                    <a:ext cx="16848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7" name=""/>
                  <p:cNvSpPr/>
                  <p:nvPr/>
                </p:nvSpPr>
                <p:spPr>
                  <a:xfrm flipH="1">
                    <a:off x="4691880" y="1321920"/>
                    <a:ext cx="577440" cy="261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8" name=""/>
                  <p:cNvSpPr/>
                  <p:nvPr/>
                </p:nvSpPr>
                <p:spPr>
                  <a:xfrm flipH="1" flipV="1">
                    <a:off x="6006960" y="1433880"/>
                    <a:ext cx="1425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9" name=""/>
                  <p:cNvSpPr/>
                  <p:nvPr/>
                </p:nvSpPr>
                <p:spPr>
                  <a:xfrm flipV="1">
                    <a:off x="5798880" y="1487160"/>
                    <a:ext cx="553320" cy="151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0" name=""/>
                  <p:cNvSpPr/>
                  <p:nvPr/>
                </p:nvSpPr>
                <p:spPr>
                  <a:xfrm flipH="1" flipV="1">
                    <a:off x="5645520" y="1379520"/>
                    <a:ext cx="153360" cy="260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1" name=""/>
                  <p:cNvSpPr/>
                  <p:nvPr/>
                </p:nvSpPr>
                <p:spPr>
                  <a:xfrm flipH="1">
                    <a:off x="5440320" y="1432440"/>
                    <a:ext cx="567000" cy="15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2" name=""/>
                  <p:cNvSpPr/>
                  <p:nvPr/>
                </p:nvSpPr>
                <p:spPr>
                  <a:xfrm flipH="1">
                    <a:off x="5069880" y="1377000"/>
                    <a:ext cx="575280" cy="147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3" name=""/>
                  <p:cNvSpPr/>
                  <p:nvPr/>
                </p:nvSpPr>
                <p:spPr>
                  <a:xfrm flipH="1" flipV="1">
                    <a:off x="4893480" y="1381320"/>
                    <a:ext cx="180720" cy="147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4" name=""/>
                  <p:cNvSpPr/>
                  <p:nvPr/>
                </p:nvSpPr>
                <p:spPr>
                  <a:xfrm flipH="1" flipV="1">
                    <a:off x="4547160" y="1432080"/>
                    <a:ext cx="149400" cy="153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5" name=""/>
                  <p:cNvSpPr/>
                  <p:nvPr/>
                </p:nvSpPr>
                <p:spPr>
                  <a:xfrm flipH="1">
                    <a:off x="4341240" y="1382400"/>
                    <a:ext cx="552600" cy="25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6" name=""/>
                  <p:cNvSpPr/>
                  <p:nvPr/>
                </p:nvSpPr>
                <p:spPr>
                  <a:xfrm flipH="1" flipV="1">
                    <a:off x="4188600" y="1490040"/>
                    <a:ext cx="151560" cy="148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7" name=""/>
                  <p:cNvSpPr/>
                  <p:nvPr/>
                </p:nvSpPr>
                <p:spPr>
                  <a:xfrm flipH="1">
                    <a:off x="3981600" y="1433160"/>
                    <a:ext cx="565560" cy="259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8" name=""/>
                  <p:cNvSpPr/>
                  <p:nvPr/>
                </p:nvSpPr>
                <p:spPr>
                  <a:xfrm flipV="1">
                    <a:off x="4189320" y="1323000"/>
                    <a:ext cx="1080000" cy="163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9" name=""/>
                  <p:cNvSpPr/>
                  <p:nvPr/>
                </p:nvSpPr>
                <p:spPr>
                  <a:xfrm flipV="1">
                    <a:off x="3992040" y="1524600"/>
                    <a:ext cx="1078560" cy="16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0" name=""/>
                  <p:cNvSpPr/>
                  <p:nvPr/>
                </p:nvSpPr>
                <p:spPr>
                  <a:xfrm>
                    <a:off x="5068800" y="1524240"/>
                    <a:ext cx="1081800" cy="170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5274000" y="1321920"/>
                    <a:ext cx="1073520" cy="164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92" name=""/>
                <p:cNvSpPr/>
                <p:nvPr/>
              </p:nvSpPr>
              <p:spPr>
                <a:xfrm flipV="1">
                  <a:off x="5799600" y="1433520"/>
                  <a:ext cx="205920" cy="206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3" name=""/>
              <p:cNvGrpSpPr/>
              <p:nvPr/>
            </p:nvGrpSpPr>
            <p:grpSpPr>
              <a:xfrm>
                <a:off x="2953440" y="2346120"/>
                <a:ext cx="2373840" cy="373320"/>
                <a:chOff x="2953440" y="2346120"/>
                <a:chExt cx="2373840" cy="373320"/>
              </a:xfrm>
            </p:grpSpPr>
            <p:sp>
              <p:nvSpPr>
                <p:cNvPr id="2794" name=""/>
                <p:cNvSpPr/>
                <p:nvPr/>
              </p:nvSpPr>
              <p:spPr>
                <a:xfrm flipV="1">
                  <a:off x="5123160" y="2513520"/>
                  <a:ext cx="20340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 flipV="1">
                  <a:off x="4416840" y="2404440"/>
                  <a:ext cx="202320" cy="202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6" name=""/>
                <p:cNvSpPr/>
                <p:nvPr/>
              </p:nvSpPr>
              <p:spPr>
                <a:xfrm flipV="1">
                  <a:off x="4039920" y="2349000"/>
                  <a:ext cx="199800" cy="19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7" name=""/>
                <p:cNvSpPr/>
                <p:nvPr/>
              </p:nvSpPr>
              <p:spPr>
                <a:xfrm>
                  <a:off x="4038120" y="2549160"/>
                  <a:ext cx="1085040" cy="170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 flipH="1" flipV="1">
                  <a:off x="4242960" y="2347200"/>
                  <a:ext cx="169200" cy="261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9" name=""/>
                <p:cNvSpPr/>
                <p:nvPr/>
              </p:nvSpPr>
              <p:spPr>
                <a:xfrm flipH="1" flipV="1">
                  <a:off x="4980240" y="2460600"/>
                  <a:ext cx="144360" cy="25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0" name=""/>
                <p:cNvSpPr/>
                <p:nvPr/>
              </p:nvSpPr>
              <p:spPr>
                <a:xfrm flipV="1">
                  <a:off x="4776120" y="2513520"/>
                  <a:ext cx="547560" cy="15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 flipH="1" flipV="1">
                  <a:off x="4619880" y="2405520"/>
                  <a:ext cx="15696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 flipH="1">
                  <a:off x="4412160" y="2459880"/>
                  <a:ext cx="567000" cy="149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3" name=""/>
                <p:cNvSpPr/>
                <p:nvPr/>
              </p:nvSpPr>
              <p:spPr>
                <a:xfrm flipH="1">
                  <a:off x="4038840" y="2404440"/>
                  <a:ext cx="581400" cy="14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4245840" y="2346480"/>
                  <a:ext cx="1081440" cy="16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 flipV="1">
                  <a:off x="4777200" y="2459880"/>
                  <a:ext cx="20232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 flipV="1">
                  <a:off x="3666240" y="2401920"/>
                  <a:ext cx="202320" cy="204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 flipV="1">
                  <a:off x="3317760" y="2455200"/>
                  <a:ext cx="204120" cy="20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8" name=""/>
                <p:cNvSpPr/>
                <p:nvPr/>
              </p:nvSpPr>
              <p:spPr>
                <a:xfrm flipV="1">
                  <a:off x="2959560" y="2549160"/>
                  <a:ext cx="1078200" cy="168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flipV="1">
                  <a:off x="3159360" y="2346120"/>
                  <a:ext cx="1089000" cy="165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3664440" y="2346120"/>
                  <a:ext cx="57996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 flipV="1">
                  <a:off x="3867480" y="2404440"/>
                  <a:ext cx="169920" cy="14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 flipV="1">
                  <a:off x="3520440" y="2455560"/>
                  <a:ext cx="144000" cy="15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H="1">
                  <a:off x="3319200" y="2407320"/>
                  <a:ext cx="543600" cy="254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H="1" flipV="1">
                  <a:off x="3159720" y="2512440"/>
                  <a:ext cx="155880" cy="14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H="1">
                  <a:off x="2955240" y="2457360"/>
                  <a:ext cx="56268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V="1">
                  <a:off x="2953440" y="2513160"/>
                  <a:ext cx="205920" cy="20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17" name=""/>
            <p:cNvGrpSpPr/>
            <p:nvPr/>
          </p:nvGrpSpPr>
          <p:grpSpPr>
            <a:xfrm>
              <a:off x="2958120" y="1487520"/>
              <a:ext cx="3395160" cy="1229760"/>
              <a:chOff x="2958120" y="1487520"/>
              <a:chExt cx="3395160" cy="1229760"/>
            </a:xfrm>
          </p:grpSpPr>
          <p:sp>
            <p:nvSpPr>
              <p:cNvPr id="2818" name=""/>
              <p:cNvSpPr/>
              <p:nvPr/>
            </p:nvSpPr>
            <p:spPr>
              <a:xfrm flipV="1">
                <a:off x="5122440" y="1487520"/>
                <a:ext cx="1230840" cy="122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 flipV="1">
                <a:off x="2958120" y="1487520"/>
                <a:ext cx="1227240" cy="122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0" name=""/>
            <p:cNvGrpSpPr/>
            <p:nvPr/>
          </p:nvGrpSpPr>
          <p:grpSpPr>
            <a:xfrm>
              <a:off x="3113640" y="1350000"/>
              <a:ext cx="3066120" cy="1346400"/>
              <a:chOff x="3113640" y="1350000"/>
              <a:chExt cx="3066120" cy="1346400"/>
            </a:xfrm>
          </p:grpSpPr>
          <p:sp>
            <p:nvSpPr>
              <p:cNvPr id="2821" name=""/>
              <p:cNvSpPr/>
              <p:nvPr/>
            </p:nvSpPr>
            <p:spPr>
              <a:xfrm flipV="1">
                <a:off x="4232520" y="1350000"/>
                <a:ext cx="1223640" cy="1229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 flipV="1">
                <a:off x="4417920" y="1377720"/>
                <a:ext cx="1227240" cy="123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V="1">
                <a:off x="4779360" y="1436400"/>
                <a:ext cx="1221840" cy="1229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V="1">
                <a:off x="4948920" y="1463400"/>
                <a:ext cx="1230840" cy="123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3113640" y="1461240"/>
                <a:ext cx="1255680" cy="123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V="1">
                <a:off x="3318480" y="1434240"/>
                <a:ext cx="1226160" cy="122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V="1">
                <a:off x="3667680" y="1377000"/>
                <a:ext cx="1228680" cy="122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V="1">
                <a:off x="3844440" y="1350000"/>
                <a:ext cx="1248120" cy="123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V="1">
                <a:off x="3488040" y="1409400"/>
                <a:ext cx="1231920" cy="122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V="1">
                <a:off x="4596480" y="1404000"/>
                <a:ext cx="1227240" cy="1231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1" name=""/>
            <p:cNvGrpSpPr/>
            <p:nvPr/>
          </p:nvGrpSpPr>
          <p:grpSpPr>
            <a:xfrm>
              <a:off x="2957040" y="2718360"/>
              <a:ext cx="2169720" cy="758160"/>
              <a:chOff x="2957040" y="2718360"/>
              <a:chExt cx="2169720" cy="758160"/>
            </a:xfrm>
          </p:grpSpPr>
          <p:sp>
            <p:nvSpPr>
              <p:cNvPr id="2832" name=""/>
              <p:cNvSpPr/>
              <p:nvPr/>
            </p:nvSpPr>
            <p:spPr>
              <a:xfrm flipV="1">
                <a:off x="4418280" y="3475800"/>
                <a:ext cx="70704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V="1">
                <a:off x="2957040" y="2718360"/>
                <a:ext cx="2169720" cy="2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2957040" y="2914560"/>
                <a:ext cx="21693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416480" y="3292920"/>
                <a:ext cx="70920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 flipV="1">
                <a:off x="2957040" y="3117600"/>
                <a:ext cx="7099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4418280" y="3112200"/>
                <a:ext cx="7084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2957760" y="3295440"/>
                <a:ext cx="7081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2958480" y="3474720"/>
                <a:ext cx="706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0" name=""/>
            <p:cNvGrpSpPr/>
            <p:nvPr/>
          </p:nvGrpSpPr>
          <p:grpSpPr>
            <a:xfrm>
              <a:off x="5125680" y="1697400"/>
              <a:ext cx="1228680" cy="1776600"/>
              <a:chOff x="5125680" y="1697400"/>
              <a:chExt cx="1228680" cy="1776600"/>
            </a:xfrm>
          </p:grpSpPr>
          <p:sp>
            <p:nvSpPr>
              <p:cNvPr id="2841" name=""/>
              <p:cNvSpPr/>
              <p:nvPr/>
            </p:nvSpPr>
            <p:spPr>
              <a:xfrm flipV="1">
                <a:off x="5125680" y="2254680"/>
                <a:ext cx="1228680" cy="1219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V="1">
                <a:off x="5128200" y="1697400"/>
                <a:ext cx="1225080" cy="1217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 flipV="1">
                <a:off x="5127120" y="1900800"/>
                <a:ext cx="1226160" cy="1210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V="1">
                <a:off x="5126400" y="2063160"/>
                <a:ext cx="1226880" cy="12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5" name=""/>
            <p:cNvSpPr/>
            <p:nvPr/>
          </p:nvSpPr>
          <p:spPr>
            <a:xfrm flipV="1">
              <a:off x="2957040" y="2549880"/>
              <a:ext cx="1084320" cy="168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 flipV="1">
              <a:off x="4043520" y="2550960"/>
              <a:ext cx="1085040" cy="168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V="1">
              <a:off x="2956320" y="271548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V="1">
              <a:off x="5125680" y="271548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6352920" y="148536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4188960" y="1320840"/>
              <a:ext cx="1083960" cy="167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flipH="1" flipV="1">
              <a:off x="5273280" y="1320840"/>
              <a:ext cx="1084320" cy="167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2" name=""/>
          <p:cNvSpPr/>
          <p:nvPr/>
        </p:nvSpPr>
        <p:spPr>
          <a:xfrm>
            <a:off x="6772320" y="43275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"/>
          <p:cNvSpPr/>
          <p:nvPr/>
        </p:nvSpPr>
        <p:spPr>
          <a:xfrm>
            <a:off x="147600" y="3781440"/>
            <a:ext cx="658188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flèche d’une panne isostatique est plus grande que celle d ’une panne hyperstatique de même section transver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018200" y="38718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7045200" y="3936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7927920" y="38718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7956720" y="39369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47600" y="4398840"/>
            <a:ext cx="6583320" cy="293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sollicitées en flexion si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792972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>
            <a:hlinkClick r:id="" action="ppaction://hlinkshowjump?jump=nextslide"/>
          </p:cNvPr>
          <p:cNvSpPr/>
          <p:nvPr/>
        </p:nvSpPr>
        <p:spPr>
          <a:xfrm>
            <a:off x="7956720" y="44370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7016760" y="4373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7045200" y="443880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3" name=""/>
          <p:cNvGrpSpPr/>
          <p:nvPr/>
        </p:nvGrpSpPr>
        <p:grpSpPr>
          <a:xfrm>
            <a:off x="2894040" y="1318680"/>
            <a:ext cx="3498120" cy="2278440"/>
            <a:chOff x="2894040" y="1318680"/>
            <a:chExt cx="3498120" cy="2278440"/>
          </a:xfrm>
        </p:grpSpPr>
        <p:sp>
          <p:nvSpPr>
            <p:cNvPr id="2864" name=""/>
            <p:cNvSpPr/>
            <p:nvPr/>
          </p:nvSpPr>
          <p:spPr>
            <a:xfrm flipV="1">
              <a:off x="4038480" y="1318680"/>
              <a:ext cx="1229400" cy="122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V="1">
              <a:off x="4183200" y="148536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6" name=""/>
            <p:cNvGrpSpPr/>
            <p:nvPr/>
          </p:nvGrpSpPr>
          <p:grpSpPr>
            <a:xfrm>
              <a:off x="2958120" y="1485360"/>
              <a:ext cx="3399120" cy="1988640"/>
              <a:chOff x="2958120" y="1485360"/>
              <a:chExt cx="3399120" cy="1988640"/>
            </a:xfrm>
          </p:grpSpPr>
          <p:grpSp>
            <p:nvGrpSpPr>
              <p:cNvPr id="2867" name=""/>
              <p:cNvGrpSpPr/>
              <p:nvPr/>
            </p:nvGrpSpPr>
            <p:grpSpPr>
              <a:xfrm>
                <a:off x="2958120" y="1485360"/>
                <a:ext cx="3397680" cy="1988640"/>
                <a:chOff x="2958120" y="1485360"/>
                <a:chExt cx="3397680" cy="1988640"/>
              </a:xfrm>
            </p:grpSpPr>
            <p:grpSp>
              <p:nvGrpSpPr>
                <p:cNvPr id="2868" name=""/>
                <p:cNvGrpSpPr/>
                <p:nvPr/>
              </p:nvGrpSpPr>
              <p:grpSpPr>
                <a:xfrm>
                  <a:off x="5119560" y="2510640"/>
                  <a:ext cx="213480" cy="959400"/>
                  <a:chOff x="5119560" y="2510640"/>
                  <a:chExt cx="213480" cy="959400"/>
                </a:xfrm>
              </p:grpSpPr>
              <p:sp>
                <p:nvSpPr>
                  <p:cNvPr id="2869" name=""/>
                  <p:cNvSpPr/>
                  <p:nvPr/>
                </p:nvSpPr>
                <p:spPr>
                  <a:xfrm flipV="1">
                    <a:off x="5128560" y="2909160"/>
                    <a:ext cx="204480" cy="56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 flipH="1" flipV="1">
                    <a:off x="5124600" y="2711880"/>
                    <a:ext cx="207720" cy="196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 flipH="1" flipV="1">
                    <a:off x="5128560" y="3109680"/>
                    <a:ext cx="204480" cy="155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 flipV="1">
                    <a:off x="5128560" y="2510640"/>
                    <a:ext cx="204480" cy="594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 flipV="1">
                    <a:off x="5119560" y="2518200"/>
                    <a:ext cx="20448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>
                    <a:off x="5128560" y="2712600"/>
                    <a:ext cx="0" cy="754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5333040" y="2514240"/>
                    <a:ext cx="0" cy="75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6" name=""/>
                <p:cNvGrpSpPr/>
                <p:nvPr/>
              </p:nvGrpSpPr>
              <p:grpSpPr>
                <a:xfrm>
                  <a:off x="2958120" y="2514960"/>
                  <a:ext cx="205560" cy="959040"/>
                  <a:chOff x="2958120" y="2514960"/>
                  <a:chExt cx="205560" cy="959040"/>
                </a:xfrm>
              </p:grpSpPr>
              <p:sp>
                <p:nvSpPr>
                  <p:cNvPr id="2877" name=""/>
                  <p:cNvSpPr/>
                  <p:nvPr/>
                </p:nvSpPr>
                <p:spPr>
                  <a:xfrm flipV="1">
                    <a:off x="2958840" y="2911320"/>
                    <a:ext cx="204480" cy="56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 flipH="1" flipV="1">
                    <a:off x="2958480" y="2719080"/>
                    <a:ext cx="202680" cy="18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 flipH="1" flipV="1">
                    <a:off x="2958120" y="3115800"/>
                    <a:ext cx="204480" cy="15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0" name=""/>
                  <p:cNvSpPr/>
                  <p:nvPr/>
                </p:nvSpPr>
                <p:spPr>
                  <a:xfrm flipV="1">
                    <a:off x="2958840" y="2514960"/>
                    <a:ext cx="203400" cy="597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 flipV="1">
                    <a:off x="2959920" y="2515320"/>
                    <a:ext cx="200880" cy="20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2959200" y="2719800"/>
                    <a:ext cx="0" cy="754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 flipH="1">
                    <a:off x="3162960" y="2521800"/>
                    <a:ext cx="720" cy="745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84" name=""/>
                <p:cNvGrpSpPr/>
                <p:nvPr/>
              </p:nvGrpSpPr>
              <p:grpSpPr>
                <a:xfrm>
                  <a:off x="6149160" y="1485360"/>
                  <a:ext cx="206640" cy="973080"/>
                  <a:chOff x="6149160" y="1485360"/>
                  <a:chExt cx="206640" cy="973080"/>
                </a:xfrm>
              </p:grpSpPr>
              <p:sp>
                <p:nvSpPr>
                  <p:cNvPr id="2885" name=""/>
                  <p:cNvSpPr/>
                  <p:nvPr/>
                </p:nvSpPr>
                <p:spPr>
                  <a:xfrm flipV="1">
                    <a:off x="6150960" y="1897920"/>
                    <a:ext cx="202680" cy="557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6" name=""/>
                  <p:cNvSpPr/>
                  <p:nvPr/>
                </p:nvSpPr>
                <p:spPr>
                  <a:xfrm flipH="1" flipV="1">
                    <a:off x="6149160" y="1690560"/>
                    <a:ext cx="203400" cy="21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 flipH="1" flipV="1">
                    <a:off x="6150600" y="2098440"/>
                    <a:ext cx="202680" cy="153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 flipV="1">
                    <a:off x="6150240" y="1486440"/>
                    <a:ext cx="200520" cy="61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 flipV="1">
                    <a:off x="6149520" y="1485360"/>
                    <a:ext cx="205200" cy="20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6152400" y="1687680"/>
                    <a:ext cx="0" cy="770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 flipH="1">
                    <a:off x="6355080" y="1488600"/>
                    <a:ext cx="720" cy="763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2" name=""/>
                <p:cNvGrpSpPr/>
                <p:nvPr/>
              </p:nvGrpSpPr>
              <p:grpSpPr>
                <a:xfrm>
                  <a:off x="3981240" y="1486440"/>
                  <a:ext cx="204480" cy="968760"/>
                  <a:chOff x="3981240" y="1486440"/>
                  <a:chExt cx="204480" cy="968760"/>
                </a:xfrm>
              </p:grpSpPr>
              <p:sp>
                <p:nvSpPr>
                  <p:cNvPr id="2893" name=""/>
                  <p:cNvSpPr/>
                  <p:nvPr/>
                </p:nvSpPr>
                <p:spPr>
                  <a:xfrm flipV="1">
                    <a:off x="3981600" y="1900800"/>
                    <a:ext cx="203400" cy="554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 flipH="1" flipV="1">
                    <a:off x="3982320" y="1693800"/>
                    <a:ext cx="201600" cy="205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5" name=""/>
                  <p:cNvSpPr/>
                  <p:nvPr/>
                </p:nvSpPr>
                <p:spPr>
                  <a:xfrm flipH="1" flipV="1">
                    <a:off x="3981240" y="2102040"/>
                    <a:ext cx="204120" cy="147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 flipV="1">
                    <a:off x="3981600" y="1486440"/>
                    <a:ext cx="204120" cy="61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 flipV="1">
                    <a:off x="3982680" y="1487160"/>
                    <a:ext cx="200880" cy="20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3981600" y="1697760"/>
                    <a:ext cx="0" cy="754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4184280" y="1486440"/>
                    <a:ext cx="720" cy="764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00" name=""/>
              <p:cNvGrpSpPr/>
              <p:nvPr/>
            </p:nvGrpSpPr>
            <p:grpSpPr>
              <a:xfrm>
                <a:off x="2960280" y="1897200"/>
                <a:ext cx="3396960" cy="1218600"/>
                <a:chOff x="2960280" y="1897200"/>
                <a:chExt cx="3396960" cy="1218600"/>
              </a:xfrm>
            </p:grpSpPr>
            <p:sp>
              <p:nvSpPr>
                <p:cNvPr id="2901" name=""/>
                <p:cNvSpPr/>
                <p:nvPr/>
              </p:nvSpPr>
              <p:spPr>
                <a:xfrm flipV="1">
                  <a:off x="5131080" y="2908080"/>
                  <a:ext cx="200880" cy="201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 flipV="1">
                  <a:off x="2960280" y="2912760"/>
                  <a:ext cx="20448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 flipV="1">
                  <a:off x="6156360" y="1897200"/>
                  <a:ext cx="2008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4" name=""/>
                <p:cNvSpPr/>
                <p:nvPr/>
              </p:nvSpPr>
              <p:spPr>
                <a:xfrm flipV="1">
                  <a:off x="3984840" y="1900800"/>
                  <a:ext cx="2026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05" name=""/>
            <p:cNvGrpSpPr/>
            <p:nvPr/>
          </p:nvGrpSpPr>
          <p:grpSpPr>
            <a:xfrm>
              <a:off x="2894040" y="2275920"/>
              <a:ext cx="3498120" cy="1321200"/>
              <a:chOff x="2894040" y="2275920"/>
              <a:chExt cx="3498120" cy="1321200"/>
            </a:xfrm>
          </p:grpSpPr>
          <p:grpSp>
            <p:nvGrpSpPr>
              <p:cNvPr id="2906" name=""/>
              <p:cNvGrpSpPr/>
              <p:nvPr/>
            </p:nvGrpSpPr>
            <p:grpSpPr>
              <a:xfrm>
                <a:off x="5270400" y="2477160"/>
                <a:ext cx="918000" cy="916920"/>
                <a:chOff x="5270400" y="2477160"/>
                <a:chExt cx="918000" cy="916920"/>
              </a:xfrm>
            </p:grpSpPr>
            <p:sp>
              <p:nvSpPr>
                <p:cNvPr id="2907" name=""/>
                <p:cNvSpPr/>
                <p:nvPr/>
              </p:nvSpPr>
              <p:spPr>
                <a:xfrm>
                  <a:off x="6087960" y="247716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8" name=""/>
                <p:cNvSpPr/>
                <p:nvPr/>
              </p:nvSpPr>
              <p:spPr>
                <a:xfrm>
                  <a:off x="5886720" y="267696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5679360" y="2882160"/>
                  <a:ext cx="10080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5475240" y="3084840"/>
                  <a:ext cx="10332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5270400" y="3293280"/>
                  <a:ext cx="10008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2" name=""/>
              <p:cNvGrpSpPr/>
              <p:nvPr/>
            </p:nvGrpSpPr>
            <p:grpSpPr>
              <a:xfrm>
                <a:off x="3102840" y="2476440"/>
                <a:ext cx="915120" cy="912240"/>
                <a:chOff x="3102840" y="2476440"/>
                <a:chExt cx="915120" cy="912240"/>
              </a:xfrm>
            </p:grpSpPr>
            <p:sp>
              <p:nvSpPr>
                <p:cNvPr id="2913" name=""/>
                <p:cNvSpPr/>
                <p:nvPr/>
              </p:nvSpPr>
              <p:spPr>
                <a:xfrm>
                  <a:off x="3917520" y="247644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4" name=""/>
                <p:cNvSpPr/>
                <p:nvPr/>
              </p:nvSpPr>
              <p:spPr>
                <a:xfrm>
                  <a:off x="3714840" y="2678040"/>
                  <a:ext cx="100440" cy="1018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3511800" y="288216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6" name=""/>
                <p:cNvSpPr/>
                <p:nvPr/>
              </p:nvSpPr>
              <p:spPr>
                <a:xfrm>
                  <a:off x="3304440" y="3085920"/>
                  <a:ext cx="10116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7" name=""/>
                <p:cNvSpPr/>
                <p:nvPr/>
              </p:nvSpPr>
              <p:spPr>
                <a:xfrm>
                  <a:off x="3102840" y="328788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8" name=""/>
              <p:cNvGrpSpPr/>
              <p:nvPr/>
            </p:nvGrpSpPr>
            <p:grpSpPr>
              <a:xfrm>
                <a:off x="4118400" y="2275920"/>
                <a:ext cx="2273760" cy="102600"/>
                <a:chOff x="4118400" y="2275920"/>
                <a:chExt cx="2273760" cy="102600"/>
              </a:xfrm>
            </p:grpSpPr>
            <p:sp>
              <p:nvSpPr>
                <p:cNvPr id="2919" name=""/>
                <p:cNvSpPr/>
                <p:nvPr/>
              </p:nvSpPr>
              <p:spPr>
                <a:xfrm>
                  <a:off x="6291720" y="227592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0" name=""/>
                <p:cNvSpPr/>
                <p:nvPr/>
              </p:nvSpPr>
              <p:spPr>
                <a:xfrm>
                  <a:off x="4118400" y="227592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5578560" y="227592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2" name=""/>
                <p:cNvSpPr/>
                <p:nvPr/>
              </p:nvSpPr>
              <p:spPr>
                <a:xfrm>
                  <a:off x="4479480" y="227736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4826880" y="227700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5205600" y="227592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5936760" y="227700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6" name=""/>
              <p:cNvGrpSpPr/>
              <p:nvPr/>
            </p:nvGrpSpPr>
            <p:grpSpPr>
              <a:xfrm>
                <a:off x="2894040" y="3494880"/>
                <a:ext cx="2274120" cy="102240"/>
                <a:chOff x="2894040" y="3494880"/>
                <a:chExt cx="2274120" cy="102240"/>
              </a:xfrm>
            </p:grpSpPr>
            <p:sp>
              <p:nvSpPr>
                <p:cNvPr id="2927" name=""/>
                <p:cNvSpPr/>
                <p:nvPr/>
              </p:nvSpPr>
              <p:spPr>
                <a:xfrm>
                  <a:off x="289404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5067360" y="349488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9" name=""/>
                <p:cNvSpPr/>
                <p:nvPr/>
              </p:nvSpPr>
              <p:spPr>
                <a:xfrm>
                  <a:off x="32529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36021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1" name=""/>
                <p:cNvSpPr/>
                <p:nvPr/>
              </p:nvSpPr>
              <p:spPr>
                <a:xfrm>
                  <a:off x="4354560" y="349596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2" name=""/>
                <p:cNvSpPr/>
                <p:nvPr/>
              </p:nvSpPr>
              <p:spPr>
                <a:xfrm>
                  <a:off x="47181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33" name=""/>
            <p:cNvGrpSpPr/>
            <p:nvPr/>
          </p:nvGrpSpPr>
          <p:grpSpPr>
            <a:xfrm>
              <a:off x="4185000" y="1488600"/>
              <a:ext cx="2171520" cy="765000"/>
              <a:chOff x="4185000" y="1488600"/>
              <a:chExt cx="2171520" cy="765000"/>
            </a:xfrm>
          </p:grpSpPr>
          <p:sp>
            <p:nvSpPr>
              <p:cNvPr id="2934" name=""/>
              <p:cNvSpPr/>
              <p:nvPr/>
            </p:nvSpPr>
            <p:spPr>
              <a:xfrm>
                <a:off x="4185000" y="148860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4185000" y="169632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185360" y="2063520"/>
                <a:ext cx="2167560" cy="8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186080" y="1901160"/>
                <a:ext cx="21639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4186800" y="225360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9" name=""/>
            <p:cNvGrpSpPr/>
            <p:nvPr/>
          </p:nvGrpSpPr>
          <p:grpSpPr>
            <a:xfrm>
              <a:off x="2957040" y="1694160"/>
              <a:ext cx="1227600" cy="1779480"/>
              <a:chOff x="2957040" y="1694160"/>
              <a:chExt cx="1227600" cy="1779480"/>
            </a:xfrm>
          </p:grpSpPr>
          <p:sp>
            <p:nvSpPr>
              <p:cNvPr id="2940" name=""/>
              <p:cNvSpPr/>
              <p:nvPr/>
            </p:nvSpPr>
            <p:spPr>
              <a:xfrm flipV="1">
                <a:off x="2959560" y="1694160"/>
                <a:ext cx="1224000" cy="12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957040" y="1903320"/>
                <a:ext cx="1226880" cy="12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2957760" y="2071800"/>
                <a:ext cx="1226880" cy="12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2957760" y="2253240"/>
                <a:ext cx="1225080" cy="1220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4" name=""/>
            <p:cNvGrpSpPr/>
            <p:nvPr/>
          </p:nvGrpSpPr>
          <p:grpSpPr>
            <a:xfrm>
              <a:off x="2957040" y="1320840"/>
              <a:ext cx="3396960" cy="2158200"/>
              <a:chOff x="2957040" y="1320840"/>
              <a:chExt cx="3396960" cy="2158200"/>
            </a:xfrm>
          </p:grpSpPr>
          <p:grpSp>
            <p:nvGrpSpPr>
              <p:cNvPr id="2945" name=""/>
              <p:cNvGrpSpPr/>
              <p:nvPr/>
            </p:nvGrpSpPr>
            <p:grpSpPr>
              <a:xfrm>
                <a:off x="4184640" y="1320840"/>
                <a:ext cx="2169360" cy="933840"/>
                <a:chOff x="4184640" y="1320840"/>
                <a:chExt cx="2169360" cy="933840"/>
              </a:xfrm>
            </p:grpSpPr>
            <p:sp>
              <p:nvSpPr>
                <p:cNvPr id="2946" name=""/>
                <p:cNvSpPr/>
                <p:nvPr/>
              </p:nvSpPr>
              <p:spPr>
                <a:xfrm>
                  <a:off x="6006960" y="1436400"/>
                  <a:ext cx="0" cy="818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7" name=""/>
                <p:cNvSpPr/>
                <p:nvPr/>
              </p:nvSpPr>
              <p:spPr>
                <a:xfrm>
                  <a:off x="6354000" y="1497960"/>
                  <a:ext cx="0" cy="75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5644800" y="1377000"/>
                  <a:ext cx="0" cy="87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5270040" y="1320840"/>
                  <a:ext cx="0" cy="93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0" name=""/>
                <p:cNvSpPr/>
                <p:nvPr/>
              </p:nvSpPr>
              <p:spPr>
                <a:xfrm>
                  <a:off x="4893840" y="1379520"/>
                  <a:ext cx="0" cy="87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4184640" y="1494360"/>
                  <a:ext cx="0" cy="760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2" name=""/>
                <p:cNvSpPr/>
                <p:nvPr/>
              </p:nvSpPr>
              <p:spPr>
                <a:xfrm>
                  <a:off x="4547160" y="1433520"/>
                  <a:ext cx="0" cy="821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3" name=""/>
              <p:cNvGrpSpPr/>
              <p:nvPr/>
            </p:nvGrpSpPr>
            <p:grpSpPr>
              <a:xfrm>
                <a:off x="2957040" y="2549880"/>
                <a:ext cx="2171160" cy="929160"/>
                <a:chOff x="2957040" y="2549880"/>
                <a:chExt cx="2171160" cy="929160"/>
              </a:xfrm>
            </p:grpSpPr>
            <p:sp>
              <p:nvSpPr>
                <p:cNvPr id="2954" name=""/>
                <p:cNvSpPr/>
                <p:nvPr/>
              </p:nvSpPr>
              <p:spPr>
                <a:xfrm flipH="1">
                  <a:off x="4043160" y="2549880"/>
                  <a:ext cx="720" cy="361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>
                  <a:off x="4780800" y="2665080"/>
                  <a:ext cx="0" cy="813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>
                  <a:off x="5128200" y="2716560"/>
                  <a:ext cx="0" cy="755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4418640" y="2610360"/>
                  <a:ext cx="0" cy="86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3667320" y="2605680"/>
                  <a:ext cx="0" cy="87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>
                  <a:off x="2957040" y="2718360"/>
                  <a:ext cx="360" cy="756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3321000" y="2662560"/>
                  <a:ext cx="0" cy="813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1" name=""/>
            <p:cNvGrpSpPr/>
            <p:nvPr/>
          </p:nvGrpSpPr>
          <p:grpSpPr>
            <a:xfrm>
              <a:off x="3162960" y="1526760"/>
              <a:ext cx="2988000" cy="1739520"/>
              <a:chOff x="3162960" y="1526760"/>
              <a:chExt cx="2988000" cy="1739520"/>
            </a:xfrm>
          </p:grpSpPr>
          <p:grpSp>
            <p:nvGrpSpPr>
              <p:cNvPr id="2962" name=""/>
              <p:cNvGrpSpPr/>
              <p:nvPr/>
            </p:nvGrpSpPr>
            <p:grpSpPr>
              <a:xfrm>
                <a:off x="3162960" y="2346840"/>
                <a:ext cx="2169720" cy="919440"/>
                <a:chOff x="3162960" y="2346840"/>
                <a:chExt cx="2169720" cy="919440"/>
              </a:xfrm>
            </p:grpSpPr>
            <p:sp>
              <p:nvSpPr>
                <p:cNvPr id="2963" name=""/>
                <p:cNvSpPr/>
                <p:nvPr/>
              </p:nvSpPr>
              <p:spPr>
                <a:xfrm flipV="1">
                  <a:off x="3162960" y="2513520"/>
                  <a:ext cx="0" cy="752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 flipV="1">
                  <a:off x="3162960" y="2346840"/>
                  <a:ext cx="1085040" cy="16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 flipV="1">
                  <a:off x="5332680" y="2513520"/>
                  <a:ext cx="0" cy="752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 flipV="1">
                  <a:off x="4247640" y="2346840"/>
                  <a:ext cx="1084680" cy="16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7" name=""/>
              <p:cNvGrpSpPr/>
              <p:nvPr/>
            </p:nvGrpSpPr>
            <p:grpSpPr>
              <a:xfrm>
                <a:off x="3367440" y="1526760"/>
                <a:ext cx="2783520" cy="1542240"/>
                <a:chOff x="3367440" y="1526760"/>
                <a:chExt cx="2783520" cy="1542240"/>
              </a:xfrm>
            </p:grpSpPr>
            <p:grpSp>
              <p:nvGrpSpPr>
                <p:cNvPr id="2968" name=""/>
                <p:cNvGrpSpPr/>
                <p:nvPr/>
              </p:nvGrpSpPr>
              <p:grpSpPr>
                <a:xfrm>
                  <a:off x="3367440" y="2141640"/>
                  <a:ext cx="2170080" cy="927360"/>
                  <a:chOff x="3367440" y="2141640"/>
                  <a:chExt cx="2170080" cy="927360"/>
                </a:xfrm>
              </p:grpSpPr>
              <p:sp>
                <p:nvSpPr>
                  <p:cNvPr id="2969" name=""/>
                  <p:cNvSpPr/>
                  <p:nvPr/>
                </p:nvSpPr>
                <p:spPr>
                  <a:xfrm flipV="1">
                    <a:off x="3367440" y="2309040"/>
                    <a:ext cx="0" cy="756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 flipV="1">
                    <a:off x="3367440" y="2141640"/>
                    <a:ext cx="1085040" cy="167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 flipV="1">
                    <a:off x="5537520" y="2309400"/>
                    <a:ext cx="0" cy="759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 flipH="1" flipV="1">
                    <a:off x="4452120" y="2141640"/>
                    <a:ext cx="1084680" cy="167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3" name=""/>
                <p:cNvGrpSpPr/>
                <p:nvPr/>
              </p:nvGrpSpPr>
              <p:grpSpPr>
                <a:xfrm>
                  <a:off x="3570840" y="1936080"/>
                  <a:ext cx="2171160" cy="925920"/>
                  <a:chOff x="3570840" y="1936080"/>
                  <a:chExt cx="2171160" cy="925920"/>
                </a:xfrm>
              </p:grpSpPr>
              <p:sp>
                <p:nvSpPr>
                  <p:cNvPr id="2974" name=""/>
                  <p:cNvSpPr/>
                  <p:nvPr/>
                </p:nvSpPr>
                <p:spPr>
                  <a:xfrm flipV="1">
                    <a:off x="3570840" y="210456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 flipV="1">
                    <a:off x="3570840" y="1936080"/>
                    <a:ext cx="108540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 flipV="1">
                    <a:off x="5742000" y="210456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7" name=""/>
                  <p:cNvSpPr/>
                  <p:nvPr/>
                </p:nvSpPr>
                <p:spPr>
                  <a:xfrm flipH="1" flipV="1">
                    <a:off x="4655880" y="1936080"/>
                    <a:ext cx="108540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78" name=""/>
                <p:cNvGrpSpPr/>
                <p:nvPr/>
              </p:nvGrpSpPr>
              <p:grpSpPr>
                <a:xfrm>
                  <a:off x="3776400" y="1731240"/>
                  <a:ext cx="2170080" cy="925920"/>
                  <a:chOff x="3776400" y="1731240"/>
                  <a:chExt cx="2170080" cy="925920"/>
                </a:xfrm>
              </p:grpSpPr>
              <p:sp>
                <p:nvSpPr>
                  <p:cNvPr id="2979" name=""/>
                  <p:cNvSpPr/>
                  <p:nvPr/>
                </p:nvSpPr>
                <p:spPr>
                  <a:xfrm flipV="1">
                    <a:off x="3776400" y="189972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0" name=""/>
                  <p:cNvSpPr/>
                  <p:nvPr/>
                </p:nvSpPr>
                <p:spPr>
                  <a:xfrm flipV="1">
                    <a:off x="3776400" y="1731240"/>
                    <a:ext cx="108504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 flipV="1">
                    <a:off x="5946480" y="189972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 flipH="1" flipV="1">
                    <a:off x="4861440" y="1731240"/>
                    <a:ext cx="108504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3" name=""/>
                <p:cNvGrpSpPr/>
                <p:nvPr/>
              </p:nvGrpSpPr>
              <p:grpSpPr>
                <a:xfrm>
                  <a:off x="3981240" y="1526760"/>
                  <a:ext cx="2169720" cy="931680"/>
                  <a:chOff x="3981240" y="1526760"/>
                  <a:chExt cx="2169720" cy="931680"/>
                </a:xfrm>
              </p:grpSpPr>
              <p:sp>
                <p:nvSpPr>
                  <p:cNvPr id="2984" name=""/>
                  <p:cNvSpPr/>
                  <p:nvPr/>
                </p:nvSpPr>
                <p:spPr>
                  <a:xfrm flipV="1">
                    <a:off x="3981240" y="1695960"/>
                    <a:ext cx="0" cy="76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 flipV="1">
                    <a:off x="3981240" y="1526760"/>
                    <a:ext cx="1084680" cy="169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 flipV="1">
                    <a:off x="6150960" y="1695960"/>
                    <a:ext cx="0" cy="76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 flipH="1" flipV="1">
                    <a:off x="5065920" y="1526760"/>
                    <a:ext cx="1085040" cy="169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988" name=""/>
            <p:cNvGrpSpPr/>
            <p:nvPr/>
          </p:nvGrpSpPr>
          <p:grpSpPr>
            <a:xfrm>
              <a:off x="2953440" y="1321560"/>
              <a:ext cx="3400920" cy="1397880"/>
              <a:chOff x="2953440" y="1321560"/>
              <a:chExt cx="3400920" cy="1397880"/>
            </a:xfrm>
          </p:grpSpPr>
          <p:grpSp>
            <p:nvGrpSpPr>
              <p:cNvPr id="2989" name=""/>
              <p:cNvGrpSpPr/>
              <p:nvPr/>
            </p:nvGrpSpPr>
            <p:grpSpPr>
              <a:xfrm>
                <a:off x="3981600" y="1321560"/>
                <a:ext cx="2372760" cy="372960"/>
                <a:chOff x="3981600" y="1321560"/>
                <a:chExt cx="2372760" cy="372960"/>
              </a:xfrm>
            </p:grpSpPr>
            <p:sp>
              <p:nvSpPr>
                <p:cNvPr id="2990" name=""/>
                <p:cNvSpPr/>
                <p:nvPr/>
              </p:nvSpPr>
              <p:spPr>
                <a:xfrm flipV="1">
                  <a:off x="6153840" y="148644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 flipV="1">
                  <a:off x="5068080" y="1321560"/>
                  <a:ext cx="203400" cy="204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 flipV="1">
                  <a:off x="5442840" y="137916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 flipV="1">
                  <a:off x="3981960" y="1489320"/>
                  <a:ext cx="20520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4" name=""/>
                <p:cNvSpPr/>
                <p:nvPr/>
              </p:nvSpPr>
              <p:spPr>
                <a:xfrm flipV="1">
                  <a:off x="4343760" y="143424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5" name=""/>
                <p:cNvSpPr/>
                <p:nvPr/>
              </p:nvSpPr>
              <p:spPr>
                <a:xfrm flipV="1">
                  <a:off x="4692240" y="1380960"/>
                  <a:ext cx="2008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6" name=""/>
                <p:cNvGrpSpPr/>
                <p:nvPr/>
              </p:nvGrpSpPr>
              <p:grpSpPr>
                <a:xfrm>
                  <a:off x="3981600" y="1321920"/>
                  <a:ext cx="2370600" cy="372600"/>
                  <a:chOff x="3981600" y="1321920"/>
                  <a:chExt cx="2370600" cy="372600"/>
                </a:xfrm>
              </p:grpSpPr>
              <p:sp>
                <p:nvSpPr>
                  <p:cNvPr id="2997" name=""/>
                  <p:cNvSpPr/>
                  <p:nvPr/>
                </p:nvSpPr>
                <p:spPr>
                  <a:xfrm flipH="1" flipV="1">
                    <a:off x="5270040" y="1321920"/>
                    <a:ext cx="16848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 flipH="1">
                    <a:off x="4691880" y="1321920"/>
                    <a:ext cx="577440" cy="261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 flipH="1" flipV="1">
                    <a:off x="6006960" y="1433880"/>
                    <a:ext cx="1425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 flipV="1">
                    <a:off x="5798880" y="1487160"/>
                    <a:ext cx="553320" cy="151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 flipH="1" flipV="1">
                    <a:off x="5645520" y="1379520"/>
                    <a:ext cx="153360" cy="260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 flipH="1">
                    <a:off x="5440320" y="1432440"/>
                    <a:ext cx="567000" cy="15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3" name=""/>
                  <p:cNvSpPr/>
                  <p:nvPr/>
                </p:nvSpPr>
                <p:spPr>
                  <a:xfrm flipH="1">
                    <a:off x="5069880" y="1377000"/>
                    <a:ext cx="575280" cy="147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 flipH="1" flipV="1">
                    <a:off x="4893480" y="1381320"/>
                    <a:ext cx="180720" cy="147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5" name=""/>
                  <p:cNvSpPr/>
                  <p:nvPr/>
                </p:nvSpPr>
                <p:spPr>
                  <a:xfrm flipH="1" flipV="1">
                    <a:off x="4547160" y="1432080"/>
                    <a:ext cx="149400" cy="153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6" name=""/>
                  <p:cNvSpPr/>
                  <p:nvPr/>
                </p:nvSpPr>
                <p:spPr>
                  <a:xfrm flipH="1">
                    <a:off x="4341240" y="1382400"/>
                    <a:ext cx="552600" cy="25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 flipH="1" flipV="1">
                    <a:off x="4188600" y="1490040"/>
                    <a:ext cx="151560" cy="148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 flipH="1">
                    <a:off x="3981600" y="1433160"/>
                    <a:ext cx="565560" cy="259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 flipV="1">
                    <a:off x="4189320" y="1323000"/>
                    <a:ext cx="1080000" cy="163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 flipV="1">
                    <a:off x="3992040" y="1524600"/>
                    <a:ext cx="1078560" cy="16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>
                    <a:off x="5068800" y="1524240"/>
                    <a:ext cx="1081800" cy="170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2" name=""/>
                  <p:cNvSpPr/>
                  <p:nvPr/>
                </p:nvSpPr>
                <p:spPr>
                  <a:xfrm>
                    <a:off x="5274000" y="1321920"/>
                    <a:ext cx="1073520" cy="164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013" name=""/>
                <p:cNvSpPr/>
                <p:nvPr/>
              </p:nvSpPr>
              <p:spPr>
                <a:xfrm flipV="1">
                  <a:off x="5799600" y="1433520"/>
                  <a:ext cx="205920" cy="206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4" name=""/>
              <p:cNvGrpSpPr/>
              <p:nvPr/>
            </p:nvGrpSpPr>
            <p:grpSpPr>
              <a:xfrm>
                <a:off x="2953440" y="2346120"/>
                <a:ext cx="2373840" cy="373320"/>
                <a:chOff x="2953440" y="2346120"/>
                <a:chExt cx="2373840" cy="373320"/>
              </a:xfrm>
            </p:grpSpPr>
            <p:sp>
              <p:nvSpPr>
                <p:cNvPr id="3015" name=""/>
                <p:cNvSpPr/>
                <p:nvPr/>
              </p:nvSpPr>
              <p:spPr>
                <a:xfrm flipV="1">
                  <a:off x="5123160" y="2513520"/>
                  <a:ext cx="20340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6" name=""/>
                <p:cNvSpPr/>
                <p:nvPr/>
              </p:nvSpPr>
              <p:spPr>
                <a:xfrm flipV="1">
                  <a:off x="4416840" y="2404440"/>
                  <a:ext cx="202320" cy="202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 flipV="1">
                  <a:off x="4039920" y="2349000"/>
                  <a:ext cx="199800" cy="19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4038120" y="2549160"/>
                  <a:ext cx="1085040" cy="170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 flipH="1" flipV="1">
                  <a:off x="4242960" y="2347200"/>
                  <a:ext cx="169200" cy="261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0" name=""/>
                <p:cNvSpPr/>
                <p:nvPr/>
              </p:nvSpPr>
              <p:spPr>
                <a:xfrm flipH="1" flipV="1">
                  <a:off x="4980240" y="2460600"/>
                  <a:ext cx="144360" cy="25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 flipV="1">
                  <a:off x="4776120" y="2513520"/>
                  <a:ext cx="547560" cy="15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2" name=""/>
                <p:cNvSpPr/>
                <p:nvPr/>
              </p:nvSpPr>
              <p:spPr>
                <a:xfrm flipH="1" flipV="1">
                  <a:off x="4619880" y="2405520"/>
                  <a:ext cx="15696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3" name=""/>
                <p:cNvSpPr/>
                <p:nvPr/>
              </p:nvSpPr>
              <p:spPr>
                <a:xfrm flipH="1">
                  <a:off x="4412160" y="2459880"/>
                  <a:ext cx="567000" cy="149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4" name=""/>
                <p:cNvSpPr/>
                <p:nvPr/>
              </p:nvSpPr>
              <p:spPr>
                <a:xfrm flipH="1">
                  <a:off x="4038840" y="2404440"/>
                  <a:ext cx="581400" cy="14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5" name=""/>
                <p:cNvSpPr/>
                <p:nvPr/>
              </p:nvSpPr>
              <p:spPr>
                <a:xfrm>
                  <a:off x="4245840" y="2346480"/>
                  <a:ext cx="1081440" cy="16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6" name=""/>
                <p:cNvSpPr/>
                <p:nvPr/>
              </p:nvSpPr>
              <p:spPr>
                <a:xfrm flipV="1">
                  <a:off x="4777200" y="2459880"/>
                  <a:ext cx="20232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7" name=""/>
                <p:cNvSpPr/>
                <p:nvPr/>
              </p:nvSpPr>
              <p:spPr>
                <a:xfrm flipV="1">
                  <a:off x="3666240" y="2401920"/>
                  <a:ext cx="202320" cy="204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 flipV="1">
                  <a:off x="3317760" y="2455200"/>
                  <a:ext cx="204120" cy="20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9" name=""/>
                <p:cNvSpPr/>
                <p:nvPr/>
              </p:nvSpPr>
              <p:spPr>
                <a:xfrm flipV="1">
                  <a:off x="2959560" y="2549160"/>
                  <a:ext cx="1078200" cy="168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0" name=""/>
                <p:cNvSpPr/>
                <p:nvPr/>
              </p:nvSpPr>
              <p:spPr>
                <a:xfrm flipV="1">
                  <a:off x="3159360" y="2346120"/>
                  <a:ext cx="1089000" cy="165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1" name=""/>
                <p:cNvSpPr/>
                <p:nvPr/>
              </p:nvSpPr>
              <p:spPr>
                <a:xfrm flipH="1">
                  <a:off x="3664440" y="2346120"/>
                  <a:ext cx="57996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2" name=""/>
                <p:cNvSpPr/>
                <p:nvPr/>
              </p:nvSpPr>
              <p:spPr>
                <a:xfrm flipH="1" flipV="1">
                  <a:off x="3867480" y="2404440"/>
                  <a:ext cx="169920" cy="14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3" name=""/>
                <p:cNvSpPr/>
                <p:nvPr/>
              </p:nvSpPr>
              <p:spPr>
                <a:xfrm flipH="1" flipV="1">
                  <a:off x="3520440" y="2455560"/>
                  <a:ext cx="144000" cy="15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4" name=""/>
                <p:cNvSpPr/>
                <p:nvPr/>
              </p:nvSpPr>
              <p:spPr>
                <a:xfrm flipH="1">
                  <a:off x="3319200" y="2407320"/>
                  <a:ext cx="543600" cy="254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 flipH="1" flipV="1">
                  <a:off x="3159720" y="2512440"/>
                  <a:ext cx="155880" cy="14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6" name=""/>
                <p:cNvSpPr/>
                <p:nvPr/>
              </p:nvSpPr>
              <p:spPr>
                <a:xfrm flipH="1">
                  <a:off x="2955240" y="2457360"/>
                  <a:ext cx="56268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7" name=""/>
                <p:cNvSpPr/>
                <p:nvPr/>
              </p:nvSpPr>
              <p:spPr>
                <a:xfrm flipV="1">
                  <a:off x="2953440" y="2513160"/>
                  <a:ext cx="205920" cy="20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38" name=""/>
            <p:cNvGrpSpPr/>
            <p:nvPr/>
          </p:nvGrpSpPr>
          <p:grpSpPr>
            <a:xfrm>
              <a:off x="2958120" y="1487520"/>
              <a:ext cx="3395160" cy="1229760"/>
              <a:chOff x="2958120" y="1487520"/>
              <a:chExt cx="3395160" cy="1229760"/>
            </a:xfrm>
          </p:grpSpPr>
          <p:sp>
            <p:nvSpPr>
              <p:cNvPr id="3039" name=""/>
              <p:cNvSpPr/>
              <p:nvPr/>
            </p:nvSpPr>
            <p:spPr>
              <a:xfrm flipV="1">
                <a:off x="5122440" y="1487520"/>
                <a:ext cx="1230840" cy="122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V="1">
                <a:off x="2958120" y="1487520"/>
                <a:ext cx="1227240" cy="122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1" name=""/>
            <p:cNvGrpSpPr/>
            <p:nvPr/>
          </p:nvGrpSpPr>
          <p:grpSpPr>
            <a:xfrm>
              <a:off x="3113640" y="1350000"/>
              <a:ext cx="3066120" cy="1346400"/>
              <a:chOff x="3113640" y="1350000"/>
              <a:chExt cx="3066120" cy="1346400"/>
            </a:xfrm>
          </p:grpSpPr>
          <p:sp>
            <p:nvSpPr>
              <p:cNvPr id="3042" name=""/>
              <p:cNvSpPr/>
              <p:nvPr/>
            </p:nvSpPr>
            <p:spPr>
              <a:xfrm flipV="1">
                <a:off x="4232520" y="1350000"/>
                <a:ext cx="1223640" cy="1229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4417920" y="1377720"/>
                <a:ext cx="1227240" cy="123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4779360" y="1436400"/>
                <a:ext cx="1221840" cy="1229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4948920" y="1463400"/>
                <a:ext cx="1230840" cy="123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3113640" y="1461240"/>
                <a:ext cx="1255680" cy="123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3318480" y="1434240"/>
                <a:ext cx="1226160" cy="122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3667680" y="1377000"/>
                <a:ext cx="1228680" cy="122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 flipV="1">
                <a:off x="3844440" y="1350000"/>
                <a:ext cx="1248120" cy="123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3488040" y="1409400"/>
                <a:ext cx="1231920" cy="122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4596480" y="1404000"/>
                <a:ext cx="1227240" cy="1231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2" name=""/>
            <p:cNvGrpSpPr/>
            <p:nvPr/>
          </p:nvGrpSpPr>
          <p:grpSpPr>
            <a:xfrm>
              <a:off x="2957040" y="2718360"/>
              <a:ext cx="2169720" cy="758160"/>
              <a:chOff x="2957040" y="2718360"/>
              <a:chExt cx="2169720" cy="758160"/>
            </a:xfrm>
          </p:grpSpPr>
          <p:sp>
            <p:nvSpPr>
              <p:cNvPr id="3053" name=""/>
              <p:cNvSpPr/>
              <p:nvPr/>
            </p:nvSpPr>
            <p:spPr>
              <a:xfrm flipV="1">
                <a:off x="4418280" y="3475800"/>
                <a:ext cx="70704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957040" y="2718360"/>
                <a:ext cx="2169720" cy="2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2957040" y="2914560"/>
                <a:ext cx="21693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4416480" y="3292920"/>
                <a:ext cx="70920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957040" y="3117600"/>
                <a:ext cx="7099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4418280" y="3112200"/>
                <a:ext cx="7084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957760" y="3295440"/>
                <a:ext cx="7081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2958480" y="3474720"/>
                <a:ext cx="706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1" name=""/>
            <p:cNvGrpSpPr/>
            <p:nvPr/>
          </p:nvGrpSpPr>
          <p:grpSpPr>
            <a:xfrm>
              <a:off x="5125680" y="1697400"/>
              <a:ext cx="1228680" cy="1776600"/>
              <a:chOff x="5125680" y="1697400"/>
              <a:chExt cx="1228680" cy="1776600"/>
            </a:xfrm>
          </p:grpSpPr>
          <p:sp>
            <p:nvSpPr>
              <p:cNvPr id="3062" name=""/>
              <p:cNvSpPr/>
              <p:nvPr/>
            </p:nvSpPr>
            <p:spPr>
              <a:xfrm flipV="1">
                <a:off x="5125680" y="2254680"/>
                <a:ext cx="1228680" cy="1219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 flipV="1">
                <a:off x="5128200" y="1697400"/>
                <a:ext cx="1225080" cy="1217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5127120" y="1900800"/>
                <a:ext cx="1226160" cy="1210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5126400" y="2063160"/>
                <a:ext cx="1226880" cy="12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66" name=""/>
            <p:cNvSpPr/>
            <p:nvPr/>
          </p:nvSpPr>
          <p:spPr>
            <a:xfrm flipV="1">
              <a:off x="2957040" y="2549880"/>
              <a:ext cx="1084320" cy="168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H="1" flipV="1">
              <a:off x="4043520" y="2550960"/>
              <a:ext cx="1085040" cy="168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2956320" y="271548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 flipV="1">
              <a:off x="5125680" y="271548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 flipV="1">
              <a:off x="6352920" y="148536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V="1">
              <a:off x="4188960" y="1320840"/>
              <a:ext cx="1083960" cy="167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H="1" flipV="1">
              <a:off x="5273280" y="1320840"/>
              <a:ext cx="1084320" cy="167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3" name=""/>
          <p:cNvSpPr/>
          <p:nvPr/>
        </p:nvSpPr>
        <p:spPr>
          <a:xfrm>
            <a:off x="217440" y="52704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ant les pannes courant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4" name=""/>
          <p:cNvSpPr/>
          <p:nvPr/>
        </p:nvSpPr>
        <p:spPr>
          <a:xfrm>
            <a:off x="6772320" y="4822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flipV="1">
            <a:off x="2241720" y="2155320"/>
            <a:ext cx="1944360" cy="1938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50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52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60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68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76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84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89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90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96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02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10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17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23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28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29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37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45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46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52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57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62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67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71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72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73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80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22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25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36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45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90076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2000" y="528480"/>
            <a:ext cx="8781840" cy="87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ux éléments supportent les pannes courantes. Lesquel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10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0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5" name=""/>
          <p:cNvSpPr/>
          <p:nvPr/>
        </p:nvSpPr>
        <p:spPr>
          <a:xfrm>
            <a:off x="147600" y="3781440"/>
            <a:ext cx="658188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flèche d’une panne isostatique est plus grande que celle d ’une panne hyperstatique de même section transver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6" name=""/>
          <p:cNvSpPr/>
          <p:nvPr/>
        </p:nvSpPr>
        <p:spPr>
          <a:xfrm>
            <a:off x="7018200" y="38718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7" name=""/>
          <p:cNvSpPr/>
          <p:nvPr/>
        </p:nvSpPr>
        <p:spPr>
          <a:xfrm>
            <a:off x="7045200" y="3936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8" name=""/>
          <p:cNvSpPr/>
          <p:nvPr/>
        </p:nvSpPr>
        <p:spPr>
          <a:xfrm>
            <a:off x="7927920" y="38718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9" name=""/>
          <p:cNvSpPr/>
          <p:nvPr/>
        </p:nvSpPr>
        <p:spPr>
          <a:xfrm>
            <a:off x="7956720" y="39369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/>
          <p:cNvSpPr/>
          <p:nvPr/>
        </p:nvSpPr>
        <p:spPr>
          <a:xfrm>
            <a:off x="147600" y="4398840"/>
            <a:ext cx="6583320" cy="293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sollicitées en flexion si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1" name=""/>
          <p:cNvSpPr/>
          <p:nvPr/>
        </p:nvSpPr>
        <p:spPr>
          <a:xfrm>
            <a:off x="792972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2" name=""/>
          <p:cNvSpPr/>
          <p:nvPr/>
        </p:nvSpPr>
        <p:spPr>
          <a:xfrm>
            <a:off x="7956720" y="44370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7016760" y="4373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7045200" y="443880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7929720" y="478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>
            <a:hlinkClick r:id="" action="ppaction://hlinkshowjump?jump=nextslide"/>
          </p:cNvPr>
          <p:cNvSpPr/>
          <p:nvPr/>
        </p:nvSpPr>
        <p:spPr>
          <a:xfrm>
            <a:off x="7956720" y="484992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7016760" y="47862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7045200" y="48513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9" name=""/>
          <p:cNvGrpSpPr/>
          <p:nvPr/>
        </p:nvGrpSpPr>
        <p:grpSpPr>
          <a:xfrm>
            <a:off x="2894040" y="1318680"/>
            <a:ext cx="3498120" cy="2278440"/>
            <a:chOff x="2894040" y="1318680"/>
            <a:chExt cx="3498120" cy="2278440"/>
          </a:xfrm>
        </p:grpSpPr>
        <p:sp>
          <p:nvSpPr>
            <p:cNvPr id="3090" name=""/>
            <p:cNvSpPr/>
            <p:nvPr/>
          </p:nvSpPr>
          <p:spPr>
            <a:xfrm flipV="1">
              <a:off x="4038480" y="1318680"/>
              <a:ext cx="1229400" cy="122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183200" y="148536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92" name=""/>
            <p:cNvGrpSpPr/>
            <p:nvPr/>
          </p:nvGrpSpPr>
          <p:grpSpPr>
            <a:xfrm>
              <a:off x="2958120" y="1485360"/>
              <a:ext cx="3399120" cy="1988640"/>
              <a:chOff x="2958120" y="1485360"/>
              <a:chExt cx="3399120" cy="1988640"/>
            </a:xfrm>
          </p:grpSpPr>
          <p:grpSp>
            <p:nvGrpSpPr>
              <p:cNvPr id="3093" name=""/>
              <p:cNvGrpSpPr/>
              <p:nvPr/>
            </p:nvGrpSpPr>
            <p:grpSpPr>
              <a:xfrm>
                <a:off x="2958120" y="1485360"/>
                <a:ext cx="3397680" cy="1988640"/>
                <a:chOff x="2958120" y="1485360"/>
                <a:chExt cx="3397680" cy="1988640"/>
              </a:xfrm>
            </p:grpSpPr>
            <p:grpSp>
              <p:nvGrpSpPr>
                <p:cNvPr id="3094" name=""/>
                <p:cNvGrpSpPr/>
                <p:nvPr/>
              </p:nvGrpSpPr>
              <p:grpSpPr>
                <a:xfrm>
                  <a:off x="5119560" y="2510640"/>
                  <a:ext cx="213480" cy="959400"/>
                  <a:chOff x="5119560" y="2510640"/>
                  <a:chExt cx="213480" cy="959400"/>
                </a:xfrm>
              </p:grpSpPr>
              <p:sp>
                <p:nvSpPr>
                  <p:cNvPr id="3095" name=""/>
                  <p:cNvSpPr/>
                  <p:nvPr/>
                </p:nvSpPr>
                <p:spPr>
                  <a:xfrm flipV="1">
                    <a:off x="5128560" y="2909160"/>
                    <a:ext cx="204480" cy="56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 flipH="1" flipV="1">
                    <a:off x="5124600" y="2711880"/>
                    <a:ext cx="207720" cy="196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 flipH="1" flipV="1">
                    <a:off x="5128560" y="3109680"/>
                    <a:ext cx="204480" cy="155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8" name=""/>
                  <p:cNvSpPr/>
                  <p:nvPr/>
                </p:nvSpPr>
                <p:spPr>
                  <a:xfrm flipV="1">
                    <a:off x="5128560" y="2510640"/>
                    <a:ext cx="204480" cy="594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9" name=""/>
                  <p:cNvSpPr/>
                  <p:nvPr/>
                </p:nvSpPr>
                <p:spPr>
                  <a:xfrm flipV="1">
                    <a:off x="5119560" y="2518200"/>
                    <a:ext cx="20448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0" name=""/>
                  <p:cNvSpPr/>
                  <p:nvPr/>
                </p:nvSpPr>
                <p:spPr>
                  <a:xfrm>
                    <a:off x="5128560" y="2712600"/>
                    <a:ext cx="0" cy="754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1" name=""/>
                  <p:cNvSpPr/>
                  <p:nvPr/>
                </p:nvSpPr>
                <p:spPr>
                  <a:xfrm>
                    <a:off x="5333040" y="2514240"/>
                    <a:ext cx="0" cy="75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02" name=""/>
                <p:cNvGrpSpPr/>
                <p:nvPr/>
              </p:nvGrpSpPr>
              <p:grpSpPr>
                <a:xfrm>
                  <a:off x="2958120" y="2514960"/>
                  <a:ext cx="205560" cy="959040"/>
                  <a:chOff x="2958120" y="2514960"/>
                  <a:chExt cx="205560" cy="959040"/>
                </a:xfrm>
              </p:grpSpPr>
              <p:sp>
                <p:nvSpPr>
                  <p:cNvPr id="3103" name=""/>
                  <p:cNvSpPr/>
                  <p:nvPr/>
                </p:nvSpPr>
                <p:spPr>
                  <a:xfrm flipV="1">
                    <a:off x="2958840" y="2911320"/>
                    <a:ext cx="204480" cy="56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 flipH="1" flipV="1">
                    <a:off x="2958480" y="2719080"/>
                    <a:ext cx="202680" cy="18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5" name=""/>
                  <p:cNvSpPr/>
                  <p:nvPr/>
                </p:nvSpPr>
                <p:spPr>
                  <a:xfrm flipH="1" flipV="1">
                    <a:off x="2958120" y="3115800"/>
                    <a:ext cx="204480" cy="15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6" name=""/>
                  <p:cNvSpPr/>
                  <p:nvPr/>
                </p:nvSpPr>
                <p:spPr>
                  <a:xfrm flipV="1">
                    <a:off x="2958840" y="2514960"/>
                    <a:ext cx="203400" cy="597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7" name=""/>
                  <p:cNvSpPr/>
                  <p:nvPr/>
                </p:nvSpPr>
                <p:spPr>
                  <a:xfrm flipV="1">
                    <a:off x="2959920" y="2515320"/>
                    <a:ext cx="200880" cy="20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8" name=""/>
                  <p:cNvSpPr/>
                  <p:nvPr/>
                </p:nvSpPr>
                <p:spPr>
                  <a:xfrm>
                    <a:off x="2959200" y="2719800"/>
                    <a:ext cx="0" cy="754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9" name=""/>
                  <p:cNvSpPr/>
                  <p:nvPr/>
                </p:nvSpPr>
                <p:spPr>
                  <a:xfrm flipH="1">
                    <a:off x="3162960" y="2521800"/>
                    <a:ext cx="720" cy="745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0" name=""/>
                <p:cNvGrpSpPr/>
                <p:nvPr/>
              </p:nvGrpSpPr>
              <p:grpSpPr>
                <a:xfrm>
                  <a:off x="6149160" y="1485360"/>
                  <a:ext cx="206640" cy="973080"/>
                  <a:chOff x="6149160" y="1485360"/>
                  <a:chExt cx="206640" cy="973080"/>
                </a:xfrm>
              </p:grpSpPr>
              <p:sp>
                <p:nvSpPr>
                  <p:cNvPr id="3111" name=""/>
                  <p:cNvSpPr/>
                  <p:nvPr/>
                </p:nvSpPr>
                <p:spPr>
                  <a:xfrm flipV="1">
                    <a:off x="6150960" y="1897920"/>
                    <a:ext cx="202680" cy="557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2" name=""/>
                  <p:cNvSpPr/>
                  <p:nvPr/>
                </p:nvSpPr>
                <p:spPr>
                  <a:xfrm flipH="1" flipV="1">
                    <a:off x="6149160" y="1690560"/>
                    <a:ext cx="203400" cy="21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3" name=""/>
                  <p:cNvSpPr/>
                  <p:nvPr/>
                </p:nvSpPr>
                <p:spPr>
                  <a:xfrm flipH="1" flipV="1">
                    <a:off x="6150600" y="2098440"/>
                    <a:ext cx="202680" cy="153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4" name=""/>
                  <p:cNvSpPr/>
                  <p:nvPr/>
                </p:nvSpPr>
                <p:spPr>
                  <a:xfrm flipV="1">
                    <a:off x="6150240" y="1486440"/>
                    <a:ext cx="200520" cy="61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5" name=""/>
                  <p:cNvSpPr/>
                  <p:nvPr/>
                </p:nvSpPr>
                <p:spPr>
                  <a:xfrm flipV="1">
                    <a:off x="6149520" y="1485360"/>
                    <a:ext cx="205200" cy="20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6" name=""/>
                  <p:cNvSpPr/>
                  <p:nvPr/>
                </p:nvSpPr>
                <p:spPr>
                  <a:xfrm>
                    <a:off x="6152400" y="1687680"/>
                    <a:ext cx="0" cy="770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 flipH="1">
                    <a:off x="6355080" y="1488600"/>
                    <a:ext cx="720" cy="763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8" name=""/>
                <p:cNvGrpSpPr/>
                <p:nvPr/>
              </p:nvGrpSpPr>
              <p:grpSpPr>
                <a:xfrm>
                  <a:off x="3981240" y="1486440"/>
                  <a:ext cx="204480" cy="968760"/>
                  <a:chOff x="3981240" y="1486440"/>
                  <a:chExt cx="204480" cy="968760"/>
                </a:xfrm>
              </p:grpSpPr>
              <p:sp>
                <p:nvSpPr>
                  <p:cNvPr id="3119" name=""/>
                  <p:cNvSpPr/>
                  <p:nvPr/>
                </p:nvSpPr>
                <p:spPr>
                  <a:xfrm flipV="1">
                    <a:off x="3981600" y="1900800"/>
                    <a:ext cx="203400" cy="554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0" name=""/>
                  <p:cNvSpPr/>
                  <p:nvPr/>
                </p:nvSpPr>
                <p:spPr>
                  <a:xfrm flipH="1" flipV="1">
                    <a:off x="3982320" y="1693800"/>
                    <a:ext cx="201600" cy="205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1" name=""/>
                  <p:cNvSpPr/>
                  <p:nvPr/>
                </p:nvSpPr>
                <p:spPr>
                  <a:xfrm flipH="1" flipV="1">
                    <a:off x="3981240" y="2102040"/>
                    <a:ext cx="204120" cy="147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2" name=""/>
                  <p:cNvSpPr/>
                  <p:nvPr/>
                </p:nvSpPr>
                <p:spPr>
                  <a:xfrm flipV="1">
                    <a:off x="3981600" y="1486440"/>
                    <a:ext cx="204120" cy="61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3" name=""/>
                  <p:cNvSpPr/>
                  <p:nvPr/>
                </p:nvSpPr>
                <p:spPr>
                  <a:xfrm flipV="1">
                    <a:off x="3982680" y="1487160"/>
                    <a:ext cx="200880" cy="20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>
                    <a:off x="3981600" y="1697760"/>
                    <a:ext cx="0" cy="754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>
                    <a:off x="4184280" y="1486440"/>
                    <a:ext cx="720" cy="764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26" name=""/>
              <p:cNvGrpSpPr/>
              <p:nvPr/>
            </p:nvGrpSpPr>
            <p:grpSpPr>
              <a:xfrm>
                <a:off x="2960280" y="1897200"/>
                <a:ext cx="3396960" cy="1218600"/>
                <a:chOff x="2960280" y="1897200"/>
                <a:chExt cx="3396960" cy="1218600"/>
              </a:xfrm>
            </p:grpSpPr>
            <p:sp>
              <p:nvSpPr>
                <p:cNvPr id="3127" name=""/>
                <p:cNvSpPr/>
                <p:nvPr/>
              </p:nvSpPr>
              <p:spPr>
                <a:xfrm flipV="1">
                  <a:off x="5131080" y="2908080"/>
                  <a:ext cx="200880" cy="201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 flipV="1">
                  <a:off x="2960280" y="2912760"/>
                  <a:ext cx="20448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 flipV="1">
                  <a:off x="6156360" y="1897200"/>
                  <a:ext cx="2008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0" name=""/>
                <p:cNvSpPr/>
                <p:nvPr/>
              </p:nvSpPr>
              <p:spPr>
                <a:xfrm flipV="1">
                  <a:off x="3984840" y="1900800"/>
                  <a:ext cx="2026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31" name=""/>
            <p:cNvGrpSpPr/>
            <p:nvPr/>
          </p:nvGrpSpPr>
          <p:grpSpPr>
            <a:xfrm>
              <a:off x="2894040" y="2275920"/>
              <a:ext cx="3498120" cy="1321200"/>
              <a:chOff x="2894040" y="2275920"/>
              <a:chExt cx="3498120" cy="1321200"/>
            </a:xfrm>
          </p:grpSpPr>
          <p:grpSp>
            <p:nvGrpSpPr>
              <p:cNvPr id="3132" name=""/>
              <p:cNvGrpSpPr/>
              <p:nvPr/>
            </p:nvGrpSpPr>
            <p:grpSpPr>
              <a:xfrm>
                <a:off x="5270400" y="2477160"/>
                <a:ext cx="918000" cy="916920"/>
                <a:chOff x="5270400" y="2477160"/>
                <a:chExt cx="918000" cy="916920"/>
              </a:xfrm>
            </p:grpSpPr>
            <p:sp>
              <p:nvSpPr>
                <p:cNvPr id="3133" name=""/>
                <p:cNvSpPr/>
                <p:nvPr/>
              </p:nvSpPr>
              <p:spPr>
                <a:xfrm>
                  <a:off x="6087960" y="247716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4" name=""/>
                <p:cNvSpPr/>
                <p:nvPr/>
              </p:nvSpPr>
              <p:spPr>
                <a:xfrm>
                  <a:off x="5886720" y="267696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5679360" y="2882160"/>
                  <a:ext cx="10080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6" name=""/>
                <p:cNvSpPr/>
                <p:nvPr/>
              </p:nvSpPr>
              <p:spPr>
                <a:xfrm>
                  <a:off x="5475240" y="3084840"/>
                  <a:ext cx="10332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7" name=""/>
                <p:cNvSpPr/>
                <p:nvPr/>
              </p:nvSpPr>
              <p:spPr>
                <a:xfrm>
                  <a:off x="5270400" y="3293280"/>
                  <a:ext cx="10008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8" name=""/>
              <p:cNvGrpSpPr/>
              <p:nvPr/>
            </p:nvGrpSpPr>
            <p:grpSpPr>
              <a:xfrm>
                <a:off x="3102840" y="2476440"/>
                <a:ext cx="915120" cy="912240"/>
                <a:chOff x="3102840" y="2476440"/>
                <a:chExt cx="915120" cy="912240"/>
              </a:xfrm>
            </p:grpSpPr>
            <p:sp>
              <p:nvSpPr>
                <p:cNvPr id="3139" name=""/>
                <p:cNvSpPr/>
                <p:nvPr/>
              </p:nvSpPr>
              <p:spPr>
                <a:xfrm>
                  <a:off x="3917520" y="247644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0" name=""/>
                <p:cNvSpPr/>
                <p:nvPr/>
              </p:nvSpPr>
              <p:spPr>
                <a:xfrm>
                  <a:off x="3714840" y="2678040"/>
                  <a:ext cx="100440" cy="1018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1" name=""/>
                <p:cNvSpPr/>
                <p:nvPr/>
              </p:nvSpPr>
              <p:spPr>
                <a:xfrm>
                  <a:off x="3511800" y="288216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3304440" y="3085920"/>
                  <a:ext cx="10116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3" name=""/>
                <p:cNvSpPr/>
                <p:nvPr/>
              </p:nvSpPr>
              <p:spPr>
                <a:xfrm>
                  <a:off x="3102840" y="328788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4" name=""/>
              <p:cNvGrpSpPr/>
              <p:nvPr/>
            </p:nvGrpSpPr>
            <p:grpSpPr>
              <a:xfrm>
                <a:off x="4118400" y="2275920"/>
                <a:ext cx="2273760" cy="102600"/>
                <a:chOff x="4118400" y="2275920"/>
                <a:chExt cx="2273760" cy="102600"/>
              </a:xfrm>
            </p:grpSpPr>
            <p:sp>
              <p:nvSpPr>
                <p:cNvPr id="3145" name=""/>
                <p:cNvSpPr/>
                <p:nvPr/>
              </p:nvSpPr>
              <p:spPr>
                <a:xfrm>
                  <a:off x="6291720" y="227592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4118400" y="227592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5578560" y="227592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4479480" y="227736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4826880" y="227700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5205600" y="227592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>
                  <a:off x="5936760" y="227700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2" name=""/>
              <p:cNvGrpSpPr/>
              <p:nvPr/>
            </p:nvGrpSpPr>
            <p:grpSpPr>
              <a:xfrm>
                <a:off x="2894040" y="3494880"/>
                <a:ext cx="2274120" cy="102240"/>
                <a:chOff x="2894040" y="3494880"/>
                <a:chExt cx="2274120" cy="102240"/>
              </a:xfrm>
            </p:grpSpPr>
            <p:sp>
              <p:nvSpPr>
                <p:cNvPr id="3153" name=""/>
                <p:cNvSpPr/>
                <p:nvPr/>
              </p:nvSpPr>
              <p:spPr>
                <a:xfrm>
                  <a:off x="289404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>
                  <a:off x="5067360" y="349488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>
                  <a:off x="32529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36021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>
                  <a:off x="4354560" y="349596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47181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9" name=""/>
            <p:cNvGrpSpPr/>
            <p:nvPr/>
          </p:nvGrpSpPr>
          <p:grpSpPr>
            <a:xfrm>
              <a:off x="4185000" y="1488600"/>
              <a:ext cx="2171520" cy="765000"/>
              <a:chOff x="4185000" y="1488600"/>
              <a:chExt cx="2171520" cy="765000"/>
            </a:xfrm>
          </p:grpSpPr>
          <p:sp>
            <p:nvSpPr>
              <p:cNvPr id="3160" name=""/>
              <p:cNvSpPr/>
              <p:nvPr/>
            </p:nvSpPr>
            <p:spPr>
              <a:xfrm>
                <a:off x="4185000" y="148860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185000" y="169632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 flipV="1">
                <a:off x="4185360" y="2063520"/>
                <a:ext cx="2167560" cy="8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 flipV="1">
                <a:off x="4186080" y="1901160"/>
                <a:ext cx="21639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4186800" y="225360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5" name=""/>
            <p:cNvGrpSpPr/>
            <p:nvPr/>
          </p:nvGrpSpPr>
          <p:grpSpPr>
            <a:xfrm>
              <a:off x="2957040" y="1694160"/>
              <a:ext cx="1227600" cy="1779480"/>
              <a:chOff x="2957040" y="1694160"/>
              <a:chExt cx="1227600" cy="1779480"/>
            </a:xfrm>
          </p:grpSpPr>
          <p:sp>
            <p:nvSpPr>
              <p:cNvPr id="3166" name=""/>
              <p:cNvSpPr/>
              <p:nvPr/>
            </p:nvSpPr>
            <p:spPr>
              <a:xfrm flipV="1">
                <a:off x="2959560" y="1694160"/>
                <a:ext cx="1224000" cy="12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 flipV="1">
                <a:off x="2957040" y="1903320"/>
                <a:ext cx="1226880" cy="12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 flipV="1">
                <a:off x="2957760" y="2071800"/>
                <a:ext cx="1226880" cy="12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 flipV="1">
                <a:off x="2957760" y="2253240"/>
                <a:ext cx="1225080" cy="1220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0" name=""/>
            <p:cNvGrpSpPr/>
            <p:nvPr/>
          </p:nvGrpSpPr>
          <p:grpSpPr>
            <a:xfrm>
              <a:off x="2957040" y="1320840"/>
              <a:ext cx="3396960" cy="2158200"/>
              <a:chOff x="2957040" y="1320840"/>
              <a:chExt cx="3396960" cy="2158200"/>
            </a:xfrm>
          </p:grpSpPr>
          <p:grpSp>
            <p:nvGrpSpPr>
              <p:cNvPr id="3171" name=""/>
              <p:cNvGrpSpPr/>
              <p:nvPr/>
            </p:nvGrpSpPr>
            <p:grpSpPr>
              <a:xfrm>
                <a:off x="4184640" y="1320840"/>
                <a:ext cx="2169360" cy="933840"/>
                <a:chOff x="4184640" y="1320840"/>
                <a:chExt cx="2169360" cy="933840"/>
              </a:xfrm>
            </p:grpSpPr>
            <p:sp>
              <p:nvSpPr>
                <p:cNvPr id="3172" name=""/>
                <p:cNvSpPr/>
                <p:nvPr/>
              </p:nvSpPr>
              <p:spPr>
                <a:xfrm>
                  <a:off x="6006960" y="1436400"/>
                  <a:ext cx="0" cy="818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3" name=""/>
                <p:cNvSpPr/>
                <p:nvPr/>
              </p:nvSpPr>
              <p:spPr>
                <a:xfrm>
                  <a:off x="6354000" y="1497960"/>
                  <a:ext cx="0" cy="75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4" name=""/>
                <p:cNvSpPr/>
                <p:nvPr/>
              </p:nvSpPr>
              <p:spPr>
                <a:xfrm>
                  <a:off x="5644800" y="1377000"/>
                  <a:ext cx="0" cy="87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5" name=""/>
                <p:cNvSpPr/>
                <p:nvPr/>
              </p:nvSpPr>
              <p:spPr>
                <a:xfrm>
                  <a:off x="5270040" y="1320840"/>
                  <a:ext cx="0" cy="93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6" name=""/>
                <p:cNvSpPr/>
                <p:nvPr/>
              </p:nvSpPr>
              <p:spPr>
                <a:xfrm>
                  <a:off x="4893840" y="1379520"/>
                  <a:ext cx="0" cy="87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4184640" y="1494360"/>
                  <a:ext cx="0" cy="760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8" name=""/>
                <p:cNvSpPr/>
                <p:nvPr/>
              </p:nvSpPr>
              <p:spPr>
                <a:xfrm>
                  <a:off x="4547160" y="1433520"/>
                  <a:ext cx="0" cy="821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9" name=""/>
              <p:cNvGrpSpPr/>
              <p:nvPr/>
            </p:nvGrpSpPr>
            <p:grpSpPr>
              <a:xfrm>
                <a:off x="2957040" y="2549880"/>
                <a:ext cx="2171160" cy="929160"/>
                <a:chOff x="2957040" y="2549880"/>
                <a:chExt cx="2171160" cy="929160"/>
              </a:xfrm>
            </p:grpSpPr>
            <p:sp>
              <p:nvSpPr>
                <p:cNvPr id="3180" name=""/>
                <p:cNvSpPr/>
                <p:nvPr/>
              </p:nvSpPr>
              <p:spPr>
                <a:xfrm flipH="1">
                  <a:off x="4043160" y="2549880"/>
                  <a:ext cx="720" cy="361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1" name=""/>
                <p:cNvSpPr/>
                <p:nvPr/>
              </p:nvSpPr>
              <p:spPr>
                <a:xfrm>
                  <a:off x="4780800" y="2665080"/>
                  <a:ext cx="0" cy="813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2" name=""/>
                <p:cNvSpPr/>
                <p:nvPr/>
              </p:nvSpPr>
              <p:spPr>
                <a:xfrm>
                  <a:off x="5128200" y="2716560"/>
                  <a:ext cx="0" cy="755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3" name=""/>
                <p:cNvSpPr/>
                <p:nvPr/>
              </p:nvSpPr>
              <p:spPr>
                <a:xfrm>
                  <a:off x="4418640" y="2610360"/>
                  <a:ext cx="0" cy="86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3667320" y="2605680"/>
                  <a:ext cx="0" cy="87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5" name=""/>
                <p:cNvSpPr/>
                <p:nvPr/>
              </p:nvSpPr>
              <p:spPr>
                <a:xfrm>
                  <a:off x="2957040" y="2718360"/>
                  <a:ext cx="360" cy="756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6" name=""/>
                <p:cNvSpPr/>
                <p:nvPr/>
              </p:nvSpPr>
              <p:spPr>
                <a:xfrm>
                  <a:off x="3321000" y="2662560"/>
                  <a:ext cx="0" cy="813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87" name=""/>
            <p:cNvGrpSpPr/>
            <p:nvPr/>
          </p:nvGrpSpPr>
          <p:grpSpPr>
            <a:xfrm>
              <a:off x="3162960" y="1526760"/>
              <a:ext cx="2988000" cy="1739520"/>
              <a:chOff x="3162960" y="1526760"/>
              <a:chExt cx="2988000" cy="1739520"/>
            </a:xfrm>
          </p:grpSpPr>
          <p:grpSp>
            <p:nvGrpSpPr>
              <p:cNvPr id="3188" name=""/>
              <p:cNvGrpSpPr/>
              <p:nvPr/>
            </p:nvGrpSpPr>
            <p:grpSpPr>
              <a:xfrm>
                <a:off x="3162960" y="2346840"/>
                <a:ext cx="2169720" cy="919440"/>
                <a:chOff x="3162960" y="2346840"/>
                <a:chExt cx="2169720" cy="919440"/>
              </a:xfrm>
            </p:grpSpPr>
            <p:sp>
              <p:nvSpPr>
                <p:cNvPr id="3189" name=""/>
                <p:cNvSpPr/>
                <p:nvPr/>
              </p:nvSpPr>
              <p:spPr>
                <a:xfrm flipV="1">
                  <a:off x="3162960" y="2513520"/>
                  <a:ext cx="0" cy="752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 flipV="1">
                  <a:off x="3162960" y="2346840"/>
                  <a:ext cx="1085040" cy="16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 flipV="1">
                  <a:off x="5332680" y="2513520"/>
                  <a:ext cx="0" cy="752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 flipH="1" flipV="1">
                  <a:off x="4247640" y="2346840"/>
                  <a:ext cx="1084680" cy="16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3" name=""/>
              <p:cNvGrpSpPr/>
              <p:nvPr/>
            </p:nvGrpSpPr>
            <p:grpSpPr>
              <a:xfrm>
                <a:off x="3367440" y="1526760"/>
                <a:ext cx="2783520" cy="1542240"/>
                <a:chOff x="3367440" y="1526760"/>
                <a:chExt cx="2783520" cy="1542240"/>
              </a:xfrm>
            </p:grpSpPr>
            <p:grpSp>
              <p:nvGrpSpPr>
                <p:cNvPr id="3194" name=""/>
                <p:cNvGrpSpPr/>
                <p:nvPr/>
              </p:nvGrpSpPr>
              <p:grpSpPr>
                <a:xfrm>
                  <a:off x="3367440" y="2141640"/>
                  <a:ext cx="2170080" cy="927360"/>
                  <a:chOff x="3367440" y="2141640"/>
                  <a:chExt cx="2170080" cy="927360"/>
                </a:xfrm>
              </p:grpSpPr>
              <p:sp>
                <p:nvSpPr>
                  <p:cNvPr id="3195" name=""/>
                  <p:cNvSpPr/>
                  <p:nvPr/>
                </p:nvSpPr>
                <p:spPr>
                  <a:xfrm flipV="1">
                    <a:off x="3367440" y="2309040"/>
                    <a:ext cx="0" cy="756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 flipV="1">
                    <a:off x="3367440" y="2141640"/>
                    <a:ext cx="1085040" cy="167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 flipV="1">
                    <a:off x="5537520" y="2309400"/>
                    <a:ext cx="0" cy="759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 flipH="1" flipV="1">
                    <a:off x="4452120" y="2141640"/>
                    <a:ext cx="1084680" cy="167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99" name=""/>
                <p:cNvGrpSpPr/>
                <p:nvPr/>
              </p:nvGrpSpPr>
              <p:grpSpPr>
                <a:xfrm>
                  <a:off x="3570840" y="1936080"/>
                  <a:ext cx="2171160" cy="925920"/>
                  <a:chOff x="3570840" y="1936080"/>
                  <a:chExt cx="2171160" cy="925920"/>
                </a:xfrm>
              </p:grpSpPr>
              <p:sp>
                <p:nvSpPr>
                  <p:cNvPr id="3200" name=""/>
                  <p:cNvSpPr/>
                  <p:nvPr/>
                </p:nvSpPr>
                <p:spPr>
                  <a:xfrm flipV="1">
                    <a:off x="3570840" y="210456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 flipV="1">
                    <a:off x="3570840" y="1936080"/>
                    <a:ext cx="108540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 flipV="1">
                    <a:off x="5742000" y="210456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3" name=""/>
                  <p:cNvSpPr/>
                  <p:nvPr/>
                </p:nvSpPr>
                <p:spPr>
                  <a:xfrm flipH="1" flipV="1">
                    <a:off x="4655880" y="1936080"/>
                    <a:ext cx="108540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4" name=""/>
                <p:cNvGrpSpPr/>
                <p:nvPr/>
              </p:nvGrpSpPr>
              <p:grpSpPr>
                <a:xfrm>
                  <a:off x="3776400" y="1731240"/>
                  <a:ext cx="2170080" cy="925920"/>
                  <a:chOff x="3776400" y="1731240"/>
                  <a:chExt cx="2170080" cy="925920"/>
                </a:xfrm>
              </p:grpSpPr>
              <p:sp>
                <p:nvSpPr>
                  <p:cNvPr id="3205" name=""/>
                  <p:cNvSpPr/>
                  <p:nvPr/>
                </p:nvSpPr>
                <p:spPr>
                  <a:xfrm flipV="1">
                    <a:off x="3776400" y="189972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6" name=""/>
                  <p:cNvSpPr/>
                  <p:nvPr/>
                </p:nvSpPr>
                <p:spPr>
                  <a:xfrm flipV="1">
                    <a:off x="3776400" y="1731240"/>
                    <a:ext cx="108504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 flipV="1">
                    <a:off x="5946480" y="189972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 flipH="1" flipV="1">
                    <a:off x="4861440" y="1731240"/>
                    <a:ext cx="108504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9" name=""/>
                <p:cNvGrpSpPr/>
                <p:nvPr/>
              </p:nvGrpSpPr>
              <p:grpSpPr>
                <a:xfrm>
                  <a:off x="3981240" y="1526760"/>
                  <a:ext cx="2169720" cy="931680"/>
                  <a:chOff x="3981240" y="1526760"/>
                  <a:chExt cx="2169720" cy="931680"/>
                </a:xfrm>
              </p:grpSpPr>
              <p:sp>
                <p:nvSpPr>
                  <p:cNvPr id="3210" name=""/>
                  <p:cNvSpPr/>
                  <p:nvPr/>
                </p:nvSpPr>
                <p:spPr>
                  <a:xfrm flipV="1">
                    <a:off x="3981240" y="1695960"/>
                    <a:ext cx="0" cy="76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 flipV="1">
                    <a:off x="3981240" y="1526760"/>
                    <a:ext cx="1084680" cy="169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 flipV="1">
                    <a:off x="6150960" y="1695960"/>
                    <a:ext cx="0" cy="76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3" name=""/>
                  <p:cNvSpPr/>
                  <p:nvPr/>
                </p:nvSpPr>
                <p:spPr>
                  <a:xfrm flipH="1" flipV="1">
                    <a:off x="5065920" y="1526760"/>
                    <a:ext cx="1085040" cy="169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214" name=""/>
            <p:cNvGrpSpPr/>
            <p:nvPr/>
          </p:nvGrpSpPr>
          <p:grpSpPr>
            <a:xfrm>
              <a:off x="2953440" y="1321560"/>
              <a:ext cx="3400920" cy="1397880"/>
              <a:chOff x="2953440" y="1321560"/>
              <a:chExt cx="3400920" cy="1397880"/>
            </a:xfrm>
          </p:grpSpPr>
          <p:grpSp>
            <p:nvGrpSpPr>
              <p:cNvPr id="3215" name=""/>
              <p:cNvGrpSpPr/>
              <p:nvPr/>
            </p:nvGrpSpPr>
            <p:grpSpPr>
              <a:xfrm>
                <a:off x="3981600" y="1321560"/>
                <a:ext cx="2372760" cy="372960"/>
                <a:chOff x="3981600" y="1321560"/>
                <a:chExt cx="2372760" cy="372960"/>
              </a:xfrm>
            </p:grpSpPr>
            <p:sp>
              <p:nvSpPr>
                <p:cNvPr id="3216" name=""/>
                <p:cNvSpPr/>
                <p:nvPr/>
              </p:nvSpPr>
              <p:spPr>
                <a:xfrm flipV="1">
                  <a:off x="6153840" y="148644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 flipV="1">
                  <a:off x="5068080" y="1321560"/>
                  <a:ext cx="203400" cy="204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 flipV="1">
                  <a:off x="5442840" y="137916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9" name=""/>
                <p:cNvSpPr/>
                <p:nvPr/>
              </p:nvSpPr>
              <p:spPr>
                <a:xfrm flipV="1">
                  <a:off x="3981960" y="1489320"/>
                  <a:ext cx="20520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0" name=""/>
                <p:cNvSpPr/>
                <p:nvPr/>
              </p:nvSpPr>
              <p:spPr>
                <a:xfrm flipV="1">
                  <a:off x="4343760" y="143424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1" name=""/>
                <p:cNvSpPr/>
                <p:nvPr/>
              </p:nvSpPr>
              <p:spPr>
                <a:xfrm flipV="1">
                  <a:off x="4692240" y="1380960"/>
                  <a:ext cx="2008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22" name=""/>
                <p:cNvGrpSpPr/>
                <p:nvPr/>
              </p:nvGrpSpPr>
              <p:grpSpPr>
                <a:xfrm>
                  <a:off x="3981600" y="1321920"/>
                  <a:ext cx="2370600" cy="372600"/>
                  <a:chOff x="3981600" y="1321920"/>
                  <a:chExt cx="2370600" cy="372600"/>
                </a:xfrm>
              </p:grpSpPr>
              <p:sp>
                <p:nvSpPr>
                  <p:cNvPr id="3223" name=""/>
                  <p:cNvSpPr/>
                  <p:nvPr/>
                </p:nvSpPr>
                <p:spPr>
                  <a:xfrm flipH="1" flipV="1">
                    <a:off x="5270040" y="1321920"/>
                    <a:ext cx="16848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 flipH="1">
                    <a:off x="4691880" y="1321920"/>
                    <a:ext cx="577440" cy="261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 flipH="1" flipV="1">
                    <a:off x="6006960" y="1433880"/>
                    <a:ext cx="1425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 flipV="1">
                    <a:off x="5798880" y="1487160"/>
                    <a:ext cx="553320" cy="151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 flipH="1" flipV="1">
                    <a:off x="5645520" y="1379520"/>
                    <a:ext cx="153360" cy="260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 flipH="1">
                    <a:off x="5440320" y="1432440"/>
                    <a:ext cx="567000" cy="15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 flipH="1">
                    <a:off x="5069880" y="1377000"/>
                    <a:ext cx="575280" cy="147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 flipH="1" flipV="1">
                    <a:off x="4893480" y="1381320"/>
                    <a:ext cx="180720" cy="147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 flipH="1" flipV="1">
                    <a:off x="4547160" y="1432080"/>
                    <a:ext cx="149400" cy="153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2" name=""/>
                  <p:cNvSpPr/>
                  <p:nvPr/>
                </p:nvSpPr>
                <p:spPr>
                  <a:xfrm flipH="1">
                    <a:off x="4341240" y="1382400"/>
                    <a:ext cx="552600" cy="25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3" name=""/>
                  <p:cNvSpPr/>
                  <p:nvPr/>
                </p:nvSpPr>
                <p:spPr>
                  <a:xfrm flipH="1" flipV="1">
                    <a:off x="4188600" y="1490040"/>
                    <a:ext cx="151560" cy="148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 flipH="1">
                    <a:off x="3981600" y="1433160"/>
                    <a:ext cx="565560" cy="259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 flipV="1">
                    <a:off x="4189320" y="1323000"/>
                    <a:ext cx="1080000" cy="163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 flipV="1">
                    <a:off x="3992040" y="1524600"/>
                    <a:ext cx="1078560" cy="16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>
                    <a:off x="5068800" y="1524240"/>
                    <a:ext cx="1081800" cy="170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>
                    <a:off x="5274000" y="1321920"/>
                    <a:ext cx="1073520" cy="164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39" name=""/>
                <p:cNvSpPr/>
                <p:nvPr/>
              </p:nvSpPr>
              <p:spPr>
                <a:xfrm flipV="1">
                  <a:off x="5799600" y="1433520"/>
                  <a:ext cx="205920" cy="206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0" name=""/>
              <p:cNvGrpSpPr/>
              <p:nvPr/>
            </p:nvGrpSpPr>
            <p:grpSpPr>
              <a:xfrm>
                <a:off x="2953440" y="2346120"/>
                <a:ext cx="2373840" cy="373320"/>
                <a:chOff x="2953440" y="2346120"/>
                <a:chExt cx="2373840" cy="373320"/>
              </a:xfrm>
            </p:grpSpPr>
            <p:sp>
              <p:nvSpPr>
                <p:cNvPr id="3241" name=""/>
                <p:cNvSpPr/>
                <p:nvPr/>
              </p:nvSpPr>
              <p:spPr>
                <a:xfrm flipV="1">
                  <a:off x="5123160" y="2513520"/>
                  <a:ext cx="20340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 flipV="1">
                  <a:off x="4416840" y="2404440"/>
                  <a:ext cx="202320" cy="202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 flipV="1">
                  <a:off x="4039920" y="2349000"/>
                  <a:ext cx="199800" cy="19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>
                  <a:off x="4038120" y="2549160"/>
                  <a:ext cx="1085040" cy="170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 flipH="1" flipV="1">
                  <a:off x="4242960" y="2347200"/>
                  <a:ext cx="169200" cy="261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 flipH="1" flipV="1">
                  <a:off x="4980240" y="2460600"/>
                  <a:ext cx="144360" cy="25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 flipV="1">
                  <a:off x="4776120" y="2513520"/>
                  <a:ext cx="547560" cy="15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 flipH="1" flipV="1">
                  <a:off x="4619880" y="2405520"/>
                  <a:ext cx="15696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9" name=""/>
                <p:cNvSpPr/>
                <p:nvPr/>
              </p:nvSpPr>
              <p:spPr>
                <a:xfrm flipH="1">
                  <a:off x="4412160" y="2459880"/>
                  <a:ext cx="567000" cy="149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0" name=""/>
                <p:cNvSpPr/>
                <p:nvPr/>
              </p:nvSpPr>
              <p:spPr>
                <a:xfrm flipH="1">
                  <a:off x="4038840" y="2404440"/>
                  <a:ext cx="581400" cy="14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1" name=""/>
                <p:cNvSpPr/>
                <p:nvPr/>
              </p:nvSpPr>
              <p:spPr>
                <a:xfrm>
                  <a:off x="4245840" y="2346480"/>
                  <a:ext cx="1081440" cy="16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2" name=""/>
                <p:cNvSpPr/>
                <p:nvPr/>
              </p:nvSpPr>
              <p:spPr>
                <a:xfrm flipV="1">
                  <a:off x="4777200" y="2459880"/>
                  <a:ext cx="20232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 flipV="1">
                  <a:off x="3666240" y="2401920"/>
                  <a:ext cx="202320" cy="204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 flipV="1">
                  <a:off x="3317760" y="2455200"/>
                  <a:ext cx="204120" cy="20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5" name=""/>
                <p:cNvSpPr/>
                <p:nvPr/>
              </p:nvSpPr>
              <p:spPr>
                <a:xfrm flipV="1">
                  <a:off x="2959560" y="2549160"/>
                  <a:ext cx="1078200" cy="168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6" name=""/>
                <p:cNvSpPr/>
                <p:nvPr/>
              </p:nvSpPr>
              <p:spPr>
                <a:xfrm flipV="1">
                  <a:off x="3159360" y="2346120"/>
                  <a:ext cx="1089000" cy="165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7" name=""/>
                <p:cNvSpPr/>
                <p:nvPr/>
              </p:nvSpPr>
              <p:spPr>
                <a:xfrm flipH="1">
                  <a:off x="3664440" y="2346120"/>
                  <a:ext cx="57996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8" name=""/>
                <p:cNvSpPr/>
                <p:nvPr/>
              </p:nvSpPr>
              <p:spPr>
                <a:xfrm flipH="1" flipV="1">
                  <a:off x="3867480" y="2404440"/>
                  <a:ext cx="169920" cy="14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9" name=""/>
                <p:cNvSpPr/>
                <p:nvPr/>
              </p:nvSpPr>
              <p:spPr>
                <a:xfrm flipH="1" flipV="1">
                  <a:off x="3520440" y="2455560"/>
                  <a:ext cx="144000" cy="15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 flipH="1">
                  <a:off x="3319200" y="2407320"/>
                  <a:ext cx="543600" cy="254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 flipH="1" flipV="1">
                  <a:off x="3159720" y="2512440"/>
                  <a:ext cx="155880" cy="14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 flipH="1">
                  <a:off x="2955240" y="2457360"/>
                  <a:ext cx="56268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3" name=""/>
                <p:cNvSpPr/>
                <p:nvPr/>
              </p:nvSpPr>
              <p:spPr>
                <a:xfrm flipV="1">
                  <a:off x="2953440" y="2513160"/>
                  <a:ext cx="205920" cy="20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64" name=""/>
            <p:cNvGrpSpPr/>
            <p:nvPr/>
          </p:nvGrpSpPr>
          <p:grpSpPr>
            <a:xfrm>
              <a:off x="2958120" y="1487520"/>
              <a:ext cx="3395160" cy="1229760"/>
              <a:chOff x="2958120" y="1487520"/>
              <a:chExt cx="3395160" cy="1229760"/>
            </a:xfrm>
          </p:grpSpPr>
          <p:sp>
            <p:nvSpPr>
              <p:cNvPr id="3265" name=""/>
              <p:cNvSpPr/>
              <p:nvPr/>
            </p:nvSpPr>
            <p:spPr>
              <a:xfrm flipV="1">
                <a:off x="5122440" y="1487520"/>
                <a:ext cx="1230840" cy="122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 flipV="1">
                <a:off x="2958120" y="1487520"/>
                <a:ext cx="1227240" cy="122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67" name=""/>
            <p:cNvGrpSpPr/>
            <p:nvPr/>
          </p:nvGrpSpPr>
          <p:grpSpPr>
            <a:xfrm>
              <a:off x="3113640" y="1350000"/>
              <a:ext cx="3066120" cy="1346400"/>
              <a:chOff x="3113640" y="1350000"/>
              <a:chExt cx="3066120" cy="1346400"/>
            </a:xfrm>
          </p:grpSpPr>
          <p:sp>
            <p:nvSpPr>
              <p:cNvPr id="3268" name=""/>
              <p:cNvSpPr/>
              <p:nvPr/>
            </p:nvSpPr>
            <p:spPr>
              <a:xfrm flipV="1">
                <a:off x="4232520" y="1350000"/>
                <a:ext cx="1223640" cy="1229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V="1">
                <a:off x="4417920" y="1377720"/>
                <a:ext cx="1227240" cy="123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 flipV="1">
                <a:off x="4779360" y="1436400"/>
                <a:ext cx="1221840" cy="1229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 flipV="1">
                <a:off x="4948920" y="1463400"/>
                <a:ext cx="1230840" cy="123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 flipV="1">
                <a:off x="3113640" y="1461240"/>
                <a:ext cx="1255680" cy="123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 flipV="1">
                <a:off x="3318480" y="1434240"/>
                <a:ext cx="1226160" cy="122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 flipV="1">
                <a:off x="3667680" y="1377000"/>
                <a:ext cx="1228680" cy="122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flipV="1">
                <a:off x="3844440" y="1350000"/>
                <a:ext cx="1248120" cy="123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 flipV="1">
                <a:off x="3488040" y="1409400"/>
                <a:ext cx="1231920" cy="122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V="1">
                <a:off x="4596480" y="1404000"/>
                <a:ext cx="1227240" cy="1231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8" name=""/>
            <p:cNvGrpSpPr/>
            <p:nvPr/>
          </p:nvGrpSpPr>
          <p:grpSpPr>
            <a:xfrm>
              <a:off x="2957040" y="2718360"/>
              <a:ext cx="2169720" cy="758160"/>
              <a:chOff x="2957040" y="2718360"/>
              <a:chExt cx="2169720" cy="758160"/>
            </a:xfrm>
          </p:grpSpPr>
          <p:sp>
            <p:nvSpPr>
              <p:cNvPr id="3279" name=""/>
              <p:cNvSpPr/>
              <p:nvPr/>
            </p:nvSpPr>
            <p:spPr>
              <a:xfrm flipV="1">
                <a:off x="4418280" y="3475800"/>
                <a:ext cx="70704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V="1">
                <a:off x="2957040" y="2718360"/>
                <a:ext cx="2169720" cy="2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2957040" y="2914560"/>
                <a:ext cx="21693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4416480" y="3292920"/>
                <a:ext cx="70920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V="1">
                <a:off x="2957040" y="3117600"/>
                <a:ext cx="7099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>
                <a:off x="4418280" y="3112200"/>
                <a:ext cx="7084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>
                <a:off x="2957760" y="3295440"/>
                <a:ext cx="7081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2958480" y="3474720"/>
                <a:ext cx="706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7" name=""/>
            <p:cNvGrpSpPr/>
            <p:nvPr/>
          </p:nvGrpSpPr>
          <p:grpSpPr>
            <a:xfrm>
              <a:off x="5125680" y="1697400"/>
              <a:ext cx="1228680" cy="1776600"/>
              <a:chOff x="5125680" y="1697400"/>
              <a:chExt cx="1228680" cy="1776600"/>
            </a:xfrm>
          </p:grpSpPr>
          <p:sp>
            <p:nvSpPr>
              <p:cNvPr id="3288" name=""/>
              <p:cNvSpPr/>
              <p:nvPr/>
            </p:nvSpPr>
            <p:spPr>
              <a:xfrm flipV="1">
                <a:off x="5125680" y="2254680"/>
                <a:ext cx="1228680" cy="1219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 flipV="1">
                <a:off x="5128200" y="1697400"/>
                <a:ext cx="1225080" cy="1217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V="1">
                <a:off x="5127120" y="1900800"/>
                <a:ext cx="1226160" cy="1210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V="1">
                <a:off x="5126400" y="2063160"/>
                <a:ext cx="1226880" cy="12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92" name=""/>
            <p:cNvSpPr/>
            <p:nvPr/>
          </p:nvSpPr>
          <p:spPr>
            <a:xfrm flipV="1">
              <a:off x="2957040" y="2549880"/>
              <a:ext cx="1084320" cy="168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H="1" flipV="1">
              <a:off x="4043520" y="2550960"/>
              <a:ext cx="1085040" cy="168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V="1">
              <a:off x="2956320" y="271548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V="1">
              <a:off x="5125680" y="271548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V="1">
              <a:off x="6352920" y="148536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4188960" y="1320840"/>
              <a:ext cx="1083960" cy="167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H="1" flipV="1">
              <a:off x="5273280" y="1320840"/>
              <a:ext cx="1084320" cy="167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9" name=""/>
          <p:cNvSpPr/>
          <p:nvPr/>
        </p:nvSpPr>
        <p:spPr>
          <a:xfrm>
            <a:off x="147600" y="4803840"/>
            <a:ext cx="6583320" cy="309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généralement sollicitées en flexion compos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0" name=""/>
          <p:cNvSpPr/>
          <p:nvPr/>
        </p:nvSpPr>
        <p:spPr>
          <a:xfrm>
            <a:off x="217440" y="52704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ant les pannes courant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1" name=""/>
          <p:cNvSpPr/>
          <p:nvPr/>
        </p:nvSpPr>
        <p:spPr>
          <a:xfrm>
            <a:off x="6772320" y="52419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2" name=""/>
          <p:cNvSpPr/>
          <p:nvPr/>
        </p:nvSpPr>
        <p:spPr>
          <a:xfrm>
            <a:off x="147600" y="3781440"/>
            <a:ext cx="658188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flèche d’une panne isostatique est plus grande que celle d ’une panne hyperstatique de même section transver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7018200" y="38718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7045200" y="3936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7927920" y="38718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7956720" y="39369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7929720" y="51958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7956720" y="526104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7016760" y="51973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>
            <a:hlinkClick r:id="" action="ppaction://hlinkshowjump?jump=nextslide"/>
          </p:cNvPr>
          <p:cNvSpPr/>
          <p:nvPr/>
        </p:nvSpPr>
        <p:spPr>
          <a:xfrm>
            <a:off x="7045200" y="526248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147600" y="4398840"/>
            <a:ext cx="6583320" cy="293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sollicitées en flexion si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792972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7956720" y="44370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7016760" y="4373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7045200" y="443880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7016760" y="47862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7045200" y="48513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8" name=""/>
          <p:cNvGrpSpPr/>
          <p:nvPr/>
        </p:nvGrpSpPr>
        <p:grpSpPr>
          <a:xfrm>
            <a:off x="2894040" y="1318680"/>
            <a:ext cx="3498120" cy="2278440"/>
            <a:chOff x="2894040" y="1318680"/>
            <a:chExt cx="3498120" cy="2278440"/>
          </a:xfrm>
        </p:grpSpPr>
        <p:sp>
          <p:nvSpPr>
            <p:cNvPr id="3319" name=""/>
            <p:cNvSpPr/>
            <p:nvPr/>
          </p:nvSpPr>
          <p:spPr>
            <a:xfrm flipV="1">
              <a:off x="4038480" y="1318680"/>
              <a:ext cx="1229400" cy="122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 flipV="1">
              <a:off x="4183200" y="148536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1" name=""/>
            <p:cNvGrpSpPr/>
            <p:nvPr/>
          </p:nvGrpSpPr>
          <p:grpSpPr>
            <a:xfrm>
              <a:off x="2958120" y="1485360"/>
              <a:ext cx="3399120" cy="1988640"/>
              <a:chOff x="2958120" y="1485360"/>
              <a:chExt cx="3399120" cy="1988640"/>
            </a:xfrm>
          </p:grpSpPr>
          <p:grpSp>
            <p:nvGrpSpPr>
              <p:cNvPr id="3322" name=""/>
              <p:cNvGrpSpPr/>
              <p:nvPr/>
            </p:nvGrpSpPr>
            <p:grpSpPr>
              <a:xfrm>
                <a:off x="2958120" y="1485360"/>
                <a:ext cx="3397680" cy="1988640"/>
                <a:chOff x="2958120" y="1485360"/>
                <a:chExt cx="3397680" cy="1988640"/>
              </a:xfrm>
            </p:grpSpPr>
            <p:grpSp>
              <p:nvGrpSpPr>
                <p:cNvPr id="3323" name=""/>
                <p:cNvGrpSpPr/>
                <p:nvPr/>
              </p:nvGrpSpPr>
              <p:grpSpPr>
                <a:xfrm>
                  <a:off x="5119560" y="2510640"/>
                  <a:ext cx="213480" cy="959400"/>
                  <a:chOff x="5119560" y="2510640"/>
                  <a:chExt cx="213480" cy="959400"/>
                </a:xfrm>
              </p:grpSpPr>
              <p:sp>
                <p:nvSpPr>
                  <p:cNvPr id="3324" name=""/>
                  <p:cNvSpPr/>
                  <p:nvPr/>
                </p:nvSpPr>
                <p:spPr>
                  <a:xfrm flipV="1">
                    <a:off x="5128560" y="2909160"/>
                    <a:ext cx="204480" cy="56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 flipH="1" flipV="1">
                    <a:off x="5124600" y="2711880"/>
                    <a:ext cx="207720" cy="196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 flipH="1" flipV="1">
                    <a:off x="5128560" y="3109680"/>
                    <a:ext cx="204480" cy="155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 flipV="1">
                    <a:off x="5128560" y="2510640"/>
                    <a:ext cx="204480" cy="594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 flipV="1">
                    <a:off x="5119560" y="2518200"/>
                    <a:ext cx="20448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>
                    <a:off x="5128560" y="2712600"/>
                    <a:ext cx="0" cy="754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>
                    <a:off x="5333040" y="2514240"/>
                    <a:ext cx="0" cy="75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31" name=""/>
                <p:cNvGrpSpPr/>
                <p:nvPr/>
              </p:nvGrpSpPr>
              <p:grpSpPr>
                <a:xfrm>
                  <a:off x="2958120" y="2514960"/>
                  <a:ext cx="205560" cy="959040"/>
                  <a:chOff x="2958120" y="2514960"/>
                  <a:chExt cx="205560" cy="959040"/>
                </a:xfrm>
              </p:grpSpPr>
              <p:sp>
                <p:nvSpPr>
                  <p:cNvPr id="3332" name=""/>
                  <p:cNvSpPr/>
                  <p:nvPr/>
                </p:nvSpPr>
                <p:spPr>
                  <a:xfrm flipV="1">
                    <a:off x="2958840" y="2911320"/>
                    <a:ext cx="204480" cy="56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 flipH="1" flipV="1">
                    <a:off x="2958480" y="2719080"/>
                    <a:ext cx="202680" cy="18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 flipH="1" flipV="1">
                    <a:off x="2958120" y="3115800"/>
                    <a:ext cx="204480" cy="15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 flipV="1">
                    <a:off x="2958840" y="2514960"/>
                    <a:ext cx="203400" cy="597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 flipV="1">
                    <a:off x="2959920" y="2515320"/>
                    <a:ext cx="200880" cy="20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>
                    <a:off x="2959200" y="2719800"/>
                    <a:ext cx="0" cy="754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 flipH="1">
                    <a:off x="3162960" y="2521800"/>
                    <a:ext cx="720" cy="745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39" name=""/>
                <p:cNvGrpSpPr/>
                <p:nvPr/>
              </p:nvGrpSpPr>
              <p:grpSpPr>
                <a:xfrm>
                  <a:off x="6149160" y="1485360"/>
                  <a:ext cx="206640" cy="973080"/>
                  <a:chOff x="6149160" y="1485360"/>
                  <a:chExt cx="206640" cy="973080"/>
                </a:xfrm>
              </p:grpSpPr>
              <p:sp>
                <p:nvSpPr>
                  <p:cNvPr id="3340" name=""/>
                  <p:cNvSpPr/>
                  <p:nvPr/>
                </p:nvSpPr>
                <p:spPr>
                  <a:xfrm flipV="1">
                    <a:off x="6150960" y="1897920"/>
                    <a:ext cx="202680" cy="557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 flipH="1" flipV="1">
                    <a:off x="6149160" y="1690560"/>
                    <a:ext cx="203400" cy="21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 flipH="1" flipV="1">
                    <a:off x="6150600" y="2098440"/>
                    <a:ext cx="202680" cy="153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 flipV="1">
                    <a:off x="6150240" y="1486440"/>
                    <a:ext cx="200520" cy="61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 flipV="1">
                    <a:off x="6149520" y="1485360"/>
                    <a:ext cx="205200" cy="20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>
                    <a:off x="6152400" y="1687680"/>
                    <a:ext cx="0" cy="770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 flipH="1">
                    <a:off x="6355080" y="1488600"/>
                    <a:ext cx="720" cy="763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7" name=""/>
                <p:cNvGrpSpPr/>
                <p:nvPr/>
              </p:nvGrpSpPr>
              <p:grpSpPr>
                <a:xfrm>
                  <a:off x="3981240" y="1486440"/>
                  <a:ext cx="204480" cy="968760"/>
                  <a:chOff x="3981240" y="1486440"/>
                  <a:chExt cx="204480" cy="968760"/>
                </a:xfrm>
              </p:grpSpPr>
              <p:sp>
                <p:nvSpPr>
                  <p:cNvPr id="3348" name=""/>
                  <p:cNvSpPr/>
                  <p:nvPr/>
                </p:nvSpPr>
                <p:spPr>
                  <a:xfrm flipV="1">
                    <a:off x="3981600" y="1900800"/>
                    <a:ext cx="203400" cy="554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9" name=""/>
                  <p:cNvSpPr/>
                  <p:nvPr/>
                </p:nvSpPr>
                <p:spPr>
                  <a:xfrm flipH="1" flipV="1">
                    <a:off x="3982320" y="1693800"/>
                    <a:ext cx="201600" cy="205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0" name=""/>
                  <p:cNvSpPr/>
                  <p:nvPr/>
                </p:nvSpPr>
                <p:spPr>
                  <a:xfrm flipH="1" flipV="1">
                    <a:off x="3981240" y="2102040"/>
                    <a:ext cx="204120" cy="147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1" name=""/>
                  <p:cNvSpPr/>
                  <p:nvPr/>
                </p:nvSpPr>
                <p:spPr>
                  <a:xfrm flipV="1">
                    <a:off x="3981600" y="1486440"/>
                    <a:ext cx="204120" cy="61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 flipV="1">
                    <a:off x="3982680" y="1487160"/>
                    <a:ext cx="200880" cy="20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3981600" y="1697760"/>
                    <a:ext cx="0" cy="754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>
                    <a:off x="4184280" y="1486440"/>
                    <a:ext cx="720" cy="764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55" name=""/>
              <p:cNvGrpSpPr/>
              <p:nvPr/>
            </p:nvGrpSpPr>
            <p:grpSpPr>
              <a:xfrm>
                <a:off x="2960280" y="1897200"/>
                <a:ext cx="3396960" cy="1218600"/>
                <a:chOff x="2960280" y="1897200"/>
                <a:chExt cx="3396960" cy="1218600"/>
              </a:xfrm>
            </p:grpSpPr>
            <p:sp>
              <p:nvSpPr>
                <p:cNvPr id="3356" name=""/>
                <p:cNvSpPr/>
                <p:nvPr/>
              </p:nvSpPr>
              <p:spPr>
                <a:xfrm flipV="1">
                  <a:off x="5131080" y="2908080"/>
                  <a:ext cx="200880" cy="201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7" name=""/>
                <p:cNvSpPr/>
                <p:nvPr/>
              </p:nvSpPr>
              <p:spPr>
                <a:xfrm flipV="1">
                  <a:off x="2960280" y="2912760"/>
                  <a:ext cx="20448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8" name=""/>
                <p:cNvSpPr/>
                <p:nvPr/>
              </p:nvSpPr>
              <p:spPr>
                <a:xfrm flipV="1">
                  <a:off x="6156360" y="1897200"/>
                  <a:ext cx="2008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9" name=""/>
                <p:cNvSpPr/>
                <p:nvPr/>
              </p:nvSpPr>
              <p:spPr>
                <a:xfrm flipV="1">
                  <a:off x="3984840" y="1900800"/>
                  <a:ext cx="2026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0" name=""/>
            <p:cNvGrpSpPr/>
            <p:nvPr/>
          </p:nvGrpSpPr>
          <p:grpSpPr>
            <a:xfrm>
              <a:off x="2894040" y="2275920"/>
              <a:ext cx="3498120" cy="1321200"/>
              <a:chOff x="2894040" y="2275920"/>
              <a:chExt cx="3498120" cy="1321200"/>
            </a:xfrm>
          </p:grpSpPr>
          <p:grpSp>
            <p:nvGrpSpPr>
              <p:cNvPr id="3361" name=""/>
              <p:cNvGrpSpPr/>
              <p:nvPr/>
            </p:nvGrpSpPr>
            <p:grpSpPr>
              <a:xfrm>
                <a:off x="5270400" y="2477160"/>
                <a:ext cx="918000" cy="916920"/>
                <a:chOff x="5270400" y="2477160"/>
                <a:chExt cx="918000" cy="916920"/>
              </a:xfrm>
            </p:grpSpPr>
            <p:sp>
              <p:nvSpPr>
                <p:cNvPr id="3362" name=""/>
                <p:cNvSpPr/>
                <p:nvPr/>
              </p:nvSpPr>
              <p:spPr>
                <a:xfrm>
                  <a:off x="6087960" y="247716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5886720" y="267696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4" name=""/>
                <p:cNvSpPr/>
                <p:nvPr/>
              </p:nvSpPr>
              <p:spPr>
                <a:xfrm>
                  <a:off x="5679360" y="2882160"/>
                  <a:ext cx="10080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5475240" y="3084840"/>
                  <a:ext cx="10332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5270400" y="3293280"/>
                  <a:ext cx="10008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7" name=""/>
              <p:cNvGrpSpPr/>
              <p:nvPr/>
            </p:nvGrpSpPr>
            <p:grpSpPr>
              <a:xfrm>
                <a:off x="3102840" y="2476440"/>
                <a:ext cx="915120" cy="912240"/>
                <a:chOff x="3102840" y="2476440"/>
                <a:chExt cx="915120" cy="912240"/>
              </a:xfrm>
            </p:grpSpPr>
            <p:sp>
              <p:nvSpPr>
                <p:cNvPr id="3368" name=""/>
                <p:cNvSpPr/>
                <p:nvPr/>
              </p:nvSpPr>
              <p:spPr>
                <a:xfrm>
                  <a:off x="3917520" y="247644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9" name=""/>
                <p:cNvSpPr/>
                <p:nvPr/>
              </p:nvSpPr>
              <p:spPr>
                <a:xfrm>
                  <a:off x="3714840" y="2678040"/>
                  <a:ext cx="100440" cy="1018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3511800" y="288216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3304440" y="3085920"/>
                  <a:ext cx="10116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2" name=""/>
                <p:cNvSpPr/>
                <p:nvPr/>
              </p:nvSpPr>
              <p:spPr>
                <a:xfrm>
                  <a:off x="3102840" y="328788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3" name=""/>
              <p:cNvGrpSpPr/>
              <p:nvPr/>
            </p:nvGrpSpPr>
            <p:grpSpPr>
              <a:xfrm>
                <a:off x="4118400" y="2275920"/>
                <a:ext cx="2273760" cy="102600"/>
                <a:chOff x="4118400" y="2275920"/>
                <a:chExt cx="2273760" cy="102600"/>
              </a:xfrm>
            </p:grpSpPr>
            <p:sp>
              <p:nvSpPr>
                <p:cNvPr id="3374" name=""/>
                <p:cNvSpPr/>
                <p:nvPr/>
              </p:nvSpPr>
              <p:spPr>
                <a:xfrm>
                  <a:off x="6291720" y="227592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4118400" y="227592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5578560" y="227592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4479480" y="227736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4826880" y="227700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5205600" y="227592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5936760" y="227700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1" name=""/>
              <p:cNvGrpSpPr/>
              <p:nvPr/>
            </p:nvGrpSpPr>
            <p:grpSpPr>
              <a:xfrm>
                <a:off x="2894040" y="3494880"/>
                <a:ext cx="2274120" cy="102240"/>
                <a:chOff x="2894040" y="3494880"/>
                <a:chExt cx="2274120" cy="102240"/>
              </a:xfrm>
            </p:grpSpPr>
            <p:sp>
              <p:nvSpPr>
                <p:cNvPr id="3382" name=""/>
                <p:cNvSpPr/>
                <p:nvPr/>
              </p:nvSpPr>
              <p:spPr>
                <a:xfrm>
                  <a:off x="289404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3" name=""/>
                <p:cNvSpPr/>
                <p:nvPr/>
              </p:nvSpPr>
              <p:spPr>
                <a:xfrm>
                  <a:off x="5067360" y="349488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32529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36021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4354560" y="349596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47181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88" name=""/>
            <p:cNvGrpSpPr/>
            <p:nvPr/>
          </p:nvGrpSpPr>
          <p:grpSpPr>
            <a:xfrm>
              <a:off x="4185000" y="1488600"/>
              <a:ext cx="2171520" cy="765000"/>
              <a:chOff x="4185000" y="1488600"/>
              <a:chExt cx="2171520" cy="765000"/>
            </a:xfrm>
          </p:grpSpPr>
          <p:sp>
            <p:nvSpPr>
              <p:cNvPr id="3389" name=""/>
              <p:cNvSpPr/>
              <p:nvPr/>
            </p:nvSpPr>
            <p:spPr>
              <a:xfrm>
                <a:off x="4185000" y="148860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4185000" y="169632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 flipV="1">
                <a:off x="4185360" y="2063520"/>
                <a:ext cx="2167560" cy="8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 flipV="1">
                <a:off x="4186080" y="1901160"/>
                <a:ext cx="21639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4186800" y="225360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4" name=""/>
            <p:cNvGrpSpPr/>
            <p:nvPr/>
          </p:nvGrpSpPr>
          <p:grpSpPr>
            <a:xfrm>
              <a:off x="2957040" y="1694160"/>
              <a:ext cx="1227600" cy="1779480"/>
              <a:chOff x="2957040" y="1694160"/>
              <a:chExt cx="1227600" cy="1779480"/>
            </a:xfrm>
          </p:grpSpPr>
          <p:sp>
            <p:nvSpPr>
              <p:cNvPr id="3395" name=""/>
              <p:cNvSpPr/>
              <p:nvPr/>
            </p:nvSpPr>
            <p:spPr>
              <a:xfrm flipV="1">
                <a:off x="2959560" y="1694160"/>
                <a:ext cx="1224000" cy="12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 flipV="1">
                <a:off x="2957040" y="1903320"/>
                <a:ext cx="1226880" cy="12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 flipV="1">
                <a:off x="2957760" y="2071800"/>
                <a:ext cx="1226880" cy="12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 flipV="1">
                <a:off x="2957760" y="2253240"/>
                <a:ext cx="1225080" cy="1220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9" name=""/>
            <p:cNvGrpSpPr/>
            <p:nvPr/>
          </p:nvGrpSpPr>
          <p:grpSpPr>
            <a:xfrm>
              <a:off x="2957040" y="1320840"/>
              <a:ext cx="3396960" cy="2158200"/>
              <a:chOff x="2957040" y="1320840"/>
              <a:chExt cx="3396960" cy="2158200"/>
            </a:xfrm>
          </p:grpSpPr>
          <p:grpSp>
            <p:nvGrpSpPr>
              <p:cNvPr id="3400" name=""/>
              <p:cNvGrpSpPr/>
              <p:nvPr/>
            </p:nvGrpSpPr>
            <p:grpSpPr>
              <a:xfrm>
                <a:off x="4184640" y="1320840"/>
                <a:ext cx="2169360" cy="933840"/>
                <a:chOff x="4184640" y="1320840"/>
                <a:chExt cx="2169360" cy="933840"/>
              </a:xfrm>
            </p:grpSpPr>
            <p:sp>
              <p:nvSpPr>
                <p:cNvPr id="3401" name=""/>
                <p:cNvSpPr/>
                <p:nvPr/>
              </p:nvSpPr>
              <p:spPr>
                <a:xfrm>
                  <a:off x="6006960" y="1436400"/>
                  <a:ext cx="0" cy="818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6354000" y="1497960"/>
                  <a:ext cx="0" cy="75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5644800" y="1377000"/>
                  <a:ext cx="0" cy="87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4" name=""/>
                <p:cNvSpPr/>
                <p:nvPr/>
              </p:nvSpPr>
              <p:spPr>
                <a:xfrm>
                  <a:off x="5270040" y="1320840"/>
                  <a:ext cx="0" cy="93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5" name=""/>
                <p:cNvSpPr/>
                <p:nvPr/>
              </p:nvSpPr>
              <p:spPr>
                <a:xfrm>
                  <a:off x="4893840" y="1379520"/>
                  <a:ext cx="0" cy="87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4184640" y="1494360"/>
                  <a:ext cx="0" cy="760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4547160" y="1433520"/>
                  <a:ext cx="0" cy="821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8" name=""/>
              <p:cNvGrpSpPr/>
              <p:nvPr/>
            </p:nvGrpSpPr>
            <p:grpSpPr>
              <a:xfrm>
                <a:off x="2957040" y="2549880"/>
                <a:ext cx="2171160" cy="929160"/>
                <a:chOff x="2957040" y="2549880"/>
                <a:chExt cx="2171160" cy="929160"/>
              </a:xfrm>
            </p:grpSpPr>
            <p:sp>
              <p:nvSpPr>
                <p:cNvPr id="3409" name=""/>
                <p:cNvSpPr/>
                <p:nvPr/>
              </p:nvSpPr>
              <p:spPr>
                <a:xfrm flipH="1">
                  <a:off x="4043160" y="2549880"/>
                  <a:ext cx="720" cy="361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0" name=""/>
                <p:cNvSpPr/>
                <p:nvPr/>
              </p:nvSpPr>
              <p:spPr>
                <a:xfrm>
                  <a:off x="4780800" y="2665080"/>
                  <a:ext cx="0" cy="813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5128200" y="2716560"/>
                  <a:ext cx="0" cy="755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2" name=""/>
                <p:cNvSpPr/>
                <p:nvPr/>
              </p:nvSpPr>
              <p:spPr>
                <a:xfrm>
                  <a:off x="4418640" y="2610360"/>
                  <a:ext cx="0" cy="86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3" name=""/>
                <p:cNvSpPr/>
                <p:nvPr/>
              </p:nvSpPr>
              <p:spPr>
                <a:xfrm>
                  <a:off x="3667320" y="2605680"/>
                  <a:ext cx="0" cy="87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2957040" y="2718360"/>
                  <a:ext cx="360" cy="756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5" name=""/>
                <p:cNvSpPr/>
                <p:nvPr/>
              </p:nvSpPr>
              <p:spPr>
                <a:xfrm>
                  <a:off x="3321000" y="2662560"/>
                  <a:ext cx="0" cy="813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6" name=""/>
            <p:cNvGrpSpPr/>
            <p:nvPr/>
          </p:nvGrpSpPr>
          <p:grpSpPr>
            <a:xfrm>
              <a:off x="3162960" y="1526760"/>
              <a:ext cx="2988000" cy="1739520"/>
              <a:chOff x="3162960" y="1526760"/>
              <a:chExt cx="2988000" cy="1739520"/>
            </a:xfrm>
          </p:grpSpPr>
          <p:grpSp>
            <p:nvGrpSpPr>
              <p:cNvPr id="3417" name=""/>
              <p:cNvGrpSpPr/>
              <p:nvPr/>
            </p:nvGrpSpPr>
            <p:grpSpPr>
              <a:xfrm>
                <a:off x="3162960" y="2346840"/>
                <a:ext cx="2169720" cy="919440"/>
                <a:chOff x="3162960" y="2346840"/>
                <a:chExt cx="2169720" cy="919440"/>
              </a:xfrm>
            </p:grpSpPr>
            <p:sp>
              <p:nvSpPr>
                <p:cNvPr id="3418" name=""/>
                <p:cNvSpPr/>
                <p:nvPr/>
              </p:nvSpPr>
              <p:spPr>
                <a:xfrm flipV="1">
                  <a:off x="3162960" y="2513520"/>
                  <a:ext cx="0" cy="752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 flipV="1">
                  <a:off x="3162960" y="2346840"/>
                  <a:ext cx="1085040" cy="16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0" name=""/>
                <p:cNvSpPr/>
                <p:nvPr/>
              </p:nvSpPr>
              <p:spPr>
                <a:xfrm flipV="1">
                  <a:off x="5332680" y="2513520"/>
                  <a:ext cx="0" cy="752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 flipH="1" flipV="1">
                  <a:off x="4247640" y="2346840"/>
                  <a:ext cx="1084680" cy="16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2" name=""/>
              <p:cNvGrpSpPr/>
              <p:nvPr/>
            </p:nvGrpSpPr>
            <p:grpSpPr>
              <a:xfrm>
                <a:off x="3367440" y="1526760"/>
                <a:ext cx="2783520" cy="1542240"/>
                <a:chOff x="3367440" y="1526760"/>
                <a:chExt cx="2783520" cy="1542240"/>
              </a:xfrm>
            </p:grpSpPr>
            <p:grpSp>
              <p:nvGrpSpPr>
                <p:cNvPr id="3423" name=""/>
                <p:cNvGrpSpPr/>
                <p:nvPr/>
              </p:nvGrpSpPr>
              <p:grpSpPr>
                <a:xfrm>
                  <a:off x="3367440" y="2141640"/>
                  <a:ext cx="2170080" cy="927360"/>
                  <a:chOff x="3367440" y="2141640"/>
                  <a:chExt cx="2170080" cy="927360"/>
                </a:xfrm>
              </p:grpSpPr>
              <p:sp>
                <p:nvSpPr>
                  <p:cNvPr id="3424" name=""/>
                  <p:cNvSpPr/>
                  <p:nvPr/>
                </p:nvSpPr>
                <p:spPr>
                  <a:xfrm flipV="1">
                    <a:off x="3367440" y="2309040"/>
                    <a:ext cx="0" cy="756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5" name=""/>
                  <p:cNvSpPr/>
                  <p:nvPr/>
                </p:nvSpPr>
                <p:spPr>
                  <a:xfrm flipV="1">
                    <a:off x="3367440" y="2141640"/>
                    <a:ext cx="1085040" cy="167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6" name=""/>
                  <p:cNvSpPr/>
                  <p:nvPr/>
                </p:nvSpPr>
                <p:spPr>
                  <a:xfrm flipV="1">
                    <a:off x="5537520" y="2309400"/>
                    <a:ext cx="0" cy="759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7" name=""/>
                  <p:cNvSpPr/>
                  <p:nvPr/>
                </p:nvSpPr>
                <p:spPr>
                  <a:xfrm flipH="1" flipV="1">
                    <a:off x="4452120" y="2141640"/>
                    <a:ext cx="1084680" cy="167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28" name=""/>
                <p:cNvGrpSpPr/>
                <p:nvPr/>
              </p:nvGrpSpPr>
              <p:grpSpPr>
                <a:xfrm>
                  <a:off x="3570840" y="1936080"/>
                  <a:ext cx="2171160" cy="925920"/>
                  <a:chOff x="3570840" y="1936080"/>
                  <a:chExt cx="2171160" cy="925920"/>
                </a:xfrm>
              </p:grpSpPr>
              <p:sp>
                <p:nvSpPr>
                  <p:cNvPr id="3429" name=""/>
                  <p:cNvSpPr/>
                  <p:nvPr/>
                </p:nvSpPr>
                <p:spPr>
                  <a:xfrm flipV="1">
                    <a:off x="3570840" y="210456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0" name=""/>
                  <p:cNvSpPr/>
                  <p:nvPr/>
                </p:nvSpPr>
                <p:spPr>
                  <a:xfrm flipV="1">
                    <a:off x="3570840" y="1936080"/>
                    <a:ext cx="108540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 flipV="1">
                    <a:off x="5742000" y="210456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2" name=""/>
                  <p:cNvSpPr/>
                  <p:nvPr/>
                </p:nvSpPr>
                <p:spPr>
                  <a:xfrm flipH="1" flipV="1">
                    <a:off x="4655880" y="1936080"/>
                    <a:ext cx="108540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3" name=""/>
                <p:cNvGrpSpPr/>
                <p:nvPr/>
              </p:nvGrpSpPr>
              <p:grpSpPr>
                <a:xfrm>
                  <a:off x="3776400" y="1731240"/>
                  <a:ext cx="2170080" cy="925920"/>
                  <a:chOff x="3776400" y="1731240"/>
                  <a:chExt cx="2170080" cy="925920"/>
                </a:xfrm>
              </p:grpSpPr>
              <p:sp>
                <p:nvSpPr>
                  <p:cNvPr id="3434" name=""/>
                  <p:cNvSpPr/>
                  <p:nvPr/>
                </p:nvSpPr>
                <p:spPr>
                  <a:xfrm flipV="1">
                    <a:off x="3776400" y="189972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5" name=""/>
                  <p:cNvSpPr/>
                  <p:nvPr/>
                </p:nvSpPr>
                <p:spPr>
                  <a:xfrm flipV="1">
                    <a:off x="3776400" y="1731240"/>
                    <a:ext cx="108504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6" name=""/>
                  <p:cNvSpPr/>
                  <p:nvPr/>
                </p:nvSpPr>
                <p:spPr>
                  <a:xfrm flipV="1">
                    <a:off x="5946480" y="189972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7" name=""/>
                  <p:cNvSpPr/>
                  <p:nvPr/>
                </p:nvSpPr>
                <p:spPr>
                  <a:xfrm flipH="1" flipV="1">
                    <a:off x="4861440" y="1731240"/>
                    <a:ext cx="108504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8" name=""/>
                <p:cNvGrpSpPr/>
                <p:nvPr/>
              </p:nvGrpSpPr>
              <p:grpSpPr>
                <a:xfrm>
                  <a:off x="3981240" y="1526760"/>
                  <a:ext cx="2169720" cy="931680"/>
                  <a:chOff x="3981240" y="1526760"/>
                  <a:chExt cx="2169720" cy="931680"/>
                </a:xfrm>
              </p:grpSpPr>
              <p:sp>
                <p:nvSpPr>
                  <p:cNvPr id="3439" name=""/>
                  <p:cNvSpPr/>
                  <p:nvPr/>
                </p:nvSpPr>
                <p:spPr>
                  <a:xfrm flipV="1">
                    <a:off x="3981240" y="1695960"/>
                    <a:ext cx="0" cy="76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0" name=""/>
                  <p:cNvSpPr/>
                  <p:nvPr/>
                </p:nvSpPr>
                <p:spPr>
                  <a:xfrm flipV="1">
                    <a:off x="3981240" y="1526760"/>
                    <a:ext cx="1084680" cy="169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1" name=""/>
                  <p:cNvSpPr/>
                  <p:nvPr/>
                </p:nvSpPr>
                <p:spPr>
                  <a:xfrm flipV="1">
                    <a:off x="6150960" y="1695960"/>
                    <a:ext cx="0" cy="76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2" name=""/>
                  <p:cNvSpPr/>
                  <p:nvPr/>
                </p:nvSpPr>
                <p:spPr>
                  <a:xfrm flipH="1" flipV="1">
                    <a:off x="5065920" y="1526760"/>
                    <a:ext cx="1085040" cy="169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443" name=""/>
            <p:cNvGrpSpPr/>
            <p:nvPr/>
          </p:nvGrpSpPr>
          <p:grpSpPr>
            <a:xfrm>
              <a:off x="2953440" y="1321560"/>
              <a:ext cx="3400920" cy="1397880"/>
              <a:chOff x="2953440" y="1321560"/>
              <a:chExt cx="3400920" cy="1397880"/>
            </a:xfrm>
          </p:grpSpPr>
          <p:grpSp>
            <p:nvGrpSpPr>
              <p:cNvPr id="3444" name=""/>
              <p:cNvGrpSpPr/>
              <p:nvPr/>
            </p:nvGrpSpPr>
            <p:grpSpPr>
              <a:xfrm>
                <a:off x="3981600" y="1321560"/>
                <a:ext cx="2372760" cy="372960"/>
                <a:chOff x="3981600" y="1321560"/>
                <a:chExt cx="2372760" cy="372960"/>
              </a:xfrm>
            </p:grpSpPr>
            <p:sp>
              <p:nvSpPr>
                <p:cNvPr id="3445" name=""/>
                <p:cNvSpPr/>
                <p:nvPr/>
              </p:nvSpPr>
              <p:spPr>
                <a:xfrm flipV="1">
                  <a:off x="6153840" y="148644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 flipV="1">
                  <a:off x="5068080" y="1321560"/>
                  <a:ext cx="203400" cy="204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7" name=""/>
                <p:cNvSpPr/>
                <p:nvPr/>
              </p:nvSpPr>
              <p:spPr>
                <a:xfrm flipV="1">
                  <a:off x="5442840" y="137916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8" name=""/>
                <p:cNvSpPr/>
                <p:nvPr/>
              </p:nvSpPr>
              <p:spPr>
                <a:xfrm flipV="1">
                  <a:off x="3981960" y="1489320"/>
                  <a:ext cx="20520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 flipV="1">
                  <a:off x="4343760" y="143424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 flipV="1">
                  <a:off x="4692240" y="1380960"/>
                  <a:ext cx="2008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1" name=""/>
                <p:cNvGrpSpPr/>
                <p:nvPr/>
              </p:nvGrpSpPr>
              <p:grpSpPr>
                <a:xfrm>
                  <a:off x="3981600" y="1321920"/>
                  <a:ext cx="2370600" cy="372600"/>
                  <a:chOff x="3981600" y="1321920"/>
                  <a:chExt cx="2370600" cy="372600"/>
                </a:xfrm>
              </p:grpSpPr>
              <p:sp>
                <p:nvSpPr>
                  <p:cNvPr id="3452" name=""/>
                  <p:cNvSpPr/>
                  <p:nvPr/>
                </p:nvSpPr>
                <p:spPr>
                  <a:xfrm flipH="1" flipV="1">
                    <a:off x="5270040" y="1321920"/>
                    <a:ext cx="16848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3" name=""/>
                  <p:cNvSpPr/>
                  <p:nvPr/>
                </p:nvSpPr>
                <p:spPr>
                  <a:xfrm flipH="1">
                    <a:off x="4691880" y="1321920"/>
                    <a:ext cx="577440" cy="261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4" name=""/>
                  <p:cNvSpPr/>
                  <p:nvPr/>
                </p:nvSpPr>
                <p:spPr>
                  <a:xfrm flipH="1" flipV="1">
                    <a:off x="6006960" y="1433880"/>
                    <a:ext cx="1425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5" name=""/>
                  <p:cNvSpPr/>
                  <p:nvPr/>
                </p:nvSpPr>
                <p:spPr>
                  <a:xfrm flipV="1">
                    <a:off x="5798880" y="1487160"/>
                    <a:ext cx="553320" cy="151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6" name=""/>
                  <p:cNvSpPr/>
                  <p:nvPr/>
                </p:nvSpPr>
                <p:spPr>
                  <a:xfrm flipH="1" flipV="1">
                    <a:off x="5645520" y="1379520"/>
                    <a:ext cx="153360" cy="260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7" name=""/>
                  <p:cNvSpPr/>
                  <p:nvPr/>
                </p:nvSpPr>
                <p:spPr>
                  <a:xfrm flipH="1">
                    <a:off x="5440320" y="1432440"/>
                    <a:ext cx="567000" cy="15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8" name=""/>
                  <p:cNvSpPr/>
                  <p:nvPr/>
                </p:nvSpPr>
                <p:spPr>
                  <a:xfrm flipH="1">
                    <a:off x="5069880" y="1377000"/>
                    <a:ext cx="575280" cy="147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9" name=""/>
                  <p:cNvSpPr/>
                  <p:nvPr/>
                </p:nvSpPr>
                <p:spPr>
                  <a:xfrm flipH="1" flipV="1">
                    <a:off x="4893480" y="1381320"/>
                    <a:ext cx="180720" cy="147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0" name=""/>
                  <p:cNvSpPr/>
                  <p:nvPr/>
                </p:nvSpPr>
                <p:spPr>
                  <a:xfrm flipH="1" flipV="1">
                    <a:off x="4547160" y="1432080"/>
                    <a:ext cx="149400" cy="153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1" name=""/>
                  <p:cNvSpPr/>
                  <p:nvPr/>
                </p:nvSpPr>
                <p:spPr>
                  <a:xfrm flipH="1">
                    <a:off x="4341240" y="1382400"/>
                    <a:ext cx="552600" cy="25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2" name=""/>
                  <p:cNvSpPr/>
                  <p:nvPr/>
                </p:nvSpPr>
                <p:spPr>
                  <a:xfrm flipH="1" flipV="1">
                    <a:off x="4188600" y="1490040"/>
                    <a:ext cx="151560" cy="148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3" name=""/>
                  <p:cNvSpPr/>
                  <p:nvPr/>
                </p:nvSpPr>
                <p:spPr>
                  <a:xfrm flipH="1">
                    <a:off x="3981600" y="1433160"/>
                    <a:ext cx="565560" cy="259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4" name=""/>
                  <p:cNvSpPr/>
                  <p:nvPr/>
                </p:nvSpPr>
                <p:spPr>
                  <a:xfrm flipV="1">
                    <a:off x="4189320" y="1323000"/>
                    <a:ext cx="1080000" cy="163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5" name=""/>
                  <p:cNvSpPr/>
                  <p:nvPr/>
                </p:nvSpPr>
                <p:spPr>
                  <a:xfrm flipV="1">
                    <a:off x="3992040" y="1524600"/>
                    <a:ext cx="1078560" cy="16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>
                    <a:off x="5068800" y="1524240"/>
                    <a:ext cx="1081800" cy="170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>
                    <a:off x="5274000" y="1321920"/>
                    <a:ext cx="1073520" cy="164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8" name=""/>
                <p:cNvSpPr/>
                <p:nvPr/>
              </p:nvSpPr>
              <p:spPr>
                <a:xfrm flipV="1">
                  <a:off x="5799600" y="1433520"/>
                  <a:ext cx="205920" cy="206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9" name=""/>
              <p:cNvGrpSpPr/>
              <p:nvPr/>
            </p:nvGrpSpPr>
            <p:grpSpPr>
              <a:xfrm>
                <a:off x="2953440" y="2346120"/>
                <a:ext cx="2373840" cy="373320"/>
                <a:chOff x="2953440" y="2346120"/>
                <a:chExt cx="2373840" cy="373320"/>
              </a:xfrm>
            </p:grpSpPr>
            <p:sp>
              <p:nvSpPr>
                <p:cNvPr id="3470" name=""/>
                <p:cNvSpPr/>
                <p:nvPr/>
              </p:nvSpPr>
              <p:spPr>
                <a:xfrm flipV="1">
                  <a:off x="5123160" y="2513520"/>
                  <a:ext cx="20340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 flipV="1">
                  <a:off x="4416840" y="2404440"/>
                  <a:ext cx="202320" cy="202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 flipV="1">
                  <a:off x="4039920" y="2349000"/>
                  <a:ext cx="199800" cy="19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>
                  <a:off x="4038120" y="2549160"/>
                  <a:ext cx="1085040" cy="170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 flipH="1" flipV="1">
                  <a:off x="4242960" y="2347200"/>
                  <a:ext cx="169200" cy="261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 flipH="1" flipV="1">
                  <a:off x="4980240" y="2460600"/>
                  <a:ext cx="144360" cy="25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 flipV="1">
                  <a:off x="4776120" y="2513520"/>
                  <a:ext cx="547560" cy="15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 flipH="1" flipV="1">
                  <a:off x="4619880" y="2405520"/>
                  <a:ext cx="15696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 flipH="1">
                  <a:off x="4412160" y="2459880"/>
                  <a:ext cx="567000" cy="149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 flipH="1">
                  <a:off x="4038840" y="2404440"/>
                  <a:ext cx="581400" cy="14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4245840" y="2346480"/>
                  <a:ext cx="1081440" cy="16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 flipV="1">
                  <a:off x="4777200" y="2459880"/>
                  <a:ext cx="20232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 flipV="1">
                  <a:off x="3666240" y="2401920"/>
                  <a:ext cx="202320" cy="204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 flipV="1">
                  <a:off x="3317760" y="2455200"/>
                  <a:ext cx="204120" cy="20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 flipV="1">
                  <a:off x="2959560" y="2549160"/>
                  <a:ext cx="1078200" cy="168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 flipV="1">
                  <a:off x="3159360" y="2346120"/>
                  <a:ext cx="1089000" cy="165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 flipH="1">
                  <a:off x="3664440" y="2346120"/>
                  <a:ext cx="57996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 flipH="1" flipV="1">
                  <a:off x="3867480" y="2404440"/>
                  <a:ext cx="169920" cy="14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8" name=""/>
                <p:cNvSpPr/>
                <p:nvPr/>
              </p:nvSpPr>
              <p:spPr>
                <a:xfrm flipH="1" flipV="1">
                  <a:off x="3520440" y="2455560"/>
                  <a:ext cx="144000" cy="15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9" name=""/>
                <p:cNvSpPr/>
                <p:nvPr/>
              </p:nvSpPr>
              <p:spPr>
                <a:xfrm flipH="1">
                  <a:off x="3319200" y="2407320"/>
                  <a:ext cx="543600" cy="254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 flipH="1" flipV="1">
                  <a:off x="3159720" y="2512440"/>
                  <a:ext cx="155880" cy="14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 flipH="1">
                  <a:off x="2955240" y="2457360"/>
                  <a:ext cx="56268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 flipV="1">
                  <a:off x="2953440" y="2513160"/>
                  <a:ext cx="205920" cy="20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3" name=""/>
            <p:cNvGrpSpPr/>
            <p:nvPr/>
          </p:nvGrpSpPr>
          <p:grpSpPr>
            <a:xfrm>
              <a:off x="2958120" y="1487520"/>
              <a:ext cx="3395160" cy="1229760"/>
              <a:chOff x="2958120" y="1487520"/>
              <a:chExt cx="3395160" cy="1229760"/>
            </a:xfrm>
          </p:grpSpPr>
          <p:sp>
            <p:nvSpPr>
              <p:cNvPr id="3494" name=""/>
              <p:cNvSpPr/>
              <p:nvPr/>
            </p:nvSpPr>
            <p:spPr>
              <a:xfrm flipV="1">
                <a:off x="5122440" y="1487520"/>
                <a:ext cx="1230840" cy="122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 flipV="1">
                <a:off x="2958120" y="1487520"/>
                <a:ext cx="1227240" cy="122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6" name=""/>
            <p:cNvGrpSpPr/>
            <p:nvPr/>
          </p:nvGrpSpPr>
          <p:grpSpPr>
            <a:xfrm>
              <a:off x="3113640" y="1350000"/>
              <a:ext cx="3066120" cy="1346400"/>
              <a:chOff x="3113640" y="1350000"/>
              <a:chExt cx="3066120" cy="1346400"/>
            </a:xfrm>
          </p:grpSpPr>
          <p:sp>
            <p:nvSpPr>
              <p:cNvPr id="3497" name=""/>
              <p:cNvSpPr/>
              <p:nvPr/>
            </p:nvSpPr>
            <p:spPr>
              <a:xfrm flipV="1">
                <a:off x="4232520" y="1350000"/>
                <a:ext cx="1223640" cy="1229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 flipV="1">
                <a:off x="4417920" y="1377720"/>
                <a:ext cx="1227240" cy="123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flipV="1">
                <a:off x="4779360" y="1436400"/>
                <a:ext cx="1221840" cy="1229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V="1">
                <a:off x="4948920" y="1463400"/>
                <a:ext cx="1230840" cy="123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flipV="1">
                <a:off x="3113640" y="1461240"/>
                <a:ext cx="1255680" cy="123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V="1">
                <a:off x="3318480" y="1434240"/>
                <a:ext cx="1226160" cy="122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 flipV="1">
                <a:off x="3667680" y="1377000"/>
                <a:ext cx="1228680" cy="122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V="1">
                <a:off x="3844440" y="1350000"/>
                <a:ext cx="1248120" cy="123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V="1">
                <a:off x="3488040" y="1409400"/>
                <a:ext cx="1231920" cy="122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V="1">
                <a:off x="4596480" y="1404000"/>
                <a:ext cx="1227240" cy="1231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7" name=""/>
            <p:cNvGrpSpPr/>
            <p:nvPr/>
          </p:nvGrpSpPr>
          <p:grpSpPr>
            <a:xfrm>
              <a:off x="2957040" y="2718360"/>
              <a:ext cx="2169720" cy="758160"/>
              <a:chOff x="2957040" y="2718360"/>
              <a:chExt cx="2169720" cy="758160"/>
            </a:xfrm>
          </p:grpSpPr>
          <p:sp>
            <p:nvSpPr>
              <p:cNvPr id="3508" name=""/>
              <p:cNvSpPr/>
              <p:nvPr/>
            </p:nvSpPr>
            <p:spPr>
              <a:xfrm flipV="1">
                <a:off x="4418280" y="3475800"/>
                <a:ext cx="70704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 flipV="1">
                <a:off x="2957040" y="2718360"/>
                <a:ext cx="2169720" cy="2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2957040" y="2914560"/>
                <a:ext cx="21693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4416480" y="3292920"/>
                <a:ext cx="70920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 flipV="1">
                <a:off x="2957040" y="3117600"/>
                <a:ext cx="7099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4418280" y="3112200"/>
                <a:ext cx="7084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2957760" y="3295440"/>
                <a:ext cx="7081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2958480" y="3474720"/>
                <a:ext cx="706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6" name=""/>
            <p:cNvGrpSpPr/>
            <p:nvPr/>
          </p:nvGrpSpPr>
          <p:grpSpPr>
            <a:xfrm>
              <a:off x="5125680" y="1697400"/>
              <a:ext cx="1228680" cy="1776600"/>
              <a:chOff x="5125680" y="1697400"/>
              <a:chExt cx="1228680" cy="1776600"/>
            </a:xfrm>
          </p:grpSpPr>
          <p:sp>
            <p:nvSpPr>
              <p:cNvPr id="3517" name=""/>
              <p:cNvSpPr/>
              <p:nvPr/>
            </p:nvSpPr>
            <p:spPr>
              <a:xfrm flipV="1">
                <a:off x="5125680" y="2254680"/>
                <a:ext cx="1228680" cy="1219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 flipV="1">
                <a:off x="5128200" y="1697400"/>
                <a:ext cx="1225080" cy="1217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 flipV="1">
                <a:off x="5127120" y="1900800"/>
                <a:ext cx="1226160" cy="1210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 flipV="1">
                <a:off x="5126400" y="2063160"/>
                <a:ext cx="1226880" cy="12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1" name=""/>
            <p:cNvSpPr/>
            <p:nvPr/>
          </p:nvSpPr>
          <p:spPr>
            <a:xfrm flipV="1">
              <a:off x="2957040" y="2549880"/>
              <a:ext cx="1084320" cy="168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flipH="1" flipV="1">
              <a:off x="4043520" y="2550960"/>
              <a:ext cx="1085040" cy="168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V="1">
              <a:off x="2956320" y="271548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5125680" y="271548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V="1">
              <a:off x="6352920" y="148536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 flipV="1">
              <a:off x="4188960" y="1320840"/>
              <a:ext cx="1083960" cy="167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 flipH="1" flipV="1">
              <a:off x="5273280" y="1320840"/>
              <a:ext cx="1084320" cy="167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8" name=""/>
          <p:cNvSpPr/>
          <p:nvPr/>
        </p:nvSpPr>
        <p:spPr>
          <a:xfrm>
            <a:off x="7929720" y="478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7956720" y="484992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147600" y="5221440"/>
            <a:ext cx="6583320" cy="295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susceptibles de déve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47600" y="4803840"/>
            <a:ext cx="6583320" cy="309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généralement sollicitées en flexion compos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217440" y="52704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ant les pannes courant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6772320" y="564840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4" name=""/>
          <p:cNvSpPr/>
          <p:nvPr/>
        </p:nvSpPr>
        <p:spPr>
          <a:xfrm>
            <a:off x="147600" y="3781440"/>
            <a:ext cx="658188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flèche d’une panne isostatique est plus grande que celle d ’une panne hyperstatique de même section transver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7018200" y="38718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7045200" y="3936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>
            <a:off x="7927920" y="38718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>
            <a:off x="7956720" y="39369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>
            <a:off x="7929720" y="519588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>
            <a:off x="7956720" y="526104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>
            <a:off x="7016760" y="51973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>
            <a:off x="7045200" y="5262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>
            <a:off x="147600" y="4398840"/>
            <a:ext cx="6583320" cy="293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sollicitées en flexion si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>
            <a:off x="792972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>
            <a:off x="7956720" y="44370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>
            <a:off x="7016760" y="43736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>
            <a:off x="7045200" y="4438800"/>
            <a:ext cx="693720" cy="2156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>
            <a:off x="7929720" y="560880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>
            <a:off x="7956720" y="567360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>
            <a:off x="7016760" y="56102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>
            <a:hlinkClick r:id="" action="ppaction://hlinkshowjump?jump=nextslide"/>
          </p:cNvPr>
          <p:cNvSpPr/>
          <p:nvPr/>
        </p:nvSpPr>
        <p:spPr>
          <a:xfrm>
            <a:off x="7045200" y="5675400"/>
            <a:ext cx="69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2" name=""/>
          <p:cNvGrpSpPr/>
          <p:nvPr/>
        </p:nvGrpSpPr>
        <p:grpSpPr>
          <a:xfrm>
            <a:off x="2894040" y="1318680"/>
            <a:ext cx="3498120" cy="2278440"/>
            <a:chOff x="2894040" y="1318680"/>
            <a:chExt cx="3498120" cy="2278440"/>
          </a:xfrm>
        </p:grpSpPr>
        <p:sp>
          <p:nvSpPr>
            <p:cNvPr id="3553" name=""/>
            <p:cNvSpPr/>
            <p:nvPr/>
          </p:nvSpPr>
          <p:spPr>
            <a:xfrm flipV="1">
              <a:off x="4038480" y="1318680"/>
              <a:ext cx="1229400" cy="122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V="1">
              <a:off x="4183200" y="148536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5" name=""/>
            <p:cNvGrpSpPr/>
            <p:nvPr/>
          </p:nvGrpSpPr>
          <p:grpSpPr>
            <a:xfrm>
              <a:off x="2958120" y="1485360"/>
              <a:ext cx="3399120" cy="1988640"/>
              <a:chOff x="2958120" y="1485360"/>
              <a:chExt cx="3399120" cy="1988640"/>
            </a:xfrm>
          </p:grpSpPr>
          <p:grpSp>
            <p:nvGrpSpPr>
              <p:cNvPr id="3556" name=""/>
              <p:cNvGrpSpPr/>
              <p:nvPr/>
            </p:nvGrpSpPr>
            <p:grpSpPr>
              <a:xfrm>
                <a:off x="2958120" y="1485360"/>
                <a:ext cx="3397680" cy="1988640"/>
                <a:chOff x="2958120" y="1485360"/>
                <a:chExt cx="3397680" cy="1988640"/>
              </a:xfrm>
            </p:grpSpPr>
            <p:grpSp>
              <p:nvGrpSpPr>
                <p:cNvPr id="3557" name=""/>
                <p:cNvGrpSpPr/>
                <p:nvPr/>
              </p:nvGrpSpPr>
              <p:grpSpPr>
                <a:xfrm>
                  <a:off x="5119560" y="2510640"/>
                  <a:ext cx="213480" cy="959400"/>
                  <a:chOff x="5119560" y="2510640"/>
                  <a:chExt cx="213480" cy="959400"/>
                </a:xfrm>
              </p:grpSpPr>
              <p:sp>
                <p:nvSpPr>
                  <p:cNvPr id="3558" name=""/>
                  <p:cNvSpPr/>
                  <p:nvPr/>
                </p:nvSpPr>
                <p:spPr>
                  <a:xfrm flipV="1">
                    <a:off x="5128560" y="2909160"/>
                    <a:ext cx="204480" cy="56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 flipH="1" flipV="1">
                    <a:off x="5124600" y="2711880"/>
                    <a:ext cx="207720" cy="196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 flipH="1" flipV="1">
                    <a:off x="5128560" y="3109680"/>
                    <a:ext cx="204480" cy="155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1" name=""/>
                  <p:cNvSpPr/>
                  <p:nvPr/>
                </p:nvSpPr>
                <p:spPr>
                  <a:xfrm flipV="1">
                    <a:off x="5128560" y="2510640"/>
                    <a:ext cx="204480" cy="594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2" name=""/>
                  <p:cNvSpPr/>
                  <p:nvPr/>
                </p:nvSpPr>
                <p:spPr>
                  <a:xfrm flipV="1">
                    <a:off x="5119560" y="2518200"/>
                    <a:ext cx="20448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3" name=""/>
                  <p:cNvSpPr/>
                  <p:nvPr/>
                </p:nvSpPr>
                <p:spPr>
                  <a:xfrm>
                    <a:off x="5128560" y="2712600"/>
                    <a:ext cx="0" cy="754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4" name=""/>
                  <p:cNvSpPr/>
                  <p:nvPr/>
                </p:nvSpPr>
                <p:spPr>
                  <a:xfrm>
                    <a:off x="5333040" y="2514240"/>
                    <a:ext cx="0" cy="75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5" name=""/>
                <p:cNvGrpSpPr/>
                <p:nvPr/>
              </p:nvGrpSpPr>
              <p:grpSpPr>
                <a:xfrm>
                  <a:off x="2958120" y="2514960"/>
                  <a:ext cx="205560" cy="959040"/>
                  <a:chOff x="2958120" y="2514960"/>
                  <a:chExt cx="205560" cy="959040"/>
                </a:xfrm>
              </p:grpSpPr>
              <p:sp>
                <p:nvSpPr>
                  <p:cNvPr id="3566" name=""/>
                  <p:cNvSpPr/>
                  <p:nvPr/>
                </p:nvSpPr>
                <p:spPr>
                  <a:xfrm flipV="1">
                    <a:off x="2958840" y="2911320"/>
                    <a:ext cx="204480" cy="56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 flipH="1" flipV="1">
                    <a:off x="2958480" y="2719080"/>
                    <a:ext cx="202680" cy="18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8" name=""/>
                  <p:cNvSpPr/>
                  <p:nvPr/>
                </p:nvSpPr>
                <p:spPr>
                  <a:xfrm flipH="1" flipV="1">
                    <a:off x="2958120" y="3115800"/>
                    <a:ext cx="204480" cy="15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9" name=""/>
                  <p:cNvSpPr/>
                  <p:nvPr/>
                </p:nvSpPr>
                <p:spPr>
                  <a:xfrm flipV="1">
                    <a:off x="2958840" y="2514960"/>
                    <a:ext cx="203400" cy="597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0" name=""/>
                  <p:cNvSpPr/>
                  <p:nvPr/>
                </p:nvSpPr>
                <p:spPr>
                  <a:xfrm flipV="1">
                    <a:off x="2959920" y="2515320"/>
                    <a:ext cx="200880" cy="20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1" name=""/>
                  <p:cNvSpPr/>
                  <p:nvPr/>
                </p:nvSpPr>
                <p:spPr>
                  <a:xfrm>
                    <a:off x="2959200" y="2719800"/>
                    <a:ext cx="0" cy="754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2" name=""/>
                  <p:cNvSpPr/>
                  <p:nvPr/>
                </p:nvSpPr>
                <p:spPr>
                  <a:xfrm flipH="1">
                    <a:off x="3162960" y="2521800"/>
                    <a:ext cx="720" cy="745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3" name=""/>
                <p:cNvGrpSpPr/>
                <p:nvPr/>
              </p:nvGrpSpPr>
              <p:grpSpPr>
                <a:xfrm>
                  <a:off x="6149160" y="1485360"/>
                  <a:ext cx="206640" cy="973080"/>
                  <a:chOff x="6149160" y="1485360"/>
                  <a:chExt cx="206640" cy="973080"/>
                </a:xfrm>
              </p:grpSpPr>
              <p:sp>
                <p:nvSpPr>
                  <p:cNvPr id="3574" name=""/>
                  <p:cNvSpPr/>
                  <p:nvPr/>
                </p:nvSpPr>
                <p:spPr>
                  <a:xfrm flipV="1">
                    <a:off x="6150960" y="1897920"/>
                    <a:ext cx="202680" cy="557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5" name=""/>
                  <p:cNvSpPr/>
                  <p:nvPr/>
                </p:nvSpPr>
                <p:spPr>
                  <a:xfrm flipH="1" flipV="1">
                    <a:off x="6149160" y="1690560"/>
                    <a:ext cx="203400" cy="21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6" name=""/>
                  <p:cNvSpPr/>
                  <p:nvPr/>
                </p:nvSpPr>
                <p:spPr>
                  <a:xfrm flipH="1" flipV="1">
                    <a:off x="6150600" y="2098440"/>
                    <a:ext cx="202680" cy="153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7" name=""/>
                  <p:cNvSpPr/>
                  <p:nvPr/>
                </p:nvSpPr>
                <p:spPr>
                  <a:xfrm flipV="1">
                    <a:off x="6150240" y="1486440"/>
                    <a:ext cx="200520" cy="61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8" name=""/>
                  <p:cNvSpPr/>
                  <p:nvPr/>
                </p:nvSpPr>
                <p:spPr>
                  <a:xfrm flipV="1">
                    <a:off x="6149520" y="1485360"/>
                    <a:ext cx="205200" cy="20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9" name=""/>
                  <p:cNvSpPr/>
                  <p:nvPr/>
                </p:nvSpPr>
                <p:spPr>
                  <a:xfrm>
                    <a:off x="6152400" y="1687680"/>
                    <a:ext cx="0" cy="770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 flipH="1">
                    <a:off x="6355080" y="1488600"/>
                    <a:ext cx="720" cy="763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81" name=""/>
                <p:cNvGrpSpPr/>
                <p:nvPr/>
              </p:nvGrpSpPr>
              <p:grpSpPr>
                <a:xfrm>
                  <a:off x="3981240" y="1486440"/>
                  <a:ext cx="204480" cy="968760"/>
                  <a:chOff x="3981240" y="1486440"/>
                  <a:chExt cx="204480" cy="968760"/>
                </a:xfrm>
              </p:grpSpPr>
              <p:sp>
                <p:nvSpPr>
                  <p:cNvPr id="3582" name=""/>
                  <p:cNvSpPr/>
                  <p:nvPr/>
                </p:nvSpPr>
                <p:spPr>
                  <a:xfrm flipV="1">
                    <a:off x="3981600" y="1900800"/>
                    <a:ext cx="203400" cy="554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3" name=""/>
                  <p:cNvSpPr/>
                  <p:nvPr/>
                </p:nvSpPr>
                <p:spPr>
                  <a:xfrm flipH="1" flipV="1">
                    <a:off x="3982320" y="1693800"/>
                    <a:ext cx="201600" cy="205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4" name=""/>
                  <p:cNvSpPr/>
                  <p:nvPr/>
                </p:nvSpPr>
                <p:spPr>
                  <a:xfrm flipH="1" flipV="1">
                    <a:off x="3981240" y="2102040"/>
                    <a:ext cx="204120" cy="147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5" name=""/>
                  <p:cNvSpPr/>
                  <p:nvPr/>
                </p:nvSpPr>
                <p:spPr>
                  <a:xfrm flipV="1">
                    <a:off x="3981600" y="1486440"/>
                    <a:ext cx="204120" cy="61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6" name=""/>
                  <p:cNvSpPr/>
                  <p:nvPr/>
                </p:nvSpPr>
                <p:spPr>
                  <a:xfrm flipV="1">
                    <a:off x="3982680" y="1487160"/>
                    <a:ext cx="200880" cy="20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7" name=""/>
                  <p:cNvSpPr/>
                  <p:nvPr/>
                </p:nvSpPr>
                <p:spPr>
                  <a:xfrm>
                    <a:off x="3981600" y="1697760"/>
                    <a:ext cx="0" cy="754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>
                    <a:off x="4184280" y="1486440"/>
                    <a:ext cx="720" cy="764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89" name=""/>
              <p:cNvGrpSpPr/>
              <p:nvPr/>
            </p:nvGrpSpPr>
            <p:grpSpPr>
              <a:xfrm>
                <a:off x="2960280" y="1897200"/>
                <a:ext cx="3396960" cy="1218600"/>
                <a:chOff x="2960280" y="1897200"/>
                <a:chExt cx="3396960" cy="1218600"/>
              </a:xfrm>
            </p:grpSpPr>
            <p:sp>
              <p:nvSpPr>
                <p:cNvPr id="3590" name=""/>
                <p:cNvSpPr/>
                <p:nvPr/>
              </p:nvSpPr>
              <p:spPr>
                <a:xfrm flipV="1">
                  <a:off x="5131080" y="2908080"/>
                  <a:ext cx="200880" cy="201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 flipV="1">
                  <a:off x="2960280" y="2912760"/>
                  <a:ext cx="20448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 flipV="1">
                  <a:off x="6156360" y="1897200"/>
                  <a:ext cx="2008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 flipV="1">
                  <a:off x="3984840" y="1900800"/>
                  <a:ext cx="2026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94" name=""/>
            <p:cNvGrpSpPr/>
            <p:nvPr/>
          </p:nvGrpSpPr>
          <p:grpSpPr>
            <a:xfrm>
              <a:off x="2894040" y="2275920"/>
              <a:ext cx="3498120" cy="1321200"/>
              <a:chOff x="2894040" y="2275920"/>
              <a:chExt cx="3498120" cy="1321200"/>
            </a:xfrm>
          </p:grpSpPr>
          <p:grpSp>
            <p:nvGrpSpPr>
              <p:cNvPr id="3595" name=""/>
              <p:cNvGrpSpPr/>
              <p:nvPr/>
            </p:nvGrpSpPr>
            <p:grpSpPr>
              <a:xfrm>
                <a:off x="5270400" y="2477160"/>
                <a:ext cx="918000" cy="916920"/>
                <a:chOff x="5270400" y="2477160"/>
                <a:chExt cx="918000" cy="916920"/>
              </a:xfrm>
            </p:grpSpPr>
            <p:sp>
              <p:nvSpPr>
                <p:cNvPr id="3596" name=""/>
                <p:cNvSpPr/>
                <p:nvPr/>
              </p:nvSpPr>
              <p:spPr>
                <a:xfrm>
                  <a:off x="6087960" y="247716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7" name=""/>
                <p:cNvSpPr/>
                <p:nvPr/>
              </p:nvSpPr>
              <p:spPr>
                <a:xfrm>
                  <a:off x="5886720" y="267696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>
                  <a:off x="5679360" y="2882160"/>
                  <a:ext cx="10080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>
                  <a:off x="5475240" y="3084840"/>
                  <a:ext cx="10332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5270400" y="3293280"/>
                  <a:ext cx="10008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1" name=""/>
              <p:cNvGrpSpPr/>
              <p:nvPr/>
            </p:nvGrpSpPr>
            <p:grpSpPr>
              <a:xfrm>
                <a:off x="3102840" y="2476440"/>
                <a:ext cx="915120" cy="912240"/>
                <a:chOff x="3102840" y="2476440"/>
                <a:chExt cx="915120" cy="912240"/>
              </a:xfrm>
            </p:grpSpPr>
            <p:sp>
              <p:nvSpPr>
                <p:cNvPr id="3602" name=""/>
                <p:cNvSpPr/>
                <p:nvPr/>
              </p:nvSpPr>
              <p:spPr>
                <a:xfrm>
                  <a:off x="3917520" y="247644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3" name=""/>
                <p:cNvSpPr/>
                <p:nvPr/>
              </p:nvSpPr>
              <p:spPr>
                <a:xfrm>
                  <a:off x="3714840" y="2678040"/>
                  <a:ext cx="100440" cy="1018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4" name=""/>
                <p:cNvSpPr/>
                <p:nvPr/>
              </p:nvSpPr>
              <p:spPr>
                <a:xfrm>
                  <a:off x="3511800" y="288216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5" name=""/>
                <p:cNvSpPr/>
                <p:nvPr/>
              </p:nvSpPr>
              <p:spPr>
                <a:xfrm>
                  <a:off x="3304440" y="3085920"/>
                  <a:ext cx="10116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6" name=""/>
                <p:cNvSpPr/>
                <p:nvPr/>
              </p:nvSpPr>
              <p:spPr>
                <a:xfrm>
                  <a:off x="3102840" y="328788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7" name=""/>
              <p:cNvGrpSpPr/>
              <p:nvPr/>
            </p:nvGrpSpPr>
            <p:grpSpPr>
              <a:xfrm>
                <a:off x="4118400" y="2275920"/>
                <a:ext cx="2273760" cy="102600"/>
                <a:chOff x="4118400" y="2275920"/>
                <a:chExt cx="2273760" cy="102600"/>
              </a:xfrm>
            </p:grpSpPr>
            <p:sp>
              <p:nvSpPr>
                <p:cNvPr id="3608" name=""/>
                <p:cNvSpPr/>
                <p:nvPr/>
              </p:nvSpPr>
              <p:spPr>
                <a:xfrm>
                  <a:off x="6291720" y="227592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9" name=""/>
                <p:cNvSpPr/>
                <p:nvPr/>
              </p:nvSpPr>
              <p:spPr>
                <a:xfrm>
                  <a:off x="4118400" y="227592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0" name=""/>
                <p:cNvSpPr/>
                <p:nvPr/>
              </p:nvSpPr>
              <p:spPr>
                <a:xfrm>
                  <a:off x="5578560" y="227592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1" name=""/>
                <p:cNvSpPr/>
                <p:nvPr/>
              </p:nvSpPr>
              <p:spPr>
                <a:xfrm>
                  <a:off x="4479480" y="227736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4826880" y="227700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3" name=""/>
                <p:cNvSpPr/>
                <p:nvPr/>
              </p:nvSpPr>
              <p:spPr>
                <a:xfrm>
                  <a:off x="5205600" y="227592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4" name=""/>
                <p:cNvSpPr/>
                <p:nvPr/>
              </p:nvSpPr>
              <p:spPr>
                <a:xfrm>
                  <a:off x="5936760" y="227700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5" name=""/>
              <p:cNvGrpSpPr/>
              <p:nvPr/>
            </p:nvGrpSpPr>
            <p:grpSpPr>
              <a:xfrm>
                <a:off x="2894040" y="3494880"/>
                <a:ext cx="2274120" cy="102240"/>
                <a:chOff x="2894040" y="3494880"/>
                <a:chExt cx="2274120" cy="102240"/>
              </a:xfrm>
            </p:grpSpPr>
            <p:sp>
              <p:nvSpPr>
                <p:cNvPr id="3616" name=""/>
                <p:cNvSpPr/>
                <p:nvPr/>
              </p:nvSpPr>
              <p:spPr>
                <a:xfrm>
                  <a:off x="289404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>
                  <a:off x="5067360" y="349488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>
                  <a:off x="32529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36021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>
                  <a:off x="4354560" y="349596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>
                  <a:off x="47181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2" name=""/>
            <p:cNvGrpSpPr/>
            <p:nvPr/>
          </p:nvGrpSpPr>
          <p:grpSpPr>
            <a:xfrm>
              <a:off x="4185000" y="1488600"/>
              <a:ext cx="2171520" cy="765000"/>
              <a:chOff x="4185000" y="1488600"/>
              <a:chExt cx="2171520" cy="765000"/>
            </a:xfrm>
          </p:grpSpPr>
          <p:sp>
            <p:nvSpPr>
              <p:cNvPr id="3623" name=""/>
              <p:cNvSpPr/>
              <p:nvPr/>
            </p:nvSpPr>
            <p:spPr>
              <a:xfrm>
                <a:off x="4185000" y="148860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4185000" y="169632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 flipV="1">
                <a:off x="4185360" y="2063520"/>
                <a:ext cx="2167560" cy="8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 flipV="1">
                <a:off x="4186080" y="1901160"/>
                <a:ext cx="21639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4186800" y="225360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8" name=""/>
            <p:cNvGrpSpPr/>
            <p:nvPr/>
          </p:nvGrpSpPr>
          <p:grpSpPr>
            <a:xfrm>
              <a:off x="2957040" y="1694160"/>
              <a:ext cx="1227600" cy="1779480"/>
              <a:chOff x="2957040" y="1694160"/>
              <a:chExt cx="1227600" cy="1779480"/>
            </a:xfrm>
          </p:grpSpPr>
          <p:sp>
            <p:nvSpPr>
              <p:cNvPr id="3629" name=""/>
              <p:cNvSpPr/>
              <p:nvPr/>
            </p:nvSpPr>
            <p:spPr>
              <a:xfrm flipV="1">
                <a:off x="2959560" y="1694160"/>
                <a:ext cx="1224000" cy="12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 flipV="1">
                <a:off x="2957040" y="1903320"/>
                <a:ext cx="1226880" cy="12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 flipV="1">
                <a:off x="2957760" y="2071800"/>
                <a:ext cx="1226880" cy="12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 flipV="1">
                <a:off x="2957760" y="2253240"/>
                <a:ext cx="1225080" cy="1220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3" name=""/>
            <p:cNvGrpSpPr/>
            <p:nvPr/>
          </p:nvGrpSpPr>
          <p:grpSpPr>
            <a:xfrm>
              <a:off x="2957040" y="1320840"/>
              <a:ext cx="3396960" cy="2158200"/>
              <a:chOff x="2957040" y="1320840"/>
              <a:chExt cx="3396960" cy="2158200"/>
            </a:xfrm>
          </p:grpSpPr>
          <p:grpSp>
            <p:nvGrpSpPr>
              <p:cNvPr id="3634" name=""/>
              <p:cNvGrpSpPr/>
              <p:nvPr/>
            </p:nvGrpSpPr>
            <p:grpSpPr>
              <a:xfrm>
                <a:off x="4184640" y="1320840"/>
                <a:ext cx="2169360" cy="933840"/>
                <a:chOff x="4184640" y="1320840"/>
                <a:chExt cx="2169360" cy="933840"/>
              </a:xfrm>
            </p:grpSpPr>
            <p:sp>
              <p:nvSpPr>
                <p:cNvPr id="3635" name=""/>
                <p:cNvSpPr/>
                <p:nvPr/>
              </p:nvSpPr>
              <p:spPr>
                <a:xfrm>
                  <a:off x="6006960" y="1436400"/>
                  <a:ext cx="0" cy="818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>
                  <a:off x="6354000" y="1497960"/>
                  <a:ext cx="0" cy="75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>
                  <a:off x="5644800" y="1377000"/>
                  <a:ext cx="0" cy="87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8" name=""/>
                <p:cNvSpPr/>
                <p:nvPr/>
              </p:nvSpPr>
              <p:spPr>
                <a:xfrm>
                  <a:off x="5270040" y="1320840"/>
                  <a:ext cx="0" cy="93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9" name=""/>
                <p:cNvSpPr/>
                <p:nvPr/>
              </p:nvSpPr>
              <p:spPr>
                <a:xfrm>
                  <a:off x="4893840" y="1379520"/>
                  <a:ext cx="0" cy="87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0" name=""/>
                <p:cNvSpPr/>
                <p:nvPr/>
              </p:nvSpPr>
              <p:spPr>
                <a:xfrm>
                  <a:off x="4184640" y="1494360"/>
                  <a:ext cx="0" cy="760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1" name=""/>
                <p:cNvSpPr/>
                <p:nvPr/>
              </p:nvSpPr>
              <p:spPr>
                <a:xfrm>
                  <a:off x="4547160" y="1433520"/>
                  <a:ext cx="0" cy="821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2" name=""/>
              <p:cNvGrpSpPr/>
              <p:nvPr/>
            </p:nvGrpSpPr>
            <p:grpSpPr>
              <a:xfrm>
                <a:off x="2957040" y="2549880"/>
                <a:ext cx="2171160" cy="929160"/>
                <a:chOff x="2957040" y="2549880"/>
                <a:chExt cx="2171160" cy="929160"/>
              </a:xfrm>
            </p:grpSpPr>
            <p:sp>
              <p:nvSpPr>
                <p:cNvPr id="3643" name=""/>
                <p:cNvSpPr/>
                <p:nvPr/>
              </p:nvSpPr>
              <p:spPr>
                <a:xfrm flipH="1">
                  <a:off x="4043160" y="2549880"/>
                  <a:ext cx="720" cy="361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>
                  <a:off x="4780800" y="2665080"/>
                  <a:ext cx="0" cy="813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"/>
                <p:cNvSpPr/>
                <p:nvPr/>
              </p:nvSpPr>
              <p:spPr>
                <a:xfrm>
                  <a:off x="5128200" y="2716560"/>
                  <a:ext cx="0" cy="755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6" name=""/>
                <p:cNvSpPr/>
                <p:nvPr/>
              </p:nvSpPr>
              <p:spPr>
                <a:xfrm>
                  <a:off x="4418640" y="2610360"/>
                  <a:ext cx="0" cy="86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7" name=""/>
                <p:cNvSpPr/>
                <p:nvPr/>
              </p:nvSpPr>
              <p:spPr>
                <a:xfrm>
                  <a:off x="3667320" y="2605680"/>
                  <a:ext cx="0" cy="87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8" name=""/>
                <p:cNvSpPr/>
                <p:nvPr/>
              </p:nvSpPr>
              <p:spPr>
                <a:xfrm>
                  <a:off x="2957040" y="2718360"/>
                  <a:ext cx="360" cy="756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9" name=""/>
                <p:cNvSpPr/>
                <p:nvPr/>
              </p:nvSpPr>
              <p:spPr>
                <a:xfrm>
                  <a:off x="3321000" y="2662560"/>
                  <a:ext cx="0" cy="813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50" name=""/>
            <p:cNvGrpSpPr/>
            <p:nvPr/>
          </p:nvGrpSpPr>
          <p:grpSpPr>
            <a:xfrm>
              <a:off x="3162960" y="1526760"/>
              <a:ext cx="2988000" cy="1739520"/>
              <a:chOff x="3162960" y="1526760"/>
              <a:chExt cx="2988000" cy="1739520"/>
            </a:xfrm>
          </p:grpSpPr>
          <p:grpSp>
            <p:nvGrpSpPr>
              <p:cNvPr id="3651" name=""/>
              <p:cNvGrpSpPr/>
              <p:nvPr/>
            </p:nvGrpSpPr>
            <p:grpSpPr>
              <a:xfrm>
                <a:off x="3162960" y="2346840"/>
                <a:ext cx="2169720" cy="919440"/>
                <a:chOff x="3162960" y="2346840"/>
                <a:chExt cx="2169720" cy="919440"/>
              </a:xfrm>
            </p:grpSpPr>
            <p:sp>
              <p:nvSpPr>
                <p:cNvPr id="3652" name=""/>
                <p:cNvSpPr/>
                <p:nvPr/>
              </p:nvSpPr>
              <p:spPr>
                <a:xfrm flipV="1">
                  <a:off x="3162960" y="2513520"/>
                  <a:ext cx="0" cy="752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3" name=""/>
                <p:cNvSpPr/>
                <p:nvPr/>
              </p:nvSpPr>
              <p:spPr>
                <a:xfrm flipV="1">
                  <a:off x="3162960" y="2346840"/>
                  <a:ext cx="1085040" cy="16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 flipV="1">
                  <a:off x="5332680" y="2513520"/>
                  <a:ext cx="0" cy="752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5" name=""/>
                <p:cNvSpPr/>
                <p:nvPr/>
              </p:nvSpPr>
              <p:spPr>
                <a:xfrm flipH="1" flipV="1">
                  <a:off x="4247640" y="2346840"/>
                  <a:ext cx="1084680" cy="16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6" name=""/>
              <p:cNvGrpSpPr/>
              <p:nvPr/>
            </p:nvGrpSpPr>
            <p:grpSpPr>
              <a:xfrm>
                <a:off x="3367440" y="1526760"/>
                <a:ext cx="2783520" cy="1542240"/>
                <a:chOff x="3367440" y="1526760"/>
                <a:chExt cx="2783520" cy="1542240"/>
              </a:xfrm>
            </p:grpSpPr>
            <p:grpSp>
              <p:nvGrpSpPr>
                <p:cNvPr id="3657" name=""/>
                <p:cNvGrpSpPr/>
                <p:nvPr/>
              </p:nvGrpSpPr>
              <p:grpSpPr>
                <a:xfrm>
                  <a:off x="3367440" y="2141640"/>
                  <a:ext cx="2170080" cy="927360"/>
                  <a:chOff x="3367440" y="2141640"/>
                  <a:chExt cx="2170080" cy="927360"/>
                </a:xfrm>
              </p:grpSpPr>
              <p:sp>
                <p:nvSpPr>
                  <p:cNvPr id="3658" name=""/>
                  <p:cNvSpPr/>
                  <p:nvPr/>
                </p:nvSpPr>
                <p:spPr>
                  <a:xfrm flipV="1">
                    <a:off x="3367440" y="2309040"/>
                    <a:ext cx="0" cy="756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9" name=""/>
                  <p:cNvSpPr/>
                  <p:nvPr/>
                </p:nvSpPr>
                <p:spPr>
                  <a:xfrm flipV="1">
                    <a:off x="3367440" y="2141640"/>
                    <a:ext cx="1085040" cy="167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0" name=""/>
                  <p:cNvSpPr/>
                  <p:nvPr/>
                </p:nvSpPr>
                <p:spPr>
                  <a:xfrm flipV="1">
                    <a:off x="5537520" y="2309400"/>
                    <a:ext cx="0" cy="759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1" name=""/>
                  <p:cNvSpPr/>
                  <p:nvPr/>
                </p:nvSpPr>
                <p:spPr>
                  <a:xfrm flipH="1" flipV="1">
                    <a:off x="4452120" y="2141640"/>
                    <a:ext cx="1084680" cy="167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62" name=""/>
                <p:cNvGrpSpPr/>
                <p:nvPr/>
              </p:nvGrpSpPr>
              <p:grpSpPr>
                <a:xfrm>
                  <a:off x="3570840" y="1936080"/>
                  <a:ext cx="2171160" cy="925920"/>
                  <a:chOff x="3570840" y="1936080"/>
                  <a:chExt cx="2171160" cy="925920"/>
                </a:xfrm>
              </p:grpSpPr>
              <p:sp>
                <p:nvSpPr>
                  <p:cNvPr id="3663" name=""/>
                  <p:cNvSpPr/>
                  <p:nvPr/>
                </p:nvSpPr>
                <p:spPr>
                  <a:xfrm flipV="1">
                    <a:off x="3570840" y="210456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4" name=""/>
                  <p:cNvSpPr/>
                  <p:nvPr/>
                </p:nvSpPr>
                <p:spPr>
                  <a:xfrm flipV="1">
                    <a:off x="3570840" y="1936080"/>
                    <a:ext cx="108540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5" name=""/>
                  <p:cNvSpPr/>
                  <p:nvPr/>
                </p:nvSpPr>
                <p:spPr>
                  <a:xfrm flipV="1">
                    <a:off x="5742000" y="210456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6" name=""/>
                  <p:cNvSpPr/>
                  <p:nvPr/>
                </p:nvSpPr>
                <p:spPr>
                  <a:xfrm flipH="1" flipV="1">
                    <a:off x="4655880" y="1936080"/>
                    <a:ext cx="108540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67" name=""/>
                <p:cNvGrpSpPr/>
                <p:nvPr/>
              </p:nvGrpSpPr>
              <p:grpSpPr>
                <a:xfrm>
                  <a:off x="3776400" y="1731240"/>
                  <a:ext cx="2170080" cy="925920"/>
                  <a:chOff x="3776400" y="1731240"/>
                  <a:chExt cx="2170080" cy="925920"/>
                </a:xfrm>
              </p:grpSpPr>
              <p:sp>
                <p:nvSpPr>
                  <p:cNvPr id="3668" name=""/>
                  <p:cNvSpPr/>
                  <p:nvPr/>
                </p:nvSpPr>
                <p:spPr>
                  <a:xfrm flipV="1">
                    <a:off x="3776400" y="189972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9" name=""/>
                  <p:cNvSpPr/>
                  <p:nvPr/>
                </p:nvSpPr>
                <p:spPr>
                  <a:xfrm flipV="1">
                    <a:off x="3776400" y="1731240"/>
                    <a:ext cx="108504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0" name=""/>
                  <p:cNvSpPr/>
                  <p:nvPr/>
                </p:nvSpPr>
                <p:spPr>
                  <a:xfrm flipV="1">
                    <a:off x="5946480" y="189972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1" name=""/>
                  <p:cNvSpPr/>
                  <p:nvPr/>
                </p:nvSpPr>
                <p:spPr>
                  <a:xfrm flipH="1" flipV="1">
                    <a:off x="4861440" y="1731240"/>
                    <a:ext cx="108504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72" name=""/>
                <p:cNvGrpSpPr/>
                <p:nvPr/>
              </p:nvGrpSpPr>
              <p:grpSpPr>
                <a:xfrm>
                  <a:off x="3981240" y="1526760"/>
                  <a:ext cx="2169720" cy="931680"/>
                  <a:chOff x="3981240" y="1526760"/>
                  <a:chExt cx="2169720" cy="931680"/>
                </a:xfrm>
              </p:grpSpPr>
              <p:sp>
                <p:nvSpPr>
                  <p:cNvPr id="3673" name=""/>
                  <p:cNvSpPr/>
                  <p:nvPr/>
                </p:nvSpPr>
                <p:spPr>
                  <a:xfrm flipV="1">
                    <a:off x="3981240" y="1695960"/>
                    <a:ext cx="0" cy="76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4" name=""/>
                  <p:cNvSpPr/>
                  <p:nvPr/>
                </p:nvSpPr>
                <p:spPr>
                  <a:xfrm flipV="1">
                    <a:off x="3981240" y="1526760"/>
                    <a:ext cx="1084680" cy="169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5" name=""/>
                  <p:cNvSpPr/>
                  <p:nvPr/>
                </p:nvSpPr>
                <p:spPr>
                  <a:xfrm flipV="1">
                    <a:off x="6150960" y="1695960"/>
                    <a:ext cx="0" cy="76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6" name=""/>
                  <p:cNvSpPr/>
                  <p:nvPr/>
                </p:nvSpPr>
                <p:spPr>
                  <a:xfrm flipH="1" flipV="1">
                    <a:off x="5065920" y="1526760"/>
                    <a:ext cx="1085040" cy="169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677" name=""/>
            <p:cNvGrpSpPr/>
            <p:nvPr/>
          </p:nvGrpSpPr>
          <p:grpSpPr>
            <a:xfrm>
              <a:off x="2953440" y="1321560"/>
              <a:ext cx="3400920" cy="1397880"/>
              <a:chOff x="2953440" y="1321560"/>
              <a:chExt cx="3400920" cy="1397880"/>
            </a:xfrm>
          </p:grpSpPr>
          <p:grpSp>
            <p:nvGrpSpPr>
              <p:cNvPr id="3678" name=""/>
              <p:cNvGrpSpPr/>
              <p:nvPr/>
            </p:nvGrpSpPr>
            <p:grpSpPr>
              <a:xfrm>
                <a:off x="3981600" y="1321560"/>
                <a:ext cx="2372760" cy="372960"/>
                <a:chOff x="3981600" y="1321560"/>
                <a:chExt cx="2372760" cy="372960"/>
              </a:xfrm>
            </p:grpSpPr>
            <p:sp>
              <p:nvSpPr>
                <p:cNvPr id="3679" name=""/>
                <p:cNvSpPr/>
                <p:nvPr/>
              </p:nvSpPr>
              <p:spPr>
                <a:xfrm flipV="1">
                  <a:off x="6153840" y="148644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"/>
                <p:cNvSpPr/>
                <p:nvPr/>
              </p:nvSpPr>
              <p:spPr>
                <a:xfrm flipV="1">
                  <a:off x="5068080" y="1321560"/>
                  <a:ext cx="203400" cy="204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 flipV="1">
                  <a:off x="5442840" y="137916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2" name=""/>
                <p:cNvSpPr/>
                <p:nvPr/>
              </p:nvSpPr>
              <p:spPr>
                <a:xfrm flipV="1">
                  <a:off x="3981960" y="1489320"/>
                  <a:ext cx="20520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3" name=""/>
                <p:cNvSpPr/>
                <p:nvPr/>
              </p:nvSpPr>
              <p:spPr>
                <a:xfrm flipV="1">
                  <a:off x="4343760" y="143424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 flipV="1">
                  <a:off x="4692240" y="1380960"/>
                  <a:ext cx="2008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5" name=""/>
                <p:cNvGrpSpPr/>
                <p:nvPr/>
              </p:nvGrpSpPr>
              <p:grpSpPr>
                <a:xfrm>
                  <a:off x="3981600" y="1321920"/>
                  <a:ext cx="2370600" cy="372600"/>
                  <a:chOff x="3981600" y="1321920"/>
                  <a:chExt cx="2370600" cy="372600"/>
                </a:xfrm>
              </p:grpSpPr>
              <p:sp>
                <p:nvSpPr>
                  <p:cNvPr id="3686" name=""/>
                  <p:cNvSpPr/>
                  <p:nvPr/>
                </p:nvSpPr>
                <p:spPr>
                  <a:xfrm flipH="1" flipV="1">
                    <a:off x="5270040" y="1321920"/>
                    <a:ext cx="16848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7" name=""/>
                  <p:cNvSpPr/>
                  <p:nvPr/>
                </p:nvSpPr>
                <p:spPr>
                  <a:xfrm flipH="1">
                    <a:off x="4691880" y="1321920"/>
                    <a:ext cx="577440" cy="261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8" name=""/>
                  <p:cNvSpPr/>
                  <p:nvPr/>
                </p:nvSpPr>
                <p:spPr>
                  <a:xfrm flipH="1" flipV="1">
                    <a:off x="6006960" y="1433880"/>
                    <a:ext cx="1425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89" name=""/>
                  <p:cNvSpPr/>
                  <p:nvPr/>
                </p:nvSpPr>
                <p:spPr>
                  <a:xfrm flipV="1">
                    <a:off x="5798880" y="1487160"/>
                    <a:ext cx="553320" cy="151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0" name=""/>
                  <p:cNvSpPr/>
                  <p:nvPr/>
                </p:nvSpPr>
                <p:spPr>
                  <a:xfrm flipH="1" flipV="1">
                    <a:off x="5645520" y="1379520"/>
                    <a:ext cx="153360" cy="260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1" name=""/>
                  <p:cNvSpPr/>
                  <p:nvPr/>
                </p:nvSpPr>
                <p:spPr>
                  <a:xfrm flipH="1">
                    <a:off x="5440320" y="1432440"/>
                    <a:ext cx="567000" cy="15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2" name=""/>
                  <p:cNvSpPr/>
                  <p:nvPr/>
                </p:nvSpPr>
                <p:spPr>
                  <a:xfrm flipH="1">
                    <a:off x="5069880" y="1377000"/>
                    <a:ext cx="575280" cy="147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3" name=""/>
                  <p:cNvSpPr/>
                  <p:nvPr/>
                </p:nvSpPr>
                <p:spPr>
                  <a:xfrm flipH="1" flipV="1">
                    <a:off x="4893480" y="1381320"/>
                    <a:ext cx="180720" cy="147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4" name=""/>
                  <p:cNvSpPr/>
                  <p:nvPr/>
                </p:nvSpPr>
                <p:spPr>
                  <a:xfrm flipH="1" flipV="1">
                    <a:off x="4547160" y="1432080"/>
                    <a:ext cx="149400" cy="153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5" name=""/>
                  <p:cNvSpPr/>
                  <p:nvPr/>
                </p:nvSpPr>
                <p:spPr>
                  <a:xfrm flipH="1">
                    <a:off x="4341240" y="1382400"/>
                    <a:ext cx="552600" cy="25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6" name=""/>
                  <p:cNvSpPr/>
                  <p:nvPr/>
                </p:nvSpPr>
                <p:spPr>
                  <a:xfrm flipH="1" flipV="1">
                    <a:off x="4188600" y="1490040"/>
                    <a:ext cx="151560" cy="148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7" name=""/>
                  <p:cNvSpPr/>
                  <p:nvPr/>
                </p:nvSpPr>
                <p:spPr>
                  <a:xfrm flipH="1">
                    <a:off x="3981600" y="1433160"/>
                    <a:ext cx="565560" cy="259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8" name=""/>
                  <p:cNvSpPr/>
                  <p:nvPr/>
                </p:nvSpPr>
                <p:spPr>
                  <a:xfrm flipV="1">
                    <a:off x="4189320" y="1323000"/>
                    <a:ext cx="1080000" cy="163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9" name=""/>
                  <p:cNvSpPr/>
                  <p:nvPr/>
                </p:nvSpPr>
                <p:spPr>
                  <a:xfrm flipV="1">
                    <a:off x="3992040" y="1524600"/>
                    <a:ext cx="1078560" cy="16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0" name=""/>
                  <p:cNvSpPr/>
                  <p:nvPr/>
                </p:nvSpPr>
                <p:spPr>
                  <a:xfrm>
                    <a:off x="5068800" y="1524240"/>
                    <a:ext cx="1081800" cy="170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1" name=""/>
                  <p:cNvSpPr/>
                  <p:nvPr/>
                </p:nvSpPr>
                <p:spPr>
                  <a:xfrm>
                    <a:off x="5274000" y="1321920"/>
                    <a:ext cx="1073520" cy="164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02" name=""/>
                <p:cNvSpPr/>
                <p:nvPr/>
              </p:nvSpPr>
              <p:spPr>
                <a:xfrm flipV="1">
                  <a:off x="5799600" y="1433520"/>
                  <a:ext cx="205920" cy="206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3" name=""/>
              <p:cNvGrpSpPr/>
              <p:nvPr/>
            </p:nvGrpSpPr>
            <p:grpSpPr>
              <a:xfrm>
                <a:off x="2953440" y="2346120"/>
                <a:ext cx="2373840" cy="373320"/>
                <a:chOff x="2953440" y="2346120"/>
                <a:chExt cx="2373840" cy="373320"/>
              </a:xfrm>
            </p:grpSpPr>
            <p:sp>
              <p:nvSpPr>
                <p:cNvPr id="3704" name=""/>
                <p:cNvSpPr/>
                <p:nvPr/>
              </p:nvSpPr>
              <p:spPr>
                <a:xfrm flipV="1">
                  <a:off x="5123160" y="2513520"/>
                  <a:ext cx="20340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5" name=""/>
                <p:cNvSpPr/>
                <p:nvPr/>
              </p:nvSpPr>
              <p:spPr>
                <a:xfrm flipV="1">
                  <a:off x="4416840" y="2404440"/>
                  <a:ext cx="202320" cy="202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6" name=""/>
                <p:cNvSpPr/>
                <p:nvPr/>
              </p:nvSpPr>
              <p:spPr>
                <a:xfrm flipV="1">
                  <a:off x="4039920" y="2349000"/>
                  <a:ext cx="199800" cy="19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7" name=""/>
                <p:cNvSpPr/>
                <p:nvPr/>
              </p:nvSpPr>
              <p:spPr>
                <a:xfrm>
                  <a:off x="4038120" y="2549160"/>
                  <a:ext cx="1085040" cy="170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8" name=""/>
                <p:cNvSpPr/>
                <p:nvPr/>
              </p:nvSpPr>
              <p:spPr>
                <a:xfrm flipH="1" flipV="1">
                  <a:off x="4242960" y="2347200"/>
                  <a:ext cx="169200" cy="261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 flipH="1" flipV="1">
                  <a:off x="4980240" y="2460600"/>
                  <a:ext cx="144360" cy="25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 flipV="1">
                  <a:off x="4776120" y="2513520"/>
                  <a:ext cx="547560" cy="15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1" name=""/>
                <p:cNvSpPr/>
                <p:nvPr/>
              </p:nvSpPr>
              <p:spPr>
                <a:xfrm flipH="1" flipV="1">
                  <a:off x="4619880" y="2405520"/>
                  <a:ext cx="15696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2" name=""/>
                <p:cNvSpPr/>
                <p:nvPr/>
              </p:nvSpPr>
              <p:spPr>
                <a:xfrm flipH="1">
                  <a:off x="4412160" y="2459880"/>
                  <a:ext cx="567000" cy="149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 flipH="1">
                  <a:off x="4038840" y="2404440"/>
                  <a:ext cx="581400" cy="14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>
                  <a:off x="4245840" y="2346480"/>
                  <a:ext cx="1081440" cy="16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5" name=""/>
                <p:cNvSpPr/>
                <p:nvPr/>
              </p:nvSpPr>
              <p:spPr>
                <a:xfrm flipV="1">
                  <a:off x="4777200" y="2459880"/>
                  <a:ext cx="20232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 flipV="1">
                  <a:off x="3666240" y="2401920"/>
                  <a:ext cx="202320" cy="204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 flipV="1">
                  <a:off x="3317760" y="2455200"/>
                  <a:ext cx="204120" cy="20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 flipV="1">
                  <a:off x="2959560" y="2549160"/>
                  <a:ext cx="1078200" cy="168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 flipV="1">
                  <a:off x="3159360" y="2346120"/>
                  <a:ext cx="1089000" cy="165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 flipH="1">
                  <a:off x="3664440" y="2346120"/>
                  <a:ext cx="57996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 flipH="1" flipV="1">
                  <a:off x="3867480" y="2404440"/>
                  <a:ext cx="169920" cy="14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 flipH="1" flipV="1">
                  <a:off x="3520440" y="2455560"/>
                  <a:ext cx="144000" cy="15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 flipH="1">
                  <a:off x="3319200" y="2407320"/>
                  <a:ext cx="543600" cy="254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 flipH="1" flipV="1">
                  <a:off x="3159720" y="2512440"/>
                  <a:ext cx="155880" cy="14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 flipH="1">
                  <a:off x="2955240" y="2457360"/>
                  <a:ext cx="56268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 flipV="1">
                  <a:off x="2953440" y="2513160"/>
                  <a:ext cx="205920" cy="20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27" name=""/>
            <p:cNvGrpSpPr/>
            <p:nvPr/>
          </p:nvGrpSpPr>
          <p:grpSpPr>
            <a:xfrm>
              <a:off x="2958120" y="1487520"/>
              <a:ext cx="3395160" cy="1229760"/>
              <a:chOff x="2958120" y="1487520"/>
              <a:chExt cx="3395160" cy="1229760"/>
            </a:xfrm>
          </p:grpSpPr>
          <p:sp>
            <p:nvSpPr>
              <p:cNvPr id="3728" name=""/>
              <p:cNvSpPr/>
              <p:nvPr/>
            </p:nvSpPr>
            <p:spPr>
              <a:xfrm flipV="1">
                <a:off x="5122440" y="1487520"/>
                <a:ext cx="1230840" cy="122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 flipV="1">
                <a:off x="2958120" y="1487520"/>
                <a:ext cx="1227240" cy="122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0" name=""/>
            <p:cNvGrpSpPr/>
            <p:nvPr/>
          </p:nvGrpSpPr>
          <p:grpSpPr>
            <a:xfrm>
              <a:off x="3113640" y="1350000"/>
              <a:ext cx="3066120" cy="1346400"/>
              <a:chOff x="3113640" y="1350000"/>
              <a:chExt cx="3066120" cy="1346400"/>
            </a:xfrm>
          </p:grpSpPr>
          <p:sp>
            <p:nvSpPr>
              <p:cNvPr id="3731" name=""/>
              <p:cNvSpPr/>
              <p:nvPr/>
            </p:nvSpPr>
            <p:spPr>
              <a:xfrm flipV="1">
                <a:off x="4232520" y="1350000"/>
                <a:ext cx="1223640" cy="1229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flipV="1">
                <a:off x="4417920" y="1377720"/>
                <a:ext cx="1227240" cy="123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 flipV="1">
                <a:off x="4779360" y="1436400"/>
                <a:ext cx="1221840" cy="1229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 flipV="1">
                <a:off x="4948920" y="1463400"/>
                <a:ext cx="1230840" cy="123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 flipV="1">
                <a:off x="3113640" y="1461240"/>
                <a:ext cx="1255680" cy="123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 flipV="1">
                <a:off x="3318480" y="1434240"/>
                <a:ext cx="1226160" cy="122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 flipV="1">
                <a:off x="3667680" y="1377000"/>
                <a:ext cx="1228680" cy="122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 flipV="1">
                <a:off x="3844440" y="1350000"/>
                <a:ext cx="1248120" cy="123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V="1">
                <a:off x="3488040" y="1409400"/>
                <a:ext cx="1231920" cy="122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 flipV="1">
                <a:off x="4596480" y="1404000"/>
                <a:ext cx="1227240" cy="1231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1" name=""/>
            <p:cNvGrpSpPr/>
            <p:nvPr/>
          </p:nvGrpSpPr>
          <p:grpSpPr>
            <a:xfrm>
              <a:off x="2957040" y="2718360"/>
              <a:ext cx="2169720" cy="758160"/>
              <a:chOff x="2957040" y="2718360"/>
              <a:chExt cx="2169720" cy="758160"/>
            </a:xfrm>
          </p:grpSpPr>
          <p:sp>
            <p:nvSpPr>
              <p:cNvPr id="3742" name=""/>
              <p:cNvSpPr/>
              <p:nvPr/>
            </p:nvSpPr>
            <p:spPr>
              <a:xfrm flipV="1">
                <a:off x="4418280" y="3475800"/>
                <a:ext cx="70704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 flipV="1">
                <a:off x="2957040" y="2718360"/>
                <a:ext cx="2169720" cy="2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2957040" y="2914560"/>
                <a:ext cx="21693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4416480" y="3292920"/>
                <a:ext cx="70920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 flipV="1">
                <a:off x="2957040" y="3117600"/>
                <a:ext cx="7099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418280" y="3112200"/>
                <a:ext cx="7084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2957760" y="3295440"/>
                <a:ext cx="7081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2958480" y="3474720"/>
                <a:ext cx="706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0" name=""/>
            <p:cNvGrpSpPr/>
            <p:nvPr/>
          </p:nvGrpSpPr>
          <p:grpSpPr>
            <a:xfrm>
              <a:off x="5125680" y="1697400"/>
              <a:ext cx="1228680" cy="1776600"/>
              <a:chOff x="5125680" y="1697400"/>
              <a:chExt cx="1228680" cy="1776600"/>
            </a:xfrm>
          </p:grpSpPr>
          <p:sp>
            <p:nvSpPr>
              <p:cNvPr id="3751" name=""/>
              <p:cNvSpPr/>
              <p:nvPr/>
            </p:nvSpPr>
            <p:spPr>
              <a:xfrm flipV="1">
                <a:off x="5125680" y="2254680"/>
                <a:ext cx="1228680" cy="1219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V="1">
                <a:off x="5128200" y="1697400"/>
                <a:ext cx="1225080" cy="1217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 flipV="1">
                <a:off x="5127120" y="1900800"/>
                <a:ext cx="1226160" cy="1210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 flipV="1">
                <a:off x="5126400" y="2063160"/>
                <a:ext cx="1226880" cy="12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5" name=""/>
            <p:cNvSpPr/>
            <p:nvPr/>
          </p:nvSpPr>
          <p:spPr>
            <a:xfrm flipV="1">
              <a:off x="2957040" y="2549880"/>
              <a:ext cx="1084320" cy="168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H="1" flipV="1">
              <a:off x="4043520" y="2550960"/>
              <a:ext cx="1085040" cy="168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V="1">
              <a:off x="2956320" y="271548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 flipV="1">
              <a:off x="5125680" y="271548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V="1">
              <a:off x="6352920" y="148536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flipV="1">
              <a:off x="4188960" y="1320840"/>
              <a:ext cx="1083960" cy="167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 flipH="1" flipV="1">
              <a:off x="5273280" y="1320840"/>
              <a:ext cx="1084320" cy="167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2" name=""/>
          <p:cNvSpPr/>
          <p:nvPr/>
        </p:nvSpPr>
        <p:spPr>
          <a:xfrm>
            <a:off x="7016760" y="478620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7045200" y="48513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7929720" y="478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7956720" y="484992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147600" y="5221440"/>
            <a:ext cx="6583320" cy="295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susceptibles de déve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147600" y="4803840"/>
            <a:ext cx="6583320" cy="309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généralement sollicitées en flexion compos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147600" y="5634000"/>
            <a:ext cx="6583320" cy="297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généralement sollicitées en flexion biaxiale ou dévi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217440" y="52704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ant les pannes courant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6772320" y="608004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147600" y="3781440"/>
            <a:ext cx="6581880" cy="520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flèche d’une panne isostatique est plus grande que celle d ’une panne hyperstatique de même section transvers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7018200" y="3871800"/>
            <a:ext cx="749520" cy="346320"/>
          </a:xfrm>
          <a:custGeom>
            <a:avLst/>
            <a:gdLst>
              <a:gd name="textAreaLeft" fmla="*/ 22320 w 749520"/>
              <a:gd name="textAreaRight" fmla="*/ 727200 w 7495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721" h="21600">
                <a:moveTo>
                  <a:pt x="0" y="0"/>
                </a:moveTo>
                <a:lnTo>
                  <a:pt x="46721" y="0"/>
                </a:lnTo>
                <a:lnTo>
                  <a:pt x="46721" y="21600"/>
                </a:lnTo>
                <a:lnTo>
                  <a:pt x="0" y="21600"/>
                </a:lnTo>
                <a:close/>
              </a:path>
              <a:path fill="lightenLess" w="46721" h="21600">
                <a:moveTo>
                  <a:pt x="0" y="0"/>
                </a:moveTo>
                <a:lnTo>
                  <a:pt x="46721" y="0"/>
                </a:lnTo>
                <a:lnTo>
                  <a:pt x="45322" y="1400"/>
                </a:lnTo>
                <a:lnTo>
                  <a:pt x="1400" y="1400"/>
                </a:lnTo>
                <a:close/>
              </a:path>
              <a:path fill="darken" w="46721" h="21600">
                <a:moveTo>
                  <a:pt x="46721" y="0"/>
                </a:moveTo>
                <a:lnTo>
                  <a:pt x="46721" y="21600"/>
                </a:lnTo>
                <a:lnTo>
                  <a:pt x="45322" y="20200"/>
                </a:lnTo>
                <a:lnTo>
                  <a:pt x="45322" y="1400"/>
                </a:lnTo>
                <a:close/>
              </a:path>
              <a:path fill="darkenLess" w="46721" h="21600">
                <a:moveTo>
                  <a:pt x="467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22" y="20200"/>
                </a:lnTo>
                <a:close/>
              </a:path>
              <a:path fill="lighten" w="467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7045200" y="39369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147600" y="5221440"/>
            <a:ext cx="6583320" cy="295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susceptibles de déver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7016760" y="519732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7045200" y="526248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147600" y="4398840"/>
            <a:ext cx="6583320" cy="293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sollicitées en flexion si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7929720" y="4371840"/>
            <a:ext cx="749160" cy="34632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46699" h="21600">
                <a:moveTo>
                  <a:pt x="0" y="0"/>
                </a:moveTo>
                <a:lnTo>
                  <a:pt x="46699" y="0"/>
                </a:lnTo>
                <a:lnTo>
                  <a:pt x="46699" y="21600"/>
                </a:lnTo>
                <a:lnTo>
                  <a:pt x="0" y="21600"/>
                </a:lnTo>
                <a:close/>
              </a:path>
              <a:path fill="lightenLess" w="46699" h="21600">
                <a:moveTo>
                  <a:pt x="0" y="0"/>
                </a:moveTo>
                <a:lnTo>
                  <a:pt x="46699" y="0"/>
                </a:lnTo>
                <a:lnTo>
                  <a:pt x="45299" y="1400"/>
                </a:lnTo>
                <a:lnTo>
                  <a:pt x="1400" y="1400"/>
                </a:lnTo>
                <a:close/>
              </a:path>
              <a:path fill="darken" w="46699" h="21600">
                <a:moveTo>
                  <a:pt x="46699" y="0"/>
                </a:moveTo>
                <a:lnTo>
                  <a:pt x="46699" y="21600"/>
                </a:lnTo>
                <a:lnTo>
                  <a:pt x="45299" y="20200"/>
                </a:lnTo>
                <a:lnTo>
                  <a:pt x="45299" y="1400"/>
                </a:lnTo>
                <a:close/>
              </a:path>
              <a:path fill="darkenLess" w="46699" h="21600">
                <a:moveTo>
                  <a:pt x="466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99" y="20200"/>
                </a:lnTo>
                <a:close/>
              </a:path>
              <a:path fill="lighten" w="466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7956720" y="443700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147600" y="4803840"/>
            <a:ext cx="6583320" cy="309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généralement sollicitées en flexion compos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147600" y="5634000"/>
            <a:ext cx="6583320" cy="297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 pannes courantes sont généralement sollicitées en flexion biaxiale ou dévié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4" name=""/>
          <p:cNvGrpSpPr/>
          <p:nvPr/>
        </p:nvGrpSpPr>
        <p:grpSpPr>
          <a:xfrm>
            <a:off x="2894040" y="1318680"/>
            <a:ext cx="3498120" cy="2278440"/>
            <a:chOff x="2894040" y="1318680"/>
            <a:chExt cx="3498120" cy="2278440"/>
          </a:xfrm>
        </p:grpSpPr>
        <p:sp>
          <p:nvSpPr>
            <p:cNvPr id="3785" name=""/>
            <p:cNvSpPr/>
            <p:nvPr/>
          </p:nvSpPr>
          <p:spPr>
            <a:xfrm flipV="1">
              <a:off x="4038480" y="1318680"/>
              <a:ext cx="1229400" cy="122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 flipV="1">
              <a:off x="4183200" y="148536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7" name=""/>
            <p:cNvGrpSpPr/>
            <p:nvPr/>
          </p:nvGrpSpPr>
          <p:grpSpPr>
            <a:xfrm>
              <a:off x="2958120" y="1485360"/>
              <a:ext cx="3399120" cy="1988640"/>
              <a:chOff x="2958120" y="1485360"/>
              <a:chExt cx="3399120" cy="1988640"/>
            </a:xfrm>
          </p:grpSpPr>
          <p:grpSp>
            <p:nvGrpSpPr>
              <p:cNvPr id="3788" name=""/>
              <p:cNvGrpSpPr/>
              <p:nvPr/>
            </p:nvGrpSpPr>
            <p:grpSpPr>
              <a:xfrm>
                <a:off x="2958120" y="1485360"/>
                <a:ext cx="3397680" cy="1988640"/>
                <a:chOff x="2958120" y="1485360"/>
                <a:chExt cx="3397680" cy="1988640"/>
              </a:xfrm>
            </p:grpSpPr>
            <p:grpSp>
              <p:nvGrpSpPr>
                <p:cNvPr id="3789" name=""/>
                <p:cNvGrpSpPr/>
                <p:nvPr/>
              </p:nvGrpSpPr>
              <p:grpSpPr>
                <a:xfrm>
                  <a:off x="5119560" y="2510640"/>
                  <a:ext cx="213480" cy="959400"/>
                  <a:chOff x="5119560" y="2510640"/>
                  <a:chExt cx="213480" cy="959400"/>
                </a:xfrm>
              </p:grpSpPr>
              <p:sp>
                <p:nvSpPr>
                  <p:cNvPr id="3790" name=""/>
                  <p:cNvSpPr/>
                  <p:nvPr/>
                </p:nvSpPr>
                <p:spPr>
                  <a:xfrm flipV="1">
                    <a:off x="5128560" y="2909160"/>
                    <a:ext cx="204480" cy="56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1" name=""/>
                  <p:cNvSpPr/>
                  <p:nvPr/>
                </p:nvSpPr>
                <p:spPr>
                  <a:xfrm flipH="1" flipV="1">
                    <a:off x="5124600" y="2711880"/>
                    <a:ext cx="207720" cy="196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2" name=""/>
                  <p:cNvSpPr/>
                  <p:nvPr/>
                </p:nvSpPr>
                <p:spPr>
                  <a:xfrm flipH="1" flipV="1">
                    <a:off x="5128560" y="3109680"/>
                    <a:ext cx="204480" cy="155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3" name=""/>
                  <p:cNvSpPr/>
                  <p:nvPr/>
                </p:nvSpPr>
                <p:spPr>
                  <a:xfrm flipV="1">
                    <a:off x="5128560" y="2510640"/>
                    <a:ext cx="204480" cy="594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4" name=""/>
                  <p:cNvSpPr/>
                  <p:nvPr/>
                </p:nvSpPr>
                <p:spPr>
                  <a:xfrm flipV="1">
                    <a:off x="5119560" y="2518200"/>
                    <a:ext cx="204480" cy="204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5" name=""/>
                  <p:cNvSpPr/>
                  <p:nvPr/>
                </p:nvSpPr>
                <p:spPr>
                  <a:xfrm>
                    <a:off x="5128560" y="2712600"/>
                    <a:ext cx="0" cy="754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6" name=""/>
                  <p:cNvSpPr/>
                  <p:nvPr/>
                </p:nvSpPr>
                <p:spPr>
                  <a:xfrm>
                    <a:off x="5333040" y="2514240"/>
                    <a:ext cx="0" cy="754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97" name=""/>
                <p:cNvGrpSpPr/>
                <p:nvPr/>
              </p:nvGrpSpPr>
              <p:grpSpPr>
                <a:xfrm>
                  <a:off x="2958120" y="2514960"/>
                  <a:ext cx="205560" cy="959040"/>
                  <a:chOff x="2958120" y="2514960"/>
                  <a:chExt cx="205560" cy="959040"/>
                </a:xfrm>
              </p:grpSpPr>
              <p:sp>
                <p:nvSpPr>
                  <p:cNvPr id="3798" name=""/>
                  <p:cNvSpPr/>
                  <p:nvPr/>
                </p:nvSpPr>
                <p:spPr>
                  <a:xfrm flipV="1">
                    <a:off x="2958840" y="2911320"/>
                    <a:ext cx="204480" cy="560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9" name=""/>
                  <p:cNvSpPr/>
                  <p:nvPr/>
                </p:nvSpPr>
                <p:spPr>
                  <a:xfrm flipH="1" flipV="1">
                    <a:off x="2958480" y="2719080"/>
                    <a:ext cx="202680" cy="18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0" name=""/>
                  <p:cNvSpPr/>
                  <p:nvPr/>
                </p:nvSpPr>
                <p:spPr>
                  <a:xfrm flipH="1" flipV="1">
                    <a:off x="2958120" y="3115800"/>
                    <a:ext cx="204480" cy="15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1" name=""/>
                  <p:cNvSpPr/>
                  <p:nvPr/>
                </p:nvSpPr>
                <p:spPr>
                  <a:xfrm flipV="1">
                    <a:off x="2958840" y="2514960"/>
                    <a:ext cx="203400" cy="597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2" name=""/>
                  <p:cNvSpPr/>
                  <p:nvPr/>
                </p:nvSpPr>
                <p:spPr>
                  <a:xfrm flipV="1">
                    <a:off x="2959920" y="2515320"/>
                    <a:ext cx="200880" cy="20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3" name=""/>
                  <p:cNvSpPr/>
                  <p:nvPr/>
                </p:nvSpPr>
                <p:spPr>
                  <a:xfrm>
                    <a:off x="2959200" y="2719800"/>
                    <a:ext cx="0" cy="754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4" name=""/>
                  <p:cNvSpPr/>
                  <p:nvPr/>
                </p:nvSpPr>
                <p:spPr>
                  <a:xfrm flipH="1">
                    <a:off x="3162960" y="2521800"/>
                    <a:ext cx="720" cy="745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5" name=""/>
                <p:cNvGrpSpPr/>
                <p:nvPr/>
              </p:nvGrpSpPr>
              <p:grpSpPr>
                <a:xfrm>
                  <a:off x="6149160" y="1485360"/>
                  <a:ext cx="206640" cy="973080"/>
                  <a:chOff x="6149160" y="1485360"/>
                  <a:chExt cx="206640" cy="973080"/>
                </a:xfrm>
              </p:grpSpPr>
              <p:sp>
                <p:nvSpPr>
                  <p:cNvPr id="3806" name=""/>
                  <p:cNvSpPr/>
                  <p:nvPr/>
                </p:nvSpPr>
                <p:spPr>
                  <a:xfrm flipV="1">
                    <a:off x="6150960" y="1897920"/>
                    <a:ext cx="202680" cy="557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7" name=""/>
                  <p:cNvSpPr/>
                  <p:nvPr/>
                </p:nvSpPr>
                <p:spPr>
                  <a:xfrm flipH="1" flipV="1">
                    <a:off x="6149160" y="1690560"/>
                    <a:ext cx="203400" cy="210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8" name=""/>
                  <p:cNvSpPr/>
                  <p:nvPr/>
                </p:nvSpPr>
                <p:spPr>
                  <a:xfrm flipH="1" flipV="1">
                    <a:off x="6150600" y="2098440"/>
                    <a:ext cx="202680" cy="153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9" name=""/>
                  <p:cNvSpPr/>
                  <p:nvPr/>
                </p:nvSpPr>
                <p:spPr>
                  <a:xfrm flipV="1">
                    <a:off x="6150240" y="1486440"/>
                    <a:ext cx="200520" cy="61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0" name=""/>
                  <p:cNvSpPr/>
                  <p:nvPr/>
                </p:nvSpPr>
                <p:spPr>
                  <a:xfrm flipV="1">
                    <a:off x="6149520" y="1485360"/>
                    <a:ext cx="205200" cy="20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1" name=""/>
                  <p:cNvSpPr/>
                  <p:nvPr/>
                </p:nvSpPr>
                <p:spPr>
                  <a:xfrm>
                    <a:off x="6152400" y="1687680"/>
                    <a:ext cx="0" cy="770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2" name=""/>
                  <p:cNvSpPr/>
                  <p:nvPr/>
                </p:nvSpPr>
                <p:spPr>
                  <a:xfrm flipH="1">
                    <a:off x="6355080" y="1488600"/>
                    <a:ext cx="720" cy="763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13" name=""/>
                <p:cNvGrpSpPr/>
                <p:nvPr/>
              </p:nvGrpSpPr>
              <p:grpSpPr>
                <a:xfrm>
                  <a:off x="3981240" y="1486440"/>
                  <a:ext cx="204480" cy="968760"/>
                  <a:chOff x="3981240" y="1486440"/>
                  <a:chExt cx="204480" cy="968760"/>
                </a:xfrm>
              </p:grpSpPr>
              <p:sp>
                <p:nvSpPr>
                  <p:cNvPr id="3814" name=""/>
                  <p:cNvSpPr/>
                  <p:nvPr/>
                </p:nvSpPr>
                <p:spPr>
                  <a:xfrm flipV="1">
                    <a:off x="3981600" y="1900800"/>
                    <a:ext cx="203400" cy="554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5" name=""/>
                  <p:cNvSpPr/>
                  <p:nvPr/>
                </p:nvSpPr>
                <p:spPr>
                  <a:xfrm flipH="1" flipV="1">
                    <a:off x="3982320" y="1693800"/>
                    <a:ext cx="201600" cy="205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6" name=""/>
                  <p:cNvSpPr/>
                  <p:nvPr/>
                </p:nvSpPr>
                <p:spPr>
                  <a:xfrm flipH="1" flipV="1">
                    <a:off x="3981240" y="2102040"/>
                    <a:ext cx="204120" cy="147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7" name=""/>
                  <p:cNvSpPr/>
                  <p:nvPr/>
                </p:nvSpPr>
                <p:spPr>
                  <a:xfrm flipV="1">
                    <a:off x="3981600" y="1486440"/>
                    <a:ext cx="204120" cy="615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8" name=""/>
                  <p:cNvSpPr/>
                  <p:nvPr/>
                </p:nvSpPr>
                <p:spPr>
                  <a:xfrm flipV="1">
                    <a:off x="3982680" y="1487160"/>
                    <a:ext cx="200880" cy="201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9" name=""/>
                  <p:cNvSpPr/>
                  <p:nvPr/>
                </p:nvSpPr>
                <p:spPr>
                  <a:xfrm>
                    <a:off x="3981600" y="1697760"/>
                    <a:ext cx="0" cy="754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0" name=""/>
                  <p:cNvSpPr/>
                  <p:nvPr/>
                </p:nvSpPr>
                <p:spPr>
                  <a:xfrm>
                    <a:off x="4184280" y="1486440"/>
                    <a:ext cx="720" cy="764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21" name=""/>
              <p:cNvGrpSpPr/>
              <p:nvPr/>
            </p:nvGrpSpPr>
            <p:grpSpPr>
              <a:xfrm>
                <a:off x="2960280" y="1897200"/>
                <a:ext cx="3396960" cy="1218600"/>
                <a:chOff x="2960280" y="1897200"/>
                <a:chExt cx="3396960" cy="1218600"/>
              </a:xfrm>
            </p:grpSpPr>
            <p:sp>
              <p:nvSpPr>
                <p:cNvPr id="3822" name=""/>
                <p:cNvSpPr/>
                <p:nvPr/>
              </p:nvSpPr>
              <p:spPr>
                <a:xfrm flipV="1">
                  <a:off x="5131080" y="2908080"/>
                  <a:ext cx="200880" cy="201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3" name=""/>
                <p:cNvSpPr/>
                <p:nvPr/>
              </p:nvSpPr>
              <p:spPr>
                <a:xfrm flipV="1">
                  <a:off x="2960280" y="2912760"/>
                  <a:ext cx="20448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4" name=""/>
                <p:cNvSpPr/>
                <p:nvPr/>
              </p:nvSpPr>
              <p:spPr>
                <a:xfrm flipV="1">
                  <a:off x="6156360" y="1897200"/>
                  <a:ext cx="2008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5" name=""/>
                <p:cNvSpPr/>
                <p:nvPr/>
              </p:nvSpPr>
              <p:spPr>
                <a:xfrm flipV="1">
                  <a:off x="3984840" y="1900800"/>
                  <a:ext cx="2026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26" name=""/>
            <p:cNvGrpSpPr/>
            <p:nvPr/>
          </p:nvGrpSpPr>
          <p:grpSpPr>
            <a:xfrm>
              <a:off x="2894040" y="2275920"/>
              <a:ext cx="3498120" cy="1321200"/>
              <a:chOff x="2894040" y="2275920"/>
              <a:chExt cx="3498120" cy="1321200"/>
            </a:xfrm>
          </p:grpSpPr>
          <p:grpSp>
            <p:nvGrpSpPr>
              <p:cNvPr id="3827" name=""/>
              <p:cNvGrpSpPr/>
              <p:nvPr/>
            </p:nvGrpSpPr>
            <p:grpSpPr>
              <a:xfrm>
                <a:off x="5270400" y="2477160"/>
                <a:ext cx="918000" cy="916920"/>
                <a:chOff x="5270400" y="2477160"/>
                <a:chExt cx="918000" cy="916920"/>
              </a:xfrm>
            </p:grpSpPr>
            <p:sp>
              <p:nvSpPr>
                <p:cNvPr id="3828" name=""/>
                <p:cNvSpPr/>
                <p:nvPr/>
              </p:nvSpPr>
              <p:spPr>
                <a:xfrm>
                  <a:off x="6087960" y="247716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9" name=""/>
                <p:cNvSpPr/>
                <p:nvPr/>
              </p:nvSpPr>
              <p:spPr>
                <a:xfrm>
                  <a:off x="5886720" y="267696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>
                  <a:off x="5679360" y="2882160"/>
                  <a:ext cx="10080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>
                  <a:off x="5475240" y="3084840"/>
                  <a:ext cx="10332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>
                  <a:off x="5270400" y="3293280"/>
                  <a:ext cx="10008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3" name=""/>
              <p:cNvGrpSpPr/>
              <p:nvPr/>
            </p:nvGrpSpPr>
            <p:grpSpPr>
              <a:xfrm>
                <a:off x="3102840" y="2476440"/>
                <a:ext cx="915120" cy="912240"/>
                <a:chOff x="3102840" y="2476440"/>
                <a:chExt cx="915120" cy="912240"/>
              </a:xfrm>
            </p:grpSpPr>
            <p:sp>
              <p:nvSpPr>
                <p:cNvPr id="3834" name=""/>
                <p:cNvSpPr/>
                <p:nvPr/>
              </p:nvSpPr>
              <p:spPr>
                <a:xfrm>
                  <a:off x="3917520" y="247644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5" name=""/>
                <p:cNvSpPr/>
                <p:nvPr/>
              </p:nvSpPr>
              <p:spPr>
                <a:xfrm>
                  <a:off x="3714840" y="2678040"/>
                  <a:ext cx="100440" cy="1018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6" name=""/>
                <p:cNvSpPr/>
                <p:nvPr/>
              </p:nvSpPr>
              <p:spPr>
                <a:xfrm>
                  <a:off x="3511800" y="288216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>
                  <a:off x="3304440" y="3085920"/>
                  <a:ext cx="10116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8" name=""/>
                <p:cNvSpPr/>
                <p:nvPr/>
              </p:nvSpPr>
              <p:spPr>
                <a:xfrm>
                  <a:off x="3102840" y="3287880"/>
                  <a:ext cx="100440" cy="1008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9" name=""/>
              <p:cNvGrpSpPr/>
              <p:nvPr/>
            </p:nvGrpSpPr>
            <p:grpSpPr>
              <a:xfrm>
                <a:off x="4118400" y="2275920"/>
                <a:ext cx="2273760" cy="102600"/>
                <a:chOff x="4118400" y="2275920"/>
                <a:chExt cx="2273760" cy="102600"/>
              </a:xfrm>
            </p:grpSpPr>
            <p:sp>
              <p:nvSpPr>
                <p:cNvPr id="3840" name=""/>
                <p:cNvSpPr/>
                <p:nvPr/>
              </p:nvSpPr>
              <p:spPr>
                <a:xfrm>
                  <a:off x="6291720" y="227592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1" name=""/>
                <p:cNvSpPr/>
                <p:nvPr/>
              </p:nvSpPr>
              <p:spPr>
                <a:xfrm>
                  <a:off x="4118400" y="227592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2" name=""/>
                <p:cNvSpPr/>
                <p:nvPr/>
              </p:nvSpPr>
              <p:spPr>
                <a:xfrm>
                  <a:off x="5578560" y="227592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3" name=""/>
                <p:cNvSpPr/>
                <p:nvPr/>
              </p:nvSpPr>
              <p:spPr>
                <a:xfrm>
                  <a:off x="4479480" y="227736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4" name=""/>
                <p:cNvSpPr/>
                <p:nvPr/>
              </p:nvSpPr>
              <p:spPr>
                <a:xfrm>
                  <a:off x="4826880" y="227700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5" name=""/>
                <p:cNvSpPr/>
                <p:nvPr/>
              </p:nvSpPr>
              <p:spPr>
                <a:xfrm>
                  <a:off x="5205600" y="227592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6" name=""/>
                <p:cNvSpPr/>
                <p:nvPr/>
              </p:nvSpPr>
              <p:spPr>
                <a:xfrm>
                  <a:off x="5936760" y="227700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7" name=""/>
              <p:cNvGrpSpPr/>
              <p:nvPr/>
            </p:nvGrpSpPr>
            <p:grpSpPr>
              <a:xfrm>
                <a:off x="2894040" y="3494880"/>
                <a:ext cx="2274120" cy="102240"/>
                <a:chOff x="2894040" y="3494880"/>
                <a:chExt cx="2274120" cy="102240"/>
              </a:xfrm>
            </p:grpSpPr>
            <p:sp>
              <p:nvSpPr>
                <p:cNvPr id="3848" name=""/>
                <p:cNvSpPr/>
                <p:nvPr/>
              </p:nvSpPr>
              <p:spPr>
                <a:xfrm>
                  <a:off x="289404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9" name=""/>
                <p:cNvSpPr/>
                <p:nvPr/>
              </p:nvSpPr>
              <p:spPr>
                <a:xfrm>
                  <a:off x="5067360" y="3494880"/>
                  <a:ext cx="100800" cy="1015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0" name=""/>
                <p:cNvSpPr/>
                <p:nvPr/>
              </p:nvSpPr>
              <p:spPr>
                <a:xfrm>
                  <a:off x="32529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1" name=""/>
                <p:cNvSpPr/>
                <p:nvPr/>
              </p:nvSpPr>
              <p:spPr>
                <a:xfrm>
                  <a:off x="36021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>
                  <a:off x="4354560" y="349596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3" name=""/>
                <p:cNvSpPr/>
                <p:nvPr/>
              </p:nvSpPr>
              <p:spPr>
                <a:xfrm>
                  <a:off x="4718160" y="3494880"/>
                  <a:ext cx="100440" cy="1011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54" name=""/>
            <p:cNvGrpSpPr/>
            <p:nvPr/>
          </p:nvGrpSpPr>
          <p:grpSpPr>
            <a:xfrm>
              <a:off x="4185000" y="1488600"/>
              <a:ext cx="2171520" cy="765000"/>
              <a:chOff x="4185000" y="1488600"/>
              <a:chExt cx="2171520" cy="765000"/>
            </a:xfrm>
          </p:grpSpPr>
          <p:sp>
            <p:nvSpPr>
              <p:cNvPr id="3855" name=""/>
              <p:cNvSpPr/>
              <p:nvPr/>
            </p:nvSpPr>
            <p:spPr>
              <a:xfrm>
                <a:off x="4185000" y="148860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4185000" y="169632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flipV="1">
                <a:off x="4185360" y="2063520"/>
                <a:ext cx="2167560" cy="8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 flipV="1">
                <a:off x="4186080" y="1901160"/>
                <a:ext cx="216396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4186800" y="2253600"/>
                <a:ext cx="2169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0" name=""/>
            <p:cNvGrpSpPr/>
            <p:nvPr/>
          </p:nvGrpSpPr>
          <p:grpSpPr>
            <a:xfrm>
              <a:off x="2957040" y="1694160"/>
              <a:ext cx="1227600" cy="1779480"/>
              <a:chOff x="2957040" y="1694160"/>
              <a:chExt cx="1227600" cy="1779480"/>
            </a:xfrm>
          </p:grpSpPr>
          <p:sp>
            <p:nvSpPr>
              <p:cNvPr id="3861" name=""/>
              <p:cNvSpPr/>
              <p:nvPr/>
            </p:nvSpPr>
            <p:spPr>
              <a:xfrm flipV="1">
                <a:off x="2959560" y="1694160"/>
                <a:ext cx="1224000" cy="12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flipV="1">
                <a:off x="2957040" y="1903320"/>
                <a:ext cx="1226880" cy="12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flipV="1">
                <a:off x="2957760" y="2071800"/>
                <a:ext cx="1226880" cy="12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 flipV="1">
                <a:off x="2957760" y="2253240"/>
                <a:ext cx="1225080" cy="1220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5" name=""/>
            <p:cNvGrpSpPr/>
            <p:nvPr/>
          </p:nvGrpSpPr>
          <p:grpSpPr>
            <a:xfrm>
              <a:off x="2957040" y="1320840"/>
              <a:ext cx="3396960" cy="2158200"/>
              <a:chOff x="2957040" y="1320840"/>
              <a:chExt cx="3396960" cy="2158200"/>
            </a:xfrm>
          </p:grpSpPr>
          <p:grpSp>
            <p:nvGrpSpPr>
              <p:cNvPr id="3866" name=""/>
              <p:cNvGrpSpPr/>
              <p:nvPr/>
            </p:nvGrpSpPr>
            <p:grpSpPr>
              <a:xfrm>
                <a:off x="4184640" y="1320840"/>
                <a:ext cx="2169360" cy="933840"/>
                <a:chOff x="4184640" y="1320840"/>
                <a:chExt cx="2169360" cy="933840"/>
              </a:xfrm>
            </p:grpSpPr>
            <p:sp>
              <p:nvSpPr>
                <p:cNvPr id="3867" name=""/>
                <p:cNvSpPr/>
                <p:nvPr/>
              </p:nvSpPr>
              <p:spPr>
                <a:xfrm>
                  <a:off x="6006960" y="1436400"/>
                  <a:ext cx="0" cy="818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8" name=""/>
                <p:cNvSpPr/>
                <p:nvPr/>
              </p:nvSpPr>
              <p:spPr>
                <a:xfrm>
                  <a:off x="6354000" y="1497960"/>
                  <a:ext cx="0" cy="75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9" name=""/>
                <p:cNvSpPr/>
                <p:nvPr/>
              </p:nvSpPr>
              <p:spPr>
                <a:xfrm>
                  <a:off x="5644800" y="1377000"/>
                  <a:ext cx="0" cy="877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0" name=""/>
                <p:cNvSpPr/>
                <p:nvPr/>
              </p:nvSpPr>
              <p:spPr>
                <a:xfrm>
                  <a:off x="5270040" y="1320840"/>
                  <a:ext cx="0" cy="93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1" name=""/>
                <p:cNvSpPr/>
                <p:nvPr/>
              </p:nvSpPr>
              <p:spPr>
                <a:xfrm>
                  <a:off x="4893840" y="1379520"/>
                  <a:ext cx="0" cy="875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>
                  <a:off x="4184640" y="1494360"/>
                  <a:ext cx="0" cy="760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3" name=""/>
                <p:cNvSpPr/>
                <p:nvPr/>
              </p:nvSpPr>
              <p:spPr>
                <a:xfrm>
                  <a:off x="4547160" y="1433520"/>
                  <a:ext cx="0" cy="821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4" name=""/>
              <p:cNvGrpSpPr/>
              <p:nvPr/>
            </p:nvGrpSpPr>
            <p:grpSpPr>
              <a:xfrm>
                <a:off x="2957040" y="2549880"/>
                <a:ext cx="2171160" cy="929160"/>
                <a:chOff x="2957040" y="2549880"/>
                <a:chExt cx="2171160" cy="929160"/>
              </a:xfrm>
            </p:grpSpPr>
            <p:sp>
              <p:nvSpPr>
                <p:cNvPr id="3875" name=""/>
                <p:cNvSpPr/>
                <p:nvPr/>
              </p:nvSpPr>
              <p:spPr>
                <a:xfrm flipH="1">
                  <a:off x="4043160" y="2549880"/>
                  <a:ext cx="720" cy="361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6" name=""/>
                <p:cNvSpPr/>
                <p:nvPr/>
              </p:nvSpPr>
              <p:spPr>
                <a:xfrm>
                  <a:off x="4780800" y="2665080"/>
                  <a:ext cx="0" cy="813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>
                  <a:off x="5128200" y="2716560"/>
                  <a:ext cx="0" cy="755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8" name=""/>
                <p:cNvSpPr/>
                <p:nvPr/>
              </p:nvSpPr>
              <p:spPr>
                <a:xfrm>
                  <a:off x="4418640" y="2610360"/>
                  <a:ext cx="0" cy="86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9" name=""/>
                <p:cNvSpPr/>
                <p:nvPr/>
              </p:nvSpPr>
              <p:spPr>
                <a:xfrm>
                  <a:off x="3667320" y="2605680"/>
                  <a:ext cx="0" cy="87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0" name=""/>
                <p:cNvSpPr/>
                <p:nvPr/>
              </p:nvSpPr>
              <p:spPr>
                <a:xfrm>
                  <a:off x="2957040" y="2718360"/>
                  <a:ext cx="360" cy="756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1" name=""/>
                <p:cNvSpPr/>
                <p:nvPr/>
              </p:nvSpPr>
              <p:spPr>
                <a:xfrm>
                  <a:off x="3321000" y="2662560"/>
                  <a:ext cx="0" cy="813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82" name=""/>
            <p:cNvGrpSpPr/>
            <p:nvPr/>
          </p:nvGrpSpPr>
          <p:grpSpPr>
            <a:xfrm>
              <a:off x="3162960" y="1526760"/>
              <a:ext cx="2988000" cy="1739520"/>
              <a:chOff x="3162960" y="1526760"/>
              <a:chExt cx="2988000" cy="1739520"/>
            </a:xfrm>
          </p:grpSpPr>
          <p:grpSp>
            <p:nvGrpSpPr>
              <p:cNvPr id="3883" name=""/>
              <p:cNvGrpSpPr/>
              <p:nvPr/>
            </p:nvGrpSpPr>
            <p:grpSpPr>
              <a:xfrm>
                <a:off x="3162960" y="2346840"/>
                <a:ext cx="2169720" cy="919440"/>
                <a:chOff x="3162960" y="2346840"/>
                <a:chExt cx="2169720" cy="919440"/>
              </a:xfrm>
            </p:grpSpPr>
            <p:sp>
              <p:nvSpPr>
                <p:cNvPr id="3884" name=""/>
                <p:cNvSpPr/>
                <p:nvPr/>
              </p:nvSpPr>
              <p:spPr>
                <a:xfrm flipV="1">
                  <a:off x="3162960" y="2513520"/>
                  <a:ext cx="0" cy="752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5" name=""/>
                <p:cNvSpPr/>
                <p:nvPr/>
              </p:nvSpPr>
              <p:spPr>
                <a:xfrm flipV="1">
                  <a:off x="3162960" y="2346840"/>
                  <a:ext cx="1085040" cy="16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6" name=""/>
                <p:cNvSpPr/>
                <p:nvPr/>
              </p:nvSpPr>
              <p:spPr>
                <a:xfrm flipV="1">
                  <a:off x="5332680" y="2513520"/>
                  <a:ext cx="0" cy="752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 flipH="1" flipV="1">
                  <a:off x="4247640" y="2346840"/>
                  <a:ext cx="1084680" cy="16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8" name=""/>
              <p:cNvGrpSpPr/>
              <p:nvPr/>
            </p:nvGrpSpPr>
            <p:grpSpPr>
              <a:xfrm>
                <a:off x="3367440" y="1526760"/>
                <a:ext cx="2783520" cy="1542240"/>
                <a:chOff x="3367440" y="1526760"/>
                <a:chExt cx="2783520" cy="1542240"/>
              </a:xfrm>
            </p:grpSpPr>
            <p:grpSp>
              <p:nvGrpSpPr>
                <p:cNvPr id="3889" name=""/>
                <p:cNvGrpSpPr/>
                <p:nvPr/>
              </p:nvGrpSpPr>
              <p:grpSpPr>
                <a:xfrm>
                  <a:off x="3367440" y="2141640"/>
                  <a:ext cx="2170080" cy="927360"/>
                  <a:chOff x="3367440" y="2141640"/>
                  <a:chExt cx="2170080" cy="927360"/>
                </a:xfrm>
              </p:grpSpPr>
              <p:sp>
                <p:nvSpPr>
                  <p:cNvPr id="3890" name=""/>
                  <p:cNvSpPr/>
                  <p:nvPr/>
                </p:nvSpPr>
                <p:spPr>
                  <a:xfrm flipV="1">
                    <a:off x="3367440" y="2309040"/>
                    <a:ext cx="0" cy="756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1" name=""/>
                  <p:cNvSpPr/>
                  <p:nvPr/>
                </p:nvSpPr>
                <p:spPr>
                  <a:xfrm flipV="1">
                    <a:off x="3367440" y="2141640"/>
                    <a:ext cx="1085040" cy="167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2" name=""/>
                  <p:cNvSpPr/>
                  <p:nvPr/>
                </p:nvSpPr>
                <p:spPr>
                  <a:xfrm flipV="1">
                    <a:off x="5537520" y="2309400"/>
                    <a:ext cx="0" cy="759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3" name=""/>
                  <p:cNvSpPr/>
                  <p:nvPr/>
                </p:nvSpPr>
                <p:spPr>
                  <a:xfrm flipH="1" flipV="1">
                    <a:off x="4452120" y="2141640"/>
                    <a:ext cx="1084680" cy="167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4" name=""/>
                <p:cNvGrpSpPr/>
                <p:nvPr/>
              </p:nvGrpSpPr>
              <p:grpSpPr>
                <a:xfrm>
                  <a:off x="3570840" y="1936080"/>
                  <a:ext cx="2171160" cy="925920"/>
                  <a:chOff x="3570840" y="1936080"/>
                  <a:chExt cx="2171160" cy="925920"/>
                </a:xfrm>
              </p:grpSpPr>
              <p:sp>
                <p:nvSpPr>
                  <p:cNvPr id="3895" name=""/>
                  <p:cNvSpPr/>
                  <p:nvPr/>
                </p:nvSpPr>
                <p:spPr>
                  <a:xfrm flipV="1">
                    <a:off x="3570840" y="210456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6" name=""/>
                  <p:cNvSpPr/>
                  <p:nvPr/>
                </p:nvSpPr>
                <p:spPr>
                  <a:xfrm flipV="1">
                    <a:off x="3570840" y="1936080"/>
                    <a:ext cx="108540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7" name=""/>
                  <p:cNvSpPr/>
                  <p:nvPr/>
                </p:nvSpPr>
                <p:spPr>
                  <a:xfrm flipV="1">
                    <a:off x="5742000" y="210456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8" name=""/>
                  <p:cNvSpPr/>
                  <p:nvPr/>
                </p:nvSpPr>
                <p:spPr>
                  <a:xfrm flipH="1" flipV="1">
                    <a:off x="4655880" y="1936080"/>
                    <a:ext cx="108540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9" name=""/>
                <p:cNvGrpSpPr/>
                <p:nvPr/>
              </p:nvGrpSpPr>
              <p:grpSpPr>
                <a:xfrm>
                  <a:off x="3776400" y="1731240"/>
                  <a:ext cx="2170080" cy="925920"/>
                  <a:chOff x="3776400" y="1731240"/>
                  <a:chExt cx="2170080" cy="925920"/>
                </a:xfrm>
              </p:grpSpPr>
              <p:sp>
                <p:nvSpPr>
                  <p:cNvPr id="3900" name=""/>
                  <p:cNvSpPr/>
                  <p:nvPr/>
                </p:nvSpPr>
                <p:spPr>
                  <a:xfrm flipV="1">
                    <a:off x="3776400" y="189972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1" name=""/>
                  <p:cNvSpPr/>
                  <p:nvPr/>
                </p:nvSpPr>
                <p:spPr>
                  <a:xfrm flipV="1">
                    <a:off x="3776400" y="1731240"/>
                    <a:ext cx="108504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2" name=""/>
                  <p:cNvSpPr/>
                  <p:nvPr/>
                </p:nvSpPr>
                <p:spPr>
                  <a:xfrm flipV="1">
                    <a:off x="5946480" y="1899720"/>
                    <a:ext cx="0" cy="75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3" name=""/>
                  <p:cNvSpPr/>
                  <p:nvPr/>
                </p:nvSpPr>
                <p:spPr>
                  <a:xfrm flipH="1" flipV="1">
                    <a:off x="4861440" y="1731240"/>
                    <a:ext cx="1085040" cy="16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4" name=""/>
                <p:cNvGrpSpPr/>
                <p:nvPr/>
              </p:nvGrpSpPr>
              <p:grpSpPr>
                <a:xfrm>
                  <a:off x="3981240" y="1526760"/>
                  <a:ext cx="2169720" cy="931680"/>
                  <a:chOff x="3981240" y="1526760"/>
                  <a:chExt cx="2169720" cy="931680"/>
                </a:xfrm>
              </p:grpSpPr>
              <p:sp>
                <p:nvSpPr>
                  <p:cNvPr id="3905" name=""/>
                  <p:cNvSpPr/>
                  <p:nvPr/>
                </p:nvSpPr>
                <p:spPr>
                  <a:xfrm flipV="1">
                    <a:off x="3981240" y="1695960"/>
                    <a:ext cx="0" cy="76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6" name=""/>
                  <p:cNvSpPr/>
                  <p:nvPr/>
                </p:nvSpPr>
                <p:spPr>
                  <a:xfrm flipV="1">
                    <a:off x="3981240" y="1526760"/>
                    <a:ext cx="1084680" cy="169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7" name=""/>
                  <p:cNvSpPr/>
                  <p:nvPr/>
                </p:nvSpPr>
                <p:spPr>
                  <a:xfrm flipV="1">
                    <a:off x="6150960" y="1695960"/>
                    <a:ext cx="0" cy="762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8" name=""/>
                  <p:cNvSpPr/>
                  <p:nvPr/>
                </p:nvSpPr>
                <p:spPr>
                  <a:xfrm flipH="1" flipV="1">
                    <a:off x="5065920" y="1526760"/>
                    <a:ext cx="1085040" cy="169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909" name=""/>
            <p:cNvGrpSpPr/>
            <p:nvPr/>
          </p:nvGrpSpPr>
          <p:grpSpPr>
            <a:xfrm>
              <a:off x="2953440" y="1321560"/>
              <a:ext cx="3400920" cy="1397880"/>
              <a:chOff x="2953440" y="1321560"/>
              <a:chExt cx="3400920" cy="1397880"/>
            </a:xfrm>
          </p:grpSpPr>
          <p:grpSp>
            <p:nvGrpSpPr>
              <p:cNvPr id="3910" name=""/>
              <p:cNvGrpSpPr/>
              <p:nvPr/>
            </p:nvGrpSpPr>
            <p:grpSpPr>
              <a:xfrm>
                <a:off x="3981600" y="1321560"/>
                <a:ext cx="2372760" cy="372960"/>
                <a:chOff x="3981600" y="1321560"/>
                <a:chExt cx="2372760" cy="372960"/>
              </a:xfrm>
            </p:grpSpPr>
            <p:sp>
              <p:nvSpPr>
                <p:cNvPr id="3911" name=""/>
                <p:cNvSpPr/>
                <p:nvPr/>
              </p:nvSpPr>
              <p:spPr>
                <a:xfrm flipV="1">
                  <a:off x="6153840" y="148644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 flipV="1">
                  <a:off x="5068080" y="1321560"/>
                  <a:ext cx="203400" cy="204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3" name=""/>
                <p:cNvSpPr/>
                <p:nvPr/>
              </p:nvSpPr>
              <p:spPr>
                <a:xfrm flipV="1">
                  <a:off x="5442840" y="137916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4" name=""/>
                <p:cNvSpPr/>
                <p:nvPr/>
              </p:nvSpPr>
              <p:spPr>
                <a:xfrm flipV="1">
                  <a:off x="3981960" y="1489320"/>
                  <a:ext cx="20520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5" name=""/>
                <p:cNvSpPr/>
                <p:nvPr/>
              </p:nvSpPr>
              <p:spPr>
                <a:xfrm flipV="1">
                  <a:off x="4343760" y="1434240"/>
                  <a:ext cx="20052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6" name=""/>
                <p:cNvSpPr/>
                <p:nvPr/>
              </p:nvSpPr>
              <p:spPr>
                <a:xfrm flipV="1">
                  <a:off x="4692240" y="1380960"/>
                  <a:ext cx="200880" cy="201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17" name=""/>
                <p:cNvGrpSpPr/>
                <p:nvPr/>
              </p:nvGrpSpPr>
              <p:grpSpPr>
                <a:xfrm>
                  <a:off x="3981600" y="1321920"/>
                  <a:ext cx="2370600" cy="372600"/>
                  <a:chOff x="3981600" y="1321920"/>
                  <a:chExt cx="2370600" cy="372600"/>
                </a:xfrm>
              </p:grpSpPr>
              <p:sp>
                <p:nvSpPr>
                  <p:cNvPr id="3918" name=""/>
                  <p:cNvSpPr/>
                  <p:nvPr/>
                </p:nvSpPr>
                <p:spPr>
                  <a:xfrm flipH="1" flipV="1">
                    <a:off x="5270040" y="1321920"/>
                    <a:ext cx="16848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9" name=""/>
                  <p:cNvSpPr/>
                  <p:nvPr/>
                </p:nvSpPr>
                <p:spPr>
                  <a:xfrm flipH="1">
                    <a:off x="4691880" y="1321920"/>
                    <a:ext cx="577440" cy="261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0" name=""/>
                  <p:cNvSpPr/>
                  <p:nvPr/>
                </p:nvSpPr>
                <p:spPr>
                  <a:xfrm flipH="1" flipV="1">
                    <a:off x="6006960" y="1433880"/>
                    <a:ext cx="1425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1" name=""/>
                  <p:cNvSpPr/>
                  <p:nvPr/>
                </p:nvSpPr>
                <p:spPr>
                  <a:xfrm flipV="1">
                    <a:off x="5798880" y="1487160"/>
                    <a:ext cx="553320" cy="151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2" name=""/>
                  <p:cNvSpPr/>
                  <p:nvPr/>
                </p:nvSpPr>
                <p:spPr>
                  <a:xfrm flipH="1" flipV="1">
                    <a:off x="5645520" y="1379520"/>
                    <a:ext cx="153360" cy="260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3" name=""/>
                  <p:cNvSpPr/>
                  <p:nvPr/>
                </p:nvSpPr>
                <p:spPr>
                  <a:xfrm flipH="1">
                    <a:off x="5440320" y="1432440"/>
                    <a:ext cx="567000" cy="15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4" name=""/>
                  <p:cNvSpPr/>
                  <p:nvPr/>
                </p:nvSpPr>
                <p:spPr>
                  <a:xfrm flipH="1">
                    <a:off x="5069880" y="1377000"/>
                    <a:ext cx="575280" cy="147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5" name=""/>
                  <p:cNvSpPr/>
                  <p:nvPr/>
                </p:nvSpPr>
                <p:spPr>
                  <a:xfrm flipH="1" flipV="1">
                    <a:off x="4893480" y="1381320"/>
                    <a:ext cx="180720" cy="1479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6" name=""/>
                  <p:cNvSpPr/>
                  <p:nvPr/>
                </p:nvSpPr>
                <p:spPr>
                  <a:xfrm flipH="1" flipV="1">
                    <a:off x="4547160" y="1432080"/>
                    <a:ext cx="149400" cy="153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7" name=""/>
                  <p:cNvSpPr/>
                  <p:nvPr/>
                </p:nvSpPr>
                <p:spPr>
                  <a:xfrm flipH="1">
                    <a:off x="4341240" y="1382400"/>
                    <a:ext cx="552600" cy="25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 flipH="1" flipV="1">
                    <a:off x="4188600" y="1490040"/>
                    <a:ext cx="151560" cy="1483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9" name=""/>
                  <p:cNvSpPr/>
                  <p:nvPr/>
                </p:nvSpPr>
                <p:spPr>
                  <a:xfrm flipH="1">
                    <a:off x="3981600" y="1433160"/>
                    <a:ext cx="565560" cy="2595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0" name=""/>
                  <p:cNvSpPr/>
                  <p:nvPr/>
                </p:nvSpPr>
                <p:spPr>
                  <a:xfrm flipV="1">
                    <a:off x="4189320" y="1323000"/>
                    <a:ext cx="1080000" cy="163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1" name=""/>
                  <p:cNvSpPr/>
                  <p:nvPr/>
                </p:nvSpPr>
                <p:spPr>
                  <a:xfrm flipV="1">
                    <a:off x="3992040" y="1524600"/>
                    <a:ext cx="1078560" cy="16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2" name=""/>
                  <p:cNvSpPr/>
                  <p:nvPr/>
                </p:nvSpPr>
                <p:spPr>
                  <a:xfrm>
                    <a:off x="5068800" y="1524240"/>
                    <a:ext cx="1081800" cy="170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3" name=""/>
                  <p:cNvSpPr/>
                  <p:nvPr/>
                </p:nvSpPr>
                <p:spPr>
                  <a:xfrm>
                    <a:off x="5274000" y="1321920"/>
                    <a:ext cx="1073520" cy="164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34" name=""/>
                <p:cNvSpPr/>
                <p:nvPr/>
              </p:nvSpPr>
              <p:spPr>
                <a:xfrm flipV="1">
                  <a:off x="5799600" y="1433520"/>
                  <a:ext cx="205920" cy="206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5" name=""/>
              <p:cNvGrpSpPr/>
              <p:nvPr/>
            </p:nvGrpSpPr>
            <p:grpSpPr>
              <a:xfrm>
                <a:off x="2953440" y="2346120"/>
                <a:ext cx="2373840" cy="373320"/>
                <a:chOff x="2953440" y="2346120"/>
                <a:chExt cx="2373840" cy="373320"/>
              </a:xfrm>
            </p:grpSpPr>
            <p:sp>
              <p:nvSpPr>
                <p:cNvPr id="3936" name=""/>
                <p:cNvSpPr/>
                <p:nvPr/>
              </p:nvSpPr>
              <p:spPr>
                <a:xfrm flipV="1">
                  <a:off x="5123160" y="2513520"/>
                  <a:ext cx="203400" cy="203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7" name=""/>
                <p:cNvSpPr/>
                <p:nvPr/>
              </p:nvSpPr>
              <p:spPr>
                <a:xfrm flipV="1">
                  <a:off x="4416840" y="2404440"/>
                  <a:ext cx="202320" cy="202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8" name=""/>
                <p:cNvSpPr/>
                <p:nvPr/>
              </p:nvSpPr>
              <p:spPr>
                <a:xfrm flipV="1">
                  <a:off x="4039920" y="2349000"/>
                  <a:ext cx="199800" cy="199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9" name=""/>
                <p:cNvSpPr/>
                <p:nvPr/>
              </p:nvSpPr>
              <p:spPr>
                <a:xfrm>
                  <a:off x="4038120" y="2549160"/>
                  <a:ext cx="1085040" cy="170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0" name=""/>
                <p:cNvSpPr/>
                <p:nvPr/>
              </p:nvSpPr>
              <p:spPr>
                <a:xfrm flipH="1" flipV="1">
                  <a:off x="4242960" y="2347200"/>
                  <a:ext cx="169200" cy="261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1" name=""/>
                <p:cNvSpPr/>
                <p:nvPr/>
              </p:nvSpPr>
              <p:spPr>
                <a:xfrm flipH="1" flipV="1">
                  <a:off x="4980240" y="2460600"/>
                  <a:ext cx="144360" cy="25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2" name=""/>
                <p:cNvSpPr/>
                <p:nvPr/>
              </p:nvSpPr>
              <p:spPr>
                <a:xfrm flipV="1">
                  <a:off x="4776120" y="2513520"/>
                  <a:ext cx="547560" cy="150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3" name=""/>
                <p:cNvSpPr/>
                <p:nvPr/>
              </p:nvSpPr>
              <p:spPr>
                <a:xfrm flipH="1" flipV="1">
                  <a:off x="4619880" y="2405520"/>
                  <a:ext cx="15696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4" name=""/>
                <p:cNvSpPr/>
                <p:nvPr/>
              </p:nvSpPr>
              <p:spPr>
                <a:xfrm flipH="1">
                  <a:off x="4412160" y="2459880"/>
                  <a:ext cx="567000" cy="149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5" name=""/>
                <p:cNvSpPr/>
                <p:nvPr/>
              </p:nvSpPr>
              <p:spPr>
                <a:xfrm flipH="1">
                  <a:off x="4038840" y="2404440"/>
                  <a:ext cx="581400" cy="14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6" name=""/>
                <p:cNvSpPr/>
                <p:nvPr/>
              </p:nvSpPr>
              <p:spPr>
                <a:xfrm>
                  <a:off x="4245840" y="2346480"/>
                  <a:ext cx="1081440" cy="167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7" name=""/>
                <p:cNvSpPr/>
                <p:nvPr/>
              </p:nvSpPr>
              <p:spPr>
                <a:xfrm flipV="1">
                  <a:off x="4777200" y="2459880"/>
                  <a:ext cx="202320" cy="20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8" name=""/>
                <p:cNvSpPr/>
                <p:nvPr/>
              </p:nvSpPr>
              <p:spPr>
                <a:xfrm flipV="1">
                  <a:off x="3666240" y="2401920"/>
                  <a:ext cx="202320" cy="204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9" name=""/>
                <p:cNvSpPr/>
                <p:nvPr/>
              </p:nvSpPr>
              <p:spPr>
                <a:xfrm flipV="1">
                  <a:off x="3317760" y="2455200"/>
                  <a:ext cx="204120" cy="20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0" name=""/>
                <p:cNvSpPr/>
                <p:nvPr/>
              </p:nvSpPr>
              <p:spPr>
                <a:xfrm flipV="1">
                  <a:off x="2959560" y="2549160"/>
                  <a:ext cx="1078200" cy="168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1" name=""/>
                <p:cNvSpPr/>
                <p:nvPr/>
              </p:nvSpPr>
              <p:spPr>
                <a:xfrm flipV="1">
                  <a:off x="3159360" y="2346120"/>
                  <a:ext cx="1089000" cy="165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2" name=""/>
                <p:cNvSpPr/>
                <p:nvPr/>
              </p:nvSpPr>
              <p:spPr>
                <a:xfrm flipH="1">
                  <a:off x="3664440" y="2346120"/>
                  <a:ext cx="57996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3" name=""/>
                <p:cNvSpPr/>
                <p:nvPr/>
              </p:nvSpPr>
              <p:spPr>
                <a:xfrm flipH="1" flipV="1">
                  <a:off x="3867480" y="2404440"/>
                  <a:ext cx="169920" cy="144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4" name=""/>
                <p:cNvSpPr/>
                <p:nvPr/>
              </p:nvSpPr>
              <p:spPr>
                <a:xfrm flipH="1" flipV="1">
                  <a:off x="3520440" y="2455560"/>
                  <a:ext cx="144000" cy="15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5" name=""/>
                <p:cNvSpPr/>
                <p:nvPr/>
              </p:nvSpPr>
              <p:spPr>
                <a:xfrm flipH="1">
                  <a:off x="3319200" y="2407320"/>
                  <a:ext cx="543600" cy="254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6" name=""/>
                <p:cNvSpPr/>
                <p:nvPr/>
              </p:nvSpPr>
              <p:spPr>
                <a:xfrm flipH="1" flipV="1">
                  <a:off x="3159720" y="2512440"/>
                  <a:ext cx="155880" cy="14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7" name=""/>
                <p:cNvSpPr/>
                <p:nvPr/>
              </p:nvSpPr>
              <p:spPr>
                <a:xfrm flipH="1">
                  <a:off x="2955240" y="2457360"/>
                  <a:ext cx="562680" cy="261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 flipV="1">
                  <a:off x="2953440" y="2513160"/>
                  <a:ext cx="205920" cy="20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9" name=""/>
            <p:cNvGrpSpPr/>
            <p:nvPr/>
          </p:nvGrpSpPr>
          <p:grpSpPr>
            <a:xfrm>
              <a:off x="2958120" y="1487520"/>
              <a:ext cx="3395160" cy="1229760"/>
              <a:chOff x="2958120" y="1487520"/>
              <a:chExt cx="3395160" cy="1229760"/>
            </a:xfrm>
          </p:grpSpPr>
          <p:sp>
            <p:nvSpPr>
              <p:cNvPr id="3960" name=""/>
              <p:cNvSpPr/>
              <p:nvPr/>
            </p:nvSpPr>
            <p:spPr>
              <a:xfrm flipV="1">
                <a:off x="5122440" y="1487520"/>
                <a:ext cx="1230840" cy="122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1" name=""/>
              <p:cNvSpPr/>
              <p:nvPr/>
            </p:nvSpPr>
            <p:spPr>
              <a:xfrm flipV="1">
                <a:off x="2958120" y="1487520"/>
                <a:ext cx="1227240" cy="1229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2" name=""/>
            <p:cNvGrpSpPr/>
            <p:nvPr/>
          </p:nvGrpSpPr>
          <p:grpSpPr>
            <a:xfrm>
              <a:off x="3113640" y="1350000"/>
              <a:ext cx="3066120" cy="1346400"/>
              <a:chOff x="3113640" y="1350000"/>
              <a:chExt cx="3066120" cy="1346400"/>
            </a:xfrm>
          </p:grpSpPr>
          <p:sp>
            <p:nvSpPr>
              <p:cNvPr id="3963" name=""/>
              <p:cNvSpPr/>
              <p:nvPr/>
            </p:nvSpPr>
            <p:spPr>
              <a:xfrm flipV="1">
                <a:off x="4232520" y="1350000"/>
                <a:ext cx="1223640" cy="1229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 flipV="1">
                <a:off x="4417920" y="1377720"/>
                <a:ext cx="1227240" cy="123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 flipV="1">
                <a:off x="4779360" y="1436400"/>
                <a:ext cx="1221840" cy="1229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6" name=""/>
              <p:cNvSpPr/>
              <p:nvPr/>
            </p:nvSpPr>
            <p:spPr>
              <a:xfrm flipV="1">
                <a:off x="4948920" y="1463400"/>
                <a:ext cx="1230840" cy="123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 flipV="1">
                <a:off x="3113640" y="1461240"/>
                <a:ext cx="1255680" cy="123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 flipV="1">
                <a:off x="3318480" y="1434240"/>
                <a:ext cx="1226160" cy="12286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 flipV="1">
                <a:off x="3667680" y="1377000"/>
                <a:ext cx="1228680" cy="122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 flipV="1">
                <a:off x="3844440" y="1350000"/>
                <a:ext cx="1248120" cy="123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 flipV="1">
                <a:off x="3488040" y="1409400"/>
                <a:ext cx="1231920" cy="12290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 flipV="1">
                <a:off x="4596480" y="1404000"/>
                <a:ext cx="1227240" cy="12315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3" name=""/>
            <p:cNvGrpSpPr/>
            <p:nvPr/>
          </p:nvGrpSpPr>
          <p:grpSpPr>
            <a:xfrm>
              <a:off x="2957040" y="2718360"/>
              <a:ext cx="2169720" cy="758160"/>
              <a:chOff x="2957040" y="2718360"/>
              <a:chExt cx="2169720" cy="758160"/>
            </a:xfrm>
          </p:grpSpPr>
          <p:sp>
            <p:nvSpPr>
              <p:cNvPr id="3974" name=""/>
              <p:cNvSpPr/>
              <p:nvPr/>
            </p:nvSpPr>
            <p:spPr>
              <a:xfrm flipV="1">
                <a:off x="4418280" y="3475800"/>
                <a:ext cx="70704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 flipV="1">
                <a:off x="2957040" y="2718360"/>
                <a:ext cx="2169720" cy="2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2957040" y="2914560"/>
                <a:ext cx="21693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4416480" y="3292920"/>
                <a:ext cx="70920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 flipV="1">
                <a:off x="2957040" y="3117600"/>
                <a:ext cx="7099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9" name=""/>
              <p:cNvSpPr/>
              <p:nvPr/>
            </p:nvSpPr>
            <p:spPr>
              <a:xfrm>
                <a:off x="4418280" y="3112200"/>
                <a:ext cx="7084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2957760" y="3295440"/>
                <a:ext cx="708120" cy="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2958480" y="3474720"/>
                <a:ext cx="706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2" name=""/>
            <p:cNvGrpSpPr/>
            <p:nvPr/>
          </p:nvGrpSpPr>
          <p:grpSpPr>
            <a:xfrm>
              <a:off x="5125680" y="1697400"/>
              <a:ext cx="1228680" cy="1776600"/>
              <a:chOff x="5125680" y="1697400"/>
              <a:chExt cx="1228680" cy="1776600"/>
            </a:xfrm>
          </p:grpSpPr>
          <p:sp>
            <p:nvSpPr>
              <p:cNvPr id="3983" name=""/>
              <p:cNvSpPr/>
              <p:nvPr/>
            </p:nvSpPr>
            <p:spPr>
              <a:xfrm flipV="1">
                <a:off x="5125680" y="2254680"/>
                <a:ext cx="1228680" cy="1219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4" name=""/>
              <p:cNvSpPr/>
              <p:nvPr/>
            </p:nvSpPr>
            <p:spPr>
              <a:xfrm flipV="1">
                <a:off x="5128200" y="1697400"/>
                <a:ext cx="1225080" cy="1217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5" name=""/>
              <p:cNvSpPr/>
              <p:nvPr/>
            </p:nvSpPr>
            <p:spPr>
              <a:xfrm flipV="1">
                <a:off x="5127120" y="1900800"/>
                <a:ext cx="1226160" cy="1210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 flipV="1">
                <a:off x="5126400" y="2063160"/>
                <a:ext cx="1226880" cy="12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7" name=""/>
            <p:cNvSpPr/>
            <p:nvPr/>
          </p:nvSpPr>
          <p:spPr>
            <a:xfrm flipV="1">
              <a:off x="2957040" y="2549880"/>
              <a:ext cx="1084320" cy="168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 flipH="1" flipV="1">
              <a:off x="4043520" y="2550960"/>
              <a:ext cx="1085040" cy="168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 flipV="1">
              <a:off x="2956320" y="271548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 flipV="1">
              <a:off x="5125680" y="271548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 flipV="1">
              <a:off x="6352920" y="1485360"/>
              <a:ext cx="0" cy="753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 flipV="1">
              <a:off x="4188960" y="1320840"/>
              <a:ext cx="1083960" cy="167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 flipH="1" flipV="1">
              <a:off x="5273280" y="1320840"/>
              <a:ext cx="1084320" cy="167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4" name=""/>
          <p:cNvSpPr/>
          <p:nvPr/>
        </p:nvSpPr>
        <p:spPr>
          <a:xfrm>
            <a:off x="7929720" y="478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7956720" y="484992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7016760" y="561024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7045200" y="5675400"/>
            <a:ext cx="693720" cy="215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217440" y="527040"/>
            <a:ext cx="8753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rnant les pannes courant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">
            <a:hlinkClick r:id="" action="ppaction://hlinkshowjump?jump=endshow"/>
          </p:cNvPr>
          <p:cNvSpPr/>
          <p:nvPr/>
        </p:nvSpPr>
        <p:spPr>
          <a:xfrm>
            <a:off x="518652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0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1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2" name=""/>
          <p:cNvSpPr/>
          <p:nvPr/>
        </p:nvSpPr>
        <p:spPr>
          <a:xfrm>
            <a:off x="5557680" y="6219720"/>
            <a:ext cx="10893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cc99"/>
                </a:solidFill>
                <a:latin typeface="Arial"/>
              </a:rPr>
              <a:t>Arrêt de Steel</a:t>
            </a:r>
            <a:r>
              <a:rPr b="1" lang="fr-FR" sz="1600" spc="-1" strike="noStrike" baseline="-25000">
                <a:solidFill>
                  <a:srgbClr val="00cc99"/>
                </a:solidFill>
                <a:latin typeface="Arial"/>
              </a:rPr>
              <a:t>C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3" name=""/>
          <p:cNvSpPr/>
          <p:nvPr/>
        </p:nvSpPr>
        <p:spPr>
          <a:xfrm>
            <a:off x="3749760" y="6224760"/>
            <a:ext cx="133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Retour au menu géné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4" name=""/>
          <p:cNvSpPr/>
          <p:nvPr/>
        </p:nvSpPr>
        <p:spPr>
          <a:xfrm>
            <a:off x="339876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5" name=""/>
          <p:cNvSpPr/>
          <p:nvPr/>
        </p:nvSpPr>
        <p:spPr>
          <a:xfrm>
            <a:off x="1198440" y="5180040"/>
            <a:ext cx="70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 de ce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6" name="" descr=""/>
          <p:cNvPicPr/>
          <p:nvPr/>
        </p:nvPicPr>
        <p:blipFill>
          <a:blip r:embed="rId1"/>
          <a:stretch/>
        </p:blipFill>
        <p:spPr>
          <a:xfrm>
            <a:off x="2711520" y="536400"/>
            <a:ext cx="3984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7" name=""/>
          <p:cNvSpPr/>
          <p:nvPr/>
        </p:nvSpPr>
        <p:spPr>
          <a:xfrm>
            <a:off x="971640" y="1844640"/>
            <a:ext cx="70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crans d’appréciation ou d’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8" name=""/>
          <p:cNvSpPr/>
          <p:nvPr/>
        </p:nvSpPr>
        <p:spPr>
          <a:xfrm>
            <a:off x="434880" y="1197000"/>
            <a:ext cx="24274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9" name=""/>
          <p:cNvGrpSpPr/>
          <p:nvPr/>
        </p:nvGrpSpPr>
        <p:grpSpPr>
          <a:xfrm>
            <a:off x="3478320" y="958680"/>
            <a:ext cx="4600440" cy="5108760"/>
            <a:chOff x="3478320" y="958680"/>
            <a:chExt cx="4600440" cy="5108760"/>
          </a:xfrm>
        </p:grpSpPr>
        <p:grpSp>
          <p:nvGrpSpPr>
            <p:cNvPr id="4010" name=""/>
            <p:cNvGrpSpPr/>
            <p:nvPr/>
          </p:nvGrpSpPr>
          <p:grpSpPr>
            <a:xfrm>
              <a:off x="3478320" y="958680"/>
              <a:ext cx="2495520" cy="3073320"/>
              <a:chOff x="3478320" y="958680"/>
              <a:chExt cx="2495520" cy="3073320"/>
            </a:xfrm>
          </p:grpSpPr>
          <p:sp>
            <p:nvSpPr>
              <p:cNvPr id="4011" name=""/>
              <p:cNvSpPr/>
              <p:nvPr/>
            </p:nvSpPr>
            <p:spPr>
              <a:xfrm>
                <a:off x="3546720" y="1800000"/>
                <a:ext cx="2427120" cy="2232000"/>
              </a:xfrm>
              <a:custGeom>
                <a:avLst/>
                <a:gdLst/>
                <a:ahLst/>
                <a:rect l="l" t="t" r="r" b="b"/>
                <a:pathLst>
                  <a:path w="1529" h="1406">
                    <a:moveTo>
                      <a:pt x="1433" y="949"/>
                    </a:moveTo>
                    <a:lnTo>
                      <a:pt x="1338" y="673"/>
                    </a:lnTo>
                    <a:lnTo>
                      <a:pt x="1269" y="501"/>
                    </a:lnTo>
                    <a:lnTo>
                      <a:pt x="1132" y="267"/>
                    </a:lnTo>
                    <a:lnTo>
                      <a:pt x="1106" y="233"/>
                    </a:lnTo>
                    <a:lnTo>
                      <a:pt x="932" y="164"/>
                    </a:lnTo>
                    <a:lnTo>
                      <a:pt x="752" y="95"/>
                    </a:lnTo>
                    <a:lnTo>
                      <a:pt x="656" y="77"/>
                    </a:lnTo>
                    <a:lnTo>
                      <a:pt x="587" y="95"/>
                    </a:lnTo>
                    <a:lnTo>
                      <a:pt x="458" y="138"/>
                    </a:lnTo>
                    <a:lnTo>
                      <a:pt x="268" y="216"/>
                    </a:lnTo>
                    <a:lnTo>
                      <a:pt x="199" y="233"/>
                    </a:lnTo>
                    <a:lnTo>
                      <a:pt x="147" y="354"/>
                    </a:lnTo>
                    <a:lnTo>
                      <a:pt x="78" y="560"/>
                    </a:lnTo>
                    <a:lnTo>
                      <a:pt x="60" y="612"/>
                    </a:lnTo>
                    <a:lnTo>
                      <a:pt x="165" y="681"/>
                    </a:lnTo>
                    <a:lnTo>
                      <a:pt x="224" y="733"/>
                    </a:lnTo>
                    <a:lnTo>
                      <a:pt x="250" y="802"/>
                    </a:lnTo>
                    <a:lnTo>
                      <a:pt x="286" y="915"/>
                    </a:lnTo>
                    <a:lnTo>
                      <a:pt x="302" y="1044"/>
                    </a:lnTo>
                    <a:lnTo>
                      <a:pt x="345" y="1139"/>
                    </a:lnTo>
                    <a:lnTo>
                      <a:pt x="415" y="1156"/>
                    </a:lnTo>
                    <a:lnTo>
                      <a:pt x="510" y="1164"/>
                    </a:lnTo>
                    <a:lnTo>
                      <a:pt x="690" y="1208"/>
                    </a:lnTo>
                    <a:lnTo>
                      <a:pt x="803" y="1251"/>
                    </a:lnTo>
                    <a:lnTo>
                      <a:pt x="985" y="1285"/>
                    </a:lnTo>
                    <a:lnTo>
                      <a:pt x="1184" y="1311"/>
                    </a:lnTo>
                    <a:lnTo>
                      <a:pt x="1243" y="1329"/>
                    </a:lnTo>
                    <a:lnTo>
                      <a:pt x="1243" y="1380"/>
                    </a:lnTo>
                    <a:lnTo>
                      <a:pt x="1174" y="1406"/>
                    </a:lnTo>
                    <a:lnTo>
                      <a:pt x="1037" y="1363"/>
                    </a:lnTo>
                    <a:lnTo>
                      <a:pt x="855" y="1311"/>
                    </a:lnTo>
                    <a:lnTo>
                      <a:pt x="648" y="1260"/>
                    </a:lnTo>
                    <a:lnTo>
                      <a:pt x="484" y="1234"/>
                    </a:lnTo>
                    <a:lnTo>
                      <a:pt x="407" y="1216"/>
                    </a:lnTo>
                    <a:lnTo>
                      <a:pt x="294" y="1216"/>
                    </a:lnTo>
                    <a:lnTo>
                      <a:pt x="276" y="1190"/>
                    </a:lnTo>
                    <a:lnTo>
                      <a:pt x="242" y="1069"/>
                    </a:lnTo>
                    <a:lnTo>
                      <a:pt x="224" y="941"/>
                    </a:lnTo>
                    <a:lnTo>
                      <a:pt x="216" y="846"/>
                    </a:lnTo>
                    <a:lnTo>
                      <a:pt x="165" y="759"/>
                    </a:lnTo>
                    <a:lnTo>
                      <a:pt x="103" y="707"/>
                    </a:lnTo>
                    <a:lnTo>
                      <a:pt x="0" y="647"/>
                    </a:lnTo>
                    <a:lnTo>
                      <a:pt x="8" y="586"/>
                    </a:lnTo>
                    <a:lnTo>
                      <a:pt x="34" y="491"/>
                    </a:lnTo>
                    <a:lnTo>
                      <a:pt x="103" y="336"/>
                    </a:lnTo>
                    <a:lnTo>
                      <a:pt x="147" y="198"/>
                    </a:lnTo>
                    <a:lnTo>
                      <a:pt x="173" y="172"/>
                    </a:lnTo>
                    <a:lnTo>
                      <a:pt x="311" y="146"/>
                    </a:lnTo>
                    <a:lnTo>
                      <a:pt x="432" y="103"/>
                    </a:lnTo>
                    <a:lnTo>
                      <a:pt x="535" y="34"/>
                    </a:lnTo>
                    <a:lnTo>
                      <a:pt x="587" y="0"/>
                    </a:lnTo>
                    <a:lnTo>
                      <a:pt x="656" y="0"/>
                    </a:lnTo>
                    <a:lnTo>
                      <a:pt x="700" y="0"/>
                    </a:lnTo>
                    <a:lnTo>
                      <a:pt x="777" y="59"/>
                    </a:lnTo>
                    <a:lnTo>
                      <a:pt x="864" y="87"/>
                    </a:lnTo>
                    <a:lnTo>
                      <a:pt x="985" y="129"/>
                    </a:lnTo>
                    <a:lnTo>
                      <a:pt x="1140" y="172"/>
                    </a:lnTo>
                    <a:lnTo>
                      <a:pt x="1184" y="198"/>
                    </a:lnTo>
                    <a:lnTo>
                      <a:pt x="1217" y="259"/>
                    </a:lnTo>
                    <a:lnTo>
                      <a:pt x="1235" y="336"/>
                    </a:lnTo>
                    <a:lnTo>
                      <a:pt x="1295" y="440"/>
                    </a:lnTo>
                    <a:lnTo>
                      <a:pt x="1364" y="586"/>
                    </a:lnTo>
                    <a:lnTo>
                      <a:pt x="1416" y="681"/>
                    </a:lnTo>
                    <a:lnTo>
                      <a:pt x="1451" y="794"/>
                    </a:lnTo>
                    <a:lnTo>
                      <a:pt x="1503" y="897"/>
                    </a:lnTo>
                    <a:lnTo>
                      <a:pt x="1529" y="957"/>
                    </a:lnTo>
                    <a:lnTo>
                      <a:pt x="1485" y="1000"/>
                    </a:lnTo>
                    <a:lnTo>
                      <a:pt x="1433" y="94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3830760" y="2098440"/>
                <a:ext cx="2114640" cy="1852920"/>
              </a:xfrm>
              <a:custGeom>
                <a:avLst/>
                <a:gdLst/>
                <a:ahLst/>
                <a:rect l="l" t="t" r="r" b="b"/>
                <a:pathLst>
                  <a:path w="1332" h="1167">
                    <a:moveTo>
                      <a:pt x="398" y="699"/>
                    </a:moveTo>
                    <a:lnTo>
                      <a:pt x="406" y="614"/>
                    </a:lnTo>
                    <a:lnTo>
                      <a:pt x="381" y="519"/>
                    </a:lnTo>
                    <a:lnTo>
                      <a:pt x="337" y="424"/>
                    </a:lnTo>
                    <a:lnTo>
                      <a:pt x="311" y="355"/>
                    </a:lnTo>
                    <a:lnTo>
                      <a:pt x="286" y="285"/>
                    </a:lnTo>
                    <a:lnTo>
                      <a:pt x="190" y="216"/>
                    </a:lnTo>
                    <a:lnTo>
                      <a:pt x="103" y="157"/>
                    </a:lnTo>
                    <a:lnTo>
                      <a:pt x="34" y="95"/>
                    </a:lnTo>
                    <a:lnTo>
                      <a:pt x="0" y="34"/>
                    </a:lnTo>
                    <a:lnTo>
                      <a:pt x="34" y="0"/>
                    </a:lnTo>
                    <a:lnTo>
                      <a:pt x="70" y="52"/>
                    </a:lnTo>
                    <a:lnTo>
                      <a:pt x="129" y="113"/>
                    </a:lnTo>
                    <a:lnTo>
                      <a:pt x="199" y="173"/>
                    </a:lnTo>
                    <a:lnTo>
                      <a:pt x="278" y="208"/>
                    </a:lnTo>
                    <a:lnTo>
                      <a:pt x="355" y="252"/>
                    </a:lnTo>
                    <a:lnTo>
                      <a:pt x="373" y="293"/>
                    </a:lnTo>
                    <a:lnTo>
                      <a:pt x="381" y="363"/>
                    </a:lnTo>
                    <a:lnTo>
                      <a:pt x="406" y="432"/>
                    </a:lnTo>
                    <a:lnTo>
                      <a:pt x="442" y="509"/>
                    </a:lnTo>
                    <a:lnTo>
                      <a:pt x="458" y="588"/>
                    </a:lnTo>
                    <a:lnTo>
                      <a:pt x="484" y="658"/>
                    </a:lnTo>
                    <a:lnTo>
                      <a:pt x="614" y="674"/>
                    </a:lnTo>
                    <a:lnTo>
                      <a:pt x="830" y="683"/>
                    </a:lnTo>
                    <a:lnTo>
                      <a:pt x="926" y="683"/>
                    </a:lnTo>
                    <a:lnTo>
                      <a:pt x="1080" y="709"/>
                    </a:lnTo>
                    <a:lnTo>
                      <a:pt x="1203" y="753"/>
                    </a:lnTo>
                    <a:lnTo>
                      <a:pt x="1332" y="778"/>
                    </a:lnTo>
                    <a:lnTo>
                      <a:pt x="1324" y="820"/>
                    </a:lnTo>
                    <a:lnTo>
                      <a:pt x="1262" y="890"/>
                    </a:lnTo>
                    <a:lnTo>
                      <a:pt x="1150" y="915"/>
                    </a:lnTo>
                    <a:lnTo>
                      <a:pt x="1098" y="925"/>
                    </a:lnTo>
                    <a:lnTo>
                      <a:pt x="1064" y="994"/>
                    </a:lnTo>
                    <a:lnTo>
                      <a:pt x="1046" y="1046"/>
                    </a:lnTo>
                    <a:lnTo>
                      <a:pt x="1055" y="1159"/>
                    </a:lnTo>
                    <a:lnTo>
                      <a:pt x="1003" y="1167"/>
                    </a:lnTo>
                    <a:lnTo>
                      <a:pt x="1003" y="1063"/>
                    </a:lnTo>
                    <a:lnTo>
                      <a:pt x="1003" y="985"/>
                    </a:lnTo>
                    <a:lnTo>
                      <a:pt x="1029" y="907"/>
                    </a:lnTo>
                    <a:lnTo>
                      <a:pt x="1080" y="848"/>
                    </a:lnTo>
                    <a:lnTo>
                      <a:pt x="1142" y="848"/>
                    </a:lnTo>
                    <a:lnTo>
                      <a:pt x="1211" y="830"/>
                    </a:lnTo>
                    <a:lnTo>
                      <a:pt x="1142" y="786"/>
                    </a:lnTo>
                    <a:lnTo>
                      <a:pt x="985" y="743"/>
                    </a:lnTo>
                    <a:lnTo>
                      <a:pt x="848" y="743"/>
                    </a:lnTo>
                    <a:lnTo>
                      <a:pt x="684" y="735"/>
                    </a:lnTo>
                    <a:lnTo>
                      <a:pt x="553" y="717"/>
                    </a:lnTo>
                    <a:lnTo>
                      <a:pt x="484" y="735"/>
                    </a:lnTo>
                    <a:lnTo>
                      <a:pt x="381" y="838"/>
                    </a:lnTo>
                    <a:lnTo>
                      <a:pt x="294" y="943"/>
                    </a:lnTo>
                    <a:lnTo>
                      <a:pt x="242" y="1002"/>
                    </a:lnTo>
                    <a:lnTo>
                      <a:pt x="139" y="994"/>
                    </a:lnTo>
                    <a:lnTo>
                      <a:pt x="216" y="925"/>
                    </a:lnTo>
                    <a:lnTo>
                      <a:pt x="294" y="856"/>
                    </a:lnTo>
                    <a:lnTo>
                      <a:pt x="398" y="69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4988160" y="2124000"/>
                <a:ext cx="317520" cy="550800"/>
              </a:xfrm>
              <a:custGeom>
                <a:avLst/>
                <a:gdLst/>
                <a:ahLst/>
                <a:rect l="l" t="t" r="r" b="b"/>
                <a:pathLst>
                  <a:path w="200" h="347">
                    <a:moveTo>
                      <a:pt x="200" y="0"/>
                    </a:moveTo>
                    <a:lnTo>
                      <a:pt x="82" y="10"/>
                    </a:lnTo>
                    <a:lnTo>
                      <a:pt x="27" y="63"/>
                    </a:lnTo>
                    <a:lnTo>
                      <a:pt x="27" y="116"/>
                    </a:lnTo>
                    <a:lnTo>
                      <a:pt x="63" y="187"/>
                    </a:lnTo>
                    <a:lnTo>
                      <a:pt x="82" y="240"/>
                    </a:lnTo>
                    <a:lnTo>
                      <a:pt x="45" y="284"/>
                    </a:lnTo>
                    <a:lnTo>
                      <a:pt x="0" y="294"/>
                    </a:lnTo>
                    <a:lnTo>
                      <a:pt x="10" y="347"/>
                    </a:lnTo>
                    <a:lnTo>
                      <a:pt x="63" y="337"/>
                    </a:lnTo>
                    <a:lnTo>
                      <a:pt x="109" y="302"/>
                    </a:lnTo>
                    <a:lnTo>
                      <a:pt x="145" y="231"/>
                    </a:lnTo>
                    <a:lnTo>
                      <a:pt x="127" y="170"/>
                    </a:lnTo>
                    <a:lnTo>
                      <a:pt x="90" y="116"/>
                    </a:lnTo>
                    <a:lnTo>
                      <a:pt x="90" y="71"/>
                    </a:lnTo>
                    <a:lnTo>
                      <a:pt x="145" y="45"/>
                    </a:lnTo>
                    <a:lnTo>
                      <a:pt x="200" y="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3708360" y="2357280"/>
                <a:ext cx="590760" cy="739800"/>
              </a:xfrm>
              <a:custGeom>
                <a:avLst/>
                <a:gdLst/>
                <a:ahLst/>
                <a:rect l="l" t="t" r="r" b="b"/>
                <a:pathLst>
                  <a:path w="372" h="466">
                    <a:moveTo>
                      <a:pt x="18" y="0"/>
                    </a:moveTo>
                    <a:lnTo>
                      <a:pt x="80" y="61"/>
                    </a:lnTo>
                    <a:lnTo>
                      <a:pt x="177" y="114"/>
                    </a:lnTo>
                    <a:lnTo>
                      <a:pt x="248" y="158"/>
                    </a:lnTo>
                    <a:lnTo>
                      <a:pt x="301" y="185"/>
                    </a:lnTo>
                    <a:lnTo>
                      <a:pt x="311" y="246"/>
                    </a:lnTo>
                    <a:lnTo>
                      <a:pt x="311" y="316"/>
                    </a:lnTo>
                    <a:lnTo>
                      <a:pt x="319" y="361"/>
                    </a:lnTo>
                    <a:lnTo>
                      <a:pt x="372" y="404"/>
                    </a:lnTo>
                    <a:lnTo>
                      <a:pt x="372" y="466"/>
                    </a:lnTo>
                    <a:lnTo>
                      <a:pt x="301" y="466"/>
                    </a:lnTo>
                    <a:lnTo>
                      <a:pt x="266" y="404"/>
                    </a:lnTo>
                    <a:lnTo>
                      <a:pt x="258" y="333"/>
                    </a:lnTo>
                    <a:lnTo>
                      <a:pt x="258" y="254"/>
                    </a:lnTo>
                    <a:lnTo>
                      <a:pt x="248" y="219"/>
                    </a:lnTo>
                    <a:lnTo>
                      <a:pt x="169" y="176"/>
                    </a:lnTo>
                    <a:lnTo>
                      <a:pt x="71" y="122"/>
                    </a:lnTo>
                    <a:lnTo>
                      <a:pt x="18" y="89"/>
                    </a:lnTo>
                    <a:lnTo>
                      <a:pt x="0" y="61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5218200" y="3429000"/>
                <a:ext cx="168120" cy="331560"/>
              </a:xfrm>
              <a:custGeom>
                <a:avLst/>
                <a:gdLst/>
                <a:ahLst/>
                <a:rect l="l" t="t" r="r" b="b"/>
                <a:pathLst>
                  <a:path w="106" h="209">
                    <a:moveTo>
                      <a:pt x="106" y="0"/>
                    </a:moveTo>
                    <a:lnTo>
                      <a:pt x="77" y="55"/>
                    </a:lnTo>
                    <a:lnTo>
                      <a:pt x="58" y="137"/>
                    </a:lnTo>
                    <a:lnTo>
                      <a:pt x="58" y="209"/>
                    </a:lnTo>
                    <a:lnTo>
                      <a:pt x="0" y="137"/>
                    </a:lnTo>
                    <a:lnTo>
                      <a:pt x="19" y="82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3478320" y="958680"/>
                <a:ext cx="673200" cy="914400"/>
              </a:xfrm>
              <a:custGeom>
                <a:avLst/>
                <a:gdLst/>
                <a:ahLst/>
                <a:rect l="l" t="t" r="r" b="b"/>
                <a:pathLst>
                  <a:path w="424" h="576">
                    <a:moveTo>
                      <a:pt x="71" y="201"/>
                    </a:moveTo>
                    <a:lnTo>
                      <a:pt x="43" y="201"/>
                    </a:lnTo>
                    <a:lnTo>
                      <a:pt x="18" y="201"/>
                    </a:lnTo>
                    <a:lnTo>
                      <a:pt x="8" y="174"/>
                    </a:lnTo>
                    <a:lnTo>
                      <a:pt x="0" y="148"/>
                    </a:lnTo>
                    <a:lnTo>
                      <a:pt x="0" y="122"/>
                    </a:lnTo>
                    <a:lnTo>
                      <a:pt x="0" y="96"/>
                    </a:lnTo>
                    <a:lnTo>
                      <a:pt x="0" y="69"/>
                    </a:lnTo>
                    <a:lnTo>
                      <a:pt x="0" y="43"/>
                    </a:lnTo>
                    <a:lnTo>
                      <a:pt x="26" y="26"/>
                    </a:lnTo>
                    <a:lnTo>
                      <a:pt x="35" y="0"/>
                    </a:lnTo>
                    <a:lnTo>
                      <a:pt x="61" y="0"/>
                    </a:lnTo>
                    <a:lnTo>
                      <a:pt x="88" y="8"/>
                    </a:lnTo>
                    <a:lnTo>
                      <a:pt x="79" y="35"/>
                    </a:lnTo>
                    <a:lnTo>
                      <a:pt x="53" y="43"/>
                    </a:lnTo>
                    <a:lnTo>
                      <a:pt x="35" y="69"/>
                    </a:lnTo>
                    <a:lnTo>
                      <a:pt x="35" y="96"/>
                    </a:lnTo>
                    <a:lnTo>
                      <a:pt x="35" y="122"/>
                    </a:lnTo>
                    <a:lnTo>
                      <a:pt x="53" y="148"/>
                    </a:lnTo>
                    <a:lnTo>
                      <a:pt x="79" y="158"/>
                    </a:lnTo>
                    <a:lnTo>
                      <a:pt x="106" y="158"/>
                    </a:lnTo>
                    <a:lnTo>
                      <a:pt x="132" y="158"/>
                    </a:lnTo>
                    <a:lnTo>
                      <a:pt x="159" y="148"/>
                    </a:lnTo>
                    <a:lnTo>
                      <a:pt x="185" y="130"/>
                    </a:lnTo>
                    <a:lnTo>
                      <a:pt x="203" y="104"/>
                    </a:lnTo>
                    <a:lnTo>
                      <a:pt x="177" y="96"/>
                    </a:lnTo>
                    <a:lnTo>
                      <a:pt x="150" y="96"/>
                    </a:lnTo>
                    <a:lnTo>
                      <a:pt x="124" y="262"/>
                    </a:lnTo>
                    <a:lnTo>
                      <a:pt x="124" y="296"/>
                    </a:lnTo>
                    <a:lnTo>
                      <a:pt x="142" y="324"/>
                    </a:lnTo>
                    <a:lnTo>
                      <a:pt x="167" y="341"/>
                    </a:lnTo>
                    <a:lnTo>
                      <a:pt x="195" y="357"/>
                    </a:lnTo>
                    <a:lnTo>
                      <a:pt x="229" y="349"/>
                    </a:lnTo>
                    <a:lnTo>
                      <a:pt x="256" y="341"/>
                    </a:lnTo>
                    <a:lnTo>
                      <a:pt x="274" y="314"/>
                    </a:lnTo>
                    <a:lnTo>
                      <a:pt x="246" y="306"/>
                    </a:lnTo>
                    <a:lnTo>
                      <a:pt x="221" y="324"/>
                    </a:lnTo>
                    <a:lnTo>
                      <a:pt x="221" y="349"/>
                    </a:lnTo>
                    <a:lnTo>
                      <a:pt x="229" y="375"/>
                    </a:lnTo>
                    <a:lnTo>
                      <a:pt x="229" y="403"/>
                    </a:lnTo>
                    <a:lnTo>
                      <a:pt x="229" y="428"/>
                    </a:lnTo>
                    <a:lnTo>
                      <a:pt x="246" y="454"/>
                    </a:lnTo>
                    <a:lnTo>
                      <a:pt x="274" y="472"/>
                    </a:lnTo>
                    <a:lnTo>
                      <a:pt x="300" y="490"/>
                    </a:lnTo>
                    <a:lnTo>
                      <a:pt x="327" y="507"/>
                    </a:lnTo>
                    <a:lnTo>
                      <a:pt x="353" y="523"/>
                    </a:lnTo>
                    <a:lnTo>
                      <a:pt x="380" y="523"/>
                    </a:lnTo>
                    <a:lnTo>
                      <a:pt x="406" y="533"/>
                    </a:lnTo>
                    <a:lnTo>
                      <a:pt x="424" y="559"/>
                    </a:lnTo>
                    <a:lnTo>
                      <a:pt x="398" y="576"/>
                    </a:lnTo>
                    <a:lnTo>
                      <a:pt x="371" y="576"/>
                    </a:lnTo>
                    <a:lnTo>
                      <a:pt x="345" y="576"/>
                    </a:lnTo>
                    <a:lnTo>
                      <a:pt x="317" y="576"/>
                    </a:lnTo>
                    <a:lnTo>
                      <a:pt x="282" y="559"/>
                    </a:lnTo>
                    <a:lnTo>
                      <a:pt x="256" y="551"/>
                    </a:lnTo>
                    <a:lnTo>
                      <a:pt x="246" y="523"/>
                    </a:lnTo>
                    <a:lnTo>
                      <a:pt x="221" y="515"/>
                    </a:lnTo>
                    <a:lnTo>
                      <a:pt x="213" y="490"/>
                    </a:lnTo>
                    <a:lnTo>
                      <a:pt x="177" y="480"/>
                    </a:lnTo>
                    <a:lnTo>
                      <a:pt x="177" y="454"/>
                    </a:lnTo>
                    <a:lnTo>
                      <a:pt x="159" y="428"/>
                    </a:lnTo>
                    <a:lnTo>
                      <a:pt x="159" y="403"/>
                    </a:lnTo>
                    <a:lnTo>
                      <a:pt x="159" y="375"/>
                    </a:lnTo>
                    <a:lnTo>
                      <a:pt x="159" y="349"/>
                    </a:lnTo>
                    <a:lnTo>
                      <a:pt x="167" y="324"/>
                    </a:lnTo>
                    <a:lnTo>
                      <a:pt x="195" y="296"/>
                    </a:lnTo>
                    <a:lnTo>
                      <a:pt x="213" y="270"/>
                    </a:lnTo>
                    <a:lnTo>
                      <a:pt x="238" y="270"/>
                    </a:lnTo>
                    <a:lnTo>
                      <a:pt x="264" y="270"/>
                    </a:lnTo>
                    <a:lnTo>
                      <a:pt x="292" y="270"/>
                    </a:lnTo>
                    <a:lnTo>
                      <a:pt x="317" y="280"/>
                    </a:lnTo>
                    <a:lnTo>
                      <a:pt x="327" y="306"/>
                    </a:lnTo>
                    <a:lnTo>
                      <a:pt x="327" y="332"/>
                    </a:lnTo>
                    <a:lnTo>
                      <a:pt x="317" y="357"/>
                    </a:lnTo>
                    <a:lnTo>
                      <a:pt x="292" y="367"/>
                    </a:lnTo>
                    <a:lnTo>
                      <a:pt x="264" y="367"/>
                    </a:lnTo>
                    <a:lnTo>
                      <a:pt x="238" y="367"/>
                    </a:lnTo>
                    <a:lnTo>
                      <a:pt x="213" y="367"/>
                    </a:lnTo>
                    <a:lnTo>
                      <a:pt x="185" y="367"/>
                    </a:lnTo>
                    <a:lnTo>
                      <a:pt x="159" y="367"/>
                    </a:lnTo>
                    <a:lnTo>
                      <a:pt x="132" y="349"/>
                    </a:lnTo>
                    <a:lnTo>
                      <a:pt x="106" y="341"/>
                    </a:lnTo>
                    <a:lnTo>
                      <a:pt x="96" y="314"/>
                    </a:lnTo>
                    <a:lnTo>
                      <a:pt x="71" y="288"/>
                    </a:lnTo>
                    <a:lnTo>
                      <a:pt x="71" y="262"/>
                    </a:lnTo>
                    <a:lnTo>
                      <a:pt x="71" y="235"/>
                    </a:lnTo>
                    <a:lnTo>
                      <a:pt x="71" y="209"/>
                    </a:lnTo>
                    <a:lnTo>
                      <a:pt x="71" y="183"/>
                    </a:lnTo>
                    <a:lnTo>
                      <a:pt x="96" y="166"/>
                    </a:lnTo>
                    <a:lnTo>
                      <a:pt x="96" y="140"/>
                    </a:lnTo>
                    <a:lnTo>
                      <a:pt x="114" y="114"/>
                    </a:lnTo>
                    <a:lnTo>
                      <a:pt x="132" y="87"/>
                    </a:lnTo>
                    <a:lnTo>
                      <a:pt x="159" y="69"/>
                    </a:lnTo>
                    <a:lnTo>
                      <a:pt x="185" y="61"/>
                    </a:lnTo>
                    <a:lnTo>
                      <a:pt x="213" y="61"/>
                    </a:lnTo>
                    <a:lnTo>
                      <a:pt x="238" y="61"/>
                    </a:lnTo>
                    <a:lnTo>
                      <a:pt x="264" y="69"/>
                    </a:lnTo>
                    <a:lnTo>
                      <a:pt x="264" y="96"/>
                    </a:lnTo>
                    <a:lnTo>
                      <a:pt x="264" y="122"/>
                    </a:lnTo>
                    <a:lnTo>
                      <a:pt x="264" y="148"/>
                    </a:lnTo>
                    <a:lnTo>
                      <a:pt x="246" y="174"/>
                    </a:lnTo>
                    <a:lnTo>
                      <a:pt x="221" y="183"/>
                    </a:lnTo>
                    <a:lnTo>
                      <a:pt x="195" y="191"/>
                    </a:lnTo>
                    <a:lnTo>
                      <a:pt x="167" y="191"/>
                    </a:lnTo>
                    <a:lnTo>
                      <a:pt x="142" y="191"/>
                    </a:lnTo>
                    <a:lnTo>
                      <a:pt x="114" y="191"/>
                    </a:lnTo>
                    <a:lnTo>
                      <a:pt x="88" y="191"/>
                    </a:lnTo>
                    <a:lnTo>
                      <a:pt x="61" y="209"/>
                    </a:lnTo>
                    <a:lnTo>
                      <a:pt x="35" y="209"/>
                    </a:lnTo>
                    <a:lnTo>
                      <a:pt x="8" y="183"/>
                    </a:lnTo>
                    <a:lnTo>
                      <a:pt x="8" y="148"/>
                    </a:lnTo>
                    <a:lnTo>
                      <a:pt x="71" y="20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4741920" y="1006560"/>
                <a:ext cx="455760" cy="841320"/>
              </a:xfrm>
              <a:custGeom>
                <a:avLst/>
                <a:gdLst/>
                <a:ahLst/>
                <a:rect l="l" t="t" r="r" b="b"/>
                <a:pathLst>
                  <a:path w="287" h="530">
                    <a:moveTo>
                      <a:pt x="144" y="477"/>
                    </a:moveTo>
                    <a:lnTo>
                      <a:pt x="131" y="477"/>
                    </a:lnTo>
                    <a:lnTo>
                      <a:pt x="103" y="477"/>
                    </a:lnTo>
                    <a:lnTo>
                      <a:pt x="90" y="460"/>
                    </a:lnTo>
                    <a:lnTo>
                      <a:pt x="73" y="447"/>
                    </a:lnTo>
                    <a:lnTo>
                      <a:pt x="50" y="439"/>
                    </a:lnTo>
                    <a:lnTo>
                      <a:pt x="50" y="408"/>
                    </a:lnTo>
                    <a:lnTo>
                      <a:pt x="50" y="373"/>
                    </a:lnTo>
                    <a:lnTo>
                      <a:pt x="63" y="352"/>
                    </a:lnTo>
                    <a:lnTo>
                      <a:pt x="73" y="324"/>
                    </a:lnTo>
                    <a:lnTo>
                      <a:pt x="86" y="298"/>
                    </a:lnTo>
                    <a:lnTo>
                      <a:pt x="94" y="273"/>
                    </a:lnTo>
                    <a:lnTo>
                      <a:pt x="113" y="255"/>
                    </a:lnTo>
                    <a:lnTo>
                      <a:pt x="131" y="232"/>
                    </a:lnTo>
                    <a:lnTo>
                      <a:pt x="153" y="242"/>
                    </a:lnTo>
                    <a:lnTo>
                      <a:pt x="179" y="245"/>
                    </a:lnTo>
                    <a:lnTo>
                      <a:pt x="194" y="255"/>
                    </a:lnTo>
                    <a:lnTo>
                      <a:pt x="189" y="276"/>
                    </a:lnTo>
                    <a:lnTo>
                      <a:pt x="166" y="298"/>
                    </a:lnTo>
                    <a:lnTo>
                      <a:pt x="148" y="289"/>
                    </a:lnTo>
                    <a:lnTo>
                      <a:pt x="126" y="281"/>
                    </a:lnTo>
                    <a:lnTo>
                      <a:pt x="131" y="255"/>
                    </a:lnTo>
                    <a:lnTo>
                      <a:pt x="134" y="228"/>
                    </a:lnTo>
                    <a:lnTo>
                      <a:pt x="134" y="197"/>
                    </a:lnTo>
                    <a:lnTo>
                      <a:pt x="144" y="166"/>
                    </a:lnTo>
                    <a:lnTo>
                      <a:pt x="153" y="141"/>
                    </a:lnTo>
                    <a:lnTo>
                      <a:pt x="179" y="128"/>
                    </a:lnTo>
                    <a:lnTo>
                      <a:pt x="197" y="105"/>
                    </a:lnTo>
                    <a:lnTo>
                      <a:pt x="219" y="115"/>
                    </a:lnTo>
                    <a:lnTo>
                      <a:pt x="242" y="102"/>
                    </a:lnTo>
                    <a:lnTo>
                      <a:pt x="256" y="128"/>
                    </a:lnTo>
                    <a:lnTo>
                      <a:pt x="247" y="153"/>
                    </a:lnTo>
                    <a:lnTo>
                      <a:pt x="224" y="176"/>
                    </a:lnTo>
                    <a:lnTo>
                      <a:pt x="206" y="176"/>
                    </a:lnTo>
                    <a:lnTo>
                      <a:pt x="184" y="166"/>
                    </a:lnTo>
                    <a:lnTo>
                      <a:pt x="161" y="158"/>
                    </a:lnTo>
                    <a:lnTo>
                      <a:pt x="156" y="132"/>
                    </a:lnTo>
                    <a:lnTo>
                      <a:pt x="156" y="110"/>
                    </a:lnTo>
                    <a:lnTo>
                      <a:pt x="171" y="84"/>
                    </a:lnTo>
                    <a:lnTo>
                      <a:pt x="179" y="57"/>
                    </a:lnTo>
                    <a:lnTo>
                      <a:pt x="202" y="31"/>
                    </a:lnTo>
                    <a:lnTo>
                      <a:pt x="219" y="18"/>
                    </a:lnTo>
                    <a:lnTo>
                      <a:pt x="202" y="8"/>
                    </a:lnTo>
                    <a:lnTo>
                      <a:pt x="179" y="0"/>
                    </a:lnTo>
                    <a:lnTo>
                      <a:pt x="171" y="23"/>
                    </a:lnTo>
                    <a:lnTo>
                      <a:pt x="156" y="57"/>
                    </a:lnTo>
                    <a:lnTo>
                      <a:pt x="139" y="79"/>
                    </a:lnTo>
                    <a:lnTo>
                      <a:pt x="131" y="105"/>
                    </a:lnTo>
                    <a:lnTo>
                      <a:pt x="139" y="128"/>
                    </a:lnTo>
                    <a:lnTo>
                      <a:pt x="131" y="153"/>
                    </a:lnTo>
                    <a:lnTo>
                      <a:pt x="144" y="176"/>
                    </a:lnTo>
                    <a:lnTo>
                      <a:pt x="161" y="184"/>
                    </a:lnTo>
                    <a:lnTo>
                      <a:pt x="184" y="194"/>
                    </a:lnTo>
                    <a:lnTo>
                      <a:pt x="202" y="197"/>
                    </a:lnTo>
                    <a:lnTo>
                      <a:pt x="219" y="207"/>
                    </a:lnTo>
                    <a:lnTo>
                      <a:pt x="237" y="189"/>
                    </a:lnTo>
                    <a:lnTo>
                      <a:pt x="264" y="179"/>
                    </a:lnTo>
                    <a:lnTo>
                      <a:pt x="274" y="158"/>
                    </a:lnTo>
                    <a:lnTo>
                      <a:pt x="287" y="132"/>
                    </a:lnTo>
                    <a:lnTo>
                      <a:pt x="282" y="97"/>
                    </a:lnTo>
                    <a:lnTo>
                      <a:pt x="264" y="84"/>
                    </a:lnTo>
                    <a:lnTo>
                      <a:pt x="256" y="66"/>
                    </a:lnTo>
                    <a:lnTo>
                      <a:pt x="234" y="57"/>
                    </a:lnTo>
                    <a:lnTo>
                      <a:pt x="211" y="79"/>
                    </a:lnTo>
                    <a:lnTo>
                      <a:pt x="184" y="87"/>
                    </a:lnTo>
                    <a:lnTo>
                      <a:pt x="166" y="110"/>
                    </a:lnTo>
                    <a:lnTo>
                      <a:pt x="139" y="128"/>
                    </a:lnTo>
                    <a:lnTo>
                      <a:pt x="113" y="145"/>
                    </a:lnTo>
                    <a:lnTo>
                      <a:pt x="98" y="166"/>
                    </a:lnTo>
                    <a:lnTo>
                      <a:pt x="90" y="197"/>
                    </a:lnTo>
                    <a:lnTo>
                      <a:pt x="103" y="215"/>
                    </a:lnTo>
                    <a:lnTo>
                      <a:pt x="98" y="242"/>
                    </a:lnTo>
                    <a:lnTo>
                      <a:pt x="103" y="273"/>
                    </a:lnTo>
                    <a:lnTo>
                      <a:pt x="103" y="298"/>
                    </a:lnTo>
                    <a:lnTo>
                      <a:pt x="116" y="329"/>
                    </a:lnTo>
                    <a:lnTo>
                      <a:pt x="134" y="347"/>
                    </a:lnTo>
                    <a:lnTo>
                      <a:pt x="148" y="355"/>
                    </a:lnTo>
                    <a:lnTo>
                      <a:pt x="171" y="360"/>
                    </a:lnTo>
                    <a:lnTo>
                      <a:pt x="197" y="347"/>
                    </a:lnTo>
                    <a:lnTo>
                      <a:pt x="211" y="324"/>
                    </a:lnTo>
                    <a:lnTo>
                      <a:pt x="234" y="306"/>
                    </a:lnTo>
                    <a:lnTo>
                      <a:pt x="242" y="281"/>
                    </a:lnTo>
                    <a:lnTo>
                      <a:pt x="252" y="258"/>
                    </a:lnTo>
                    <a:lnTo>
                      <a:pt x="237" y="242"/>
                    </a:lnTo>
                    <a:lnTo>
                      <a:pt x="229" y="211"/>
                    </a:lnTo>
                    <a:lnTo>
                      <a:pt x="206" y="202"/>
                    </a:lnTo>
                    <a:lnTo>
                      <a:pt x="189" y="194"/>
                    </a:lnTo>
                    <a:lnTo>
                      <a:pt x="161" y="194"/>
                    </a:lnTo>
                    <a:lnTo>
                      <a:pt x="134" y="211"/>
                    </a:lnTo>
                    <a:lnTo>
                      <a:pt x="113" y="219"/>
                    </a:lnTo>
                    <a:lnTo>
                      <a:pt x="81" y="224"/>
                    </a:lnTo>
                    <a:lnTo>
                      <a:pt x="63" y="245"/>
                    </a:lnTo>
                    <a:lnTo>
                      <a:pt x="36" y="258"/>
                    </a:lnTo>
                    <a:lnTo>
                      <a:pt x="28" y="289"/>
                    </a:lnTo>
                    <a:lnTo>
                      <a:pt x="13" y="311"/>
                    </a:lnTo>
                    <a:lnTo>
                      <a:pt x="5" y="337"/>
                    </a:lnTo>
                    <a:lnTo>
                      <a:pt x="5" y="364"/>
                    </a:lnTo>
                    <a:lnTo>
                      <a:pt x="0" y="395"/>
                    </a:lnTo>
                    <a:lnTo>
                      <a:pt x="10" y="421"/>
                    </a:lnTo>
                    <a:lnTo>
                      <a:pt x="10" y="451"/>
                    </a:lnTo>
                    <a:lnTo>
                      <a:pt x="23" y="469"/>
                    </a:lnTo>
                    <a:lnTo>
                      <a:pt x="36" y="487"/>
                    </a:lnTo>
                    <a:lnTo>
                      <a:pt x="58" y="495"/>
                    </a:lnTo>
                    <a:lnTo>
                      <a:pt x="76" y="505"/>
                    </a:lnTo>
                    <a:lnTo>
                      <a:pt x="94" y="522"/>
                    </a:lnTo>
                    <a:lnTo>
                      <a:pt x="113" y="530"/>
                    </a:lnTo>
                    <a:lnTo>
                      <a:pt x="144" y="47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8" name=""/>
            <p:cNvGrpSpPr/>
            <p:nvPr/>
          </p:nvGrpSpPr>
          <p:grpSpPr>
            <a:xfrm>
              <a:off x="5612040" y="2628720"/>
              <a:ext cx="2466720" cy="3438720"/>
              <a:chOff x="5612040" y="2628720"/>
              <a:chExt cx="2466720" cy="3438720"/>
            </a:xfrm>
          </p:grpSpPr>
          <p:sp>
            <p:nvSpPr>
              <p:cNvPr id="4019" name=""/>
              <p:cNvSpPr/>
              <p:nvPr/>
            </p:nvSpPr>
            <p:spPr>
              <a:xfrm>
                <a:off x="6794640" y="3564000"/>
                <a:ext cx="714240" cy="1145880"/>
              </a:xfrm>
              <a:custGeom>
                <a:avLst/>
                <a:gdLst/>
                <a:ahLst/>
                <a:rect l="l" t="t" r="r" b="b"/>
                <a:pathLst>
                  <a:path w="450" h="722">
                    <a:moveTo>
                      <a:pt x="142" y="174"/>
                    </a:moveTo>
                    <a:lnTo>
                      <a:pt x="142" y="70"/>
                    </a:lnTo>
                    <a:lnTo>
                      <a:pt x="150" y="26"/>
                    </a:lnTo>
                    <a:lnTo>
                      <a:pt x="203" y="0"/>
                    </a:lnTo>
                    <a:lnTo>
                      <a:pt x="308" y="18"/>
                    </a:lnTo>
                    <a:lnTo>
                      <a:pt x="388" y="79"/>
                    </a:lnTo>
                    <a:lnTo>
                      <a:pt x="432" y="192"/>
                    </a:lnTo>
                    <a:lnTo>
                      <a:pt x="450" y="331"/>
                    </a:lnTo>
                    <a:lnTo>
                      <a:pt x="424" y="479"/>
                    </a:lnTo>
                    <a:lnTo>
                      <a:pt x="397" y="592"/>
                    </a:lnTo>
                    <a:lnTo>
                      <a:pt x="308" y="661"/>
                    </a:lnTo>
                    <a:lnTo>
                      <a:pt x="229" y="696"/>
                    </a:lnTo>
                    <a:lnTo>
                      <a:pt x="114" y="722"/>
                    </a:lnTo>
                    <a:lnTo>
                      <a:pt x="35" y="704"/>
                    </a:lnTo>
                    <a:lnTo>
                      <a:pt x="8" y="661"/>
                    </a:lnTo>
                    <a:lnTo>
                      <a:pt x="0" y="600"/>
                    </a:lnTo>
                    <a:lnTo>
                      <a:pt x="18" y="505"/>
                    </a:lnTo>
                    <a:lnTo>
                      <a:pt x="79" y="453"/>
                    </a:lnTo>
                    <a:lnTo>
                      <a:pt x="132" y="410"/>
                    </a:lnTo>
                    <a:lnTo>
                      <a:pt x="158" y="366"/>
                    </a:lnTo>
                    <a:lnTo>
                      <a:pt x="158" y="313"/>
                    </a:lnTo>
                    <a:lnTo>
                      <a:pt x="142" y="17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7270920" y="3646440"/>
                <a:ext cx="807840" cy="1158840"/>
              </a:xfrm>
              <a:custGeom>
                <a:avLst/>
                <a:gdLst/>
                <a:ahLst/>
                <a:rect l="l" t="t" r="r" b="b"/>
                <a:pathLst>
                  <a:path w="509" h="730">
                    <a:moveTo>
                      <a:pt x="18" y="0"/>
                    </a:moveTo>
                    <a:lnTo>
                      <a:pt x="0" y="43"/>
                    </a:lnTo>
                    <a:lnTo>
                      <a:pt x="8" y="113"/>
                    </a:lnTo>
                    <a:lnTo>
                      <a:pt x="114" y="148"/>
                    </a:lnTo>
                    <a:lnTo>
                      <a:pt x="255" y="208"/>
                    </a:lnTo>
                    <a:lnTo>
                      <a:pt x="351" y="287"/>
                    </a:lnTo>
                    <a:lnTo>
                      <a:pt x="413" y="356"/>
                    </a:lnTo>
                    <a:lnTo>
                      <a:pt x="413" y="391"/>
                    </a:lnTo>
                    <a:lnTo>
                      <a:pt x="359" y="469"/>
                    </a:lnTo>
                    <a:lnTo>
                      <a:pt x="280" y="522"/>
                    </a:lnTo>
                    <a:lnTo>
                      <a:pt x="211" y="565"/>
                    </a:lnTo>
                    <a:lnTo>
                      <a:pt x="184" y="617"/>
                    </a:lnTo>
                    <a:lnTo>
                      <a:pt x="193" y="660"/>
                    </a:lnTo>
                    <a:lnTo>
                      <a:pt x="193" y="704"/>
                    </a:lnTo>
                    <a:lnTo>
                      <a:pt x="255" y="730"/>
                    </a:lnTo>
                    <a:lnTo>
                      <a:pt x="316" y="722"/>
                    </a:lnTo>
                    <a:lnTo>
                      <a:pt x="359" y="694"/>
                    </a:lnTo>
                    <a:lnTo>
                      <a:pt x="351" y="643"/>
                    </a:lnTo>
                    <a:lnTo>
                      <a:pt x="308" y="617"/>
                    </a:lnTo>
                    <a:lnTo>
                      <a:pt x="308" y="581"/>
                    </a:lnTo>
                    <a:lnTo>
                      <a:pt x="334" y="530"/>
                    </a:lnTo>
                    <a:lnTo>
                      <a:pt x="413" y="478"/>
                    </a:lnTo>
                    <a:lnTo>
                      <a:pt x="483" y="407"/>
                    </a:lnTo>
                    <a:lnTo>
                      <a:pt x="509" y="366"/>
                    </a:lnTo>
                    <a:lnTo>
                      <a:pt x="483" y="312"/>
                    </a:lnTo>
                    <a:lnTo>
                      <a:pt x="404" y="269"/>
                    </a:lnTo>
                    <a:lnTo>
                      <a:pt x="308" y="192"/>
                    </a:lnTo>
                    <a:lnTo>
                      <a:pt x="219" y="122"/>
                    </a:lnTo>
                    <a:lnTo>
                      <a:pt x="150" y="69"/>
                    </a:lnTo>
                    <a:lnTo>
                      <a:pt x="97" y="8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113520" y="2628720"/>
                <a:ext cx="1066680" cy="1131840"/>
              </a:xfrm>
              <a:custGeom>
                <a:avLst/>
                <a:gdLst/>
                <a:ahLst/>
                <a:rect l="l" t="t" r="r" b="b"/>
                <a:pathLst>
                  <a:path w="672" h="713">
                    <a:moveTo>
                      <a:pt x="516" y="583"/>
                    </a:moveTo>
                    <a:lnTo>
                      <a:pt x="655" y="601"/>
                    </a:lnTo>
                    <a:lnTo>
                      <a:pt x="672" y="662"/>
                    </a:lnTo>
                    <a:lnTo>
                      <a:pt x="637" y="713"/>
                    </a:lnTo>
                    <a:lnTo>
                      <a:pt x="532" y="696"/>
                    </a:lnTo>
                    <a:lnTo>
                      <a:pt x="384" y="662"/>
                    </a:lnTo>
                    <a:lnTo>
                      <a:pt x="245" y="644"/>
                    </a:lnTo>
                    <a:lnTo>
                      <a:pt x="140" y="644"/>
                    </a:lnTo>
                    <a:lnTo>
                      <a:pt x="123" y="609"/>
                    </a:lnTo>
                    <a:lnTo>
                      <a:pt x="87" y="435"/>
                    </a:lnTo>
                    <a:lnTo>
                      <a:pt x="61" y="269"/>
                    </a:lnTo>
                    <a:lnTo>
                      <a:pt x="69" y="191"/>
                    </a:lnTo>
                    <a:lnTo>
                      <a:pt x="8" y="148"/>
                    </a:lnTo>
                    <a:lnTo>
                      <a:pt x="0" y="87"/>
                    </a:lnTo>
                    <a:lnTo>
                      <a:pt x="79" y="0"/>
                    </a:lnTo>
                    <a:lnTo>
                      <a:pt x="157" y="8"/>
                    </a:lnTo>
                    <a:lnTo>
                      <a:pt x="202" y="61"/>
                    </a:lnTo>
                    <a:lnTo>
                      <a:pt x="192" y="104"/>
                    </a:lnTo>
                    <a:lnTo>
                      <a:pt x="148" y="112"/>
                    </a:lnTo>
                    <a:lnTo>
                      <a:pt x="131" y="138"/>
                    </a:lnTo>
                    <a:lnTo>
                      <a:pt x="140" y="191"/>
                    </a:lnTo>
                    <a:lnTo>
                      <a:pt x="123" y="278"/>
                    </a:lnTo>
                    <a:lnTo>
                      <a:pt x="148" y="383"/>
                    </a:lnTo>
                    <a:lnTo>
                      <a:pt x="166" y="504"/>
                    </a:lnTo>
                    <a:lnTo>
                      <a:pt x="210" y="591"/>
                    </a:lnTo>
                    <a:lnTo>
                      <a:pt x="306" y="583"/>
                    </a:lnTo>
                    <a:lnTo>
                      <a:pt x="437" y="583"/>
                    </a:lnTo>
                    <a:lnTo>
                      <a:pt x="516" y="58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5612040" y="3984480"/>
                <a:ext cx="1392120" cy="700200"/>
              </a:xfrm>
              <a:custGeom>
                <a:avLst/>
                <a:gdLst/>
                <a:ahLst/>
                <a:rect l="l" t="t" r="r" b="b"/>
                <a:pathLst>
                  <a:path w="877" h="441">
                    <a:moveTo>
                      <a:pt x="842" y="299"/>
                    </a:moveTo>
                    <a:lnTo>
                      <a:pt x="877" y="352"/>
                    </a:lnTo>
                    <a:lnTo>
                      <a:pt x="851" y="415"/>
                    </a:lnTo>
                    <a:lnTo>
                      <a:pt x="782" y="441"/>
                    </a:lnTo>
                    <a:lnTo>
                      <a:pt x="677" y="388"/>
                    </a:lnTo>
                    <a:lnTo>
                      <a:pt x="600" y="309"/>
                    </a:lnTo>
                    <a:lnTo>
                      <a:pt x="564" y="238"/>
                    </a:lnTo>
                    <a:lnTo>
                      <a:pt x="521" y="141"/>
                    </a:lnTo>
                    <a:lnTo>
                      <a:pt x="495" y="124"/>
                    </a:lnTo>
                    <a:lnTo>
                      <a:pt x="444" y="159"/>
                    </a:lnTo>
                    <a:lnTo>
                      <a:pt x="356" y="238"/>
                    </a:lnTo>
                    <a:lnTo>
                      <a:pt x="269" y="309"/>
                    </a:lnTo>
                    <a:lnTo>
                      <a:pt x="174" y="352"/>
                    </a:lnTo>
                    <a:lnTo>
                      <a:pt x="165" y="388"/>
                    </a:lnTo>
                    <a:lnTo>
                      <a:pt x="121" y="405"/>
                    </a:lnTo>
                    <a:lnTo>
                      <a:pt x="52" y="352"/>
                    </a:lnTo>
                    <a:lnTo>
                      <a:pt x="18" y="273"/>
                    </a:lnTo>
                    <a:lnTo>
                      <a:pt x="0" y="132"/>
                    </a:lnTo>
                    <a:lnTo>
                      <a:pt x="8" y="61"/>
                    </a:lnTo>
                    <a:lnTo>
                      <a:pt x="87" y="17"/>
                    </a:lnTo>
                    <a:lnTo>
                      <a:pt x="113" y="8"/>
                    </a:lnTo>
                    <a:lnTo>
                      <a:pt x="139" y="43"/>
                    </a:lnTo>
                    <a:lnTo>
                      <a:pt x="105" y="106"/>
                    </a:lnTo>
                    <a:lnTo>
                      <a:pt x="95" y="194"/>
                    </a:lnTo>
                    <a:lnTo>
                      <a:pt x="113" y="281"/>
                    </a:lnTo>
                    <a:lnTo>
                      <a:pt x="149" y="309"/>
                    </a:lnTo>
                    <a:lnTo>
                      <a:pt x="218" y="264"/>
                    </a:lnTo>
                    <a:lnTo>
                      <a:pt x="313" y="194"/>
                    </a:lnTo>
                    <a:lnTo>
                      <a:pt x="390" y="114"/>
                    </a:lnTo>
                    <a:lnTo>
                      <a:pt x="469" y="25"/>
                    </a:lnTo>
                    <a:lnTo>
                      <a:pt x="521" y="0"/>
                    </a:lnTo>
                    <a:lnTo>
                      <a:pt x="556" y="8"/>
                    </a:lnTo>
                    <a:lnTo>
                      <a:pt x="572" y="61"/>
                    </a:lnTo>
                    <a:lnTo>
                      <a:pt x="626" y="159"/>
                    </a:lnTo>
                    <a:lnTo>
                      <a:pt x="660" y="228"/>
                    </a:lnTo>
                    <a:lnTo>
                      <a:pt x="747" y="273"/>
                    </a:lnTo>
                    <a:lnTo>
                      <a:pt x="842" y="2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359760" y="4529160"/>
                <a:ext cx="768240" cy="1538280"/>
              </a:xfrm>
              <a:custGeom>
                <a:avLst/>
                <a:gdLst/>
                <a:ahLst/>
                <a:rect l="l" t="t" r="r" b="b"/>
                <a:pathLst>
                  <a:path w="484" h="969">
                    <a:moveTo>
                      <a:pt x="334" y="0"/>
                    </a:moveTo>
                    <a:lnTo>
                      <a:pt x="395" y="0"/>
                    </a:lnTo>
                    <a:lnTo>
                      <a:pt x="475" y="25"/>
                    </a:lnTo>
                    <a:lnTo>
                      <a:pt x="458" y="69"/>
                    </a:lnTo>
                    <a:lnTo>
                      <a:pt x="369" y="146"/>
                    </a:lnTo>
                    <a:lnTo>
                      <a:pt x="272" y="233"/>
                    </a:lnTo>
                    <a:lnTo>
                      <a:pt x="150" y="328"/>
                    </a:lnTo>
                    <a:lnTo>
                      <a:pt x="105" y="372"/>
                    </a:lnTo>
                    <a:lnTo>
                      <a:pt x="122" y="433"/>
                    </a:lnTo>
                    <a:lnTo>
                      <a:pt x="229" y="562"/>
                    </a:lnTo>
                    <a:lnTo>
                      <a:pt x="334" y="728"/>
                    </a:lnTo>
                    <a:lnTo>
                      <a:pt x="430" y="849"/>
                    </a:lnTo>
                    <a:lnTo>
                      <a:pt x="484" y="900"/>
                    </a:lnTo>
                    <a:lnTo>
                      <a:pt x="466" y="944"/>
                    </a:lnTo>
                    <a:lnTo>
                      <a:pt x="405" y="944"/>
                    </a:lnTo>
                    <a:lnTo>
                      <a:pt x="298" y="969"/>
                    </a:lnTo>
                    <a:lnTo>
                      <a:pt x="185" y="952"/>
                    </a:lnTo>
                    <a:lnTo>
                      <a:pt x="158" y="908"/>
                    </a:lnTo>
                    <a:lnTo>
                      <a:pt x="229" y="892"/>
                    </a:lnTo>
                    <a:lnTo>
                      <a:pt x="326" y="900"/>
                    </a:lnTo>
                    <a:lnTo>
                      <a:pt x="369" y="900"/>
                    </a:lnTo>
                    <a:lnTo>
                      <a:pt x="369" y="839"/>
                    </a:lnTo>
                    <a:lnTo>
                      <a:pt x="308" y="762"/>
                    </a:lnTo>
                    <a:lnTo>
                      <a:pt x="237" y="675"/>
                    </a:lnTo>
                    <a:lnTo>
                      <a:pt x="168" y="572"/>
                    </a:lnTo>
                    <a:lnTo>
                      <a:pt x="61" y="451"/>
                    </a:lnTo>
                    <a:lnTo>
                      <a:pt x="0" y="354"/>
                    </a:lnTo>
                    <a:lnTo>
                      <a:pt x="18" y="328"/>
                    </a:lnTo>
                    <a:lnTo>
                      <a:pt x="71" y="277"/>
                    </a:lnTo>
                    <a:lnTo>
                      <a:pt x="185" y="156"/>
                    </a:lnTo>
                    <a:lnTo>
                      <a:pt x="255" y="87"/>
                    </a:lnTo>
                    <a:lnTo>
                      <a:pt x="334" y="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6659640" y="2805120"/>
                <a:ext cx="725400" cy="750960"/>
              </a:xfrm>
              <a:custGeom>
                <a:avLst/>
                <a:gdLst/>
                <a:ahLst/>
                <a:rect l="l" t="t" r="r" b="b"/>
                <a:pathLst>
                  <a:path w="457" h="473">
                    <a:moveTo>
                      <a:pt x="149" y="122"/>
                    </a:moveTo>
                    <a:lnTo>
                      <a:pt x="203" y="35"/>
                    </a:lnTo>
                    <a:lnTo>
                      <a:pt x="264" y="8"/>
                    </a:lnTo>
                    <a:lnTo>
                      <a:pt x="307" y="0"/>
                    </a:lnTo>
                    <a:lnTo>
                      <a:pt x="361" y="18"/>
                    </a:lnTo>
                    <a:lnTo>
                      <a:pt x="414" y="61"/>
                    </a:lnTo>
                    <a:lnTo>
                      <a:pt x="432" y="114"/>
                    </a:lnTo>
                    <a:lnTo>
                      <a:pt x="457" y="201"/>
                    </a:lnTo>
                    <a:lnTo>
                      <a:pt x="449" y="298"/>
                    </a:lnTo>
                    <a:lnTo>
                      <a:pt x="440" y="377"/>
                    </a:lnTo>
                    <a:lnTo>
                      <a:pt x="404" y="430"/>
                    </a:lnTo>
                    <a:lnTo>
                      <a:pt x="361" y="473"/>
                    </a:lnTo>
                    <a:lnTo>
                      <a:pt x="299" y="465"/>
                    </a:lnTo>
                    <a:lnTo>
                      <a:pt x="237" y="448"/>
                    </a:lnTo>
                    <a:lnTo>
                      <a:pt x="175" y="403"/>
                    </a:lnTo>
                    <a:lnTo>
                      <a:pt x="140" y="351"/>
                    </a:lnTo>
                    <a:lnTo>
                      <a:pt x="122" y="262"/>
                    </a:lnTo>
                    <a:lnTo>
                      <a:pt x="122" y="184"/>
                    </a:lnTo>
                    <a:lnTo>
                      <a:pt x="61" y="132"/>
                    </a:lnTo>
                    <a:lnTo>
                      <a:pt x="25" y="114"/>
                    </a:lnTo>
                    <a:lnTo>
                      <a:pt x="0" y="87"/>
                    </a:lnTo>
                    <a:lnTo>
                      <a:pt x="8" y="53"/>
                    </a:lnTo>
                    <a:lnTo>
                      <a:pt x="35" y="43"/>
                    </a:lnTo>
                    <a:lnTo>
                      <a:pt x="61" y="71"/>
                    </a:lnTo>
                    <a:lnTo>
                      <a:pt x="88" y="105"/>
                    </a:lnTo>
                    <a:lnTo>
                      <a:pt x="149" y="122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5" name=""/>
            <p:cNvSpPr/>
            <p:nvPr/>
          </p:nvSpPr>
          <p:spPr>
            <a:xfrm>
              <a:off x="4402080" y="4081320"/>
              <a:ext cx="524160" cy="941400"/>
            </a:xfrm>
            <a:custGeom>
              <a:avLst/>
              <a:gdLst/>
              <a:ahLst/>
              <a:rect l="l" t="t" r="r" b="b"/>
              <a:pathLst>
                <a:path w="330" h="593">
                  <a:moveTo>
                    <a:pt x="330" y="593"/>
                  </a:moveTo>
                  <a:lnTo>
                    <a:pt x="204" y="506"/>
                  </a:lnTo>
                  <a:lnTo>
                    <a:pt x="116" y="401"/>
                  </a:lnTo>
                  <a:lnTo>
                    <a:pt x="63" y="296"/>
                  </a:lnTo>
                  <a:lnTo>
                    <a:pt x="9" y="140"/>
                  </a:lnTo>
                  <a:lnTo>
                    <a:pt x="0" y="35"/>
                  </a:lnTo>
                  <a:lnTo>
                    <a:pt x="27" y="0"/>
                  </a:lnTo>
                  <a:lnTo>
                    <a:pt x="53" y="0"/>
                  </a:lnTo>
                  <a:lnTo>
                    <a:pt x="53" y="51"/>
                  </a:lnTo>
                  <a:lnTo>
                    <a:pt x="53" y="130"/>
                  </a:lnTo>
                  <a:lnTo>
                    <a:pt x="88" y="270"/>
                  </a:lnTo>
                  <a:lnTo>
                    <a:pt x="134" y="375"/>
                  </a:lnTo>
                  <a:lnTo>
                    <a:pt x="214" y="462"/>
                  </a:lnTo>
                  <a:lnTo>
                    <a:pt x="330" y="593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4878360" y="4168800"/>
              <a:ext cx="414360" cy="663480"/>
            </a:xfrm>
            <a:custGeom>
              <a:avLst/>
              <a:gdLst/>
              <a:ahLst/>
              <a:rect l="l" t="t" r="r" b="b"/>
              <a:pathLst>
                <a:path w="261" h="418">
                  <a:moveTo>
                    <a:pt x="261" y="418"/>
                  </a:moveTo>
                  <a:lnTo>
                    <a:pt x="183" y="368"/>
                  </a:lnTo>
                  <a:lnTo>
                    <a:pt x="124" y="301"/>
                  </a:lnTo>
                  <a:lnTo>
                    <a:pt x="74" y="228"/>
                  </a:lnTo>
                  <a:lnTo>
                    <a:pt x="21" y="117"/>
                  </a:lnTo>
                  <a:lnTo>
                    <a:pt x="0" y="33"/>
                  </a:lnTo>
                  <a:lnTo>
                    <a:pt x="3" y="3"/>
                  </a:lnTo>
                  <a:lnTo>
                    <a:pt x="17" y="0"/>
                  </a:lnTo>
                  <a:lnTo>
                    <a:pt x="29" y="41"/>
                  </a:lnTo>
                  <a:lnTo>
                    <a:pt x="41" y="103"/>
                  </a:lnTo>
                  <a:lnTo>
                    <a:pt x="85" y="201"/>
                  </a:lnTo>
                  <a:lnTo>
                    <a:pt x="124" y="278"/>
                  </a:lnTo>
                  <a:lnTo>
                    <a:pt x="180" y="335"/>
                  </a:lnTo>
                  <a:lnTo>
                    <a:pt x="261" y="41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5735880" y="4635360"/>
              <a:ext cx="385560" cy="238320"/>
            </a:xfrm>
            <a:custGeom>
              <a:avLst/>
              <a:gdLst/>
              <a:ahLst/>
              <a:rect l="l" t="t" r="r" b="b"/>
              <a:pathLst>
                <a:path w="243" h="150">
                  <a:moveTo>
                    <a:pt x="243" y="0"/>
                  </a:moveTo>
                  <a:lnTo>
                    <a:pt x="143" y="76"/>
                  </a:lnTo>
                  <a:lnTo>
                    <a:pt x="62" y="113"/>
                  </a:lnTo>
                  <a:lnTo>
                    <a:pt x="0" y="84"/>
                  </a:lnTo>
                  <a:lnTo>
                    <a:pt x="0" y="131"/>
                  </a:lnTo>
                  <a:lnTo>
                    <a:pt x="54" y="150"/>
                  </a:lnTo>
                  <a:lnTo>
                    <a:pt x="117" y="14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8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9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0" name="" descr=""/>
          <p:cNvPicPr/>
          <p:nvPr/>
        </p:nvPicPr>
        <p:blipFill>
          <a:blip r:embed="rId1"/>
          <a:stretch/>
        </p:blipFill>
        <p:spPr>
          <a:xfrm>
            <a:off x="3597120" y="1779480"/>
            <a:ext cx="2106720" cy="2106720"/>
          </a:xfrm>
          <a:prstGeom prst="rect">
            <a:avLst/>
          </a:prstGeom>
          <a:ln w="0">
            <a:noFill/>
          </a:ln>
        </p:spPr>
      </p:pic>
      <p:sp>
        <p:nvSpPr>
          <p:cNvPr id="4031" name=""/>
          <p:cNvSpPr/>
          <p:nvPr/>
        </p:nvSpPr>
        <p:spPr>
          <a:xfrm>
            <a:off x="3316320" y="3987720"/>
            <a:ext cx="29480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"/>
          <p:cNvSpPr/>
          <p:nvPr/>
        </p:nvSpPr>
        <p:spPr>
          <a:xfrm>
            <a:off x="0" y="448308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FAUX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6" name="" descr=""/>
          <p:cNvPicPr/>
          <p:nvPr/>
        </p:nvPicPr>
        <p:blipFill>
          <a:blip r:embed="rId1"/>
          <a:stretch/>
        </p:blipFill>
        <p:spPr>
          <a:xfrm>
            <a:off x="3230640" y="1797120"/>
            <a:ext cx="2484360" cy="2484360"/>
          </a:xfrm>
          <a:prstGeom prst="rect">
            <a:avLst/>
          </a:prstGeom>
          <a:ln w="0">
            <a:noFill/>
          </a:ln>
        </p:spPr>
      </p:pic>
      <p:sp>
        <p:nvSpPr>
          <p:cNvPr id="4037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"/>
          <p:cNvSpPr/>
          <p:nvPr/>
        </p:nvSpPr>
        <p:spPr>
          <a:xfrm>
            <a:off x="0" y="41590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NO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0" name="" descr=""/>
          <p:cNvPicPr/>
          <p:nvPr/>
        </p:nvPicPr>
        <p:blipFill>
          <a:blip r:embed="rId1"/>
          <a:stretch/>
        </p:blipFill>
        <p:spPr>
          <a:xfrm>
            <a:off x="3098880" y="1706400"/>
            <a:ext cx="2554200" cy="2554560"/>
          </a:xfrm>
          <a:prstGeom prst="rect">
            <a:avLst/>
          </a:prstGeom>
          <a:ln w="0">
            <a:noFill/>
          </a:ln>
        </p:spPr>
      </p:pic>
      <p:sp>
        <p:nvSpPr>
          <p:cNvPr id="4041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283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84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91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309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2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333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334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335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343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351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359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6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367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2479680" y="2158560"/>
            <a:ext cx="3428640" cy="265320"/>
            <a:chOff x="2479680" y="2158560"/>
            <a:chExt cx="3428640" cy="265320"/>
          </a:xfrm>
        </p:grpSpPr>
        <p:sp>
          <p:nvSpPr>
            <p:cNvPr id="372" name=""/>
            <p:cNvSpPr/>
            <p:nvPr/>
          </p:nvSpPr>
          <p:spPr>
            <a:xfrm flipV="1">
              <a:off x="2479680" y="2158560"/>
              <a:ext cx="1713600" cy="265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4193280" y="2158560"/>
              <a:ext cx="1715040" cy="265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8080" y="7938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supporte les pannes cour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377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379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387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395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403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0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411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5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416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417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423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429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437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43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444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450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455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456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3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464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1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472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473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479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484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489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494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98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499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503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512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>
            <a:hlinkClick r:id="rId10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5900760" y="2419200"/>
            <a:ext cx="0" cy="1190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544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555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"/>
          <p:cNvSpPr/>
          <p:nvPr/>
        </p:nvSpPr>
        <p:spPr>
          <a:xfrm>
            <a:off x="0" y="424512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AUX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4" name="" descr=""/>
          <p:cNvPicPr/>
          <p:nvPr/>
        </p:nvPicPr>
        <p:blipFill>
          <a:blip r:embed="rId1"/>
          <a:stretch/>
        </p:blipFill>
        <p:spPr>
          <a:xfrm>
            <a:off x="3208320" y="152244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404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6" name=""/>
          <p:cNvSpPr/>
          <p:nvPr/>
        </p:nvSpPr>
        <p:spPr>
          <a:xfrm>
            <a:off x="4424400" y="1436760"/>
            <a:ext cx="4135320" cy="916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Arial"/>
              </a:rPr>
              <a:t>ERREUR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9" name=""/>
          <p:cNvGrpSpPr/>
          <p:nvPr/>
        </p:nvGrpSpPr>
        <p:grpSpPr>
          <a:xfrm>
            <a:off x="676440" y="1590840"/>
            <a:ext cx="4295520" cy="3974760"/>
            <a:chOff x="676440" y="1590840"/>
            <a:chExt cx="4295520" cy="3974760"/>
          </a:xfrm>
        </p:grpSpPr>
        <p:sp>
          <p:nvSpPr>
            <p:cNvPr id="4050" name=""/>
            <p:cNvSpPr/>
            <p:nvPr/>
          </p:nvSpPr>
          <p:spPr>
            <a:xfrm>
              <a:off x="676440" y="1590840"/>
              <a:ext cx="3692520" cy="3974760"/>
            </a:xfrm>
            <a:custGeom>
              <a:avLst/>
              <a:gdLst/>
              <a:ahLst/>
              <a:rect l="l" t="t" r="r" b="b"/>
              <a:pathLst>
                <a:path w="2326" h="2504">
                  <a:moveTo>
                    <a:pt x="2289" y="957"/>
                  </a:moveTo>
                  <a:lnTo>
                    <a:pt x="2273" y="929"/>
                  </a:lnTo>
                  <a:lnTo>
                    <a:pt x="2254" y="900"/>
                  </a:lnTo>
                  <a:lnTo>
                    <a:pt x="2232" y="872"/>
                  </a:lnTo>
                  <a:lnTo>
                    <a:pt x="2208" y="842"/>
                  </a:lnTo>
                  <a:lnTo>
                    <a:pt x="2180" y="812"/>
                  </a:lnTo>
                  <a:lnTo>
                    <a:pt x="2152" y="782"/>
                  </a:lnTo>
                  <a:lnTo>
                    <a:pt x="2120" y="752"/>
                  </a:lnTo>
                  <a:lnTo>
                    <a:pt x="2088" y="721"/>
                  </a:lnTo>
                  <a:lnTo>
                    <a:pt x="2052" y="691"/>
                  </a:lnTo>
                  <a:lnTo>
                    <a:pt x="2014" y="661"/>
                  </a:lnTo>
                  <a:lnTo>
                    <a:pt x="1975" y="631"/>
                  </a:lnTo>
                  <a:lnTo>
                    <a:pt x="1934" y="601"/>
                  </a:lnTo>
                  <a:lnTo>
                    <a:pt x="1892" y="571"/>
                  </a:lnTo>
                  <a:lnTo>
                    <a:pt x="1848" y="542"/>
                  </a:lnTo>
                  <a:lnTo>
                    <a:pt x="1803" y="514"/>
                  </a:lnTo>
                  <a:lnTo>
                    <a:pt x="1757" y="485"/>
                  </a:lnTo>
                  <a:lnTo>
                    <a:pt x="1709" y="458"/>
                  </a:lnTo>
                  <a:lnTo>
                    <a:pt x="1660" y="432"/>
                  </a:lnTo>
                  <a:lnTo>
                    <a:pt x="1611" y="406"/>
                  </a:lnTo>
                  <a:lnTo>
                    <a:pt x="1561" y="382"/>
                  </a:lnTo>
                  <a:lnTo>
                    <a:pt x="1509" y="359"/>
                  </a:lnTo>
                  <a:lnTo>
                    <a:pt x="1458" y="336"/>
                  </a:lnTo>
                  <a:lnTo>
                    <a:pt x="1406" y="314"/>
                  </a:lnTo>
                  <a:lnTo>
                    <a:pt x="1353" y="293"/>
                  </a:lnTo>
                  <a:lnTo>
                    <a:pt x="1301" y="276"/>
                  </a:lnTo>
                  <a:lnTo>
                    <a:pt x="1248" y="258"/>
                  </a:lnTo>
                  <a:lnTo>
                    <a:pt x="1195" y="242"/>
                  </a:lnTo>
                  <a:lnTo>
                    <a:pt x="1142" y="228"/>
                  </a:lnTo>
                  <a:lnTo>
                    <a:pt x="1089" y="216"/>
                  </a:lnTo>
                  <a:lnTo>
                    <a:pt x="1036" y="205"/>
                  </a:lnTo>
                  <a:lnTo>
                    <a:pt x="984" y="195"/>
                  </a:lnTo>
                  <a:lnTo>
                    <a:pt x="932" y="189"/>
                  </a:lnTo>
                  <a:lnTo>
                    <a:pt x="909" y="174"/>
                  </a:lnTo>
                  <a:lnTo>
                    <a:pt x="883" y="157"/>
                  </a:lnTo>
                  <a:lnTo>
                    <a:pt x="856" y="141"/>
                  </a:lnTo>
                  <a:lnTo>
                    <a:pt x="828" y="125"/>
                  </a:lnTo>
                  <a:lnTo>
                    <a:pt x="799" y="108"/>
                  </a:lnTo>
                  <a:lnTo>
                    <a:pt x="768" y="92"/>
                  </a:lnTo>
                  <a:lnTo>
                    <a:pt x="738" y="77"/>
                  </a:lnTo>
                  <a:lnTo>
                    <a:pt x="707" y="61"/>
                  </a:lnTo>
                  <a:lnTo>
                    <a:pt x="675" y="47"/>
                  </a:lnTo>
                  <a:lnTo>
                    <a:pt x="645" y="35"/>
                  </a:lnTo>
                  <a:lnTo>
                    <a:pt x="614" y="24"/>
                  </a:lnTo>
                  <a:lnTo>
                    <a:pt x="584" y="14"/>
                  </a:lnTo>
                  <a:lnTo>
                    <a:pt x="556" y="6"/>
                  </a:lnTo>
                  <a:lnTo>
                    <a:pt x="528" y="2"/>
                  </a:lnTo>
                  <a:lnTo>
                    <a:pt x="502" y="0"/>
                  </a:lnTo>
                  <a:lnTo>
                    <a:pt x="478" y="0"/>
                  </a:lnTo>
                  <a:lnTo>
                    <a:pt x="422" y="13"/>
                  </a:lnTo>
                  <a:lnTo>
                    <a:pt x="388" y="42"/>
                  </a:lnTo>
                  <a:lnTo>
                    <a:pt x="370" y="77"/>
                  </a:lnTo>
                  <a:lnTo>
                    <a:pt x="366" y="118"/>
                  </a:lnTo>
                  <a:lnTo>
                    <a:pt x="370" y="157"/>
                  </a:lnTo>
                  <a:lnTo>
                    <a:pt x="379" y="193"/>
                  </a:lnTo>
                  <a:lnTo>
                    <a:pt x="387" y="216"/>
                  </a:lnTo>
                  <a:lnTo>
                    <a:pt x="391" y="225"/>
                  </a:lnTo>
                  <a:lnTo>
                    <a:pt x="388" y="225"/>
                  </a:lnTo>
                  <a:lnTo>
                    <a:pt x="381" y="224"/>
                  </a:lnTo>
                  <a:lnTo>
                    <a:pt x="370" y="221"/>
                  </a:lnTo>
                  <a:lnTo>
                    <a:pt x="357" y="220"/>
                  </a:lnTo>
                  <a:lnTo>
                    <a:pt x="339" y="217"/>
                  </a:lnTo>
                  <a:lnTo>
                    <a:pt x="320" y="214"/>
                  </a:lnTo>
                  <a:lnTo>
                    <a:pt x="300" y="212"/>
                  </a:lnTo>
                  <a:lnTo>
                    <a:pt x="278" y="210"/>
                  </a:lnTo>
                  <a:lnTo>
                    <a:pt x="256" y="210"/>
                  </a:lnTo>
                  <a:lnTo>
                    <a:pt x="234" y="210"/>
                  </a:lnTo>
                  <a:lnTo>
                    <a:pt x="213" y="212"/>
                  </a:lnTo>
                  <a:lnTo>
                    <a:pt x="192" y="214"/>
                  </a:lnTo>
                  <a:lnTo>
                    <a:pt x="174" y="219"/>
                  </a:lnTo>
                  <a:lnTo>
                    <a:pt x="158" y="224"/>
                  </a:lnTo>
                  <a:lnTo>
                    <a:pt x="146" y="232"/>
                  </a:lnTo>
                  <a:lnTo>
                    <a:pt x="136" y="243"/>
                  </a:lnTo>
                  <a:lnTo>
                    <a:pt x="128" y="266"/>
                  </a:lnTo>
                  <a:lnTo>
                    <a:pt x="131" y="291"/>
                  </a:lnTo>
                  <a:lnTo>
                    <a:pt x="142" y="312"/>
                  </a:lnTo>
                  <a:lnTo>
                    <a:pt x="157" y="334"/>
                  </a:lnTo>
                  <a:lnTo>
                    <a:pt x="174" y="352"/>
                  </a:lnTo>
                  <a:lnTo>
                    <a:pt x="191" y="367"/>
                  </a:lnTo>
                  <a:lnTo>
                    <a:pt x="203" y="376"/>
                  </a:lnTo>
                  <a:lnTo>
                    <a:pt x="207" y="379"/>
                  </a:lnTo>
                  <a:lnTo>
                    <a:pt x="200" y="382"/>
                  </a:lnTo>
                  <a:lnTo>
                    <a:pt x="183" y="391"/>
                  </a:lnTo>
                  <a:lnTo>
                    <a:pt x="155" y="405"/>
                  </a:lnTo>
                  <a:lnTo>
                    <a:pt x="123" y="424"/>
                  </a:lnTo>
                  <a:lnTo>
                    <a:pt x="89" y="448"/>
                  </a:lnTo>
                  <a:lnTo>
                    <a:pt x="56" y="474"/>
                  </a:lnTo>
                  <a:lnTo>
                    <a:pt x="26" y="506"/>
                  </a:lnTo>
                  <a:lnTo>
                    <a:pt x="4" y="538"/>
                  </a:lnTo>
                  <a:lnTo>
                    <a:pt x="0" y="553"/>
                  </a:lnTo>
                  <a:lnTo>
                    <a:pt x="3" y="571"/>
                  </a:lnTo>
                  <a:lnTo>
                    <a:pt x="10" y="590"/>
                  </a:lnTo>
                  <a:lnTo>
                    <a:pt x="21" y="612"/>
                  </a:lnTo>
                  <a:lnTo>
                    <a:pt x="36" y="636"/>
                  </a:lnTo>
                  <a:lnTo>
                    <a:pt x="55" y="661"/>
                  </a:lnTo>
                  <a:lnTo>
                    <a:pt x="75" y="688"/>
                  </a:lnTo>
                  <a:lnTo>
                    <a:pt x="100" y="714"/>
                  </a:lnTo>
                  <a:lnTo>
                    <a:pt x="124" y="741"/>
                  </a:lnTo>
                  <a:lnTo>
                    <a:pt x="150" y="768"/>
                  </a:lnTo>
                  <a:lnTo>
                    <a:pt x="176" y="794"/>
                  </a:lnTo>
                  <a:lnTo>
                    <a:pt x="203" y="820"/>
                  </a:lnTo>
                  <a:lnTo>
                    <a:pt x="229" y="843"/>
                  </a:lnTo>
                  <a:lnTo>
                    <a:pt x="252" y="866"/>
                  </a:lnTo>
                  <a:lnTo>
                    <a:pt x="275" y="886"/>
                  </a:lnTo>
                  <a:lnTo>
                    <a:pt x="296" y="904"/>
                  </a:lnTo>
                  <a:lnTo>
                    <a:pt x="305" y="986"/>
                  </a:lnTo>
                  <a:lnTo>
                    <a:pt x="317" y="1069"/>
                  </a:lnTo>
                  <a:lnTo>
                    <a:pt x="334" y="1152"/>
                  </a:lnTo>
                  <a:lnTo>
                    <a:pt x="351" y="1235"/>
                  </a:lnTo>
                  <a:lnTo>
                    <a:pt x="370" y="1316"/>
                  </a:lnTo>
                  <a:lnTo>
                    <a:pt x="392" y="1398"/>
                  </a:lnTo>
                  <a:lnTo>
                    <a:pt x="414" y="1478"/>
                  </a:lnTo>
                  <a:lnTo>
                    <a:pt x="437" y="1554"/>
                  </a:lnTo>
                  <a:lnTo>
                    <a:pt x="460" y="1629"/>
                  </a:lnTo>
                  <a:lnTo>
                    <a:pt x="485" y="1700"/>
                  </a:lnTo>
                  <a:lnTo>
                    <a:pt x="508" y="1767"/>
                  </a:lnTo>
                  <a:lnTo>
                    <a:pt x="530" y="1829"/>
                  </a:lnTo>
                  <a:lnTo>
                    <a:pt x="551" y="1886"/>
                  </a:lnTo>
                  <a:lnTo>
                    <a:pt x="570" y="1938"/>
                  </a:lnTo>
                  <a:lnTo>
                    <a:pt x="590" y="1983"/>
                  </a:lnTo>
                  <a:lnTo>
                    <a:pt x="604" y="2021"/>
                  </a:lnTo>
                  <a:lnTo>
                    <a:pt x="511" y="2027"/>
                  </a:lnTo>
                  <a:lnTo>
                    <a:pt x="543" y="2216"/>
                  </a:lnTo>
                  <a:lnTo>
                    <a:pt x="1858" y="2504"/>
                  </a:lnTo>
                  <a:lnTo>
                    <a:pt x="1881" y="2273"/>
                  </a:lnTo>
                  <a:lnTo>
                    <a:pt x="2085" y="2455"/>
                  </a:lnTo>
                  <a:lnTo>
                    <a:pt x="1949" y="1938"/>
                  </a:lnTo>
                  <a:lnTo>
                    <a:pt x="1859" y="1944"/>
                  </a:lnTo>
                  <a:lnTo>
                    <a:pt x="1878" y="1938"/>
                  </a:lnTo>
                  <a:lnTo>
                    <a:pt x="1746" y="1455"/>
                  </a:lnTo>
                  <a:lnTo>
                    <a:pt x="1767" y="1452"/>
                  </a:lnTo>
                  <a:lnTo>
                    <a:pt x="1790" y="1450"/>
                  </a:lnTo>
                  <a:lnTo>
                    <a:pt x="1817" y="1444"/>
                  </a:lnTo>
                  <a:lnTo>
                    <a:pt x="1846" y="1439"/>
                  </a:lnTo>
                  <a:lnTo>
                    <a:pt x="1875" y="1431"/>
                  </a:lnTo>
                  <a:lnTo>
                    <a:pt x="1908" y="1421"/>
                  </a:lnTo>
                  <a:lnTo>
                    <a:pt x="1942" y="1410"/>
                  </a:lnTo>
                  <a:lnTo>
                    <a:pt x="1978" y="1397"/>
                  </a:lnTo>
                  <a:lnTo>
                    <a:pt x="2014" y="1382"/>
                  </a:lnTo>
                  <a:lnTo>
                    <a:pt x="2052" y="1363"/>
                  </a:lnTo>
                  <a:lnTo>
                    <a:pt x="2090" y="1342"/>
                  </a:lnTo>
                  <a:lnTo>
                    <a:pt x="2129" y="1319"/>
                  </a:lnTo>
                  <a:lnTo>
                    <a:pt x="2167" y="1293"/>
                  </a:lnTo>
                  <a:lnTo>
                    <a:pt x="2206" y="1263"/>
                  </a:lnTo>
                  <a:lnTo>
                    <a:pt x="2244" y="1231"/>
                  </a:lnTo>
                  <a:lnTo>
                    <a:pt x="2281" y="1195"/>
                  </a:lnTo>
                  <a:lnTo>
                    <a:pt x="2296" y="1179"/>
                  </a:lnTo>
                  <a:lnTo>
                    <a:pt x="2308" y="1159"/>
                  </a:lnTo>
                  <a:lnTo>
                    <a:pt x="2318" y="1134"/>
                  </a:lnTo>
                  <a:lnTo>
                    <a:pt x="2325" y="1107"/>
                  </a:lnTo>
                  <a:lnTo>
                    <a:pt x="2326" y="1076"/>
                  </a:lnTo>
                  <a:lnTo>
                    <a:pt x="2320" y="1040"/>
                  </a:lnTo>
                  <a:lnTo>
                    <a:pt x="2310" y="1001"/>
                  </a:lnTo>
                  <a:lnTo>
                    <a:pt x="2289" y="9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332000" y="2017800"/>
              <a:ext cx="2911320" cy="2773440"/>
            </a:xfrm>
            <a:custGeom>
              <a:avLst/>
              <a:gdLst/>
              <a:ahLst/>
              <a:rect l="l" t="t" r="r" b="b"/>
              <a:pathLst>
                <a:path w="1834" h="1747">
                  <a:moveTo>
                    <a:pt x="1807" y="725"/>
                  </a:moveTo>
                  <a:lnTo>
                    <a:pt x="1793" y="702"/>
                  </a:lnTo>
                  <a:lnTo>
                    <a:pt x="1777" y="676"/>
                  </a:lnTo>
                  <a:lnTo>
                    <a:pt x="1758" y="652"/>
                  </a:lnTo>
                  <a:lnTo>
                    <a:pt x="1737" y="626"/>
                  </a:lnTo>
                  <a:lnTo>
                    <a:pt x="1713" y="598"/>
                  </a:lnTo>
                  <a:lnTo>
                    <a:pt x="1688" y="573"/>
                  </a:lnTo>
                  <a:lnTo>
                    <a:pt x="1660" y="545"/>
                  </a:lnTo>
                  <a:lnTo>
                    <a:pt x="1630" y="517"/>
                  </a:lnTo>
                  <a:lnTo>
                    <a:pt x="1599" y="490"/>
                  </a:lnTo>
                  <a:lnTo>
                    <a:pt x="1565" y="461"/>
                  </a:lnTo>
                  <a:lnTo>
                    <a:pt x="1531" y="434"/>
                  </a:lnTo>
                  <a:lnTo>
                    <a:pt x="1492" y="405"/>
                  </a:lnTo>
                  <a:lnTo>
                    <a:pt x="1454" y="378"/>
                  </a:lnTo>
                  <a:lnTo>
                    <a:pt x="1415" y="351"/>
                  </a:lnTo>
                  <a:lnTo>
                    <a:pt x="1374" y="324"/>
                  </a:lnTo>
                  <a:lnTo>
                    <a:pt x="1330" y="296"/>
                  </a:lnTo>
                  <a:lnTo>
                    <a:pt x="1287" y="271"/>
                  </a:lnTo>
                  <a:lnTo>
                    <a:pt x="1242" y="246"/>
                  </a:lnTo>
                  <a:lnTo>
                    <a:pt x="1197" y="220"/>
                  </a:lnTo>
                  <a:lnTo>
                    <a:pt x="1151" y="197"/>
                  </a:lnTo>
                  <a:lnTo>
                    <a:pt x="1103" y="173"/>
                  </a:lnTo>
                  <a:lnTo>
                    <a:pt x="1054" y="151"/>
                  </a:lnTo>
                  <a:lnTo>
                    <a:pt x="1007" y="130"/>
                  </a:lnTo>
                  <a:lnTo>
                    <a:pt x="956" y="110"/>
                  </a:lnTo>
                  <a:lnTo>
                    <a:pt x="907" y="91"/>
                  </a:lnTo>
                  <a:lnTo>
                    <a:pt x="857" y="73"/>
                  </a:lnTo>
                  <a:lnTo>
                    <a:pt x="807" y="57"/>
                  </a:lnTo>
                  <a:lnTo>
                    <a:pt x="756" y="42"/>
                  </a:lnTo>
                  <a:lnTo>
                    <a:pt x="706" y="30"/>
                  </a:lnTo>
                  <a:lnTo>
                    <a:pt x="657" y="18"/>
                  </a:lnTo>
                  <a:lnTo>
                    <a:pt x="607" y="8"/>
                  </a:lnTo>
                  <a:lnTo>
                    <a:pt x="556" y="0"/>
                  </a:lnTo>
                  <a:lnTo>
                    <a:pt x="532" y="7"/>
                  </a:lnTo>
                  <a:lnTo>
                    <a:pt x="503" y="16"/>
                  </a:lnTo>
                  <a:lnTo>
                    <a:pt x="473" y="26"/>
                  </a:lnTo>
                  <a:lnTo>
                    <a:pt x="441" y="37"/>
                  </a:lnTo>
                  <a:lnTo>
                    <a:pt x="405" y="47"/>
                  </a:lnTo>
                  <a:lnTo>
                    <a:pt x="370" y="61"/>
                  </a:lnTo>
                  <a:lnTo>
                    <a:pt x="333" y="75"/>
                  </a:lnTo>
                  <a:lnTo>
                    <a:pt x="295" y="90"/>
                  </a:lnTo>
                  <a:lnTo>
                    <a:pt x="258" y="105"/>
                  </a:lnTo>
                  <a:lnTo>
                    <a:pt x="221" y="121"/>
                  </a:lnTo>
                  <a:lnTo>
                    <a:pt x="186" y="139"/>
                  </a:lnTo>
                  <a:lnTo>
                    <a:pt x="152" y="156"/>
                  </a:lnTo>
                  <a:lnTo>
                    <a:pt x="119" y="174"/>
                  </a:lnTo>
                  <a:lnTo>
                    <a:pt x="91" y="193"/>
                  </a:lnTo>
                  <a:lnTo>
                    <a:pt x="64" y="212"/>
                  </a:lnTo>
                  <a:lnTo>
                    <a:pt x="40" y="233"/>
                  </a:lnTo>
                  <a:lnTo>
                    <a:pt x="17" y="258"/>
                  </a:lnTo>
                  <a:lnTo>
                    <a:pt x="5" y="284"/>
                  </a:lnTo>
                  <a:lnTo>
                    <a:pt x="0" y="310"/>
                  </a:lnTo>
                  <a:lnTo>
                    <a:pt x="1" y="335"/>
                  </a:lnTo>
                  <a:lnTo>
                    <a:pt x="8" y="358"/>
                  </a:lnTo>
                  <a:lnTo>
                    <a:pt x="21" y="381"/>
                  </a:lnTo>
                  <a:lnTo>
                    <a:pt x="38" y="403"/>
                  </a:lnTo>
                  <a:lnTo>
                    <a:pt x="57" y="422"/>
                  </a:lnTo>
                  <a:lnTo>
                    <a:pt x="77" y="441"/>
                  </a:lnTo>
                  <a:lnTo>
                    <a:pt x="99" y="457"/>
                  </a:lnTo>
                  <a:lnTo>
                    <a:pt x="121" y="471"/>
                  </a:lnTo>
                  <a:lnTo>
                    <a:pt x="140" y="483"/>
                  </a:lnTo>
                  <a:lnTo>
                    <a:pt x="157" y="492"/>
                  </a:lnTo>
                  <a:lnTo>
                    <a:pt x="171" y="501"/>
                  </a:lnTo>
                  <a:lnTo>
                    <a:pt x="181" y="505"/>
                  </a:lnTo>
                  <a:lnTo>
                    <a:pt x="183" y="506"/>
                  </a:lnTo>
                  <a:lnTo>
                    <a:pt x="238" y="915"/>
                  </a:lnTo>
                  <a:lnTo>
                    <a:pt x="177" y="930"/>
                  </a:lnTo>
                  <a:lnTo>
                    <a:pt x="175" y="926"/>
                  </a:lnTo>
                  <a:lnTo>
                    <a:pt x="175" y="922"/>
                  </a:lnTo>
                  <a:lnTo>
                    <a:pt x="175" y="918"/>
                  </a:lnTo>
                  <a:lnTo>
                    <a:pt x="174" y="913"/>
                  </a:lnTo>
                  <a:lnTo>
                    <a:pt x="167" y="892"/>
                  </a:lnTo>
                  <a:lnTo>
                    <a:pt x="157" y="875"/>
                  </a:lnTo>
                  <a:lnTo>
                    <a:pt x="147" y="860"/>
                  </a:lnTo>
                  <a:lnTo>
                    <a:pt x="133" y="846"/>
                  </a:lnTo>
                  <a:lnTo>
                    <a:pt x="118" y="837"/>
                  </a:lnTo>
                  <a:lnTo>
                    <a:pt x="103" y="830"/>
                  </a:lnTo>
                  <a:lnTo>
                    <a:pt x="87" y="828"/>
                  </a:lnTo>
                  <a:lnTo>
                    <a:pt x="70" y="830"/>
                  </a:lnTo>
                  <a:lnTo>
                    <a:pt x="54" y="835"/>
                  </a:lnTo>
                  <a:lnTo>
                    <a:pt x="40" y="845"/>
                  </a:lnTo>
                  <a:lnTo>
                    <a:pt x="30" y="857"/>
                  </a:lnTo>
                  <a:lnTo>
                    <a:pt x="20" y="872"/>
                  </a:lnTo>
                  <a:lnTo>
                    <a:pt x="15" y="890"/>
                  </a:lnTo>
                  <a:lnTo>
                    <a:pt x="11" y="909"/>
                  </a:lnTo>
                  <a:lnTo>
                    <a:pt x="11" y="929"/>
                  </a:lnTo>
                  <a:lnTo>
                    <a:pt x="13" y="949"/>
                  </a:lnTo>
                  <a:lnTo>
                    <a:pt x="15" y="955"/>
                  </a:lnTo>
                  <a:lnTo>
                    <a:pt x="16" y="959"/>
                  </a:lnTo>
                  <a:lnTo>
                    <a:pt x="17" y="963"/>
                  </a:lnTo>
                  <a:lnTo>
                    <a:pt x="19" y="968"/>
                  </a:lnTo>
                  <a:lnTo>
                    <a:pt x="19" y="968"/>
                  </a:lnTo>
                  <a:lnTo>
                    <a:pt x="34" y="1032"/>
                  </a:lnTo>
                  <a:lnTo>
                    <a:pt x="50" y="1095"/>
                  </a:lnTo>
                  <a:lnTo>
                    <a:pt x="68" y="1156"/>
                  </a:lnTo>
                  <a:lnTo>
                    <a:pt x="85" y="1216"/>
                  </a:lnTo>
                  <a:lnTo>
                    <a:pt x="103" y="1276"/>
                  </a:lnTo>
                  <a:lnTo>
                    <a:pt x="121" y="1333"/>
                  </a:lnTo>
                  <a:lnTo>
                    <a:pt x="140" y="1389"/>
                  </a:lnTo>
                  <a:lnTo>
                    <a:pt x="157" y="1441"/>
                  </a:lnTo>
                  <a:lnTo>
                    <a:pt x="175" y="1491"/>
                  </a:lnTo>
                  <a:lnTo>
                    <a:pt x="193" y="1538"/>
                  </a:lnTo>
                  <a:lnTo>
                    <a:pt x="209" y="1583"/>
                  </a:lnTo>
                  <a:lnTo>
                    <a:pt x="224" y="1624"/>
                  </a:lnTo>
                  <a:lnTo>
                    <a:pt x="239" y="1661"/>
                  </a:lnTo>
                  <a:lnTo>
                    <a:pt x="251" y="1694"/>
                  </a:lnTo>
                  <a:lnTo>
                    <a:pt x="264" y="1722"/>
                  </a:lnTo>
                  <a:lnTo>
                    <a:pt x="273" y="1747"/>
                  </a:lnTo>
                  <a:lnTo>
                    <a:pt x="1388" y="1677"/>
                  </a:lnTo>
                  <a:lnTo>
                    <a:pt x="1234" y="1113"/>
                  </a:lnTo>
                  <a:lnTo>
                    <a:pt x="1284" y="1113"/>
                  </a:lnTo>
                  <a:lnTo>
                    <a:pt x="1288" y="1113"/>
                  </a:lnTo>
                  <a:lnTo>
                    <a:pt x="1298" y="1111"/>
                  </a:lnTo>
                  <a:lnTo>
                    <a:pt x="1314" y="1110"/>
                  </a:lnTo>
                  <a:lnTo>
                    <a:pt x="1336" y="1109"/>
                  </a:lnTo>
                  <a:lnTo>
                    <a:pt x="1362" y="1105"/>
                  </a:lnTo>
                  <a:lnTo>
                    <a:pt x="1392" y="1098"/>
                  </a:lnTo>
                  <a:lnTo>
                    <a:pt x="1426" y="1091"/>
                  </a:lnTo>
                  <a:lnTo>
                    <a:pt x="1464" y="1080"/>
                  </a:lnTo>
                  <a:lnTo>
                    <a:pt x="1503" y="1066"/>
                  </a:lnTo>
                  <a:lnTo>
                    <a:pt x="1545" y="1051"/>
                  </a:lnTo>
                  <a:lnTo>
                    <a:pt x="1589" y="1031"/>
                  </a:lnTo>
                  <a:lnTo>
                    <a:pt x="1634" y="1008"/>
                  </a:lnTo>
                  <a:lnTo>
                    <a:pt x="1679" y="981"/>
                  </a:lnTo>
                  <a:lnTo>
                    <a:pt x="1724" y="949"/>
                  </a:lnTo>
                  <a:lnTo>
                    <a:pt x="1769" y="913"/>
                  </a:lnTo>
                  <a:lnTo>
                    <a:pt x="1812" y="872"/>
                  </a:lnTo>
                  <a:lnTo>
                    <a:pt x="1830" y="845"/>
                  </a:lnTo>
                  <a:lnTo>
                    <a:pt x="1834" y="811"/>
                  </a:lnTo>
                  <a:lnTo>
                    <a:pt x="1827" y="771"/>
                  </a:lnTo>
                  <a:lnTo>
                    <a:pt x="1807" y="7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631880" y="4794120"/>
              <a:ext cx="2131920" cy="622440"/>
            </a:xfrm>
            <a:custGeom>
              <a:avLst/>
              <a:gdLst/>
              <a:ahLst/>
              <a:rect l="l" t="t" r="r" b="b"/>
              <a:pathLst>
                <a:path w="1343" h="392">
                  <a:moveTo>
                    <a:pt x="1186" y="392"/>
                  </a:moveTo>
                  <a:lnTo>
                    <a:pt x="8" y="134"/>
                  </a:lnTo>
                  <a:lnTo>
                    <a:pt x="0" y="81"/>
                  </a:lnTo>
                  <a:lnTo>
                    <a:pt x="1288" y="0"/>
                  </a:lnTo>
                  <a:lnTo>
                    <a:pt x="1343" y="208"/>
                  </a:lnTo>
                  <a:lnTo>
                    <a:pt x="1216" y="96"/>
                  </a:lnTo>
                  <a:lnTo>
                    <a:pt x="1186" y="39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3255840" y="2627280"/>
              <a:ext cx="214560" cy="303120"/>
            </a:xfrm>
            <a:custGeom>
              <a:avLst/>
              <a:gdLst/>
              <a:ahLst/>
              <a:rect l="l" t="t" r="r" b="b"/>
              <a:pathLst>
                <a:path w="135" h="191">
                  <a:moveTo>
                    <a:pt x="44" y="0"/>
                  </a:moveTo>
                  <a:lnTo>
                    <a:pt x="34" y="4"/>
                  </a:lnTo>
                  <a:lnTo>
                    <a:pt x="26" y="9"/>
                  </a:lnTo>
                  <a:lnTo>
                    <a:pt x="18" y="16"/>
                  </a:lnTo>
                  <a:lnTo>
                    <a:pt x="12" y="25"/>
                  </a:lnTo>
                  <a:lnTo>
                    <a:pt x="4" y="39"/>
                  </a:lnTo>
                  <a:lnTo>
                    <a:pt x="0" y="57"/>
                  </a:lnTo>
                  <a:lnTo>
                    <a:pt x="0" y="78"/>
                  </a:lnTo>
                  <a:lnTo>
                    <a:pt x="3" y="102"/>
                  </a:lnTo>
                  <a:lnTo>
                    <a:pt x="7" y="117"/>
                  </a:lnTo>
                  <a:lnTo>
                    <a:pt x="12" y="130"/>
                  </a:lnTo>
                  <a:lnTo>
                    <a:pt x="19" y="141"/>
                  </a:lnTo>
                  <a:lnTo>
                    <a:pt x="27" y="152"/>
                  </a:lnTo>
                  <a:lnTo>
                    <a:pt x="34" y="160"/>
                  </a:lnTo>
                  <a:lnTo>
                    <a:pt x="42" y="165"/>
                  </a:lnTo>
                  <a:lnTo>
                    <a:pt x="50" y="168"/>
                  </a:lnTo>
                  <a:lnTo>
                    <a:pt x="59" y="168"/>
                  </a:lnTo>
                  <a:lnTo>
                    <a:pt x="72" y="159"/>
                  </a:lnTo>
                  <a:lnTo>
                    <a:pt x="82" y="140"/>
                  </a:lnTo>
                  <a:lnTo>
                    <a:pt x="84" y="114"/>
                  </a:lnTo>
                  <a:lnTo>
                    <a:pt x="80" y="84"/>
                  </a:lnTo>
                  <a:lnTo>
                    <a:pt x="79" y="81"/>
                  </a:lnTo>
                  <a:lnTo>
                    <a:pt x="79" y="80"/>
                  </a:lnTo>
                  <a:lnTo>
                    <a:pt x="79" y="77"/>
                  </a:lnTo>
                  <a:lnTo>
                    <a:pt x="78" y="76"/>
                  </a:lnTo>
                  <a:lnTo>
                    <a:pt x="89" y="92"/>
                  </a:lnTo>
                  <a:lnTo>
                    <a:pt x="98" y="111"/>
                  </a:lnTo>
                  <a:lnTo>
                    <a:pt x="106" y="131"/>
                  </a:lnTo>
                  <a:lnTo>
                    <a:pt x="112" y="155"/>
                  </a:lnTo>
                  <a:lnTo>
                    <a:pt x="113" y="164"/>
                  </a:lnTo>
                  <a:lnTo>
                    <a:pt x="114" y="172"/>
                  </a:lnTo>
                  <a:lnTo>
                    <a:pt x="116" y="182"/>
                  </a:lnTo>
                  <a:lnTo>
                    <a:pt x="117" y="191"/>
                  </a:lnTo>
                  <a:lnTo>
                    <a:pt x="128" y="172"/>
                  </a:lnTo>
                  <a:lnTo>
                    <a:pt x="133" y="148"/>
                  </a:lnTo>
                  <a:lnTo>
                    <a:pt x="135" y="121"/>
                  </a:lnTo>
                  <a:lnTo>
                    <a:pt x="131" y="91"/>
                  </a:lnTo>
                  <a:lnTo>
                    <a:pt x="124" y="70"/>
                  </a:lnTo>
                  <a:lnTo>
                    <a:pt x="116" y="51"/>
                  </a:lnTo>
                  <a:lnTo>
                    <a:pt x="106" y="35"/>
                  </a:lnTo>
                  <a:lnTo>
                    <a:pt x="95" y="20"/>
                  </a:lnTo>
                  <a:lnTo>
                    <a:pt x="83" y="10"/>
                  </a:lnTo>
                  <a:lnTo>
                    <a:pt x="69" y="2"/>
                  </a:lnTo>
                  <a:lnTo>
                    <a:pt x="57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352600" y="2736720"/>
              <a:ext cx="214560" cy="304920"/>
            </a:xfrm>
            <a:custGeom>
              <a:avLst/>
              <a:gdLst/>
              <a:ahLst/>
              <a:rect l="l" t="t" r="r" b="b"/>
              <a:pathLst>
                <a:path w="135" h="192">
                  <a:moveTo>
                    <a:pt x="42" y="1"/>
                  </a:moveTo>
                  <a:lnTo>
                    <a:pt x="33" y="4"/>
                  </a:lnTo>
                  <a:lnTo>
                    <a:pt x="25" y="9"/>
                  </a:lnTo>
                  <a:lnTo>
                    <a:pt x="18" y="16"/>
                  </a:lnTo>
                  <a:lnTo>
                    <a:pt x="11" y="26"/>
                  </a:lnTo>
                  <a:lnTo>
                    <a:pt x="4" y="39"/>
                  </a:lnTo>
                  <a:lnTo>
                    <a:pt x="0" y="57"/>
                  </a:lnTo>
                  <a:lnTo>
                    <a:pt x="0" y="79"/>
                  </a:lnTo>
                  <a:lnTo>
                    <a:pt x="3" y="102"/>
                  </a:lnTo>
                  <a:lnTo>
                    <a:pt x="7" y="117"/>
                  </a:lnTo>
                  <a:lnTo>
                    <a:pt x="13" y="130"/>
                  </a:lnTo>
                  <a:lnTo>
                    <a:pt x="19" y="141"/>
                  </a:lnTo>
                  <a:lnTo>
                    <a:pt x="26" y="152"/>
                  </a:lnTo>
                  <a:lnTo>
                    <a:pt x="34" y="160"/>
                  </a:lnTo>
                  <a:lnTo>
                    <a:pt x="42" y="166"/>
                  </a:lnTo>
                  <a:lnTo>
                    <a:pt x="51" y="169"/>
                  </a:lnTo>
                  <a:lnTo>
                    <a:pt x="59" y="169"/>
                  </a:lnTo>
                  <a:lnTo>
                    <a:pt x="72" y="159"/>
                  </a:lnTo>
                  <a:lnTo>
                    <a:pt x="81" y="140"/>
                  </a:lnTo>
                  <a:lnTo>
                    <a:pt x="83" y="114"/>
                  </a:lnTo>
                  <a:lnTo>
                    <a:pt x="79" y="84"/>
                  </a:lnTo>
                  <a:lnTo>
                    <a:pt x="79" y="82"/>
                  </a:lnTo>
                  <a:lnTo>
                    <a:pt x="79" y="80"/>
                  </a:lnTo>
                  <a:lnTo>
                    <a:pt x="78" y="77"/>
                  </a:lnTo>
                  <a:lnTo>
                    <a:pt x="78" y="76"/>
                  </a:lnTo>
                  <a:lnTo>
                    <a:pt x="87" y="92"/>
                  </a:lnTo>
                  <a:lnTo>
                    <a:pt x="97" y="111"/>
                  </a:lnTo>
                  <a:lnTo>
                    <a:pt x="105" y="132"/>
                  </a:lnTo>
                  <a:lnTo>
                    <a:pt x="111" y="155"/>
                  </a:lnTo>
                  <a:lnTo>
                    <a:pt x="112" y="164"/>
                  </a:lnTo>
                  <a:lnTo>
                    <a:pt x="115" y="174"/>
                  </a:lnTo>
                  <a:lnTo>
                    <a:pt x="116" y="184"/>
                  </a:lnTo>
                  <a:lnTo>
                    <a:pt x="116" y="192"/>
                  </a:lnTo>
                  <a:lnTo>
                    <a:pt x="127" y="173"/>
                  </a:lnTo>
                  <a:lnTo>
                    <a:pt x="134" y="148"/>
                  </a:lnTo>
                  <a:lnTo>
                    <a:pt x="135" y="121"/>
                  </a:lnTo>
                  <a:lnTo>
                    <a:pt x="131" y="91"/>
                  </a:lnTo>
                  <a:lnTo>
                    <a:pt x="124" y="71"/>
                  </a:lnTo>
                  <a:lnTo>
                    <a:pt x="116" y="52"/>
                  </a:lnTo>
                  <a:lnTo>
                    <a:pt x="106" y="35"/>
                  </a:lnTo>
                  <a:lnTo>
                    <a:pt x="96" y="22"/>
                  </a:lnTo>
                  <a:lnTo>
                    <a:pt x="82" y="11"/>
                  </a:lnTo>
                  <a:lnTo>
                    <a:pt x="70" y="4"/>
                  </a:lnTo>
                  <a:lnTo>
                    <a:pt x="56" y="0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3027240" y="2241720"/>
              <a:ext cx="511200" cy="344160"/>
            </a:xfrm>
            <a:custGeom>
              <a:avLst/>
              <a:gdLst/>
              <a:ahLst/>
              <a:rect l="l" t="t" r="r" b="b"/>
              <a:pathLst>
                <a:path w="322" h="217">
                  <a:moveTo>
                    <a:pt x="5" y="217"/>
                  </a:moveTo>
                  <a:lnTo>
                    <a:pt x="12" y="215"/>
                  </a:lnTo>
                  <a:lnTo>
                    <a:pt x="30" y="210"/>
                  </a:lnTo>
                  <a:lnTo>
                    <a:pt x="56" y="200"/>
                  </a:lnTo>
                  <a:lnTo>
                    <a:pt x="87" y="189"/>
                  </a:lnTo>
                  <a:lnTo>
                    <a:pt x="121" y="177"/>
                  </a:lnTo>
                  <a:lnTo>
                    <a:pt x="155" y="164"/>
                  </a:lnTo>
                  <a:lnTo>
                    <a:pt x="188" y="150"/>
                  </a:lnTo>
                  <a:lnTo>
                    <a:pt x="213" y="135"/>
                  </a:lnTo>
                  <a:lnTo>
                    <a:pt x="235" y="119"/>
                  </a:lnTo>
                  <a:lnTo>
                    <a:pt x="256" y="98"/>
                  </a:lnTo>
                  <a:lnTo>
                    <a:pt x="275" y="75"/>
                  </a:lnTo>
                  <a:lnTo>
                    <a:pt x="291" y="53"/>
                  </a:lnTo>
                  <a:lnTo>
                    <a:pt x="305" y="33"/>
                  </a:lnTo>
                  <a:lnTo>
                    <a:pt x="314" y="17"/>
                  </a:lnTo>
                  <a:lnTo>
                    <a:pt x="320" y="4"/>
                  </a:lnTo>
                  <a:lnTo>
                    <a:pt x="322" y="0"/>
                  </a:lnTo>
                  <a:lnTo>
                    <a:pt x="321" y="2"/>
                  </a:lnTo>
                  <a:lnTo>
                    <a:pt x="317" y="6"/>
                  </a:lnTo>
                  <a:lnTo>
                    <a:pt x="310" y="11"/>
                  </a:lnTo>
                  <a:lnTo>
                    <a:pt x="301" y="18"/>
                  </a:lnTo>
                  <a:lnTo>
                    <a:pt x="290" y="28"/>
                  </a:lnTo>
                  <a:lnTo>
                    <a:pt x="276" y="38"/>
                  </a:lnTo>
                  <a:lnTo>
                    <a:pt x="261" y="49"/>
                  </a:lnTo>
                  <a:lnTo>
                    <a:pt x="245" y="62"/>
                  </a:lnTo>
                  <a:lnTo>
                    <a:pt x="227" y="74"/>
                  </a:lnTo>
                  <a:lnTo>
                    <a:pt x="208" y="86"/>
                  </a:lnTo>
                  <a:lnTo>
                    <a:pt x="188" y="98"/>
                  </a:lnTo>
                  <a:lnTo>
                    <a:pt x="167" y="109"/>
                  </a:lnTo>
                  <a:lnTo>
                    <a:pt x="147" y="120"/>
                  </a:lnTo>
                  <a:lnTo>
                    <a:pt x="125" y="130"/>
                  </a:lnTo>
                  <a:lnTo>
                    <a:pt x="103" y="138"/>
                  </a:lnTo>
                  <a:lnTo>
                    <a:pt x="83" y="145"/>
                  </a:lnTo>
                  <a:lnTo>
                    <a:pt x="47" y="157"/>
                  </a:lnTo>
                  <a:lnTo>
                    <a:pt x="24" y="169"/>
                  </a:lnTo>
                  <a:lnTo>
                    <a:pt x="9" y="181"/>
                  </a:lnTo>
                  <a:lnTo>
                    <a:pt x="3" y="192"/>
                  </a:lnTo>
                  <a:lnTo>
                    <a:pt x="0" y="202"/>
                  </a:lnTo>
                  <a:lnTo>
                    <a:pt x="1" y="210"/>
                  </a:lnTo>
                  <a:lnTo>
                    <a:pt x="4" y="215"/>
                  </a:lnTo>
                  <a:lnTo>
                    <a:pt x="5" y="2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901880" y="2325600"/>
              <a:ext cx="657000" cy="453960"/>
            </a:xfrm>
            <a:custGeom>
              <a:avLst/>
              <a:gdLst/>
              <a:ahLst/>
              <a:rect l="l" t="t" r="r" b="b"/>
              <a:pathLst>
                <a:path w="414" h="286">
                  <a:moveTo>
                    <a:pt x="414" y="89"/>
                  </a:moveTo>
                  <a:lnTo>
                    <a:pt x="412" y="87"/>
                  </a:lnTo>
                  <a:lnTo>
                    <a:pt x="408" y="83"/>
                  </a:lnTo>
                  <a:lnTo>
                    <a:pt x="401" y="77"/>
                  </a:lnTo>
                  <a:lnTo>
                    <a:pt x="392" y="68"/>
                  </a:lnTo>
                  <a:lnTo>
                    <a:pt x="381" y="59"/>
                  </a:lnTo>
                  <a:lnTo>
                    <a:pt x="367" y="49"/>
                  </a:lnTo>
                  <a:lnTo>
                    <a:pt x="351" y="39"/>
                  </a:lnTo>
                  <a:lnTo>
                    <a:pt x="333" y="29"/>
                  </a:lnTo>
                  <a:lnTo>
                    <a:pt x="314" y="19"/>
                  </a:lnTo>
                  <a:lnTo>
                    <a:pt x="292" y="11"/>
                  </a:lnTo>
                  <a:lnTo>
                    <a:pt x="269" y="4"/>
                  </a:lnTo>
                  <a:lnTo>
                    <a:pt x="245" y="0"/>
                  </a:lnTo>
                  <a:lnTo>
                    <a:pt x="219" y="0"/>
                  </a:lnTo>
                  <a:lnTo>
                    <a:pt x="192" y="2"/>
                  </a:lnTo>
                  <a:lnTo>
                    <a:pt x="165" y="9"/>
                  </a:lnTo>
                  <a:lnTo>
                    <a:pt x="135" y="18"/>
                  </a:lnTo>
                  <a:lnTo>
                    <a:pt x="83" y="48"/>
                  </a:lnTo>
                  <a:lnTo>
                    <a:pt x="46" y="87"/>
                  </a:lnTo>
                  <a:lnTo>
                    <a:pt x="23" y="131"/>
                  </a:lnTo>
                  <a:lnTo>
                    <a:pt x="8" y="176"/>
                  </a:lnTo>
                  <a:lnTo>
                    <a:pt x="1" y="218"/>
                  </a:lnTo>
                  <a:lnTo>
                    <a:pt x="0" y="253"/>
                  </a:lnTo>
                  <a:lnTo>
                    <a:pt x="0" y="278"/>
                  </a:lnTo>
                  <a:lnTo>
                    <a:pt x="1" y="286"/>
                  </a:lnTo>
                  <a:lnTo>
                    <a:pt x="4" y="278"/>
                  </a:lnTo>
                  <a:lnTo>
                    <a:pt x="12" y="256"/>
                  </a:lnTo>
                  <a:lnTo>
                    <a:pt x="26" y="225"/>
                  </a:lnTo>
                  <a:lnTo>
                    <a:pt x="47" y="188"/>
                  </a:lnTo>
                  <a:lnTo>
                    <a:pt x="75" y="150"/>
                  </a:lnTo>
                  <a:lnTo>
                    <a:pt x="111" y="113"/>
                  </a:lnTo>
                  <a:lnTo>
                    <a:pt x="155" y="82"/>
                  </a:lnTo>
                  <a:lnTo>
                    <a:pt x="208" y="60"/>
                  </a:lnTo>
                  <a:lnTo>
                    <a:pt x="261" y="51"/>
                  </a:lnTo>
                  <a:lnTo>
                    <a:pt x="306" y="48"/>
                  </a:lnTo>
                  <a:lnTo>
                    <a:pt x="341" y="52"/>
                  </a:lnTo>
                  <a:lnTo>
                    <a:pt x="369" y="60"/>
                  </a:lnTo>
                  <a:lnTo>
                    <a:pt x="389" y="70"/>
                  </a:lnTo>
                  <a:lnTo>
                    <a:pt x="403" y="79"/>
                  </a:lnTo>
                  <a:lnTo>
                    <a:pt x="411" y="86"/>
                  </a:lnTo>
                  <a:lnTo>
                    <a:pt x="414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3247920" y="3952800"/>
              <a:ext cx="1724040" cy="1282680"/>
            </a:xfrm>
            <a:custGeom>
              <a:avLst/>
              <a:gdLst/>
              <a:ahLst/>
              <a:rect l="l" t="t" r="r" b="b"/>
              <a:pathLst>
                <a:path w="1086" h="808">
                  <a:moveTo>
                    <a:pt x="1030" y="114"/>
                  </a:moveTo>
                  <a:lnTo>
                    <a:pt x="1019" y="98"/>
                  </a:lnTo>
                  <a:lnTo>
                    <a:pt x="1007" y="84"/>
                  </a:lnTo>
                  <a:lnTo>
                    <a:pt x="993" y="71"/>
                  </a:lnTo>
                  <a:lnTo>
                    <a:pt x="979" y="60"/>
                  </a:lnTo>
                  <a:lnTo>
                    <a:pt x="963" y="49"/>
                  </a:lnTo>
                  <a:lnTo>
                    <a:pt x="948" y="41"/>
                  </a:lnTo>
                  <a:lnTo>
                    <a:pt x="930" y="35"/>
                  </a:lnTo>
                  <a:lnTo>
                    <a:pt x="913" y="30"/>
                  </a:lnTo>
                  <a:lnTo>
                    <a:pt x="892" y="26"/>
                  </a:lnTo>
                  <a:lnTo>
                    <a:pt x="871" y="22"/>
                  </a:lnTo>
                  <a:lnTo>
                    <a:pt x="846" y="19"/>
                  </a:lnTo>
                  <a:lnTo>
                    <a:pt x="819" y="15"/>
                  </a:lnTo>
                  <a:lnTo>
                    <a:pt x="792" y="12"/>
                  </a:lnTo>
                  <a:lnTo>
                    <a:pt x="762" y="9"/>
                  </a:lnTo>
                  <a:lnTo>
                    <a:pt x="730" y="7"/>
                  </a:lnTo>
                  <a:lnTo>
                    <a:pt x="699" y="4"/>
                  </a:lnTo>
                  <a:lnTo>
                    <a:pt x="666" y="3"/>
                  </a:lnTo>
                  <a:lnTo>
                    <a:pt x="632" y="1"/>
                  </a:lnTo>
                  <a:lnTo>
                    <a:pt x="597" y="0"/>
                  </a:lnTo>
                  <a:lnTo>
                    <a:pt x="563" y="0"/>
                  </a:lnTo>
                  <a:lnTo>
                    <a:pt x="528" y="0"/>
                  </a:lnTo>
                  <a:lnTo>
                    <a:pt x="492" y="0"/>
                  </a:lnTo>
                  <a:lnTo>
                    <a:pt x="456" y="1"/>
                  </a:lnTo>
                  <a:lnTo>
                    <a:pt x="421" y="1"/>
                  </a:lnTo>
                  <a:lnTo>
                    <a:pt x="386" y="4"/>
                  </a:lnTo>
                  <a:lnTo>
                    <a:pt x="351" y="5"/>
                  </a:lnTo>
                  <a:lnTo>
                    <a:pt x="318" y="8"/>
                  </a:lnTo>
                  <a:lnTo>
                    <a:pt x="284" y="12"/>
                  </a:lnTo>
                  <a:lnTo>
                    <a:pt x="253" y="15"/>
                  </a:lnTo>
                  <a:lnTo>
                    <a:pt x="221" y="19"/>
                  </a:lnTo>
                  <a:lnTo>
                    <a:pt x="192" y="24"/>
                  </a:lnTo>
                  <a:lnTo>
                    <a:pt x="164" y="30"/>
                  </a:lnTo>
                  <a:lnTo>
                    <a:pt x="138" y="35"/>
                  </a:lnTo>
                  <a:lnTo>
                    <a:pt x="114" y="42"/>
                  </a:lnTo>
                  <a:lnTo>
                    <a:pt x="91" y="50"/>
                  </a:lnTo>
                  <a:lnTo>
                    <a:pt x="70" y="58"/>
                  </a:lnTo>
                  <a:lnTo>
                    <a:pt x="53" y="66"/>
                  </a:lnTo>
                  <a:lnTo>
                    <a:pt x="38" y="76"/>
                  </a:lnTo>
                  <a:lnTo>
                    <a:pt x="24" y="85"/>
                  </a:lnTo>
                  <a:lnTo>
                    <a:pt x="15" y="96"/>
                  </a:lnTo>
                  <a:lnTo>
                    <a:pt x="4" y="114"/>
                  </a:lnTo>
                  <a:lnTo>
                    <a:pt x="0" y="134"/>
                  </a:lnTo>
                  <a:lnTo>
                    <a:pt x="1" y="155"/>
                  </a:lnTo>
                  <a:lnTo>
                    <a:pt x="9" y="175"/>
                  </a:lnTo>
                  <a:lnTo>
                    <a:pt x="23" y="196"/>
                  </a:lnTo>
                  <a:lnTo>
                    <a:pt x="39" y="212"/>
                  </a:lnTo>
                  <a:lnTo>
                    <a:pt x="60" y="228"/>
                  </a:lnTo>
                  <a:lnTo>
                    <a:pt x="83" y="241"/>
                  </a:lnTo>
                  <a:lnTo>
                    <a:pt x="109" y="253"/>
                  </a:lnTo>
                  <a:lnTo>
                    <a:pt x="136" y="262"/>
                  </a:lnTo>
                  <a:lnTo>
                    <a:pt x="166" y="271"/>
                  </a:lnTo>
                  <a:lnTo>
                    <a:pt x="197" y="276"/>
                  </a:lnTo>
                  <a:lnTo>
                    <a:pt x="228" y="281"/>
                  </a:lnTo>
                  <a:lnTo>
                    <a:pt x="261" y="285"/>
                  </a:lnTo>
                  <a:lnTo>
                    <a:pt x="294" y="288"/>
                  </a:lnTo>
                  <a:lnTo>
                    <a:pt x="326" y="290"/>
                  </a:lnTo>
                  <a:lnTo>
                    <a:pt x="358" y="291"/>
                  </a:lnTo>
                  <a:lnTo>
                    <a:pt x="387" y="291"/>
                  </a:lnTo>
                  <a:lnTo>
                    <a:pt x="417" y="291"/>
                  </a:lnTo>
                  <a:lnTo>
                    <a:pt x="445" y="290"/>
                  </a:lnTo>
                  <a:lnTo>
                    <a:pt x="434" y="310"/>
                  </a:lnTo>
                  <a:lnTo>
                    <a:pt x="424" y="330"/>
                  </a:lnTo>
                  <a:lnTo>
                    <a:pt x="419" y="351"/>
                  </a:lnTo>
                  <a:lnTo>
                    <a:pt x="417" y="371"/>
                  </a:lnTo>
                  <a:lnTo>
                    <a:pt x="420" y="388"/>
                  </a:lnTo>
                  <a:lnTo>
                    <a:pt x="424" y="401"/>
                  </a:lnTo>
                  <a:lnTo>
                    <a:pt x="428" y="412"/>
                  </a:lnTo>
                  <a:lnTo>
                    <a:pt x="432" y="420"/>
                  </a:lnTo>
                  <a:lnTo>
                    <a:pt x="434" y="420"/>
                  </a:lnTo>
                  <a:lnTo>
                    <a:pt x="434" y="422"/>
                  </a:lnTo>
                  <a:lnTo>
                    <a:pt x="434" y="422"/>
                  </a:lnTo>
                  <a:lnTo>
                    <a:pt x="435" y="423"/>
                  </a:lnTo>
                  <a:lnTo>
                    <a:pt x="434" y="426"/>
                  </a:lnTo>
                  <a:lnTo>
                    <a:pt x="431" y="432"/>
                  </a:lnTo>
                  <a:lnTo>
                    <a:pt x="427" y="442"/>
                  </a:lnTo>
                  <a:lnTo>
                    <a:pt x="419" y="456"/>
                  </a:lnTo>
                  <a:lnTo>
                    <a:pt x="404" y="494"/>
                  </a:lnTo>
                  <a:lnTo>
                    <a:pt x="400" y="530"/>
                  </a:lnTo>
                  <a:lnTo>
                    <a:pt x="404" y="566"/>
                  </a:lnTo>
                  <a:lnTo>
                    <a:pt x="415" y="600"/>
                  </a:lnTo>
                  <a:lnTo>
                    <a:pt x="428" y="630"/>
                  </a:lnTo>
                  <a:lnTo>
                    <a:pt x="443" y="654"/>
                  </a:lnTo>
                  <a:lnTo>
                    <a:pt x="457" y="673"/>
                  </a:lnTo>
                  <a:lnTo>
                    <a:pt x="468" y="685"/>
                  </a:lnTo>
                  <a:lnTo>
                    <a:pt x="477" y="694"/>
                  </a:lnTo>
                  <a:lnTo>
                    <a:pt x="487" y="703"/>
                  </a:lnTo>
                  <a:lnTo>
                    <a:pt x="499" y="713"/>
                  </a:lnTo>
                  <a:lnTo>
                    <a:pt x="511" y="724"/>
                  </a:lnTo>
                  <a:lnTo>
                    <a:pt x="525" y="734"/>
                  </a:lnTo>
                  <a:lnTo>
                    <a:pt x="539" y="745"/>
                  </a:lnTo>
                  <a:lnTo>
                    <a:pt x="553" y="756"/>
                  </a:lnTo>
                  <a:lnTo>
                    <a:pt x="568" y="767"/>
                  </a:lnTo>
                  <a:lnTo>
                    <a:pt x="585" y="777"/>
                  </a:lnTo>
                  <a:lnTo>
                    <a:pt x="600" y="786"/>
                  </a:lnTo>
                  <a:lnTo>
                    <a:pt x="615" y="793"/>
                  </a:lnTo>
                  <a:lnTo>
                    <a:pt x="631" y="800"/>
                  </a:lnTo>
                  <a:lnTo>
                    <a:pt x="646" y="804"/>
                  </a:lnTo>
                  <a:lnTo>
                    <a:pt x="660" y="808"/>
                  </a:lnTo>
                  <a:lnTo>
                    <a:pt x="673" y="808"/>
                  </a:lnTo>
                  <a:lnTo>
                    <a:pt x="687" y="807"/>
                  </a:lnTo>
                  <a:lnTo>
                    <a:pt x="698" y="802"/>
                  </a:lnTo>
                  <a:lnTo>
                    <a:pt x="707" y="797"/>
                  </a:lnTo>
                  <a:lnTo>
                    <a:pt x="715" y="790"/>
                  </a:lnTo>
                  <a:lnTo>
                    <a:pt x="724" y="779"/>
                  </a:lnTo>
                  <a:lnTo>
                    <a:pt x="732" y="768"/>
                  </a:lnTo>
                  <a:lnTo>
                    <a:pt x="739" y="755"/>
                  </a:lnTo>
                  <a:lnTo>
                    <a:pt x="744" y="738"/>
                  </a:lnTo>
                  <a:lnTo>
                    <a:pt x="749" y="721"/>
                  </a:lnTo>
                  <a:lnTo>
                    <a:pt x="758" y="730"/>
                  </a:lnTo>
                  <a:lnTo>
                    <a:pt x="767" y="738"/>
                  </a:lnTo>
                  <a:lnTo>
                    <a:pt x="777" y="747"/>
                  </a:lnTo>
                  <a:lnTo>
                    <a:pt x="788" y="753"/>
                  </a:lnTo>
                  <a:lnTo>
                    <a:pt x="805" y="762"/>
                  </a:lnTo>
                  <a:lnTo>
                    <a:pt x="824" y="767"/>
                  </a:lnTo>
                  <a:lnTo>
                    <a:pt x="843" y="770"/>
                  </a:lnTo>
                  <a:lnTo>
                    <a:pt x="862" y="771"/>
                  </a:lnTo>
                  <a:lnTo>
                    <a:pt x="881" y="770"/>
                  </a:lnTo>
                  <a:lnTo>
                    <a:pt x="902" y="767"/>
                  </a:lnTo>
                  <a:lnTo>
                    <a:pt x="920" y="764"/>
                  </a:lnTo>
                  <a:lnTo>
                    <a:pt x="939" y="759"/>
                  </a:lnTo>
                  <a:lnTo>
                    <a:pt x="956" y="753"/>
                  </a:lnTo>
                  <a:lnTo>
                    <a:pt x="971" y="748"/>
                  </a:lnTo>
                  <a:lnTo>
                    <a:pt x="986" y="741"/>
                  </a:lnTo>
                  <a:lnTo>
                    <a:pt x="1000" y="736"/>
                  </a:lnTo>
                  <a:lnTo>
                    <a:pt x="1011" y="730"/>
                  </a:lnTo>
                  <a:lnTo>
                    <a:pt x="1020" y="725"/>
                  </a:lnTo>
                  <a:lnTo>
                    <a:pt x="1027" y="722"/>
                  </a:lnTo>
                  <a:lnTo>
                    <a:pt x="1031" y="719"/>
                  </a:lnTo>
                  <a:lnTo>
                    <a:pt x="1045" y="711"/>
                  </a:lnTo>
                  <a:lnTo>
                    <a:pt x="1049" y="695"/>
                  </a:lnTo>
                  <a:lnTo>
                    <a:pt x="1054" y="672"/>
                  </a:lnTo>
                  <a:lnTo>
                    <a:pt x="1062" y="621"/>
                  </a:lnTo>
                  <a:lnTo>
                    <a:pt x="1073" y="551"/>
                  </a:lnTo>
                  <a:lnTo>
                    <a:pt x="1083" y="464"/>
                  </a:lnTo>
                  <a:lnTo>
                    <a:pt x="1086" y="371"/>
                  </a:lnTo>
                  <a:lnTo>
                    <a:pt x="1080" y="276"/>
                  </a:lnTo>
                  <a:lnTo>
                    <a:pt x="1062" y="189"/>
                  </a:lnTo>
                  <a:lnTo>
                    <a:pt x="103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373560" y="4075200"/>
              <a:ext cx="1474560" cy="1036440"/>
            </a:xfrm>
            <a:custGeom>
              <a:avLst/>
              <a:gdLst/>
              <a:ahLst/>
              <a:rect l="l" t="t" r="r" b="b"/>
              <a:pathLst>
                <a:path w="929" h="653">
                  <a:moveTo>
                    <a:pt x="898" y="584"/>
                  </a:moveTo>
                  <a:lnTo>
                    <a:pt x="883" y="591"/>
                  </a:lnTo>
                  <a:lnTo>
                    <a:pt x="864" y="599"/>
                  </a:lnTo>
                  <a:lnTo>
                    <a:pt x="845" y="606"/>
                  </a:lnTo>
                  <a:lnTo>
                    <a:pt x="823" y="611"/>
                  </a:lnTo>
                  <a:lnTo>
                    <a:pt x="802" y="615"/>
                  </a:lnTo>
                  <a:lnTo>
                    <a:pt x="782" y="617"/>
                  </a:lnTo>
                  <a:lnTo>
                    <a:pt x="763" y="614"/>
                  </a:lnTo>
                  <a:lnTo>
                    <a:pt x="747" y="608"/>
                  </a:lnTo>
                  <a:lnTo>
                    <a:pt x="730" y="596"/>
                  </a:lnTo>
                  <a:lnTo>
                    <a:pt x="718" y="578"/>
                  </a:lnTo>
                  <a:lnTo>
                    <a:pt x="707" y="558"/>
                  </a:lnTo>
                  <a:lnTo>
                    <a:pt x="699" y="536"/>
                  </a:lnTo>
                  <a:lnTo>
                    <a:pt x="694" y="513"/>
                  </a:lnTo>
                  <a:lnTo>
                    <a:pt x="690" y="493"/>
                  </a:lnTo>
                  <a:lnTo>
                    <a:pt x="687" y="474"/>
                  </a:lnTo>
                  <a:lnTo>
                    <a:pt x="685" y="460"/>
                  </a:lnTo>
                  <a:lnTo>
                    <a:pt x="608" y="463"/>
                  </a:lnTo>
                  <a:lnTo>
                    <a:pt x="606" y="523"/>
                  </a:lnTo>
                  <a:lnTo>
                    <a:pt x="602" y="578"/>
                  </a:lnTo>
                  <a:lnTo>
                    <a:pt x="596" y="625"/>
                  </a:lnTo>
                  <a:lnTo>
                    <a:pt x="586" y="653"/>
                  </a:lnTo>
                  <a:lnTo>
                    <a:pt x="575" y="649"/>
                  </a:lnTo>
                  <a:lnTo>
                    <a:pt x="560" y="642"/>
                  </a:lnTo>
                  <a:lnTo>
                    <a:pt x="543" y="632"/>
                  </a:lnTo>
                  <a:lnTo>
                    <a:pt x="525" y="619"/>
                  </a:lnTo>
                  <a:lnTo>
                    <a:pt x="504" y="604"/>
                  </a:lnTo>
                  <a:lnTo>
                    <a:pt x="483" y="588"/>
                  </a:lnTo>
                  <a:lnTo>
                    <a:pt x="462" y="570"/>
                  </a:lnTo>
                  <a:lnTo>
                    <a:pt x="442" y="553"/>
                  </a:lnTo>
                  <a:lnTo>
                    <a:pt x="436" y="547"/>
                  </a:lnTo>
                  <a:lnTo>
                    <a:pt x="428" y="535"/>
                  </a:lnTo>
                  <a:lnTo>
                    <a:pt x="420" y="520"/>
                  </a:lnTo>
                  <a:lnTo>
                    <a:pt x="411" y="502"/>
                  </a:lnTo>
                  <a:lnTo>
                    <a:pt x="404" y="482"/>
                  </a:lnTo>
                  <a:lnTo>
                    <a:pt x="400" y="460"/>
                  </a:lnTo>
                  <a:lnTo>
                    <a:pt x="401" y="438"/>
                  </a:lnTo>
                  <a:lnTo>
                    <a:pt x="408" y="417"/>
                  </a:lnTo>
                  <a:lnTo>
                    <a:pt x="426" y="381"/>
                  </a:lnTo>
                  <a:lnTo>
                    <a:pt x="432" y="353"/>
                  </a:lnTo>
                  <a:lnTo>
                    <a:pt x="431" y="327"/>
                  </a:lnTo>
                  <a:lnTo>
                    <a:pt x="420" y="302"/>
                  </a:lnTo>
                  <a:lnTo>
                    <a:pt x="419" y="298"/>
                  </a:lnTo>
                  <a:lnTo>
                    <a:pt x="417" y="296"/>
                  </a:lnTo>
                  <a:lnTo>
                    <a:pt x="416" y="293"/>
                  </a:lnTo>
                  <a:lnTo>
                    <a:pt x="415" y="289"/>
                  </a:lnTo>
                  <a:lnTo>
                    <a:pt x="416" y="282"/>
                  </a:lnTo>
                  <a:lnTo>
                    <a:pt x="420" y="272"/>
                  </a:lnTo>
                  <a:lnTo>
                    <a:pt x="427" y="262"/>
                  </a:lnTo>
                  <a:lnTo>
                    <a:pt x="435" y="249"/>
                  </a:lnTo>
                  <a:lnTo>
                    <a:pt x="446" y="236"/>
                  </a:lnTo>
                  <a:lnTo>
                    <a:pt x="457" y="222"/>
                  </a:lnTo>
                  <a:lnTo>
                    <a:pt x="469" y="208"/>
                  </a:lnTo>
                  <a:lnTo>
                    <a:pt x="481" y="196"/>
                  </a:lnTo>
                  <a:lnTo>
                    <a:pt x="563" y="117"/>
                  </a:lnTo>
                  <a:lnTo>
                    <a:pt x="558" y="117"/>
                  </a:lnTo>
                  <a:lnTo>
                    <a:pt x="545" y="119"/>
                  </a:lnTo>
                  <a:lnTo>
                    <a:pt x="528" y="121"/>
                  </a:lnTo>
                  <a:lnTo>
                    <a:pt x="507" y="123"/>
                  </a:lnTo>
                  <a:lnTo>
                    <a:pt x="485" y="125"/>
                  </a:lnTo>
                  <a:lnTo>
                    <a:pt x="468" y="128"/>
                  </a:lnTo>
                  <a:lnTo>
                    <a:pt x="455" y="130"/>
                  </a:lnTo>
                  <a:lnTo>
                    <a:pt x="450" y="130"/>
                  </a:lnTo>
                  <a:lnTo>
                    <a:pt x="419" y="132"/>
                  </a:lnTo>
                  <a:lnTo>
                    <a:pt x="386" y="135"/>
                  </a:lnTo>
                  <a:lnTo>
                    <a:pt x="352" y="136"/>
                  </a:lnTo>
                  <a:lnTo>
                    <a:pt x="317" y="136"/>
                  </a:lnTo>
                  <a:lnTo>
                    <a:pt x="283" y="136"/>
                  </a:lnTo>
                  <a:lnTo>
                    <a:pt x="247" y="135"/>
                  </a:lnTo>
                  <a:lnTo>
                    <a:pt x="213" y="134"/>
                  </a:lnTo>
                  <a:lnTo>
                    <a:pt x="181" y="130"/>
                  </a:lnTo>
                  <a:lnTo>
                    <a:pt x="148" y="125"/>
                  </a:lnTo>
                  <a:lnTo>
                    <a:pt x="118" y="121"/>
                  </a:lnTo>
                  <a:lnTo>
                    <a:pt x="91" y="115"/>
                  </a:lnTo>
                  <a:lnTo>
                    <a:pt x="65" y="108"/>
                  </a:lnTo>
                  <a:lnTo>
                    <a:pt x="43" y="98"/>
                  </a:lnTo>
                  <a:lnTo>
                    <a:pt x="24" y="89"/>
                  </a:lnTo>
                  <a:lnTo>
                    <a:pt x="10" y="77"/>
                  </a:lnTo>
                  <a:lnTo>
                    <a:pt x="0" y="64"/>
                  </a:lnTo>
                  <a:lnTo>
                    <a:pt x="15" y="53"/>
                  </a:lnTo>
                  <a:lnTo>
                    <a:pt x="40" y="43"/>
                  </a:lnTo>
                  <a:lnTo>
                    <a:pt x="74" y="33"/>
                  </a:lnTo>
                  <a:lnTo>
                    <a:pt x="117" y="25"/>
                  </a:lnTo>
                  <a:lnTo>
                    <a:pt x="166" y="17"/>
                  </a:lnTo>
                  <a:lnTo>
                    <a:pt x="220" y="11"/>
                  </a:lnTo>
                  <a:lnTo>
                    <a:pt x="279" y="7"/>
                  </a:lnTo>
                  <a:lnTo>
                    <a:pt x="340" y="3"/>
                  </a:lnTo>
                  <a:lnTo>
                    <a:pt x="404" y="2"/>
                  </a:lnTo>
                  <a:lnTo>
                    <a:pt x="469" y="0"/>
                  </a:lnTo>
                  <a:lnTo>
                    <a:pt x="534" y="2"/>
                  </a:lnTo>
                  <a:lnTo>
                    <a:pt x="598" y="3"/>
                  </a:lnTo>
                  <a:lnTo>
                    <a:pt x="660" y="7"/>
                  </a:lnTo>
                  <a:lnTo>
                    <a:pt x="717" y="13"/>
                  </a:lnTo>
                  <a:lnTo>
                    <a:pt x="770" y="21"/>
                  </a:lnTo>
                  <a:lnTo>
                    <a:pt x="817" y="29"/>
                  </a:lnTo>
                  <a:lnTo>
                    <a:pt x="827" y="32"/>
                  </a:lnTo>
                  <a:lnTo>
                    <a:pt x="836" y="36"/>
                  </a:lnTo>
                  <a:lnTo>
                    <a:pt x="846" y="40"/>
                  </a:lnTo>
                  <a:lnTo>
                    <a:pt x="856" y="45"/>
                  </a:lnTo>
                  <a:lnTo>
                    <a:pt x="864" y="53"/>
                  </a:lnTo>
                  <a:lnTo>
                    <a:pt x="872" y="60"/>
                  </a:lnTo>
                  <a:lnTo>
                    <a:pt x="879" y="70"/>
                  </a:lnTo>
                  <a:lnTo>
                    <a:pt x="885" y="79"/>
                  </a:lnTo>
                  <a:lnTo>
                    <a:pt x="909" y="130"/>
                  </a:lnTo>
                  <a:lnTo>
                    <a:pt x="922" y="191"/>
                  </a:lnTo>
                  <a:lnTo>
                    <a:pt x="928" y="260"/>
                  </a:lnTo>
                  <a:lnTo>
                    <a:pt x="929" y="332"/>
                  </a:lnTo>
                  <a:lnTo>
                    <a:pt x="924" y="404"/>
                  </a:lnTo>
                  <a:lnTo>
                    <a:pt x="917" y="472"/>
                  </a:lnTo>
                  <a:lnTo>
                    <a:pt x="907" y="534"/>
                  </a:lnTo>
                  <a:lnTo>
                    <a:pt x="898" y="5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9" name=""/>
          <p:cNvSpPr/>
          <p:nvPr/>
        </p:nvSpPr>
        <p:spPr>
          <a:xfrm>
            <a:off x="2998800" y="4438800"/>
            <a:ext cx="372420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ERREUR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1" name="" descr=""/>
          <p:cNvPicPr/>
          <p:nvPr/>
        </p:nvPicPr>
        <p:blipFill>
          <a:blip r:embed="rId1"/>
          <a:stretch/>
        </p:blipFill>
        <p:spPr>
          <a:xfrm>
            <a:off x="3100320" y="1020600"/>
            <a:ext cx="3586320" cy="3027600"/>
          </a:xfrm>
          <a:prstGeom prst="rect">
            <a:avLst/>
          </a:prstGeom>
          <a:ln w="0">
            <a:noFill/>
          </a:ln>
        </p:spPr>
      </p:pic>
      <p:sp>
        <p:nvSpPr>
          <p:cNvPr id="4062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3" name=""/>
          <p:cNvSpPr/>
          <p:nvPr/>
        </p:nvSpPr>
        <p:spPr>
          <a:xfrm>
            <a:off x="2786040" y="3989520"/>
            <a:ext cx="374508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FAUX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 !!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5" name="" descr=""/>
          <p:cNvPicPr/>
          <p:nvPr/>
        </p:nvPicPr>
        <p:blipFill>
          <a:blip r:embed="rId1"/>
          <a:stretch/>
        </p:blipFill>
        <p:spPr>
          <a:xfrm>
            <a:off x="3309840" y="1285920"/>
            <a:ext cx="2600280" cy="2600280"/>
          </a:xfrm>
          <a:prstGeom prst="rect">
            <a:avLst/>
          </a:prstGeom>
          <a:ln w="0">
            <a:noFill/>
          </a:ln>
        </p:spPr>
      </p:pic>
      <p:sp>
        <p:nvSpPr>
          <p:cNvPr id="4066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7" name=""/>
          <p:cNvSpPr/>
          <p:nvPr/>
        </p:nvSpPr>
        <p:spPr>
          <a:xfrm>
            <a:off x="216000" y="1765440"/>
            <a:ext cx="4451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Mais non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8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9" name="" descr=""/>
          <p:cNvPicPr/>
          <p:nvPr/>
        </p:nvPicPr>
        <p:blipFill>
          <a:blip r:embed="rId1"/>
          <a:stretch/>
        </p:blipFill>
        <p:spPr>
          <a:xfrm>
            <a:off x="4691160" y="2116080"/>
            <a:ext cx="3343320" cy="3343320"/>
          </a:xfrm>
          <a:prstGeom prst="rect">
            <a:avLst/>
          </a:prstGeom>
          <a:ln w="0">
            <a:noFill/>
          </a:ln>
        </p:spPr>
      </p:pic>
      <p:sp>
        <p:nvSpPr>
          <p:cNvPr id="4070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"/>
          <p:cNvSpPr/>
          <p:nvPr/>
        </p:nvSpPr>
        <p:spPr>
          <a:xfrm>
            <a:off x="1171440" y="1731960"/>
            <a:ext cx="2716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ccff"/>
                </a:solidFill>
                <a:latin typeface="Arial"/>
              </a:rPr>
              <a:t>Non 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2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3" name="" descr=""/>
          <p:cNvPicPr/>
          <p:nvPr/>
        </p:nvPicPr>
        <p:blipFill>
          <a:blip r:embed="rId1"/>
          <a:stretch/>
        </p:blipFill>
        <p:spPr>
          <a:xfrm>
            <a:off x="4324320" y="2152800"/>
            <a:ext cx="2892600" cy="2892240"/>
          </a:xfrm>
          <a:prstGeom prst="rect">
            <a:avLst/>
          </a:prstGeom>
          <a:ln w="0">
            <a:noFill/>
          </a:ln>
        </p:spPr>
      </p:pic>
      <p:sp>
        <p:nvSpPr>
          <p:cNvPr id="4074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"/>
          <p:cNvSpPr/>
          <p:nvPr/>
        </p:nvSpPr>
        <p:spPr>
          <a:xfrm>
            <a:off x="725400" y="3191040"/>
            <a:ext cx="36054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FAUX</a:t>
            </a: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4987800" y="1660680"/>
            <a:ext cx="2828880" cy="3387600"/>
          </a:xfrm>
          <a:custGeom>
            <a:avLst/>
            <a:gdLst/>
            <a:ahLst/>
            <a:rect l="l" t="t" r="r" b="b"/>
            <a:pathLst>
              <a:path w="1782" h="2134">
                <a:moveTo>
                  <a:pt x="1782" y="1525"/>
                </a:moveTo>
                <a:lnTo>
                  <a:pt x="1721" y="1314"/>
                </a:lnTo>
                <a:lnTo>
                  <a:pt x="1722" y="1284"/>
                </a:lnTo>
                <a:lnTo>
                  <a:pt x="1722" y="1231"/>
                </a:lnTo>
                <a:lnTo>
                  <a:pt x="1722" y="1158"/>
                </a:lnTo>
                <a:lnTo>
                  <a:pt x="1720" y="1071"/>
                </a:lnTo>
                <a:lnTo>
                  <a:pt x="1715" y="972"/>
                </a:lnTo>
                <a:lnTo>
                  <a:pt x="1707" y="863"/>
                </a:lnTo>
                <a:lnTo>
                  <a:pt x="1693" y="749"/>
                </a:lnTo>
                <a:lnTo>
                  <a:pt x="1674" y="633"/>
                </a:lnTo>
                <a:lnTo>
                  <a:pt x="1649" y="516"/>
                </a:lnTo>
                <a:lnTo>
                  <a:pt x="1616" y="405"/>
                </a:lnTo>
                <a:lnTo>
                  <a:pt x="1576" y="299"/>
                </a:lnTo>
                <a:lnTo>
                  <a:pt x="1526" y="206"/>
                </a:lnTo>
                <a:lnTo>
                  <a:pt x="1467" y="126"/>
                </a:lnTo>
                <a:lnTo>
                  <a:pt x="1396" y="63"/>
                </a:lnTo>
                <a:lnTo>
                  <a:pt x="1313" y="21"/>
                </a:lnTo>
                <a:lnTo>
                  <a:pt x="1218" y="2"/>
                </a:lnTo>
                <a:lnTo>
                  <a:pt x="1182" y="0"/>
                </a:lnTo>
                <a:lnTo>
                  <a:pt x="1145" y="3"/>
                </a:lnTo>
                <a:lnTo>
                  <a:pt x="1107" y="7"/>
                </a:lnTo>
                <a:lnTo>
                  <a:pt x="1069" y="14"/>
                </a:lnTo>
                <a:lnTo>
                  <a:pt x="1031" y="23"/>
                </a:lnTo>
                <a:lnTo>
                  <a:pt x="992" y="35"/>
                </a:lnTo>
                <a:lnTo>
                  <a:pt x="954" y="47"/>
                </a:lnTo>
                <a:lnTo>
                  <a:pt x="914" y="63"/>
                </a:lnTo>
                <a:lnTo>
                  <a:pt x="876" y="79"/>
                </a:lnTo>
                <a:lnTo>
                  <a:pt x="837" y="98"/>
                </a:lnTo>
                <a:lnTo>
                  <a:pt x="799" y="118"/>
                </a:lnTo>
                <a:lnTo>
                  <a:pt x="761" y="141"/>
                </a:lnTo>
                <a:lnTo>
                  <a:pt x="723" y="164"/>
                </a:lnTo>
                <a:lnTo>
                  <a:pt x="685" y="188"/>
                </a:lnTo>
                <a:lnTo>
                  <a:pt x="648" y="215"/>
                </a:lnTo>
                <a:lnTo>
                  <a:pt x="612" y="241"/>
                </a:lnTo>
                <a:lnTo>
                  <a:pt x="575" y="269"/>
                </a:lnTo>
                <a:lnTo>
                  <a:pt x="539" y="298"/>
                </a:lnTo>
                <a:lnTo>
                  <a:pt x="504" y="327"/>
                </a:lnTo>
                <a:lnTo>
                  <a:pt x="470" y="358"/>
                </a:lnTo>
                <a:lnTo>
                  <a:pt x="435" y="388"/>
                </a:lnTo>
                <a:lnTo>
                  <a:pt x="403" y="420"/>
                </a:lnTo>
                <a:lnTo>
                  <a:pt x="371" y="452"/>
                </a:lnTo>
                <a:lnTo>
                  <a:pt x="340" y="483"/>
                </a:lnTo>
                <a:lnTo>
                  <a:pt x="310" y="516"/>
                </a:lnTo>
                <a:lnTo>
                  <a:pt x="281" y="548"/>
                </a:lnTo>
                <a:lnTo>
                  <a:pt x="253" y="579"/>
                </a:lnTo>
                <a:lnTo>
                  <a:pt x="226" y="611"/>
                </a:lnTo>
                <a:lnTo>
                  <a:pt x="201" y="643"/>
                </a:lnTo>
                <a:lnTo>
                  <a:pt x="177" y="674"/>
                </a:lnTo>
                <a:lnTo>
                  <a:pt x="156" y="705"/>
                </a:lnTo>
                <a:lnTo>
                  <a:pt x="134" y="735"/>
                </a:lnTo>
                <a:lnTo>
                  <a:pt x="107" y="776"/>
                </a:lnTo>
                <a:lnTo>
                  <a:pt x="81" y="821"/>
                </a:lnTo>
                <a:lnTo>
                  <a:pt x="53" y="872"/>
                </a:lnTo>
                <a:lnTo>
                  <a:pt x="30" y="924"/>
                </a:lnTo>
                <a:lnTo>
                  <a:pt x="11" y="976"/>
                </a:lnTo>
                <a:lnTo>
                  <a:pt x="1" y="1027"/>
                </a:lnTo>
                <a:lnTo>
                  <a:pt x="0" y="1075"/>
                </a:lnTo>
                <a:lnTo>
                  <a:pt x="11" y="1117"/>
                </a:lnTo>
                <a:lnTo>
                  <a:pt x="33" y="1153"/>
                </a:lnTo>
                <a:lnTo>
                  <a:pt x="63" y="1185"/>
                </a:lnTo>
                <a:lnTo>
                  <a:pt x="99" y="1213"/>
                </a:lnTo>
                <a:lnTo>
                  <a:pt x="139" y="1236"/>
                </a:lnTo>
                <a:lnTo>
                  <a:pt x="185" y="1256"/>
                </a:lnTo>
                <a:lnTo>
                  <a:pt x="233" y="1271"/>
                </a:lnTo>
                <a:lnTo>
                  <a:pt x="283" y="1285"/>
                </a:lnTo>
                <a:lnTo>
                  <a:pt x="337" y="1295"/>
                </a:lnTo>
                <a:lnTo>
                  <a:pt x="389" y="1303"/>
                </a:lnTo>
                <a:lnTo>
                  <a:pt x="441" y="1309"/>
                </a:lnTo>
                <a:lnTo>
                  <a:pt x="490" y="1313"/>
                </a:lnTo>
                <a:lnTo>
                  <a:pt x="538" y="1314"/>
                </a:lnTo>
                <a:lnTo>
                  <a:pt x="581" y="1316"/>
                </a:lnTo>
                <a:lnTo>
                  <a:pt x="620" y="1316"/>
                </a:lnTo>
                <a:lnTo>
                  <a:pt x="653" y="1316"/>
                </a:lnTo>
                <a:lnTo>
                  <a:pt x="680" y="1314"/>
                </a:lnTo>
                <a:lnTo>
                  <a:pt x="732" y="1827"/>
                </a:lnTo>
                <a:lnTo>
                  <a:pt x="556" y="1754"/>
                </a:lnTo>
                <a:lnTo>
                  <a:pt x="613" y="2134"/>
                </a:lnTo>
                <a:lnTo>
                  <a:pt x="761" y="2023"/>
                </a:lnTo>
                <a:lnTo>
                  <a:pt x="954" y="2116"/>
                </a:lnTo>
                <a:lnTo>
                  <a:pt x="956" y="2050"/>
                </a:lnTo>
                <a:lnTo>
                  <a:pt x="1782" y="15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5081760" y="1760400"/>
            <a:ext cx="2544480" cy="2732400"/>
          </a:xfrm>
          <a:custGeom>
            <a:avLst/>
            <a:gdLst/>
            <a:ahLst/>
            <a:rect l="l" t="t" r="r" b="b"/>
            <a:pathLst>
              <a:path w="1603" h="1721">
                <a:moveTo>
                  <a:pt x="7" y="1027"/>
                </a:moveTo>
                <a:lnTo>
                  <a:pt x="2" y="1008"/>
                </a:lnTo>
                <a:lnTo>
                  <a:pt x="0" y="984"/>
                </a:lnTo>
                <a:lnTo>
                  <a:pt x="5" y="952"/>
                </a:lnTo>
                <a:lnTo>
                  <a:pt x="15" y="916"/>
                </a:lnTo>
                <a:lnTo>
                  <a:pt x="32" y="872"/>
                </a:lnTo>
                <a:lnTo>
                  <a:pt x="55" y="823"/>
                </a:lnTo>
                <a:lnTo>
                  <a:pt x="86" y="769"/>
                </a:lnTo>
                <a:lnTo>
                  <a:pt x="126" y="707"/>
                </a:lnTo>
                <a:lnTo>
                  <a:pt x="148" y="674"/>
                </a:lnTo>
                <a:lnTo>
                  <a:pt x="174" y="639"/>
                </a:lnTo>
                <a:lnTo>
                  <a:pt x="199" y="606"/>
                </a:lnTo>
                <a:lnTo>
                  <a:pt x="226" y="573"/>
                </a:lnTo>
                <a:lnTo>
                  <a:pt x="254" y="541"/>
                </a:lnTo>
                <a:lnTo>
                  <a:pt x="281" y="508"/>
                </a:lnTo>
                <a:lnTo>
                  <a:pt x="312" y="476"/>
                </a:lnTo>
                <a:lnTo>
                  <a:pt x="342" y="444"/>
                </a:lnTo>
                <a:lnTo>
                  <a:pt x="373" y="413"/>
                </a:lnTo>
                <a:lnTo>
                  <a:pt x="406" y="382"/>
                </a:lnTo>
                <a:lnTo>
                  <a:pt x="437" y="352"/>
                </a:lnTo>
                <a:lnTo>
                  <a:pt x="470" y="323"/>
                </a:lnTo>
                <a:lnTo>
                  <a:pt x="504" y="293"/>
                </a:lnTo>
                <a:lnTo>
                  <a:pt x="539" y="266"/>
                </a:lnTo>
                <a:lnTo>
                  <a:pt x="573" y="239"/>
                </a:lnTo>
                <a:lnTo>
                  <a:pt x="608" y="214"/>
                </a:lnTo>
                <a:lnTo>
                  <a:pt x="642" y="188"/>
                </a:lnTo>
                <a:lnTo>
                  <a:pt x="678" y="166"/>
                </a:lnTo>
                <a:lnTo>
                  <a:pt x="713" y="143"/>
                </a:lnTo>
                <a:lnTo>
                  <a:pt x="749" y="122"/>
                </a:lnTo>
                <a:lnTo>
                  <a:pt x="784" y="102"/>
                </a:lnTo>
                <a:lnTo>
                  <a:pt x="820" y="84"/>
                </a:lnTo>
                <a:lnTo>
                  <a:pt x="855" y="68"/>
                </a:lnTo>
                <a:lnTo>
                  <a:pt x="890" y="53"/>
                </a:lnTo>
                <a:lnTo>
                  <a:pt x="925" y="40"/>
                </a:lnTo>
                <a:lnTo>
                  <a:pt x="959" y="29"/>
                </a:lnTo>
                <a:lnTo>
                  <a:pt x="993" y="19"/>
                </a:lnTo>
                <a:lnTo>
                  <a:pt x="1026" y="11"/>
                </a:lnTo>
                <a:lnTo>
                  <a:pt x="1061" y="6"/>
                </a:lnTo>
                <a:lnTo>
                  <a:pt x="1092" y="2"/>
                </a:lnTo>
                <a:lnTo>
                  <a:pt x="1124" y="0"/>
                </a:lnTo>
                <a:lnTo>
                  <a:pt x="1156" y="1"/>
                </a:lnTo>
                <a:lnTo>
                  <a:pt x="1237" y="17"/>
                </a:lnTo>
                <a:lnTo>
                  <a:pt x="1308" y="55"/>
                </a:lnTo>
                <a:lnTo>
                  <a:pt x="1368" y="112"/>
                </a:lnTo>
                <a:lnTo>
                  <a:pt x="1420" y="185"/>
                </a:lnTo>
                <a:lnTo>
                  <a:pt x="1465" y="269"/>
                </a:lnTo>
                <a:lnTo>
                  <a:pt x="1501" y="364"/>
                </a:lnTo>
                <a:lnTo>
                  <a:pt x="1530" y="467"/>
                </a:lnTo>
                <a:lnTo>
                  <a:pt x="1553" y="573"/>
                </a:lnTo>
                <a:lnTo>
                  <a:pt x="1571" y="681"/>
                </a:lnTo>
                <a:lnTo>
                  <a:pt x="1584" y="788"/>
                </a:lnTo>
                <a:lnTo>
                  <a:pt x="1593" y="890"/>
                </a:lnTo>
                <a:lnTo>
                  <a:pt x="1599" y="985"/>
                </a:lnTo>
                <a:lnTo>
                  <a:pt x="1601" y="1070"/>
                </a:lnTo>
                <a:lnTo>
                  <a:pt x="1603" y="1142"/>
                </a:lnTo>
                <a:lnTo>
                  <a:pt x="1603" y="1198"/>
                </a:lnTo>
                <a:lnTo>
                  <a:pt x="1601" y="1236"/>
                </a:lnTo>
                <a:lnTo>
                  <a:pt x="729" y="1721"/>
                </a:lnTo>
                <a:lnTo>
                  <a:pt x="675" y="1187"/>
                </a:lnTo>
                <a:lnTo>
                  <a:pt x="646" y="1188"/>
                </a:lnTo>
                <a:lnTo>
                  <a:pt x="615" y="1189"/>
                </a:lnTo>
                <a:lnTo>
                  <a:pt x="578" y="1190"/>
                </a:lnTo>
                <a:lnTo>
                  <a:pt x="537" y="1192"/>
                </a:lnTo>
                <a:lnTo>
                  <a:pt x="493" y="1190"/>
                </a:lnTo>
                <a:lnTo>
                  <a:pt x="446" y="1189"/>
                </a:lnTo>
                <a:lnTo>
                  <a:pt x="398" y="1185"/>
                </a:lnTo>
                <a:lnTo>
                  <a:pt x="347" y="1180"/>
                </a:lnTo>
                <a:lnTo>
                  <a:pt x="298" y="1174"/>
                </a:lnTo>
                <a:lnTo>
                  <a:pt x="250" y="1165"/>
                </a:lnTo>
                <a:lnTo>
                  <a:pt x="203" y="1154"/>
                </a:lnTo>
                <a:lnTo>
                  <a:pt x="159" y="1140"/>
                </a:lnTo>
                <a:lnTo>
                  <a:pt x="118" y="1123"/>
                </a:lnTo>
                <a:lnTo>
                  <a:pt x="81" y="1104"/>
                </a:lnTo>
                <a:lnTo>
                  <a:pt x="50" y="1082"/>
                </a:lnTo>
                <a:lnTo>
                  <a:pt x="24" y="1056"/>
                </a:lnTo>
                <a:lnTo>
                  <a:pt x="7" y="10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5992920" y="4599000"/>
            <a:ext cx="428400" cy="272880"/>
          </a:xfrm>
          <a:custGeom>
            <a:avLst/>
            <a:gdLst/>
            <a:ahLst/>
            <a:rect l="l" t="t" r="r" b="b"/>
            <a:pathLst>
              <a:path w="270" h="172">
                <a:moveTo>
                  <a:pt x="25" y="172"/>
                </a:moveTo>
                <a:lnTo>
                  <a:pt x="0" y="0"/>
                </a:lnTo>
                <a:lnTo>
                  <a:pt x="115" y="50"/>
                </a:lnTo>
                <a:lnTo>
                  <a:pt x="270" y="28"/>
                </a:lnTo>
                <a:lnTo>
                  <a:pt x="264" y="169"/>
                </a:lnTo>
                <a:lnTo>
                  <a:pt x="122" y="99"/>
                </a:lnTo>
                <a:lnTo>
                  <a:pt x="25" y="172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6318360" y="3825720"/>
            <a:ext cx="1385640" cy="971640"/>
          </a:xfrm>
          <a:custGeom>
            <a:avLst/>
            <a:gdLst/>
            <a:ahLst/>
            <a:rect l="l" t="t" r="r" b="b"/>
            <a:pathLst>
              <a:path w="873" h="612">
                <a:moveTo>
                  <a:pt x="0" y="462"/>
                </a:moveTo>
                <a:lnTo>
                  <a:pt x="834" y="0"/>
                </a:lnTo>
                <a:lnTo>
                  <a:pt x="873" y="134"/>
                </a:lnTo>
                <a:lnTo>
                  <a:pt x="122" y="612"/>
                </a:lnTo>
                <a:lnTo>
                  <a:pt x="130" y="444"/>
                </a:lnTo>
                <a:lnTo>
                  <a:pt x="0" y="462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5251320" y="2278080"/>
            <a:ext cx="1643040" cy="401760"/>
          </a:xfrm>
          <a:custGeom>
            <a:avLst/>
            <a:gdLst/>
            <a:ahLst/>
            <a:rect l="l" t="t" r="r" b="b"/>
            <a:pathLst>
              <a:path w="1035" h="253">
                <a:moveTo>
                  <a:pt x="1035" y="7"/>
                </a:moveTo>
                <a:lnTo>
                  <a:pt x="1032" y="8"/>
                </a:lnTo>
                <a:lnTo>
                  <a:pt x="1027" y="12"/>
                </a:lnTo>
                <a:lnTo>
                  <a:pt x="1017" y="17"/>
                </a:lnTo>
                <a:lnTo>
                  <a:pt x="1003" y="23"/>
                </a:lnTo>
                <a:lnTo>
                  <a:pt x="984" y="31"/>
                </a:lnTo>
                <a:lnTo>
                  <a:pt x="961" y="41"/>
                </a:lnTo>
                <a:lnTo>
                  <a:pt x="935" y="50"/>
                </a:lnTo>
                <a:lnTo>
                  <a:pt x="904" y="60"/>
                </a:lnTo>
                <a:lnTo>
                  <a:pt x="869" y="70"/>
                </a:lnTo>
                <a:lnTo>
                  <a:pt x="829" y="79"/>
                </a:lnTo>
                <a:lnTo>
                  <a:pt x="785" y="89"/>
                </a:lnTo>
                <a:lnTo>
                  <a:pt x="736" y="97"/>
                </a:lnTo>
                <a:lnTo>
                  <a:pt x="682" y="103"/>
                </a:lnTo>
                <a:lnTo>
                  <a:pt x="624" y="108"/>
                </a:lnTo>
                <a:lnTo>
                  <a:pt x="562" y="112"/>
                </a:lnTo>
                <a:lnTo>
                  <a:pt x="495" y="113"/>
                </a:lnTo>
                <a:lnTo>
                  <a:pt x="428" y="112"/>
                </a:lnTo>
                <a:lnTo>
                  <a:pt x="367" y="108"/>
                </a:lnTo>
                <a:lnTo>
                  <a:pt x="311" y="103"/>
                </a:lnTo>
                <a:lnTo>
                  <a:pt x="261" y="95"/>
                </a:lnTo>
                <a:lnTo>
                  <a:pt x="215" y="87"/>
                </a:lnTo>
                <a:lnTo>
                  <a:pt x="174" y="78"/>
                </a:lnTo>
                <a:lnTo>
                  <a:pt x="139" y="68"/>
                </a:lnTo>
                <a:lnTo>
                  <a:pt x="107" y="56"/>
                </a:lnTo>
                <a:lnTo>
                  <a:pt x="81" y="46"/>
                </a:lnTo>
                <a:lnTo>
                  <a:pt x="58" y="36"/>
                </a:lnTo>
                <a:lnTo>
                  <a:pt x="39" y="27"/>
                </a:lnTo>
                <a:lnTo>
                  <a:pt x="25" y="18"/>
                </a:lnTo>
                <a:lnTo>
                  <a:pt x="14" y="11"/>
                </a:lnTo>
                <a:lnTo>
                  <a:pt x="6" y="5"/>
                </a:lnTo>
                <a:lnTo>
                  <a:pt x="1" y="2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9"/>
                </a:lnTo>
                <a:lnTo>
                  <a:pt x="5" y="16"/>
                </a:lnTo>
                <a:lnTo>
                  <a:pt x="10" y="25"/>
                </a:lnTo>
                <a:lnTo>
                  <a:pt x="16" y="33"/>
                </a:lnTo>
                <a:lnTo>
                  <a:pt x="25" y="44"/>
                </a:lnTo>
                <a:lnTo>
                  <a:pt x="36" y="55"/>
                </a:lnTo>
                <a:lnTo>
                  <a:pt x="50" y="66"/>
                </a:lnTo>
                <a:lnTo>
                  <a:pt x="68" y="78"/>
                </a:lnTo>
                <a:lnTo>
                  <a:pt x="90" y="90"/>
                </a:lnTo>
                <a:lnTo>
                  <a:pt x="114" y="103"/>
                </a:lnTo>
                <a:lnTo>
                  <a:pt x="143" y="114"/>
                </a:lnTo>
                <a:lnTo>
                  <a:pt x="177" y="126"/>
                </a:lnTo>
                <a:lnTo>
                  <a:pt x="215" y="136"/>
                </a:lnTo>
                <a:lnTo>
                  <a:pt x="259" y="146"/>
                </a:lnTo>
                <a:lnTo>
                  <a:pt x="257" y="155"/>
                </a:lnTo>
                <a:lnTo>
                  <a:pt x="254" y="164"/>
                </a:lnTo>
                <a:lnTo>
                  <a:pt x="253" y="174"/>
                </a:lnTo>
                <a:lnTo>
                  <a:pt x="253" y="184"/>
                </a:lnTo>
                <a:lnTo>
                  <a:pt x="254" y="198"/>
                </a:lnTo>
                <a:lnTo>
                  <a:pt x="256" y="211"/>
                </a:lnTo>
                <a:lnTo>
                  <a:pt x="259" y="222"/>
                </a:lnTo>
                <a:lnTo>
                  <a:pt x="264" y="232"/>
                </a:lnTo>
                <a:lnTo>
                  <a:pt x="271" y="241"/>
                </a:lnTo>
                <a:lnTo>
                  <a:pt x="277" y="247"/>
                </a:lnTo>
                <a:lnTo>
                  <a:pt x="285" y="251"/>
                </a:lnTo>
                <a:lnTo>
                  <a:pt x="292" y="253"/>
                </a:lnTo>
                <a:lnTo>
                  <a:pt x="300" y="251"/>
                </a:lnTo>
                <a:lnTo>
                  <a:pt x="307" y="247"/>
                </a:lnTo>
                <a:lnTo>
                  <a:pt x="314" y="241"/>
                </a:lnTo>
                <a:lnTo>
                  <a:pt x="320" y="232"/>
                </a:lnTo>
                <a:lnTo>
                  <a:pt x="325" y="222"/>
                </a:lnTo>
                <a:lnTo>
                  <a:pt x="329" y="211"/>
                </a:lnTo>
                <a:lnTo>
                  <a:pt x="330" y="198"/>
                </a:lnTo>
                <a:lnTo>
                  <a:pt x="332" y="184"/>
                </a:lnTo>
                <a:lnTo>
                  <a:pt x="332" y="178"/>
                </a:lnTo>
                <a:lnTo>
                  <a:pt x="330" y="170"/>
                </a:lnTo>
                <a:lnTo>
                  <a:pt x="330" y="164"/>
                </a:lnTo>
                <a:lnTo>
                  <a:pt x="329" y="158"/>
                </a:lnTo>
                <a:lnTo>
                  <a:pt x="342" y="159"/>
                </a:lnTo>
                <a:lnTo>
                  <a:pt x="354" y="161"/>
                </a:lnTo>
                <a:lnTo>
                  <a:pt x="368" y="163"/>
                </a:lnTo>
                <a:lnTo>
                  <a:pt x="381" y="164"/>
                </a:lnTo>
                <a:lnTo>
                  <a:pt x="395" y="165"/>
                </a:lnTo>
                <a:lnTo>
                  <a:pt x="410" y="166"/>
                </a:lnTo>
                <a:lnTo>
                  <a:pt x="424" y="168"/>
                </a:lnTo>
                <a:lnTo>
                  <a:pt x="439" y="169"/>
                </a:lnTo>
                <a:lnTo>
                  <a:pt x="462" y="170"/>
                </a:lnTo>
                <a:lnTo>
                  <a:pt x="484" y="171"/>
                </a:lnTo>
                <a:lnTo>
                  <a:pt x="505" y="173"/>
                </a:lnTo>
                <a:lnTo>
                  <a:pt x="525" y="173"/>
                </a:lnTo>
                <a:lnTo>
                  <a:pt x="546" y="173"/>
                </a:lnTo>
                <a:lnTo>
                  <a:pt x="566" y="171"/>
                </a:lnTo>
                <a:lnTo>
                  <a:pt x="586" y="171"/>
                </a:lnTo>
                <a:lnTo>
                  <a:pt x="605" y="170"/>
                </a:lnTo>
                <a:lnTo>
                  <a:pt x="623" y="169"/>
                </a:lnTo>
                <a:lnTo>
                  <a:pt x="642" y="166"/>
                </a:lnTo>
                <a:lnTo>
                  <a:pt x="660" y="165"/>
                </a:lnTo>
                <a:lnTo>
                  <a:pt x="676" y="163"/>
                </a:lnTo>
                <a:lnTo>
                  <a:pt x="693" y="160"/>
                </a:lnTo>
                <a:lnTo>
                  <a:pt x="709" y="156"/>
                </a:lnTo>
                <a:lnTo>
                  <a:pt x="726" y="154"/>
                </a:lnTo>
                <a:lnTo>
                  <a:pt x="741" y="150"/>
                </a:lnTo>
                <a:lnTo>
                  <a:pt x="739" y="158"/>
                </a:lnTo>
                <a:lnTo>
                  <a:pt x="737" y="166"/>
                </a:lnTo>
                <a:lnTo>
                  <a:pt x="736" y="175"/>
                </a:lnTo>
                <a:lnTo>
                  <a:pt x="736" y="184"/>
                </a:lnTo>
                <a:lnTo>
                  <a:pt x="737" y="198"/>
                </a:lnTo>
                <a:lnTo>
                  <a:pt x="738" y="211"/>
                </a:lnTo>
                <a:lnTo>
                  <a:pt x="742" y="222"/>
                </a:lnTo>
                <a:lnTo>
                  <a:pt x="747" y="232"/>
                </a:lnTo>
                <a:lnTo>
                  <a:pt x="753" y="241"/>
                </a:lnTo>
                <a:lnTo>
                  <a:pt x="760" y="247"/>
                </a:lnTo>
                <a:lnTo>
                  <a:pt x="767" y="251"/>
                </a:lnTo>
                <a:lnTo>
                  <a:pt x="775" y="253"/>
                </a:lnTo>
                <a:lnTo>
                  <a:pt x="784" y="251"/>
                </a:lnTo>
                <a:lnTo>
                  <a:pt x="791" y="247"/>
                </a:lnTo>
                <a:lnTo>
                  <a:pt x="798" y="241"/>
                </a:lnTo>
                <a:lnTo>
                  <a:pt x="804" y="232"/>
                </a:lnTo>
                <a:lnTo>
                  <a:pt x="809" y="222"/>
                </a:lnTo>
                <a:lnTo>
                  <a:pt x="813" y="211"/>
                </a:lnTo>
                <a:lnTo>
                  <a:pt x="814" y="198"/>
                </a:lnTo>
                <a:lnTo>
                  <a:pt x="815" y="184"/>
                </a:lnTo>
                <a:lnTo>
                  <a:pt x="814" y="170"/>
                </a:lnTo>
                <a:lnTo>
                  <a:pt x="812" y="158"/>
                </a:lnTo>
                <a:lnTo>
                  <a:pt x="808" y="145"/>
                </a:lnTo>
                <a:lnTo>
                  <a:pt x="803" y="135"/>
                </a:lnTo>
                <a:lnTo>
                  <a:pt x="832" y="125"/>
                </a:lnTo>
                <a:lnTo>
                  <a:pt x="859" y="114"/>
                </a:lnTo>
                <a:lnTo>
                  <a:pt x="884" y="104"/>
                </a:lnTo>
                <a:lnTo>
                  <a:pt x="907" y="94"/>
                </a:lnTo>
                <a:lnTo>
                  <a:pt x="928" y="83"/>
                </a:lnTo>
                <a:lnTo>
                  <a:pt x="947" y="73"/>
                </a:lnTo>
                <a:lnTo>
                  <a:pt x="964" y="63"/>
                </a:lnTo>
                <a:lnTo>
                  <a:pt x="979" y="52"/>
                </a:lnTo>
                <a:lnTo>
                  <a:pt x="993" y="42"/>
                </a:lnTo>
                <a:lnTo>
                  <a:pt x="1004" y="35"/>
                </a:lnTo>
                <a:lnTo>
                  <a:pt x="1013" y="27"/>
                </a:lnTo>
                <a:lnTo>
                  <a:pt x="1021" y="19"/>
                </a:lnTo>
                <a:lnTo>
                  <a:pt x="1027" y="14"/>
                </a:lnTo>
                <a:lnTo>
                  <a:pt x="1031" y="11"/>
                </a:lnTo>
                <a:lnTo>
                  <a:pt x="1033" y="8"/>
                </a:lnTo>
                <a:lnTo>
                  <a:pt x="1035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6351480" y="3589200"/>
            <a:ext cx="650880" cy="284400"/>
          </a:xfrm>
          <a:custGeom>
            <a:avLst/>
            <a:gdLst/>
            <a:ahLst/>
            <a:rect l="l" t="t" r="r" b="b"/>
            <a:pathLst>
              <a:path w="410" h="179">
                <a:moveTo>
                  <a:pt x="0" y="144"/>
                </a:moveTo>
                <a:lnTo>
                  <a:pt x="2" y="141"/>
                </a:lnTo>
                <a:lnTo>
                  <a:pt x="8" y="136"/>
                </a:lnTo>
                <a:lnTo>
                  <a:pt x="19" y="127"/>
                </a:lnTo>
                <a:lnTo>
                  <a:pt x="34" y="114"/>
                </a:lnTo>
                <a:lnTo>
                  <a:pt x="50" y="102"/>
                </a:lnTo>
                <a:lnTo>
                  <a:pt x="71" y="87"/>
                </a:lnTo>
                <a:lnTo>
                  <a:pt x="93" y="71"/>
                </a:lnTo>
                <a:lnTo>
                  <a:pt x="117" y="56"/>
                </a:lnTo>
                <a:lnTo>
                  <a:pt x="143" y="41"/>
                </a:lnTo>
                <a:lnTo>
                  <a:pt x="169" y="28"/>
                </a:lnTo>
                <a:lnTo>
                  <a:pt x="196" y="17"/>
                </a:lnTo>
                <a:lnTo>
                  <a:pt x="224" y="8"/>
                </a:lnTo>
                <a:lnTo>
                  <a:pt x="250" y="2"/>
                </a:lnTo>
                <a:lnTo>
                  <a:pt x="277" y="0"/>
                </a:lnTo>
                <a:lnTo>
                  <a:pt x="302" y="3"/>
                </a:lnTo>
                <a:lnTo>
                  <a:pt x="326" y="11"/>
                </a:lnTo>
                <a:lnTo>
                  <a:pt x="366" y="33"/>
                </a:lnTo>
                <a:lnTo>
                  <a:pt x="392" y="57"/>
                </a:lnTo>
                <a:lnTo>
                  <a:pt x="406" y="82"/>
                </a:lnTo>
                <a:lnTo>
                  <a:pt x="410" y="106"/>
                </a:lnTo>
                <a:lnTo>
                  <a:pt x="406" y="128"/>
                </a:lnTo>
                <a:lnTo>
                  <a:pt x="394" y="147"/>
                </a:lnTo>
                <a:lnTo>
                  <a:pt x="375" y="163"/>
                </a:lnTo>
                <a:lnTo>
                  <a:pt x="352" y="174"/>
                </a:lnTo>
                <a:lnTo>
                  <a:pt x="315" y="179"/>
                </a:lnTo>
                <a:lnTo>
                  <a:pt x="288" y="173"/>
                </a:lnTo>
                <a:lnTo>
                  <a:pt x="268" y="156"/>
                </a:lnTo>
                <a:lnTo>
                  <a:pt x="254" y="134"/>
                </a:lnTo>
                <a:lnTo>
                  <a:pt x="245" y="111"/>
                </a:lnTo>
                <a:lnTo>
                  <a:pt x="242" y="89"/>
                </a:lnTo>
                <a:lnTo>
                  <a:pt x="239" y="74"/>
                </a:lnTo>
                <a:lnTo>
                  <a:pt x="239" y="68"/>
                </a:lnTo>
                <a:lnTo>
                  <a:pt x="236" y="68"/>
                </a:lnTo>
                <a:lnTo>
                  <a:pt x="230" y="68"/>
                </a:lnTo>
                <a:lnTo>
                  <a:pt x="219" y="69"/>
                </a:lnTo>
                <a:lnTo>
                  <a:pt x="204" y="71"/>
                </a:lnTo>
                <a:lnTo>
                  <a:pt x="185" y="76"/>
                </a:lnTo>
                <a:lnTo>
                  <a:pt x="162" y="83"/>
                </a:lnTo>
                <a:lnTo>
                  <a:pt x="136" y="92"/>
                </a:lnTo>
                <a:lnTo>
                  <a:pt x="107" y="103"/>
                </a:lnTo>
                <a:lnTo>
                  <a:pt x="79" y="114"/>
                </a:lnTo>
                <a:lnTo>
                  <a:pt x="55" y="125"/>
                </a:lnTo>
                <a:lnTo>
                  <a:pt x="38" y="131"/>
                </a:lnTo>
                <a:lnTo>
                  <a:pt x="22" y="136"/>
                </a:lnTo>
                <a:lnTo>
                  <a:pt x="12" y="140"/>
                </a:lnTo>
                <a:lnTo>
                  <a:pt x="5" y="142"/>
                </a:lnTo>
                <a:lnTo>
                  <a:pt x="1" y="144"/>
                </a:lnTo>
                <a:lnTo>
                  <a:pt x="0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5803920" y="1143000"/>
            <a:ext cx="528480" cy="547560"/>
          </a:xfrm>
          <a:custGeom>
            <a:avLst/>
            <a:gdLst/>
            <a:ahLst/>
            <a:rect l="l" t="t" r="r" b="b"/>
            <a:pathLst>
              <a:path w="333" h="345">
                <a:moveTo>
                  <a:pt x="0" y="76"/>
                </a:moveTo>
                <a:lnTo>
                  <a:pt x="269" y="345"/>
                </a:lnTo>
                <a:lnTo>
                  <a:pt x="333" y="315"/>
                </a:lnTo>
                <a:lnTo>
                  <a:pt x="134" y="0"/>
                </a:lnTo>
                <a:lnTo>
                  <a:pt x="0" y="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6421320" y="1039680"/>
            <a:ext cx="265320" cy="530280"/>
          </a:xfrm>
          <a:custGeom>
            <a:avLst/>
            <a:gdLst/>
            <a:ahLst/>
            <a:rect l="l" t="t" r="r" b="b"/>
            <a:pathLst>
              <a:path w="167" h="334">
                <a:moveTo>
                  <a:pt x="0" y="25"/>
                </a:moveTo>
                <a:lnTo>
                  <a:pt x="96" y="334"/>
                </a:lnTo>
                <a:lnTo>
                  <a:pt x="154" y="317"/>
                </a:lnTo>
                <a:lnTo>
                  <a:pt x="167" y="0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6873840" y="1084320"/>
            <a:ext cx="355680" cy="504720"/>
          </a:xfrm>
          <a:custGeom>
            <a:avLst/>
            <a:gdLst/>
            <a:ahLst/>
            <a:rect l="l" t="t" r="r" b="b"/>
            <a:pathLst>
              <a:path w="224" h="318">
                <a:moveTo>
                  <a:pt x="95" y="0"/>
                </a:moveTo>
                <a:lnTo>
                  <a:pt x="0" y="282"/>
                </a:lnTo>
                <a:lnTo>
                  <a:pt x="77" y="318"/>
                </a:lnTo>
                <a:lnTo>
                  <a:pt x="224" y="35"/>
                </a:lnTo>
                <a:lnTo>
                  <a:pt x="9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7" name=""/>
          <p:cNvSpPr/>
          <p:nvPr/>
        </p:nvSpPr>
        <p:spPr>
          <a:xfrm>
            <a:off x="758880" y="3421080"/>
            <a:ext cx="7569000" cy="1778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auvaise réponse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Elles équilibrent leur poids propre et celui de la couver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8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9" name="" descr=""/>
          <p:cNvPicPr/>
          <p:nvPr/>
        </p:nvPicPr>
        <p:blipFill>
          <a:blip r:embed="rId1"/>
          <a:stretch/>
        </p:blipFill>
        <p:spPr>
          <a:xfrm>
            <a:off x="3649680" y="1311120"/>
            <a:ext cx="1824120" cy="1824120"/>
          </a:xfrm>
          <a:prstGeom prst="rect">
            <a:avLst/>
          </a:prstGeom>
          <a:ln w="0">
            <a:noFill/>
          </a:ln>
        </p:spPr>
      </p:pic>
      <p:sp>
        <p:nvSpPr>
          <p:cNvPr id="4090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8080" y="7938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n autre élément supporte les pannes cour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rId10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Bardage 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431640" y="2158560"/>
            <a:ext cx="5532120" cy="3599280"/>
            <a:chOff x="431640" y="2158560"/>
            <a:chExt cx="5532120" cy="3599280"/>
          </a:xfrm>
        </p:grpSpPr>
        <p:sp>
          <p:nvSpPr>
            <p:cNvPr id="583" name=""/>
            <p:cNvSpPr/>
            <p:nvPr/>
          </p:nvSpPr>
          <p:spPr>
            <a:xfrm flipV="1">
              <a:off x="2470320" y="241920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33520" y="2418840"/>
              <a:ext cx="5375160" cy="3144960"/>
              <a:chOff x="533520" y="2418840"/>
              <a:chExt cx="5375160" cy="314496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533520" y="2418840"/>
                <a:ext cx="5372640" cy="3144960"/>
                <a:chOff x="533520" y="2418840"/>
                <a:chExt cx="5372640" cy="3144960"/>
              </a:xfrm>
            </p:grpSpPr>
            <p:grpSp>
              <p:nvGrpSpPr>
                <p:cNvPr id="586" name=""/>
                <p:cNvGrpSpPr/>
                <p:nvPr/>
              </p:nvGrpSpPr>
              <p:grpSpPr>
                <a:xfrm>
                  <a:off x="3951720" y="4039920"/>
                  <a:ext cx="337680" cy="1517760"/>
                  <a:chOff x="3951720" y="4039920"/>
                  <a:chExt cx="337680" cy="1517760"/>
                </a:xfrm>
              </p:grpSpPr>
              <p:sp>
                <p:nvSpPr>
                  <p:cNvPr id="587" name=""/>
                  <p:cNvSpPr/>
                  <p:nvPr/>
                </p:nvSpPr>
                <p:spPr>
                  <a:xfrm flipV="1">
                    <a:off x="3965760" y="4670640"/>
                    <a:ext cx="322920" cy="8870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 flipV="1">
                    <a:off x="3959640" y="4358520"/>
                    <a:ext cx="328680" cy="311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 flipV="1">
                    <a:off x="3965400" y="4987440"/>
                    <a:ext cx="322920" cy="245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V="1">
                    <a:off x="3965760" y="4039920"/>
                    <a:ext cx="322920" cy="940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V="1">
                    <a:off x="3951720" y="4052520"/>
                    <a:ext cx="323280" cy="32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3966120" y="4359600"/>
                    <a:ext cx="0" cy="1193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4289400" y="4046400"/>
                    <a:ext cx="0" cy="11937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533520" y="4047480"/>
                  <a:ext cx="325080" cy="1516320"/>
                  <a:chOff x="533520" y="4047480"/>
                  <a:chExt cx="325080" cy="151632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V="1">
                    <a:off x="534600" y="4673520"/>
                    <a:ext cx="323280" cy="886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 flipV="1">
                    <a:off x="534600" y="4370760"/>
                    <a:ext cx="320400" cy="2988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 flipV="1">
                    <a:off x="533520" y="4997880"/>
                    <a:ext cx="323280" cy="241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V="1">
                    <a:off x="534600" y="4047480"/>
                    <a:ext cx="321840" cy="944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V="1">
                    <a:off x="536760" y="4047840"/>
                    <a:ext cx="31752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35320" y="437112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857160" y="4057920"/>
                    <a:ext cx="1440" cy="1179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2" name=""/>
                <p:cNvGrpSpPr/>
                <p:nvPr/>
              </p:nvGrpSpPr>
              <p:grpSpPr>
                <a:xfrm>
                  <a:off x="5580360" y="2418840"/>
                  <a:ext cx="325800" cy="1538640"/>
                  <a:chOff x="5580360" y="2418840"/>
                  <a:chExt cx="325800" cy="1538640"/>
                </a:xfrm>
              </p:grpSpPr>
              <p:sp>
                <p:nvSpPr>
                  <p:cNvPr id="603" name=""/>
                  <p:cNvSpPr/>
                  <p:nvPr/>
                </p:nvSpPr>
                <p:spPr>
                  <a:xfrm flipV="1">
                    <a:off x="5582880" y="3071160"/>
                    <a:ext cx="320400" cy="880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 flipV="1">
                    <a:off x="5580360" y="2744280"/>
                    <a:ext cx="321840" cy="332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 flipV="1">
                    <a:off x="5582880" y="3388320"/>
                    <a:ext cx="320400" cy="242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V="1">
                    <a:off x="5581440" y="2421360"/>
                    <a:ext cx="31752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V="1">
                    <a:off x="5580720" y="2418840"/>
                    <a:ext cx="324720" cy="33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5585040" y="2739240"/>
                    <a:ext cx="0" cy="12182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5905080" y="2424600"/>
                    <a:ext cx="1080" cy="12074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0" name=""/>
                <p:cNvGrpSpPr/>
                <p:nvPr/>
              </p:nvGrpSpPr>
              <p:grpSpPr>
                <a:xfrm>
                  <a:off x="2152080" y="2421000"/>
                  <a:ext cx="323280" cy="1531440"/>
                  <a:chOff x="2152080" y="2421000"/>
                  <a:chExt cx="323280" cy="153144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 flipV="1">
                    <a:off x="2152080" y="3075840"/>
                    <a:ext cx="321840" cy="876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 flipV="1">
                    <a:off x="2153160" y="2748600"/>
                    <a:ext cx="318960" cy="32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 flipV="1">
                    <a:off x="2152080" y="3394800"/>
                    <a:ext cx="323280" cy="2340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V="1">
                    <a:off x="2152080" y="2421720"/>
                    <a:ext cx="323280" cy="9727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V="1">
                    <a:off x="2153880" y="2422080"/>
                    <a:ext cx="317880" cy="3186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2152440" y="2755080"/>
                    <a:ext cx="0" cy="11926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>
                    <a:off x="2473200" y="2421000"/>
                    <a:ext cx="1080" cy="12088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8" name=""/>
              <p:cNvGrpSpPr/>
              <p:nvPr/>
            </p:nvGrpSpPr>
            <p:grpSpPr>
              <a:xfrm>
                <a:off x="537120" y="3070800"/>
                <a:ext cx="5371560" cy="1926000"/>
                <a:chOff x="537120" y="3070800"/>
                <a:chExt cx="5371560" cy="1926000"/>
              </a:xfrm>
            </p:grpSpPr>
            <p:sp>
              <p:nvSpPr>
                <p:cNvPr id="619" name=""/>
                <p:cNvSpPr/>
                <p:nvPr/>
              </p:nvSpPr>
              <p:spPr>
                <a:xfrm flipV="1">
                  <a:off x="3969360" y="466776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 flipV="1">
                  <a:off x="537120" y="4675680"/>
                  <a:ext cx="32328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V="1">
                  <a:off x="5591160" y="3070800"/>
                  <a:ext cx="31752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 flipV="1">
                  <a:off x="2157120" y="3076560"/>
                  <a:ext cx="320400" cy="3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3" name=""/>
            <p:cNvGrpSpPr/>
            <p:nvPr/>
          </p:nvGrpSpPr>
          <p:grpSpPr>
            <a:xfrm>
              <a:off x="431640" y="3668760"/>
              <a:ext cx="5532120" cy="2089080"/>
              <a:chOff x="431640" y="3668760"/>
              <a:chExt cx="5532120" cy="208908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4189320" y="3987000"/>
                <a:ext cx="1452240" cy="1449360"/>
                <a:chOff x="4189320" y="3987000"/>
                <a:chExt cx="1452240" cy="144936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5482440" y="398700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5163480" y="4302720"/>
                  <a:ext cx="159840" cy="1605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835880" y="4627080"/>
                  <a:ext cx="15984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513680" y="4947840"/>
                  <a:ext cx="1634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189320" y="5276880"/>
                  <a:ext cx="15876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61760" y="3985920"/>
                <a:ext cx="1447920" cy="1442160"/>
                <a:chOff x="761760" y="3985920"/>
                <a:chExt cx="1447920" cy="14421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2050560" y="3985920"/>
                  <a:ext cx="159120" cy="1591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729800" y="4304520"/>
                  <a:ext cx="159120" cy="1612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1408320" y="462708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080720" y="4948920"/>
                  <a:ext cx="16020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61760" y="526860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2367720" y="3668760"/>
                <a:ext cx="3596040" cy="162000"/>
                <a:chOff x="2367720" y="3668760"/>
                <a:chExt cx="3596040" cy="1620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5804640" y="366912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367720" y="366912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676400" y="3668760"/>
                  <a:ext cx="15984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938680" y="367092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48804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4087080" y="36687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5242680" y="3670560"/>
                  <a:ext cx="159120" cy="15948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431640" y="5596200"/>
                <a:ext cx="3595320" cy="161640"/>
                <a:chOff x="431640" y="5596200"/>
                <a:chExt cx="3595320" cy="16164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43164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867480" y="5596200"/>
                  <a:ext cx="159480" cy="16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9993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155160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741040" y="559800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3315960" y="5596560"/>
                  <a:ext cx="159120" cy="1598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1" name=""/>
            <p:cNvGrpSpPr/>
            <p:nvPr/>
          </p:nvGrpSpPr>
          <p:grpSpPr>
            <a:xfrm>
              <a:off x="2473200" y="2424240"/>
              <a:ext cx="3434040" cy="1209600"/>
              <a:chOff x="2473200" y="2424240"/>
              <a:chExt cx="3434040" cy="1209600"/>
            </a:xfrm>
          </p:grpSpPr>
          <p:sp>
            <p:nvSpPr>
              <p:cNvPr id="652" name=""/>
              <p:cNvSpPr/>
              <p:nvPr/>
            </p:nvSpPr>
            <p:spPr>
              <a:xfrm>
                <a:off x="2473200" y="24242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473560" y="275256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2473920" y="3332880"/>
                <a:ext cx="3427560" cy="14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2475000" y="3075840"/>
                <a:ext cx="342216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476080" y="3633840"/>
                <a:ext cx="34311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31720" y="2749680"/>
              <a:ext cx="1941120" cy="2812680"/>
              <a:chOff x="531720" y="2749680"/>
              <a:chExt cx="1941120" cy="2812680"/>
            </a:xfrm>
          </p:grpSpPr>
          <p:sp>
            <p:nvSpPr>
              <p:cNvPr id="658" name=""/>
              <p:cNvSpPr/>
              <p:nvPr/>
            </p:nvSpPr>
            <p:spPr>
              <a:xfrm flipV="1">
                <a:off x="535680" y="2749680"/>
                <a:ext cx="1935720" cy="192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531720" y="3080160"/>
                <a:ext cx="1940040" cy="191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532800" y="3346200"/>
                <a:ext cx="1940040" cy="1935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532800" y="3632760"/>
                <a:ext cx="1937160" cy="1929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531720" y="2158920"/>
              <a:ext cx="5372280" cy="3412800"/>
              <a:chOff x="531720" y="2158920"/>
              <a:chExt cx="5372280" cy="3412800"/>
            </a:xfrm>
          </p:grpSpPr>
          <p:grpSp>
            <p:nvGrpSpPr>
              <p:cNvPr id="663" name=""/>
              <p:cNvGrpSpPr/>
              <p:nvPr/>
            </p:nvGrpSpPr>
            <p:grpSpPr>
              <a:xfrm>
                <a:off x="2473200" y="2158920"/>
                <a:ext cx="3430800" cy="1476720"/>
                <a:chOff x="2473200" y="2158920"/>
                <a:chExt cx="3430800" cy="147672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355000" y="2341800"/>
                  <a:ext cx="0" cy="129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904000" y="2439000"/>
                  <a:ext cx="0" cy="1196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4782240" y="2248200"/>
                  <a:ext cx="0" cy="138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189680" y="2158920"/>
                  <a:ext cx="0" cy="1476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594960" y="2251800"/>
                  <a:ext cx="0" cy="1383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473200" y="2433600"/>
                  <a:ext cx="0" cy="120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046680" y="2336760"/>
                  <a:ext cx="0" cy="1298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531720" y="4102200"/>
                <a:ext cx="3433320" cy="1469520"/>
                <a:chOff x="531720" y="4102200"/>
                <a:chExt cx="3433320" cy="1469520"/>
              </a:xfrm>
            </p:grpSpPr>
            <p:sp>
              <p:nvSpPr>
                <p:cNvPr id="672" name=""/>
                <p:cNvSpPr/>
                <p:nvPr/>
              </p:nvSpPr>
              <p:spPr>
                <a:xfrm flipH="1">
                  <a:off x="2248920" y="4102200"/>
                  <a:ext cx="1440" cy="572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415680" y="4284720"/>
                  <a:ext cx="0" cy="1287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965040" y="4365720"/>
                  <a:ext cx="0" cy="1194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2842920" y="4197960"/>
                  <a:ext cx="0" cy="1368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1655280" y="4190400"/>
                  <a:ext cx="0" cy="137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31720" y="4368600"/>
                  <a:ext cx="72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1107000" y="4280400"/>
                  <a:ext cx="0" cy="12855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9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681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7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688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9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0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324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4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706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9" name=""/>
            <p:cNvGrpSpPr/>
            <p:nvPr/>
          </p:nvGrpSpPr>
          <p:grpSpPr>
            <a:xfrm>
              <a:off x="533520" y="2422440"/>
              <a:ext cx="5368320" cy="1944720"/>
              <a:chOff x="533520" y="2422440"/>
              <a:chExt cx="5368320" cy="1944720"/>
            </a:xfrm>
          </p:grpSpPr>
          <p:sp>
            <p:nvSpPr>
              <p:cNvPr id="730" name=""/>
              <p:cNvSpPr/>
              <p:nvPr/>
            </p:nvSpPr>
            <p:spPr>
              <a:xfrm flipV="1">
                <a:off x="3955680" y="2422440"/>
                <a:ext cx="19461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533520" y="2422440"/>
                <a:ext cx="1940760" cy="1944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"/>
            <p:cNvSpPr/>
            <p:nvPr/>
          </p:nvSpPr>
          <p:spPr>
            <a:xfrm flipV="1">
              <a:off x="2244600" y="2158920"/>
              <a:ext cx="1944720" cy="193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3" name=""/>
            <p:cNvGrpSpPr/>
            <p:nvPr/>
          </p:nvGrpSpPr>
          <p:grpSpPr>
            <a:xfrm>
              <a:off x="531720" y="4368600"/>
              <a:ext cx="3430800" cy="1198080"/>
              <a:chOff x="531720" y="4368600"/>
              <a:chExt cx="3430800" cy="1198080"/>
            </a:xfrm>
          </p:grpSpPr>
          <p:sp>
            <p:nvSpPr>
              <p:cNvPr id="734" name=""/>
              <p:cNvSpPr/>
              <p:nvPr/>
            </p:nvSpPr>
            <p:spPr>
              <a:xfrm flipV="1">
                <a:off x="2842200" y="5565600"/>
                <a:ext cx="11178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32080" y="4368600"/>
                <a:ext cx="3430440" cy="3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31720" y="4678920"/>
                <a:ext cx="343008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839320" y="5276880"/>
                <a:ext cx="112176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32080" y="4999320"/>
                <a:ext cx="112284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842200" y="4991400"/>
                <a:ext cx="11203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32800" y="5281200"/>
                <a:ext cx="1119600" cy="1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34240" y="5564520"/>
                <a:ext cx="1116720" cy="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3960720" y="2754360"/>
              <a:ext cx="1943280" cy="2809800"/>
              <a:chOff x="3960720" y="2754360"/>
              <a:chExt cx="1943280" cy="2809800"/>
            </a:xfrm>
          </p:grpSpPr>
          <p:sp>
            <p:nvSpPr>
              <p:cNvPr id="743" name=""/>
              <p:cNvSpPr/>
              <p:nvPr/>
            </p:nvSpPr>
            <p:spPr>
              <a:xfrm flipV="1">
                <a:off x="3960720" y="3636000"/>
                <a:ext cx="1943280" cy="1928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3964680" y="2754360"/>
                <a:ext cx="1937520" cy="1925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3963240" y="3076200"/>
                <a:ext cx="1939320" cy="191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3961800" y="3332880"/>
                <a:ext cx="1940400" cy="194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 flipV="1">
              <a:off x="531720" y="4101840"/>
              <a:ext cx="171468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 flipV="1">
              <a:off x="2249640" y="4103280"/>
              <a:ext cx="171576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530280" y="436392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3960720" y="436392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5900760" y="2419200"/>
              <a:ext cx="0" cy="1190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V="1">
              <a:off x="2479680" y="2158560"/>
              <a:ext cx="171432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4193640" y="2158560"/>
              <a:ext cx="171468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" name=""/>
            <p:cNvGrpSpPr/>
            <p:nvPr/>
          </p:nvGrpSpPr>
          <p:grpSpPr>
            <a:xfrm>
              <a:off x="525600" y="2160720"/>
              <a:ext cx="5378400" cy="2209320"/>
              <a:chOff x="525600" y="2160720"/>
              <a:chExt cx="5378400" cy="220932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2151720" y="2160720"/>
                <a:ext cx="3752280" cy="588960"/>
                <a:chOff x="2151720" y="2160720"/>
                <a:chExt cx="3752280" cy="588960"/>
              </a:xfrm>
            </p:grpSpPr>
            <p:sp>
              <p:nvSpPr>
                <p:cNvPr id="756" name=""/>
                <p:cNvSpPr/>
                <p:nvPr/>
              </p:nvSpPr>
              <p:spPr>
                <a:xfrm flipV="1">
                  <a:off x="5586480" y="2421000"/>
                  <a:ext cx="317520" cy="317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flipV="1">
                  <a:off x="3869280" y="2160720"/>
                  <a:ext cx="321840" cy="3240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flipV="1">
                  <a:off x="4461840" y="225144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flipV="1">
                  <a:off x="2152080" y="2424960"/>
                  <a:ext cx="324360" cy="321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flipV="1">
                  <a:off x="2724120" y="2338200"/>
                  <a:ext cx="317520" cy="317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flipV="1">
                  <a:off x="3274920" y="225432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2" name=""/>
                <p:cNvGrpSpPr/>
                <p:nvPr/>
              </p:nvGrpSpPr>
              <p:grpSpPr>
                <a:xfrm>
                  <a:off x="2151720" y="2160720"/>
                  <a:ext cx="3748320" cy="588960"/>
                  <a:chOff x="2151720" y="2160720"/>
                  <a:chExt cx="3748320" cy="58896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 flipH="1" flipV="1">
                    <a:off x="4188960" y="2160720"/>
                    <a:ext cx="266400" cy="4122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>
                    <a:off x="3274200" y="2161080"/>
                    <a:ext cx="912960" cy="413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 flipV="1">
                    <a:off x="5353920" y="2337480"/>
                    <a:ext cx="225360" cy="4122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V="1">
                    <a:off x="5025240" y="2422080"/>
                    <a:ext cx="874800" cy="2401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 flipV="1">
                    <a:off x="4782240" y="2251800"/>
                    <a:ext cx="242640" cy="4114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>
                    <a:off x="4458240" y="2335320"/>
                    <a:ext cx="896400" cy="2404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>
                    <a:off x="3871800" y="2247840"/>
                    <a:ext cx="909720" cy="232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flipV="1">
                    <a:off x="3593160" y="2254680"/>
                    <a:ext cx="285840" cy="234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 flipV="1">
                    <a:off x="3045960" y="2335320"/>
                    <a:ext cx="236160" cy="2419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>
                    <a:off x="2720520" y="2256480"/>
                    <a:ext cx="873720" cy="40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 flipV="1">
                    <a:off x="2478600" y="2426400"/>
                    <a:ext cx="239400" cy="23436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>
                    <a:off x="2151720" y="2336760"/>
                    <a:ext cx="894240" cy="4104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V="1">
                    <a:off x="2479680" y="2162880"/>
                    <a:ext cx="1708200" cy="2581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V="1">
                    <a:off x="2167560" y="2481840"/>
                    <a:ext cx="1705320" cy="26352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3870360" y="2480400"/>
                    <a:ext cx="1710360" cy="2692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4195080" y="2160720"/>
                    <a:ext cx="1697760" cy="260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9" name=""/>
                <p:cNvSpPr/>
                <p:nvPr/>
              </p:nvSpPr>
              <p:spPr>
                <a:xfrm flipV="1">
                  <a:off x="5026320" y="2337480"/>
                  <a:ext cx="326160" cy="326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25600" y="3780000"/>
                <a:ext cx="3754440" cy="590040"/>
                <a:chOff x="525600" y="3780000"/>
                <a:chExt cx="3754440" cy="590040"/>
              </a:xfrm>
            </p:grpSpPr>
            <p:sp>
              <p:nvSpPr>
                <p:cNvPr id="781" name=""/>
                <p:cNvSpPr/>
                <p:nvPr/>
              </p:nvSpPr>
              <p:spPr>
                <a:xfrm flipV="1">
                  <a:off x="3956760" y="4044600"/>
                  <a:ext cx="321840" cy="3211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2839320" y="3871800"/>
                  <a:ext cx="320400" cy="320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2243880" y="3784680"/>
                  <a:ext cx="316080" cy="3157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2240640" y="4100760"/>
                  <a:ext cx="1716120" cy="269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flipV="1">
                  <a:off x="2565000" y="3782160"/>
                  <a:ext cx="267840" cy="4136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 flipV="1">
                  <a:off x="3731400" y="3960720"/>
                  <a:ext cx="228240" cy="407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V="1">
                  <a:off x="3408120" y="4045320"/>
                  <a:ext cx="866160" cy="238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flipV="1">
                  <a:off x="3160800" y="3873960"/>
                  <a:ext cx="248400" cy="413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>
                  <a:off x="2832840" y="3960000"/>
                  <a:ext cx="896400" cy="236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>
                  <a:off x="2242440" y="3872520"/>
                  <a:ext cx="919440" cy="22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569680" y="3780720"/>
                  <a:ext cx="1710360" cy="2649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V="1">
                  <a:off x="3409560" y="3960000"/>
                  <a:ext cx="320400" cy="3214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V="1">
                  <a:off x="1652760" y="3868920"/>
                  <a:ext cx="320400" cy="322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V="1">
                  <a:off x="1101600" y="3952800"/>
                  <a:ext cx="322920" cy="325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V="1">
                  <a:off x="535320" y="4100760"/>
                  <a:ext cx="1704960" cy="2664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V="1">
                  <a:off x="851400" y="3780720"/>
                  <a:ext cx="1722240" cy="262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1650240" y="3780000"/>
                  <a:ext cx="917280" cy="4136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 flipV="1">
                  <a:off x="1970640" y="3872160"/>
                  <a:ext cx="268560" cy="22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 flipV="1">
                  <a:off x="1422000" y="3952800"/>
                  <a:ext cx="227520" cy="239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>
                  <a:off x="1104120" y="3876840"/>
                  <a:ext cx="859680" cy="4032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 flipV="1">
                  <a:off x="852120" y="4042440"/>
                  <a:ext cx="246600" cy="2358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>
                  <a:off x="529200" y="3955680"/>
                  <a:ext cx="889920" cy="413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V="1">
                  <a:off x="525600" y="4044240"/>
                  <a:ext cx="325800" cy="3254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04" name=""/>
            <p:cNvGrpSpPr/>
            <p:nvPr/>
          </p:nvGrpSpPr>
          <p:grpSpPr>
            <a:xfrm>
              <a:off x="857160" y="2484360"/>
              <a:ext cx="4724640" cy="2750400"/>
              <a:chOff x="857160" y="2484360"/>
              <a:chExt cx="4724640" cy="2750400"/>
            </a:xfrm>
          </p:grpSpPr>
          <p:grpSp>
            <p:nvGrpSpPr>
              <p:cNvPr id="805" name=""/>
              <p:cNvGrpSpPr/>
              <p:nvPr/>
            </p:nvGrpSpPr>
            <p:grpSpPr>
              <a:xfrm>
                <a:off x="857160" y="3781080"/>
                <a:ext cx="3430800" cy="1453680"/>
                <a:chOff x="857160" y="3781080"/>
                <a:chExt cx="3430800" cy="1453680"/>
              </a:xfrm>
            </p:grpSpPr>
            <p:sp>
              <p:nvSpPr>
                <p:cNvPr id="806" name=""/>
                <p:cNvSpPr/>
                <p:nvPr/>
              </p:nvSpPr>
              <p:spPr>
                <a:xfrm flipV="1">
                  <a:off x="85716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V="1">
                  <a:off x="85716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V="1">
                  <a:off x="4287960" y="4044960"/>
                  <a:ext cx="0" cy="1189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H="1" flipV="1">
                  <a:off x="2572200" y="3781080"/>
                  <a:ext cx="1715400" cy="264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1180440" y="2484360"/>
                <a:ext cx="4401360" cy="2437920"/>
                <a:chOff x="1180440" y="2484360"/>
                <a:chExt cx="4401360" cy="2437920"/>
              </a:xfrm>
            </p:grpSpPr>
            <p:grpSp>
              <p:nvGrpSpPr>
                <p:cNvPr id="811" name=""/>
                <p:cNvGrpSpPr/>
                <p:nvPr/>
              </p:nvGrpSpPr>
              <p:grpSpPr>
                <a:xfrm>
                  <a:off x="1180440" y="3456360"/>
                  <a:ext cx="3431520" cy="1465920"/>
                  <a:chOff x="1180440" y="3456360"/>
                  <a:chExt cx="3431520" cy="146592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 flipV="1">
                    <a:off x="1180440" y="3722040"/>
                    <a:ext cx="0" cy="1195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V="1">
                    <a:off x="1180440" y="3456360"/>
                    <a:ext cx="1716120" cy="265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 flipV="1">
                    <a:off x="4611960" y="3721680"/>
                    <a:ext cx="0" cy="12006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 flipH="1" flipV="1">
                    <a:off x="2896200" y="3456360"/>
                    <a:ext cx="1715400" cy="265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6" name=""/>
                <p:cNvGrpSpPr/>
                <p:nvPr/>
              </p:nvGrpSpPr>
              <p:grpSpPr>
                <a:xfrm>
                  <a:off x="1502280" y="3132000"/>
                  <a:ext cx="3432960" cy="1463760"/>
                  <a:chOff x="1502280" y="3132000"/>
                  <a:chExt cx="3432960" cy="146376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V="1">
                    <a:off x="150228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V="1">
                    <a:off x="150228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V="1">
                    <a:off x="4935240" y="3398400"/>
                    <a:ext cx="0" cy="119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 flipV="1">
                    <a:off x="3218760" y="3132000"/>
                    <a:ext cx="1716480" cy="26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1" name=""/>
                <p:cNvGrpSpPr/>
                <p:nvPr/>
              </p:nvGrpSpPr>
              <p:grpSpPr>
                <a:xfrm>
                  <a:off x="1827000" y="2808000"/>
                  <a:ext cx="3431520" cy="1464480"/>
                  <a:chOff x="1827000" y="2808000"/>
                  <a:chExt cx="3431520" cy="1464480"/>
                </a:xfrm>
              </p:grpSpPr>
              <p:sp>
                <p:nvSpPr>
                  <p:cNvPr id="822" name=""/>
                  <p:cNvSpPr/>
                  <p:nvPr/>
                </p:nvSpPr>
                <p:spPr>
                  <a:xfrm flipV="1">
                    <a:off x="182700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V="1">
                    <a:off x="182700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V="1">
                    <a:off x="5258520" y="3074400"/>
                    <a:ext cx="0" cy="1198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H="1" flipV="1">
                    <a:off x="3542760" y="2808000"/>
                    <a:ext cx="1715760" cy="266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6" name=""/>
                <p:cNvGrpSpPr/>
                <p:nvPr/>
              </p:nvGrpSpPr>
              <p:grpSpPr>
                <a:xfrm>
                  <a:off x="2151000" y="2484360"/>
                  <a:ext cx="3430800" cy="1472400"/>
                  <a:chOff x="2151000" y="2484360"/>
                  <a:chExt cx="3430800" cy="1472400"/>
                </a:xfrm>
              </p:grpSpPr>
              <p:sp>
                <p:nvSpPr>
                  <p:cNvPr id="827" name=""/>
                  <p:cNvSpPr/>
                  <p:nvPr/>
                </p:nvSpPr>
                <p:spPr>
                  <a:xfrm flipV="1">
                    <a:off x="215100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V="1">
                    <a:off x="215100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V="1">
                    <a:off x="5581800" y="2751840"/>
                    <a:ext cx="0" cy="12049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 flipV="1">
                    <a:off x="3866040" y="2484360"/>
                    <a:ext cx="1715400" cy="2678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31" name=""/>
            <p:cNvGrpSpPr/>
            <p:nvPr/>
          </p:nvGrpSpPr>
          <p:grpSpPr>
            <a:xfrm>
              <a:off x="779400" y="2204640"/>
              <a:ext cx="4847760" cy="2130480"/>
              <a:chOff x="779400" y="2204640"/>
              <a:chExt cx="4847760" cy="2130480"/>
            </a:xfrm>
          </p:grpSpPr>
          <p:sp>
            <p:nvSpPr>
              <p:cNvPr id="832" name=""/>
              <p:cNvSpPr/>
              <p:nvPr/>
            </p:nvSpPr>
            <p:spPr>
              <a:xfrm flipV="1">
                <a:off x="2548440" y="2204640"/>
                <a:ext cx="1935000" cy="194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2841480" y="2248920"/>
                <a:ext cx="1940760" cy="194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3413160" y="2341080"/>
                <a:ext cx="1932120" cy="1945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3681000" y="2384640"/>
                <a:ext cx="1946160" cy="1946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779400" y="2381400"/>
                <a:ext cx="1985400" cy="19537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1103040" y="2338560"/>
                <a:ext cx="1938600" cy="1943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1655280" y="2247480"/>
                <a:ext cx="1942920" cy="194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V="1">
                <a:off x="1934640" y="2204640"/>
                <a:ext cx="1973520" cy="19508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1371600" y="2298600"/>
                <a:ext cx="1947960" cy="1943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3124440" y="2290680"/>
                <a:ext cx="1940760" cy="1947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2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843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846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852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853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860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6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7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878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1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902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903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904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1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912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920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928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35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936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0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941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950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951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959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967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968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969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977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985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2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993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00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001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5" name=""/>
          <p:cNvGrpSpPr/>
          <p:nvPr/>
        </p:nvGrpSpPr>
        <p:grpSpPr>
          <a:xfrm>
            <a:off x="530280" y="2418840"/>
            <a:ext cx="5370480" cy="3135600"/>
            <a:chOff x="530280" y="2418840"/>
            <a:chExt cx="5370480" cy="3135600"/>
          </a:xfrm>
        </p:grpSpPr>
        <p:sp>
          <p:nvSpPr>
            <p:cNvPr id="1006" name=""/>
            <p:cNvSpPr/>
            <p:nvPr/>
          </p:nvSpPr>
          <p:spPr>
            <a:xfrm flipV="1">
              <a:off x="530280" y="4363920"/>
              <a:ext cx="0" cy="119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3960720" y="4363920"/>
              <a:ext cx="0" cy="119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2470320" y="2418840"/>
              <a:ext cx="0" cy="119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5900760" y="2418840"/>
              <a:ext cx="0" cy="119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011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2479680" y="2158560"/>
            <a:ext cx="3428640" cy="265320"/>
            <a:chOff x="2479680" y="2158560"/>
            <a:chExt cx="3428640" cy="265320"/>
          </a:xfrm>
        </p:grpSpPr>
        <p:sp>
          <p:nvSpPr>
            <p:cNvPr id="1016" name=""/>
            <p:cNvSpPr/>
            <p:nvPr/>
          </p:nvSpPr>
          <p:spPr>
            <a:xfrm flipV="1">
              <a:off x="2479680" y="2158560"/>
              <a:ext cx="1713600" cy="265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 flipV="1">
              <a:off x="4193280" y="2158560"/>
              <a:ext cx="1715040" cy="265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8080" y="79380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 deux éléments supportent les pannes cour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045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046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052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058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066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2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073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7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079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080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085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086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0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091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096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101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05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106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16" name="" descr=""/>
          <p:cNvPicPr/>
          <p:nvPr/>
        </p:nvPicPr>
        <p:blipFill>
          <a:blip r:embed="rId1"/>
          <a:stretch/>
        </p:blipFill>
        <p:spPr>
          <a:xfrm>
            <a:off x="6956280" y="212760"/>
            <a:ext cx="8668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117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1118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176040" y="536400"/>
            <a:ext cx="875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élément est supporté par les pannes courant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>
            <a:hlinkClick r:id="rId1" action="ppaction://hlinksldjump"/>
          </p:cNvPr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>
            <a:hlinkClick r:id="rId2" action="ppaction://hlinksldjump"/>
          </p:cNvPr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>
            <a:hlinkClick r:id="rId3" action="ppaction://hlinksldjump"/>
          </p:cNvPr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>
            <a:hlinkClick r:id="rId4" action="ppaction://hlinksldjump"/>
          </p:cNvPr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>
            <a:hlinkClick r:id="rId5" action="ppaction://hlinksldjump"/>
          </p:cNvPr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>
            <a:hlinkClick r:id="rId6" action="ppaction://hlinksldjump"/>
          </p:cNvPr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>
            <a:hlinkClick r:id="rId7" action="ppaction://hlinksldjump"/>
          </p:cNvPr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>
            <a:hlinkClick r:id="rId8" action="ppaction://hlinksldjump"/>
          </p:cNvPr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>
            <a:hlinkClick r:id="rId9" action="ppaction://hlinksldjump"/>
          </p:cNvPr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>
            <a:hlinkClick r:id="rId10" action="ppaction://hlinksldjump"/>
          </p:cNvPr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>
            <a:hlinkClick r:id="rId11" action="ppaction://hlinksldjump"/>
          </p:cNvPr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678720" y="6568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V="1">
            <a:off x="2241720" y="2155320"/>
            <a:ext cx="1944360" cy="19386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8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149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150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151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159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167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4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175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2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183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87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188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189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195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201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8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209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15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216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1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222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6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227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228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5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236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43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244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245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250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251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5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256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261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266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271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272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8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279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5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6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297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20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321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3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324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4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335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3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344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8" name=""/>
          <p:cNvSpPr/>
          <p:nvPr/>
        </p:nvSpPr>
        <p:spPr>
          <a:xfrm flipV="1">
            <a:off x="531720" y="4101840"/>
            <a:ext cx="171468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H="1" flipV="1">
            <a:off x="2249640" y="4103280"/>
            <a:ext cx="1715760" cy="26676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590076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2479680" y="2158560"/>
            <a:ext cx="171432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H="1" flipV="1">
            <a:off x="4193640" y="2158560"/>
            <a:ext cx="1714680" cy="2653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"/>
          <p:cNvSpPr/>
          <p:nvPr/>
        </p:nvSpPr>
        <p:spPr>
          <a:xfrm flipV="1">
            <a:off x="2470320" y="241920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533520" y="2418840"/>
            <a:ext cx="5373000" cy="3144960"/>
            <a:chOff x="533520" y="2418840"/>
            <a:chExt cx="5373000" cy="3144960"/>
          </a:xfrm>
        </p:grpSpPr>
        <p:grpSp>
          <p:nvGrpSpPr>
            <p:cNvPr id="1357" name=""/>
            <p:cNvGrpSpPr/>
            <p:nvPr/>
          </p:nvGrpSpPr>
          <p:grpSpPr>
            <a:xfrm>
              <a:off x="3951720" y="4039920"/>
              <a:ext cx="337680" cy="1517760"/>
              <a:chOff x="3951720" y="4039920"/>
              <a:chExt cx="337680" cy="1517760"/>
            </a:xfrm>
          </p:grpSpPr>
          <p:sp>
            <p:nvSpPr>
              <p:cNvPr id="1358" name=""/>
              <p:cNvSpPr/>
              <p:nvPr/>
            </p:nvSpPr>
            <p:spPr>
              <a:xfrm flipV="1">
                <a:off x="3965760" y="4670640"/>
                <a:ext cx="322920" cy="887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 flipV="1">
                <a:off x="3959640" y="4358520"/>
                <a:ext cx="328680" cy="311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 flipV="1">
                <a:off x="3965400" y="4987440"/>
                <a:ext cx="322920" cy="245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V="1">
                <a:off x="3965760" y="4039920"/>
                <a:ext cx="322920" cy="940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3951720" y="4052520"/>
                <a:ext cx="32328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3966120" y="4359600"/>
                <a:ext cx="0" cy="1193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4289400" y="4046400"/>
                <a:ext cx="0" cy="11937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533520" y="4047480"/>
              <a:ext cx="325080" cy="1516320"/>
              <a:chOff x="533520" y="4047480"/>
              <a:chExt cx="325080" cy="1516320"/>
            </a:xfrm>
          </p:grpSpPr>
          <p:sp>
            <p:nvSpPr>
              <p:cNvPr id="1366" name=""/>
              <p:cNvSpPr/>
              <p:nvPr/>
            </p:nvSpPr>
            <p:spPr>
              <a:xfrm flipV="1">
                <a:off x="534600" y="4673520"/>
                <a:ext cx="323280" cy="886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 flipV="1">
                <a:off x="534600" y="4370760"/>
                <a:ext cx="320400" cy="298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 flipV="1">
                <a:off x="533520" y="4997880"/>
                <a:ext cx="323280" cy="241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 flipV="1">
                <a:off x="534600" y="4047480"/>
                <a:ext cx="321840" cy="944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 flipV="1">
                <a:off x="536760" y="40478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35320" y="437112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857160" y="4057920"/>
                <a:ext cx="1440" cy="1179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5580720" y="2418840"/>
              <a:ext cx="325800" cy="1538640"/>
              <a:chOff x="5580720" y="2418840"/>
              <a:chExt cx="325800" cy="1538640"/>
            </a:xfrm>
          </p:grpSpPr>
          <p:sp>
            <p:nvSpPr>
              <p:cNvPr id="1374" name=""/>
              <p:cNvSpPr/>
              <p:nvPr/>
            </p:nvSpPr>
            <p:spPr>
              <a:xfrm flipV="1">
                <a:off x="5583240" y="3071160"/>
                <a:ext cx="320400" cy="880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H="1" flipV="1">
                <a:off x="5580720" y="2744280"/>
                <a:ext cx="321840" cy="332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 flipH="1" flipV="1">
                <a:off x="5583240" y="3388320"/>
                <a:ext cx="320400" cy="242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V="1">
                <a:off x="5581800" y="2421360"/>
                <a:ext cx="31752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V="1">
                <a:off x="5581080" y="2418840"/>
                <a:ext cx="324720" cy="330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585400" y="2739240"/>
                <a:ext cx="0" cy="12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5905440" y="2424600"/>
                <a:ext cx="1080" cy="120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1" name=""/>
            <p:cNvGrpSpPr/>
            <p:nvPr/>
          </p:nvGrpSpPr>
          <p:grpSpPr>
            <a:xfrm>
              <a:off x="2152080" y="2421000"/>
              <a:ext cx="323280" cy="1531440"/>
              <a:chOff x="2152080" y="2421000"/>
              <a:chExt cx="323280" cy="1531440"/>
            </a:xfrm>
          </p:grpSpPr>
          <p:sp>
            <p:nvSpPr>
              <p:cNvPr id="1382" name=""/>
              <p:cNvSpPr/>
              <p:nvPr/>
            </p:nvSpPr>
            <p:spPr>
              <a:xfrm flipV="1">
                <a:off x="2152080" y="3075840"/>
                <a:ext cx="321840" cy="876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H="1" flipV="1">
                <a:off x="2153160" y="2748600"/>
                <a:ext cx="318960" cy="324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 flipV="1">
                <a:off x="2152080" y="3394800"/>
                <a:ext cx="323280" cy="23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2152080" y="2421720"/>
                <a:ext cx="323280" cy="972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2153880" y="2422080"/>
                <a:ext cx="31788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152440" y="2755080"/>
                <a:ext cx="0" cy="1192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2473200" y="2421000"/>
                <a:ext cx="1080" cy="1208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89" name=""/>
          <p:cNvGrpSpPr/>
          <p:nvPr/>
        </p:nvGrpSpPr>
        <p:grpSpPr>
          <a:xfrm>
            <a:off x="536400" y="3070080"/>
            <a:ext cx="5371920" cy="1927080"/>
            <a:chOff x="536400" y="3070080"/>
            <a:chExt cx="5371920" cy="1927080"/>
          </a:xfrm>
        </p:grpSpPr>
        <p:sp>
          <p:nvSpPr>
            <p:cNvPr id="1390" name=""/>
            <p:cNvSpPr/>
            <p:nvPr/>
          </p:nvSpPr>
          <p:spPr>
            <a:xfrm flipV="1">
              <a:off x="3969360" y="4668480"/>
              <a:ext cx="317520" cy="318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36400" y="4676040"/>
              <a:ext cx="32328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5590800" y="3070080"/>
              <a:ext cx="31752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2156400" y="3075840"/>
              <a:ext cx="320400" cy="318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4189320" y="3986280"/>
            <a:ext cx="1452240" cy="1450800"/>
            <a:chOff x="4189320" y="3986280"/>
            <a:chExt cx="1452240" cy="1450800"/>
          </a:xfrm>
        </p:grpSpPr>
        <p:sp>
          <p:nvSpPr>
            <p:cNvPr id="1395" name=""/>
            <p:cNvSpPr/>
            <p:nvPr/>
          </p:nvSpPr>
          <p:spPr>
            <a:xfrm>
              <a:off x="5482440" y="3986280"/>
              <a:ext cx="159120" cy="159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163840" y="4302360"/>
              <a:ext cx="159840" cy="160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836240" y="4627080"/>
              <a:ext cx="15984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513680" y="4947840"/>
              <a:ext cx="163440" cy="160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189320" y="5277240"/>
              <a:ext cx="158760" cy="1598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0" name=""/>
          <p:cNvGrpSpPr/>
          <p:nvPr/>
        </p:nvGrpSpPr>
        <p:grpSpPr>
          <a:xfrm>
            <a:off x="762120" y="3986280"/>
            <a:ext cx="1447560" cy="1442520"/>
            <a:chOff x="762120" y="3986280"/>
            <a:chExt cx="1447560" cy="1442520"/>
          </a:xfrm>
        </p:grpSpPr>
        <p:sp>
          <p:nvSpPr>
            <p:cNvPr id="1401" name=""/>
            <p:cNvSpPr/>
            <p:nvPr/>
          </p:nvSpPr>
          <p:spPr>
            <a:xfrm>
              <a:off x="2050560" y="3986280"/>
              <a:ext cx="159120" cy="15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729800" y="4304880"/>
              <a:ext cx="159120" cy="16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408680" y="462744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081080" y="4949640"/>
              <a:ext cx="16020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62120" y="526932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6" name=""/>
          <p:cNvGrpSpPr/>
          <p:nvPr/>
        </p:nvGrpSpPr>
        <p:grpSpPr>
          <a:xfrm>
            <a:off x="2368440" y="3668760"/>
            <a:ext cx="3595680" cy="162000"/>
            <a:chOff x="2368440" y="3668760"/>
            <a:chExt cx="3595680" cy="162000"/>
          </a:xfrm>
        </p:grpSpPr>
        <p:sp>
          <p:nvSpPr>
            <p:cNvPr id="1407" name=""/>
            <p:cNvSpPr/>
            <p:nvPr/>
          </p:nvSpPr>
          <p:spPr>
            <a:xfrm>
              <a:off x="5805000" y="366912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368440" y="3669120"/>
              <a:ext cx="15948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677120" y="3668760"/>
              <a:ext cx="15948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939400" y="3670920"/>
              <a:ext cx="15912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488400" y="36705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087440" y="3668760"/>
              <a:ext cx="159120" cy="15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43400" y="3670560"/>
              <a:ext cx="159120" cy="15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431640" y="5595840"/>
            <a:ext cx="3595320" cy="162000"/>
            <a:chOff x="431640" y="5595840"/>
            <a:chExt cx="3595320" cy="162000"/>
          </a:xfrm>
        </p:grpSpPr>
        <p:sp>
          <p:nvSpPr>
            <p:cNvPr id="1415" name=""/>
            <p:cNvSpPr/>
            <p:nvPr/>
          </p:nvSpPr>
          <p:spPr>
            <a:xfrm>
              <a:off x="43164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67480" y="5595840"/>
              <a:ext cx="159480" cy="16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99936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5160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741040" y="559764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315960" y="5596200"/>
              <a:ext cx="159120" cy="16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1" name=""/>
          <p:cNvSpPr/>
          <p:nvPr/>
        </p:nvSpPr>
        <p:spPr>
          <a:xfrm>
            <a:off x="2473200" y="242424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2473200" y="2752560"/>
            <a:ext cx="3432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2475000" y="3333600"/>
            <a:ext cx="3425760" cy="144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V="1">
            <a:off x="2475000" y="3076560"/>
            <a:ext cx="3422520" cy="144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476440" y="3633840"/>
            <a:ext cx="34308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536400" y="2749320"/>
            <a:ext cx="1935360" cy="1927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531720" y="3081240"/>
            <a:ext cx="1940040" cy="19144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33520" y="3346200"/>
            <a:ext cx="1939680" cy="19350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533520" y="3631680"/>
            <a:ext cx="1936800" cy="19306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2473200" y="2158920"/>
            <a:ext cx="3430800" cy="1476360"/>
            <a:chOff x="2473200" y="2158920"/>
            <a:chExt cx="3430800" cy="1476360"/>
          </a:xfrm>
        </p:grpSpPr>
        <p:sp>
          <p:nvSpPr>
            <p:cNvPr id="1431" name=""/>
            <p:cNvSpPr/>
            <p:nvPr/>
          </p:nvSpPr>
          <p:spPr>
            <a:xfrm>
              <a:off x="5355000" y="2341440"/>
              <a:ext cx="0" cy="129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904000" y="2439000"/>
              <a:ext cx="0" cy="119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782240" y="2248200"/>
              <a:ext cx="0" cy="13870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189680" y="2158920"/>
              <a:ext cx="0" cy="1476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3594960" y="2251800"/>
              <a:ext cx="0" cy="13834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473200" y="2433240"/>
              <a:ext cx="0" cy="12016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3046680" y="2336760"/>
              <a:ext cx="0" cy="12981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8" name=""/>
          <p:cNvGrpSpPr/>
          <p:nvPr/>
        </p:nvGrpSpPr>
        <p:grpSpPr>
          <a:xfrm>
            <a:off x="531720" y="4102200"/>
            <a:ext cx="3433680" cy="1469880"/>
            <a:chOff x="531720" y="4102200"/>
            <a:chExt cx="3433680" cy="1469880"/>
          </a:xfrm>
        </p:grpSpPr>
        <p:sp>
          <p:nvSpPr>
            <p:cNvPr id="1439" name=""/>
            <p:cNvSpPr/>
            <p:nvPr/>
          </p:nvSpPr>
          <p:spPr>
            <a:xfrm flipH="1">
              <a:off x="2249280" y="4102200"/>
              <a:ext cx="1440" cy="5720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416040" y="4284720"/>
              <a:ext cx="0" cy="1287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965400" y="4366080"/>
              <a:ext cx="0" cy="11948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843280" y="4197960"/>
              <a:ext cx="0" cy="13683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655280" y="4190400"/>
              <a:ext cx="0" cy="1375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31720" y="4368600"/>
              <a:ext cx="720" cy="11962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107000" y="4280400"/>
              <a:ext cx="0" cy="12859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6" name=""/>
          <p:cNvGrpSpPr/>
          <p:nvPr/>
        </p:nvGrpSpPr>
        <p:grpSpPr>
          <a:xfrm>
            <a:off x="857160" y="3781440"/>
            <a:ext cx="3430800" cy="1453680"/>
            <a:chOff x="857160" y="3781440"/>
            <a:chExt cx="3430800" cy="1453680"/>
          </a:xfrm>
        </p:grpSpPr>
        <p:sp>
          <p:nvSpPr>
            <p:cNvPr id="1447" name=""/>
            <p:cNvSpPr/>
            <p:nvPr/>
          </p:nvSpPr>
          <p:spPr>
            <a:xfrm flipV="1">
              <a:off x="857160" y="404532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V="1">
              <a:off x="857160" y="378144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4287960" y="4045320"/>
              <a:ext cx="0" cy="1189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 flipV="1">
              <a:off x="2572200" y="3781440"/>
              <a:ext cx="1715400" cy="2642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1181160" y="2484360"/>
            <a:ext cx="4400640" cy="2437920"/>
            <a:chOff x="1181160" y="2484360"/>
            <a:chExt cx="4400640" cy="2437920"/>
          </a:xfrm>
        </p:grpSpPr>
        <p:grpSp>
          <p:nvGrpSpPr>
            <p:cNvPr id="1452" name=""/>
            <p:cNvGrpSpPr/>
            <p:nvPr/>
          </p:nvGrpSpPr>
          <p:grpSpPr>
            <a:xfrm>
              <a:off x="1181160" y="3456360"/>
              <a:ext cx="3430800" cy="1465920"/>
              <a:chOff x="1181160" y="3456360"/>
              <a:chExt cx="3430800" cy="1465920"/>
            </a:xfrm>
          </p:grpSpPr>
          <p:sp>
            <p:nvSpPr>
              <p:cNvPr id="1453" name=""/>
              <p:cNvSpPr/>
              <p:nvPr/>
            </p:nvSpPr>
            <p:spPr>
              <a:xfrm flipV="1">
                <a:off x="1181160" y="3722040"/>
                <a:ext cx="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 flipV="1">
                <a:off x="1181160" y="3456360"/>
                <a:ext cx="171576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V="1">
                <a:off x="4611960" y="3721680"/>
                <a:ext cx="0" cy="1200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 flipV="1">
                <a:off x="2896920" y="3456360"/>
                <a:ext cx="1715040" cy="2653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1503000" y="3132000"/>
              <a:ext cx="3432240" cy="1463760"/>
              <a:chOff x="1503000" y="3132000"/>
              <a:chExt cx="3432240" cy="1463760"/>
            </a:xfrm>
          </p:grpSpPr>
          <p:sp>
            <p:nvSpPr>
              <p:cNvPr id="1458" name=""/>
              <p:cNvSpPr/>
              <p:nvPr/>
            </p:nvSpPr>
            <p:spPr>
              <a:xfrm flipV="1">
                <a:off x="1503000" y="3398400"/>
                <a:ext cx="0" cy="1197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1503000" y="3132000"/>
                <a:ext cx="171612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V="1">
                <a:off x="4935240" y="3398400"/>
                <a:ext cx="0" cy="11973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 flipV="1">
                <a:off x="3218760" y="3132000"/>
                <a:ext cx="171612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1827720" y="2808000"/>
              <a:ext cx="3430800" cy="1464480"/>
              <a:chOff x="1827720" y="2808000"/>
              <a:chExt cx="3430800" cy="1464480"/>
            </a:xfrm>
          </p:grpSpPr>
          <p:sp>
            <p:nvSpPr>
              <p:cNvPr id="1463" name=""/>
              <p:cNvSpPr/>
              <p:nvPr/>
            </p:nvSpPr>
            <p:spPr>
              <a:xfrm flipV="1">
                <a:off x="1827720" y="307440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V="1">
                <a:off x="1827720" y="280800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5258520" y="3074400"/>
                <a:ext cx="0" cy="1198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 flipV="1">
                <a:off x="3542760" y="2808000"/>
                <a:ext cx="1715400" cy="266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2151360" y="2484360"/>
              <a:ext cx="3430440" cy="1472400"/>
              <a:chOff x="2151360" y="2484360"/>
              <a:chExt cx="3430440" cy="1472400"/>
            </a:xfrm>
          </p:grpSpPr>
          <p:sp>
            <p:nvSpPr>
              <p:cNvPr id="1468" name=""/>
              <p:cNvSpPr/>
              <p:nvPr/>
            </p:nvSpPr>
            <p:spPr>
              <a:xfrm flipV="1">
                <a:off x="2151360" y="275184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2151360" y="2484360"/>
                <a:ext cx="171504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5581800" y="2751840"/>
                <a:ext cx="0" cy="1204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 flipV="1">
                <a:off x="3866040" y="2484360"/>
                <a:ext cx="1715400" cy="267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2" name=""/>
          <p:cNvGrpSpPr/>
          <p:nvPr/>
        </p:nvGrpSpPr>
        <p:grpSpPr>
          <a:xfrm>
            <a:off x="2151000" y="2160720"/>
            <a:ext cx="3753000" cy="588960"/>
            <a:chOff x="2151000" y="2160720"/>
            <a:chExt cx="3753000" cy="588960"/>
          </a:xfrm>
        </p:grpSpPr>
        <p:sp>
          <p:nvSpPr>
            <p:cNvPr id="1473" name=""/>
            <p:cNvSpPr/>
            <p:nvPr/>
          </p:nvSpPr>
          <p:spPr>
            <a:xfrm flipV="1">
              <a:off x="5586480" y="242100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V="1">
              <a:off x="3868920" y="2160720"/>
              <a:ext cx="321840" cy="32400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4461840" y="225180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2151360" y="2424960"/>
              <a:ext cx="324720" cy="3211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V="1">
              <a:off x="2723400" y="2338200"/>
              <a:ext cx="317520" cy="317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V="1">
              <a:off x="3274560" y="2254680"/>
              <a:ext cx="317520" cy="31824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2151000" y="2160720"/>
              <a:ext cx="3749040" cy="588960"/>
              <a:chOff x="2151000" y="2160720"/>
              <a:chExt cx="3749040" cy="588960"/>
            </a:xfrm>
          </p:grpSpPr>
          <p:sp>
            <p:nvSpPr>
              <p:cNvPr id="1480" name=""/>
              <p:cNvSpPr/>
              <p:nvPr/>
            </p:nvSpPr>
            <p:spPr>
              <a:xfrm flipH="1" flipV="1">
                <a:off x="4188600" y="2161080"/>
                <a:ext cx="26640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 flipH="1">
                <a:off x="3273480" y="2161080"/>
                <a:ext cx="913320" cy="413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 flipH="1" flipV="1">
                <a:off x="5353920" y="2337480"/>
                <a:ext cx="225360" cy="4118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 flipV="1">
                <a:off x="5024880" y="2422440"/>
                <a:ext cx="875160" cy="239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H="1" flipV="1">
                <a:off x="4781880" y="2251800"/>
                <a:ext cx="242640" cy="411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H="1">
                <a:off x="4457880" y="2335320"/>
                <a:ext cx="896760" cy="2404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H="1">
                <a:off x="3871800" y="2247840"/>
                <a:ext cx="910080" cy="232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 flipH="1" flipV="1">
                <a:off x="3592800" y="2255040"/>
                <a:ext cx="285840" cy="2340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 flipV="1">
                <a:off x="3045240" y="2335320"/>
                <a:ext cx="236160" cy="2419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H="1">
                <a:off x="2720160" y="2256480"/>
                <a:ext cx="874080" cy="4057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 flipH="1" flipV="1">
                <a:off x="2478240" y="2426040"/>
                <a:ext cx="239400" cy="2343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H="1">
                <a:off x="2151000" y="2336760"/>
                <a:ext cx="894240" cy="4100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 flipV="1">
                <a:off x="2478960" y="2163240"/>
                <a:ext cx="1708560" cy="25776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2166840" y="2481840"/>
                <a:ext cx="1705680" cy="26352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870000" y="2480400"/>
                <a:ext cx="1710720" cy="26928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194720" y="2160720"/>
                <a:ext cx="1698120" cy="2606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6" name=""/>
            <p:cNvSpPr/>
            <p:nvPr/>
          </p:nvSpPr>
          <p:spPr>
            <a:xfrm flipV="1">
              <a:off x="5026320" y="2337120"/>
              <a:ext cx="326160" cy="32688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7" name=""/>
          <p:cNvGrpSpPr/>
          <p:nvPr/>
        </p:nvGrpSpPr>
        <p:grpSpPr>
          <a:xfrm>
            <a:off x="525600" y="3780000"/>
            <a:ext cx="3754440" cy="590040"/>
            <a:chOff x="525600" y="3780000"/>
            <a:chExt cx="3754440" cy="590040"/>
          </a:xfrm>
        </p:grpSpPr>
        <p:sp>
          <p:nvSpPr>
            <p:cNvPr id="1498" name=""/>
            <p:cNvSpPr/>
            <p:nvPr/>
          </p:nvSpPr>
          <p:spPr>
            <a:xfrm flipV="1">
              <a:off x="3956760" y="4044600"/>
              <a:ext cx="321840" cy="3211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2839320" y="3871800"/>
              <a:ext cx="320400" cy="320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2243880" y="3784680"/>
              <a:ext cx="316080" cy="315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40640" y="4100760"/>
              <a:ext cx="1716120" cy="269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H="1" flipV="1">
              <a:off x="2565000" y="3782160"/>
              <a:ext cx="26784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 flipV="1">
              <a:off x="3731400" y="3960720"/>
              <a:ext cx="228240" cy="4078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3408120" y="4045320"/>
              <a:ext cx="866160" cy="2386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 flipV="1">
              <a:off x="3160800" y="3873960"/>
              <a:ext cx="24840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>
              <a:off x="2832840" y="3960000"/>
              <a:ext cx="896400" cy="236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2242440" y="3872520"/>
              <a:ext cx="919440" cy="22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569680" y="3780720"/>
              <a:ext cx="1710360" cy="264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3409560" y="3960000"/>
              <a:ext cx="320400" cy="3214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V="1">
              <a:off x="1652760" y="3868920"/>
              <a:ext cx="320400" cy="3229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1101600" y="3952800"/>
              <a:ext cx="322920" cy="32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35320" y="4100760"/>
              <a:ext cx="1704960" cy="2664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851400" y="3780720"/>
              <a:ext cx="1722240" cy="262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1650240" y="3780000"/>
              <a:ext cx="917280" cy="41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flipV="1">
              <a:off x="1970640" y="3872160"/>
              <a:ext cx="268560" cy="228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flipV="1">
              <a:off x="1422000" y="3952800"/>
              <a:ext cx="227520" cy="239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>
              <a:off x="1104120" y="3876840"/>
              <a:ext cx="859680" cy="4032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flipV="1">
              <a:off x="852120" y="4042440"/>
              <a:ext cx="246600" cy="2358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>
              <a:off x="529200" y="3955680"/>
              <a:ext cx="889920" cy="41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525600" y="4044240"/>
              <a:ext cx="325800" cy="3254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1" name=""/>
          <p:cNvSpPr/>
          <p:nvPr/>
        </p:nvSpPr>
        <p:spPr>
          <a:xfrm flipV="1">
            <a:off x="3956040" y="2422440"/>
            <a:ext cx="19461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533520" y="2422440"/>
            <a:ext cx="19414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548080" y="2205000"/>
            <a:ext cx="193500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2841480" y="2249640"/>
            <a:ext cx="194148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3413160" y="2341440"/>
            <a:ext cx="193212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3681360" y="2386080"/>
            <a:ext cx="1946160" cy="19461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779400" y="2381400"/>
            <a:ext cx="1986120" cy="19540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1103400" y="2338200"/>
            <a:ext cx="1938240" cy="19429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1655640" y="2247840"/>
            <a:ext cx="1943280" cy="19432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V="1">
            <a:off x="1935000" y="2205000"/>
            <a:ext cx="1973520" cy="195120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1371600" y="2298600"/>
            <a:ext cx="194796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3124080" y="2290320"/>
            <a:ext cx="1941480" cy="194796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2841480" y="5565240"/>
            <a:ext cx="1119240" cy="18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531720" y="4368600"/>
            <a:ext cx="3430800" cy="4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31720" y="4678200"/>
            <a:ext cx="3429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838600" y="5276880"/>
            <a:ext cx="112212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531720" y="4998600"/>
            <a:ext cx="1123920" cy="18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841480" y="4991040"/>
            <a:ext cx="11210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33520" y="5281560"/>
            <a:ext cx="111924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34960" y="5564160"/>
            <a:ext cx="1116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3960720" y="3635280"/>
            <a:ext cx="1943280" cy="192888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3965400" y="2754000"/>
            <a:ext cx="1936800" cy="19256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3963960" y="3076560"/>
            <a:ext cx="1938240" cy="19130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3962520" y="3333600"/>
            <a:ext cx="1939680" cy="194472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531720" y="4101840"/>
            <a:ext cx="3433320" cy="267840"/>
            <a:chOff x="531720" y="4101840"/>
            <a:chExt cx="3433320" cy="267840"/>
          </a:xfrm>
        </p:grpSpPr>
        <p:sp>
          <p:nvSpPr>
            <p:cNvPr id="1546" name=""/>
            <p:cNvSpPr/>
            <p:nvPr/>
          </p:nvSpPr>
          <p:spPr>
            <a:xfrm flipV="1">
              <a:off x="531720" y="4101840"/>
              <a:ext cx="171396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 flipV="1">
              <a:off x="2249640" y="4102920"/>
              <a:ext cx="1715400" cy="26676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8" name=""/>
          <p:cNvSpPr/>
          <p:nvPr/>
        </p:nvSpPr>
        <p:spPr>
          <a:xfrm flipV="1">
            <a:off x="53028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3960720" y="4363920"/>
            <a:ext cx="0" cy="1190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2479680" y="2158560"/>
            <a:ext cx="3428640" cy="265320"/>
            <a:chOff x="2479680" y="2158560"/>
            <a:chExt cx="3428640" cy="265320"/>
          </a:xfrm>
        </p:grpSpPr>
        <p:sp>
          <p:nvSpPr>
            <p:cNvPr id="1551" name=""/>
            <p:cNvSpPr/>
            <p:nvPr/>
          </p:nvSpPr>
          <p:spPr>
            <a:xfrm flipV="1">
              <a:off x="2479680" y="2158560"/>
              <a:ext cx="171360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 flipV="1">
              <a:off x="4193280" y="2158560"/>
              <a:ext cx="1715040" cy="265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109440" y="425520"/>
            <a:ext cx="878220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771480" y="915840"/>
            <a:ext cx="75456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Les pannes courantes supportent une partie de la couver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00760" y="2567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873840" y="263376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800760" y="29988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73840" y="306540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6800760" y="34304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6873840" y="3497400"/>
            <a:ext cx="180036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6800760" y="38638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873840" y="3930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00760" y="42958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73840" y="436248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00760" y="4727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73840" y="4794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00760" y="51595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6873840" y="522612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800760" y="5591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873840" y="565776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800760" y="17082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6873840" y="1776240"/>
            <a:ext cx="17985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800760" y="21351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873840" y="2208240"/>
            <a:ext cx="1800360" cy="21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800760" y="6029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873840" y="609588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uver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2856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>
            <a:hlinkClick r:id="" action="ppaction://hlinkshowjump?jump=nextslide"/>
          </p:cNvPr>
          <p:cNvSpPr/>
          <p:nvPr/>
        </p:nvSpPr>
        <p:spPr>
          <a:xfrm>
            <a:off x="765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657440" y="4695840"/>
            <a:ext cx="11779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514440" y="2158920"/>
            <a:ext cx="5433840" cy="2228760"/>
            <a:chOff x="514440" y="2158920"/>
            <a:chExt cx="5433840" cy="2228760"/>
          </a:xfrm>
        </p:grpSpPr>
        <p:sp>
          <p:nvSpPr>
            <p:cNvPr id="1581" name=""/>
            <p:cNvSpPr/>
            <p:nvPr/>
          </p:nvSpPr>
          <p:spPr>
            <a:xfrm>
              <a:off x="514440" y="2158920"/>
              <a:ext cx="5433840" cy="2228760"/>
            </a:xfrm>
            <a:custGeom>
              <a:avLst/>
              <a:gdLst/>
              <a:ahLst/>
              <a:rect l="l" t="t" r="r" b="b"/>
              <a:pathLst>
                <a:path w="13950" h="5715">
                  <a:moveTo>
                    <a:pt x="8880" y="5715"/>
                  </a:moveTo>
                  <a:lnTo>
                    <a:pt x="4425" y="5010"/>
                  </a:lnTo>
                  <a:lnTo>
                    <a:pt x="0" y="5685"/>
                  </a:lnTo>
                  <a:lnTo>
                    <a:pt x="5010" y="675"/>
                  </a:lnTo>
                  <a:lnTo>
                    <a:pt x="9495" y="0"/>
                  </a:lnTo>
                  <a:lnTo>
                    <a:pt x="13950" y="675"/>
                  </a:lnTo>
                  <a:lnTo>
                    <a:pt x="8880" y="571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951120" y="2344320"/>
              <a:ext cx="4541400" cy="1849320"/>
              <a:chOff x="951120" y="2344320"/>
              <a:chExt cx="4541400" cy="1849320"/>
            </a:xfrm>
          </p:grpSpPr>
          <p:sp>
            <p:nvSpPr>
              <p:cNvPr id="1583" name=""/>
              <p:cNvSpPr/>
              <p:nvPr/>
            </p:nvSpPr>
            <p:spPr>
              <a:xfrm>
                <a:off x="2741400" y="2344320"/>
                <a:ext cx="1922400" cy="1680840"/>
              </a:xfrm>
              <a:custGeom>
                <a:avLst/>
                <a:gdLst/>
                <a:ahLst/>
                <a:rect l="l" t="t" r="r" b="b"/>
                <a:pathLst>
                  <a:path w="4935" h="4310">
                    <a:moveTo>
                      <a:pt x="0" y="4215"/>
                    </a:moveTo>
                    <a:lnTo>
                      <a:pt x="705" y="4310"/>
                    </a:lnTo>
                    <a:lnTo>
                      <a:pt x="4935" y="80"/>
                    </a:lnTo>
                    <a:lnTo>
                      <a:pt x="4210" y="0"/>
                    </a:lnTo>
                    <a:lnTo>
                      <a:pt x="0" y="4215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70480" y="2512800"/>
                <a:ext cx="1922040" cy="1680840"/>
              </a:xfrm>
              <a:custGeom>
                <a:avLst/>
                <a:gdLst/>
                <a:ahLst/>
                <a:rect l="l" t="t" r="r" b="b"/>
                <a:pathLst>
                  <a:path w="4935" h="4310">
                    <a:moveTo>
                      <a:pt x="0" y="4215"/>
                    </a:moveTo>
                    <a:lnTo>
                      <a:pt x="705" y="4310"/>
                    </a:lnTo>
                    <a:lnTo>
                      <a:pt x="4935" y="80"/>
                    </a:lnTo>
                    <a:lnTo>
                      <a:pt x="4210" y="0"/>
                    </a:lnTo>
                    <a:lnTo>
                      <a:pt x="0" y="4215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03240" y="2371680"/>
                <a:ext cx="1951920" cy="1677960"/>
              </a:xfrm>
              <a:custGeom>
                <a:avLst/>
                <a:gdLst/>
                <a:ahLst/>
                <a:rect l="l" t="t" r="r" b="b"/>
                <a:pathLst>
                  <a:path w="4966" h="4324">
                    <a:moveTo>
                      <a:pt x="796" y="4185"/>
                    </a:moveTo>
                    <a:lnTo>
                      <a:pt x="0" y="4324"/>
                    </a:lnTo>
                    <a:lnTo>
                      <a:pt x="4151" y="155"/>
                    </a:lnTo>
                    <a:lnTo>
                      <a:pt x="4966" y="0"/>
                    </a:lnTo>
                    <a:lnTo>
                      <a:pt x="796" y="4185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951120" y="2519280"/>
                <a:ext cx="1951200" cy="1661040"/>
              </a:xfrm>
              <a:custGeom>
                <a:avLst/>
                <a:gdLst/>
                <a:ahLst/>
                <a:rect l="l" t="t" r="r" b="b"/>
                <a:pathLst>
                  <a:path w="4966" h="4324">
                    <a:moveTo>
                      <a:pt x="796" y="4185"/>
                    </a:moveTo>
                    <a:lnTo>
                      <a:pt x="0" y="4324"/>
                    </a:lnTo>
                    <a:lnTo>
                      <a:pt x="4151" y="155"/>
                    </a:lnTo>
                    <a:lnTo>
                      <a:pt x="4966" y="0"/>
                    </a:lnTo>
                    <a:lnTo>
                      <a:pt x="796" y="4185"/>
                    </a:ln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7" name=""/>
          <p:cNvSpPr/>
          <p:nvPr/>
        </p:nvSpPr>
        <p:spPr>
          <a:xfrm>
            <a:off x="1657440" y="4695840"/>
            <a:ext cx="11779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flipV="1">
            <a:off x="2251080" y="2171520"/>
            <a:ext cx="1944720" cy="194436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6553080" y="50760"/>
            <a:ext cx="890640" cy="903240"/>
            <a:chOff x="6553080" y="50760"/>
            <a:chExt cx="890640" cy="903240"/>
          </a:xfrm>
        </p:grpSpPr>
        <p:grpSp>
          <p:nvGrpSpPr>
            <p:cNvPr id="1590" name=""/>
            <p:cNvGrpSpPr/>
            <p:nvPr/>
          </p:nvGrpSpPr>
          <p:grpSpPr>
            <a:xfrm>
              <a:off x="6972120" y="138240"/>
              <a:ext cx="471600" cy="815760"/>
              <a:chOff x="6972120" y="138240"/>
              <a:chExt cx="471600" cy="815760"/>
            </a:xfrm>
          </p:grpSpPr>
          <p:sp>
            <p:nvSpPr>
              <p:cNvPr id="1591" name=""/>
              <p:cNvSpPr/>
              <p:nvPr/>
            </p:nvSpPr>
            <p:spPr>
              <a:xfrm>
                <a:off x="7146720" y="24588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506" h="443">
                    <a:moveTo>
                      <a:pt x="175" y="106"/>
                    </a:moveTo>
                    <a:lnTo>
                      <a:pt x="202" y="47"/>
                    </a:lnTo>
                    <a:lnTo>
                      <a:pt x="273" y="8"/>
                    </a:lnTo>
                    <a:lnTo>
                      <a:pt x="322" y="0"/>
                    </a:lnTo>
                    <a:lnTo>
                      <a:pt x="376" y="0"/>
                    </a:lnTo>
                    <a:lnTo>
                      <a:pt x="466" y="33"/>
                    </a:lnTo>
                    <a:lnTo>
                      <a:pt x="506" y="120"/>
                    </a:lnTo>
                    <a:lnTo>
                      <a:pt x="487" y="236"/>
                    </a:lnTo>
                    <a:lnTo>
                      <a:pt x="423" y="335"/>
                    </a:lnTo>
                    <a:lnTo>
                      <a:pt x="356" y="404"/>
                    </a:lnTo>
                    <a:lnTo>
                      <a:pt x="285" y="434"/>
                    </a:lnTo>
                    <a:lnTo>
                      <a:pt x="231" y="443"/>
                    </a:lnTo>
                    <a:lnTo>
                      <a:pt x="175" y="426"/>
                    </a:lnTo>
                    <a:lnTo>
                      <a:pt x="132" y="379"/>
                    </a:lnTo>
                    <a:lnTo>
                      <a:pt x="111" y="319"/>
                    </a:lnTo>
                    <a:lnTo>
                      <a:pt x="115" y="255"/>
                    </a:lnTo>
                    <a:lnTo>
                      <a:pt x="135" y="178"/>
                    </a:lnTo>
                    <a:lnTo>
                      <a:pt x="144" y="165"/>
                    </a:lnTo>
                    <a:lnTo>
                      <a:pt x="14" y="82"/>
                    </a:lnTo>
                    <a:lnTo>
                      <a:pt x="0" y="63"/>
                    </a:lnTo>
                    <a:lnTo>
                      <a:pt x="0" y="38"/>
                    </a:lnTo>
                    <a:lnTo>
                      <a:pt x="31" y="24"/>
                    </a:lnTo>
                    <a:lnTo>
                      <a:pt x="175" y="1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251480" y="433440"/>
                <a:ext cx="192240" cy="269640"/>
              </a:xfrm>
              <a:custGeom>
                <a:avLst/>
                <a:gdLst/>
                <a:ahLst/>
                <a:rect l="l" t="t" r="r" b="b"/>
                <a:pathLst>
                  <a:path w="603" h="849">
                    <a:moveTo>
                      <a:pt x="74" y="14"/>
                    </a:moveTo>
                    <a:lnTo>
                      <a:pt x="213" y="50"/>
                    </a:lnTo>
                    <a:lnTo>
                      <a:pt x="364" y="138"/>
                    </a:lnTo>
                    <a:lnTo>
                      <a:pt x="451" y="214"/>
                    </a:lnTo>
                    <a:lnTo>
                      <a:pt x="540" y="306"/>
                    </a:lnTo>
                    <a:lnTo>
                      <a:pt x="584" y="371"/>
                    </a:lnTo>
                    <a:lnTo>
                      <a:pt x="603" y="459"/>
                    </a:lnTo>
                    <a:lnTo>
                      <a:pt x="590" y="496"/>
                    </a:lnTo>
                    <a:lnTo>
                      <a:pt x="543" y="542"/>
                    </a:lnTo>
                    <a:lnTo>
                      <a:pt x="430" y="571"/>
                    </a:lnTo>
                    <a:lnTo>
                      <a:pt x="311" y="587"/>
                    </a:lnTo>
                    <a:lnTo>
                      <a:pt x="244" y="592"/>
                    </a:lnTo>
                    <a:lnTo>
                      <a:pt x="264" y="634"/>
                    </a:lnTo>
                    <a:lnTo>
                      <a:pt x="334" y="702"/>
                    </a:lnTo>
                    <a:lnTo>
                      <a:pt x="393" y="743"/>
                    </a:lnTo>
                    <a:lnTo>
                      <a:pt x="460" y="785"/>
                    </a:lnTo>
                    <a:lnTo>
                      <a:pt x="470" y="824"/>
                    </a:lnTo>
                    <a:lnTo>
                      <a:pt x="440" y="849"/>
                    </a:lnTo>
                    <a:lnTo>
                      <a:pt x="390" y="832"/>
                    </a:lnTo>
                    <a:lnTo>
                      <a:pt x="283" y="732"/>
                    </a:lnTo>
                    <a:lnTo>
                      <a:pt x="231" y="677"/>
                    </a:lnTo>
                    <a:lnTo>
                      <a:pt x="194" y="592"/>
                    </a:lnTo>
                    <a:lnTo>
                      <a:pt x="204" y="561"/>
                    </a:lnTo>
                    <a:lnTo>
                      <a:pt x="260" y="551"/>
                    </a:lnTo>
                    <a:lnTo>
                      <a:pt x="360" y="545"/>
                    </a:lnTo>
                    <a:lnTo>
                      <a:pt x="454" y="526"/>
                    </a:lnTo>
                    <a:lnTo>
                      <a:pt x="503" y="501"/>
                    </a:lnTo>
                    <a:lnTo>
                      <a:pt x="540" y="463"/>
                    </a:lnTo>
                    <a:lnTo>
                      <a:pt x="540" y="426"/>
                    </a:lnTo>
                    <a:lnTo>
                      <a:pt x="524" y="363"/>
                    </a:lnTo>
                    <a:lnTo>
                      <a:pt x="484" y="322"/>
                    </a:lnTo>
                    <a:lnTo>
                      <a:pt x="451" y="277"/>
                    </a:lnTo>
                    <a:lnTo>
                      <a:pt x="400" y="245"/>
                    </a:lnTo>
                    <a:lnTo>
                      <a:pt x="334" y="190"/>
                    </a:lnTo>
                    <a:lnTo>
                      <a:pt x="254" y="148"/>
                    </a:lnTo>
                    <a:lnTo>
                      <a:pt x="180" y="130"/>
                    </a:lnTo>
                    <a:lnTo>
                      <a:pt x="91" y="116"/>
                    </a:lnTo>
                    <a:lnTo>
                      <a:pt x="35" y="97"/>
                    </a:lnTo>
                    <a:lnTo>
                      <a:pt x="0" y="63"/>
                    </a:lnTo>
                    <a:lnTo>
                      <a:pt x="0" y="16"/>
                    </a:lnTo>
                    <a:lnTo>
                      <a:pt x="35" y="0"/>
                    </a:lnTo>
                    <a:lnTo>
                      <a:pt x="101" y="14"/>
                    </a:lnTo>
                    <a:lnTo>
                      <a:pt x="110" y="16"/>
                    </a:lnTo>
                    <a:lnTo>
                      <a:pt x="74" y="1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972120" y="138240"/>
                <a:ext cx="222120" cy="304560"/>
              </a:xfrm>
              <a:custGeom>
                <a:avLst/>
                <a:gdLst/>
                <a:ahLst/>
                <a:rect l="l" t="t" r="r" b="b"/>
                <a:pathLst>
                  <a:path w="699" h="961">
                    <a:moveTo>
                      <a:pt x="640" y="826"/>
                    </a:moveTo>
                    <a:lnTo>
                      <a:pt x="692" y="870"/>
                    </a:lnTo>
                    <a:lnTo>
                      <a:pt x="699" y="912"/>
                    </a:lnTo>
                    <a:lnTo>
                      <a:pt x="680" y="953"/>
                    </a:lnTo>
                    <a:lnTo>
                      <a:pt x="622" y="961"/>
                    </a:lnTo>
                    <a:lnTo>
                      <a:pt x="549" y="879"/>
                    </a:lnTo>
                    <a:lnTo>
                      <a:pt x="519" y="809"/>
                    </a:lnTo>
                    <a:lnTo>
                      <a:pt x="463" y="721"/>
                    </a:lnTo>
                    <a:lnTo>
                      <a:pt x="409" y="621"/>
                    </a:lnTo>
                    <a:lnTo>
                      <a:pt x="360" y="539"/>
                    </a:lnTo>
                    <a:lnTo>
                      <a:pt x="290" y="436"/>
                    </a:lnTo>
                    <a:lnTo>
                      <a:pt x="203" y="340"/>
                    </a:lnTo>
                    <a:lnTo>
                      <a:pt x="133" y="256"/>
                    </a:lnTo>
                    <a:lnTo>
                      <a:pt x="100" y="232"/>
                    </a:lnTo>
                    <a:lnTo>
                      <a:pt x="70" y="232"/>
                    </a:lnTo>
                    <a:lnTo>
                      <a:pt x="23" y="215"/>
                    </a:lnTo>
                    <a:lnTo>
                      <a:pt x="10" y="179"/>
                    </a:lnTo>
                    <a:lnTo>
                      <a:pt x="0" y="115"/>
                    </a:lnTo>
                    <a:lnTo>
                      <a:pt x="10" y="55"/>
                    </a:lnTo>
                    <a:lnTo>
                      <a:pt x="33" y="16"/>
                    </a:lnTo>
                    <a:lnTo>
                      <a:pt x="63" y="0"/>
                    </a:lnTo>
                    <a:lnTo>
                      <a:pt x="103" y="21"/>
                    </a:lnTo>
                    <a:lnTo>
                      <a:pt x="123" y="8"/>
                    </a:lnTo>
                    <a:lnTo>
                      <a:pt x="140" y="39"/>
                    </a:lnTo>
                    <a:lnTo>
                      <a:pt x="154" y="115"/>
                    </a:lnTo>
                    <a:lnTo>
                      <a:pt x="143" y="154"/>
                    </a:lnTo>
                    <a:lnTo>
                      <a:pt x="150" y="215"/>
                    </a:lnTo>
                    <a:lnTo>
                      <a:pt x="183" y="256"/>
                    </a:lnTo>
                    <a:lnTo>
                      <a:pt x="263" y="345"/>
                    </a:lnTo>
                    <a:lnTo>
                      <a:pt x="323" y="406"/>
                    </a:lnTo>
                    <a:lnTo>
                      <a:pt x="383" y="480"/>
                    </a:lnTo>
                    <a:lnTo>
                      <a:pt x="420" y="530"/>
                    </a:lnTo>
                    <a:lnTo>
                      <a:pt x="493" y="610"/>
                    </a:lnTo>
                    <a:lnTo>
                      <a:pt x="549" y="705"/>
                    </a:lnTo>
                    <a:lnTo>
                      <a:pt x="603" y="812"/>
                    </a:lnTo>
                    <a:lnTo>
                      <a:pt x="640" y="82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140240" y="398520"/>
                <a:ext cx="136800" cy="279360"/>
              </a:xfrm>
              <a:custGeom>
                <a:avLst/>
                <a:gdLst/>
                <a:ahLst/>
                <a:rect l="l" t="t" r="r" b="b"/>
                <a:pathLst>
                  <a:path w="429" h="880">
                    <a:moveTo>
                      <a:pt x="13" y="232"/>
                    </a:moveTo>
                    <a:lnTo>
                      <a:pt x="59" y="116"/>
                    </a:lnTo>
                    <a:lnTo>
                      <a:pt x="99" y="61"/>
                    </a:lnTo>
                    <a:lnTo>
                      <a:pt x="169" y="4"/>
                    </a:lnTo>
                    <a:lnTo>
                      <a:pt x="230" y="0"/>
                    </a:lnTo>
                    <a:lnTo>
                      <a:pt x="293" y="18"/>
                    </a:lnTo>
                    <a:lnTo>
                      <a:pt x="349" y="59"/>
                    </a:lnTo>
                    <a:lnTo>
                      <a:pt x="349" y="135"/>
                    </a:lnTo>
                    <a:lnTo>
                      <a:pt x="323" y="202"/>
                    </a:lnTo>
                    <a:lnTo>
                      <a:pt x="323" y="323"/>
                    </a:lnTo>
                    <a:lnTo>
                      <a:pt x="333" y="508"/>
                    </a:lnTo>
                    <a:lnTo>
                      <a:pt x="382" y="621"/>
                    </a:lnTo>
                    <a:lnTo>
                      <a:pt x="429" y="711"/>
                    </a:lnTo>
                    <a:lnTo>
                      <a:pt x="429" y="781"/>
                    </a:lnTo>
                    <a:lnTo>
                      <a:pt x="379" y="846"/>
                    </a:lnTo>
                    <a:lnTo>
                      <a:pt x="339" y="877"/>
                    </a:lnTo>
                    <a:lnTo>
                      <a:pt x="279" y="880"/>
                    </a:lnTo>
                    <a:lnTo>
                      <a:pt x="209" y="880"/>
                    </a:lnTo>
                    <a:lnTo>
                      <a:pt x="132" y="860"/>
                    </a:lnTo>
                    <a:lnTo>
                      <a:pt x="59" y="745"/>
                    </a:lnTo>
                    <a:lnTo>
                      <a:pt x="19" y="607"/>
                    </a:lnTo>
                    <a:lnTo>
                      <a:pt x="0" y="500"/>
                    </a:lnTo>
                    <a:lnTo>
                      <a:pt x="0" y="372"/>
                    </a:lnTo>
                    <a:lnTo>
                      <a:pt x="13" y="23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192800" y="635040"/>
                <a:ext cx="114120" cy="293760"/>
              </a:xfrm>
              <a:custGeom>
                <a:avLst/>
                <a:gdLst/>
                <a:ahLst/>
                <a:rect l="l" t="t" r="r" b="b"/>
                <a:pathLst>
                  <a:path w="363" h="922">
                    <a:moveTo>
                      <a:pt x="200" y="16"/>
                    </a:moveTo>
                    <a:lnTo>
                      <a:pt x="154" y="0"/>
                    </a:lnTo>
                    <a:lnTo>
                      <a:pt x="110" y="22"/>
                    </a:lnTo>
                    <a:lnTo>
                      <a:pt x="84" y="100"/>
                    </a:lnTo>
                    <a:lnTo>
                      <a:pt x="110" y="224"/>
                    </a:lnTo>
                    <a:lnTo>
                      <a:pt x="154" y="291"/>
                    </a:lnTo>
                    <a:lnTo>
                      <a:pt x="200" y="407"/>
                    </a:lnTo>
                    <a:lnTo>
                      <a:pt x="224" y="465"/>
                    </a:lnTo>
                    <a:lnTo>
                      <a:pt x="224" y="539"/>
                    </a:lnTo>
                    <a:lnTo>
                      <a:pt x="163" y="614"/>
                    </a:lnTo>
                    <a:lnTo>
                      <a:pt x="80" y="694"/>
                    </a:lnTo>
                    <a:lnTo>
                      <a:pt x="30" y="736"/>
                    </a:lnTo>
                    <a:lnTo>
                      <a:pt x="0" y="769"/>
                    </a:lnTo>
                    <a:lnTo>
                      <a:pt x="0" y="805"/>
                    </a:lnTo>
                    <a:lnTo>
                      <a:pt x="33" y="811"/>
                    </a:lnTo>
                    <a:lnTo>
                      <a:pt x="114" y="828"/>
                    </a:lnTo>
                    <a:lnTo>
                      <a:pt x="231" y="877"/>
                    </a:lnTo>
                    <a:lnTo>
                      <a:pt x="264" y="913"/>
                    </a:lnTo>
                    <a:lnTo>
                      <a:pt x="310" y="922"/>
                    </a:lnTo>
                    <a:lnTo>
                      <a:pt x="363" y="879"/>
                    </a:lnTo>
                    <a:lnTo>
                      <a:pt x="330" y="861"/>
                    </a:lnTo>
                    <a:lnTo>
                      <a:pt x="203" y="822"/>
                    </a:lnTo>
                    <a:lnTo>
                      <a:pt x="121" y="803"/>
                    </a:lnTo>
                    <a:lnTo>
                      <a:pt x="60" y="780"/>
                    </a:lnTo>
                    <a:lnTo>
                      <a:pt x="60" y="772"/>
                    </a:lnTo>
                    <a:lnTo>
                      <a:pt x="70" y="752"/>
                    </a:lnTo>
                    <a:lnTo>
                      <a:pt x="110" y="713"/>
                    </a:lnTo>
                    <a:lnTo>
                      <a:pt x="224" y="631"/>
                    </a:lnTo>
                    <a:lnTo>
                      <a:pt x="290" y="561"/>
                    </a:lnTo>
                    <a:lnTo>
                      <a:pt x="304" y="512"/>
                    </a:lnTo>
                    <a:lnTo>
                      <a:pt x="294" y="440"/>
                    </a:lnTo>
                    <a:lnTo>
                      <a:pt x="264" y="381"/>
                    </a:lnTo>
                    <a:lnTo>
                      <a:pt x="224" y="299"/>
                    </a:lnTo>
                    <a:lnTo>
                      <a:pt x="210" y="213"/>
                    </a:lnTo>
                    <a:lnTo>
                      <a:pt x="210" y="129"/>
                    </a:lnTo>
                    <a:lnTo>
                      <a:pt x="210" y="55"/>
                    </a:lnTo>
                    <a:lnTo>
                      <a:pt x="200" y="1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121160" y="638280"/>
                <a:ext cx="95400" cy="315720"/>
              </a:xfrm>
              <a:custGeom>
                <a:avLst/>
                <a:gdLst/>
                <a:ahLst/>
                <a:rect l="l" t="t" r="r" b="b"/>
                <a:pathLst>
                  <a:path w="297" h="996">
                    <a:moveTo>
                      <a:pt x="151" y="154"/>
                    </a:moveTo>
                    <a:lnTo>
                      <a:pt x="188" y="50"/>
                    </a:lnTo>
                    <a:lnTo>
                      <a:pt x="230" y="0"/>
                    </a:lnTo>
                    <a:lnTo>
                      <a:pt x="260" y="0"/>
                    </a:lnTo>
                    <a:lnTo>
                      <a:pt x="297" y="25"/>
                    </a:lnTo>
                    <a:lnTo>
                      <a:pt x="287" y="113"/>
                    </a:lnTo>
                    <a:lnTo>
                      <a:pt x="257" y="188"/>
                    </a:lnTo>
                    <a:lnTo>
                      <a:pt x="190" y="265"/>
                    </a:lnTo>
                    <a:lnTo>
                      <a:pt x="132" y="390"/>
                    </a:lnTo>
                    <a:lnTo>
                      <a:pt x="99" y="462"/>
                    </a:lnTo>
                    <a:lnTo>
                      <a:pt x="81" y="531"/>
                    </a:lnTo>
                    <a:lnTo>
                      <a:pt x="92" y="603"/>
                    </a:lnTo>
                    <a:lnTo>
                      <a:pt x="118" y="689"/>
                    </a:lnTo>
                    <a:lnTo>
                      <a:pt x="141" y="736"/>
                    </a:lnTo>
                    <a:lnTo>
                      <a:pt x="162" y="802"/>
                    </a:lnTo>
                    <a:lnTo>
                      <a:pt x="158" y="830"/>
                    </a:lnTo>
                    <a:lnTo>
                      <a:pt x="111" y="935"/>
                    </a:lnTo>
                    <a:lnTo>
                      <a:pt x="99" y="994"/>
                    </a:lnTo>
                    <a:lnTo>
                      <a:pt x="59" y="996"/>
                    </a:lnTo>
                    <a:lnTo>
                      <a:pt x="9" y="968"/>
                    </a:lnTo>
                    <a:lnTo>
                      <a:pt x="2" y="943"/>
                    </a:lnTo>
                    <a:lnTo>
                      <a:pt x="23" y="913"/>
                    </a:lnTo>
                    <a:lnTo>
                      <a:pt x="79" y="855"/>
                    </a:lnTo>
                    <a:lnTo>
                      <a:pt x="111" y="822"/>
                    </a:lnTo>
                    <a:lnTo>
                      <a:pt x="118" y="794"/>
                    </a:lnTo>
                    <a:lnTo>
                      <a:pt x="99" y="744"/>
                    </a:lnTo>
                    <a:lnTo>
                      <a:pt x="62" y="681"/>
                    </a:lnTo>
                    <a:lnTo>
                      <a:pt x="29" y="605"/>
                    </a:lnTo>
                    <a:lnTo>
                      <a:pt x="9" y="553"/>
                    </a:lnTo>
                    <a:lnTo>
                      <a:pt x="0" y="490"/>
                    </a:lnTo>
                    <a:lnTo>
                      <a:pt x="29" y="423"/>
                    </a:lnTo>
                    <a:lnTo>
                      <a:pt x="72" y="332"/>
                    </a:lnTo>
                    <a:lnTo>
                      <a:pt x="132" y="230"/>
                    </a:lnTo>
                    <a:lnTo>
                      <a:pt x="151" y="15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7" name=""/>
            <p:cNvGrpSpPr/>
            <p:nvPr/>
          </p:nvGrpSpPr>
          <p:grpSpPr>
            <a:xfrm>
              <a:off x="6553080" y="50760"/>
              <a:ext cx="515880" cy="900000"/>
              <a:chOff x="6553080" y="50760"/>
              <a:chExt cx="515880" cy="900000"/>
            </a:xfrm>
          </p:grpSpPr>
          <p:sp>
            <p:nvSpPr>
              <p:cNvPr id="1598" name=""/>
              <p:cNvSpPr/>
              <p:nvPr/>
            </p:nvSpPr>
            <p:spPr>
              <a:xfrm>
                <a:off x="6800760" y="258840"/>
                <a:ext cx="102960" cy="147600"/>
              </a:xfrm>
              <a:custGeom>
                <a:avLst/>
                <a:gdLst/>
                <a:ahLst/>
                <a:rect l="l" t="t" r="r" b="b"/>
                <a:pathLst>
                  <a:path w="325" h="463">
                    <a:moveTo>
                      <a:pt x="4" y="237"/>
                    </a:moveTo>
                    <a:lnTo>
                      <a:pt x="14" y="186"/>
                    </a:lnTo>
                    <a:lnTo>
                      <a:pt x="44" y="140"/>
                    </a:lnTo>
                    <a:lnTo>
                      <a:pt x="84" y="116"/>
                    </a:lnTo>
                    <a:lnTo>
                      <a:pt x="124" y="96"/>
                    </a:lnTo>
                    <a:lnTo>
                      <a:pt x="135" y="0"/>
                    </a:lnTo>
                    <a:lnTo>
                      <a:pt x="171" y="10"/>
                    </a:lnTo>
                    <a:lnTo>
                      <a:pt x="164" y="101"/>
                    </a:lnTo>
                    <a:lnTo>
                      <a:pt x="204" y="108"/>
                    </a:lnTo>
                    <a:lnTo>
                      <a:pt x="264" y="135"/>
                    </a:lnTo>
                    <a:lnTo>
                      <a:pt x="311" y="201"/>
                    </a:lnTo>
                    <a:lnTo>
                      <a:pt x="325" y="269"/>
                    </a:lnTo>
                    <a:lnTo>
                      <a:pt x="314" y="346"/>
                    </a:lnTo>
                    <a:lnTo>
                      <a:pt x="292" y="413"/>
                    </a:lnTo>
                    <a:lnTo>
                      <a:pt x="234" y="450"/>
                    </a:lnTo>
                    <a:lnTo>
                      <a:pt x="175" y="463"/>
                    </a:lnTo>
                    <a:lnTo>
                      <a:pt x="94" y="463"/>
                    </a:lnTo>
                    <a:lnTo>
                      <a:pt x="44" y="419"/>
                    </a:lnTo>
                    <a:lnTo>
                      <a:pt x="4" y="353"/>
                    </a:lnTo>
                    <a:lnTo>
                      <a:pt x="0" y="304"/>
                    </a:lnTo>
                    <a:lnTo>
                      <a:pt x="0" y="269"/>
                    </a:lnTo>
                    <a:lnTo>
                      <a:pt x="4" y="23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789600" y="414360"/>
                <a:ext cx="128520" cy="268200"/>
              </a:xfrm>
              <a:custGeom>
                <a:avLst/>
                <a:gdLst/>
                <a:ahLst/>
                <a:rect l="l" t="t" r="r" b="b"/>
                <a:pathLst>
                  <a:path w="409" h="845">
                    <a:moveTo>
                      <a:pt x="152" y="14"/>
                    </a:moveTo>
                    <a:lnTo>
                      <a:pt x="199" y="0"/>
                    </a:lnTo>
                    <a:lnTo>
                      <a:pt x="253" y="8"/>
                    </a:lnTo>
                    <a:lnTo>
                      <a:pt x="319" y="55"/>
                    </a:lnTo>
                    <a:lnTo>
                      <a:pt x="372" y="149"/>
                    </a:lnTo>
                    <a:lnTo>
                      <a:pt x="398" y="240"/>
                    </a:lnTo>
                    <a:lnTo>
                      <a:pt x="409" y="348"/>
                    </a:lnTo>
                    <a:lnTo>
                      <a:pt x="398" y="464"/>
                    </a:lnTo>
                    <a:lnTo>
                      <a:pt x="349" y="613"/>
                    </a:lnTo>
                    <a:lnTo>
                      <a:pt x="332" y="622"/>
                    </a:lnTo>
                    <a:lnTo>
                      <a:pt x="258" y="745"/>
                    </a:lnTo>
                    <a:lnTo>
                      <a:pt x="222" y="817"/>
                    </a:lnTo>
                    <a:lnTo>
                      <a:pt x="162" y="843"/>
                    </a:lnTo>
                    <a:lnTo>
                      <a:pt x="73" y="845"/>
                    </a:lnTo>
                    <a:lnTo>
                      <a:pt x="3" y="817"/>
                    </a:lnTo>
                    <a:lnTo>
                      <a:pt x="0" y="762"/>
                    </a:lnTo>
                    <a:lnTo>
                      <a:pt x="29" y="688"/>
                    </a:lnTo>
                    <a:lnTo>
                      <a:pt x="49" y="643"/>
                    </a:lnTo>
                    <a:lnTo>
                      <a:pt x="80" y="594"/>
                    </a:lnTo>
                    <a:lnTo>
                      <a:pt x="99" y="544"/>
                    </a:lnTo>
                    <a:lnTo>
                      <a:pt x="110" y="464"/>
                    </a:lnTo>
                    <a:lnTo>
                      <a:pt x="89" y="373"/>
                    </a:lnTo>
                    <a:lnTo>
                      <a:pt x="69" y="298"/>
                    </a:lnTo>
                    <a:lnTo>
                      <a:pt x="52" y="240"/>
                    </a:lnTo>
                    <a:lnTo>
                      <a:pt x="52" y="147"/>
                    </a:lnTo>
                    <a:lnTo>
                      <a:pt x="63" y="105"/>
                    </a:lnTo>
                    <a:lnTo>
                      <a:pt x="89" y="49"/>
                    </a:lnTo>
                    <a:lnTo>
                      <a:pt x="150" y="14"/>
                    </a:lnTo>
                    <a:lnTo>
                      <a:pt x="150" y="16"/>
                    </a:lnTo>
                    <a:lnTo>
                      <a:pt x="152" y="14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553080" y="160200"/>
                <a:ext cx="261720" cy="322200"/>
              </a:xfrm>
              <a:custGeom>
                <a:avLst/>
                <a:gdLst/>
                <a:ahLst/>
                <a:rect l="l" t="t" r="r" b="b"/>
                <a:pathLst>
                  <a:path w="826" h="1011">
                    <a:moveTo>
                      <a:pt x="736" y="855"/>
                    </a:moveTo>
                    <a:lnTo>
                      <a:pt x="795" y="888"/>
                    </a:lnTo>
                    <a:lnTo>
                      <a:pt x="826" y="931"/>
                    </a:lnTo>
                    <a:lnTo>
                      <a:pt x="819" y="978"/>
                    </a:lnTo>
                    <a:lnTo>
                      <a:pt x="786" y="1011"/>
                    </a:lnTo>
                    <a:lnTo>
                      <a:pt x="749" y="1005"/>
                    </a:lnTo>
                    <a:lnTo>
                      <a:pt x="669" y="947"/>
                    </a:lnTo>
                    <a:lnTo>
                      <a:pt x="545" y="828"/>
                    </a:lnTo>
                    <a:lnTo>
                      <a:pt x="435" y="706"/>
                    </a:lnTo>
                    <a:lnTo>
                      <a:pt x="349" y="591"/>
                    </a:lnTo>
                    <a:lnTo>
                      <a:pt x="280" y="480"/>
                    </a:lnTo>
                    <a:lnTo>
                      <a:pt x="229" y="366"/>
                    </a:lnTo>
                    <a:lnTo>
                      <a:pt x="196" y="259"/>
                    </a:lnTo>
                    <a:lnTo>
                      <a:pt x="186" y="209"/>
                    </a:lnTo>
                    <a:lnTo>
                      <a:pt x="100" y="173"/>
                    </a:lnTo>
                    <a:lnTo>
                      <a:pt x="0" y="159"/>
                    </a:lnTo>
                    <a:lnTo>
                      <a:pt x="6" y="141"/>
                    </a:lnTo>
                    <a:lnTo>
                      <a:pt x="100" y="143"/>
                    </a:lnTo>
                    <a:lnTo>
                      <a:pt x="140" y="143"/>
                    </a:lnTo>
                    <a:lnTo>
                      <a:pt x="100" y="110"/>
                    </a:lnTo>
                    <a:lnTo>
                      <a:pt x="56" y="77"/>
                    </a:lnTo>
                    <a:lnTo>
                      <a:pt x="30" y="65"/>
                    </a:lnTo>
                    <a:lnTo>
                      <a:pt x="49" y="43"/>
                    </a:lnTo>
                    <a:lnTo>
                      <a:pt x="86" y="77"/>
                    </a:lnTo>
                    <a:lnTo>
                      <a:pt x="166" y="102"/>
                    </a:lnTo>
                    <a:lnTo>
                      <a:pt x="166" y="57"/>
                    </a:lnTo>
                    <a:lnTo>
                      <a:pt x="146" y="16"/>
                    </a:lnTo>
                    <a:lnTo>
                      <a:pt x="146" y="0"/>
                    </a:lnTo>
                    <a:lnTo>
                      <a:pt x="166" y="0"/>
                    </a:lnTo>
                    <a:lnTo>
                      <a:pt x="199" y="57"/>
                    </a:lnTo>
                    <a:lnTo>
                      <a:pt x="229" y="102"/>
                    </a:lnTo>
                    <a:lnTo>
                      <a:pt x="259" y="57"/>
                    </a:lnTo>
                    <a:lnTo>
                      <a:pt x="266" y="2"/>
                    </a:lnTo>
                    <a:lnTo>
                      <a:pt x="296" y="2"/>
                    </a:lnTo>
                    <a:lnTo>
                      <a:pt x="286" y="102"/>
                    </a:lnTo>
                    <a:lnTo>
                      <a:pt x="229" y="182"/>
                    </a:lnTo>
                    <a:lnTo>
                      <a:pt x="239" y="284"/>
                    </a:lnTo>
                    <a:lnTo>
                      <a:pt x="289" y="397"/>
                    </a:lnTo>
                    <a:lnTo>
                      <a:pt x="366" y="507"/>
                    </a:lnTo>
                    <a:lnTo>
                      <a:pt x="466" y="638"/>
                    </a:lnTo>
                    <a:lnTo>
                      <a:pt x="559" y="737"/>
                    </a:lnTo>
                    <a:lnTo>
                      <a:pt x="666" y="820"/>
                    </a:lnTo>
                    <a:lnTo>
                      <a:pt x="736" y="855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6875280" y="50760"/>
                <a:ext cx="193680" cy="415800"/>
              </a:xfrm>
              <a:custGeom>
                <a:avLst/>
                <a:gdLst/>
                <a:ahLst/>
                <a:rect l="l" t="t" r="r" b="b"/>
                <a:pathLst>
                  <a:path w="611" h="1309">
                    <a:moveTo>
                      <a:pt x="30" y="1211"/>
                    </a:moveTo>
                    <a:lnTo>
                      <a:pt x="90" y="1134"/>
                    </a:lnTo>
                    <a:lnTo>
                      <a:pt x="187" y="1010"/>
                    </a:lnTo>
                    <a:lnTo>
                      <a:pt x="230" y="893"/>
                    </a:lnTo>
                    <a:lnTo>
                      <a:pt x="286" y="702"/>
                    </a:lnTo>
                    <a:lnTo>
                      <a:pt x="337" y="537"/>
                    </a:lnTo>
                    <a:lnTo>
                      <a:pt x="357" y="395"/>
                    </a:lnTo>
                    <a:lnTo>
                      <a:pt x="391" y="233"/>
                    </a:lnTo>
                    <a:lnTo>
                      <a:pt x="380" y="166"/>
                    </a:lnTo>
                    <a:lnTo>
                      <a:pt x="321" y="113"/>
                    </a:lnTo>
                    <a:lnTo>
                      <a:pt x="286" y="57"/>
                    </a:lnTo>
                    <a:lnTo>
                      <a:pt x="310" y="33"/>
                    </a:lnTo>
                    <a:lnTo>
                      <a:pt x="337" y="80"/>
                    </a:lnTo>
                    <a:lnTo>
                      <a:pt x="380" y="105"/>
                    </a:lnTo>
                    <a:lnTo>
                      <a:pt x="380" y="67"/>
                    </a:lnTo>
                    <a:lnTo>
                      <a:pt x="380" y="0"/>
                    </a:lnTo>
                    <a:lnTo>
                      <a:pt x="400" y="0"/>
                    </a:lnTo>
                    <a:lnTo>
                      <a:pt x="417" y="67"/>
                    </a:lnTo>
                    <a:lnTo>
                      <a:pt x="431" y="100"/>
                    </a:lnTo>
                    <a:lnTo>
                      <a:pt x="480" y="49"/>
                    </a:lnTo>
                    <a:lnTo>
                      <a:pt x="501" y="0"/>
                    </a:lnTo>
                    <a:lnTo>
                      <a:pt x="530" y="22"/>
                    </a:lnTo>
                    <a:lnTo>
                      <a:pt x="501" y="75"/>
                    </a:lnTo>
                    <a:lnTo>
                      <a:pt x="471" y="124"/>
                    </a:lnTo>
                    <a:lnTo>
                      <a:pt x="557" y="108"/>
                    </a:lnTo>
                    <a:lnTo>
                      <a:pt x="600" y="83"/>
                    </a:lnTo>
                    <a:lnTo>
                      <a:pt x="611" y="100"/>
                    </a:lnTo>
                    <a:lnTo>
                      <a:pt x="567" y="130"/>
                    </a:lnTo>
                    <a:lnTo>
                      <a:pt x="517" y="147"/>
                    </a:lnTo>
                    <a:lnTo>
                      <a:pt x="467" y="182"/>
                    </a:lnTo>
                    <a:lnTo>
                      <a:pt x="438" y="246"/>
                    </a:lnTo>
                    <a:lnTo>
                      <a:pt x="407" y="356"/>
                    </a:lnTo>
                    <a:lnTo>
                      <a:pt x="377" y="531"/>
                    </a:lnTo>
                    <a:lnTo>
                      <a:pt x="347" y="672"/>
                    </a:lnTo>
                    <a:lnTo>
                      <a:pt x="310" y="805"/>
                    </a:lnTo>
                    <a:lnTo>
                      <a:pt x="267" y="952"/>
                    </a:lnTo>
                    <a:lnTo>
                      <a:pt x="216" y="1084"/>
                    </a:lnTo>
                    <a:lnTo>
                      <a:pt x="147" y="1195"/>
                    </a:lnTo>
                    <a:lnTo>
                      <a:pt x="77" y="1276"/>
                    </a:lnTo>
                    <a:lnTo>
                      <a:pt x="26" y="1309"/>
                    </a:lnTo>
                    <a:lnTo>
                      <a:pt x="7" y="1292"/>
                    </a:lnTo>
                    <a:lnTo>
                      <a:pt x="0" y="1258"/>
                    </a:lnTo>
                    <a:lnTo>
                      <a:pt x="30" y="1211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6669000" y="646200"/>
                <a:ext cx="153720" cy="304560"/>
              </a:xfrm>
              <a:custGeom>
                <a:avLst/>
                <a:gdLst/>
                <a:ahLst/>
                <a:rect l="l" t="t" r="r" b="b"/>
                <a:pathLst>
                  <a:path w="487" h="958">
                    <a:moveTo>
                      <a:pt x="306" y="139"/>
                    </a:moveTo>
                    <a:lnTo>
                      <a:pt x="350" y="81"/>
                    </a:lnTo>
                    <a:lnTo>
                      <a:pt x="416" y="0"/>
                    </a:lnTo>
                    <a:lnTo>
                      <a:pt x="480" y="8"/>
                    </a:lnTo>
                    <a:lnTo>
                      <a:pt x="487" y="73"/>
                    </a:lnTo>
                    <a:lnTo>
                      <a:pt x="467" y="108"/>
                    </a:lnTo>
                    <a:lnTo>
                      <a:pt x="426" y="149"/>
                    </a:lnTo>
                    <a:lnTo>
                      <a:pt x="346" y="208"/>
                    </a:lnTo>
                    <a:lnTo>
                      <a:pt x="287" y="265"/>
                    </a:lnTo>
                    <a:lnTo>
                      <a:pt x="257" y="315"/>
                    </a:lnTo>
                    <a:lnTo>
                      <a:pt x="226" y="378"/>
                    </a:lnTo>
                    <a:lnTo>
                      <a:pt x="236" y="462"/>
                    </a:lnTo>
                    <a:lnTo>
                      <a:pt x="290" y="513"/>
                    </a:lnTo>
                    <a:lnTo>
                      <a:pt x="330" y="593"/>
                    </a:lnTo>
                    <a:lnTo>
                      <a:pt x="346" y="679"/>
                    </a:lnTo>
                    <a:lnTo>
                      <a:pt x="357" y="784"/>
                    </a:lnTo>
                    <a:lnTo>
                      <a:pt x="339" y="883"/>
                    </a:lnTo>
                    <a:lnTo>
                      <a:pt x="290" y="908"/>
                    </a:lnTo>
                    <a:lnTo>
                      <a:pt x="236" y="900"/>
                    </a:lnTo>
                    <a:lnTo>
                      <a:pt x="156" y="916"/>
                    </a:lnTo>
                    <a:lnTo>
                      <a:pt x="76" y="958"/>
                    </a:lnTo>
                    <a:lnTo>
                      <a:pt x="37" y="950"/>
                    </a:lnTo>
                    <a:lnTo>
                      <a:pt x="0" y="916"/>
                    </a:lnTo>
                    <a:lnTo>
                      <a:pt x="16" y="900"/>
                    </a:lnTo>
                    <a:lnTo>
                      <a:pt x="60" y="887"/>
                    </a:lnTo>
                    <a:lnTo>
                      <a:pt x="160" y="867"/>
                    </a:lnTo>
                    <a:lnTo>
                      <a:pt x="250" y="867"/>
                    </a:lnTo>
                    <a:lnTo>
                      <a:pt x="280" y="867"/>
                    </a:lnTo>
                    <a:lnTo>
                      <a:pt x="299" y="842"/>
                    </a:lnTo>
                    <a:lnTo>
                      <a:pt x="310" y="793"/>
                    </a:lnTo>
                    <a:lnTo>
                      <a:pt x="297" y="693"/>
                    </a:lnTo>
                    <a:lnTo>
                      <a:pt x="266" y="597"/>
                    </a:lnTo>
                    <a:lnTo>
                      <a:pt x="220" y="544"/>
                    </a:lnTo>
                    <a:lnTo>
                      <a:pt x="177" y="494"/>
                    </a:lnTo>
                    <a:lnTo>
                      <a:pt x="149" y="423"/>
                    </a:lnTo>
                    <a:lnTo>
                      <a:pt x="156" y="348"/>
                    </a:lnTo>
                    <a:lnTo>
                      <a:pt x="189" y="274"/>
                    </a:lnTo>
                    <a:lnTo>
                      <a:pt x="247" y="208"/>
                    </a:lnTo>
                    <a:lnTo>
                      <a:pt x="306" y="13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818040" y="654120"/>
                <a:ext cx="131760" cy="295200"/>
              </a:xfrm>
              <a:custGeom>
                <a:avLst/>
                <a:gdLst/>
                <a:ahLst/>
                <a:rect l="l" t="t" r="r" b="b"/>
                <a:pathLst>
                  <a:path w="417" h="934">
                    <a:moveTo>
                      <a:pt x="171" y="149"/>
                    </a:moveTo>
                    <a:lnTo>
                      <a:pt x="77" y="114"/>
                    </a:lnTo>
                    <a:lnTo>
                      <a:pt x="21" y="83"/>
                    </a:lnTo>
                    <a:lnTo>
                      <a:pt x="0" y="39"/>
                    </a:lnTo>
                    <a:lnTo>
                      <a:pt x="31" y="8"/>
                    </a:lnTo>
                    <a:lnTo>
                      <a:pt x="98" y="0"/>
                    </a:lnTo>
                    <a:lnTo>
                      <a:pt x="148" y="14"/>
                    </a:lnTo>
                    <a:lnTo>
                      <a:pt x="248" y="96"/>
                    </a:lnTo>
                    <a:lnTo>
                      <a:pt x="338" y="163"/>
                    </a:lnTo>
                    <a:lnTo>
                      <a:pt x="388" y="238"/>
                    </a:lnTo>
                    <a:lnTo>
                      <a:pt x="401" y="296"/>
                    </a:lnTo>
                    <a:lnTo>
                      <a:pt x="417" y="365"/>
                    </a:lnTo>
                    <a:lnTo>
                      <a:pt x="408" y="446"/>
                    </a:lnTo>
                    <a:lnTo>
                      <a:pt x="338" y="539"/>
                    </a:lnTo>
                    <a:lnTo>
                      <a:pt x="278" y="606"/>
                    </a:lnTo>
                    <a:lnTo>
                      <a:pt x="221" y="686"/>
                    </a:lnTo>
                    <a:lnTo>
                      <a:pt x="178" y="727"/>
                    </a:lnTo>
                    <a:lnTo>
                      <a:pt x="141" y="768"/>
                    </a:lnTo>
                    <a:lnTo>
                      <a:pt x="141" y="794"/>
                    </a:lnTo>
                    <a:lnTo>
                      <a:pt x="178" y="802"/>
                    </a:lnTo>
                    <a:lnTo>
                      <a:pt x="251" y="813"/>
                    </a:lnTo>
                    <a:lnTo>
                      <a:pt x="328" y="838"/>
                    </a:lnTo>
                    <a:lnTo>
                      <a:pt x="391" y="885"/>
                    </a:lnTo>
                    <a:lnTo>
                      <a:pt x="378" y="913"/>
                    </a:lnTo>
                    <a:lnTo>
                      <a:pt x="321" y="934"/>
                    </a:lnTo>
                    <a:lnTo>
                      <a:pt x="278" y="913"/>
                    </a:lnTo>
                    <a:lnTo>
                      <a:pt x="231" y="870"/>
                    </a:lnTo>
                    <a:lnTo>
                      <a:pt x="178" y="846"/>
                    </a:lnTo>
                    <a:lnTo>
                      <a:pt x="131" y="835"/>
                    </a:lnTo>
                    <a:lnTo>
                      <a:pt x="91" y="829"/>
                    </a:lnTo>
                    <a:lnTo>
                      <a:pt x="58" y="821"/>
                    </a:lnTo>
                    <a:lnTo>
                      <a:pt x="47" y="810"/>
                    </a:lnTo>
                    <a:lnTo>
                      <a:pt x="51" y="786"/>
                    </a:lnTo>
                    <a:lnTo>
                      <a:pt x="111" y="735"/>
                    </a:lnTo>
                    <a:lnTo>
                      <a:pt x="211" y="645"/>
                    </a:lnTo>
                    <a:lnTo>
                      <a:pt x="298" y="522"/>
                    </a:lnTo>
                    <a:lnTo>
                      <a:pt x="331" y="462"/>
                    </a:lnTo>
                    <a:lnTo>
                      <a:pt x="351" y="395"/>
                    </a:lnTo>
                    <a:lnTo>
                      <a:pt x="348" y="313"/>
                    </a:lnTo>
                    <a:lnTo>
                      <a:pt x="311" y="246"/>
                    </a:lnTo>
                    <a:lnTo>
                      <a:pt x="258" y="191"/>
                    </a:lnTo>
                    <a:lnTo>
                      <a:pt x="171" y="14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4" name=""/>
            <p:cNvSpPr/>
            <p:nvPr/>
          </p:nvSpPr>
          <p:spPr>
            <a:xfrm>
              <a:off x="7073640" y="306360"/>
              <a:ext cx="303120" cy="392040"/>
            </a:xfrm>
            <a:custGeom>
              <a:avLst/>
              <a:gdLst/>
              <a:ahLst/>
              <a:rect l="l" t="t" r="r" b="b"/>
              <a:pathLst>
                <a:path w="954" h="1235">
                  <a:moveTo>
                    <a:pt x="140" y="0"/>
                  </a:moveTo>
                  <a:lnTo>
                    <a:pt x="82" y="94"/>
                  </a:lnTo>
                  <a:lnTo>
                    <a:pt x="49" y="174"/>
                  </a:lnTo>
                  <a:lnTo>
                    <a:pt x="19" y="260"/>
                  </a:lnTo>
                  <a:lnTo>
                    <a:pt x="0" y="326"/>
                  </a:lnTo>
                  <a:lnTo>
                    <a:pt x="23" y="422"/>
                  </a:lnTo>
                  <a:lnTo>
                    <a:pt x="93" y="481"/>
                  </a:lnTo>
                  <a:lnTo>
                    <a:pt x="150" y="538"/>
                  </a:lnTo>
                  <a:lnTo>
                    <a:pt x="129" y="690"/>
                  </a:lnTo>
                  <a:lnTo>
                    <a:pt x="100" y="897"/>
                  </a:lnTo>
                  <a:lnTo>
                    <a:pt x="122" y="1118"/>
                  </a:lnTo>
                  <a:lnTo>
                    <a:pt x="152" y="1218"/>
                  </a:lnTo>
                  <a:lnTo>
                    <a:pt x="283" y="1185"/>
                  </a:lnTo>
                  <a:lnTo>
                    <a:pt x="373" y="1179"/>
                  </a:lnTo>
                  <a:lnTo>
                    <a:pt x="510" y="1185"/>
                  </a:lnTo>
                  <a:lnTo>
                    <a:pt x="630" y="1221"/>
                  </a:lnTo>
                  <a:lnTo>
                    <a:pt x="700" y="1235"/>
                  </a:lnTo>
                  <a:lnTo>
                    <a:pt x="700" y="1151"/>
                  </a:lnTo>
                  <a:lnTo>
                    <a:pt x="684" y="995"/>
                  </a:lnTo>
                  <a:lnTo>
                    <a:pt x="653" y="840"/>
                  </a:lnTo>
                  <a:lnTo>
                    <a:pt x="630" y="688"/>
                  </a:lnTo>
                  <a:lnTo>
                    <a:pt x="620" y="632"/>
                  </a:lnTo>
                  <a:lnTo>
                    <a:pt x="660" y="608"/>
                  </a:lnTo>
                  <a:lnTo>
                    <a:pt x="770" y="637"/>
                  </a:lnTo>
                  <a:lnTo>
                    <a:pt x="871" y="665"/>
                  </a:lnTo>
                  <a:lnTo>
                    <a:pt x="920" y="707"/>
                  </a:lnTo>
                  <a:lnTo>
                    <a:pt x="923" y="624"/>
                  </a:lnTo>
                  <a:lnTo>
                    <a:pt x="954" y="522"/>
                  </a:lnTo>
                  <a:lnTo>
                    <a:pt x="831" y="450"/>
                  </a:lnTo>
                  <a:lnTo>
                    <a:pt x="730" y="397"/>
                  </a:lnTo>
                  <a:lnTo>
                    <a:pt x="640" y="367"/>
                  </a:lnTo>
                  <a:lnTo>
                    <a:pt x="570" y="348"/>
                  </a:lnTo>
                  <a:lnTo>
                    <a:pt x="503" y="348"/>
                  </a:lnTo>
                  <a:lnTo>
                    <a:pt x="454" y="356"/>
                  </a:lnTo>
                  <a:lnTo>
                    <a:pt x="389" y="348"/>
                  </a:lnTo>
                  <a:lnTo>
                    <a:pt x="333" y="307"/>
                  </a:lnTo>
                  <a:lnTo>
                    <a:pt x="283" y="240"/>
                  </a:lnTo>
                  <a:lnTo>
                    <a:pt x="239" y="182"/>
                  </a:lnTo>
                  <a:lnTo>
                    <a:pt x="192" y="76"/>
                  </a:lnTo>
                  <a:lnTo>
                    <a:pt x="140" y="0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5" name=""/>
            <p:cNvGrpSpPr/>
            <p:nvPr/>
          </p:nvGrpSpPr>
          <p:grpSpPr>
            <a:xfrm>
              <a:off x="7091280" y="328680"/>
              <a:ext cx="269640" cy="357120"/>
              <a:chOff x="7091280" y="328680"/>
              <a:chExt cx="269640" cy="357120"/>
            </a:xfrm>
          </p:grpSpPr>
          <p:sp>
            <p:nvSpPr>
              <p:cNvPr id="1606" name=""/>
              <p:cNvSpPr/>
              <p:nvPr/>
            </p:nvSpPr>
            <p:spPr>
              <a:xfrm>
                <a:off x="7091280" y="328680"/>
                <a:ext cx="50760" cy="118800"/>
              </a:xfrm>
              <a:custGeom>
                <a:avLst/>
                <a:gdLst/>
                <a:ahLst/>
                <a:rect l="l" t="t" r="r" b="b"/>
                <a:pathLst>
                  <a:path w="158" h="374">
                    <a:moveTo>
                      <a:pt x="0" y="332"/>
                    </a:moveTo>
                    <a:lnTo>
                      <a:pt x="10" y="250"/>
                    </a:lnTo>
                    <a:lnTo>
                      <a:pt x="46" y="160"/>
                    </a:lnTo>
                    <a:lnTo>
                      <a:pt x="75" y="86"/>
                    </a:lnTo>
                    <a:lnTo>
                      <a:pt x="98" y="27"/>
                    </a:lnTo>
                    <a:lnTo>
                      <a:pt x="128" y="0"/>
                    </a:lnTo>
                    <a:lnTo>
                      <a:pt x="158" y="16"/>
                    </a:lnTo>
                    <a:lnTo>
                      <a:pt x="116" y="102"/>
                    </a:lnTo>
                    <a:lnTo>
                      <a:pt x="66" y="216"/>
                    </a:lnTo>
                    <a:lnTo>
                      <a:pt x="37" y="318"/>
                    </a:lnTo>
                    <a:lnTo>
                      <a:pt x="37" y="374"/>
                    </a:lnTo>
                    <a:lnTo>
                      <a:pt x="0" y="374"/>
                    </a:lnTo>
                    <a:lnTo>
                      <a:pt x="0" y="308"/>
                    </a:lnTo>
                    <a:lnTo>
                      <a:pt x="0" y="33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115040" y="371520"/>
                <a:ext cx="46080" cy="100080"/>
              </a:xfrm>
              <a:custGeom>
                <a:avLst/>
                <a:gdLst/>
                <a:ahLst/>
                <a:rect l="l" t="t" r="r" b="b"/>
                <a:pathLst>
                  <a:path w="147" h="316">
                    <a:moveTo>
                      <a:pt x="0" y="280"/>
                    </a:moveTo>
                    <a:lnTo>
                      <a:pt x="9" y="210"/>
                    </a:lnTo>
                    <a:lnTo>
                      <a:pt x="43" y="136"/>
                    </a:lnTo>
                    <a:lnTo>
                      <a:pt x="70" y="72"/>
                    </a:lnTo>
                    <a:lnTo>
                      <a:pt x="92" y="23"/>
                    </a:lnTo>
                    <a:lnTo>
                      <a:pt x="119" y="0"/>
                    </a:lnTo>
                    <a:lnTo>
                      <a:pt x="147" y="13"/>
                    </a:lnTo>
                    <a:lnTo>
                      <a:pt x="107" y="87"/>
                    </a:lnTo>
                    <a:lnTo>
                      <a:pt x="61" y="182"/>
                    </a:lnTo>
                    <a:lnTo>
                      <a:pt x="33" y="269"/>
                    </a:lnTo>
                    <a:lnTo>
                      <a:pt x="33" y="316"/>
                    </a:lnTo>
                    <a:lnTo>
                      <a:pt x="0" y="316"/>
                    </a:lnTo>
                    <a:lnTo>
                      <a:pt x="0" y="260"/>
                    </a:lnTo>
                    <a:lnTo>
                      <a:pt x="0" y="28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134120" y="395280"/>
                <a:ext cx="48960" cy="287280"/>
              </a:xfrm>
              <a:custGeom>
                <a:avLst/>
                <a:gdLst/>
                <a:ahLst/>
                <a:rect l="l" t="t" r="r" b="b"/>
                <a:pathLst>
                  <a:path w="154" h="907">
                    <a:moveTo>
                      <a:pt x="30" y="882"/>
                    </a:moveTo>
                    <a:lnTo>
                      <a:pt x="14" y="780"/>
                    </a:lnTo>
                    <a:lnTo>
                      <a:pt x="0" y="641"/>
                    </a:lnTo>
                    <a:lnTo>
                      <a:pt x="3" y="472"/>
                    </a:lnTo>
                    <a:lnTo>
                      <a:pt x="14" y="308"/>
                    </a:lnTo>
                    <a:lnTo>
                      <a:pt x="40" y="181"/>
                    </a:lnTo>
                    <a:lnTo>
                      <a:pt x="73" y="80"/>
                    </a:lnTo>
                    <a:lnTo>
                      <a:pt x="113" y="0"/>
                    </a:lnTo>
                    <a:lnTo>
                      <a:pt x="154" y="51"/>
                    </a:lnTo>
                    <a:lnTo>
                      <a:pt x="113" y="131"/>
                    </a:lnTo>
                    <a:lnTo>
                      <a:pt x="94" y="201"/>
                    </a:lnTo>
                    <a:lnTo>
                      <a:pt x="70" y="325"/>
                    </a:lnTo>
                    <a:lnTo>
                      <a:pt x="54" y="505"/>
                    </a:lnTo>
                    <a:lnTo>
                      <a:pt x="54" y="647"/>
                    </a:lnTo>
                    <a:lnTo>
                      <a:pt x="63" y="757"/>
                    </a:lnTo>
                    <a:lnTo>
                      <a:pt x="80" y="829"/>
                    </a:lnTo>
                    <a:lnTo>
                      <a:pt x="94" y="888"/>
                    </a:lnTo>
                    <a:lnTo>
                      <a:pt x="33" y="907"/>
                    </a:lnTo>
                    <a:lnTo>
                      <a:pt x="30" y="882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178400" y="420480"/>
                <a:ext cx="36720" cy="255600"/>
              </a:xfrm>
              <a:custGeom>
                <a:avLst/>
                <a:gdLst/>
                <a:ahLst/>
                <a:rect l="l" t="t" r="r" b="b"/>
                <a:pathLst>
                  <a:path w="115" h="806">
                    <a:moveTo>
                      <a:pt x="33" y="798"/>
                    </a:moveTo>
                    <a:lnTo>
                      <a:pt x="9" y="666"/>
                    </a:lnTo>
                    <a:lnTo>
                      <a:pt x="0" y="523"/>
                    </a:lnTo>
                    <a:lnTo>
                      <a:pt x="0" y="384"/>
                    </a:lnTo>
                    <a:lnTo>
                      <a:pt x="9" y="265"/>
                    </a:lnTo>
                    <a:lnTo>
                      <a:pt x="19" y="141"/>
                    </a:lnTo>
                    <a:lnTo>
                      <a:pt x="54" y="45"/>
                    </a:lnTo>
                    <a:lnTo>
                      <a:pt x="74" y="0"/>
                    </a:lnTo>
                    <a:lnTo>
                      <a:pt x="115" y="0"/>
                    </a:lnTo>
                    <a:lnTo>
                      <a:pt x="84" y="133"/>
                    </a:lnTo>
                    <a:lnTo>
                      <a:pt x="74" y="243"/>
                    </a:lnTo>
                    <a:lnTo>
                      <a:pt x="71" y="382"/>
                    </a:lnTo>
                    <a:lnTo>
                      <a:pt x="71" y="523"/>
                    </a:lnTo>
                    <a:lnTo>
                      <a:pt x="74" y="683"/>
                    </a:lnTo>
                    <a:lnTo>
                      <a:pt x="84" y="773"/>
                    </a:lnTo>
                    <a:lnTo>
                      <a:pt x="95" y="806"/>
                    </a:lnTo>
                    <a:lnTo>
                      <a:pt x="33" y="798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7223040" y="417600"/>
                <a:ext cx="36360" cy="268200"/>
              </a:xfrm>
              <a:custGeom>
                <a:avLst/>
                <a:gdLst/>
                <a:ahLst/>
                <a:rect l="l" t="t" r="r" b="b"/>
                <a:pathLst>
                  <a:path w="116" h="849">
                    <a:moveTo>
                      <a:pt x="40" y="810"/>
                    </a:moveTo>
                    <a:lnTo>
                      <a:pt x="13" y="662"/>
                    </a:lnTo>
                    <a:lnTo>
                      <a:pt x="3" y="519"/>
                    </a:lnTo>
                    <a:lnTo>
                      <a:pt x="0" y="372"/>
                    </a:lnTo>
                    <a:lnTo>
                      <a:pt x="0" y="205"/>
                    </a:lnTo>
                    <a:lnTo>
                      <a:pt x="20" y="88"/>
                    </a:lnTo>
                    <a:lnTo>
                      <a:pt x="30" y="6"/>
                    </a:lnTo>
                    <a:lnTo>
                      <a:pt x="82" y="0"/>
                    </a:lnTo>
                    <a:lnTo>
                      <a:pt x="71" y="80"/>
                    </a:lnTo>
                    <a:lnTo>
                      <a:pt x="51" y="215"/>
                    </a:lnTo>
                    <a:lnTo>
                      <a:pt x="54" y="344"/>
                    </a:lnTo>
                    <a:lnTo>
                      <a:pt x="71" y="519"/>
                    </a:lnTo>
                    <a:lnTo>
                      <a:pt x="85" y="667"/>
                    </a:lnTo>
                    <a:lnTo>
                      <a:pt x="102" y="750"/>
                    </a:lnTo>
                    <a:lnTo>
                      <a:pt x="116" y="849"/>
                    </a:lnTo>
                    <a:lnTo>
                      <a:pt x="40" y="81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259400" y="423720"/>
                <a:ext cx="25560" cy="85680"/>
              </a:xfrm>
              <a:custGeom>
                <a:avLst/>
                <a:gdLst/>
                <a:ahLst/>
                <a:rect l="l" t="t" r="r" b="b"/>
                <a:pathLst>
                  <a:path w="78" h="270">
                    <a:moveTo>
                      <a:pt x="21" y="0"/>
                    </a:moveTo>
                    <a:lnTo>
                      <a:pt x="0" y="77"/>
                    </a:lnTo>
                    <a:lnTo>
                      <a:pt x="0" y="153"/>
                    </a:lnTo>
                    <a:lnTo>
                      <a:pt x="11" y="242"/>
                    </a:lnTo>
                    <a:lnTo>
                      <a:pt x="21" y="270"/>
                    </a:lnTo>
                    <a:lnTo>
                      <a:pt x="72" y="217"/>
                    </a:lnTo>
                    <a:lnTo>
                      <a:pt x="52" y="134"/>
                    </a:lnTo>
                    <a:lnTo>
                      <a:pt x="59" y="50"/>
                    </a:lnTo>
                    <a:lnTo>
                      <a:pt x="78" y="1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299000" y="436680"/>
                <a:ext cx="27000" cy="66600"/>
              </a:xfrm>
              <a:custGeom>
                <a:avLst/>
                <a:gdLst/>
                <a:ahLst/>
                <a:rect l="l" t="t" r="r" b="b"/>
                <a:pathLst>
                  <a:path w="81" h="208">
                    <a:moveTo>
                      <a:pt x="21" y="0"/>
                    </a:moveTo>
                    <a:lnTo>
                      <a:pt x="0" y="70"/>
                    </a:lnTo>
                    <a:lnTo>
                      <a:pt x="0" y="142"/>
                    </a:lnTo>
                    <a:lnTo>
                      <a:pt x="21" y="195"/>
                    </a:lnTo>
                    <a:lnTo>
                      <a:pt x="81" y="208"/>
                    </a:lnTo>
                    <a:lnTo>
                      <a:pt x="58" y="159"/>
                    </a:lnTo>
                    <a:lnTo>
                      <a:pt x="61" y="84"/>
                    </a:lnTo>
                    <a:lnTo>
                      <a:pt x="81" y="27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341840" y="458640"/>
                <a:ext cx="19080" cy="58680"/>
              </a:xfrm>
              <a:custGeom>
                <a:avLst/>
                <a:gdLst/>
                <a:ahLst/>
                <a:rect l="l" t="t" r="r" b="b"/>
                <a:pathLst>
                  <a:path w="62" h="182">
                    <a:moveTo>
                      <a:pt x="14" y="0"/>
                    </a:moveTo>
                    <a:lnTo>
                      <a:pt x="0" y="39"/>
                    </a:lnTo>
                    <a:lnTo>
                      <a:pt x="0" y="108"/>
                    </a:lnTo>
                    <a:lnTo>
                      <a:pt x="9" y="165"/>
                    </a:lnTo>
                    <a:lnTo>
                      <a:pt x="62" y="182"/>
                    </a:lnTo>
                    <a:lnTo>
                      <a:pt x="40" y="126"/>
                    </a:lnTo>
                    <a:lnTo>
                      <a:pt x="40" y="66"/>
                    </a:lnTo>
                    <a:lnTo>
                      <a:pt x="53" y="13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"/>
          <p:cNvSpPr/>
          <p:nvPr/>
        </p:nvSpPr>
        <p:spPr>
          <a:xfrm>
            <a:off x="442800" y="720720"/>
            <a:ext cx="8180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actions peuvent être équilibrées par les pannes courant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794120" y="316692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035680" y="271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>
            <a:hlinkClick r:id="" action="ppaction://hlinkshowjump?jump=nextslide"/>
          </p:cNvPr>
          <p:cNvSpPr/>
          <p:nvPr/>
        </p:nvSpPr>
        <p:spPr>
          <a:xfrm>
            <a:off x="5064120" y="2779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985000" y="271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6013440" y="277956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230480" y="26290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"/>
          <p:cNvSpPr/>
          <p:nvPr/>
        </p:nvSpPr>
        <p:spPr>
          <a:xfrm>
            <a:off x="5035680" y="33307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064120" y="33955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985000" y="333072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>
            <a:hlinkClick r:id="" action="ppaction://hlinkshowjump?jump=nextslide"/>
          </p:cNvPr>
          <p:cNvSpPr/>
          <p:nvPr/>
        </p:nvSpPr>
        <p:spPr>
          <a:xfrm>
            <a:off x="6013440" y="3395520"/>
            <a:ext cx="693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230480" y="32446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arges d’explo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035680" y="271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064120" y="2779560"/>
            <a:ext cx="693720" cy="216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R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985000" y="2714760"/>
            <a:ext cx="749160" cy="345960"/>
          </a:xfrm>
          <a:custGeom>
            <a:avLst/>
            <a:gdLst>
              <a:gd name="textAreaLeft" fmla="*/ 22320 w 749160"/>
              <a:gd name="textAreaRight" fmla="*/ 726840 w 74916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46748" h="21600">
                <a:moveTo>
                  <a:pt x="0" y="0"/>
                </a:moveTo>
                <a:lnTo>
                  <a:pt x="46748" y="0"/>
                </a:lnTo>
                <a:lnTo>
                  <a:pt x="46748" y="21600"/>
                </a:lnTo>
                <a:lnTo>
                  <a:pt x="0" y="21600"/>
                </a:lnTo>
                <a:close/>
              </a:path>
              <a:path fill="lightenLess" w="46748" h="21600">
                <a:moveTo>
                  <a:pt x="0" y="0"/>
                </a:moveTo>
                <a:lnTo>
                  <a:pt x="46748" y="0"/>
                </a:lnTo>
                <a:lnTo>
                  <a:pt x="45348" y="1400"/>
                </a:lnTo>
                <a:lnTo>
                  <a:pt x="1400" y="1400"/>
                </a:lnTo>
                <a:close/>
              </a:path>
              <a:path fill="darken" w="46748" h="21600">
                <a:moveTo>
                  <a:pt x="46748" y="0"/>
                </a:moveTo>
                <a:lnTo>
                  <a:pt x="46748" y="21600"/>
                </a:lnTo>
                <a:lnTo>
                  <a:pt x="45348" y="20200"/>
                </a:lnTo>
                <a:lnTo>
                  <a:pt x="45348" y="1400"/>
                </a:lnTo>
                <a:close/>
              </a:path>
              <a:path fill="darkenLess" w="46748" h="21600">
                <a:moveTo>
                  <a:pt x="46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48" y="20200"/>
                </a:lnTo>
                <a:close/>
              </a:path>
              <a:path fill="lighten" w="46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013440" y="2779560"/>
            <a:ext cx="69372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42800" y="720720"/>
            <a:ext cx="81806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actions peuvent être équilibrées par les pannes courante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230480" y="2629080"/>
            <a:ext cx="35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Équip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794120" y="3789360"/>
            <a:ext cx="218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5T10:47:34Z</dcterms:created>
  <dc:creator>Jean-Pierre Muzeau et Cédric Brassier</dc:creator>
  <dc:description/>
  <dc:language>en-US</dc:language>
  <cp:lastModifiedBy>Muzeau Jean-Pierre</cp:lastModifiedBy>
  <dcterms:modified xsi:type="dcterms:W3CDTF">2003-10-23T07:18:54Z</dcterms:modified>
  <cp:revision>133</cp:revision>
  <dc:subject/>
  <dc:title>Leçon sur les pannes faîtières</dc:title>
</cp:coreProperties>
</file>